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png" ContentType="image/png"/>
  <Override PartName="/ppt/media/image22.png" ContentType="image/png"/>
  <Override PartName="/ppt/media/image21.png" ContentType="image/png"/>
  <Override PartName="/ppt/media/image13.jpeg" ContentType="image/jpeg"/>
  <Override PartName="/ppt/media/image23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18.png" ContentType="image/pn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media/image19.png" ContentType="image/png"/>
  <Override PartName="/ppt/media/image20.jpeg" ContentType="image/jpeg"/>
  <Override PartName="/ppt/media/image30.png" ContentType="image/png"/>
  <Override PartName="/ppt/media/image32.png" ContentType="image/png"/>
  <Override PartName="/ppt/media/image10.png" ContentType="image/png"/>
  <Override PartName="/ppt/media/image33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35.wmf" ContentType="image/x-wmf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10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11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12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EA35EA69-7534-4A06-90C3-C18F7E6973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4DC924F-24F1-45C2-9DCE-7296E122B12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ACA5-475E-4907-A962-78D006260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A136-5DB1-40D8-BA4F-F958E21E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1B52-BF87-4B42-8BE8-44857D5C5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A160-806E-4998-9D05-FA60F24CC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1374-9EF6-4AF4-B8D9-30CEC952D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61F7-9F6A-4C9C-BAB3-A6675068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E8CF-9FC1-4A44-A223-F946275D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6E06-3AAB-4FCC-9D32-BC8BE4DD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EAAE-AADF-4275-88BB-E1E4B5AF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1F2C-6681-4BFF-B997-1B08C496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C789-5BAB-4784-A36A-99806400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77E9-9D6A-47DD-B0CD-32DCCC74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2D23-4837-4371-A33D-979A5E66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5A83-E500-468C-998A-DFCB435F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6A8F-3058-4FF7-B721-ED180910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28C0-731F-4172-9BDE-810D7E9B9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9DEB-AB7D-4D0A-8627-CFAA7F09F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50098E-27BA-4361-A23E-5405B508D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68A12A-331B-4168-B3EF-BD78AF0C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CF60C4-1BC2-4840-9FD7-342060C6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A16ADA-2661-4538-9E09-1036CD7D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CD1845-32F2-468A-8B7F-6E3A52C0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AFB7-E99F-4512-9EC2-175DE465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B737DD-C1E7-4DB2-8F56-D481B734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22E2CD-76D7-4612-8E7A-2F289224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98CE9A-2B09-4FFF-87A5-436F4A48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B8DB78-A326-4312-A318-C37EB5B3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C62C69-5C42-4511-9D44-289CAE8E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477CEE-7497-47D3-B82B-3BE0D7437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770931-8CB9-48C4-96F2-B9D933A82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48D8-7D22-41ED-ABC7-2EF20141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5C8D-C84A-47BC-87E7-42E385A4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16EE-5A76-4124-B28D-0258DD68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D38A-F48A-40F1-BA05-0F246DA4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BB9C-6F37-4705-89A0-C8FE1E68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95F3-9A1F-4B43-A187-8A82E44A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56E8-9745-4A77-A98F-55278F9C8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D271-62D0-4F53-86FE-37288FFEB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9E3E-6EA6-4E83-A434-C53C81748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Généralités sur l’optiqu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logoFormation2"/>
          <p:cNvPicPr/>
          <p:nvPr/>
        </p:nvPicPr>
        <p:blipFill>
          <a:blip r:embed="rId1"/>
          <a:stretch/>
        </p:blipFill>
        <p:spPr>
          <a:xfrm>
            <a:off x="324000" y="5589720"/>
            <a:ext cx="201600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6"/>
          <p:cNvSpPr/>
          <p:nvPr/>
        </p:nvSpPr>
        <p:spPr>
          <a:xfrm>
            <a:off x="613440" y="213372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s f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2916360" y="1700280"/>
            <a:ext cx="587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éfinir la diverg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u faisceau et donc sa tail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iagnostic entre deux éléments op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ontrôle de la forme de la tâche focale : Taille et pos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612000" y="378936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s miro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2916360" y="3284640"/>
            <a:ext cx="59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er la diverg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u faisceau en les courbant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alisation ou collimation (dans le plan verti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épart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r une grande surface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ge therm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rer les hautes énerg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rmoniqu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252720" y="537372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Le monochrom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3564000" y="515772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élection en é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ôle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alis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ur les grandes divergences (plan horizontal pour les aimants de courbu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es éléments principaux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es éléments principaux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539640" y="2060640"/>
            <a:ext cx="4896000" cy="97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sceau énergétique: ~400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éments optiques sous v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0"/>
          <p:cNvSpPr/>
          <p:nvPr/>
        </p:nvSpPr>
        <p:spPr>
          <a:xfrm>
            <a:off x="2987640" y="3067200"/>
            <a:ext cx="0" cy="100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797760" y="4076640"/>
            <a:ext cx="43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g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rmiq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à évacu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1331280" y="5589720"/>
            <a:ext cx="67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 éléments en faisceau blanc sont refroi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3" descr="Impact-BSOH1"/>
          <p:cNvPicPr/>
          <p:nvPr/>
        </p:nvPicPr>
        <p:blipFill>
          <a:blip r:embed="rId1"/>
          <a:srcRect l="17716" t="11811" r="22145" b="8858"/>
          <a:stretch/>
        </p:blipFill>
        <p:spPr>
          <a:xfrm>
            <a:off x="5867280" y="1773360"/>
            <a:ext cx="2903760" cy="287172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4"/>
          <p:cNvSpPr/>
          <p:nvPr/>
        </p:nvSpPr>
        <p:spPr>
          <a:xfrm>
            <a:off x="5936400" y="4724280"/>
            <a:ext cx="27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Beam-shutter (refroid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1267200" y="2274840"/>
            <a:ext cx="659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Le maximum de pho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Un spot le plus petit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Une monochromatisation la meilleure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Changement d’énergie en cours d’acqui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763640" y="414972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ément principal: le monochrom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ésolution en é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alisation horizon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ctionnement dynam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 ligne FAME: une ligne d’absorp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 ligne FAME: une ligne d’absorp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rcRect l="15974" t="0" r="9485" b="0"/>
          <a:stretch/>
        </p:blipFill>
        <p:spPr>
          <a:xfrm>
            <a:off x="285840" y="1928880"/>
            <a:ext cx="8542080" cy="41940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6"/>
          <p:cNvSpPr/>
          <p:nvPr/>
        </p:nvSpPr>
        <p:spPr>
          <a:xfrm>
            <a:off x="792720" y="192888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chantil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0" y="2428920"/>
            <a:ext cx="1285920" cy="4071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9"/>
          <p:cNvSpPr/>
          <p:nvPr/>
        </p:nvSpPr>
        <p:spPr>
          <a:xfrm flipH="1">
            <a:off x="1283760" y="2357280"/>
            <a:ext cx="1800" cy="421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0"/>
          <p:cNvSpPr/>
          <p:nvPr/>
        </p:nvSpPr>
        <p:spPr>
          <a:xfrm>
            <a:off x="3935160" y="457200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6157080" y="2143080"/>
            <a:ext cx="26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ntilles converg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  collimat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Ligne"/>
          <p:cNvPicPr/>
          <p:nvPr/>
        </p:nvPicPr>
        <p:blipFill>
          <a:blip r:embed="rId1"/>
          <a:stretch/>
        </p:blipFill>
        <p:spPr>
          <a:xfrm>
            <a:off x="684360" y="1773360"/>
            <a:ext cx="7704000" cy="48924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 ligne FAME: une ligne d’absorp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es Miroi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FameM1006"/>
          <p:cNvPicPr/>
          <p:nvPr/>
        </p:nvPicPr>
        <p:blipFill>
          <a:blip r:embed="rId1"/>
          <a:stretch/>
        </p:blipFill>
        <p:spPr>
          <a:xfrm>
            <a:off x="1835280" y="1773360"/>
            <a:ext cx="5398920" cy="404964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5"/>
          <p:cNvSpPr/>
          <p:nvPr/>
        </p:nvSpPr>
        <p:spPr>
          <a:xfrm>
            <a:off x="1345320" y="6165720"/>
            <a:ext cx="64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âssis, enceinte et courbeur de M1 avec son système de refroidiss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0" y="268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611280" y="1698480"/>
            <a:ext cx="47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ergie de coupure des miro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es Miroi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8"/>
              <p:cNvSpPr txBox="1"/>
              <p:nvPr/>
            </p:nvSpPr>
            <p:spPr>
              <a:xfrm>
                <a:off x="1403280" y="2589120"/>
                <a:ext cx="15591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δ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12"/>
              <p:cNvSpPr txBox="1"/>
              <p:nvPr/>
            </p:nvSpPr>
            <p:spPr>
              <a:xfrm>
                <a:off x="3780000" y="2421000"/>
                <a:ext cx="40939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Δf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13"/>
              <p:cNvSpPr txBox="1"/>
              <p:nvPr/>
            </p:nvSpPr>
            <p:spPr>
              <a:xfrm>
                <a:off x="684360" y="5157720"/>
                <a:ext cx="279072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(</m:t>
                    </m:r>
                    <m:r>
                      <m:t xml:space="preserve">Å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84</m:t>
                        </m:r>
                      </m:num>
                      <m:den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ev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14"/>
              <p:cNvSpPr txBox="1"/>
              <p:nvPr/>
            </p:nvSpPr>
            <p:spPr>
              <a:xfrm>
                <a:off x="684360" y="3645000"/>
                <a:ext cx="317808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15"/>
              <p:cNvSpPr txBox="1"/>
              <p:nvPr/>
            </p:nvSpPr>
            <p:spPr>
              <a:xfrm>
                <a:off x="684360" y="4437000"/>
                <a:ext cx="403380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5" name="Text Box 17"/>
          <p:cNvSpPr/>
          <p:nvPr/>
        </p:nvSpPr>
        <p:spPr>
          <a:xfrm>
            <a:off x="5292720" y="458136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combinant et en faisant bien attention aux unités, on trou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5"/>
          <p:cNvSpPr/>
          <p:nvPr/>
        </p:nvSpPr>
        <p:spPr>
          <a:xfrm>
            <a:off x="0" y="268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1191240" y="3647880"/>
            <a:ext cx="6922800" cy="21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Aft>
                <a:spcPts val="876"/>
              </a:spcAft>
              <a:tabLst>
                <a:tab algn="l" pos="0"/>
                <a:tab algn="l" pos="914400"/>
                <a:tab algn="l" pos="160020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emples numériques pour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θ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3 mr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60020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ff00"/>
                </a:solidFill>
                <a:latin typeface="Arial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00ff00"/>
                </a:solidFill>
                <a:latin typeface="Arial"/>
                <a:ea typeface="Times New Roman"/>
              </a:rPr>
              <a:t>Pt</a:t>
            </a:r>
            <a:r>
              <a:rPr b="0" lang="fr-FR" sz="2000" spc="-1" strike="noStrike">
                <a:solidFill>
                  <a:srgbClr val="00ff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ff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ff00"/>
                </a:solidFill>
                <a:latin typeface="Symbol"/>
                <a:ea typeface="Symbol"/>
              </a:rPr>
              <a:t></a:t>
            </a:r>
            <a:r>
              <a:rPr b="0" lang="fr-FR" sz="2000" spc="-1" strike="noStrike">
                <a:solidFill>
                  <a:srgbClr val="00ff00"/>
                </a:solidFill>
                <a:latin typeface="Arial"/>
                <a:ea typeface="Times New Roman"/>
              </a:rPr>
              <a:t>=21.45, </a:t>
            </a:r>
            <a:r>
              <a:rPr b="0" lang="fr-FR" sz="2000" spc="-1" strike="noStrike">
                <a:solidFill>
                  <a:srgbClr val="00ff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ff00"/>
                </a:solidFill>
                <a:latin typeface="Arial"/>
                <a:ea typeface="Times New Roman"/>
              </a:rPr>
              <a:t>Z=78, </a:t>
            </a:r>
            <a:r>
              <a:rPr b="0" lang="fr-FR" sz="2000" spc="-1" strike="noStrike">
                <a:solidFill>
                  <a:srgbClr val="00ff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ff00"/>
                </a:solidFill>
                <a:latin typeface="Arial"/>
                <a:ea typeface="Times New Roman"/>
              </a:rPr>
              <a:t>M=195 </a:t>
            </a:r>
            <a:r>
              <a:rPr b="0" lang="fr-FR" sz="2000" spc="-1" strike="noStrike">
                <a:solidFill>
                  <a:srgbClr val="00ff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ff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ff00"/>
                </a:solidFill>
                <a:latin typeface="Arial"/>
                <a:ea typeface="Times New Roman"/>
              </a:rPr>
              <a:t>E</a:t>
            </a:r>
            <a:r>
              <a:rPr b="0" lang="fr-FR" sz="2000" spc="-1" strike="noStrike" baseline="-30000">
                <a:solidFill>
                  <a:srgbClr val="00ff00"/>
                </a:solidFill>
                <a:latin typeface="Arial"/>
                <a:ea typeface="Times New Roman"/>
              </a:rPr>
              <a:t>c</a:t>
            </a:r>
            <a:r>
              <a:rPr b="0" lang="fr-FR" sz="2000" spc="-1" strike="noStrike">
                <a:solidFill>
                  <a:srgbClr val="00ff00"/>
                </a:solidFill>
                <a:latin typeface="Arial"/>
                <a:ea typeface="Times New Roman"/>
              </a:rPr>
              <a:t>= 28 k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60020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Rh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0000"/>
                </a:solidFill>
                <a:latin typeface="Symbol"/>
                <a:ea typeface="Symbol"/>
              </a:rPr>
              <a:t>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=12.41,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Z=45,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M=103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E</a:t>
            </a:r>
            <a:r>
              <a:rPr b="0" lang="fr-FR" sz="2000" spc="-1" strike="noStrike" baseline="-30000">
                <a:solidFill>
                  <a:srgbClr val="ff0000"/>
                </a:solidFill>
                <a:latin typeface="Arial"/>
                <a:ea typeface="Times New Roman"/>
              </a:rPr>
              <a:t>c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= 22 k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60020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Ni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=8.9, 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Z=28, 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M= 59  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E</a:t>
            </a:r>
            <a:r>
              <a:rPr b="0" lang="fr-FR" sz="2000" spc="-1" strike="noStrike" baseline="-30000">
                <a:solidFill>
                  <a:srgbClr val="0000ff"/>
                </a:solidFill>
                <a:latin typeface="Arial"/>
                <a:ea typeface="Times New Roman"/>
              </a:rPr>
              <a:t>c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= 20 k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60020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2.3,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=14,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=28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10 k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es Miroi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1478520" y="6021360"/>
            <a:ext cx="6224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Arial"/>
              </a:rPr>
              <a:t>changer E</a:t>
            </a:r>
            <a:r>
              <a:rPr b="1" lang="fr-FR" sz="2400" spc="-1" strike="noStrike" baseline="-25000">
                <a:solidFill>
                  <a:srgbClr val="0000ff"/>
                </a:solidFill>
                <a:latin typeface="Arial"/>
              </a:rPr>
              <a:t>c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</a:rPr>
              <a:t> changer l’angle d’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10"/>
              <p:cNvSpPr txBox="1"/>
              <p:nvPr/>
            </p:nvSpPr>
            <p:spPr>
              <a:xfrm>
                <a:off x="2411280" y="2060640"/>
                <a:ext cx="400212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eV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</m:num>
                      <m:den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rd</m:t>
                        </m:r>
                        <m:r>
                          <m:t xml:space="preserve">)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ρZ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LigneReglageMiroir"/>
          <p:cNvPicPr/>
          <p:nvPr/>
        </p:nvPicPr>
        <p:blipFill>
          <a:blip r:embed="rId1"/>
          <a:stretch/>
        </p:blipFill>
        <p:spPr>
          <a:xfrm>
            <a:off x="395280" y="1731960"/>
            <a:ext cx="8496360" cy="41450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es Miroi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5076720" y="558972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êtem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ueu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50 et 1450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250920" y="5451840"/>
            <a:ext cx="287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 rd = 57.3 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 ° = 1.77 10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 ’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5 m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6"/>
          <p:cNvSpPr/>
          <p:nvPr/>
        </p:nvSpPr>
        <p:spPr>
          <a:xfrm>
            <a:off x="971640" y="1557360"/>
            <a:ext cx="71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olissage: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Å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RMS) de rugosité, 2 et 5 mrd d’erreur de p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es Miroi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8" descr="miroir-i"/>
          <p:cNvPicPr/>
          <p:nvPr/>
        </p:nvPicPr>
        <p:blipFill>
          <a:blip r:embed="rId1">
            <a:lum contrast="16000"/>
          </a:blip>
          <a:srcRect l="4602" t="31006" r="9204" b="5028"/>
          <a:stretch/>
        </p:blipFill>
        <p:spPr>
          <a:xfrm>
            <a:off x="1332000" y="2492280"/>
            <a:ext cx="684036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ayonnement synchrotr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900000" y="1628640"/>
            <a:ext cx="7414200" cy="4968720"/>
            <a:chOff x="900000" y="1628640"/>
            <a:chExt cx="7414200" cy="4968720"/>
          </a:xfrm>
        </p:grpSpPr>
        <p:pic>
          <p:nvPicPr>
            <p:cNvPr id="146" name="Picture 5" descr="800px-Sch%C3%A9ma_de_principe_du_synchrotron"/>
            <p:cNvPicPr/>
            <p:nvPr/>
          </p:nvPicPr>
          <p:blipFill>
            <a:blip r:embed="rId1"/>
            <a:stretch/>
          </p:blipFill>
          <p:spPr>
            <a:xfrm>
              <a:off x="900000" y="2079000"/>
              <a:ext cx="6970680" cy="4518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7" name="Group 6"/>
            <p:cNvGrpSpPr/>
            <p:nvPr/>
          </p:nvGrpSpPr>
          <p:grpSpPr>
            <a:xfrm>
              <a:off x="986040" y="1628640"/>
              <a:ext cx="7328160" cy="4617360"/>
              <a:chOff x="986040" y="1628640"/>
              <a:chExt cx="7328160" cy="4617360"/>
            </a:xfrm>
          </p:grpSpPr>
          <p:sp>
            <p:nvSpPr>
              <p:cNvPr id="148" name="Text Box 7"/>
              <p:cNvSpPr/>
              <p:nvPr/>
            </p:nvSpPr>
            <p:spPr>
              <a:xfrm>
                <a:off x="2382480" y="1628640"/>
                <a:ext cx="13078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Arial"/>
                  </a:rPr>
                  <a:t>Lina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8"/>
              <p:cNvSpPr/>
              <p:nvPr/>
            </p:nvSpPr>
            <p:spPr>
              <a:xfrm>
                <a:off x="3254040" y="2079000"/>
                <a:ext cx="959400" cy="180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Text Box 9"/>
              <p:cNvSpPr/>
              <p:nvPr/>
            </p:nvSpPr>
            <p:spPr>
              <a:xfrm>
                <a:off x="7006320" y="2350080"/>
                <a:ext cx="13078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oost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10"/>
              <p:cNvSpPr/>
              <p:nvPr/>
            </p:nvSpPr>
            <p:spPr>
              <a:xfrm flipH="1">
                <a:off x="4824720" y="2622960"/>
                <a:ext cx="2181240" cy="72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 Box 11"/>
              <p:cNvSpPr/>
              <p:nvPr/>
            </p:nvSpPr>
            <p:spPr>
              <a:xfrm>
                <a:off x="6307920" y="5603400"/>
                <a:ext cx="1744560" cy="642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nneau de stockag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12"/>
              <p:cNvSpPr/>
              <p:nvPr/>
            </p:nvSpPr>
            <p:spPr>
              <a:xfrm flipH="1" flipV="1">
                <a:off x="5871240" y="4700160"/>
                <a:ext cx="436320" cy="117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13"/>
              <p:cNvSpPr/>
              <p:nvPr/>
            </p:nvSpPr>
            <p:spPr>
              <a:xfrm>
                <a:off x="986040" y="5603400"/>
                <a:ext cx="1744560" cy="642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igne de lumiè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14"/>
              <p:cNvSpPr/>
              <p:nvPr/>
            </p:nvSpPr>
            <p:spPr>
              <a:xfrm flipV="1">
                <a:off x="2120760" y="5060880"/>
                <a:ext cx="0" cy="54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es Miroi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SpotFocaliserVertical"/>
          <p:cNvPicPr/>
          <p:nvPr/>
        </p:nvPicPr>
        <p:blipFill>
          <a:blip r:embed="rId1"/>
          <a:srcRect l="2375" t="8147" r="2375" b="4526"/>
          <a:stretch/>
        </p:blipFill>
        <p:spPr>
          <a:xfrm>
            <a:off x="1042920" y="2421000"/>
            <a:ext cx="7201080" cy="347004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6"/>
          <p:cNvSpPr/>
          <p:nvPr/>
        </p:nvSpPr>
        <p:spPr>
          <a:xfrm>
            <a:off x="783360" y="1556280"/>
            <a:ext cx="71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Faisceau inhomogène vertica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7" descr="MonochromateurFAME"/>
          <p:cNvPicPr/>
          <p:nvPr/>
        </p:nvPicPr>
        <p:blipFill>
          <a:blip r:embed="rId1"/>
          <a:stretch/>
        </p:blipFill>
        <p:spPr>
          <a:xfrm>
            <a:off x="1835280" y="1773360"/>
            <a:ext cx="5688000" cy="42656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e Monochromateu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6"/>
              <p:cNvSpPr txBox="1"/>
              <p:nvPr/>
            </p:nvSpPr>
            <p:spPr>
              <a:xfrm>
                <a:off x="2928960" y="3286080"/>
                <a:ext cx="34574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k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n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" name="Rectangle 9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1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8"/>
          <p:cNvSpPr/>
          <p:nvPr/>
        </p:nvSpPr>
        <p:spPr>
          <a:xfrm>
            <a:off x="1674720" y="1556640"/>
            <a:ext cx="49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Formules import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e Monochromateu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0"/>
          <p:cNvSpPr/>
          <p:nvPr/>
        </p:nvSpPr>
        <p:spPr>
          <a:xfrm>
            <a:off x="1140120" y="2570760"/>
            <a:ext cx="69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Sélectivité en énergie: loi de Bra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21"/>
              <p:cNvSpPr txBox="1"/>
              <p:nvPr/>
            </p:nvSpPr>
            <p:spPr>
              <a:xfrm>
                <a:off x="1500120" y="4214880"/>
                <a:ext cx="598320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Δθ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Δ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TextBox 12"/>
          <p:cNvSpPr/>
          <p:nvPr/>
        </p:nvSpPr>
        <p:spPr>
          <a:xfrm>
            <a:off x="1317960" y="5500800"/>
            <a:ext cx="662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cceptance angulaire du mono,  divergence du faisceau 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rgeur du trou d’absor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e Monochromateu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54360" y="2779920"/>
            <a:ext cx="340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Sélectivité en énerg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loi de Brag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2" descr="angle-mono"/>
          <p:cNvPicPr/>
          <p:nvPr/>
        </p:nvPicPr>
        <p:blipFill>
          <a:blip r:embed="rId1"/>
          <a:stretch/>
        </p:blipFill>
        <p:spPr>
          <a:xfrm>
            <a:off x="3492360" y="1413000"/>
            <a:ext cx="529272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8"/>
              <p:cNvSpPr txBox="1"/>
              <p:nvPr/>
            </p:nvSpPr>
            <p:spPr>
              <a:xfrm>
                <a:off x="684360" y="3716280"/>
                <a:ext cx="403200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Δθ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Δ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Rectangle 9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10"/>
              <p:cNvSpPr txBox="1"/>
              <p:nvPr/>
            </p:nvSpPr>
            <p:spPr>
              <a:xfrm>
                <a:off x="5219640" y="3357720"/>
                <a:ext cx="313380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kl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t xml:space="preserve">πV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66" name="Group 11"/>
          <p:cNvGrpSpPr/>
          <p:nvPr/>
        </p:nvGrpSpPr>
        <p:grpSpPr>
          <a:xfrm>
            <a:off x="2268360" y="5229360"/>
            <a:ext cx="4392720" cy="768240"/>
            <a:chOff x="2268360" y="5229360"/>
            <a:chExt cx="4392720" cy="768240"/>
          </a:xfrm>
        </p:grpSpPr>
        <mc:AlternateContent>
          <mc:Choice xmlns:a14="http://schemas.microsoft.com/office/drawing/2010/main" Requires="a14">
            <p:sp>
              <p:nvSpPr>
                <p:cNvPr id="267" name="Object 12"/>
                <p:cNvSpPr txBox="1"/>
                <p:nvPr/>
              </p:nvSpPr>
              <p:spPr>
                <a:xfrm>
                  <a:off x="2268360" y="5229360"/>
                  <a:ext cx="936720" cy="76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E</m:t>
                      </m:r>
                      <m:r>
                        <m:t xml:space="preserve">E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8" name="Rectangle 13"/>
            <p:cNvSpPr/>
            <p:nvPr/>
          </p:nvSpPr>
          <p:spPr>
            <a:xfrm>
              <a:off x="3428280" y="5429880"/>
              <a:ext cx="166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2.2428 10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9" name="Object 14"/>
                <p:cNvSpPr txBox="1"/>
                <p:nvPr/>
              </p:nvSpPr>
              <p:spPr>
                <a:xfrm>
                  <a:off x="5168880" y="5300640"/>
                  <a:ext cx="82872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hk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0" name="Object 15"/>
                <p:cNvSpPr txBox="1"/>
                <p:nvPr/>
              </p:nvSpPr>
              <p:spPr>
                <a:xfrm>
                  <a:off x="5940360" y="5373720"/>
                  <a:ext cx="720720" cy="58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hkl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1" name="Rectangle 16"/>
          <p:cNvSpPr/>
          <p:nvPr/>
        </p:nvSpPr>
        <p:spPr>
          <a:xfrm>
            <a:off x="1890720" y="1556640"/>
            <a:ext cx="49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Formules import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e Monochromateu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8"/>
          <p:cNvSpPr/>
          <p:nvPr/>
        </p:nvSpPr>
        <p:spPr>
          <a:xfrm>
            <a:off x="716400" y="2491560"/>
            <a:ext cx="797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résolution en énergie: largeur de Darw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4"/>
          <p:cNvSpPr/>
          <p:nvPr/>
        </p:nvSpPr>
        <p:spPr>
          <a:xfrm>
            <a:off x="190440" y="3126960"/>
            <a:ext cx="2496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lic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5.4307 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7"/>
              <p:cNvSpPr txBox="1"/>
              <p:nvPr/>
            </p:nvSpPr>
            <p:spPr>
              <a:xfrm>
                <a:off x="6516720" y="1778040"/>
                <a:ext cx="23032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k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6" name="Rectangle 16"/>
          <p:cNvSpPr/>
          <p:nvPr/>
        </p:nvSpPr>
        <p:spPr>
          <a:xfrm>
            <a:off x="0" y="31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15"/>
              <p:cNvSpPr txBox="1"/>
              <p:nvPr/>
            </p:nvSpPr>
            <p:spPr>
              <a:xfrm>
                <a:off x="250920" y="1413000"/>
                <a:ext cx="60800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k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kl</m:t>
                            </m:r>
                          </m:sub>
                        </m:sSub>
                      </m:e>
                    </m:d>
                    <m:r>
                      <m:t xml:space="preserve">)</m:t>
                    </m:r>
                    <m:r>
                      <m:t xml:space="preserve">×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8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k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irs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t</m:t>
                            </m:r>
                            <m:r>
                              <m:t xml:space="preserve"> </m:t>
                            </m:r>
                            <m:r>
                              <m:t xml:space="preserve">h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  <m:r>
                              <m:t xml:space="preserve">n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4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k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mpairs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8" name="Text Box 43"/>
          <p:cNvSpPr/>
          <p:nvPr/>
        </p:nvSpPr>
        <p:spPr>
          <a:xfrm>
            <a:off x="622440" y="5157720"/>
            <a:ext cx="30747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man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.657 ~ 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5"/>
          <p:cNvSpPr/>
          <p:nvPr/>
        </p:nvSpPr>
        <p:spPr>
          <a:xfrm>
            <a:off x="903960" y="5778360"/>
            <a:ext cx="39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= 32 contre 14 pour le silicium don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46"/>
              <p:cNvSpPr txBox="1"/>
              <p:nvPr/>
            </p:nvSpPr>
            <p:spPr>
              <a:xfrm>
                <a:off x="4932360" y="5707080"/>
                <a:ext cx="26575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E</m:t>
                            </m:r>
                            <m:r>
                              <m:t xml:space="preserve">E</m:t>
                            </m:r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E</m:t>
                            </m:r>
                            <m:r>
                              <m:t xml:space="preserve">E</m:t>
                            </m:r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e Monochromateu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2843280" y="2924280"/>
          <a:ext cx="5976720" cy="1852560"/>
        </p:xfrm>
        <a:graphic>
          <a:graphicData uri="http://schemas.openxmlformats.org/drawingml/2006/table">
            <a:tbl>
              <a:tblPr/>
              <a:tblGrid>
                <a:gridCol w="1493640"/>
                <a:gridCol w="1495440"/>
                <a:gridCol w="1494000"/>
                <a:gridCol w="1493640"/>
              </a:tblGrid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k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Å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3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3 et 5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679320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e Monochromateu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539640" y="2707200"/>
            <a:ext cx="327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résolution en énergie: largeur de Darw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2" descr="rocking-curve"/>
          <p:cNvPicPr/>
          <p:nvPr/>
        </p:nvPicPr>
        <p:blipFill>
          <a:blip r:embed="rId1"/>
          <a:stretch/>
        </p:blipFill>
        <p:spPr>
          <a:xfrm>
            <a:off x="3851280" y="1413000"/>
            <a:ext cx="50036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35528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 Monochrom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755640" y="2707200"/>
            <a:ext cx="327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résolution en énergie: largeur de Darw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spectreetrésolution-09"/>
          <p:cNvPicPr/>
          <p:nvPr/>
        </p:nvPicPr>
        <p:blipFill>
          <a:blip r:embed="rId1"/>
          <a:srcRect l="0" t="0" r="0" b="6248"/>
          <a:stretch/>
        </p:blipFill>
        <p:spPr>
          <a:xfrm>
            <a:off x="4948200" y="0"/>
            <a:ext cx="4195800" cy="642780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17"/>
          <p:cNvSpPr/>
          <p:nvPr/>
        </p:nvSpPr>
        <p:spPr>
          <a:xfrm>
            <a:off x="7093080" y="318240"/>
            <a:ext cx="115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Ge(11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8"/>
          <p:cNvSpPr/>
          <p:nvPr/>
        </p:nvSpPr>
        <p:spPr>
          <a:xfrm>
            <a:off x="7020000" y="4529880"/>
            <a:ext cx="122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Si(31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9"/>
          <p:cNvSpPr/>
          <p:nvPr/>
        </p:nvSpPr>
        <p:spPr>
          <a:xfrm>
            <a:off x="7093080" y="2429640"/>
            <a:ext cx="115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Si(11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5"/>
              <p:cNvSpPr txBox="1"/>
              <p:nvPr/>
            </p:nvSpPr>
            <p:spPr>
              <a:xfrm>
                <a:off x="684360" y="3716280"/>
                <a:ext cx="403200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Δθ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Δ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Rectangle 6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3"/>
          <p:cNvSpPr/>
          <p:nvPr/>
        </p:nvSpPr>
        <p:spPr>
          <a:xfrm>
            <a:off x="1787400" y="1213920"/>
            <a:ext cx="49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Formules import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e Monochromateu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862920" y="1928160"/>
            <a:ext cx="769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résolution : divergence verticale du faisc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6" descr="deltathetadivergence"/>
          <p:cNvPicPr/>
          <p:nvPr/>
        </p:nvPicPr>
        <p:blipFill>
          <a:blip r:embed="rId1"/>
          <a:stretch/>
        </p:blipFill>
        <p:spPr>
          <a:xfrm>
            <a:off x="4857840" y="2687760"/>
            <a:ext cx="3744720" cy="38829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17"/>
          <p:cNvSpPr/>
          <p:nvPr/>
        </p:nvSpPr>
        <p:spPr>
          <a:xfrm>
            <a:off x="755640" y="472428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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0.28 mrad @ 4k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0.15 mrad @ 10k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0.13 mrad @ 30k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DessinCristalRefroidissement"/>
          <p:cNvPicPr/>
          <p:nvPr/>
        </p:nvPicPr>
        <p:blipFill>
          <a:blip r:embed="rId1"/>
          <a:stretch/>
        </p:blipFill>
        <p:spPr>
          <a:xfrm>
            <a:off x="379440" y="2738520"/>
            <a:ext cx="5398920" cy="3738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" descr="DessinCristalRefroidissement2"/>
          <p:cNvPicPr/>
          <p:nvPr/>
        </p:nvPicPr>
        <p:blipFill>
          <a:blip r:embed="rId2"/>
          <a:stretch/>
        </p:blipFill>
        <p:spPr>
          <a:xfrm>
            <a:off x="336600" y="2738520"/>
            <a:ext cx="5398920" cy="36529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5"/>
          <p:cNvSpPr/>
          <p:nvPr/>
        </p:nvSpPr>
        <p:spPr>
          <a:xfrm>
            <a:off x="4361760" y="1628640"/>
            <a:ext cx="458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uvais refroidiss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te de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gradation de la ré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3313080" y="3746520"/>
            <a:ext cx="52880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froidissement du 1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ristal en Si: LN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ivité therm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la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e Monochromateu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9" descr=""/>
          <p:cNvPicPr/>
          <p:nvPr/>
        </p:nvPicPr>
        <p:blipFill>
          <a:blip r:embed="rId1"/>
          <a:srcRect l="18029" t="0" r="0" b="0"/>
          <a:stretch/>
        </p:blipFill>
        <p:spPr>
          <a:xfrm rot="21467400">
            <a:off x="1042560" y="1413000"/>
            <a:ext cx="3600360" cy="2641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/>
          <p:cNvPicPr/>
          <p:nvPr/>
        </p:nvPicPr>
        <p:blipFill>
          <a:blip r:embed="rId2"/>
          <a:srcRect l="17510" t="7598" r="34213" b="19471"/>
          <a:stretch/>
        </p:blipFill>
        <p:spPr>
          <a:xfrm>
            <a:off x="5148360" y="1773360"/>
            <a:ext cx="2585880" cy="35272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22"/>
          <p:cNvSpPr/>
          <p:nvPr/>
        </p:nvSpPr>
        <p:spPr>
          <a:xfrm>
            <a:off x="684360" y="4365720"/>
            <a:ext cx="410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élération d’une particule chargé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te d’énergie par rayon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3"/>
          <p:cNvSpPr/>
          <p:nvPr/>
        </p:nvSpPr>
        <p:spPr>
          <a:xfrm>
            <a:off x="971640" y="3514680"/>
            <a:ext cx="2252520" cy="34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99"/>
                </a:solidFill>
                <a:latin typeface="Arial"/>
              </a:rPr>
              <a:t>cas non-relativ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4"/>
          <p:cNvSpPr/>
          <p:nvPr/>
        </p:nvSpPr>
        <p:spPr>
          <a:xfrm>
            <a:off x="4932360" y="5311800"/>
            <a:ext cx="24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99"/>
                </a:solidFill>
                <a:latin typeface="Arial"/>
              </a:rPr>
              <a:t>cas relativ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3"/>
          <p:cNvSpPr/>
          <p:nvPr/>
        </p:nvSpPr>
        <p:spPr>
          <a:xfrm>
            <a:off x="331920" y="1916280"/>
            <a:ext cx="88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mitation des vibration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 refroidissement indi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1116000" y="6352200"/>
            <a:ext cx="74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ux O.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t al.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Journal of Synchrotron Radiati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59-68 (2006)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5"/>
          <p:cNvGrpSpPr/>
          <p:nvPr/>
        </p:nvGrpSpPr>
        <p:grpSpPr>
          <a:xfrm>
            <a:off x="5423760" y="3127320"/>
            <a:ext cx="2744280" cy="910440"/>
            <a:chOff x="5423760" y="3127320"/>
            <a:chExt cx="2744280" cy="910440"/>
          </a:xfrm>
        </p:grpSpPr>
        <p:sp>
          <p:nvSpPr>
            <p:cNvPr id="318" name="Text Box 6"/>
            <p:cNvSpPr/>
            <p:nvPr/>
          </p:nvSpPr>
          <p:spPr>
            <a:xfrm>
              <a:off x="5423760" y="3127320"/>
              <a:ext cx="2744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fr-FR" sz="1800" spc="-1" strike="noStrike" baseline="-25000">
                  <a:solidFill>
                    <a:srgbClr val="000000"/>
                  </a:solidFill>
                  <a:latin typeface="Arial"/>
                </a:rPr>
                <a:t>1er cristal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= -160°C (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±0,01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7"/>
            <p:cNvSpPr/>
            <p:nvPr/>
          </p:nvSpPr>
          <p:spPr>
            <a:xfrm>
              <a:off x="5496840" y="3632040"/>
              <a:ext cx="1693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nd crista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~ 20°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AutoShape 8"/>
          <p:cNvSpPr/>
          <p:nvPr/>
        </p:nvSpPr>
        <p:spPr>
          <a:xfrm>
            <a:off x="8185320" y="3594240"/>
            <a:ext cx="718920" cy="2346120"/>
          </a:xfrm>
          <a:custGeom>
            <a:avLst/>
            <a:gdLst>
              <a:gd name="textAreaLeft" fmla="*/ 96120 w 718920"/>
              <a:gd name="textAreaRight" fmla="*/ 622800 w 718920"/>
              <a:gd name="textAreaTop" fmla="*/ 496080 h 2346120"/>
              <a:gd name="textAreaBottom" fmla="*/ 1615320 h 234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139" stAng="-5400000" swAng="5400000"/>
                <a:lnTo>
                  <a:pt x="21600" y="10302"/>
                </a:lnTo>
                <a:arcTo wR="21600" hR="9139" stAng="0" swAng="3006934"/>
                <a:lnTo>
                  <a:pt x="7200" y="21077"/>
                </a:lnTo>
                <a:lnTo>
                  <a:pt x="0" y="18859"/>
                </a:lnTo>
                <a:lnTo>
                  <a:pt x="7200" y="15594"/>
                </a:lnTo>
                <a:lnTo>
                  <a:pt x="7200" y="17754"/>
                </a:lnTo>
                <a:arcTo wR="21600" hR="9139" stAng="3006934" swAng="-2914220"/>
                <a:lnTo>
                  <a:pt x="21556" y="9720"/>
                </a:lnTo>
                <a:arcTo wR="21600" hR="9139" stAng="-92714" swAng="-5307286"/>
                <a:close/>
              </a:path>
              <a:path fill="darkenLess" w="21600" h="21600">
                <a:moveTo>
                  <a:pt x="0" y="0"/>
                </a:moveTo>
                <a:arcTo wR="21600" hR="9139" stAng="-5400000" swAng="5400000"/>
                <a:lnTo>
                  <a:pt x="21600" y="10302"/>
                </a:lnTo>
                <a:arcTo wR="21600" hR="9139" stAng="0" swAng="-92714"/>
                <a:lnTo>
                  <a:pt x="21556" y="9720"/>
                </a:lnTo>
                <a:arcTo wR="21600" hR="9139" stAng="-92714" swAng="-5307286"/>
                <a:close/>
              </a:path>
            </a:pathLst>
          </a:cu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9"/>
          <p:cNvSpPr/>
          <p:nvPr/>
        </p:nvSpPr>
        <p:spPr>
          <a:xfrm>
            <a:off x="5349960" y="3127320"/>
            <a:ext cx="2824200" cy="936720"/>
          </a:xfrm>
          <a:prstGeom prst="flowChartAlternateProcess">
            <a:avLst/>
          </a:prstGeom>
          <a:noFill/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0"/>
          <p:cNvSpPr/>
          <p:nvPr/>
        </p:nvSpPr>
        <p:spPr>
          <a:xfrm>
            <a:off x="4782960" y="5597640"/>
            <a:ext cx="30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(Si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er crist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d(Si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nd cri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1" descr="Figure5"/>
          <p:cNvPicPr/>
          <p:nvPr/>
        </p:nvPicPr>
        <p:blipFill>
          <a:blip r:embed="rId1"/>
          <a:stretch/>
        </p:blipFill>
        <p:spPr>
          <a:xfrm>
            <a:off x="971640" y="2492280"/>
            <a:ext cx="3535200" cy="304164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e Monochromateu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12" descr="MonoRefroidissement"/>
          <p:cNvPicPr/>
          <p:nvPr/>
        </p:nvPicPr>
        <p:blipFill>
          <a:blip r:embed="rId2"/>
          <a:srcRect l="8307" t="22135" r="8307" b="5534"/>
          <a:stretch/>
        </p:blipFill>
        <p:spPr>
          <a:xfrm>
            <a:off x="755640" y="2637000"/>
            <a:ext cx="3529080" cy="2517480"/>
          </a:xfrm>
          <a:prstGeom prst="rect">
            <a:avLst/>
          </a:prstGeom>
          <a:ln w="0">
            <a:noFill/>
          </a:ln>
        </p:spPr>
      </p:pic>
      <p:sp>
        <p:nvSpPr>
          <p:cNvPr id="326" name="AutoShape 13"/>
          <p:cNvSpPr/>
          <p:nvPr/>
        </p:nvSpPr>
        <p:spPr>
          <a:xfrm flipH="1">
            <a:off x="3673440" y="5657760"/>
            <a:ext cx="936720" cy="289080"/>
          </a:xfrm>
          <a:prstGeom prst="rightArrow">
            <a:avLst>
              <a:gd name="adj1" fmla="val 19824"/>
              <a:gd name="adj2" fmla="val 87264"/>
            </a:avLst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1332000" y="5589720"/>
            <a:ext cx="221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érence angulair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15"/>
          <p:cNvSpPr/>
          <p:nvPr/>
        </p:nvSpPr>
        <p:spPr>
          <a:xfrm flipH="1" flipV="1">
            <a:off x="610920" y="4797360"/>
            <a:ext cx="720720" cy="1152720"/>
          </a:xfrm>
          <a:custGeom>
            <a:avLst/>
            <a:gdLst>
              <a:gd name="textAreaLeft" fmla="*/ 96480 w 720720"/>
              <a:gd name="textAreaRight" fmla="*/ 624240 w 720720"/>
              <a:gd name="textAreaTop" fmla="*/ 243720 h 1152720"/>
              <a:gd name="textAreaBottom" fmla="*/ 79380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139" stAng="-5400000" swAng="5400000"/>
                <a:lnTo>
                  <a:pt x="21600" y="10302"/>
                </a:lnTo>
                <a:arcTo wR="21600" hR="9139" stAng="0" swAng="3006934"/>
                <a:lnTo>
                  <a:pt x="7200" y="21077"/>
                </a:lnTo>
                <a:lnTo>
                  <a:pt x="0" y="18859"/>
                </a:lnTo>
                <a:lnTo>
                  <a:pt x="7200" y="15594"/>
                </a:lnTo>
                <a:lnTo>
                  <a:pt x="7200" y="17754"/>
                </a:lnTo>
                <a:arcTo wR="21600" hR="9139" stAng="3006934" swAng="-2914220"/>
                <a:lnTo>
                  <a:pt x="21556" y="9720"/>
                </a:lnTo>
                <a:arcTo wR="21600" hR="9139" stAng="-92714" swAng="-5307286"/>
                <a:close/>
              </a:path>
              <a:path fill="darkenLess" w="21600" h="21600">
                <a:moveTo>
                  <a:pt x="0" y="0"/>
                </a:moveTo>
                <a:arcTo wR="21600" hR="9139" stAng="-5400000" swAng="5400000"/>
                <a:lnTo>
                  <a:pt x="21600" y="10302"/>
                </a:lnTo>
                <a:arcTo wR="21600" hR="9139" stAng="0" swAng="-92714"/>
                <a:lnTo>
                  <a:pt x="21556" y="9720"/>
                </a:lnTo>
                <a:arcTo wR="21600" hR="9139" stAng="-92714" swAng="-5307286"/>
                <a:close/>
              </a:path>
            </a:pathLst>
          </a:cu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6"/>
          <p:cNvSpPr/>
          <p:nvPr/>
        </p:nvSpPr>
        <p:spPr>
          <a:xfrm>
            <a:off x="2368440" y="412128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ectre EXAFS (1ke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5364000" y="2924280"/>
            <a:ext cx="37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gl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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eur (grands déplace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ezo-électrique (faible amplitu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3" descr="Piezoacc"/>
          <p:cNvPicPr/>
          <p:nvPr/>
        </p:nvPicPr>
        <p:blipFill>
          <a:blip r:embed="rId1"/>
          <a:stretch/>
        </p:blipFill>
        <p:spPr>
          <a:xfrm>
            <a:off x="252360" y="2781360"/>
            <a:ext cx="4967280" cy="277344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684360" y="1916280"/>
            <a:ext cx="59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Optimisation dynamique de l’angle </a:t>
            </a:r>
            <a:r>
              <a:rPr b="1" lang="fr-FR" sz="2400" spc="-1" strike="noStrike">
                <a:solidFill>
                  <a:srgbClr val="ff0000"/>
                </a:solidFill>
                <a:latin typeface="Symbol"/>
                <a:ea typeface="Symbol"/>
              </a:rPr>
              <a:t>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5403960" y="4200480"/>
            <a:ext cx="336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uvement piezo associé à une détection synchr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sation du f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6" descr="ReglageACCetPIEZO"/>
          <p:cNvPicPr/>
          <p:nvPr/>
        </p:nvPicPr>
        <p:blipFill>
          <a:blip r:embed="rId2"/>
          <a:stretch/>
        </p:blipFill>
        <p:spPr>
          <a:xfrm>
            <a:off x="919080" y="2654280"/>
            <a:ext cx="3936960" cy="291456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8"/>
          <p:cNvSpPr/>
          <p:nvPr/>
        </p:nvSpPr>
        <p:spPr>
          <a:xfrm>
            <a:off x="3436920" y="5794200"/>
            <a:ext cx="535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égulation auto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arent” pour les utilis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e Monochromateu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5" descr=""/>
          <p:cNvPicPr/>
          <p:nvPr/>
        </p:nvPicPr>
        <p:blipFill>
          <a:blip r:embed="rId1"/>
          <a:stretch/>
        </p:blipFill>
        <p:spPr>
          <a:xfrm>
            <a:off x="3492360" y="1566720"/>
            <a:ext cx="5626080" cy="366264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7"/>
          <p:cNvSpPr/>
          <p:nvPr/>
        </p:nvSpPr>
        <p:spPr>
          <a:xfrm>
            <a:off x="6086520" y="616572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cence N° LC0018 et LC00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e Monochromateu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0" y="1915200"/>
            <a:ext cx="35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Courbeur du 2</a:t>
            </a:r>
            <a:r>
              <a:rPr b="1" lang="en-US" sz="32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nd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cristal: foca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10" descr="courbure"/>
          <p:cNvPicPr/>
          <p:nvPr/>
        </p:nvPicPr>
        <p:blipFill>
          <a:blip r:embed="rId2"/>
          <a:srcRect l="0" t="0" r="12598" b="64795"/>
          <a:stretch/>
        </p:blipFill>
        <p:spPr>
          <a:xfrm>
            <a:off x="0" y="4508640"/>
            <a:ext cx="583236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e Monochromateu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7" descr=""/>
          <p:cNvPicPr/>
          <p:nvPr/>
        </p:nvPicPr>
        <p:blipFill>
          <a:blip r:embed="rId1"/>
          <a:stretch/>
        </p:blipFill>
        <p:spPr>
          <a:xfrm>
            <a:off x="4500720" y="2924280"/>
            <a:ext cx="4248000" cy="363672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8"/>
          <p:cNvSpPr/>
          <p:nvPr/>
        </p:nvSpPr>
        <p:spPr>
          <a:xfrm>
            <a:off x="395280" y="1700280"/>
            <a:ext cx="838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Arial"/>
              </a:rPr>
              <a:t>Tailles caractérist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urce: ~100 µ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u niveau du monochromateur: ~70 mm (2 mr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u niveau de l’échantillon: ~300 µ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e Monochromateu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6"/>
          <p:cNvSpPr/>
          <p:nvPr/>
        </p:nvSpPr>
        <p:spPr>
          <a:xfrm>
            <a:off x="946440" y="1556280"/>
            <a:ext cx="685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aisceau inhomogène horizonta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7" descr="SpotFocaliser"/>
          <p:cNvPicPr/>
          <p:nvPr/>
        </p:nvPicPr>
        <p:blipFill>
          <a:blip r:embed="rId1"/>
          <a:srcRect l="1727" t="13669" r="1727" b="3107"/>
          <a:stretch/>
        </p:blipFill>
        <p:spPr>
          <a:xfrm>
            <a:off x="1332000" y="2708280"/>
            <a:ext cx="640872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8"/>
          <p:cNvSpPr/>
          <p:nvPr/>
        </p:nvSpPr>
        <p:spPr>
          <a:xfrm>
            <a:off x="465480" y="1533600"/>
            <a:ext cx="39236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Constituants de la lig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ure des fentes (W, 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ure du revêtement des miroirs (R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uretés dans les fenêtres de Be (Fe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age des cristaux (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out est important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347400" y="3571920"/>
            <a:ext cx="389484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Times New Roman"/>
              </a:rPr>
              <a:t>Attention à toutes les absorption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Fenêtres en Béryllium (basses énerg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ellules (capillaires, kapton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1"/>
          <a:stretch/>
        </p:blipFill>
        <p:spPr>
          <a:xfrm>
            <a:off x="4349880" y="2398680"/>
            <a:ext cx="4539960" cy="365112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10"/>
          <p:cNvSpPr/>
          <p:nvPr/>
        </p:nvSpPr>
        <p:spPr>
          <a:xfrm>
            <a:off x="156600" y="5143680"/>
            <a:ext cx="54507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ttention à tous les autres phénomè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usion élastique et inélastique, diffraction, cohérence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ayonnement synchrotron: les sourc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3880" y="177336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Éléments d’insertion (I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imants de courbure (B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bm"/>
          <p:cNvPicPr/>
          <p:nvPr/>
        </p:nvPicPr>
        <p:blipFill>
          <a:blip r:embed="rId1"/>
          <a:stretch/>
        </p:blipFill>
        <p:spPr>
          <a:xfrm>
            <a:off x="2627280" y="5084640"/>
            <a:ext cx="3914640" cy="1411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"/>
          <p:cNvPicPr/>
          <p:nvPr/>
        </p:nvPicPr>
        <p:blipFill>
          <a:blip r:embed="rId2"/>
          <a:stretch/>
        </p:blipFill>
        <p:spPr>
          <a:xfrm>
            <a:off x="2124000" y="2349360"/>
            <a:ext cx="5175360" cy="18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ayonnement synchrotron: les sourc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7" descr="fig1"/>
          <p:cNvPicPr/>
          <p:nvPr/>
        </p:nvPicPr>
        <p:blipFill>
          <a:blip r:embed="rId1"/>
          <a:srcRect l="0" t="0" r="0" b="24605"/>
          <a:stretch/>
        </p:blipFill>
        <p:spPr>
          <a:xfrm>
            <a:off x="1258920" y="2637000"/>
            <a:ext cx="6840360" cy="3087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03280" y="17622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fférents cônes d’émiss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ayonnement synchrotron: les sourc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0102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fférents spectres d’émiss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b004136j-f2"/>
          <p:cNvPicPr/>
          <p:nvPr/>
        </p:nvPicPr>
        <p:blipFill>
          <a:blip r:embed="rId1"/>
          <a:stretch/>
        </p:blipFill>
        <p:spPr>
          <a:xfrm>
            <a:off x="611280" y="2781360"/>
            <a:ext cx="3733560" cy="2743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Sans titre"/>
          <p:cNvPicPr/>
          <p:nvPr/>
        </p:nvPicPr>
        <p:blipFill>
          <a:blip r:embed="rId2"/>
          <a:stretch/>
        </p:blipFill>
        <p:spPr>
          <a:xfrm>
            <a:off x="4716360" y="2200320"/>
            <a:ext cx="420048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ayonnement synchrotron: les modes de faisceau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089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fférents types de remplissage de l’anneau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ModeFaisceauUniform"/>
          <p:cNvPicPr/>
          <p:nvPr/>
        </p:nvPicPr>
        <p:blipFill>
          <a:blip r:embed="rId1"/>
          <a:stretch/>
        </p:blipFill>
        <p:spPr>
          <a:xfrm>
            <a:off x="684360" y="2517840"/>
            <a:ext cx="1857240" cy="1847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ModeFaisceauHybrid"/>
          <p:cNvPicPr/>
          <p:nvPr/>
        </p:nvPicPr>
        <p:blipFill>
          <a:blip r:embed="rId2"/>
          <a:stretch/>
        </p:blipFill>
        <p:spPr>
          <a:xfrm>
            <a:off x="6516720" y="2525760"/>
            <a:ext cx="1857240" cy="1828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ModeFaisceauDeuxTiers"/>
          <p:cNvPicPr/>
          <p:nvPr/>
        </p:nvPicPr>
        <p:blipFill>
          <a:blip r:embed="rId3"/>
          <a:stretch/>
        </p:blipFill>
        <p:spPr>
          <a:xfrm>
            <a:off x="3600360" y="2525760"/>
            <a:ext cx="1857600" cy="18288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3"/>
          <p:cNvSpPr/>
          <p:nvPr/>
        </p:nvSpPr>
        <p:spPr>
          <a:xfrm>
            <a:off x="571680" y="4600440"/>
            <a:ext cx="714348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Mode exoti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6 bunches et 4 bunch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ayonnement synchrotron: les modes de faisceau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03280" y="17622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fférentes caractéristiqu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11280" y="2421000"/>
          <a:ext cx="7993080" cy="3335400"/>
        </p:xfrm>
        <a:graphic>
          <a:graphicData uri="http://schemas.openxmlformats.org/drawingml/2006/table">
            <a:tbl>
              <a:tblPr/>
              <a:tblGrid>
                <a:gridCol w="2376360"/>
                <a:gridCol w="2016000"/>
                <a:gridCol w="1873440"/>
                <a:gridCol w="1727280"/>
              </a:tblGrid>
              <a:tr h="88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a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ée de vi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for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m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h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si-conti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m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 h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si-conti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b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m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h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si-conti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b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m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h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conti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bri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m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h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conti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Rectangle 48"/>
          <p:cNvSpPr/>
          <p:nvPr/>
        </p:nvSpPr>
        <p:spPr>
          <a:xfrm>
            <a:off x="453960" y="6308640"/>
            <a:ext cx="398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esrf.fr/Accelerators/Operation/M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4"/>
          <p:cNvSpPr/>
          <p:nvPr/>
        </p:nvSpPr>
        <p:spPr>
          <a:xfrm>
            <a:off x="6877080" y="3357720"/>
            <a:ext cx="1655640" cy="2376360"/>
          </a:xfrm>
          <a:custGeom>
            <a:avLst/>
            <a:gdLst>
              <a:gd name="textAreaLeft" fmla="*/ 37440 w 1655640"/>
              <a:gd name="textAreaRight" fmla="*/ 1618200 w 1655640"/>
              <a:gd name="textAreaTop" fmla="*/ 37440 h 2376360"/>
              <a:gd name="textAreaBottom" fmla="*/ 2338920 h 2376360"/>
            </a:gdLst>
            <a:ahLst/>
            <a:rect l="textAreaLeft" t="textAreaTop" r="textAreaRight" b="textAreaBottom"/>
            <a:pathLst>
              <a:path w="21600" h="31001">
                <a:moveTo>
                  <a:pt x="1677" y="0"/>
                </a:moveTo>
                <a:arcTo wR="1677" hR="1677" stAng="16200000" swAng="-5400000"/>
                <a:lnTo>
                  <a:pt x="0" y="29324"/>
                </a:lnTo>
                <a:arcTo wR="1677" hR="1677" stAng="10800000" swAng="-5400000"/>
                <a:lnTo>
                  <a:pt x="19923" y="31001"/>
                </a:lnTo>
                <a:arcTo wR="1677" hR="1677" stAng="5400000" swAng="-5400000"/>
                <a:lnTo>
                  <a:pt x="21600" y="1677"/>
                </a:lnTo>
                <a:arcTo wR="1677" hR="1677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55"/>
          <p:cNvSpPr/>
          <p:nvPr/>
        </p:nvSpPr>
        <p:spPr>
          <a:xfrm>
            <a:off x="7740720" y="573408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6"/>
          <p:cNvSpPr/>
          <p:nvPr/>
        </p:nvSpPr>
        <p:spPr>
          <a:xfrm>
            <a:off x="5796000" y="595008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étection de fluorescence (détecteur sol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7"/>
          <p:cNvSpPr/>
          <p:nvPr/>
        </p:nvSpPr>
        <p:spPr>
          <a:xfrm>
            <a:off x="1841400" y="5877000"/>
            <a:ext cx="341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équence de révolution: 355 k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7"/>
          <p:cNvSpPr/>
          <p:nvPr/>
        </p:nvSpPr>
        <p:spPr>
          <a:xfrm>
            <a:off x="1357200" y="976320"/>
            <a:ext cx="70725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électionner un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énergi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u faisceau polychromatique du synchrotron et adapter sa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tail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à l’échantillon et la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divergenc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 type d’analys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emples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Diffrac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u de divergence et une taille la plus petite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Diffusion aux petits angles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ès peu de divergence et faisceau le plus petit pos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ff00"/>
                </a:solidFill>
                <a:latin typeface="Arial"/>
              </a:rPr>
              <a:t>Absorption X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maximum de photons dans une taille la plus petite possible et le plus monochromatique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2060"/>
                </a:solidFill>
                <a:latin typeface="Arial"/>
              </a:rPr>
              <a:t>Tomograph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"/>
              </a:rPr>
              <a:t>le plus parallèle possible sur une grande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28880" y="-360"/>
            <a:ext cx="55814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ut d’une lig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13:11:14Z</dcterms:created>
  <dc:creator>Jean-Louis Hazemann</dc:creator>
  <dc:description/>
  <dc:language>en-US</dc:language>
  <cp:lastModifiedBy>PROUX</cp:lastModifiedBy>
  <dcterms:modified xsi:type="dcterms:W3CDTF">2010-05-10T09:44:59Z</dcterms:modified>
  <cp:revision>68</cp:revision>
  <dc:subject/>
  <dc:title>Diapositive 1</dc:title>
</cp:coreProperties>
</file>