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579708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3341160" y="531360"/>
            <a:ext cx="35514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Systèmes de détection pour la Spectroscopie d'Absorption 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4446-AA98-43D0-84B5-FFF5567BE46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Systèmes de détection pour la Spectroscopie d'Absorption 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79744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EAE3-C257-4F07-9E3A-589C29109341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2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655-3096-49EE-9761-9011E843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D08-7EDE-4D95-8668-E6B88EB4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540-D662-4EDD-B0AD-3FBD8930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416-157B-4CE2-8AED-2959E29F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A054-1760-4B05-9EFB-9A559A35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2914-E290-46E9-B4D6-450939F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2684-972E-42B4-8B23-88F68986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0C9-DC06-47F7-A33C-4504841C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6BC7-65D5-4C75-B28B-9CA40B1E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4F7-1E4F-465B-9543-CB8678FA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3023-F6EC-44C7-9FA0-9897A36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BAA-4193-410A-B33D-26B69F0E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B0F9-1D9B-405E-B634-6FD0A880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6D9F-948F-4BC2-B381-45CE9F61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F9E4-B4C8-45F5-835E-1CE72376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4012-0F15-4EB1-BFE8-B28CE7D0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1698-844F-4B0B-84BE-4843F1F5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764-4D74-4A3C-89F2-905E1387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734-24F5-4D7C-BEBC-844178C9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E03-3D5A-4B05-8DBD-A972C51C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99F-D0F5-4032-9299-00F552B1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4B1-4096-4C6B-9CFA-53D0EC3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AF2-EFFE-4CFA-946B-AEFC38A6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CCA-8418-4A16-98B9-DD703839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667C-1ACB-4C22-A9BF-CD26E57DF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5354-3BD9-45A6-AD46-665704DE7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41360"/>
            <a:ext cx="647676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Déposer un proj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logoFormation2"/>
          <p:cNvPicPr/>
          <p:nvPr/>
        </p:nvPicPr>
        <p:blipFill>
          <a:blip r:embed="rId1"/>
          <a:stretch/>
        </p:blipFill>
        <p:spPr>
          <a:xfrm>
            <a:off x="755640" y="5373720"/>
            <a:ext cx="201600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97000" y="2419200"/>
            <a:ext cx="4876560" cy="267048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4"/>
          <p:cNvSpPr/>
          <p:nvPr/>
        </p:nvSpPr>
        <p:spPr>
          <a:xfrm>
            <a:off x="5461560" y="257796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chier: DepotProjetSUNset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5"/>
          <p:cNvSpPr/>
          <p:nvPr/>
        </p:nvSpPr>
        <p:spPr>
          <a:xfrm>
            <a:off x="5505120" y="3117960"/>
            <a:ext cx="30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DF comme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en fonction de F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1873440" y="5629320"/>
            <a:ext cx="59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ide en ligne commentée sur la clef USB de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9600" y="2642760"/>
            <a:ext cx="7010280" cy="27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ux procéd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ésentation diffé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enu iden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ux possibilités d’avoir du temps de faiscea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eamlines requ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urée… pas moins de 12 shif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a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BeamlineRequest1"/>
          <p:cNvPicPr/>
          <p:nvPr/>
        </p:nvPicPr>
        <p:blipFill>
          <a:blip r:embed="rId1"/>
          <a:srcRect l="0" t="0" r="14562" b="48891"/>
          <a:stretch/>
        </p:blipFill>
        <p:spPr>
          <a:xfrm>
            <a:off x="797040" y="4092480"/>
            <a:ext cx="7942320" cy="24577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8"/>
          <p:cNvGrpSpPr/>
          <p:nvPr/>
        </p:nvGrpSpPr>
        <p:grpSpPr>
          <a:xfrm>
            <a:off x="787320" y="3643200"/>
            <a:ext cx="7869240" cy="928800"/>
            <a:chOff x="787320" y="3643200"/>
            <a:chExt cx="7869240" cy="928800"/>
          </a:xfrm>
        </p:grpSpPr>
        <p:sp>
          <p:nvSpPr>
            <p:cNvPr id="133" name="Rectangle 5"/>
            <p:cNvSpPr/>
            <p:nvPr/>
          </p:nvSpPr>
          <p:spPr>
            <a:xfrm>
              <a:off x="787320" y="4267080"/>
              <a:ext cx="124452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"/>
            <p:cNvSpPr/>
            <p:nvPr/>
          </p:nvSpPr>
          <p:spPr>
            <a:xfrm>
              <a:off x="2189160" y="3643200"/>
              <a:ext cx="646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éléments dilués, expériences basse énergie, haute pression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rc 7"/>
            <p:cNvSpPr/>
            <p:nvPr/>
          </p:nvSpPr>
          <p:spPr>
            <a:xfrm flipV="1" rot="10689600">
              <a:off x="1473120" y="3783960"/>
              <a:ext cx="711360" cy="30456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774720" y="3643200"/>
            <a:ext cx="7617240" cy="928800"/>
            <a:chOff x="774720" y="3643200"/>
            <a:chExt cx="7617240" cy="928800"/>
          </a:xfrm>
        </p:grpSpPr>
        <p:sp>
          <p:nvSpPr>
            <p:cNvPr id="137" name="Rectangle 10"/>
            <p:cNvSpPr/>
            <p:nvPr/>
          </p:nvSpPr>
          <p:spPr>
            <a:xfrm>
              <a:off x="774720" y="4267080"/>
              <a:ext cx="260352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3532680" y="3643200"/>
              <a:ext cx="48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éléments concentrés, expériences « simple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rc 12"/>
            <p:cNvSpPr/>
            <p:nvPr/>
          </p:nvSpPr>
          <p:spPr>
            <a:xfrm flipV="1" rot="10689600">
              <a:off x="2819160" y="3783600"/>
              <a:ext cx="711000" cy="304560"/>
            </a:xfrm>
            <a:custGeom>
              <a:avLst/>
              <a:gdLst>
                <a:gd name="textAreaLeft" fmla="*/ 0 w 711000"/>
                <a:gd name="textAreaRight" fmla="*/ 711360 w 71100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8"/>
          <p:cNvGrpSpPr/>
          <p:nvPr/>
        </p:nvGrpSpPr>
        <p:grpSpPr>
          <a:xfrm>
            <a:off x="4521240" y="4430880"/>
            <a:ext cx="3974760" cy="1157040"/>
            <a:chOff x="4521240" y="4430880"/>
            <a:chExt cx="3974760" cy="1157040"/>
          </a:xfrm>
        </p:grpSpPr>
        <p:sp>
          <p:nvSpPr>
            <p:cNvPr id="141" name="Rectangle 15"/>
            <p:cNvSpPr/>
            <p:nvPr/>
          </p:nvSpPr>
          <p:spPr>
            <a:xfrm>
              <a:off x="4521240" y="4813200"/>
              <a:ext cx="3949560" cy="774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6"/>
            <p:cNvSpPr/>
            <p:nvPr/>
          </p:nvSpPr>
          <p:spPr>
            <a:xfrm>
              <a:off x="4953240" y="4430880"/>
              <a:ext cx="35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Manip d’Absorption X (Ex. du f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17"/>
          <p:cNvGraphicFramePr/>
          <p:nvPr/>
        </p:nvGraphicFramePr>
        <p:xfrm>
          <a:off x="1035000" y="2757600"/>
          <a:ext cx="67453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757600"/>
                    <a:ext cx="67453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Group 21"/>
          <p:cNvGrpSpPr/>
          <p:nvPr/>
        </p:nvGrpSpPr>
        <p:grpSpPr>
          <a:xfrm>
            <a:off x="3936960" y="2449440"/>
            <a:ext cx="3949920" cy="1944720"/>
            <a:chOff x="3936960" y="2449440"/>
            <a:chExt cx="3949920" cy="1944720"/>
          </a:xfrm>
        </p:grpSpPr>
        <p:sp>
          <p:nvSpPr>
            <p:cNvPr id="148" name="Rectangle 19"/>
            <p:cNvSpPr/>
            <p:nvPr/>
          </p:nvSpPr>
          <p:spPr>
            <a:xfrm>
              <a:off x="3936960" y="2832120"/>
              <a:ext cx="3949920" cy="1562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0"/>
            <p:cNvSpPr/>
            <p:nvPr/>
          </p:nvSpPr>
          <p:spPr>
            <a:xfrm>
              <a:off x="4230720" y="2449440"/>
              <a:ext cx="34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Exemple: cryostat hélium liqu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2"/>
          <p:cNvSpPr/>
          <p:nvPr/>
        </p:nvSpPr>
        <p:spPr>
          <a:xfrm>
            <a:off x="2691000" y="4854600"/>
            <a:ext cx="436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e pas hésiter à détailler: cryostat hélium liquide de la lig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ssayer de ne rien oub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 pas hésiter à ajouter des com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tention: vérifier que le dispositif est disponib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Quelles informations…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030320" y="2611440"/>
          <a:ext cx="731376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611440"/>
                    <a:ext cx="731376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7" name="Group 12"/>
          <p:cNvGrpSpPr/>
          <p:nvPr/>
        </p:nvGrpSpPr>
        <p:grpSpPr>
          <a:xfrm>
            <a:off x="1066680" y="5016600"/>
            <a:ext cx="7264440" cy="1420560"/>
            <a:chOff x="1066680" y="5016600"/>
            <a:chExt cx="7264440" cy="1420560"/>
          </a:xfrm>
        </p:grpSpPr>
        <p:sp>
          <p:nvSpPr>
            <p:cNvPr id="158" name="Rectangle 7"/>
            <p:cNvSpPr/>
            <p:nvPr/>
          </p:nvSpPr>
          <p:spPr>
            <a:xfrm>
              <a:off x="1066680" y="5016600"/>
              <a:ext cx="7264440" cy="965160"/>
            </a:xfrm>
            <a:prstGeom prst="rect">
              <a:avLst/>
            </a:prstGeom>
            <a:blipFill rotWithShape="0">
              <a:blip r:embed="rId3">
                <a:alphaModFix amt="35000"/>
              </a:blip>
              <a:srcRect/>
              <a:tile tx="0" ty="0" sx="100000" sy="100000" algn="ctr"/>
            </a:blip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2897280" y="6068880"/>
              <a:ext cx="375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</a:rPr>
                <a:t>Utile pour des manips de diff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13"/>
          <p:cNvSpPr/>
          <p:nvPr/>
        </p:nvSpPr>
        <p:spPr>
          <a:xfrm>
            <a:off x="3161880" y="30510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 pas hésiter à déta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ims of the experiment and scientific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re scientifique géné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re scientifique spécif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s et objectifs de l’expé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peler les résultats préliminaires (littérature), autres mesur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Experiment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urquoi utiliser une technique synchrotr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éparation des échantillons,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in situ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justificatif du nombre de shifts deman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sult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quelle mesure l’expérience répondra au but, au questionnement du déb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éfé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13255_Page_1"/>
          <p:cNvPicPr/>
          <p:nvPr/>
        </p:nvPicPr>
        <p:blipFill>
          <a:blip r:embed="rId1"/>
          <a:srcRect l="0" t="0" r="0" b="6733"/>
          <a:stretch/>
        </p:blipFill>
        <p:spPr>
          <a:xfrm>
            <a:off x="541440" y="1238400"/>
            <a:ext cx="4092480" cy="5398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3255_Page_2"/>
          <p:cNvPicPr/>
          <p:nvPr/>
        </p:nvPicPr>
        <p:blipFill>
          <a:blip r:embed="rId2"/>
          <a:srcRect l="0" t="0" r="0" b="6734"/>
          <a:stretch/>
        </p:blipFill>
        <p:spPr>
          <a:xfrm>
            <a:off x="4435560" y="1239840"/>
            <a:ext cx="4092480" cy="5400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Justificatif scientif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lier le proposal à un rapport d’expé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 est possible de la faire simplement lorsque vous restez dans le même cadre (associez un rapport « SOLEIL » dans le SUNs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inon, pour associer un rapport « ESRF » sur le SUNset, il faut joindre au pdf de la justification scientifique le pdf du rapport d’expé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Deux comités de program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271440" y="1949400"/>
            <a:ext cx="8288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ité commun CRG-SOLEIL : 2/3 du te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://sunset.synchrotron-soleil.fr/su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ité ESRF: 1/3 du tem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tps://wwws.esrf.fr/misapps/SMISWebClient/protected/welcome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 4" descr="carteEurope2.gif"/>
          <p:cNvPicPr/>
          <p:nvPr/>
        </p:nvPicPr>
        <p:blipFill>
          <a:blip r:embed="rId1"/>
          <a:stretch/>
        </p:blipFill>
        <p:spPr>
          <a:xfrm>
            <a:off x="3218040" y="3871800"/>
            <a:ext cx="2879640" cy="277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7" descr="carteEurope"/>
          <p:cNvPicPr/>
          <p:nvPr/>
        </p:nvPicPr>
        <p:blipFill>
          <a:blip r:embed="rId2"/>
          <a:stretch/>
        </p:blipFill>
        <p:spPr>
          <a:xfrm>
            <a:off x="3218040" y="3871800"/>
            <a:ext cx="28796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Déposer un proj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8680" y="1905120"/>
            <a:ext cx="8433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bon exercice de con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tion aux dates limi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er septembre et 1er mars pour l’ES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6009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 septembre et 15 février pour Sole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e pas hésiter à nous cont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6203520" y="3362400"/>
            <a:ext cx="2981520" cy="2692440"/>
            <a:chOff x="6203520" y="3362400"/>
            <a:chExt cx="2981520" cy="2692440"/>
          </a:xfrm>
        </p:grpSpPr>
        <p:sp>
          <p:nvSpPr>
            <p:cNvPr id="173" name="AutoShape 6"/>
            <p:cNvSpPr/>
            <p:nvPr/>
          </p:nvSpPr>
          <p:spPr>
            <a:xfrm rot="1164600">
              <a:off x="6463800" y="3714480"/>
              <a:ext cx="2460600" cy="1987560"/>
            </a:xfrm>
            <a:prstGeom prst="irregularSeal2">
              <a:avLst/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6576840" y="4461120"/>
              <a:ext cx="21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Vérifier sur les sites internet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8"/>
          <p:cNvSpPr/>
          <p:nvPr/>
        </p:nvSpPr>
        <p:spPr>
          <a:xfrm>
            <a:off x="534960" y="5837400"/>
            <a:ext cx="82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ttp://www.esrf.fr/UsersAndScience/Experiments/CRG/BM30B/BM30Bb-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ESRF: SM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DepotProjet0"/>
          <p:cNvPicPr/>
          <p:nvPr/>
        </p:nvPicPr>
        <p:blipFill>
          <a:blip r:embed="rId1"/>
          <a:stretch/>
        </p:blipFill>
        <p:spPr>
          <a:xfrm>
            <a:off x="468360" y="1628640"/>
            <a:ext cx="7756560" cy="5135760"/>
          </a:xfrm>
          <a:prstGeom prst="rect">
            <a:avLst/>
          </a:prstGeom>
          <a:ln w="0">
            <a:noFill/>
          </a:ln>
        </p:spPr>
      </p:pic>
      <p:sp>
        <p:nvSpPr>
          <p:cNvPr id="105" name="Oval 6"/>
          <p:cNvSpPr/>
          <p:nvPr/>
        </p:nvSpPr>
        <p:spPr>
          <a:xfrm>
            <a:off x="4140360" y="2205000"/>
            <a:ext cx="107928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1907640" y="2565360"/>
            <a:ext cx="251964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ESRF: SM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DepotProjet1"/>
          <p:cNvPicPr/>
          <p:nvPr/>
        </p:nvPicPr>
        <p:blipFill>
          <a:blip r:embed="rId1"/>
          <a:stretch/>
        </p:blipFill>
        <p:spPr>
          <a:xfrm>
            <a:off x="704880" y="1638360"/>
            <a:ext cx="7754760" cy="4886280"/>
          </a:xfrm>
          <a:prstGeom prst="rect">
            <a:avLst/>
          </a:prstGeom>
          <a:ln w="0">
            <a:noFill/>
          </a:ln>
        </p:spPr>
      </p:pic>
      <p:sp>
        <p:nvSpPr>
          <p:cNvPr id="109" name="Oval 7"/>
          <p:cNvSpPr/>
          <p:nvPr/>
        </p:nvSpPr>
        <p:spPr>
          <a:xfrm>
            <a:off x="2405160" y="5045040"/>
            <a:ext cx="1873080" cy="21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ESRF: SMI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DepotProjet3"/>
          <p:cNvPicPr/>
          <p:nvPr/>
        </p:nvPicPr>
        <p:blipFill>
          <a:blip r:embed="rId1"/>
          <a:srcRect l="0" t="0" r="2510" b="0"/>
          <a:stretch/>
        </p:blipFill>
        <p:spPr>
          <a:xfrm>
            <a:off x="826920" y="1628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2296" t="19359" r="7259" b="12166"/>
          <a:stretch/>
        </p:blipFill>
        <p:spPr>
          <a:xfrm>
            <a:off x="561960" y="1935000"/>
            <a:ext cx="7723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0" t="15240" r="8006" b="4338"/>
          <a:stretch/>
        </p:blipFill>
        <p:spPr>
          <a:xfrm>
            <a:off x="561960" y="1851120"/>
            <a:ext cx="7975440" cy="3921120"/>
          </a:xfrm>
          <a:prstGeom prst="rect">
            <a:avLst/>
          </a:prstGeom>
          <a:ln w="0">
            <a:noFill/>
          </a:ln>
        </p:spPr>
      </p:pic>
      <p:sp>
        <p:nvSpPr>
          <p:cNvPr id="116" name="Oval 7"/>
          <p:cNvSpPr/>
          <p:nvPr/>
        </p:nvSpPr>
        <p:spPr>
          <a:xfrm>
            <a:off x="2008080" y="3470400"/>
            <a:ext cx="1873440" cy="21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 3" descr="SUNset.tif"/>
          <p:cNvPicPr/>
          <p:nvPr/>
        </p:nvPicPr>
        <p:blipFill>
          <a:blip r:embed="rId1"/>
          <a:stretch/>
        </p:blipFill>
        <p:spPr>
          <a:xfrm>
            <a:off x="1797120" y="1360440"/>
            <a:ext cx="40878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4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000000"/>
                </a:solidFill>
                <a:latin typeface="Arial"/>
              </a:rPr>
              <a:t>L’interface SOLEIL: SUNS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0" t="15479" r="1042" b="5686"/>
          <a:stretch/>
        </p:blipFill>
        <p:spPr>
          <a:xfrm>
            <a:off x="517680" y="2098800"/>
            <a:ext cx="8053200" cy="3608280"/>
          </a:xfrm>
          <a:prstGeom prst="rect">
            <a:avLst/>
          </a:prstGeom>
          <a:ln w="0">
            <a:noFill/>
          </a:ln>
        </p:spPr>
      </p:pic>
      <p:sp>
        <p:nvSpPr>
          <p:cNvPr id="121" name="ZoneTexte 4"/>
          <p:cNvSpPr/>
          <p:nvPr/>
        </p:nvSpPr>
        <p:spPr>
          <a:xfrm>
            <a:off x="2467440" y="587232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ide en ligne sur le site de SOL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9:19:24Z</dcterms:created>
  <dc:creator>PROUX</dc:creator>
  <dc:description/>
  <dc:language>en-US</dc:language>
  <cp:lastModifiedBy>proux</cp:lastModifiedBy>
  <dcterms:modified xsi:type="dcterms:W3CDTF">2015-05-22T09:59:59Z</dcterms:modified>
  <cp:revision>231</cp:revision>
  <dc:subject/>
  <dc:title>Systèmes de détection</dc:title>
</cp:coreProperties>
</file>