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47.wmf" ContentType="image/x-wmf"/>
  <Override PartName="/ppt/media/image10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28.wmf" ContentType="image/x-wmf"/>
  <Override PartName="/ppt/media/image34.wmf" ContentType="image/x-wmf"/>
  <Override PartName="/ppt/media/image4.wmf" ContentType="image/x-wmf"/>
  <Override PartName="/ppt/media/image16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26.wmf" ContentType="image/x-wmf"/>
  <Override PartName="/ppt/media/image23.wmf" ContentType="image/x-wmf"/>
  <Override PartName="/ppt/media/image58.wmf" ContentType="image/x-wmf"/>
  <Override PartName="/ppt/media/image21.wmf" ContentType="image/x-wmf"/>
  <Override PartName="/ppt/media/image22.wmf" ContentType="image/x-wmf"/>
  <Override PartName="/ppt/media/image59.wmf" ContentType="image/x-wmf"/>
  <Override PartName="/ppt/media/image57.wmf" ContentType="image/x-wmf"/>
  <Override PartName="/ppt/media/image20.wmf" ContentType="image/x-wmf"/>
  <Override PartName="/ppt/media/image32.wmf" ContentType="image/x-wmf"/>
  <Override PartName="/ppt/media/image24.wmf" ContentType="image/x-wmf"/>
  <Override PartName="/ppt/media/image29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1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37.png" ContentType="image/png"/>
  <Override PartName="/ppt/media/image40.wmf" ContentType="image/x-wmf"/>
  <Override PartName="/ppt/media/image41.wmf" ContentType="image/x-wmf"/>
  <Override PartName="/ppt/media/image42.wmf" ContentType="image/x-wmf"/>
  <Override PartName="/ppt/media/image43.png" ContentType="image/png"/>
  <Override PartName="/ppt/media/image60.wmf" ContentType="image/x-wmf"/>
  <Override PartName="/ppt/media/image38.png" ContentType="image/png"/>
  <Override PartName="/ppt/media/image44.jpeg" ContentType="image/jpeg"/>
  <Override PartName="/ppt/media/image45.wmf" ContentType="image/x-wmf"/>
  <Override PartName="/ppt/media/image46.wmf" ContentType="image/x-wmf"/>
  <Override PartName="/ppt/media/image50.wmf" ContentType="image/x-wmf"/>
  <Override PartName="/ppt/media/image51.wmf" ContentType="image/x-wmf"/>
  <Override PartName="/ppt/media/image52.wmf" ContentType="image/x-wmf"/>
  <Override PartName="/ppt/media/image53.wmf" ContentType="image/x-wmf"/>
  <Override PartName="/ppt/media/image54.wmf" ContentType="image/x-wmf"/>
  <Override PartName="/ppt/media/image5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docx" ContentType="application/vnd.openxmlformats-officedocument.wordprocessingml.documen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2.docx" ContentType="application/vnd.openxmlformats-officedocument.wordprocessingml.documen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71360"/>
            <a:ext cx="8839440" cy="651528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006240" y="17640"/>
            <a:ext cx="25581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. Mosnier, Review &amp; Cures of CB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image" Target="../media/image30.wmf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3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4.wmf"/><Relationship Id="rId7" Type="http://schemas.openxmlformats.org/officeDocument/2006/relationships/image" Target="../media/image35.wmf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0.wmf"/><Relationship Id="rId1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3.wmf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image" Target="../media/image5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0.wmf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533520" y="533520"/>
            <a:ext cx="792468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ff"/>
                </a:solidFill>
                <a:latin typeface="Arial"/>
              </a:rPr>
              <a:t>Limiting Instabilities in Multibunch :</a:t>
            </a:r>
            <a:br>
              <a:rPr sz="2800"/>
            </a:br>
            <a:r>
              <a:rPr b="1" lang="fr-FR" sz="2800" spc="-1" strike="noStrike">
                <a:solidFill>
                  <a:srgbClr val="0000ff"/>
                </a:solidFill>
                <a:latin typeface="Arial"/>
              </a:rPr>
              <a:t>Review and Cu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lban Mosnier, CEA/DAPNIA - Sac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304920" y="1905120"/>
            <a:ext cx="861048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ince very high beam currents are distributed among many tightly spaced bunches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nstable coupling between bunches through long-range wakefields has become the main limiting inst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ntional Coupled-bun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inly driven by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-range parasitic modes of rf ca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stive wall (transver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8000"/>
                </a:solidFill>
                <a:latin typeface="Arial"/>
              </a:rPr>
              <a:t>New recently discovered collective effect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ast ion instability (for e</a:t>
            </a:r>
            <a:r>
              <a:rPr b="0" lang="fr-FR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rin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hoto-electron instability (for e</a:t>
            </a:r>
            <a:r>
              <a:rPr b="0" lang="fr-FR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rin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457200"/>
            <a:ext cx="80010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tability diagram for the SOLEIL 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suming 352 MHz LEP Cu cavities 1st HOM at ≈ 500 MHz (R/Q=75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Q=3.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3962520"/>
            <a:ext cx="80773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ation damping only + HOM with 16 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ular spectrum (spread = 6.3 %) + HOM with 100 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frequency spread of only 0.3 % for 2/3 filling and 100 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thod impractical for the SOLEIL 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5635800"/>
            <a:ext cx="838188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ot  in complex plane : - locus of the inverse of the integral as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wept from -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to  +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frequency shift  w/o Landau and radiation damping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HOM frequency, not exactly known, also  scanned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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looks like resoannce curve of the H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1048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09480" y="457200"/>
            <a:ext cx="8153640" cy="18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Arial"/>
              </a:rPr>
              <a:t>Bunch-to-bunch frequency spli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also be achieved by driving the normal RF cavities at a frequency  (h±1)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at CERN to suppress longitudinal instability in PS ('71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ed at ESRF by driving 2 of the 4 installed caviti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one revolution harmonic above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requ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295280" y="2654280"/>
            <a:ext cx="6504120" cy="30607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09480" y="591804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=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stability prevents cavities from being tuned close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+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v. Harmonic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radeoff between modulation level &amp; reflected powe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70 mA m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12960" y="3657600"/>
            <a:ext cx="7316640" cy="29210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80880" y="380880"/>
            <a:ext cx="8686800" cy="36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Zapf Dingbats"/>
                <a:ea typeface="Zapf Dingbats"/>
              </a:rPr>
              <a:t>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ff"/>
                </a:solidFill>
                <a:latin typeface="Arial"/>
              </a:rPr>
              <a:t>Landau C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linearities in focusing forc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ome spread in synchrotron frequenc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. Freq. spread in bunchlengthening mode: slope total voltage ≈ 0 at bunch l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rtic bucket potent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um generally much low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n natural synchrotron frequ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SOLEIL freq. Spread of 200%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center-freq. dramatically decreas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t result = poor impro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594360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ation damping only + HOM with 16 m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pread from 3rd harm. cav. + HOM with 18 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029200" y="1752480"/>
            <a:ext cx="3125880" cy="192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1905120" y="1981080"/>
          <a:ext cx="2577960" cy="5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1981080"/>
                    <a:ext cx="25779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8001000" y="3200400"/>
          <a:ext cx="546120" cy="254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001000" y="3200400"/>
                    <a:ext cx="546120" cy="2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80880"/>
            <a:ext cx="8076960" cy="32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Zapf Dingbats"/>
                <a:ea typeface="Zapf Dingbats"/>
              </a:rPr>
              <a:t>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ff"/>
                </a:solidFill>
                <a:latin typeface="Arial"/>
              </a:rPr>
              <a:t>Betatron spread (transverse pla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spread easily obtained 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n-linearities in the focusing syste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non-zero chromaticity, together with energy sprea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ulti-bunch instability after // instabilit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most existing ring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rude threshold calculation gives the inver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Gaussian distribution in ener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bility recovered for rms betatron freq. sprea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867280" y="3124080"/>
          <a:ext cx="2082960" cy="5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3124080"/>
                    <a:ext cx="208296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5867280" y="3809880"/>
          <a:ext cx="1828800" cy="26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3809880"/>
                    <a:ext cx="182880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304920" y="4267080"/>
            <a:ext cx="8610480" cy="21528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33520" y="4343400"/>
            <a:ext cx="373356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SOLEIL with LEP Cu caviti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st deflecting HO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614 MHZ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Q=36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=6.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86400" y="4343400"/>
            <a:ext cx="32004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threshold ≈ 6 mA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40 mA with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0.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lt;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57200" y="3808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ff"/>
                </a:solidFill>
                <a:latin typeface="Arial"/>
              </a:rPr>
              <a:t>HOM Frequency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1143000"/>
            <a:ext cx="861048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B modes spaced one revolution frequency apart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some latitude to escape HOMs from beam spectrum line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mall rings &amp; HOMs not dam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ed and routinely used at ELETTRA 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 tuning by precise cavity temperature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dure 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emperature settings which give largest stability windows for all cavities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ine by direct measurement of CBM spectrum on the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requency of cavity mode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676520" y="5321160"/>
          <a:ext cx="548784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5321160"/>
                    <a:ext cx="548784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688680" y="6095880"/>
            <a:ext cx="58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mperature       Fundamental tuning = F(beam curr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2514240" y="58669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1828800" y="58669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33520" y="533520"/>
            <a:ext cx="8076960" cy="17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difficulty to find temperature interval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ble for both longitudinal and transverse planes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vable plungers designed at ELETTR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for allowing additional degree of free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/o plun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after plunger adjustm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28600" y="2514600"/>
          <a:ext cx="2886120" cy="177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514600"/>
                    <a:ext cx="2886120" cy="17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3048120" y="2457360"/>
          <a:ext cx="2955960" cy="1968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2457360"/>
                    <a:ext cx="2955960" cy="19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5959440" y="2514600"/>
          <a:ext cx="2955960" cy="19112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59440" y="2514600"/>
                    <a:ext cx="2955960" cy="19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3581280" y="26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o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924680" y="2743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ra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4572000" y="4572000"/>
            <a:ext cx="3200400" cy="20019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33520" y="4800600"/>
            <a:ext cx="4038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6 ELETTRA-type cavities in SOLE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5 MV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rf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voltage and 400 kW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rf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o stability intervals for 25%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 over 100 different seeds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80880" y="3049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ff"/>
                </a:solidFill>
                <a:latin typeface="Arial"/>
              </a:rPr>
              <a:t>Heavy Mode Dam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838080"/>
            <a:ext cx="8839080" cy="55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vity modes damped as much as possible to lower the resonant buildup of fields</a:t>
            </a:r>
            <a:br>
              <a:rPr sz="18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 technologies SC &amp; NC developed to mee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power &amp; low impedance challe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SC advantages 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wer cell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wer overall impedance for given voltag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e to the high CW gradient capabilit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er achievable deQ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beam holes allowed, while keeping very high 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s propagate out &amp; easily damp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 Damp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alone for SC caviti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with feedback system for NC ca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SC drawbacks 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r complexity (cryogenics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autions against risk of cavity &amp; coupler pol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276720" y="3048120"/>
            <a:ext cx="5043240" cy="34797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88440" y="457200"/>
            <a:ext cx="8038440" cy="42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Zapf Dingbats"/>
                <a:ea typeface="Zapf Dingbats"/>
              </a:rPr>
              <a:t>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ff"/>
                </a:solidFill>
                <a:latin typeface="Arial"/>
              </a:rPr>
              <a:t>Normalconducting ca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mpers mounted directly on cavity walls at proper locations (max. coupl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 power carried out &amp; dissipated on externa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s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veguide coupl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 cut-off frequency ≥ fundamental mode frequenc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atural FM rejection &amp; higher deQing than coaxial coupler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ridged waveguides generally placed symetrically around the cel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dditional power dissipation, due to field penetration into the waveguide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. D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 c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des 2 additional W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85200" y="592200"/>
            <a:ext cx="8193960" cy="56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Zapf Dingbats"/>
                <a:ea typeface="Zapf Dingbats"/>
              </a:rPr>
              <a:t>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ff"/>
                </a:solidFill>
                <a:latin typeface="Arial"/>
              </a:rPr>
              <a:t>Superconducting ca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ampers cannot be directly mounted on the cavity walls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risk of multipactor, magnetic quench and surface contamin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ut; beam tubes made large enough for efficient coupling to the cavity m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8000"/>
                </a:solidFill>
                <a:latin typeface="Arial"/>
              </a:rPr>
              <a:t>2 approach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ampers = beam pipes themselv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ESR, KEK-B)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ssy material (ferrite) to the inner surface of both pipes, outside the cyost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classical HOM dampers mounted on beam pip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vicinity of the cavit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LHC, SOLEI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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eeds large openings to ensure the propagation of all modes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ith high HOM powers </a:t>
            </a:r>
            <a:r>
              <a:rPr b="0" lang="fr-FR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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outgassing rate of ferrite (surface contamin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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ore challenges on HOM couplers (power &amp; de-Qing)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ptimized in combination with string of cav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648320" y="622440"/>
            <a:ext cx="3886200" cy="25016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09480" y="3581280"/>
            <a:ext cx="3708360" cy="26672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04920" y="1143000"/>
            <a:ext cx="41148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ryostat of 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KEK-B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SC ca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Wide beam pipe &amp; closer iris  (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modes)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coaxial high power input coupler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ferrite HOM lo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257800" y="4343400"/>
            <a:ext cx="3276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ryostat of 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ESR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SC ca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fluted beam pipe (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modes)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WG high power input coupler ferrite HOM lo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228600"/>
            <a:ext cx="8229600" cy="26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74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Arial"/>
              </a:rPr>
              <a:t>Energy &amp; position oscillations spoil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Zapf Dingbats" charset="2"/>
              <a:buChar char=""/>
              <a:tabLst>
                <a:tab algn="l" pos="474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uminosity in colliders (wrong time/position collis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Zapf Dingbats" charset="2"/>
              <a:buChar char=""/>
              <a:tabLst>
                <a:tab algn="l" pos="474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rilliance in SLS (undulators strongly sensitive to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crease in effective beam energy spread or emittan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74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Ex.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effect of a coupled-bunch longitudinal instability on the brightness</a:t>
            </a:r>
            <a:br>
              <a:rPr sz="1800"/>
            </a:b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of a typical undulator in the SOLEIL Light 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332000" y="2946240"/>
            <a:ext cx="647856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304920" y="1295280"/>
            <a:ext cx="8400960" cy="4419360"/>
            <a:chOff x="304920" y="1295280"/>
            <a:chExt cx="8400960" cy="4419360"/>
          </a:xfrm>
        </p:grpSpPr>
        <p:pic>
          <p:nvPicPr>
            <p:cNvPr id="140" name="" descr=""/>
            <p:cNvPicPr/>
            <p:nvPr/>
          </p:nvPicPr>
          <p:blipFill>
            <a:blip r:embed="rId1"/>
            <a:stretch/>
          </p:blipFill>
          <p:spPr>
            <a:xfrm>
              <a:off x="311040" y="1295280"/>
              <a:ext cx="8394840" cy="219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2"/>
            <a:stretch/>
          </p:blipFill>
          <p:spPr>
            <a:xfrm>
              <a:off x="304920" y="3517560"/>
              <a:ext cx="8394480" cy="21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3586320" y="1447560"/>
              <a:ext cx="18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accelerating m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11800" y="3671640"/>
              <a:ext cx="187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longitudinal HO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380880" y="4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. Cavity-pair arrangement for SOLE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61722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atures : weak coupling for the accelerating mode &amp; strong coupling for HO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73120" y="1066680"/>
            <a:ext cx="8001000" cy="535968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Arial"/>
              </a:rPr>
              <a:t>Coupler optimization  with RF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33520" y="546120"/>
            <a:ext cx="5092560" cy="577836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90960" y="761760"/>
            <a:ext cx="2971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Times New Roman"/>
              </a:rPr>
              <a:t>Results of calculation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2 couplers / cavity)</a:t>
            </a:r>
            <a:br>
              <a:rPr sz="2400"/>
            </a:br>
            <a:br>
              <a:rPr sz="2400"/>
            </a:b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Highest impedance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(at optimal coupler location)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versus inner tube length and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for different tube radii</a:t>
            </a:r>
            <a:br>
              <a:rPr sz="1800"/>
            </a:b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 :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iameter of 400 mm and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cavity spacing ≈ 3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/2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seem optimal</a:t>
            </a:r>
            <a:br>
              <a:rPr sz="1800"/>
            </a:b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Fundamental mode :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R/Q = 45 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/ cavity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Times New Roman"/>
              </a:rPr>
              <a:t>peak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/E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Times New Roman"/>
              </a:rPr>
              <a:t>acc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= 2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Times New Roman"/>
              </a:rPr>
              <a:t>peak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/ E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Times New Roman"/>
              </a:rPr>
              <a:t>acc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= 4.2 mT/(MV/m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63600" y="2297160"/>
            <a:ext cx="8458200" cy="2367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138320" y="1684440"/>
            <a:ext cx="1707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dd"/>
                </a:solidFill>
                <a:latin typeface="Arial"/>
              </a:rPr>
              <a:t>Tuning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dd"/>
                </a:solidFill>
                <a:latin typeface="Arial"/>
              </a:rPr>
              <a:t>(180 kHz/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dd"/>
                </a:solidFill>
                <a:latin typeface="Arial"/>
              </a:rPr>
              <a:t>resolution ≈ 50 n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00360" y="1376280"/>
            <a:ext cx="165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dd"/>
                </a:solidFill>
                <a:latin typeface="Arial"/>
              </a:rPr>
              <a:t>Cryo transfer lines</a:t>
            </a:r>
            <a:br>
              <a:rPr sz="1400"/>
            </a:br>
            <a:r>
              <a:rPr b="0" lang="fr-FR" sz="1400" spc="-1" strike="noStrike">
                <a:solidFill>
                  <a:srgbClr val="0000dd"/>
                </a:solidFill>
                <a:latin typeface="Arial"/>
              </a:rPr>
              <a:t>phase sepa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240600" y="1604880"/>
            <a:ext cx="132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dd"/>
                </a:solidFill>
                <a:latin typeface="Arial"/>
              </a:rPr>
              <a:t>Power coup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dd"/>
                </a:solidFill>
                <a:latin typeface="Arial"/>
              </a:rPr>
              <a:t>(200 kW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19560" y="4957920"/>
            <a:ext cx="79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dd"/>
                </a:solidFill>
                <a:latin typeface="Arial"/>
              </a:rPr>
              <a:t>He ta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43360" y="4957920"/>
            <a:ext cx="132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dd"/>
                </a:solidFill>
                <a:latin typeface="Arial"/>
              </a:rPr>
              <a:t>HOM coupl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30400" y="4957920"/>
            <a:ext cx="119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dd"/>
                </a:solidFill>
                <a:latin typeface="Arial"/>
              </a:rPr>
              <a:t>352 MHz</a:t>
            </a:r>
            <a:br>
              <a:rPr sz="1400"/>
            </a:br>
            <a:r>
              <a:rPr b="0" lang="fr-FR" sz="1400" spc="-1" strike="noStrike">
                <a:solidFill>
                  <a:srgbClr val="0000dd"/>
                </a:solidFill>
                <a:latin typeface="Arial"/>
              </a:rPr>
              <a:t>Nb/Cu cav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7680" y="4653000"/>
            <a:ext cx="122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dd"/>
                </a:solidFill>
                <a:latin typeface="Arial"/>
              </a:rPr>
              <a:t>Vacuum ta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3960" y="2595600"/>
            <a:ext cx="1579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dd"/>
                </a:solidFill>
                <a:latin typeface="Arial"/>
              </a:rPr>
              <a:t>Conduction brea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dd"/>
                </a:solidFill>
                <a:latin typeface="Arial"/>
              </a:rPr>
              <a:t>4°K </a:t>
            </a:r>
            <a:r>
              <a:rPr b="0" lang="fr-FR" sz="1400" spc="-1" strike="noStrike">
                <a:solidFill>
                  <a:srgbClr val="0000dd"/>
                </a:solidFill>
                <a:latin typeface="Symbol"/>
                <a:ea typeface="Symbol"/>
              </a:rPr>
              <a:t></a:t>
            </a:r>
            <a:r>
              <a:rPr b="0" lang="fr-FR" sz="1400" spc="-1" strike="noStrike">
                <a:solidFill>
                  <a:srgbClr val="0000dd"/>
                </a:solidFill>
                <a:latin typeface="Arial"/>
              </a:rPr>
              <a:t> 300°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666880" y="4282920"/>
            <a:ext cx="381240" cy="6098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86200" y="4130280"/>
            <a:ext cx="380880" cy="7621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4876920" y="4130280"/>
            <a:ext cx="380880" cy="7621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6172200" y="4358880"/>
            <a:ext cx="380880" cy="6094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153280" y="3063960"/>
            <a:ext cx="228600" cy="6094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5562720" y="1920960"/>
            <a:ext cx="914400" cy="5331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0" y="1920960"/>
            <a:ext cx="0" cy="3045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133720" y="2378160"/>
            <a:ext cx="380880" cy="7617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76520" y="2987640"/>
            <a:ext cx="380880" cy="5335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1295280" y="4282560"/>
            <a:ext cx="533520" cy="3812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7467480" y="5715000"/>
            <a:ext cx="1078200" cy="7128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04920" y="30492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ematic drawing of the SOLEIL cryost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ed within the framework of a collaboration with C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0" y="2286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Assembly &amp; Power tests at C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438280" y="5499000"/>
            <a:ext cx="4496040" cy="12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Eacc &gt; 7 MV/m    Qo &gt; 10</a:t>
            </a:r>
            <a:r>
              <a:rPr b="1" lang="fr-FR" sz="2400" spc="-1" strike="noStrike" baseline="30000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main coupler  P</a:t>
            </a:r>
            <a:r>
              <a:rPr b="1" lang="fr-FR" sz="1800" spc="-1" strike="noStrike" baseline="-25000">
                <a:solidFill>
                  <a:srgbClr val="000000"/>
                </a:solidFill>
                <a:latin typeface="Times New Roman"/>
              </a:rPr>
              <a:t>inc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=  160 kW  w/o b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static losses  =  20 W      @ 4°K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6867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3049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ff"/>
                </a:solidFill>
                <a:latin typeface="Arial"/>
              </a:rPr>
              <a:t>Feedback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04920" y="990720"/>
            <a:ext cx="8610480" cy="49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ed for more than 20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in frequency domain, on a mode-by-mode basi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x. CERN PS booster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cently in time domain, on a bunch-by-bunch basi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s to the advent of commercially available fast DS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mentary to passive mode damping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damp definitely all coupled bunch mod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edances arising from strong HOMs first sufficiently reduced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rection kick voltage needed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st HOM of 2 LEP Cu cavities in SOLEIL r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couplin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84 kV / turn (assuming mode amplitude 1.5°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d pow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5 MW !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051440" y="4533840"/>
          <a:ext cx="288288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51440" y="4533840"/>
                    <a:ext cx="288288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3492360" y="5943600"/>
          <a:ext cx="1308240" cy="31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360" y="5943600"/>
                    <a:ext cx="130824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04920" y="519120"/>
            <a:ext cx="8534160" cy="47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odel</a:t>
            </a:r>
            <a:br>
              <a:rPr sz="2400"/>
            </a:b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riving term = correction k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B loop gain (V/rad)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lay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mplex frequency sh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/ 2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&gt; 0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ax. damping : phase shift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/ 2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743200" y="425520"/>
          <a:ext cx="510696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425520"/>
                    <a:ext cx="510696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4965840" y="1352520"/>
          <a:ext cx="2882880" cy="36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65840" y="1352520"/>
                    <a:ext cx="28828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 flipV="1">
            <a:off x="5638680" y="16765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238880" y="16765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219320" y="3200400"/>
          <a:ext cx="6745320" cy="8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3200400"/>
                    <a:ext cx="67453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4025880" y="2733840"/>
          <a:ext cx="1612800" cy="330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25880" y="2733840"/>
                    <a:ext cx="161280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4305240" y="4648320"/>
          <a:ext cx="1028880" cy="253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05240" y="4648320"/>
                    <a:ext cx="1028880" cy="25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5486400" y="4359240"/>
            <a:ext cx="304920" cy="838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457200" y="304920"/>
            <a:ext cx="830592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71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-by-mode feedback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nly a few troublesome coupled-bunch m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71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nch-by-bunch feedback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 large number of bun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71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nches treated as individual oscillator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um bandwidth = half the bunch frequ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71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P-II, ALS, D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, etc… :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longitudinal feedback system desig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fast ADC/DAC converters &amp; DSP chips for digital filt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733920" y="4038480"/>
            <a:ext cx="5410080" cy="22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itizing of the baseband error sig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-taps FIR : max. gain at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zer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sampling (low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icient diagnostics tool 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measurements of growth &amp; damping rat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by means of time domain transient techn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304920" y="4002120"/>
            <a:ext cx="335268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80880" y="304920"/>
            <a:ext cx="8305920" cy="50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ff"/>
                </a:solidFill>
                <a:latin typeface="Arial"/>
              </a:rPr>
              <a:t>Resistive Wall Instability</a:t>
            </a:r>
            <a:br>
              <a:rPr sz="2800"/>
            </a:b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bout the required BW of a transverse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stive wall impeda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modes with spectrum lines close to the origin, will be exci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edback syste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limited bandwidth (few revolution harmonics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generally suffici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d measurements over several bun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high current rings, with large number of bun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oupled-bunch modes are unstable at zero chromat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0 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0 mode s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ot too large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verse dynamic acceptance spoi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ergence of higher order head-tail m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3352680" y="1387440"/>
          <a:ext cx="978120" cy="4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1387440"/>
                    <a:ext cx="97812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5105520" y="3884760"/>
          <a:ext cx="3733560" cy="26683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3884760"/>
                    <a:ext cx="3733560" cy="26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80880" y="457200"/>
            <a:ext cx="8763120" cy="17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rates of head-tail modes (+ higher order radial modes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ly evaluated by solving the Sacherer’s integ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Ex. SOLEIL RING</a:t>
            </a:r>
            <a:br>
              <a:rPr sz="1800"/>
            </a:b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growth time of most unstable modes vs. chromaticity</a:t>
            </a:r>
            <a:br>
              <a:rPr sz="1800"/>
            </a:b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number of unstable modes for the first 3 head-tail m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495680" y="2401920"/>
            <a:ext cx="4056120" cy="27036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457200" y="2403360"/>
            <a:ext cx="4056120" cy="2702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533520" y="5257800"/>
            <a:ext cx="80010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nclus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verse feedback of, typically, a few tens of MHz bandwidth</a:t>
            </a:r>
            <a:br>
              <a:rPr sz="18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a proper chromaticity sett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ot too large to avoid head-tail modes, but large enoug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reduce the number of unstable rigid bunch modes m=0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378000"/>
            <a:ext cx="8076960" cy="56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General theory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r multi-bunch instabilities exists for more than 20 ye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Sacherer '73, Pellegrini &amp; Sands '77, 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igid bunch approximation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Coherent motion of bunch as a who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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tability of the system = eigenvalue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ingle-particle equation of longitudinal motion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M equally spaced and equally populated rigid bunche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herent oscillation of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th bunch described 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s add up coherently (synchrotron sidebands)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tal induced voltage = sum of the currents of th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ndividual bun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edance sampled at frequen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198960" y="2743200"/>
          <a:ext cx="510696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98960" y="2743200"/>
                    <a:ext cx="510696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6210360" y="3789360"/>
          <a:ext cx="2400120" cy="41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10360" y="3789360"/>
                    <a:ext cx="240012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6858000" y="4343400"/>
          <a:ext cx="1638360" cy="317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0" y="4343400"/>
                    <a:ext cx="1638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1014480" y="5257800"/>
          <a:ext cx="5081400" cy="774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14480" y="5257800"/>
                    <a:ext cx="508140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4419720" y="6149880"/>
          <a:ext cx="2819160" cy="36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19720" y="6149880"/>
                    <a:ext cx="281916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04920" y="304920"/>
            <a:ext cx="861048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Arial"/>
              </a:rPr>
              <a:t>fast ion instability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for e</a:t>
            </a:r>
            <a:r>
              <a:rPr b="0" lang="fr-FR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rin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nalog as single-pass BBU in Linacs, except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upling between bunches due to ions intead of wakefield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inear theory : displacem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as ionization rate per unit 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ut with ion frequency spread around ring : exp. growth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ot very severe for usual gas 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asily cured by fast feedback or Landau damping (induced by octupoles / chom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3809880" y="1371600"/>
          <a:ext cx="1663920" cy="4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371600"/>
                    <a:ext cx="1663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457200" y="1905120"/>
          <a:ext cx="1625760" cy="90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905120"/>
                    <a:ext cx="1625760" cy="90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6832440" y="2209680"/>
          <a:ext cx="1549440" cy="406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32440" y="2209680"/>
                    <a:ext cx="1549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2514600" y="2286000"/>
          <a:ext cx="533520" cy="241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14600" y="2286000"/>
                    <a:ext cx="533520" cy="2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304920" y="4191120"/>
            <a:ext cx="8610480" cy="22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Arial"/>
              </a:rPr>
              <a:t>photo-electron instability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for e</a:t>
            </a:r>
            <a:r>
              <a:rPr b="0" lang="fr-FR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rin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BI instability caused by photo-electrons created by SR at pipe wall (Ohm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upling between bunches due to primary e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(interaction with several bunches before hitting the opposite wall) or due to electron cloud buildup in steady-s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ur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loud dominated : TiN coating (secondary e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yield 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reduction ex.PEP-II)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mary photo-e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magnetic field to maintain e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far from beam (KEK-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6934320" y="2895480"/>
          <a:ext cx="1384200" cy="343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934320" y="2895480"/>
                    <a:ext cx="138420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28600" y="304920"/>
            <a:ext cx="830592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For evenly filled ring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analytical 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well-know coherent frequency sh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nd growth rat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</a:rPr>
              <a:t>eff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=  aliasing of </a:t>
            </a:r>
            <a:r>
              <a:rPr b="0" i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</a:rPr>
              <a:t>//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 into the band from 0 to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636560" y="2654280"/>
          <a:ext cx="5450040" cy="69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6560" y="2654280"/>
                    <a:ext cx="545004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2527200" y="1549440"/>
          <a:ext cx="1968480" cy="35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27200" y="1549440"/>
                    <a:ext cx="196848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228600" y="33526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Transvers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coupled-bunch instabilities (very simil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800600" y="838080"/>
          <a:ext cx="4076640" cy="749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0600" y="838080"/>
                    <a:ext cx="4076640" cy="7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380880" y="3962520"/>
          <a:ext cx="4343400" cy="749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880" y="3962520"/>
                    <a:ext cx="434340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5029200" y="4091040"/>
          <a:ext cx="3873600" cy="698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29200" y="4091040"/>
                    <a:ext cx="38736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304920" y="4795920"/>
            <a:ext cx="8534160" cy="17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For unevenly filled ring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eigenvalues of a M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 coupling matrix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K. Thompson &amp; R. Ruth '89, S. Prabhakar '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rabhakar :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more convenient to expand the uneven-fill modes into the set of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the M basis vectors formed by the even-fill modes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roposed modulation coupling of strong even-full modes to alleviate CB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47680" y="304920"/>
            <a:ext cx="8896320" cy="20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BI growth rate strongly dependent on fill pattern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observed at various storage rings, ex. APS '97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Main idea :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• for each unstable mode n corresponds an highly stabilised counterpart m = M-n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• create then a coupling of unstable modes to stable modes through uneven fills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• find the best current distribution among the RF buckets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which minimises the largest instability growth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52280" y="2362320"/>
            <a:ext cx="4757760" cy="3109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rcRect l="8007" t="0" r="0" b="0"/>
          <a:stretch/>
        </p:blipFill>
        <p:spPr>
          <a:xfrm>
            <a:off x="4724280" y="2362320"/>
            <a:ext cx="4376880" cy="31096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28600" y="54864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Times New Roman"/>
              </a:rPr>
              <a:t>Simplest case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: 1 HOM and its effective impedance with uniform filling M = h buckets = 396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• couple the unstable mode (n=165) to the stable mode (m=231) by uneven filling (same I0)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ex. only every Nth bucket is filled so that (m-n) ≈ M / N ( max. coupling ) N=6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but demands that HOM frequencies be well controlled  ex. freq shift excite next mode n=16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80880" y="609480"/>
            <a:ext cx="861084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3233880"/>
                <a:tab algn="l" pos="3624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Times New Roman"/>
              </a:rPr>
              <a:t>Usual Cures against Coupled-Bunch Inst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3233880"/>
                <a:tab algn="l" pos="3624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ttempts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8000"/>
              </a:buClr>
              <a:buFont typeface="Times"/>
              <a:buChar char="•"/>
              <a:tabLst>
                <a:tab algn="l" pos="3233880"/>
                <a:tab algn="l" pos="3624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Landau damping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stroy the coherence of the b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3233880"/>
                <a:tab algn="l" pos="3624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HOM frequency control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void the overlap of HOM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with beam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3233880"/>
                <a:tab algn="l" pos="3624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Heavy mode damping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educe the resonant buildup of field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grapples directly with the sour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3233880"/>
                <a:tab algn="l" pos="3624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Active feedback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pply a correction signal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rom a sensed error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235080" y="533520"/>
          <a:ext cx="9137520" cy="5797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080" y="533520"/>
                    <a:ext cx="9137520" cy="57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6705720" y="5867280"/>
          <a:ext cx="2171520" cy="74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05720" y="5867280"/>
                    <a:ext cx="2171520" cy="7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7200" y="533520"/>
            <a:ext cx="8153280" cy="51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74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ff"/>
                </a:solidFill>
                <a:latin typeface="Arial"/>
              </a:rPr>
              <a:t>Landau Dam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74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uccessfully used for the operation at ESR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74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oscillators (either particles in a bunch or different bunches in the train) have a finite spectrum of natural frequ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74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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 beam response to the driving force due to WFs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74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m stable again if frequency spread large enoug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74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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ersion 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74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74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herent frequency shi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74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/o Landau &amp; radiation dam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064040" y="3747960"/>
          <a:ext cx="454644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040" y="3747960"/>
                    <a:ext cx="45464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4267080" y="4851360"/>
          <a:ext cx="4368960" cy="8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4851360"/>
                    <a:ext cx="436896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80880" y="380880"/>
            <a:ext cx="8534520" cy="53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Zapf Dingbats"/>
                <a:ea typeface="Zapf Dingbats"/>
              </a:rPr>
              <a:t>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f voltage mod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ily provided by beam loading in the rf cavity with partial fil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cy distribution ≈  rectangular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phase modu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sp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At ESRF 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bility threshold incre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≈ 60 mA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yond nominal intensity of 200 mA with a 1/3 fil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SOLEIL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8000"/>
                </a:solidFill>
                <a:latin typeface="Arial"/>
              </a:rPr>
              <a:t>2/3 fil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8000"/>
                </a:solidFill>
                <a:latin typeface="Arial"/>
              </a:rPr>
              <a:t>100 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533520" y="2590920"/>
          <a:ext cx="2705040" cy="67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590920"/>
                    <a:ext cx="2705040" cy="67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4203720" y="2590920"/>
          <a:ext cx="3416400" cy="67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03720" y="2590920"/>
                    <a:ext cx="3416400" cy="67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1752480" y="4267080"/>
            <a:ext cx="3276720" cy="22640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5181480" y="4282920"/>
            <a:ext cx="328608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3T16:11:16Z</dcterms:created>
  <dc:creator>mosnier</dc:creator>
  <dc:description/>
  <dc:language>en-US</dc:language>
  <cp:lastModifiedBy>Debbie GOODHEW</cp:lastModifiedBy>
  <cp:lastPrinted>2000-03-27T09:35:25Z</cp:lastPrinted>
  <dcterms:modified xsi:type="dcterms:W3CDTF">2000-03-28T10:03:54Z</dcterms:modified>
  <cp:revision>57</cp:revision>
  <dc:subject/>
  <dc:title>Aucun titre de diapositive</dc:title>
</cp:coreProperties>
</file>