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wmf" ContentType="image/x-wmf"/>
  <Override PartName="/ppt/media/image27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4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22.wmf" ContentType="image/x-wmf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8BF-8AA2-4154-BDC4-6D9BA93C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1924-9CF6-4BE0-B904-042DCB17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DB75-3966-48A5-86D9-0562B943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C05-B17D-4C7F-9DDA-0E117585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EAFD-E0D7-4113-9546-BB6B7E4E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B64-19D3-4985-AC9F-58508C48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115-050A-44C5-82A0-E6C82E96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EB22-0756-444E-BACA-9227A3EF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6BDD-B9C4-4717-ADEF-6A302B45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F1B-4C4E-49CC-96A0-93A581B0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7020-4048-4D98-8274-7D0AA6EF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916-CBC6-4CA3-87F9-6050A6F6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F06A-80F4-4CF6-A3AA-ABB21842390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118A-92DE-46F3-AA56-328E3EFFD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image" Target="../media/image18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960" y="3352680"/>
            <a:ext cx="8750160" cy="1434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SRF Experimental Contributio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wards Working Group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ogo" descr=""/>
          <p:cNvPicPr/>
          <p:nvPr/>
        </p:nvPicPr>
        <p:blipFill>
          <a:blip r:embed="rId2"/>
          <a:stretch/>
        </p:blipFill>
        <p:spPr>
          <a:xfrm>
            <a:off x="6248520" y="685800"/>
            <a:ext cx="1841400" cy="1981080"/>
          </a:xfrm>
          <a:prstGeom prst="rect">
            <a:avLst/>
          </a:prstGeom>
          <a:ln w="0">
            <a:noFill/>
          </a:ln>
        </p:spPr>
      </p:pic>
      <p:pic>
        <p:nvPicPr>
          <p:cNvPr id="43" name="BIWlogo" descr=""/>
          <p:cNvPicPr/>
          <p:nvPr/>
        </p:nvPicPr>
        <p:blipFill>
          <a:blip r:embed="rId3"/>
          <a:stretch/>
        </p:blipFill>
        <p:spPr>
          <a:xfrm>
            <a:off x="914400" y="609480"/>
            <a:ext cx="3571920" cy="2276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29528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VOL Jean-Lu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612720" y="3225960"/>
            <a:ext cx="3692520" cy="1117440"/>
            <a:chOff x="612720" y="3225960"/>
            <a:chExt cx="3692520" cy="1117440"/>
          </a:xfrm>
        </p:grpSpPr>
        <p:sp>
          <p:nvSpPr>
            <p:cNvPr id="475" name=""/>
            <p:cNvSpPr/>
            <p:nvPr/>
          </p:nvSpPr>
          <p:spPr>
            <a:xfrm>
              <a:off x="612720" y="3225960"/>
              <a:ext cx="3692520" cy="1117440"/>
            </a:xfrm>
            <a:custGeom>
              <a:avLst/>
              <a:gdLst/>
              <a:ahLst/>
              <a:rect l="l" t="t" r="r" b="b"/>
              <a:pathLst>
                <a:path w="3229" h="1044">
                  <a:moveTo>
                    <a:pt x="0" y="1044"/>
                  </a:moveTo>
                  <a:lnTo>
                    <a:pt x="0" y="1044"/>
                  </a:lnTo>
                  <a:lnTo>
                    <a:pt x="6" y="1044"/>
                  </a:lnTo>
                  <a:lnTo>
                    <a:pt x="12" y="1044"/>
                  </a:lnTo>
                  <a:lnTo>
                    <a:pt x="18" y="1044"/>
                  </a:lnTo>
                  <a:lnTo>
                    <a:pt x="24" y="1044"/>
                  </a:lnTo>
                  <a:lnTo>
                    <a:pt x="30" y="1044"/>
                  </a:lnTo>
                  <a:lnTo>
                    <a:pt x="36" y="1044"/>
                  </a:lnTo>
                  <a:lnTo>
                    <a:pt x="42" y="1044"/>
                  </a:lnTo>
                  <a:lnTo>
                    <a:pt x="48" y="1044"/>
                  </a:lnTo>
                  <a:lnTo>
                    <a:pt x="54" y="1044"/>
                  </a:lnTo>
                  <a:lnTo>
                    <a:pt x="60" y="1044"/>
                  </a:lnTo>
                  <a:lnTo>
                    <a:pt x="66" y="1044"/>
                  </a:lnTo>
                  <a:lnTo>
                    <a:pt x="72" y="1044"/>
                  </a:lnTo>
                  <a:lnTo>
                    <a:pt x="78" y="1044"/>
                  </a:lnTo>
                  <a:lnTo>
                    <a:pt x="84" y="1044"/>
                  </a:lnTo>
                  <a:lnTo>
                    <a:pt x="90" y="1044"/>
                  </a:lnTo>
                  <a:lnTo>
                    <a:pt x="96" y="1044"/>
                  </a:lnTo>
                  <a:lnTo>
                    <a:pt x="102" y="1044"/>
                  </a:lnTo>
                  <a:lnTo>
                    <a:pt x="108" y="1044"/>
                  </a:lnTo>
                  <a:lnTo>
                    <a:pt x="114" y="1044"/>
                  </a:lnTo>
                  <a:lnTo>
                    <a:pt x="120" y="1044"/>
                  </a:lnTo>
                  <a:lnTo>
                    <a:pt x="126" y="1044"/>
                  </a:lnTo>
                  <a:lnTo>
                    <a:pt x="132" y="1044"/>
                  </a:lnTo>
                  <a:lnTo>
                    <a:pt x="138" y="1044"/>
                  </a:lnTo>
                  <a:lnTo>
                    <a:pt x="144" y="1044"/>
                  </a:lnTo>
                  <a:lnTo>
                    <a:pt x="150" y="1044"/>
                  </a:lnTo>
                  <a:lnTo>
                    <a:pt x="156" y="1044"/>
                  </a:lnTo>
                  <a:lnTo>
                    <a:pt x="162" y="1044"/>
                  </a:lnTo>
                  <a:lnTo>
                    <a:pt x="168" y="1044"/>
                  </a:lnTo>
                  <a:lnTo>
                    <a:pt x="174" y="1044"/>
                  </a:lnTo>
                  <a:lnTo>
                    <a:pt x="180" y="1044"/>
                  </a:lnTo>
                  <a:lnTo>
                    <a:pt x="186" y="1044"/>
                  </a:lnTo>
                  <a:lnTo>
                    <a:pt x="192" y="1044"/>
                  </a:lnTo>
                  <a:lnTo>
                    <a:pt x="198" y="1044"/>
                  </a:lnTo>
                  <a:lnTo>
                    <a:pt x="204" y="1044"/>
                  </a:lnTo>
                  <a:lnTo>
                    <a:pt x="210" y="1044"/>
                  </a:lnTo>
                  <a:lnTo>
                    <a:pt x="216" y="1044"/>
                  </a:lnTo>
                  <a:lnTo>
                    <a:pt x="222" y="1044"/>
                  </a:lnTo>
                  <a:lnTo>
                    <a:pt x="228" y="1044"/>
                  </a:lnTo>
                  <a:lnTo>
                    <a:pt x="234" y="1044"/>
                  </a:lnTo>
                  <a:lnTo>
                    <a:pt x="240" y="1044"/>
                  </a:lnTo>
                  <a:lnTo>
                    <a:pt x="246" y="1044"/>
                  </a:lnTo>
                  <a:lnTo>
                    <a:pt x="252" y="1044"/>
                  </a:lnTo>
                  <a:lnTo>
                    <a:pt x="258" y="1044"/>
                  </a:lnTo>
                  <a:lnTo>
                    <a:pt x="264" y="1044"/>
                  </a:lnTo>
                  <a:lnTo>
                    <a:pt x="270" y="1044"/>
                  </a:lnTo>
                  <a:lnTo>
                    <a:pt x="276" y="1044"/>
                  </a:lnTo>
                  <a:lnTo>
                    <a:pt x="282" y="1038"/>
                  </a:lnTo>
                  <a:lnTo>
                    <a:pt x="288" y="1038"/>
                  </a:lnTo>
                  <a:lnTo>
                    <a:pt x="294" y="1038"/>
                  </a:lnTo>
                  <a:lnTo>
                    <a:pt x="300" y="1038"/>
                  </a:lnTo>
                  <a:lnTo>
                    <a:pt x="306" y="1038"/>
                  </a:lnTo>
                  <a:lnTo>
                    <a:pt x="312" y="1038"/>
                  </a:lnTo>
                  <a:lnTo>
                    <a:pt x="318" y="1038"/>
                  </a:lnTo>
                  <a:lnTo>
                    <a:pt x="324" y="1038"/>
                  </a:lnTo>
                  <a:lnTo>
                    <a:pt x="330" y="1038"/>
                  </a:lnTo>
                  <a:lnTo>
                    <a:pt x="336" y="1038"/>
                  </a:lnTo>
                  <a:lnTo>
                    <a:pt x="342" y="1038"/>
                  </a:lnTo>
                  <a:lnTo>
                    <a:pt x="348" y="1032"/>
                  </a:lnTo>
                  <a:lnTo>
                    <a:pt x="354" y="1032"/>
                  </a:lnTo>
                  <a:lnTo>
                    <a:pt x="360" y="1032"/>
                  </a:lnTo>
                  <a:lnTo>
                    <a:pt x="366" y="1032"/>
                  </a:lnTo>
                  <a:lnTo>
                    <a:pt x="372" y="1032"/>
                  </a:lnTo>
                  <a:lnTo>
                    <a:pt x="378" y="1026"/>
                  </a:lnTo>
                  <a:lnTo>
                    <a:pt x="384" y="1026"/>
                  </a:lnTo>
                  <a:lnTo>
                    <a:pt x="390" y="1026"/>
                  </a:lnTo>
                  <a:lnTo>
                    <a:pt x="396" y="1020"/>
                  </a:lnTo>
                  <a:lnTo>
                    <a:pt x="402" y="1020"/>
                  </a:lnTo>
                  <a:lnTo>
                    <a:pt x="408" y="1020"/>
                  </a:lnTo>
                  <a:lnTo>
                    <a:pt x="414" y="1014"/>
                  </a:lnTo>
                  <a:lnTo>
                    <a:pt x="420" y="1014"/>
                  </a:lnTo>
                  <a:lnTo>
                    <a:pt x="426" y="1014"/>
                  </a:lnTo>
                  <a:lnTo>
                    <a:pt x="432" y="1008"/>
                  </a:lnTo>
                  <a:lnTo>
                    <a:pt x="438" y="1002"/>
                  </a:lnTo>
                  <a:lnTo>
                    <a:pt x="444" y="1002"/>
                  </a:lnTo>
                  <a:lnTo>
                    <a:pt x="450" y="996"/>
                  </a:lnTo>
                  <a:lnTo>
                    <a:pt x="456" y="990"/>
                  </a:lnTo>
                  <a:lnTo>
                    <a:pt x="462" y="990"/>
                  </a:lnTo>
                  <a:lnTo>
                    <a:pt x="468" y="984"/>
                  </a:lnTo>
                  <a:lnTo>
                    <a:pt x="474" y="978"/>
                  </a:lnTo>
                  <a:lnTo>
                    <a:pt x="480" y="972"/>
                  </a:lnTo>
                  <a:lnTo>
                    <a:pt x="486" y="972"/>
                  </a:lnTo>
                  <a:lnTo>
                    <a:pt x="492" y="966"/>
                  </a:lnTo>
                  <a:lnTo>
                    <a:pt x="498" y="960"/>
                  </a:lnTo>
                  <a:lnTo>
                    <a:pt x="504" y="954"/>
                  </a:lnTo>
                  <a:lnTo>
                    <a:pt x="510" y="948"/>
                  </a:lnTo>
                  <a:lnTo>
                    <a:pt x="516" y="942"/>
                  </a:lnTo>
                  <a:lnTo>
                    <a:pt x="522" y="936"/>
                  </a:lnTo>
                  <a:lnTo>
                    <a:pt x="522" y="930"/>
                  </a:lnTo>
                  <a:lnTo>
                    <a:pt x="528" y="924"/>
                  </a:lnTo>
                  <a:lnTo>
                    <a:pt x="534" y="918"/>
                  </a:lnTo>
                  <a:lnTo>
                    <a:pt x="534" y="912"/>
                  </a:lnTo>
                  <a:lnTo>
                    <a:pt x="540" y="906"/>
                  </a:lnTo>
                  <a:lnTo>
                    <a:pt x="540" y="900"/>
                  </a:lnTo>
                  <a:lnTo>
                    <a:pt x="546" y="894"/>
                  </a:lnTo>
                  <a:lnTo>
                    <a:pt x="546" y="888"/>
                  </a:lnTo>
                  <a:lnTo>
                    <a:pt x="552" y="882"/>
                  </a:lnTo>
                  <a:lnTo>
                    <a:pt x="558" y="876"/>
                  </a:lnTo>
                  <a:lnTo>
                    <a:pt x="564" y="870"/>
                  </a:lnTo>
                  <a:lnTo>
                    <a:pt x="564" y="864"/>
                  </a:lnTo>
                  <a:lnTo>
                    <a:pt x="570" y="858"/>
                  </a:lnTo>
                  <a:lnTo>
                    <a:pt x="570" y="852"/>
                  </a:lnTo>
                  <a:lnTo>
                    <a:pt x="576" y="840"/>
                  </a:lnTo>
                  <a:lnTo>
                    <a:pt x="576" y="834"/>
                  </a:lnTo>
                  <a:lnTo>
                    <a:pt x="582" y="828"/>
                  </a:lnTo>
                  <a:lnTo>
                    <a:pt x="582" y="822"/>
                  </a:lnTo>
                  <a:lnTo>
                    <a:pt x="588" y="816"/>
                  </a:lnTo>
                  <a:lnTo>
                    <a:pt x="588" y="810"/>
                  </a:lnTo>
                  <a:lnTo>
                    <a:pt x="594" y="804"/>
                  </a:lnTo>
                  <a:lnTo>
                    <a:pt x="600" y="792"/>
                  </a:lnTo>
                  <a:lnTo>
                    <a:pt x="600" y="786"/>
                  </a:lnTo>
                  <a:lnTo>
                    <a:pt x="606" y="780"/>
                  </a:lnTo>
                  <a:lnTo>
                    <a:pt x="606" y="768"/>
                  </a:lnTo>
                  <a:lnTo>
                    <a:pt x="612" y="762"/>
                  </a:lnTo>
                  <a:lnTo>
                    <a:pt x="612" y="756"/>
                  </a:lnTo>
                  <a:lnTo>
                    <a:pt x="618" y="744"/>
                  </a:lnTo>
                  <a:lnTo>
                    <a:pt x="618" y="738"/>
                  </a:lnTo>
                  <a:lnTo>
                    <a:pt x="624" y="732"/>
                  </a:lnTo>
                  <a:lnTo>
                    <a:pt x="624" y="720"/>
                  </a:lnTo>
                  <a:lnTo>
                    <a:pt x="630" y="714"/>
                  </a:lnTo>
                  <a:lnTo>
                    <a:pt x="630" y="702"/>
                  </a:lnTo>
                  <a:lnTo>
                    <a:pt x="636" y="696"/>
                  </a:lnTo>
                  <a:lnTo>
                    <a:pt x="642" y="684"/>
                  </a:lnTo>
                  <a:lnTo>
                    <a:pt x="642" y="672"/>
                  </a:lnTo>
                  <a:lnTo>
                    <a:pt x="648" y="666"/>
                  </a:lnTo>
                  <a:lnTo>
                    <a:pt x="648" y="654"/>
                  </a:lnTo>
                  <a:lnTo>
                    <a:pt x="654" y="648"/>
                  </a:lnTo>
                  <a:lnTo>
                    <a:pt x="654" y="636"/>
                  </a:lnTo>
                  <a:lnTo>
                    <a:pt x="660" y="624"/>
                  </a:lnTo>
                  <a:lnTo>
                    <a:pt x="660" y="618"/>
                  </a:lnTo>
                  <a:lnTo>
                    <a:pt x="666" y="606"/>
                  </a:lnTo>
                  <a:lnTo>
                    <a:pt x="666" y="594"/>
                  </a:lnTo>
                  <a:lnTo>
                    <a:pt x="672" y="582"/>
                  </a:lnTo>
                  <a:lnTo>
                    <a:pt x="672" y="576"/>
                  </a:lnTo>
                  <a:lnTo>
                    <a:pt x="678" y="564"/>
                  </a:lnTo>
                  <a:lnTo>
                    <a:pt x="684" y="552"/>
                  </a:lnTo>
                  <a:lnTo>
                    <a:pt x="684" y="540"/>
                  </a:lnTo>
                  <a:lnTo>
                    <a:pt x="690" y="534"/>
                  </a:lnTo>
                  <a:lnTo>
                    <a:pt x="690" y="522"/>
                  </a:lnTo>
                  <a:lnTo>
                    <a:pt x="696" y="510"/>
                  </a:lnTo>
                  <a:lnTo>
                    <a:pt x="696" y="498"/>
                  </a:lnTo>
                  <a:lnTo>
                    <a:pt x="702" y="486"/>
                  </a:lnTo>
                  <a:lnTo>
                    <a:pt x="702" y="474"/>
                  </a:lnTo>
                  <a:lnTo>
                    <a:pt x="708" y="468"/>
                  </a:lnTo>
                  <a:lnTo>
                    <a:pt x="708" y="456"/>
                  </a:lnTo>
                  <a:lnTo>
                    <a:pt x="714" y="444"/>
                  </a:lnTo>
                  <a:lnTo>
                    <a:pt x="714" y="432"/>
                  </a:lnTo>
                  <a:lnTo>
                    <a:pt x="720" y="420"/>
                  </a:lnTo>
                  <a:lnTo>
                    <a:pt x="726" y="408"/>
                  </a:lnTo>
                  <a:lnTo>
                    <a:pt x="726" y="396"/>
                  </a:lnTo>
                  <a:lnTo>
                    <a:pt x="732" y="384"/>
                  </a:lnTo>
                  <a:lnTo>
                    <a:pt x="732" y="372"/>
                  </a:lnTo>
                  <a:lnTo>
                    <a:pt x="738" y="366"/>
                  </a:lnTo>
                  <a:lnTo>
                    <a:pt x="738" y="354"/>
                  </a:lnTo>
                  <a:lnTo>
                    <a:pt x="744" y="342"/>
                  </a:lnTo>
                  <a:lnTo>
                    <a:pt x="744" y="330"/>
                  </a:lnTo>
                  <a:lnTo>
                    <a:pt x="750" y="318"/>
                  </a:lnTo>
                  <a:lnTo>
                    <a:pt x="750" y="306"/>
                  </a:lnTo>
                  <a:lnTo>
                    <a:pt x="756" y="300"/>
                  </a:lnTo>
                  <a:lnTo>
                    <a:pt x="756" y="288"/>
                  </a:lnTo>
                  <a:lnTo>
                    <a:pt x="762" y="276"/>
                  </a:lnTo>
                  <a:lnTo>
                    <a:pt x="768" y="264"/>
                  </a:lnTo>
                  <a:lnTo>
                    <a:pt x="768" y="252"/>
                  </a:lnTo>
                  <a:lnTo>
                    <a:pt x="774" y="246"/>
                  </a:lnTo>
                  <a:lnTo>
                    <a:pt x="774" y="234"/>
                  </a:lnTo>
                  <a:lnTo>
                    <a:pt x="780" y="222"/>
                  </a:lnTo>
                  <a:lnTo>
                    <a:pt x="780" y="216"/>
                  </a:lnTo>
                  <a:lnTo>
                    <a:pt x="786" y="204"/>
                  </a:lnTo>
                  <a:lnTo>
                    <a:pt x="786" y="192"/>
                  </a:lnTo>
                  <a:lnTo>
                    <a:pt x="792" y="186"/>
                  </a:lnTo>
                  <a:lnTo>
                    <a:pt x="792" y="174"/>
                  </a:lnTo>
                  <a:lnTo>
                    <a:pt x="798" y="162"/>
                  </a:lnTo>
                  <a:lnTo>
                    <a:pt x="798" y="156"/>
                  </a:lnTo>
                  <a:lnTo>
                    <a:pt x="804" y="144"/>
                  </a:lnTo>
                  <a:lnTo>
                    <a:pt x="810" y="138"/>
                  </a:lnTo>
                  <a:lnTo>
                    <a:pt x="810" y="132"/>
                  </a:lnTo>
                  <a:lnTo>
                    <a:pt x="816" y="120"/>
                  </a:lnTo>
                  <a:lnTo>
                    <a:pt x="816" y="114"/>
                  </a:lnTo>
                  <a:lnTo>
                    <a:pt x="822" y="108"/>
                  </a:lnTo>
                  <a:lnTo>
                    <a:pt x="822" y="96"/>
                  </a:lnTo>
                  <a:lnTo>
                    <a:pt x="828" y="90"/>
                  </a:lnTo>
                  <a:lnTo>
                    <a:pt x="828" y="84"/>
                  </a:lnTo>
                  <a:lnTo>
                    <a:pt x="834" y="78"/>
                  </a:lnTo>
                  <a:lnTo>
                    <a:pt x="834" y="72"/>
                  </a:lnTo>
                  <a:lnTo>
                    <a:pt x="840" y="60"/>
                  </a:lnTo>
                  <a:lnTo>
                    <a:pt x="840" y="54"/>
                  </a:lnTo>
                  <a:lnTo>
                    <a:pt x="846" y="48"/>
                  </a:lnTo>
                  <a:lnTo>
                    <a:pt x="852" y="42"/>
                  </a:lnTo>
                  <a:lnTo>
                    <a:pt x="858" y="36"/>
                  </a:lnTo>
                  <a:lnTo>
                    <a:pt x="858" y="30"/>
                  </a:lnTo>
                  <a:lnTo>
                    <a:pt x="864" y="24"/>
                  </a:lnTo>
                  <a:lnTo>
                    <a:pt x="870" y="18"/>
                  </a:lnTo>
                  <a:lnTo>
                    <a:pt x="876" y="12"/>
                  </a:lnTo>
                  <a:lnTo>
                    <a:pt x="882" y="6"/>
                  </a:lnTo>
                  <a:lnTo>
                    <a:pt x="888" y="0"/>
                  </a:lnTo>
                  <a:lnTo>
                    <a:pt x="894" y="0"/>
                  </a:lnTo>
                  <a:lnTo>
                    <a:pt x="900" y="0"/>
                  </a:lnTo>
                  <a:lnTo>
                    <a:pt x="906" y="0"/>
                  </a:lnTo>
                  <a:lnTo>
                    <a:pt x="912" y="0"/>
                  </a:lnTo>
                  <a:lnTo>
                    <a:pt x="918" y="0"/>
                  </a:lnTo>
                  <a:lnTo>
                    <a:pt x="924" y="6"/>
                  </a:lnTo>
                  <a:lnTo>
                    <a:pt x="930" y="12"/>
                  </a:lnTo>
                  <a:lnTo>
                    <a:pt x="936" y="12"/>
                  </a:lnTo>
                  <a:lnTo>
                    <a:pt x="942" y="18"/>
                  </a:lnTo>
                  <a:lnTo>
                    <a:pt x="948" y="24"/>
                  </a:lnTo>
                  <a:lnTo>
                    <a:pt x="954" y="30"/>
                  </a:lnTo>
                  <a:lnTo>
                    <a:pt x="954" y="36"/>
                  </a:lnTo>
                  <a:lnTo>
                    <a:pt x="960" y="42"/>
                  </a:lnTo>
                  <a:lnTo>
                    <a:pt x="960" y="48"/>
                  </a:lnTo>
                  <a:lnTo>
                    <a:pt x="966" y="54"/>
                  </a:lnTo>
                  <a:lnTo>
                    <a:pt x="966" y="60"/>
                  </a:lnTo>
                  <a:lnTo>
                    <a:pt x="972" y="66"/>
                  </a:lnTo>
                  <a:lnTo>
                    <a:pt x="972" y="72"/>
                  </a:lnTo>
                  <a:lnTo>
                    <a:pt x="978" y="78"/>
                  </a:lnTo>
                  <a:lnTo>
                    <a:pt x="984" y="84"/>
                  </a:lnTo>
                  <a:lnTo>
                    <a:pt x="984" y="96"/>
                  </a:lnTo>
                  <a:lnTo>
                    <a:pt x="990" y="102"/>
                  </a:lnTo>
                  <a:lnTo>
                    <a:pt x="990" y="108"/>
                  </a:lnTo>
                  <a:lnTo>
                    <a:pt x="996" y="114"/>
                  </a:lnTo>
                  <a:lnTo>
                    <a:pt x="996" y="126"/>
                  </a:lnTo>
                  <a:lnTo>
                    <a:pt x="1002" y="132"/>
                  </a:lnTo>
                  <a:lnTo>
                    <a:pt x="1002" y="144"/>
                  </a:lnTo>
                  <a:lnTo>
                    <a:pt x="1008" y="150"/>
                  </a:lnTo>
                  <a:lnTo>
                    <a:pt x="1008" y="162"/>
                  </a:lnTo>
                  <a:lnTo>
                    <a:pt x="1014" y="168"/>
                  </a:lnTo>
                  <a:lnTo>
                    <a:pt x="1014" y="180"/>
                  </a:lnTo>
                  <a:lnTo>
                    <a:pt x="1020" y="186"/>
                  </a:lnTo>
                  <a:lnTo>
                    <a:pt x="1026" y="198"/>
                  </a:lnTo>
                  <a:lnTo>
                    <a:pt x="1026" y="210"/>
                  </a:lnTo>
                  <a:lnTo>
                    <a:pt x="1032" y="216"/>
                  </a:lnTo>
                  <a:lnTo>
                    <a:pt x="1032" y="228"/>
                  </a:lnTo>
                  <a:lnTo>
                    <a:pt x="1038" y="240"/>
                  </a:lnTo>
                  <a:lnTo>
                    <a:pt x="1038" y="246"/>
                  </a:lnTo>
                  <a:lnTo>
                    <a:pt x="1044" y="258"/>
                  </a:lnTo>
                  <a:lnTo>
                    <a:pt x="1044" y="270"/>
                  </a:lnTo>
                  <a:lnTo>
                    <a:pt x="1050" y="282"/>
                  </a:lnTo>
                  <a:lnTo>
                    <a:pt x="1050" y="294"/>
                  </a:lnTo>
                  <a:lnTo>
                    <a:pt x="1056" y="300"/>
                  </a:lnTo>
                  <a:lnTo>
                    <a:pt x="1056" y="312"/>
                  </a:lnTo>
                  <a:lnTo>
                    <a:pt x="1062" y="324"/>
                  </a:lnTo>
                  <a:lnTo>
                    <a:pt x="1068" y="336"/>
                  </a:lnTo>
                  <a:lnTo>
                    <a:pt x="1068" y="348"/>
                  </a:lnTo>
                  <a:lnTo>
                    <a:pt x="1074" y="360"/>
                  </a:lnTo>
                  <a:lnTo>
                    <a:pt x="1074" y="366"/>
                  </a:lnTo>
                  <a:lnTo>
                    <a:pt x="1080" y="378"/>
                  </a:lnTo>
                  <a:lnTo>
                    <a:pt x="1080" y="390"/>
                  </a:lnTo>
                  <a:lnTo>
                    <a:pt x="1086" y="402"/>
                  </a:lnTo>
                  <a:lnTo>
                    <a:pt x="1086" y="414"/>
                  </a:lnTo>
                  <a:lnTo>
                    <a:pt x="1092" y="426"/>
                  </a:lnTo>
                  <a:lnTo>
                    <a:pt x="1092" y="438"/>
                  </a:lnTo>
                  <a:lnTo>
                    <a:pt x="1098" y="450"/>
                  </a:lnTo>
                  <a:lnTo>
                    <a:pt x="1098" y="456"/>
                  </a:lnTo>
                  <a:lnTo>
                    <a:pt x="1104" y="468"/>
                  </a:lnTo>
                  <a:lnTo>
                    <a:pt x="1110" y="480"/>
                  </a:lnTo>
                  <a:lnTo>
                    <a:pt x="1110" y="492"/>
                  </a:lnTo>
                  <a:lnTo>
                    <a:pt x="1116" y="504"/>
                  </a:lnTo>
                  <a:lnTo>
                    <a:pt x="1116" y="516"/>
                  </a:lnTo>
                  <a:lnTo>
                    <a:pt x="1122" y="528"/>
                  </a:lnTo>
                  <a:lnTo>
                    <a:pt x="1122" y="534"/>
                  </a:lnTo>
                  <a:lnTo>
                    <a:pt x="1128" y="546"/>
                  </a:lnTo>
                  <a:lnTo>
                    <a:pt x="1128" y="558"/>
                  </a:lnTo>
                  <a:lnTo>
                    <a:pt x="1134" y="570"/>
                  </a:lnTo>
                  <a:lnTo>
                    <a:pt x="1134" y="576"/>
                  </a:lnTo>
                  <a:lnTo>
                    <a:pt x="1140" y="588"/>
                  </a:lnTo>
                  <a:lnTo>
                    <a:pt x="1140" y="600"/>
                  </a:lnTo>
                  <a:lnTo>
                    <a:pt x="1146" y="612"/>
                  </a:lnTo>
                  <a:lnTo>
                    <a:pt x="1152" y="618"/>
                  </a:lnTo>
                  <a:lnTo>
                    <a:pt x="1152" y="630"/>
                  </a:lnTo>
                  <a:lnTo>
                    <a:pt x="1158" y="642"/>
                  </a:lnTo>
                  <a:lnTo>
                    <a:pt x="1158" y="648"/>
                  </a:lnTo>
                  <a:lnTo>
                    <a:pt x="1164" y="660"/>
                  </a:lnTo>
                  <a:lnTo>
                    <a:pt x="1164" y="672"/>
                  </a:lnTo>
                  <a:lnTo>
                    <a:pt x="1170" y="678"/>
                  </a:lnTo>
                  <a:lnTo>
                    <a:pt x="1170" y="690"/>
                  </a:lnTo>
                  <a:lnTo>
                    <a:pt x="1176" y="696"/>
                  </a:lnTo>
                  <a:lnTo>
                    <a:pt x="1176" y="708"/>
                  </a:lnTo>
                  <a:lnTo>
                    <a:pt x="1182" y="714"/>
                  </a:lnTo>
                  <a:lnTo>
                    <a:pt x="1182" y="726"/>
                  </a:lnTo>
                  <a:lnTo>
                    <a:pt x="1188" y="732"/>
                  </a:lnTo>
                  <a:lnTo>
                    <a:pt x="1194" y="744"/>
                  </a:lnTo>
                  <a:lnTo>
                    <a:pt x="1194" y="750"/>
                  </a:lnTo>
                  <a:lnTo>
                    <a:pt x="1200" y="756"/>
                  </a:lnTo>
                  <a:lnTo>
                    <a:pt x="1200" y="768"/>
                  </a:lnTo>
                  <a:lnTo>
                    <a:pt x="1206" y="774"/>
                  </a:lnTo>
                  <a:lnTo>
                    <a:pt x="1206" y="780"/>
                  </a:lnTo>
                  <a:lnTo>
                    <a:pt x="1212" y="792"/>
                  </a:lnTo>
                  <a:lnTo>
                    <a:pt x="1212" y="798"/>
                  </a:lnTo>
                  <a:lnTo>
                    <a:pt x="1218" y="804"/>
                  </a:lnTo>
                  <a:lnTo>
                    <a:pt x="1218" y="810"/>
                  </a:lnTo>
                  <a:lnTo>
                    <a:pt x="1224" y="816"/>
                  </a:lnTo>
                  <a:lnTo>
                    <a:pt x="1224" y="828"/>
                  </a:lnTo>
                  <a:lnTo>
                    <a:pt x="1230" y="834"/>
                  </a:lnTo>
                  <a:lnTo>
                    <a:pt x="1236" y="840"/>
                  </a:lnTo>
                  <a:lnTo>
                    <a:pt x="1236" y="846"/>
                  </a:lnTo>
                  <a:lnTo>
                    <a:pt x="1242" y="852"/>
                  </a:lnTo>
                  <a:lnTo>
                    <a:pt x="1242" y="858"/>
                  </a:lnTo>
                  <a:lnTo>
                    <a:pt x="1248" y="864"/>
                  </a:lnTo>
                  <a:lnTo>
                    <a:pt x="1248" y="870"/>
                  </a:lnTo>
                  <a:lnTo>
                    <a:pt x="1254" y="876"/>
                  </a:lnTo>
                  <a:lnTo>
                    <a:pt x="1254" y="882"/>
                  </a:lnTo>
                  <a:lnTo>
                    <a:pt x="1260" y="888"/>
                  </a:lnTo>
                  <a:lnTo>
                    <a:pt x="1260" y="894"/>
                  </a:lnTo>
                  <a:lnTo>
                    <a:pt x="1266" y="900"/>
                  </a:lnTo>
                  <a:lnTo>
                    <a:pt x="1272" y="906"/>
                  </a:lnTo>
                  <a:lnTo>
                    <a:pt x="1278" y="912"/>
                  </a:lnTo>
                  <a:lnTo>
                    <a:pt x="1278" y="918"/>
                  </a:lnTo>
                  <a:lnTo>
                    <a:pt x="1284" y="924"/>
                  </a:lnTo>
                  <a:lnTo>
                    <a:pt x="1290" y="930"/>
                  </a:lnTo>
                  <a:lnTo>
                    <a:pt x="1296" y="936"/>
                  </a:lnTo>
                  <a:lnTo>
                    <a:pt x="1296" y="942"/>
                  </a:lnTo>
                  <a:lnTo>
                    <a:pt x="1302" y="948"/>
                  </a:lnTo>
                  <a:lnTo>
                    <a:pt x="1308" y="954"/>
                  </a:lnTo>
                  <a:lnTo>
                    <a:pt x="1314" y="960"/>
                  </a:lnTo>
                  <a:lnTo>
                    <a:pt x="1320" y="966"/>
                  </a:lnTo>
                  <a:lnTo>
                    <a:pt x="1326" y="972"/>
                  </a:lnTo>
                  <a:lnTo>
                    <a:pt x="1332" y="978"/>
                  </a:lnTo>
                  <a:lnTo>
                    <a:pt x="1338" y="984"/>
                  </a:lnTo>
                  <a:lnTo>
                    <a:pt x="1344" y="990"/>
                  </a:lnTo>
                  <a:lnTo>
                    <a:pt x="1350" y="996"/>
                  </a:lnTo>
                  <a:lnTo>
                    <a:pt x="1356" y="996"/>
                  </a:lnTo>
                  <a:lnTo>
                    <a:pt x="1362" y="1002"/>
                  </a:lnTo>
                  <a:lnTo>
                    <a:pt x="1368" y="1002"/>
                  </a:lnTo>
                  <a:lnTo>
                    <a:pt x="1374" y="1008"/>
                  </a:lnTo>
                  <a:lnTo>
                    <a:pt x="1380" y="1008"/>
                  </a:lnTo>
                  <a:lnTo>
                    <a:pt x="1386" y="1014"/>
                  </a:lnTo>
                  <a:lnTo>
                    <a:pt x="1392" y="1014"/>
                  </a:lnTo>
                  <a:lnTo>
                    <a:pt x="1398" y="1020"/>
                  </a:lnTo>
                  <a:lnTo>
                    <a:pt x="1404" y="1020"/>
                  </a:lnTo>
                  <a:lnTo>
                    <a:pt x="1410" y="1020"/>
                  </a:lnTo>
                  <a:lnTo>
                    <a:pt x="1417" y="1026"/>
                  </a:lnTo>
                  <a:lnTo>
                    <a:pt x="1423" y="1026"/>
                  </a:lnTo>
                  <a:lnTo>
                    <a:pt x="1429" y="1026"/>
                  </a:lnTo>
                  <a:lnTo>
                    <a:pt x="1435" y="1032"/>
                  </a:lnTo>
                  <a:lnTo>
                    <a:pt x="1441" y="1032"/>
                  </a:lnTo>
                  <a:lnTo>
                    <a:pt x="1447" y="1032"/>
                  </a:lnTo>
                  <a:lnTo>
                    <a:pt x="1453" y="1032"/>
                  </a:lnTo>
                  <a:lnTo>
                    <a:pt x="1459" y="1032"/>
                  </a:lnTo>
                  <a:lnTo>
                    <a:pt x="1465" y="1038"/>
                  </a:lnTo>
                  <a:lnTo>
                    <a:pt x="1471" y="1038"/>
                  </a:lnTo>
                  <a:lnTo>
                    <a:pt x="1477" y="1038"/>
                  </a:lnTo>
                  <a:lnTo>
                    <a:pt x="1483" y="1038"/>
                  </a:lnTo>
                  <a:lnTo>
                    <a:pt x="1489" y="1038"/>
                  </a:lnTo>
                  <a:lnTo>
                    <a:pt x="1495" y="1038"/>
                  </a:lnTo>
                  <a:lnTo>
                    <a:pt x="1501" y="1038"/>
                  </a:lnTo>
                  <a:lnTo>
                    <a:pt x="1507" y="1038"/>
                  </a:lnTo>
                  <a:lnTo>
                    <a:pt x="1513" y="1038"/>
                  </a:lnTo>
                  <a:lnTo>
                    <a:pt x="1519" y="1038"/>
                  </a:lnTo>
                  <a:lnTo>
                    <a:pt x="1525" y="1044"/>
                  </a:lnTo>
                  <a:lnTo>
                    <a:pt x="1531" y="1044"/>
                  </a:lnTo>
                  <a:lnTo>
                    <a:pt x="1537" y="1044"/>
                  </a:lnTo>
                  <a:lnTo>
                    <a:pt x="1543" y="1044"/>
                  </a:lnTo>
                  <a:lnTo>
                    <a:pt x="1549" y="1044"/>
                  </a:lnTo>
                  <a:lnTo>
                    <a:pt x="1555" y="1044"/>
                  </a:lnTo>
                  <a:lnTo>
                    <a:pt x="1561" y="1044"/>
                  </a:lnTo>
                  <a:lnTo>
                    <a:pt x="1567" y="1044"/>
                  </a:lnTo>
                  <a:lnTo>
                    <a:pt x="1573" y="1044"/>
                  </a:lnTo>
                  <a:lnTo>
                    <a:pt x="1579" y="1044"/>
                  </a:lnTo>
                  <a:lnTo>
                    <a:pt x="1585" y="1044"/>
                  </a:lnTo>
                  <a:lnTo>
                    <a:pt x="1591" y="1044"/>
                  </a:lnTo>
                  <a:lnTo>
                    <a:pt x="1597" y="1044"/>
                  </a:lnTo>
                  <a:lnTo>
                    <a:pt x="1603" y="1044"/>
                  </a:lnTo>
                  <a:lnTo>
                    <a:pt x="1609" y="1044"/>
                  </a:lnTo>
                  <a:lnTo>
                    <a:pt x="1615" y="1044"/>
                  </a:lnTo>
                  <a:lnTo>
                    <a:pt x="1621" y="1044"/>
                  </a:lnTo>
                  <a:lnTo>
                    <a:pt x="1627" y="1044"/>
                  </a:lnTo>
                  <a:lnTo>
                    <a:pt x="1633" y="1044"/>
                  </a:lnTo>
                  <a:lnTo>
                    <a:pt x="1639" y="1044"/>
                  </a:lnTo>
                  <a:lnTo>
                    <a:pt x="1645" y="1044"/>
                  </a:lnTo>
                  <a:lnTo>
                    <a:pt x="1651" y="1044"/>
                  </a:lnTo>
                  <a:lnTo>
                    <a:pt x="1657" y="1044"/>
                  </a:lnTo>
                  <a:lnTo>
                    <a:pt x="1663" y="1044"/>
                  </a:lnTo>
                  <a:lnTo>
                    <a:pt x="1669" y="1044"/>
                  </a:lnTo>
                  <a:lnTo>
                    <a:pt x="1675" y="1044"/>
                  </a:lnTo>
                  <a:lnTo>
                    <a:pt x="1681" y="1044"/>
                  </a:lnTo>
                  <a:lnTo>
                    <a:pt x="1687" y="1044"/>
                  </a:lnTo>
                  <a:lnTo>
                    <a:pt x="1693" y="1044"/>
                  </a:lnTo>
                  <a:lnTo>
                    <a:pt x="1699" y="1044"/>
                  </a:lnTo>
                  <a:lnTo>
                    <a:pt x="1705" y="1044"/>
                  </a:lnTo>
                  <a:lnTo>
                    <a:pt x="1711" y="1044"/>
                  </a:lnTo>
                  <a:lnTo>
                    <a:pt x="1717" y="1044"/>
                  </a:lnTo>
                  <a:lnTo>
                    <a:pt x="1723" y="1044"/>
                  </a:lnTo>
                  <a:lnTo>
                    <a:pt x="1729" y="1044"/>
                  </a:lnTo>
                  <a:lnTo>
                    <a:pt x="1735" y="1044"/>
                  </a:lnTo>
                  <a:lnTo>
                    <a:pt x="1741" y="1044"/>
                  </a:lnTo>
                  <a:lnTo>
                    <a:pt x="1747" y="1044"/>
                  </a:lnTo>
                  <a:lnTo>
                    <a:pt x="1753" y="1044"/>
                  </a:lnTo>
                  <a:lnTo>
                    <a:pt x="1759" y="1044"/>
                  </a:lnTo>
                  <a:lnTo>
                    <a:pt x="1765" y="1044"/>
                  </a:lnTo>
                  <a:lnTo>
                    <a:pt x="1771" y="1044"/>
                  </a:lnTo>
                  <a:lnTo>
                    <a:pt x="1777" y="1044"/>
                  </a:lnTo>
                  <a:lnTo>
                    <a:pt x="1783" y="1044"/>
                  </a:lnTo>
                  <a:lnTo>
                    <a:pt x="1789" y="1044"/>
                  </a:lnTo>
                  <a:lnTo>
                    <a:pt x="1795" y="1044"/>
                  </a:lnTo>
                  <a:lnTo>
                    <a:pt x="1801" y="1044"/>
                  </a:lnTo>
                  <a:lnTo>
                    <a:pt x="1807" y="1044"/>
                  </a:lnTo>
                  <a:lnTo>
                    <a:pt x="1813" y="1044"/>
                  </a:lnTo>
                  <a:lnTo>
                    <a:pt x="1819" y="1044"/>
                  </a:lnTo>
                  <a:lnTo>
                    <a:pt x="1825" y="1044"/>
                  </a:lnTo>
                  <a:lnTo>
                    <a:pt x="1831" y="1044"/>
                  </a:lnTo>
                  <a:lnTo>
                    <a:pt x="1837" y="1044"/>
                  </a:lnTo>
                  <a:lnTo>
                    <a:pt x="1843" y="1044"/>
                  </a:lnTo>
                  <a:lnTo>
                    <a:pt x="1849" y="1044"/>
                  </a:lnTo>
                  <a:lnTo>
                    <a:pt x="1855" y="1044"/>
                  </a:lnTo>
                  <a:lnTo>
                    <a:pt x="1861" y="1044"/>
                  </a:lnTo>
                  <a:lnTo>
                    <a:pt x="1867" y="1044"/>
                  </a:lnTo>
                  <a:lnTo>
                    <a:pt x="1873" y="1044"/>
                  </a:lnTo>
                  <a:lnTo>
                    <a:pt x="1879" y="1044"/>
                  </a:lnTo>
                  <a:lnTo>
                    <a:pt x="1885" y="1044"/>
                  </a:lnTo>
                  <a:lnTo>
                    <a:pt x="1891" y="1044"/>
                  </a:lnTo>
                  <a:lnTo>
                    <a:pt x="1897" y="1044"/>
                  </a:lnTo>
                  <a:lnTo>
                    <a:pt x="1903" y="1044"/>
                  </a:lnTo>
                  <a:lnTo>
                    <a:pt x="1909" y="1044"/>
                  </a:lnTo>
                  <a:lnTo>
                    <a:pt x="1915" y="1044"/>
                  </a:lnTo>
                  <a:lnTo>
                    <a:pt x="1921" y="1044"/>
                  </a:lnTo>
                  <a:lnTo>
                    <a:pt x="1927" y="1044"/>
                  </a:lnTo>
                  <a:lnTo>
                    <a:pt x="1933" y="1044"/>
                  </a:lnTo>
                  <a:lnTo>
                    <a:pt x="1939" y="1044"/>
                  </a:lnTo>
                  <a:lnTo>
                    <a:pt x="1945" y="1044"/>
                  </a:lnTo>
                  <a:lnTo>
                    <a:pt x="1951" y="1044"/>
                  </a:lnTo>
                  <a:lnTo>
                    <a:pt x="1957" y="1044"/>
                  </a:lnTo>
                  <a:lnTo>
                    <a:pt x="1963" y="1044"/>
                  </a:lnTo>
                  <a:lnTo>
                    <a:pt x="1969" y="1044"/>
                  </a:lnTo>
                  <a:lnTo>
                    <a:pt x="1975" y="1044"/>
                  </a:lnTo>
                  <a:lnTo>
                    <a:pt x="1981" y="1044"/>
                  </a:lnTo>
                  <a:lnTo>
                    <a:pt x="1987" y="1044"/>
                  </a:lnTo>
                  <a:lnTo>
                    <a:pt x="1993" y="1044"/>
                  </a:lnTo>
                  <a:lnTo>
                    <a:pt x="1999" y="1044"/>
                  </a:lnTo>
                  <a:lnTo>
                    <a:pt x="2005" y="1044"/>
                  </a:lnTo>
                  <a:lnTo>
                    <a:pt x="2011" y="1044"/>
                  </a:lnTo>
                  <a:lnTo>
                    <a:pt x="2017" y="1044"/>
                  </a:lnTo>
                  <a:lnTo>
                    <a:pt x="2023" y="1044"/>
                  </a:lnTo>
                  <a:lnTo>
                    <a:pt x="2029" y="1044"/>
                  </a:lnTo>
                  <a:lnTo>
                    <a:pt x="2035" y="1044"/>
                  </a:lnTo>
                  <a:lnTo>
                    <a:pt x="2041" y="1044"/>
                  </a:lnTo>
                  <a:lnTo>
                    <a:pt x="2047" y="1044"/>
                  </a:lnTo>
                  <a:lnTo>
                    <a:pt x="2053" y="1044"/>
                  </a:lnTo>
                  <a:lnTo>
                    <a:pt x="2059" y="1044"/>
                  </a:lnTo>
                  <a:lnTo>
                    <a:pt x="2065" y="1044"/>
                  </a:lnTo>
                  <a:lnTo>
                    <a:pt x="2071" y="1044"/>
                  </a:lnTo>
                  <a:lnTo>
                    <a:pt x="2077" y="1044"/>
                  </a:lnTo>
                  <a:lnTo>
                    <a:pt x="2083" y="1044"/>
                  </a:lnTo>
                  <a:lnTo>
                    <a:pt x="2089" y="1044"/>
                  </a:lnTo>
                  <a:lnTo>
                    <a:pt x="2095" y="1044"/>
                  </a:lnTo>
                  <a:lnTo>
                    <a:pt x="2101" y="1044"/>
                  </a:lnTo>
                  <a:lnTo>
                    <a:pt x="2107" y="1044"/>
                  </a:lnTo>
                  <a:lnTo>
                    <a:pt x="2113" y="1044"/>
                  </a:lnTo>
                  <a:lnTo>
                    <a:pt x="2119" y="1044"/>
                  </a:lnTo>
                  <a:lnTo>
                    <a:pt x="2125" y="1044"/>
                  </a:lnTo>
                  <a:lnTo>
                    <a:pt x="2131" y="1044"/>
                  </a:lnTo>
                  <a:lnTo>
                    <a:pt x="2137" y="1044"/>
                  </a:lnTo>
                  <a:lnTo>
                    <a:pt x="2143" y="1044"/>
                  </a:lnTo>
                  <a:lnTo>
                    <a:pt x="2149" y="1044"/>
                  </a:lnTo>
                  <a:lnTo>
                    <a:pt x="2155" y="1044"/>
                  </a:lnTo>
                  <a:lnTo>
                    <a:pt x="2161" y="1044"/>
                  </a:lnTo>
                  <a:lnTo>
                    <a:pt x="2167" y="1044"/>
                  </a:lnTo>
                  <a:lnTo>
                    <a:pt x="2173" y="1044"/>
                  </a:lnTo>
                  <a:lnTo>
                    <a:pt x="2179" y="1044"/>
                  </a:lnTo>
                  <a:lnTo>
                    <a:pt x="2185" y="1044"/>
                  </a:lnTo>
                  <a:lnTo>
                    <a:pt x="2191" y="1044"/>
                  </a:lnTo>
                  <a:lnTo>
                    <a:pt x="2197" y="1044"/>
                  </a:lnTo>
                  <a:lnTo>
                    <a:pt x="2203" y="1044"/>
                  </a:lnTo>
                  <a:lnTo>
                    <a:pt x="2209" y="1044"/>
                  </a:lnTo>
                  <a:lnTo>
                    <a:pt x="2215" y="1044"/>
                  </a:lnTo>
                  <a:lnTo>
                    <a:pt x="2221" y="1044"/>
                  </a:lnTo>
                  <a:lnTo>
                    <a:pt x="2227" y="1044"/>
                  </a:lnTo>
                  <a:lnTo>
                    <a:pt x="2233" y="1044"/>
                  </a:lnTo>
                  <a:lnTo>
                    <a:pt x="2239" y="1044"/>
                  </a:lnTo>
                  <a:lnTo>
                    <a:pt x="2245" y="1044"/>
                  </a:lnTo>
                  <a:lnTo>
                    <a:pt x="2251" y="1044"/>
                  </a:lnTo>
                  <a:lnTo>
                    <a:pt x="2257" y="1044"/>
                  </a:lnTo>
                  <a:lnTo>
                    <a:pt x="2263" y="1044"/>
                  </a:lnTo>
                  <a:lnTo>
                    <a:pt x="2269" y="1044"/>
                  </a:lnTo>
                  <a:lnTo>
                    <a:pt x="2275" y="1044"/>
                  </a:lnTo>
                  <a:lnTo>
                    <a:pt x="2281" y="1044"/>
                  </a:lnTo>
                  <a:lnTo>
                    <a:pt x="2287" y="1044"/>
                  </a:lnTo>
                  <a:lnTo>
                    <a:pt x="2293" y="1044"/>
                  </a:lnTo>
                  <a:lnTo>
                    <a:pt x="2299" y="1044"/>
                  </a:lnTo>
                  <a:lnTo>
                    <a:pt x="2305" y="1044"/>
                  </a:lnTo>
                  <a:lnTo>
                    <a:pt x="2311" y="1044"/>
                  </a:lnTo>
                  <a:lnTo>
                    <a:pt x="2317" y="1044"/>
                  </a:lnTo>
                  <a:lnTo>
                    <a:pt x="2323" y="1044"/>
                  </a:lnTo>
                  <a:lnTo>
                    <a:pt x="2329" y="1044"/>
                  </a:lnTo>
                  <a:lnTo>
                    <a:pt x="2335" y="1044"/>
                  </a:lnTo>
                  <a:lnTo>
                    <a:pt x="2341" y="1044"/>
                  </a:lnTo>
                  <a:lnTo>
                    <a:pt x="2347" y="1044"/>
                  </a:lnTo>
                  <a:lnTo>
                    <a:pt x="2353" y="1044"/>
                  </a:lnTo>
                  <a:lnTo>
                    <a:pt x="2359" y="1044"/>
                  </a:lnTo>
                  <a:lnTo>
                    <a:pt x="2365" y="1044"/>
                  </a:lnTo>
                  <a:lnTo>
                    <a:pt x="2371" y="1044"/>
                  </a:lnTo>
                  <a:lnTo>
                    <a:pt x="2377" y="1044"/>
                  </a:lnTo>
                  <a:lnTo>
                    <a:pt x="2383" y="1044"/>
                  </a:lnTo>
                  <a:lnTo>
                    <a:pt x="2389" y="1044"/>
                  </a:lnTo>
                  <a:lnTo>
                    <a:pt x="2395" y="1044"/>
                  </a:lnTo>
                  <a:lnTo>
                    <a:pt x="2401" y="1044"/>
                  </a:lnTo>
                  <a:lnTo>
                    <a:pt x="2407" y="1044"/>
                  </a:lnTo>
                  <a:lnTo>
                    <a:pt x="2413" y="1044"/>
                  </a:lnTo>
                  <a:lnTo>
                    <a:pt x="2419" y="1044"/>
                  </a:lnTo>
                  <a:lnTo>
                    <a:pt x="2425" y="1044"/>
                  </a:lnTo>
                  <a:lnTo>
                    <a:pt x="2431" y="1044"/>
                  </a:lnTo>
                  <a:lnTo>
                    <a:pt x="2437" y="1044"/>
                  </a:lnTo>
                  <a:lnTo>
                    <a:pt x="2443" y="1044"/>
                  </a:lnTo>
                  <a:lnTo>
                    <a:pt x="2449" y="1044"/>
                  </a:lnTo>
                  <a:lnTo>
                    <a:pt x="2455" y="1044"/>
                  </a:lnTo>
                  <a:lnTo>
                    <a:pt x="2461" y="1044"/>
                  </a:lnTo>
                  <a:lnTo>
                    <a:pt x="2467" y="1044"/>
                  </a:lnTo>
                  <a:lnTo>
                    <a:pt x="2473" y="1044"/>
                  </a:lnTo>
                  <a:lnTo>
                    <a:pt x="2479" y="1044"/>
                  </a:lnTo>
                  <a:lnTo>
                    <a:pt x="2485" y="1044"/>
                  </a:lnTo>
                  <a:lnTo>
                    <a:pt x="2491" y="1044"/>
                  </a:lnTo>
                  <a:lnTo>
                    <a:pt x="2497" y="1044"/>
                  </a:lnTo>
                  <a:lnTo>
                    <a:pt x="2503" y="1044"/>
                  </a:lnTo>
                  <a:lnTo>
                    <a:pt x="2509" y="1044"/>
                  </a:lnTo>
                  <a:lnTo>
                    <a:pt x="2515" y="1044"/>
                  </a:lnTo>
                  <a:lnTo>
                    <a:pt x="2521" y="1044"/>
                  </a:lnTo>
                  <a:lnTo>
                    <a:pt x="2527" y="1044"/>
                  </a:lnTo>
                  <a:lnTo>
                    <a:pt x="2533" y="1044"/>
                  </a:lnTo>
                  <a:lnTo>
                    <a:pt x="2539" y="1044"/>
                  </a:lnTo>
                  <a:lnTo>
                    <a:pt x="2545" y="1044"/>
                  </a:lnTo>
                  <a:lnTo>
                    <a:pt x="2551" y="1044"/>
                  </a:lnTo>
                  <a:lnTo>
                    <a:pt x="2557" y="1044"/>
                  </a:lnTo>
                  <a:lnTo>
                    <a:pt x="2563" y="1044"/>
                  </a:lnTo>
                  <a:lnTo>
                    <a:pt x="2569" y="1044"/>
                  </a:lnTo>
                  <a:lnTo>
                    <a:pt x="2575" y="1044"/>
                  </a:lnTo>
                  <a:lnTo>
                    <a:pt x="2581" y="1044"/>
                  </a:lnTo>
                  <a:lnTo>
                    <a:pt x="2587" y="1044"/>
                  </a:lnTo>
                  <a:lnTo>
                    <a:pt x="2593" y="1044"/>
                  </a:lnTo>
                  <a:lnTo>
                    <a:pt x="2599" y="1044"/>
                  </a:lnTo>
                  <a:lnTo>
                    <a:pt x="2605" y="1044"/>
                  </a:lnTo>
                  <a:lnTo>
                    <a:pt x="2611" y="1044"/>
                  </a:lnTo>
                  <a:lnTo>
                    <a:pt x="2617" y="1044"/>
                  </a:lnTo>
                  <a:lnTo>
                    <a:pt x="2623" y="1044"/>
                  </a:lnTo>
                  <a:lnTo>
                    <a:pt x="2629" y="1044"/>
                  </a:lnTo>
                  <a:lnTo>
                    <a:pt x="2635" y="1044"/>
                  </a:lnTo>
                  <a:lnTo>
                    <a:pt x="2641" y="1044"/>
                  </a:lnTo>
                  <a:lnTo>
                    <a:pt x="2647" y="1044"/>
                  </a:lnTo>
                  <a:lnTo>
                    <a:pt x="2653" y="1044"/>
                  </a:lnTo>
                  <a:lnTo>
                    <a:pt x="2659" y="1044"/>
                  </a:lnTo>
                  <a:lnTo>
                    <a:pt x="2665" y="1044"/>
                  </a:lnTo>
                  <a:lnTo>
                    <a:pt x="2671" y="1044"/>
                  </a:lnTo>
                  <a:lnTo>
                    <a:pt x="2677" y="1044"/>
                  </a:lnTo>
                  <a:lnTo>
                    <a:pt x="2683" y="1044"/>
                  </a:lnTo>
                  <a:lnTo>
                    <a:pt x="2689" y="1044"/>
                  </a:lnTo>
                  <a:lnTo>
                    <a:pt x="2695" y="1044"/>
                  </a:lnTo>
                  <a:lnTo>
                    <a:pt x="2701" y="1044"/>
                  </a:lnTo>
                  <a:lnTo>
                    <a:pt x="2707" y="1044"/>
                  </a:lnTo>
                  <a:lnTo>
                    <a:pt x="2713" y="1044"/>
                  </a:lnTo>
                  <a:lnTo>
                    <a:pt x="2719" y="1044"/>
                  </a:lnTo>
                  <a:lnTo>
                    <a:pt x="2725" y="1044"/>
                  </a:lnTo>
                  <a:lnTo>
                    <a:pt x="2731" y="1044"/>
                  </a:lnTo>
                  <a:lnTo>
                    <a:pt x="2737" y="1044"/>
                  </a:lnTo>
                  <a:lnTo>
                    <a:pt x="2743" y="1044"/>
                  </a:lnTo>
                  <a:lnTo>
                    <a:pt x="2749" y="1044"/>
                  </a:lnTo>
                  <a:lnTo>
                    <a:pt x="2755" y="1044"/>
                  </a:lnTo>
                  <a:lnTo>
                    <a:pt x="2761" y="1044"/>
                  </a:lnTo>
                  <a:lnTo>
                    <a:pt x="2767" y="1044"/>
                  </a:lnTo>
                  <a:lnTo>
                    <a:pt x="2773" y="1044"/>
                  </a:lnTo>
                  <a:lnTo>
                    <a:pt x="2779" y="1044"/>
                  </a:lnTo>
                  <a:lnTo>
                    <a:pt x="2785" y="1044"/>
                  </a:lnTo>
                  <a:lnTo>
                    <a:pt x="2791" y="1044"/>
                  </a:lnTo>
                  <a:lnTo>
                    <a:pt x="2797" y="1044"/>
                  </a:lnTo>
                  <a:lnTo>
                    <a:pt x="2803" y="1044"/>
                  </a:lnTo>
                  <a:lnTo>
                    <a:pt x="2809" y="1044"/>
                  </a:lnTo>
                  <a:lnTo>
                    <a:pt x="2815" y="1044"/>
                  </a:lnTo>
                  <a:lnTo>
                    <a:pt x="2821" y="1044"/>
                  </a:lnTo>
                  <a:lnTo>
                    <a:pt x="2827" y="1044"/>
                  </a:lnTo>
                  <a:lnTo>
                    <a:pt x="2833" y="1044"/>
                  </a:lnTo>
                  <a:lnTo>
                    <a:pt x="2839" y="1044"/>
                  </a:lnTo>
                  <a:lnTo>
                    <a:pt x="2845" y="1044"/>
                  </a:lnTo>
                  <a:lnTo>
                    <a:pt x="2851" y="1044"/>
                  </a:lnTo>
                  <a:lnTo>
                    <a:pt x="2857" y="1044"/>
                  </a:lnTo>
                  <a:lnTo>
                    <a:pt x="2863" y="1044"/>
                  </a:lnTo>
                  <a:lnTo>
                    <a:pt x="2869" y="1044"/>
                  </a:lnTo>
                  <a:lnTo>
                    <a:pt x="2875" y="1044"/>
                  </a:lnTo>
                  <a:lnTo>
                    <a:pt x="2881" y="1044"/>
                  </a:lnTo>
                  <a:lnTo>
                    <a:pt x="2887" y="1044"/>
                  </a:lnTo>
                  <a:lnTo>
                    <a:pt x="2893" y="1044"/>
                  </a:lnTo>
                  <a:lnTo>
                    <a:pt x="2899" y="1044"/>
                  </a:lnTo>
                  <a:lnTo>
                    <a:pt x="2905" y="1044"/>
                  </a:lnTo>
                  <a:lnTo>
                    <a:pt x="2911" y="1044"/>
                  </a:lnTo>
                  <a:lnTo>
                    <a:pt x="2917" y="1044"/>
                  </a:lnTo>
                  <a:lnTo>
                    <a:pt x="2923" y="1044"/>
                  </a:lnTo>
                  <a:lnTo>
                    <a:pt x="2929" y="1044"/>
                  </a:lnTo>
                  <a:lnTo>
                    <a:pt x="2935" y="1044"/>
                  </a:lnTo>
                  <a:lnTo>
                    <a:pt x="2941" y="1044"/>
                  </a:lnTo>
                  <a:lnTo>
                    <a:pt x="2947" y="1044"/>
                  </a:lnTo>
                  <a:lnTo>
                    <a:pt x="2953" y="1044"/>
                  </a:lnTo>
                  <a:lnTo>
                    <a:pt x="2959" y="1044"/>
                  </a:lnTo>
                  <a:lnTo>
                    <a:pt x="2965" y="1044"/>
                  </a:lnTo>
                  <a:lnTo>
                    <a:pt x="2971" y="1044"/>
                  </a:lnTo>
                  <a:lnTo>
                    <a:pt x="2977" y="1044"/>
                  </a:lnTo>
                  <a:lnTo>
                    <a:pt x="2983" y="1044"/>
                  </a:lnTo>
                  <a:lnTo>
                    <a:pt x="2989" y="1044"/>
                  </a:lnTo>
                  <a:lnTo>
                    <a:pt x="2995" y="1044"/>
                  </a:lnTo>
                  <a:lnTo>
                    <a:pt x="3001" y="1044"/>
                  </a:lnTo>
                  <a:lnTo>
                    <a:pt x="3007" y="1044"/>
                  </a:lnTo>
                  <a:lnTo>
                    <a:pt x="3013" y="1044"/>
                  </a:lnTo>
                  <a:lnTo>
                    <a:pt x="3019" y="1044"/>
                  </a:lnTo>
                  <a:lnTo>
                    <a:pt x="3025" y="1044"/>
                  </a:lnTo>
                  <a:lnTo>
                    <a:pt x="3031" y="1044"/>
                  </a:lnTo>
                  <a:lnTo>
                    <a:pt x="3037" y="1044"/>
                  </a:lnTo>
                  <a:lnTo>
                    <a:pt x="3043" y="1044"/>
                  </a:lnTo>
                  <a:lnTo>
                    <a:pt x="3049" y="1044"/>
                  </a:lnTo>
                  <a:lnTo>
                    <a:pt x="3055" y="1044"/>
                  </a:lnTo>
                  <a:lnTo>
                    <a:pt x="3061" y="1044"/>
                  </a:lnTo>
                  <a:lnTo>
                    <a:pt x="3067" y="1044"/>
                  </a:lnTo>
                  <a:lnTo>
                    <a:pt x="3073" y="1044"/>
                  </a:lnTo>
                  <a:lnTo>
                    <a:pt x="3079" y="1044"/>
                  </a:lnTo>
                  <a:lnTo>
                    <a:pt x="3085" y="1044"/>
                  </a:lnTo>
                  <a:lnTo>
                    <a:pt x="3091" y="1044"/>
                  </a:lnTo>
                  <a:lnTo>
                    <a:pt x="3097" y="1044"/>
                  </a:lnTo>
                  <a:lnTo>
                    <a:pt x="3103" y="1044"/>
                  </a:lnTo>
                  <a:lnTo>
                    <a:pt x="3109" y="1044"/>
                  </a:lnTo>
                  <a:lnTo>
                    <a:pt x="3115" y="1044"/>
                  </a:lnTo>
                  <a:lnTo>
                    <a:pt x="3121" y="1044"/>
                  </a:lnTo>
                  <a:lnTo>
                    <a:pt x="3127" y="1044"/>
                  </a:lnTo>
                  <a:lnTo>
                    <a:pt x="3133" y="1044"/>
                  </a:lnTo>
                  <a:lnTo>
                    <a:pt x="3139" y="1044"/>
                  </a:lnTo>
                  <a:lnTo>
                    <a:pt x="3145" y="1044"/>
                  </a:lnTo>
                  <a:lnTo>
                    <a:pt x="3151" y="1044"/>
                  </a:lnTo>
                  <a:lnTo>
                    <a:pt x="3157" y="1044"/>
                  </a:lnTo>
                  <a:lnTo>
                    <a:pt x="3163" y="1044"/>
                  </a:lnTo>
                  <a:lnTo>
                    <a:pt x="3169" y="1044"/>
                  </a:lnTo>
                  <a:lnTo>
                    <a:pt x="3175" y="1044"/>
                  </a:lnTo>
                  <a:lnTo>
                    <a:pt x="3181" y="1044"/>
                  </a:lnTo>
                  <a:lnTo>
                    <a:pt x="3187" y="1044"/>
                  </a:lnTo>
                  <a:lnTo>
                    <a:pt x="3193" y="1044"/>
                  </a:lnTo>
                  <a:lnTo>
                    <a:pt x="3199" y="1044"/>
                  </a:lnTo>
                  <a:lnTo>
                    <a:pt x="3205" y="1044"/>
                  </a:lnTo>
                  <a:lnTo>
                    <a:pt x="3211" y="1044"/>
                  </a:lnTo>
                  <a:lnTo>
                    <a:pt x="3217" y="1044"/>
                  </a:lnTo>
                  <a:lnTo>
                    <a:pt x="3223" y="1044"/>
                  </a:lnTo>
                  <a:lnTo>
                    <a:pt x="3229" y="1044"/>
                  </a:lnTo>
                  <a:lnTo>
                    <a:pt x="3229" y="1044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6200000">
              <a:off x="1216080" y="3524760"/>
              <a:ext cx="84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Times New Roman"/>
                </a:rPr>
                <a:t></a:t>
              </a:r>
              <a:r>
                <a:rPr b="0" lang="en-US" sz="1400" spc="-1" strike="noStrike" baseline="-25000">
                  <a:solidFill>
                    <a:srgbClr val="ff3300"/>
                  </a:solidFill>
                  <a:latin typeface="Times New Roman"/>
                </a:rPr>
                <a:t>v</a:t>
              </a:r>
              <a:r>
                <a:rPr b="0" lang="en-US" sz="1400" spc="-1" strike="noStrike">
                  <a:solidFill>
                    <a:srgbClr val="ff3300"/>
                  </a:solidFill>
                  <a:latin typeface="Times New Roman"/>
                </a:rPr>
                <a:t> = -0.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74556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5524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5844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7280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31800" y="4343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0620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1120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1908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02876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3196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7800" y="3225960"/>
            <a:ext cx="4060800" cy="11174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98840" y="221940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85720" y="4334040"/>
            <a:ext cx="406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7680" y="170352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680" y="1484280"/>
            <a:ext cx="412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981000" y="1446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02880" y="1522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80972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31600" y="1522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639880" y="1446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38080" y="1522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45924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17480" y="1522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428796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46200" y="1522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2360" y="145260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22360" y="145260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90920" y="112860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  <a:lnTo>
                  <a:pt x="1296" y="20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90920" y="112860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</a:path>
            </a:pathLst>
          </a:custGeom>
          <a:solidFill>
            <a:srgbClr val="00cc99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2387160" y="515880"/>
            <a:ext cx="274320" cy="1865520"/>
            <a:chOff x="2387160" y="515880"/>
            <a:chExt cx="274320" cy="1865520"/>
          </a:xfrm>
        </p:grpSpPr>
        <p:sp>
          <p:nvSpPr>
            <p:cNvPr id="507" name=""/>
            <p:cNvSpPr/>
            <p:nvPr/>
          </p:nvSpPr>
          <p:spPr>
            <a:xfrm>
              <a:off x="2552760" y="96336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06240" y="860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52760" y="6537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406240" y="550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2570400" y="234756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2592720" y="149868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590560" y="16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570400" y="2169720"/>
              <a:ext cx="381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87160" y="2063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570400" y="185400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87160" y="17496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570400" y="15516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92280" y="144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570400" y="123552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423880" y="1130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570400" y="919440"/>
              <a:ext cx="381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94160" y="515880"/>
              <a:ext cx="0" cy="186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1332000" y="2995560"/>
            <a:ext cx="14810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820960" y="2604960"/>
            <a:ext cx="1262160" cy="733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 0 shift with negative chromati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809720" y="293760"/>
            <a:ext cx="1440" cy="47624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85720" y="3225960"/>
            <a:ext cx="3979800" cy="1117440"/>
            <a:chOff x="585720" y="3225960"/>
            <a:chExt cx="3979800" cy="1117440"/>
          </a:xfrm>
        </p:grpSpPr>
        <p:sp>
          <p:nvSpPr>
            <p:cNvPr id="528" name=""/>
            <p:cNvSpPr/>
            <p:nvPr/>
          </p:nvSpPr>
          <p:spPr>
            <a:xfrm>
              <a:off x="585720" y="3225960"/>
              <a:ext cx="3979800" cy="1117440"/>
            </a:xfrm>
            <a:custGeom>
              <a:avLst/>
              <a:gdLst/>
              <a:ahLst/>
              <a:rect l="l" t="t" r="r" b="b"/>
              <a:pathLst>
                <a:path w="3547" h="1212">
                  <a:moveTo>
                    <a:pt x="0" y="1212"/>
                  </a:moveTo>
                  <a:lnTo>
                    <a:pt x="0" y="1212"/>
                  </a:lnTo>
                  <a:lnTo>
                    <a:pt x="6" y="1212"/>
                  </a:lnTo>
                  <a:lnTo>
                    <a:pt x="12" y="1212"/>
                  </a:lnTo>
                  <a:lnTo>
                    <a:pt x="18" y="1212"/>
                  </a:lnTo>
                  <a:lnTo>
                    <a:pt x="24" y="1212"/>
                  </a:lnTo>
                  <a:lnTo>
                    <a:pt x="30" y="1212"/>
                  </a:lnTo>
                  <a:lnTo>
                    <a:pt x="36" y="1212"/>
                  </a:lnTo>
                  <a:lnTo>
                    <a:pt x="42" y="1212"/>
                  </a:lnTo>
                  <a:lnTo>
                    <a:pt x="48" y="1212"/>
                  </a:lnTo>
                  <a:lnTo>
                    <a:pt x="54" y="1212"/>
                  </a:lnTo>
                  <a:lnTo>
                    <a:pt x="60" y="1212"/>
                  </a:lnTo>
                  <a:lnTo>
                    <a:pt x="66" y="1212"/>
                  </a:lnTo>
                  <a:lnTo>
                    <a:pt x="72" y="1212"/>
                  </a:lnTo>
                  <a:lnTo>
                    <a:pt x="78" y="1212"/>
                  </a:lnTo>
                  <a:lnTo>
                    <a:pt x="84" y="1212"/>
                  </a:lnTo>
                  <a:lnTo>
                    <a:pt x="90" y="1212"/>
                  </a:lnTo>
                  <a:lnTo>
                    <a:pt x="96" y="1212"/>
                  </a:lnTo>
                  <a:lnTo>
                    <a:pt x="102" y="1212"/>
                  </a:lnTo>
                  <a:lnTo>
                    <a:pt x="108" y="1212"/>
                  </a:lnTo>
                  <a:lnTo>
                    <a:pt x="114" y="1212"/>
                  </a:lnTo>
                  <a:lnTo>
                    <a:pt x="120" y="1212"/>
                  </a:lnTo>
                  <a:lnTo>
                    <a:pt x="126" y="1212"/>
                  </a:lnTo>
                  <a:lnTo>
                    <a:pt x="132" y="1212"/>
                  </a:lnTo>
                  <a:lnTo>
                    <a:pt x="138" y="1212"/>
                  </a:lnTo>
                  <a:lnTo>
                    <a:pt x="144" y="1212"/>
                  </a:lnTo>
                  <a:lnTo>
                    <a:pt x="150" y="1212"/>
                  </a:lnTo>
                  <a:lnTo>
                    <a:pt x="156" y="1212"/>
                  </a:lnTo>
                  <a:lnTo>
                    <a:pt x="162" y="1212"/>
                  </a:lnTo>
                  <a:lnTo>
                    <a:pt x="168" y="1212"/>
                  </a:lnTo>
                  <a:lnTo>
                    <a:pt x="174" y="1212"/>
                  </a:lnTo>
                  <a:lnTo>
                    <a:pt x="180" y="1212"/>
                  </a:lnTo>
                  <a:lnTo>
                    <a:pt x="186" y="1212"/>
                  </a:lnTo>
                  <a:lnTo>
                    <a:pt x="192" y="1212"/>
                  </a:lnTo>
                  <a:lnTo>
                    <a:pt x="198" y="1212"/>
                  </a:lnTo>
                  <a:lnTo>
                    <a:pt x="204" y="1212"/>
                  </a:lnTo>
                  <a:lnTo>
                    <a:pt x="210" y="1212"/>
                  </a:lnTo>
                  <a:lnTo>
                    <a:pt x="216" y="1212"/>
                  </a:lnTo>
                  <a:lnTo>
                    <a:pt x="222" y="1212"/>
                  </a:lnTo>
                  <a:lnTo>
                    <a:pt x="228" y="1212"/>
                  </a:lnTo>
                  <a:lnTo>
                    <a:pt x="234" y="1212"/>
                  </a:lnTo>
                  <a:lnTo>
                    <a:pt x="240" y="1212"/>
                  </a:lnTo>
                  <a:lnTo>
                    <a:pt x="246" y="1212"/>
                  </a:lnTo>
                  <a:lnTo>
                    <a:pt x="252" y="1212"/>
                  </a:lnTo>
                  <a:lnTo>
                    <a:pt x="258" y="1212"/>
                  </a:lnTo>
                  <a:lnTo>
                    <a:pt x="264" y="1212"/>
                  </a:lnTo>
                  <a:lnTo>
                    <a:pt x="270" y="1212"/>
                  </a:lnTo>
                  <a:lnTo>
                    <a:pt x="276" y="1212"/>
                  </a:lnTo>
                  <a:lnTo>
                    <a:pt x="282" y="1212"/>
                  </a:lnTo>
                  <a:lnTo>
                    <a:pt x="288" y="1212"/>
                  </a:lnTo>
                  <a:lnTo>
                    <a:pt x="294" y="1212"/>
                  </a:lnTo>
                  <a:lnTo>
                    <a:pt x="300" y="1212"/>
                  </a:lnTo>
                  <a:lnTo>
                    <a:pt x="306" y="1212"/>
                  </a:lnTo>
                  <a:lnTo>
                    <a:pt x="312" y="1212"/>
                  </a:lnTo>
                  <a:lnTo>
                    <a:pt x="318" y="1212"/>
                  </a:lnTo>
                  <a:lnTo>
                    <a:pt x="324" y="1212"/>
                  </a:lnTo>
                  <a:lnTo>
                    <a:pt x="330" y="1212"/>
                  </a:lnTo>
                  <a:lnTo>
                    <a:pt x="336" y="1212"/>
                  </a:lnTo>
                  <a:lnTo>
                    <a:pt x="342" y="1212"/>
                  </a:lnTo>
                  <a:lnTo>
                    <a:pt x="348" y="1212"/>
                  </a:lnTo>
                  <a:lnTo>
                    <a:pt x="354" y="1212"/>
                  </a:lnTo>
                  <a:lnTo>
                    <a:pt x="360" y="1212"/>
                  </a:lnTo>
                  <a:lnTo>
                    <a:pt x="366" y="1212"/>
                  </a:lnTo>
                  <a:lnTo>
                    <a:pt x="372" y="1212"/>
                  </a:lnTo>
                  <a:lnTo>
                    <a:pt x="378" y="1212"/>
                  </a:lnTo>
                  <a:lnTo>
                    <a:pt x="384" y="1212"/>
                  </a:lnTo>
                  <a:lnTo>
                    <a:pt x="390" y="1212"/>
                  </a:lnTo>
                  <a:lnTo>
                    <a:pt x="396" y="1212"/>
                  </a:lnTo>
                  <a:lnTo>
                    <a:pt x="402" y="1212"/>
                  </a:lnTo>
                  <a:lnTo>
                    <a:pt x="408" y="1212"/>
                  </a:lnTo>
                  <a:lnTo>
                    <a:pt x="414" y="1212"/>
                  </a:lnTo>
                  <a:lnTo>
                    <a:pt x="420" y="1212"/>
                  </a:lnTo>
                  <a:lnTo>
                    <a:pt x="426" y="1212"/>
                  </a:lnTo>
                  <a:lnTo>
                    <a:pt x="432" y="1212"/>
                  </a:lnTo>
                  <a:lnTo>
                    <a:pt x="438" y="1212"/>
                  </a:lnTo>
                  <a:lnTo>
                    <a:pt x="444" y="1212"/>
                  </a:lnTo>
                  <a:lnTo>
                    <a:pt x="450" y="1212"/>
                  </a:lnTo>
                  <a:lnTo>
                    <a:pt x="456" y="1212"/>
                  </a:lnTo>
                  <a:lnTo>
                    <a:pt x="462" y="1212"/>
                  </a:lnTo>
                  <a:lnTo>
                    <a:pt x="468" y="1212"/>
                  </a:lnTo>
                  <a:lnTo>
                    <a:pt x="474" y="1212"/>
                  </a:lnTo>
                  <a:lnTo>
                    <a:pt x="480" y="1212"/>
                  </a:lnTo>
                  <a:lnTo>
                    <a:pt x="486" y="1212"/>
                  </a:lnTo>
                  <a:lnTo>
                    <a:pt x="492" y="1212"/>
                  </a:lnTo>
                  <a:lnTo>
                    <a:pt x="498" y="1212"/>
                  </a:lnTo>
                  <a:lnTo>
                    <a:pt x="504" y="1212"/>
                  </a:lnTo>
                  <a:lnTo>
                    <a:pt x="510" y="1212"/>
                  </a:lnTo>
                  <a:lnTo>
                    <a:pt x="516" y="1212"/>
                  </a:lnTo>
                  <a:lnTo>
                    <a:pt x="522" y="1212"/>
                  </a:lnTo>
                  <a:lnTo>
                    <a:pt x="528" y="1212"/>
                  </a:lnTo>
                  <a:lnTo>
                    <a:pt x="534" y="1212"/>
                  </a:lnTo>
                  <a:lnTo>
                    <a:pt x="540" y="1212"/>
                  </a:lnTo>
                  <a:lnTo>
                    <a:pt x="546" y="1212"/>
                  </a:lnTo>
                  <a:lnTo>
                    <a:pt x="552" y="1212"/>
                  </a:lnTo>
                  <a:lnTo>
                    <a:pt x="558" y="1212"/>
                  </a:lnTo>
                  <a:lnTo>
                    <a:pt x="564" y="1212"/>
                  </a:lnTo>
                  <a:lnTo>
                    <a:pt x="570" y="1212"/>
                  </a:lnTo>
                  <a:lnTo>
                    <a:pt x="576" y="1212"/>
                  </a:lnTo>
                  <a:lnTo>
                    <a:pt x="582" y="1212"/>
                  </a:lnTo>
                  <a:lnTo>
                    <a:pt x="588" y="1212"/>
                  </a:lnTo>
                  <a:lnTo>
                    <a:pt x="594" y="1206"/>
                  </a:lnTo>
                  <a:lnTo>
                    <a:pt x="600" y="1206"/>
                  </a:lnTo>
                  <a:lnTo>
                    <a:pt x="606" y="1206"/>
                  </a:lnTo>
                  <a:lnTo>
                    <a:pt x="612" y="1206"/>
                  </a:lnTo>
                  <a:lnTo>
                    <a:pt x="618" y="1206"/>
                  </a:lnTo>
                  <a:lnTo>
                    <a:pt x="624" y="1206"/>
                  </a:lnTo>
                  <a:lnTo>
                    <a:pt x="630" y="1206"/>
                  </a:lnTo>
                  <a:lnTo>
                    <a:pt x="636" y="1206"/>
                  </a:lnTo>
                  <a:lnTo>
                    <a:pt x="642" y="1206"/>
                  </a:lnTo>
                  <a:lnTo>
                    <a:pt x="648" y="1206"/>
                  </a:lnTo>
                  <a:lnTo>
                    <a:pt x="654" y="1206"/>
                  </a:lnTo>
                  <a:lnTo>
                    <a:pt x="660" y="1206"/>
                  </a:lnTo>
                  <a:lnTo>
                    <a:pt x="666" y="1200"/>
                  </a:lnTo>
                  <a:lnTo>
                    <a:pt x="672" y="1200"/>
                  </a:lnTo>
                  <a:lnTo>
                    <a:pt x="678" y="1200"/>
                  </a:lnTo>
                  <a:lnTo>
                    <a:pt x="684" y="1200"/>
                  </a:lnTo>
                  <a:lnTo>
                    <a:pt x="690" y="1200"/>
                  </a:lnTo>
                  <a:lnTo>
                    <a:pt x="696" y="1194"/>
                  </a:lnTo>
                  <a:lnTo>
                    <a:pt x="702" y="1194"/>
                  </a:lnTo>
                  <a:lnTo>
                    <a:pt x="708" y="1194"/>
                  </a:lnTo>
                  <a:lnTo>
                    <a:pt x="714" y="1194"/>
                  </a:lnTo>
                  <a:lnTo>
                    <a:pt x="720" y="1188"/>
                  </a:lnTo>
                  <a:lnTo>
                    <a:pt x="726" y="1188"/>
                  </a:lnTo>
                  <a:lnTo>
                    <a:pt x="732" y="1188"/>
                  </a:lnTo>
                  <a:lnTo>
                    <a:pt x="738" y="1182"/>
                  </a:lnTo>
                  <a:lnTo>
                    <a:pt x="744" y="1182"/>
                  </a:lnTo>
                  <a:lnTo>
                    <a:pt x="750" y="1176"/>
                  </a:lnTo>
                  <a:lnTo>
                    <a:pt x="756" y="1176"/>
                  </a:lnTo>
                  <a:lnTo>
                    <a:pt x="762" y="1176"/>
                  </a:lnTo>
                  <a:lnTo>
                    <a:pt x="768" y="1170"/>
                  </a:lnTo>
                  <a:lnTo>
                    <a:pt x="774" y="1164"/>
                  </a:lnTo>
                  <a:lnTo>
                    <a:pt x="780" y="1164"/>
                  </a:lnTo>
                  <a:lnTo>
                    <a:pt x="786" y="1158"/>
                  </a:lnTo>
                  <a:lnTo>
                    <a:pt x="792" y="1152"/>
                  </a:lnTo>
                  <a:lnTo>
                    <a:pt x="798" y="1152"/>
                  </a:lnTo>
                  <a:lnTo>
                    <a:pt x="804" y="1146"/>
                  </a:lnTo>
                  <a:lnTo>
                    <a:pt x="810" y="1140"/>
                  </a:lnTo>
                  <a:lnTo>
                    <a:pt x="816" y="1134"/>
                  </a:lnTo>
                  <a:lnTo>
                    <a:pt x="822" y="1128"/>
                  </a:lnTo>
                  <a:lnTo>
                    <a:pt x="828" y="1122"/>
                  </a:lnTo>
                  <a:lnTo>
                    <a:pt x="834" y="1116"/>
                  </a:lnTo>
                  <a:lnTo>
                    <a:pt x="840" y="1110"/>
                  </a:lnTo>
                  <a:lnTo>
                    <a:pt x="846" y="1104"/>
                  </a:lnTo>
                  <a:lnTo>
                    <a:pt x="852" y="1098"/>
                  </a:lnTo>
                  <a:lnTo>
                    <a:pt x="858" y="1092"/>
                  </a:lnTo>
                  <a:lnTo>
                    <a:pt x="864" y="1086"/>
                  </a:lnTo>
                  <a:lnTo>
                    <a:pt x="864" y="1080"/>
                  </a:lnTo>
                  <a:lnTo>
                    <a:pt x="870" y="1074"/>
                  </a:lnTo>
                  <a:lnTo>
                    <a:pt x="876" y="1068"/>
                  </a:lnTo>
                  <a:lnTo>
                    <a:pt x="882" y="1062"/>
                  </a:lnTo>
                  <a:lnTo>
                    <a:pt x="882" y="1056"/>
                  </a:lnTo>
                  <a:lnTo>
                    <a:pt x="888" y="1050"/>
                  </a:lnTo>
                  <a:lnTo>
                    <a:pt x="888" y="1044"/>
                  </a:lnTo>
                  <a:lnTo>
                    <a:pt x="894" y="1038"/>
                  </a:lnTo>
                  <a:lnTo>
                    <a:pt x="900" y="1032"/>
                  </a:lnTo>
                  <a:lnTo>
                    <a:pt x="900" y="1026"/>
                  </a:lnTo>
                  <a:lnTo>
                    <a:pt x="906" y="1020"/>
                  </a:lnTo>
                  <a:lnTo>
                    <a:pt x="906" y="1008"/>
                  </a:lnTo>
                  <a:lnTo>
                    <a:pt x="912" y="1002"/>
                  </a:lnTo>
                  <a:lnTo>
                    <a:pt x="912" y="996"/>
                  </a:lnTo>
                  <a:lnTo>
                    <a:pt x="918" y="990"/>
                  </a:lnTo>
                  <a:lnTo>
                    <a:pt x="924" y="984"/>
                  </a:lnTo>
                  <a:lnTo>
                    <a:pt x="924" y="972"/>
                  </a:lnTo>
                  <a:lnTo>
                    <a:pt x="930" y="966"/>
                  </a:lnTo>
                  <a:lnTo>
                    <a:pt x="930" y="960"/>
                  </a:lnTo>
                  <a:lnTo>
                    <a:pt x="936" y="954"/>
                  </a:lnTo>
                  <a:lnTo>
                    <a:pt x="942" y="942"/>
                  </a:lnTo>
                  <a:lnTo>
                    <a:pt x="942" y="936"/>
                  </a:lnTo>
                  <a:lnTo>
                    <a:pt x="948" y="924"/>
                  </a:lnTo>
                  <a:lnTo>
                    <a:pt x="948" y="918"/>
                  </a:lnTo>
                  <a:lnTo>
                    <a:pt x="954" y="906"/>
                  </a:lnTo>
                  <a:lnTo>
                    <a:pt x="960" y="900"/>
                  </a:lnTo>
                  <a:lnTo>
                    <a:pt x="960" y="888"/>
                  </a:lnTo>
                  <a:lnTo>
                    <a:pt x="966" y="882"/>
                  </a:lnTo>
                  <a:lnTo>
                    <a:pt x="966" y="870"/>
                  </a:lnTo>
                  <a:lnTo>
                    <a:pt x="972" y="864"/>
                  </a:lnTo>
                  <a:lnTo>
                    <a:pt x="978" y="852"/>
                  </a:lnTo>
                  <a:lnTo>
                    <a:pt x="978" y="840"/>
                  </a:lnTo>
                  <a:lnTo>
                    <a:pt x="984" y="834"/>
                  </a:lnTo>
                  <a:lnTo>
                    <a:pt x="984" y="822"/>
                  </a:lnTo>
                  <a:lnTo>
                    <a:pt x="990" y="810"/>
                  </a:lnTo>
                  <a:lnTo>
                    <a:pt x="990" y="798"/>
                  </a:lnTo>
                  <a:lnTo>
                    <a:pt x="996" y="786"/>
                  </a:lnTo>
                  <a:lnTo>
                    <a:pt x="1002" y="780"/>
                  </a:lnTo>
                  <a:lnTo>
                    <a:pt x="1002" y="768"/>
                  </a:lnTo>
                  <a:lnTo>
                    <a:pt x="1008" y="756"/>
                  </a:lnTo>
                  <a:lnTo>
                    <a:pt x="1008" y="744"/>
                  </a:lnTo>
                  <a:lnTo>
                    <a:pt x="1014" y="732"/>
                  </a:lnTo>
                  <a:lnTo>
                    <a:pt x="1020" y="720"/>
                  </a:lnTo>
                  <a:lnTo>
                    <a:pt x="1020" y="708"/>
                  </a:lnTo>
                  <a:lnTo>
                    <a:pt x="1026" y="696"/>
                  </a:lnTo>
                  <a:lnTo>
                    <a:pt x="1026" y="684"/>
                  </a:lnTo>
                  <a:lnTo>
                    <a:pt x="1032" y="672"/>
                  </a:lnTo>
                  <a:lnTo>
                    <a:pt x="1038" y="660"/>
                  </a:lnTo>
                  <a:lnTo>
                    <a:pt x="1038" y="648"/>
                  </a:lnTo>
                  <a:lnTo>
                    <a:pt x="1044" y="636"/>
                  </a:lnTo>
                  <a:lnTo>
                    <a:pt x="1044" y="624"/>
                  </a:lnTo>
                  <a:lnTo>
                    <a:pt x="1050" y="612"/>
                  </a:lnTo>
                  <a:lnTo>
                    <a:pt x="1056" y="600"/>
                  </a:lnTo>
                  <a:lnTo>
                    <a:pt x="1056" y="588"/>
                  </a:lnTo>
                  <a:lnTo>
                    <a:pt x="1062" y="570"/>
                  </a:lnTo>
                  <a:lnTo>
                    <a:pt x="1062" y="558"/>
                  </a:lnTo>
                  <a:lnTo>
                    <a:pt x="1068" y="546"/>
                  </a:lnTo>
                  <a:lnTo>
                    <a:pt x="1068" y="534"/>
                  </a:lnTo>
                  <a:lnTo>
                    <a:pt x="1074" y="522"/>
                  </a:lnTo>
                  <a:lnTo>
                    <a:pt x="1080" y="510"/>
                  </a:lnTo>
                  <a:lnTo>
                    <a:pt x="1080" y="498"/>
                  </a:lnTo>
                  <a:lnTo>
                    <a:pt x="1086" y="480"/>
                  </a:lnTo>
                  <a:lnTo>
                    <a:pt x="1086" y="468"/>
                  </a:lnTo>
                  <a:lnTo>
                    <a:pt x="1092" y="456"/>
                  </a:lnTo>
                  <a:lnTo>
                    <a:pt x="1098" y="444"/>
                  </a:lnTo>
                  <a:lnTo>
                    <a:pt x="1098" y="432"/>
                  </a:lnTo>
                  <a:lnTo>
                    <a:pt x="1104" y="414"/>
                  </a:lnTo>
                  <a:lnTo>
                    <a:pt x="1104" y="402"/>
                  </a:lnTo>
                  <a:lnTo>
                    <a:pt x="1110" y="390"/>
                  </a:lnTo>
                  <a:lnTo>
                    <a:pt x="1116" y="378"/>
                  </a:lnTo>
                  <a:lnTo>
                    <a:pt x="1116" y="366"/>
                  </a:lnTo>
                  <a:lnTo>
                    <a:pt x="1122" y="354"/>
                  </a:lnTo>
                  <a:lnTo>
                    <a:pt x="1122" y="342"/>
                  </a:lnTo>
                  <a:lnTo>
                    <a:pt x="1128" y="330"/>
                  </a:lnTo>
                  <a:lnTo>
                    <a:pt x="1134" y="318"/>
                  </a:lnTo>
                  <a:lnTo>
                    <a:pt x="1134" y="300"/>
                  </a:lnTo>
                  <a:lnTo>
                    <a:pt x="1140" y="288"/>
                  </a:lnTo>
                  <a:lnTo>
                    <a:pt x="1140" y="276"/>
                  </a:lnTo>
                  <a:lnTo>
                    <a:pt x="1146" y="264"/>
                  </a:lnTo>
                  <a:lnTo>
                    <a:pt x="1146" y="252"/>
                  </a:lnTo>
                  <a:lnTo>
                    <a:pt x="1152" y="246"/>
                  </a:lnTo>
                  <a:lnTo>
                    <a:pt x="1158" y="234"/>
                  </a:lnTo>
                  <a:lnTo>
                    <a:pt x="1158" y="222"/>
                  </a:lnTo>
                  <a:lnTo>
                    <a:pt x="1164" y="210"/>
                  </a:lnTo>
                  <a:lnTo>
                    <a:pt x="1164" y="198"/>
                  </a:lnTo>
                  <a:lnTo>
                    <a:pt x="1170" y="186"/>
                  </a:lnTo>
                  <a:lnTo>
                    <a:pt x="1176" y="180"/>
                  </a:lnTo>
                  <a:lnTo>
                    <a:pt x="1176" y="168"/>
                  </a:lnTo>
                  <a:lnTo>
                    <a:pt x="1182" y="156"/>
                  </a:lnTo>
                  <a:lnTo>
                    <a:pt x="1182" y="150"/>
                  </a:lnTo>
                  <a:lnTo>
                    <a:pt x="1188" y="138"/>
                  </a:lnTo>
                  <a:lnTo>
                    <a:pt x="1194" y="126"/>
                  </a:lnTo>
                  <a:lnTo>
                    <a:pt x="1194" y="120"/>
                  </a:lnTo>
                  <a:lnTo>
                    <a:pt x="1200" y="114"/>
                  </a:lnTo>
                  <a:lnTo>
                    <a:pt x="1200" y="102"/>
                  </a:lnTo>
                  <a:lnTo>
                    <a:pt x="1206" y="96"/>
                  </a:lnTo>
                  <a:lnTo>
                    <a:pt x="1212" y="84"/>
                  </a:lnTo>
                  <a:lnTo>
                    <a:pt x="1212" y="78"/>
                  </a:lnTo>
                  <a:lnTo>
                    <a:pt x="1218" y="72"/>
                  </a:lnTo>
                  <a:lnTo>
                    <a:pt x="1218" y="66"/>
                  </a:lnTo>
                  <a:lnTo>
                    <a:pt x="1224" y="60"/>
                  </a:lnTo>
                  <a:lnTo>
                    <a:pt x="1224" y="54"/>
                  </a:lnTo>
                  <a:lnTo>
                    <a:pt x="1230" y="48"/>
                  </a:lnTo>
                  <a:lnTo>
                    <a:pt x="1236" y="42"/>
                  </a:lnTo>
                  <a:lnTo>
                    <a:pt x="1236" y="36"/>
                  </a:lnTo>
                  <a:lnTo>
                    <a:pt x="1242" y="30"/>
                  </a:lnTo>
                  <a:lnTo>
                    <a:pt x="1248" y="24"/>
                  </a:lnTo>
                  <a:lnTo>
                    <a:pt x="1254" y="18"/>
                  </a:lnTo>
                  <a:lnTo>
                    <a:pt x="1260" y="12"/>
                  </a:lnTo>
                  <a:lnTo>
                    <a:pt x="1266" y="6"/>
                  </a:lnTo>
                  <a:lnTo>
                    <a:pt x="1272" y="0"/>
                  </a:lnTo>
                  <a:lnTo>
                    <a:pt x="1278" y="0"/>
                  </a:lnTo>
                  <a:lnTo>
                    <a:pt x="1284" y="0"/>
                  </a:lnTo>
                  <a:lnTo>
                    <a:pt x="1290" y="0"/>
                  </a:lnTo>
                  <a:lnTo>
                    <a:pt x="1296" y="0"/>
                  </a:lnTo>
                  <a:lnTo>
                    <a:pt x="1302" y="6"/>
                  </a:lnTo>
                  <a:lnTo>
                    <a:pt x="1308" y="6"/>
                  </a:lnTo>
                  <a:lnTo>
                    <a:pt x="1314" y="12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32" y="30"/>
                  </a:lnTo>
                  <a:lnTo>
                    <a:pt x="1338" y="36"/>
                  </a:lnTo>
                  <a:lnTo>
                    <a:pt x="1338" y="42"/>
                  </a:lnTo>
                  <a:lnTo>
                    <a:pt x="1344" y="48"/>
                  </a:lnTo>
                  <a:lnTo>
                    <a:pt x="1350" y="54"/>
                  </a:lnTo>
                  <a:lnTo>
                    <a:pt x="1350" y="60"/>
                  </a:lnTo>
                  <a:lnTo>
                    <a:pt x="1356" y="72"/>
                  </a:lnTo>
                  <a:lnTo>
                    <a:pt x="1356" y="78"/>
                  </a:lnTo>
                  <a:lnTo>
                    <a:pt x="1362" y="84"/>
                  </a:lnTo>
                  <a:lnTo>
                    <a:pt x="1368" y="90"/>
                  </a:lnTo>
                  <a:lnTo>
                    <a:pt x="1368" y="102"/>
                  </a:lnTo>
                  <a:lnTo>
                    <a:pt x="1374" y="108"/>
                  </a:lnTo>
                  <a:lnTo>
                    <a:pt x="1374" y="114"/>
                  </a:lnTo>
                  <a:lnTo>
                    <a:pt x="1380" y="126"/>
                  </a:lnTo>
                  <a:lnTo>
                    <a:pt x="1380" y="132"/>
                  </a:lnTo>
                  <a:lnTo>
                    <a:pt x="1386" y="144"/>
                  </a:lnTo>
                  <a:lnTo>
                    <a:pt x="1392" y="156"/>
                  </a:lnTo>
                  <a:lnTo>
                    <a:pt x="1392" y="162"/>
                  </a:lnTo>
                  <a:lnTo>
                    <a:pt x="1398" y="174"/>
                  </a:lnTo>
                  <a:lnTo>
                    <a:pt x="1398" y="186"/>
                  </a:lnTo>
                  <a:lnTo>
                    <a:pt x="1404" y="192"/>
                  </a:lnTo>
                  <a:lnTo>
                    <a:pt x="1410" y="204"/>
                  </a:lnTo>
                  <a:lnTo>
                    <a:pt x="1410" y="216"/>
                  </a:lnTo>
                  <a:lnTo>
                    <a:pt x="1416" y="228"/>
                  </a:lnTo>
                  <a:lnTo>
                    <a:pt x="1416" y="240"/>
                  </a:lnTo>
                  <a:lnTo>
                    <a:pt x="1422" y="252"/>
                  </a:lnTo>
                  <a:lnTo>
                    <a:pt x="1428" y="264"/>
                  </a:lnTo>
                  <a:lnTo>
                    <a:pt x="1428" y="276"/>
                  </a:lnTo>
                  <a:lnTo>
                    <a:pt x="1434" y="288"/>
                  </a:lnTo>
                  <a:lnTo>
                    <a:pt x="1434" y="300"/>
                  </a:lnTo>
                  <a:lnTo>
                    <a:pt x="1440" y="312"/>
                  </a:lnTo>
                  <a:lnTo>
                    <a:pt x="1446" y="324"/>
                  </a:lnTo>
                  <a:lnTo>
                    <a:pt x="1446" y="336"/>
                  </a:lnTo>
                  <a:lnTo>
                    <a:pt x="1452" y="348"/>
                  </a:lnTo>
                  <a:lnTo>
                    <a:pt x="1452" y="360"/>
                  </a:lnTo>
                  <a:lnTo>
                    <a:pt x="1458" y="372"/>
                  </a:lnTo>
                  <a:lnTo>
                    <a:pt x="1458" y="384"/>
                  </a:lnTo>
                  <a:lnTo>
                    <a:pt x="1464" y="402"/>
                  </a:lnTo>
                  <a:lnTo>
                    <a:pt x="1470" y="414"/>
                  </a:lnTo>
                  <a:lnTo>
                    <a:pt x="1470" y="426"/>
                  </a:lnTo>
                  <a:lnTo>
                    <a:pt x="1476" y="438"/>
                  </a:lnTo>
                  <a:lnTo>
                    <a:pt x="1476" y="450"/>
                  </a:lnTo>
                  <a:lnTo>
                    <a:pt x="1482" y="462"/>
                  </a:lnTo>
                  <a:lnTo>
                    <a:pt x="1488" y="480"/>
                  </a:lnTo>
                  <a:lnTo>
                    <a:pt x="1488" y="492"/>
                  </a:lnTo>
                  <a:lnTo>
                    <a:pt x="1494" y="504"/>
                  </a:lnTo>
                  <a:lnTo>
                    <a:pt x="1494" y="516"/>
                  </a:lnTo>
                  <a:lnTo>
                    <a:pt x="1500" y="528"/>
                  </a:lnTo>
                  <a:lnTo>
                    <a:pt x="1506" y="540"/>
                  </a:lnTo>
                  <a:lnTo>
                    <a:pt x="1506" y="558"/>
                  </a:lnTo>
                  <a:lnTo>
                    <a:pt x="1512" y="570"/>
                  </a:lnTo>
                  <a:lnTo>
                    <a:pt x="1512" y="582"/>
                  </a:lnTo>
                  <a:lnTo>
                    <a:pt x="1518" y="594"/>
                  </a:lnTo>
                  <a:lnTo>
                    <a:pt x="1524" y="606"/>
                  </a:lnTo>
                  <a:lnTo>
                    <a:pt x="1524" y="618"/>
                  </a:lnTo>
                  <a:lnTo>
                    <a:pt x="1530" y="630"/>
                  </a:lnTo>
                  <a:lnTo>
                    <a:pt x="1530" y="642"/>
                  </a:lnTo>
                  <a:lnTo>
                    <a:pt x="1536" y="654"/>
                  </a:lnTo>
                  <a:lnTo>
                    <a:pt x="1536" y="666"/>
                  </a:lnTo>
                  <a:lnTo>
                    <a:pt x="1542" y="684"/>
                  </a:lnTo>
                  <a:lnTo>
                    <a:pt x="1548" y="696"/>
                  </a:lnTo>
                  <a:lnTo>
                    <a:pt x="1548" y="708"/>
                  </a:lnTo>
                  <a:lnTo>
                    <a:pt x="1555" y="714"/>
                  </a:lnTo>
                  <a:lnTo>
                    <a:pt x="1555" y="726"/>
                  </a:lnTo>
                  <a:lnTo>
                    <a:pt x="1561" y="738"/>
                  </a:lnTo>
                  <a:lnTo>
                    <a:pt x="1567" y="750"/>
                  </a:lnTo>
                  <a:lnTo>
                    <a:pt x="1567" y="762"/>
                  </a:lnTo>
                  <a:lnTo>
                    <a:pt x="1573" y="774"/>
                  </a:lnTo>
                  <a:lnTo>
                    <a:pt x="1573" y="786"/>
                  </a:lnTo>
                  <a:lnTo>
                    <a:pt x="1579" y="798"/>
                  </a:lnTo>
                  <a:lnTo>
                    <a:pt x="1585" y="804"/>
                  </a:lnTo>
                  <a:lnTo>
                    <a:pt x="1585" y="816"/>
                  </a:lnTo>
                  <a:lnTo>
                    <a:pt x="1591" y="828"/>
                  </a:lnTo>
                  <a:lnTo>
                    <a:pt x="1591" y="840"/>
                  </a:lnTo>
                  <a:lnTo>
                    <a:pt x="1597" y="846"/>
                  </a:lnTo>
                  <a:lnTo>
                    <a:pt x="1603" y="858"/>
                  </a:lnTo>
                  <a:lnTo>
                    <a:pt x="1603" y="870"/>
                  </a:lnTo>
                  <a:lnTo>
                    <a:pt x="1609" y="876"/>
                  </a:lnTo>
                  <a:lnTo>
                    <a:pt x="1609" y="888"/>
                  </a:lnTo>
                  <a:lnTo>
                    <a:pt x="1615" y="894"/>
                  </a:lnTo>
                  <a:lnTo>
                    <a:pt x="1615" y="906"/>
                  </a:lnTo>
                  <a:lnTo>
                    <a:pt x="1621" y="912"/>
                  </a:lnTo>
                  <a:lnTo>
                    <a:pt x="1627" y="924"/>
                  </a:lnTo>
                  <a:lnTo>
                    <a:pt x="1627" y="930"/>
                  </a:lnTo>
                  <a:lnTo>
                    <a:pt x="1633" y="942"/>
                  </a:lnTo>
                  <a:lnTo>
                    <a:pt x="1633" y="948"/>
                  </a:lnTo>
                  <a:lnTo>
                    <a:pt x="1639" y="954"/>
                  </a:lnTo>
                  <a:lnTo>
                    <a:pt x="1645" y="966"/>
                  </a:lnTo>
                  <a:lnTo>
                    <a:pt x="1645" y="972"/>
                  </a:lnTo>
                  <a:lnTo>
                    <a:pt x="1651" y="978"/>
                  </a:lnTo>
                  <a:lnTo>
                    <a:pt x="1651" y="990"/>
                  </a:lnTo>
                  <a:lnTo>
                    <a:pt x="1657" y="996"/>
                  </a:lnTo>
                  <a:lnTo>
                    <a:pt x="1663" y="1002"/>
                  </a:lnTo>
                  <a:lnTo>
                    <a:pt x="1663" y="1008"/>
                  </a:lnTo>
                  <a:lnTo>
                    <a:pt x="1669" y="1014"/>
                  </a:lnTo>
                  <a:lnTo>
                    <a:pt x="1669" y="1020"/>
                  </a:lnTo>
                  <a:lnTo>
                    <a:pt x="1675" y="1026"/>
                  </a:lnTo>
                  <a:lnTo>
                    <a:pt x="1681" y="1032"/>
                  </a:lnTo>
                  <a:lnTo>
                    <a:pt x="1681" y="1038"/>
                  </a:lnTo>
                  <a:lnTo>
                    <a:pt x="1687" y="1044"/>
                  </a:lnTo>
                  <a:lnTo>
                    <a:pt x="1687" y="1050"/>
                  </a:lnTo>
                  <a:lnTo>
                    <a:pt x="1693" y="1056"/>
                  </a:lnTo>
                  <a:lnTo>
                    <a:pt x="1693" y="1062"/>
                  </a:lnTo>
                  <a:lnTo>
                    <a:pt x="1699" y="1068"/>
                  </a:lnTo>
                  <a:lnTo>
                    <a:pt x="1705" y="1074"/>
                  </a:lnTo>
                  <a:lnTo>
                    <a:pt x="1705" y="1080"/>
                  </a:lnTo>
                  <a:lnTo>
                    <a:pt x="1711" y="1086"/>
                  </a:lnTo>
                  <a:lnTo>
                    <a:pt x="1717" y="1092"/>
                  </a:lnTo>
                  <a:lnTo>
                    <a:pt x="1723" y="1098"/>
                  </a:lnTo>
                  <a:lnTo>
                    <a:pt x="1729" y="1104"/>
                  </a:lnTo>
                  <a:lnTo>
                    <a:pt x="1729" y="1110"/>
                  </a:lnTo>
                  <a:lnTo>
                    <a:pt x="1735" y="1116"/>
                  </a:lnTo>
                  <a:lnTo>
                    <a:pt x="1741" y="1122"/>
                  </a:lnTo>
                  <a:lnTo>
                    <a:pt x="1747" y="1128"/>
                  </a:lnTo>
                  <a:lnTo>
                    <a:pt x="1753" y="1134"/>
                  </a:lnTo>
                  <a:lnTo>
                    <a:pt x="1759" y="1140"/>
                  </a:lnTo>
                  <a:lnTo>
                    <a:pt x="1765" y="1146"/>
                  </a:lnTo>
                  <a:lnTo>
                    <a:pt x="1771" y="1146"/>
                  </a:lnTo>
                  <a:lnTo>
                    <a:pt x="1777" y="1152"/>
                  </a:lnTo>
                  <a:lnTo>
                    <a:pt x="1783" y="1158"/>
                  </a:lnTo>
                  <a:lnTo>
                    <a:pt x="1789" y="1164"/>
                  </a:lnTo>
                  <a:lnTo>
                    <a:pt x="1795" y="1164"/>
                  </a:lnTo>
                  <a:lnTo>
                    <a:pt x="1801" y="1170"/>
                  </a:lnTo>
                  <a:lnTo>
                    <a:pt x="1807" y="1170"/>
                  </a:lnTo>
                  <a:lnTo>
                    <a:pt x="1813" y="1176"/>
                  </a:lnTo>
                  <a:lnTo>
                    <a:pt x="1819" y="1176"/>
                  </a:lnTo>
                  <a:lnTo>
                    <a:pt x="1825" y="1182"/>
                  </a:lnTo>
                  <a:lnTo>
                    <a:pt x="1831" y="1182"/>
                  </a:lnTo>
                  <a:lnTo>
                    <a:pt x="1837" y="1188"/>
                  </a:lnTo>
                  <a:lnTo>
                    <a:pt x="1843" y="1188"/>
                  </a:lnTo>
                  <a:lnTo>
                    <a:pt x="1849" y="1188"/>
                  </a:lnTo>
                  <a:lnTo>
                    <a:pt x="1855" y="1188"/>
                  </a:lnTo>
                  <a:lnTo>
                    <a:pt x="1861" y="1194"/>
                  </a:lnTo>
                  <a:lnTo>
                    <a:pt x="1867" y="1194"/>
                  </a:lnTo>
                  <a:lnTo>
                    <a:pt x="1873" y="1194"/>
                  </a:lnTo>
                  <a:lnTo>
                    <a:pt x="1879" y="1200"/>
                  </a:lnTo>
                  <a:lnTo>
                    <a:pt x="1885" y="1200"/>
                  </a:lnTo>
                  <a:lnTo>
                    <a:pt x="1891" y="1200"/>
                  </a:lnTo>
                  <a:lnTo>
                    <a:pt x="1897" y="1200"/>
                  </a:lnTo>
                  <a:lnTo>
                    <a:pt x="1903" y="1200"/>
                  </a:lnTo>
                  <a:lnTo>
                    <a:pt x="1909" y="1200"/>
                  </a:lnTo>
                  <a:lnTo>
                    <a:pt x="1915" y="1206"/>
                  </a:lnTo>
                  <a:lnTo>
                    <a:pt x="1921" y="1206"/>
                  </a:lnTo>
                  <a:lnTo>
                    <a:pt x="1927" y="1206"/>
                  </a:lnTo>
                  <a:lnTo>
                    <a:pt x="1933" y="1206"/>
                  </a:lnTo>
                  <a:lnTo>
                    <a:pt x="1939" y="1206"/>
                  </a:lnTo>
                  <a:lnTo>
                    <a:pt x="1945" y="1206"/>
                  </a:lnTo>
                  <a:lnTo>
                    <a:pt x="1951" y="1206"/>
                  </a:lnTo>
                  <a:lnTo>
                    <a:pt x="1957" y="1206"/>
                  </a:lnTo>
                  <a:lnTo>
                    <a:pt x="1963" y="1206"/>
                  </a:lnTo>
                  <a:lnTo>
                    <a:pt x="1969" y="1206"/>
                  </a:lnTo>
                  <a:lnTo>
                    <a:pt x="1975" y="1206"/>
                  </a:lnTo>
                  <a:lnTo>
                    <a:pt x="1981" y="1212"/>
                  </a:lnTo>
                  <a:lnTo>
                    <a:pt x="1987" y="1212"/>
                  </a:lnTo>
                  <a:lnTo>
                    <a:pt x="1993" y="1212"/>
                  </a:lnTo>
                  <a:lnTo>
                    <a:pt x="1999" y="1212"/>
                  </a:lnTo>
                  <a:lnTo>
                    <a:pt x="2005" y="1212"/>
                  </a:lnTo>
                  <a:lnTo>
                    <a:pt x="2011" y="1212"/>
                  </a:lnTo>
                  <a:lnTo>
                    <a:pt x="2017" y="1212"/>
                  </a:lnTo>
                  <a:lnTo>
                    <a:pt x="2023" y="1212"/>
                  </a:lnTo>
                  <a:lnTo>
                    <a:pt x="2029" y="1212"/>
                  </a:lnTo>
                  <a:lnTo>
                    <a:pt x="2035" y="1212"/>
                  </a:lnTo>
                  <a:lnTo>
                    <a:pt x="2041" y="1212"/>
                  </a:lnTo>
                  <a:lnTo>
                    <a:pt x="2047" y="1212"/>
                  </a:lnTo>
                  <a:lnTo>
                    <a:pt x="2053" y="1212"/>
                  </a:lnTo>
                  <a:lnTo>
                    <a:pt x="2059" y="1212"/>
                  </a:lnTo>
                  <a:lnTo>
                    <a:pt x="2065" y="1212"/>
                  </a:lnTo>
                  <a:lnTo>
                    <a:pt x="2071" y="1212"/>
                  </a:lnTo>
                  <a:lnTo>
                    <a:pt x="2077" y="1212"/>
                  </a:lnTo>
                  <a:lnTo>
                    <a:pt x="2083" y="1212"/>
                  </a:lnTo>
                  <a:lnTo>
                    <a:pt x="2089" y="1212"/>
                  </a:lnTo>
                  <a:lnTo>
                    <a:pt x="2095" y="1212"/>
                  </a:lnTo>
                  <a:lnTo>
                    <a:pt x="2101" y="1212"/>
                  </a:lnTo>
                  <a:lnTo>
                    <a:pt x="2107" y="1212"/>
                  </a:lnTo>
                  <a:lnTo>
                    <a:pt x="2113" y="1212"/>
                  </a:lnTo>
                  <a:lnTo>
                    <a:pt x="2119" y="1212"/>
                  </a:lnTo>
                  <a:lnTo>
                    <a:pt x="2125" y="1212"/>
                  </a:lnTo>
                  <a:lnTo>
                    <a:pt x="2131" y="1212"/>
                  </a:lnTo>
                  <a:lnTo>
                    <a:pt x="2137" y="1212"/>
                  </a:lnTo>
                  <a:lnTo>
                    <a:pt x="2143" y="1212"/>
                  </a:lnTo>
                  <a:lnTo>
                    <a:pt x="2149" y="1212"/>
                  </a:lnTo>
                  <a:lnTo>
                    <a:pt x="2155" y="1212"/>
                  </a:lnTo>
                  <a:lnTo>
                    <a:pt x="2161" y="1212"/>
                  </a:lnTo>
                  <a:lnTo>
                    <a:pt x="2167" y="1212"/>
                  </a:lnTo>
                  <a:lnTo>
                    <a:pt x="2173" y="1212"/>
                  </a:lnTo>
                  <a:lnTo>
                    <a:pt x="2179" y="1212"/>
                  </a:lnTo>
                  <a:lnTo>
                    <a:pt x="2185" y="1212"/>
                  </a:lnTo>
                  <a:lnTo>
                    <a:pt x="2191" y="1212"/>
                  </a:lnTo>
                  <a:lnTo>
                    <a:pt x="2197" y="1212"/>
                  </a:lnTo>
                  <a:lnTo>
                    <a:pt x="2203" y="1212"/>
                  </a:lnTo>
                  <a:lnTo>
                    <a:pt x="2209" y="1212"/>
                  </a:lnTo>
                  <a:lnTo>
                    <a:pt x="2215" y="1212"/>
                  </a:lnTo>
                  <a:lnTo>
                    <a:pt x="2221" y="1212"/>
                  </a:lnTo>
                  <a:lnTo>
                    <a:pt x="2227" y="1212"/>
                  </a:lnTo>
                  <a:lnTo>
                    <a:pt x="2233" y="1212"/>
                  </a:lnTo>
                  <a:lnTo>
                    <a:pt x="2239" y="1212"/>
                  </a:lnTo>
                  <a:lnTo>
                    <a:pt x="2245" y="1212"/>
                  </a:lnTo>
                  <a:lnTo>
                    <a:pt x="2251" y="1212"/>
                  </a:lnTo>
                  <a:lnTo>
                    <a:pt x="2257" y="1212"/>
                  </a:lnTo>
                  <a:lnTo>
                    <a:pt x="2263" y="1212"/>
                  </a:lnTo>
                  <a:lnTo>
                    <a:pt x="2269" y="1212"/>
                  </a:lnTo>
                  <a:lnTo>
                    <a:pt x="2275" y="1212"/>
                  </a:lnTo>
                  <a:lnTo>
                    <a:pt x="2281" y="1212"/>
                  </a:lnTo>
                  <a:lnTo>
                    <a:pt x="2287" y="1212"/>
                  </a:lnTo>
                  <a:lnTo>
                    <a:pt x="2293" y="1212"/>
                  </a:lnTo>
                  <a:lnTo>
                    <a:pt x="2299" y="1212"/>
                  </a:lnTo>
                  <a:lnTo>
                    <a:pt x="2305" y="1212"/>
                  </a:lnTo>
                  <a:lnTo>
                    <a:pt x="2311" y="1212"/>
                  </a:lnTo>
                  <a:lnTo>
                    <a:pt x="2317" y="1212"/>
                  </a:lnTo>
                  <a:lnTo>
                    <a:pt x="2323" y="1212"/>
                  </a:lnTo>
                  <a:lnTo>
                    <a:pt x="2329" y="1212"/>
                  </a:lnTo>
                  <a:lnTo>
                    <a:pt x="2335" y="1212"/>
                  </a:lnTo>
                  <a:lnTo>
                    <a:pt x="2341" y="1212"/>
                  </a:lnTo>
                  <a:lnTo>
                    <a:pt x="2347" y="1212"/>
                  </a:lnTo>
                  <a:lnTo>
                    <a:pt x="2353" y="1212"/>
                  </a:lnTo>
                  <a:lnTo>
                    <a:pt x="2359" y="1212"/>
                  </a:lnTo>
                  <a:lnTo>
                    <a:pt x="2365" y="1212"/>
                  </a:lnTo>
                  <a:lnTo>
                    <a:pt x="2371" y="1212"/>
                  </a:lnTo>
                  <a:lnTo>
                    <a:pt x="2377" y="1212"/>
                  </a:lnTo>
                  <a:lnTo>
                    <a:pt x="2383" y="1212"/>
                  </a:lnTo>
                  <a:lnTo>
                    <a:pt x="2389" y="1212"/>
                  </a:lnTo>
                  <a:lnTo>
                    <a:pt x="2395" y="1212"/>
                  </a:lnTo>
                  <a:lnTo>
                    <a:pt x="2401" y="1212"/>
                  </a:lnTo>
                  <a:lnTo>
                    <a:pt x="2407" y="1212"/>
                  </a:lnTo>
                  <a:lnTo>
                    <a:pt x="2413" y="1212"/>
                  </a:lnTo>
                  <a:lnTo>
                    <a:pt x="2419" y="1212"/>
                  </a:lnTo>
                  <a:lnTo>
                    <a:pt x="2425" y="1212"/>
                  </a:lnTo>
                  <a:lnTo>
                    <a:pt x="2431" y="1212"/>
                  </a:lnTo>
                  <a:lnTo>
                    <a:pt x="2437" y="1212"/>
                  </a:lnTo>
                  <a:lnTo>
                    <a:pt x="2443" y="1212"/>
                  </a:lnTo>
                  <a:lnTo>
                    <a:pt x="2449" y="1212"/>
                  </a:lnTo>
                  <a:lnTo>
                    <a:pt x="2455" y="1212"/>
                  </a:lnTo>
                  <a:lnTo>
                    <a:pt x="2461" y="1212"/>
                  </a:lnTo>
                  <a:lnTo>
                    <a:pt x="2467" y="1212"/>
                  </a:lnTo>
                  <a:lnTo>
                    <a:pt x="2473" y="1212"/>
                  </a:lnTo>
                  <a:lnTo>
                    <a:pt x="2479" y="1212"/>
                  </a:lnTo>
                  <a:lnTo>
                    <a:pt x="2485" y="1212"/>
                  </a:lnTo>
                  <a:lnTo>
                    <a:pt x="2491" y="1212"/>
                  </a:lnTo>
                  <a:lnTo>
                    <a:pt x="2497" y="1212"/>
                  </a:lnTo>
                  <a:lnTo>
                    <a:pt x="2503" y="1212"/>
                  </a:lnTo>
                  <a:lnTo>
                    <a:pt x="2509" y="1212"/>
                  </a:lnTo>
                  <a:lnTo>
                    <a:pt x="2515" y="1212"/>
                  </a:lnTo>
                  <a:lnTo>
                    <a:pt x="2521" y="1212"/>
                  </a:lnTo>
                  <a:lnTo>
                    <a:pt x="2527" y="1212"/>
                  </a:lnTo>
                  <a:lnTo>
                    <a:pt x="2533" y="1212"/>
                  </a:lnTo>
                  <a:lnTo>
                    <a:pt x="2539" y="1212"/>
                  </a:lnTo>
                  <a:lnTo>
                    <a:pt x="2545" y="1212"/>
                  </a:lnTo>
                  <a:lnTo>
                    <a:pt x="2551" y="1212"/>
                  </a:lnTo>
                  <a:lnTo>
                    <a:pt x="2557" y="1212"/>
                  </a:lnTo>
                  <a:lnTo>
                    <a:pt x="2563" y="1212"/>
                  </a:lnTo>
                  <a:lnTo>
                    <a:pt x="2569" y="1212"/>
                  </a:lnTo>
                  <a:lnTo>
                    <a:pt x="2575" y="1212"/>
                  </a:lnTo>
                  <a:lnTo>
                    <a:pt x="2581" y="1212"/>
                  </a:lnTo>
                  <a:lnTo>
                    <a:pt x="2587" y="1212"/>
                  </a:lnTo>
                  <a:lnTo>
                    <a:pt x="2593" y="1212"/>
                  </a:lnTo>
                  <a:lnTo>
                    <a:pt x="2599" y="1212"/>
                  </a:lnTo>
                  <a:lnTo>
                    <a:pt x="2605" y="1212"/>
                  </a:lnTo>
                  <a:lnTo>
                    <a:pt x="2611" y="1212"/>
                  </a:lnTo>
                  <a:lnTo>
                    <a:pt x="2617" y="1212"/>
                  </a:lnTo>
                  <a:lnTo>
                    <a:pt x="2623" y="1212"/>
                  </a:lnTo>
                  <a:lnTo>
                    <a:pt x="2629" y="1212"/>
                  </a:lnTo>
                  <a:lnTo>
                    <a:pt x="2635" y="1212"/>
                  </a:lnTo>
                  <a:lnTo>
                    <a:pt x="2641" y="1212"/>
                  </a:lnTo>
                  <a:lnTo>
                    <a:pt x="2647" y="1212"/>
                  </a:lnTo>
                  <a:lnTo>
                    <a:pt x="2653" y="1212"/>
                  </a:lnTo>
                  <a:lnTo>
                    <a:pt x="2659" y="1212"/>
                  </a:lnTo>
                  <a:lnTo>
                    <a:pt x="2665" y="1212"/>
                  </a:lnTo>
                  <a:lnTo>
                    <a:pt x="2671" y="1212"/>
                  </a:lnTo>
                  <a:lnTo>
                    <a:pt x="2677" y="1212"/>
                  </a:lnTo>
                  <a:lnTo>
                    <a:pt x="2683" y="1212"/>
                  </a:lnTo>
                  <a:lnTo>
                    <a:pt x="2689" y="1212"/>
                  </a:lnTo>
                  <a:lnTo>
                    <a:pt x="2695" y="1212"/>
                  </a:lnTo>
                  <a:lnTo>
                    <a:pt x="2701" y="1212"/>
                  </a:lnTo>
                  <a:lnTo>
                    <a:pt x="2707" y="1212"/>
                  </a:lnTo>
                  <a:lnTo>
                    <a:pt x="2713" y="1212"/>
                  </a:lnTo>
                  <a:lnTo>
                    <a:pt x="2719" y="1212"/>
                  </a:lnTo>
                  <a:lnTo>
                    <a:pt x="2725" y="1212"/>
                  </a:lnTo>
                  <a:lnTo>
                    <a:pt x="2731" y="1212"/>
                  </a:lnTo>
                  <a:lnTo>
                    <a:pt x="2737" y="1212"/>
                  </a:lnTo>
                  <a:lnTo>
                    <a:pt x="2743" y="1212"/>
                  </a:lnTo>
                  <a:lnTo>
                    <a:pt x="2749" y="1212"/>
                  </a:lnTo>
                  <a:lnTo>
                    <a:pt x="2755" y="1212"/>
                  </a:lnTo>
                  <a:lnTo>
                    <a:pt x="2761" y="1212"/>
                  </a:lnTo>
                  <a:lnTo>
                    <a:pt x="2767" y="1212"/>
                  </a:lnTo>
                  <a:lnTo>
                    <a:pt x="2773" y="1212"/>
                  </a:lnTo>
                  <a:lnTo>
                    <a:pt x="2779" y="1212"/>
                  </a:lnTo>
                  <a:lnTo>
                    <a:pt x="2785" y="1212"/>
                  </a:lnTo>
                  <a:lnTo>
                    <a:pt x="2791" y="1212"/>
                  </a:lnTo>
                  <a:lnTo>
                    <a:pt x="2797" y="1212"/>
                  </a:lnTo>
                  <a:lnTo>
                    <a:pt x="2803" y="1212"/>
                  </a:lnTo>
                  <a:lnTo>
                    <a:pt x="2809" y="1212"/>
                  </a:lnTo>
                  <a:lnTo>
                    <a:pt x="2815" y="1212"/>
                  </a:lnTo>
                  <a:lnTo>
                    <a:pt x="2821" y="1212"/>
                  </a:lnTo>
                  <a:lnTo>
                    <a:pt x="2827" y="1212"/>
                  </a:lnTo>
                  <a:lnTo>
                    <a:pt x="2833" y="1212"/>
                  </a:lnTo>
                  <a:lnTo>
                    <a:pt x="2839" y="1212"/>
                  </a:lnTo>
                  <a:lnTo>
                    <a:pt x="2845" y="1212"/>
                  </a:lnTo>
                  <a:lnTo>
                    <a:pt x="2851" y="1212"/>
                  </a:lnTo>
                  <a:lnTo>
                    <a:pt x="2857" y="1212"/>
                  </a:lnTo>
                  <a:lnTo>
                    <a:pt x="2863" y="1212"/>
                  </a:lnTo>
                  <a:lnTo>
                    <a:pt x="2869" y="1212"/>
                  </a:lnTo>
                  <a:lnTo>
                    <a:pt x="2875" y="1212"/>
                  </a:lnTo>
                  <a:lnTo>
                    <a:pt x="2881" y="1212"/>
                  </a:lnTo>
                  <a:lnTo>
                    <a:pt x="2887" y="1212"/>
                  </a:lnTo>
                  <a:lnTo>
                    <a:pt x="2893" y="1212"/>
                  </a:lnTo>
                  <a:lnTo>
                    <a:pt x="2899" y="1212"/>
                  </a:lnTo>
                  <a:lnTo>
                    <a:pt x="2905" y="1212"/>
                  </a:lnTo>
                  <a:lnTo>
                    <a:pt x="2911" y="1212"/>
                  </a:lnTo>
                  <a:lnTo>
                    <a:pt x="2917" y="1212"/>
                  </a:lnTo>
                  <a:lnTo>
                    <a:pt x="2923" y="1212"/>
                  </a:lnTo>
                  <a:lnTo>
                    <a:pt x="2929" y="1212"/>
                  </a:lnTo>
                  <a:lnTo>
                    <a:pt x="2935" y="1212"/>
                  </a:lnTo>
                  <a:lnTo>
                    <a:pt x="2941" y="1212"/>
                  </a:lnTo>
                  <a:lnTo>
                    <a:pt x="2947" y="1212"/>
                  </a:lnTo>
                  <a:lnTo>
                    <a:pt x="2953" y="1212"/>
                  </a:lnTo>
                  <a:lnTo>
                    <a:pt x="2959" y="1212"/>
                  </a:lnTo>
                  <a:lnTo>
                    <a:pt x="2965" y="1212"/>
                  </a:lnTo>
                  <a:lnTo>
                    <a:pt x="2971" y="1212"/>
                  </a:lnTo>
                  <a:lnTo>
                    <a:pt x="2977" y="1212"/>
                  </a:lnTo>
                  <a:lnTo>
                    <a:pt x="2983" y="1212"/>
                  </a:lnTo>
                  <a:lnTo>
                    <a:pt x="2989" y="1212"/>
                  </a:lnTo>
                  <a:lnTo>
                    <a:pt x="2995" y="1212"/>
                  </a:lnTo>
                  <a:lnTo>
                    <a:pt x="3001" y="1212"/>
                  </a:lnTo>
                  <a:lnTo>
                    <a:pt x="3007" y="1212"/>
                  </a:lnTo>
                  <a:lnTo>
                    <a:pt x="3013" y="1212"/>
                  </a:lnTo>
                  <a:lnTo>
                    <a:pt x="3019" y="1212"/>
                  </a:lnTo>
                  <a:lnTo>
                    <a:pt x="3025" y="1212"/>
                  </a:lnTo>
                  <a:lnTo>
                    <a:pt x="3031" y="1212"/>
                  </a:lnTo>
                  <a:lnTo>
                    <a:pt x="3037" y="1212"/>
                  </a:lnTo>
                  <a:lnTo>
                    <a:pt x="3043" y="1212"/>
                  </a:lnTo>
                  <a:lnTo>
                    <a:pt x="3049" y="1212"/>
                  </a:lnTo>
                  <a:lnTo>
                    <a:pt x="3055" y="1212"/>
                  </a:lnTo>
                  <a:lnTo>
                    <a:pt x="3061" y="1212"/>
                  </a:lnTo>
                  <a:lnTo>
                    <a:pt x="3067" y="1212"/>
                  </a:lnTo>
                  <a:lnTo>
                    <a:pt x="3073" y="1212"/>
                  </a:lnTo>
                  <a:lnTo>
                    <a:pt x="3079" y="1212"/>
                  </a:lnTo>
                  <a:lnTo>
                    <a:pt x="3085" y="1212"/>
                  </a:lnTo>
                  <a:lnTo>
                    <a:pt x="3091" y="1212"/>
                  </a:lnTo>
                  <a:lnTo>
                    <a:pt x="3097" y="1212"/>
                  </a:lnTo>
                  <a:lnTo>
                    <a:pt x="3103" y="1212"/>
                  </a:lnTo>
                  <a:lnTo>
                    <a:pt x="3109" y="1212"/>
                  </a:lnTo>
                  <a:lnTo>
                    <a:pt x="3115" y="1212"/>
                  </a:lnTo>
                  <a:lnTo>
                    <a:pt x="3121" y="1212"/>
                  </a:lnTo>
                  <a:lnTo>
                    <a:pt x="3127" y="1212"/>
                  </a:lnTo>
                  <a:lnTo>
                    <a:pt x="3133" y="1212"/>
                  </a:lnTo>
                  <a:lnTo>
                    <a:pt x="3139" y="1212"/>
                  </a:lnTo>
                  <a:lnTo>
                    <a:pt x="3145" y="1212"/>
                  </a:lnTo>
                  <a:lnTo>
                    <a:pt x="3151" y="1212"/>
                  </a:lnTo>
                  <a:lnTo>
                    <a:pt x="3157" y="1212"/>
                  </a:lnTo>
                  <a:lnTo>
                    <a:pt x="3163" y="1212"/>
                  </a:lnTo>
                  <a:lnTo>
                    <a:pt x="3169" y="1212"/>
                  </a:lnTo>
                  <a:lnTo>
                    <a:pt x="3175" y="1212"/>
                  </a:lnTo>
                  <a:lnTo>
                    <a:pt x="3181" y="1212"/>
                  </a:lnTo>
                  <a:lnTo>
                    <a:pt x="3187" y="1212"/>
                  </a:lnTo>
                  <a:lnTo>
                    <a:pt x="3193" y="1212"/>
                  </a:lnTo>
                  <a:lnTo>
                    <a:pt x="3199" y="1212"/>
                  </a:lnTo>
                  <a:lnTo>
                    <a:pt x="3205" y="1212"/>
                  </a:lnTo>
                  <a:lnTo>
                    <a:pt x="3211" y="1212"/>
                  </a:lnTo>
                  <a:lnTo>
                    <a:pt x="3217" y="1212"/>
                  </a:lnTo>
                  <a:lnTo>
                    <a:pt x="3223" y="1212"/>
                  </a:lnTo>
                  <a:lnTo>
                    <a:pt x="3229" y="1212"/>
                  </a:lnTo>
                  <a:lnTo>
                    <a:pt x="3235" y="1212"/>
                  </a:lnTo>
                  <a:lnTo>
                    <a:pt x="3241" y="1212"/>
                  </a:lnTo>
                  <a:lnTo>
                    <a:pt x="3247" y="1212"/>
                  </a:lnTo>
                  <a:lnTo>
                    <a:pt x="3253" y="1212"/>
                  </a:lnTo>
                  <a:lnTo>
                    <a:pt x="3259" y="1212"/>
                  </a:lnTo>
                  <a:lnTo>
                    <a:pt x="3265" y="1212"/>
                  </a:lnTo>
                  <a:lnTo>
                    <a:pt x="3271" y="1212"/>
                  </a:lnTo>
                  <a:lnTo>
                    <a:pt x="3277" y="1212"/>
                  </a:lnTo>
                  <a:lnTo>
                    <a:pt x="3283" y="1212"/>
                  </a:lnTo>
                  <a:lnTo>
                    <a:pt x="3289" y="1212"/>
                  </a:lnTo>
                  <a:lnTo>
                    <a:pt x="3295" y="1212"/>
                  </a:lnTo>
                  <a:lnTo>
                    <a:pt x="3301" y="1212"/>
                  </a:lnTo>
                  <a:lnTo>
                    <a:pt x="3307" y="1212"/>
                  </a:lnTo>
                  <a:lnTo>
                    <a:pt x="3313" y="1212"/>
                  </a:lnTo>
                  <a:lnTo>
                    <a:pt x="3319" y="1212"/>
                  </a:lnTo>
                  <a:lnTo>
                    <a:pt x="3325" y="1212"/>
                  </a:lnTo>
                  <a:lnTo>
                    <a:pt x="3331" y="1212"/>
                  </a:lnTo>
                  <a:lnTo>
                    <a:pt x="3337" y="1212"/>
                  </a:lnTo>
                  <a:lnTo>
                    <a:pt x="3343" y="1212"/>
                  </a:lnTo>
                  <a:lnTo>
                    <a:pt x="3349" y="1212"/>
                  </a:lnTo>
                  <a:lnTo>
                    <a:pt x="3355" y="1212"/>
                  </a:lnTo>
                  <a:lnTo>
                    <a:pt x="3361" y="1212"/>
                  </a:lnTo>
                  <a:lnTo>
                    <a:pt x="3367" y="1212"/>
                  </a:lnTo>
                  <a:lnTo>
                    <a:pt x="3373" y="1212"/>
                  </a:lnTo>
                  <a:lnTo>
                    <a:pt x="3379" y="1212"/>
                  </a:lnTo>
                  <a:lnTo>
                    <a:pt x="3385" y="1212"/>
                  </a:lnTo>
                  <a:lnTo>
                    <a:pt x="3391" y="1212"/>
                  </a:lnTo>
                  <a:lnTo>
                    <a:pt x="3397" y="1212"/>
                  </a:lnTo>
                  <a:lnTo>
                    <a:pt x="3403" y="1212"/>
                  </a:lnTo>
                  <a:lnTo>
                    <a:pt x="3409" y="1212"/>
                  </a:lnTo>
                  <a:lnTo>
                    <a:pt x="3415" y="1212"/>
                  </a:lnTo>
                  <a:lnTo>
                    <a:pt x="3421" y="1212"/>
                  </a:lnTo>
                  <a:lnTo>
                    <a:pt x="3427" y="1212"/>
                  </a:lnTo>
                  <a:lnTo>
                    <a:pt x="3433" y="1212"/>
                  </a:lnTo>
                  <a:lnTo>
                    <a:pt x="3439" y="1212"/>
                  </a:lnTo>
                  <a:lnTo>
                    <a:pt x="3445" y="1212"/>
                  </a:lnTo>
                  <a:lnTo>
                    <a:pt x="3451" y="1212"/>
                  </a:lnTo>
                  <a:lnTo>
                    <a:pt x="3457" y="1212"/>
                  </a:lnTo>
                  <a:lnTo>
                    <a:pt x="3463" y="1212"/>
                  </a:lnTo>
                  <a:lnTo>
                    <a:pt x="3469" y="1212"/>
                  </a:lnTo>
                  <a:lnTo>
                    <a:pt x="3475" y="1212"/>
                  </a:lnTo>
                  <a:lnTo>
                    <a:pt x="3481" y="1212"/>
                  </a:lnTo>
                  <a:lnTo>
                    <a:pt x="3487" y="1212"/>
                  </a:lnTo>
                  <a:lnTo>
                    <a:pt x="3493" y="1212"/>
                  </a:lnTo>
                  <a:lnTo>
                    <a:pt x="3499" y="1212"/>
                  </a:lnTo>
                  <a:lnTo>
                    <a:pt x="3505" y="1212"/>
                  </a:lnTo>
                  <a:lnTo>
                    <a:pt x="3511" y="1212"/>
                  </a:lnTo>
                  <a:lnTo>
                    <a:pt x="3517" y="1212"/>
                  </a:lnTo>
                  <a:lnTo>
                    <a:pt x="3523" y="1212"/>
                  </a:lnTo>
                  <a:lnTo>
                    <a:pt x="3529" y="1212"/>
                  </a:lnTo>
                  <a:lnTo>
                    <a:pt x="3535" y="1212"/>
                  </a:lnTo>
                  <a:lnTo>
                    <a:pt x="3541" y="1212"/>
                  </a:lnTo>
                  <a:lnTo>
                    <a:pt x="3547" y="1212"/>
                  </a:lnTo>
                  <a:lnTo>
                    <a:pt x="3547" y="12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16200000">
              <a:off x="1611360" y="3530880"/>
              <a:ext cx="84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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= -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 rot="16200000">
            <a:off x="2276640" y="3516480"/>
            <a:ext cx="65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082520" y="5024520"/>
            <a:ext cx="15764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aximum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at 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= -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49360" y="1481040"/>
            <a:ext cx="2058840" cy="476280"/>
          </a:xfrm>
          <a:custGeom>
            <a:avLst/>
            <a:gdLst/>
            <a:ahLst/>
            <a:rect l="l" t="t" r="r" b="b"/>
            <a:pathLst>
              <a:path w="1297" h="300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16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24"/>
                </a:lnTo>
                <a:lnTo>
                  <a:pt x="546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76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06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36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66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0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0" y="24"/>
                </a:lnTo>
                <a:lnTo>
                  <a:pt x="726" y="24"/>
                </a:lnTo>
                <a:lnTo>
                  <a:pt x="732" y="24"/>
                </a:lnTo>
                <a:lnTo>
                  <a:pt x="738" y="24"/>
                </a:lnTo>
                <a:lnTo>
                  <a:pt x="744" y="24"/>
                </a:lnTo>
                <a:lnTo>
                  <a:pt x="750" y="24"/>
                </a:lnTo>
                <a:lnTo>
                  <a:pt x="756" y="24"/>
                </a:lnTo>
                <a:lnTo>
                  <a:pt x="762" y="24"/>
                </a:lnTo>
                <a:lnTo>
                  <a:pt x="768" y="24"/>
                </a:lnTo>
                <a:lnTo>
                  <a:pt x="774" y="30"/>
                </a:lnTo>
                <a:lnTo>
                  <a:pt x="780" y="30"/>
                </a:lnTo>
                <a:lnTo>
                  <a:pt x="786" y="30"/>
                </a:lnTo>
                <a:lnTo>
                  <a:pt x="792" y="30"/>
                </a:lnTo>
                <a:lnTo>
                  <a:pt x="798" y="30"/>
                </a:lnTo>
                <a:lnTo>
                  <a:pt x="804" y="30"/>
                </a:lnTo>
                <a:lnTo>
                  <a:pt x="810" y="30"/>
                </a:lnTo>
                <a:lnTo>
                  <a:pt x="816" y="30"/>
                </a:lnTo>
                <a:lnTo>
                  <a:pt x="822" y="30"/>
                </a:lnTo>
                <a:lnTo>
                  <a:pt x="828" y="30"/>
                </a:lnTo>
                <a:lnTo>
                  <a:pt x="834" y="30"/>
                </a:lnTo>
                <a:lnTo>
                  <a:pt x="840" y="30"/>
                </a:lnTo>
                <a:lnTo>
                  <a:pt x="846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30"/>
                </a:lnTo>
                <a:lnTo>
                  <a:pt x="876" y="30"/>
                </a:lnTo>
                <a:lnTo>
                  <a:pt x="882" y="30"/>
                </a:lnTo>
                <a:lnTo>
                  <a:pt x="888" y="30"/>
                </a:lnTo>
                <a:lnTo>
                  <a:pt x="894" y="30"/>
                </a:lnTo>
                <a:lnTo>
                  <a:pt x="900" y="30"/>
                </a:lnTo>
                <a:lnTo>
                  <a:pt x="906" y="30"/>
                </a:lnTo>
                <a:lnTo>
                  <a:pt x="912" y="30"/>
                </a:lnTo>
                <a:lnTo>
                  <a:pt x="918" y="30"/>
                </a:lnTo>
                <a:lnTo>
                  <a:pt x="924" y="30"/>
                </a:lnTo>
                <a:lnTo>
                  <a:pt x="930" y="36"/>
                </a:lnTo>
                <a:lnTo>
                  <a:pt x="936" y="36"/>
                </a:lnTo>
                <a:lnTo>
                  <a:pt x="942" y="36"/>
                </a:lnTo>
                <a:lnTo>
                  <a:pt x="948" y="36"/>
                </a:lnTo>
                <a:lnTo>
                  <a:pt x="954" y="36"/>
                </a:lnTo>
                <a:lnTo>
                  <a:pt x="960" y="36"/>
                </a:lnTo>
                <a:lnTo>
                  <a:pt x="966" y="36"/>
                </a:lnTo>
                <a:lnTo>
                  <a:pt x="972" y="36"/>
                </a:lnTo>
                <a:lnTo>
                  <a:pt x="978" y="36"/>
                </a:lnTo>
                <a:lnTo>
                  <a:pt x="984" y="36"/>
                </a:lnTo>
                <a:lnTo>
                  <a:pt x="990" y="36"/>
                </a:lnTo>
                <a:lnTo>
                  <a:pt x="996" y="36"/>
                </a:lnTo>
                <a:lnTo>
                  <a:pt x="1002" y="36"/>
                </a:lnTo>
                <a:lnTo>
                  <a:pt x="1008" y="36"/>
                </a:lnTo>
                <a:lnTo>
                  <a:pt x="1014" y="36"/>
                </a:lnTo>
                <a:lnTo>
                  <a:pt x="1020" y="36"/>
                </a:lnTo>
                <a:lnTo>
                  <a:pt x="1026" y="36"/>
                </a:lnTo>
                <a:lnTo>
                  <a:pt x="1032" y="42"/>
                </a:lnTo>
                <a:lnTo>
                  <a:pt x="1038" y="42"/>
                </a:lnTo>
                <a:lnTo>
                  <a:pt x="1044" y="42"/>
                </a:lnTo>
                <a:lnTo>
                  <a:pt x="1050" y="42"/>
                </a:lnTo>
                <a:lnTo>
                  <a:pt x="1056" y="42"/>
                </a:lnTo>
                <a:lnTo>
                  <a:pt x="1062" y="42"/>
                </a:lnTo>
                <a:lnTo>
                  <a:pt x="1068" y="42"/>
                </a:lnTo>
                <a:lnTo>
                  <a:pt x="1074" y="42"/>
                </a:lnTo>
                <a:lnTo>
                  <a:pt x="1080" y="42"/>
                </a:lnTo>
                <a:lnTo>
                  <a:pt x="1086" y="42"/>
                </a:lnTo>
                <a:lnTo>
                  <a:pt x="1092" y="48"/>
                </a:lnTo>
                <a:lnTo>
                  <a:pt x="1098" y="48"/>
                </a:lnTo>
                <a:lnTo>
                  <a:pt x="1104" y="48"/>
                </a:lnTo>
                <a:lnTo>
                  <a:pt x="1110" y="48"/>
                </a:lnTo>
                <a:lnTo>
                  <a:pt x="1116" y="48"/>
                </a:lnTo>
                <a:lnTo>
                  <a:pt x="1122" y="48"/>
                </a:lnTo>
                <a:lnTo>
                  <a:pt x="1128" y="48"/>
                </a:lnTo>
                <a:lnTo>
                  <a:pt x="1134" y="48"/>
                </a:lnTo>
                <a:lnTo>
                  <a:pt x="1141" y="54"/>
                </a:lnTo>
                <a:lnTo>
                  <a:pt x="1147" y="54"/>
                </a:lnTo>
                <a:lnTo>
                  <a:pt x="1153" y="54"/>
                </a:lnTo>
                <a:lnTo>
                  <a:pt x="1159" y="54"/>
                </a:lnTo>
                <a:lnTo>
                  <a:pt x="1165" y="54"/>
                </a:lnTo>
                <a:lnTo>
                  <a:pt x="1171" y="60"/>
                </a:lnTo>
                <a:lnTo>
                  <a:pt x="1177" y="60"/>
                </a:lnTo>
                <a:lnTo>
                  <a:pt x="1183" y="60"/>
                </a:lnTo>
                <a:lnTo>
                  <a:pt x="1189" y="66"/>
                </a:lnTo>
                <a:lnTo>
                  <a:pt x="1195" y="66"/>
                </a:lnTo>
                <a:lnTo>
                  <a:pt x="1201" y="66"/>
                </a:lnTo>
                <a:lnTo>
                  <a:pt x="1207" y="72"/>
                </a:lnTo>
                <a:lnTo>
                  <a:pt x="1213" y="72"/>
                </a:lnTo>
                <a:lnTo>
                  <a:pt x="1219" y="72"/>
                </a:lnTo>
                <a:lnTo>
                  <a:pt x="1225" y="78"/>
                </a:lnTo>
                <a:lnTo>
                  <a:pt x="1231" y="78"/>
                </a:lnTo>
                <a:lnTo>
                  <a:pt x="1237" y="84"/>
                </a:lnTo>
                <a:lnTo>
                  <a:pt x="1243" y="90"/>
                </a:lnTo>
                <a:lnTo>
                  <a:pt x="1249" y="96"/>
                </a:lnTo>
                <a:lnTo>
                  <a:pt x="1255" y="102"/>
                </a:lnTo>
                <a:lnTo>
                  <a:pt x="1261" y="108"/>
                </a:lnTo>
                <a:lnTo>
                  <a:pt x="1267" y="114"/>
                </a:lnTo>
                <a:lnTo>
                  <a:pt x="1267" y="120"/>
                </a:lnTo>
                <a:lnTo>
                  <a:pt x="1273" y="126"/>
                </a:lnTo>
                <a:lnTo>
                  <a:pt x="1273" y="132"/>
                </a:lnTo>
                <a:lnTo>
                  <a:pt x="1279" y="138"/>
                </a:lnTo>
                <a:lnTo>
                  <a:pt x="1279" y="150"/>
                </a:lnTo>
                <a:lnTo>
                  <a:pt x="1279" y="156"/>
                </a:lnTo>
                <a:lnTo>
                  <a:pt x="1285" y="174"/>
                </a:lnTo>
                <a:lnTo>
                  <a:pt x="1285" y="186"/>
                </a:lnTo>
                <a:lnTo>
                  <a:pt x="1291" y="210"/>
                </a:lnTo>
                <a:lnTo>
                  <a:pt x="1291" y="246"/>
                </a:lnTo>
                <a:lnTo>
                  <a:pt x="1297" y="300"/>
                </a:lnTo>
                <a:lnTo>
                  <a:pt x="1297" y="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93800" y="995400"/>
            <a:ext cx="2057400" cy="485640"/>
          </a:xfrm>
          <a:custGeom>
            <a:avLst/>
            <a:gdLst/>
            <a:ahLst/>
            <a:rect l="l" t="t" r="r" b="b"/>
            <a:pathLst>
              <a:path w="1296" h="306">
                <a:moveTo>
                  <a:pt x="0" y="306"/>
                </a:moveTo>
                <a:lnTo>
                  <a:pt x="0" y="0"/>
                </a:lnTo>
                <a:lnTo>
                  <a:pt x="6" y="54"/>
                </a:lnTo>
                <a:lnTo>
                  <a:pt x="6" y="90"/>
                </a:lnTo>
                <a:lnTo>
                  <a:pt x="12" y="114"/>
                </a:lnTo>
                <a:lnTo>
                  <a:pt x="12" y="126"/>
                </a:lnTo>
                <a:lnTo>
                  <a:pt x="18" y="144"/>
                </a:lnTo>
                <a:lnTo>
                  <a:pt x="18" y="150"/>
                </a:lnTo>
                <a:lnTo>
                  <a:pt x="18" y="162"/>
                </a:lnTo>
                <a:lnTo>
                  <a:pt x="24" y="168"/>
                </a:lnTo>
                <a:lnTo>
                  <a:pt x="24" y="174"/>
                </a:lnTo>
                <a:lnTo>
                  <a:pt x="30" y="180"/>
                </a:lnTo>
                <a:lnTo>
                  <a:pt x="36" y="186"/>
                </a:lnTo>
                <a:lnTo>
                  <a:pt x="36" y="192"/>
                </a:lnTo>
                <a:lnTo>
                  <a:pt x="42" y="198"/>
                </a:lnTo>
                <a:lnTo>
                  <a:pt x="48" y="204"/>
                </a:lnTo>
                <a:lnTo>
                  <a:pt x="54" y="210"/>
                </a:lnTo>
                <a:lnTo>
                  <a:pt x="60" y="216"/>
                </a:lnTo>
                <a:lnTo>
                  <a:pt x="66" y="222"/>
                </a:lnTo>
                <a:lnTo>
                  <a:pt x="72" y="222"/>
                </a:lnTo>
                <a:lnTo>
                  <a:pt x="78" y="228"/>
                </a:lnTo>
                <a:lnTo>
                  <a:pt x="84" y="228"/>
                </a:lnTo>
                <a:lnTo>
                  <a:pt x="90" y="234"/>
                </a:lnTo>
                <a:lnTo>
                  <a:pt x="96" y="234"/>
                </a:lnTo>
                <a:lnTo>
                  <a:pt x="102" y="234"/>
                </a:lnTo>
                <a:lnTo>
                  <a:pt x="108" y="240"/>
                </a:lnTo>
                <a:lnTo>
                  <a:pt x="114" y="240"/>
                </a:lnTo>
                <a:lnTo>
                  <a:pt x="120" y="240"/>
                </a:lnTo>
                <a:lnTo>
                  <a:pt x="126" y="240"/>
                </a:lnTo>
                <a:lnTo>
                  <a:pt x="132" y="246"/>
                </a:lnTo>
                <a:lnTo>
                  <a:pt x="138" y="246"/>
                </a:lnTo>
                <a:lnTo>
                  <a:pt x="144" y="246"/>
                </a:lnTo>
                <a:lnTo>
                  <a:pt x="150" y="246"/>
                </a:lnTo>
                <a:lnTo>
                  <a:pt x="156" y="246"/>
                </a:lnTo>
                <a:lnTo>
                  <a:pt x="162" y="252"/>
                </a:lnTo>
                <a:lnTo>
                  <a:pt x="168" y="252"/>
                </a:lnTo>
                <a:lnTo>
                  <a:pt x="174" y="252"/>
                </a:lnTo>
                <a:lnTo>
                  <a:pt x="180" y="252"/>
                </a:lnTo>
                <a:lnTo>
                  <a:pt x="186" y="252"/>
                </a:lnTo>
                <a:lnTo>
                  <a:pt x="192" y="252"/>
                </a:lnTo>
                <a:lnTo>
                  <a:pt x="198" y="252"/>
                </a:lnTo>
                <a:lnTo>
                  <a:pt x="204" y="258"/>
                </a:lnTo>
                <a:lnTo>
                  <a:pt x="210" y="258"/>
                </a:lnTo>
                <a:lnTo>
                  <a:pt x="216" y="258"/>
                </a:lnTo>
                <a:lnTo>
                  <a:pt x="222" y="258"/>
                </a:lnTo>
                <a:lnTo>
                  <a:pt x="228" y="258"/>
                </a:lnTo>
                <a:lnTo>
                  <a:pt x="234" y="258"/>
                </a:lnTo>
                <a:lnTo>
                  <a:pt x="240" y="258"/>
                </a:lnTo>
                <a:lnTo>
                  <a:pt x="246" y="258"/>
                </a:lnTo>
                <a:lnTo>
                  <a:pt x="252" y="258"/>
                </a:lnTo>
                <a:lnTo>
                  <a:pt x="258" y="258"/>
                </a:lnTo>
                <a:lnTo>
                  <a:pt x="264" y="258"/>
                </a:lnTo>
                <a:lnTo>
                  <a:pt x="270" y="264"/>
                </a:lnTo>
                <a:lnTo>
                  <a:pt x="276" y="264"/>
                </a:lnTo>
                <a:lnTo>
                  <a:pt x="282" y="264"/>
                </a:lnTo>
                <a:lnTo>
                  <a:pt x="288" y="264"/>
                </a:lnTo>
                <a:lnTo>
                  <a:pt x="294" y="264"/>
                </a:lnTo>
                <a:lnTo>
                  <a:pt x="300" y="264"/>
                </a:lnTo>
                <a:lnTo>
                  <a:pt x="306" y="264"/>
                </a:lnTo>
                <a:lnTo>
                  <a:pt x="312" y="264"/>
                </a:lnTo>
                <a:lnTo>
                  <a:pt x="318" y="264"/>
                </a:lnTo>
                <a:lnTo>
                  <a:pt x="324" y="264"/>
                </a:lnTo>
                <a:lnTo>
                  <a:pt x="330" y="264"/>
                </a:lnTo>
                <a:lnTo>
                  <a:pt x="336" y="264"/>
                </a:lnTo>
                <a:lnTo>
                  <a:pt x="342" y="264"/>
                </a:lnTo>
                <a:lnTo>
                  <a:pt x="348" y="264"/>
                </a:lnTo>
                <a:lnTo>
                  <a:pt x="354" y="264"/>
                </a:lnTo>
                <a:lnTo>
                  <a:pt x="360" y="264"/>
                </a:lnTo>
                <a:lnTo>
                  <a:pt x="366" y="270"/>
                </a:lnTo>
                <a:lnTo>
                  <a:pt x="372" y="270"/>
                </a:lnTo>
                <a:lnTo>
                  <a:pt x="378" y="270"/>
                </a:lnTo>
                <a:lnTo>
                  <a:pt x="384" y="270"/>
                </a:lnTo>
                <a:lnTo>
                  <a:pt x="390" y="270"/>
                </a:lnTo>
                <a:lnTo>
                  <a:pt x="396" y="270"/>
                </a:lnTo>
                <a:lnTo>
                  <a:pt x="402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70"/>
                </a:lnTo>
                <a:lnTo>
                  <a:pt x="426" y="270"/>
                </a:lnTo>
                <a:lnTo>
                  <a:pt x="432" y="270"/>
                </a:lnTo>
                <a:lnTo>
                  <a:pt x="438" y="270"/>
                </a:lnTo>
                <a:lnTo>
                  <a:pt x="444" y="270"/>
                </a:lnTo>
                <a:lnTo>
                  <a:pt x="450" y="270"/>
                </a:lnTo>
                <a:lnTo>
                  <a:pt x="456" y="270"/>
                </a:lnTo>
                <a:lnTo>
                  <a:pt x="462" y="270"/>
                </a:lnTo>
                <a:lnTo>
                  <a:pt x="468" y="270"/>
                </a:lnTo>
                <a:lnTo>
                  <a:pt x="474" y="270"/>
                </a:lnTo>
                <a:lnTo>
                  <a:pt x="480" y="270"/>
                </a:lnTo>
                <a:lnTo>
                  <a:pt x="486" y="270"/>
                </a:lnTo>
                <a:lnTo>
                  <a:pt x="492" y="270"/>
                </a:lnTo>
                <a:lnTo>
                  <a:pt x="498" y="270"/>
                </a:lnTo>
                <a:lnTo>
                  <a:pt x="504" y="270"/>
                </a:lnTo>
                <a:lnTo>
                  <a:pt x="510" y="270"/>
                </a:lnTo>
                <a:lnTo>
                  <a:pt x="516" y="270"/>
                </a:lnTo>
                <a:lnTo>
                  <a:pt x="522" y="270"/>
                </a:lnTo>
                <a:lnTo>
                  <a:pt x="528" y="276"/>
                </a:lnTo>
                <a:lnTo>
                  <a:pt x="534" y="276"/>
                </a:lnTo>
                <a:lnTo>
                  <a:pt x="540" y="276"/>
                </a:lnTo>
                <a:lnTo>
                  <a:pt x="546" y="276"/>
                </a:lnTo>
                <a:lnTo>
                  <a:pt x="552" y="276"/>
                </a:lnTo>
                <a:lnTo>
                  <a:pt x="558" y="276"/>
                </a:lnTo>
                <a:lnTo>
                  <a:pt x="564" y="276"/>
                </a:lnTo>
                <a:lnTo>
                  <a:pt x="570" y="276"/>
                </a:lnTo>
                <a:lnTo>
                  <a:pt x="576" y="276"/>
                </a:lnTo>
                <a:lnTo>
                  <a:pt x="582" y="276"/>
                </a:lnTo>
                <a:lnTo>
                  <a:pt x="588" y="276"/>
                </a:lnTo>
                <a:lnTo>
                  <a:pt x="594" y="276"/>
                </a:lnTo>
                <a:lnTo>
                  <a:pt x="600" y="276"/>
                </a:lnTo>
                <a:lnTo>
                  <a:pt x="606" y="276"/>
                </a:lnTo>
                <a:lnTo>
                  <a:pt x="612" y="276"/>
                </a:lnTo>
                <a:lnTo>
                  <a:pt x="618" y="276"/>
                </a:lnTo>
                <a:lnTo>
                  <a:pt x="624" y="276"/>
                </a:lnTo>
                <a:lnTo>
                  <a:pt x="630" y="276"/>
                </a:lnTo>
                <a:lnTo>
                  <a:pt x="636" y="276"/>
                </a:lnTo>
                <a:lnTo>
                  <a:pt x="642" y="276"/>
                </a:lnTo>
                <a:lnTo>
                  <a:pt x="648" y="276"/>
                </a:lnTo>
                <a:lnTo>
                  <a:pt x="654" y="276"/>
                </a:lnTo>
                <a:lnTo>
                  <a:pt x="660" y="276"/>
                </a:lnTo>
                <a:lnTo>
                  <a:pt x="666" y="276"/>
                </a:lnTo>
                <a:lnTo>
                  <a:pt x="672" y="276"/>
                </a:lnTo>
                <a:lnTo>
                  <a:pt x="678" y="276"/>
                </a:lnTo>
                <a:lnTo>
                  <a:pt x="684" y="276"/>
                </a:lnTo>
                <a:lnTo>
                  <a:pt x="690" y="276"/>
                </a:lnTo>
                <a:lnTo>
                  <a:pt x="696" y="276"/>
                </a:lnTo>
                <a:lnTo>
                  <a:pt x="702" y="276"/>
                </a:lnTo>
                <a:lnTo>
                  <a:pt x="708" y="276"/>
                </a:lnTo>
                <a:lnTo>
                  <a:pt x="714" y="276"/>
                </a:lnTo>
                <a:lnTo>
                  <a:pt x="720" y="276"/>
                </a:lnTo>
                <a:lnTo>
                  <a:pt x="726" y="276"/>
                </a:lnTo>
                <a:lnTo>
                  <a:pt x="732" y="276"/>
                </a:lnTo>
                <a:lnTo>
                  <a:pt x="738" y="276"/>
                </a:lnTo>
                <a:lnTo>
                  <a:pt x="744" y="276"/>
                </a:lnTo>
                <a:lnTo>
                  <a:pt x="750" y="276"/>
                </a:lnTo>
                <a:lnTo>
                  <a:pt x="756" y="276"/>
                </a:lnTo>
                <a:lnTo>
                  <a:pt x="762" y="276"/>
                </a:lnTo>
                <a:lnTo>
                  <a:pt x="768" y="276"/>
                </a:lnTo>
                <a:lnTo>
                  <a:pt x="774" y="276"/>
                </a:lnTo>
                <a:lnTo>
                  <a:pt x="780" y="276"/>
                </a:lnTo>
                <a:lnTo>
                  <a:pt x="786" y="276"/>
                </a:lnTo>
                <a:lnTo>
                  <a:pt x="792" y="276"/>
                </a:lnTo>
                <a:lnTo>
                  <a:pt x="798" y="276"/>
                </a:lnTo>
                <a:lnTo>
                  <a:pt x="804" y="276"/>
                </a:lnTo>
                <a:lnTo>
                  <a:pt x="810" y="276"/>
                </a:lnTo>
                <a:lnTo>
                  <a:pt x="816" y="276"/>
                </a:lnTo>
                <a:lnTo>
                  <a:pt x="822" y="276"/>
                </a:lnTo>
                <a:lnTo>
                  <a:pt x="828" y="282"/>
                </a:lnTo>
                <a:lnTo>
                  <a:pt x="834" y="282"/>
                </a:lnTo>
                <a:lnTo>
                  <a:pt x="840" y="282"/>
                </a:lnTo>
                <a:lnTo>
                  <a:pt x="846" y="282"/>
                </a:lnTo>
                <a:lnTo>
                  <a:pt x="852" y="282"/>
                </a:lnTo>
                <a:lnTo>
                  <a:pt x="858" y="282"/>
                </a:lnTo>
                <a:lnTo>
                  <a:pt x="864" y="282"/>
                </a:lnTo>
                <a:lnTo>
                  <a:pt x="870" y="282"/>
                </a:lnTo>
                <a:lnTo>
                  <a:pt x="876" y="282"/>
                </a:lnTo>
                <a:lnTo>
                  <a:pt x="882" y="282"/>
                </a:lnTo>
                <a:lnTo>
                  <a:pt x="888" y="282"/>
                </a:lnTo>
                <a:lnTo>
                  <a:pt x="894" y="282"/>
                </a:lnTo>
                <a:lnTo>
                  <a:pt x="900" y="282"/>
                </a:lnTo>
                <a:lnTo>
                  <a:pt x="906" y="282"/>
                </a:lnTo>
                <a:lnTo>
                  <a:pt x="912" y="282"/>
                </a:lnTo>
                <a:lnTo>
                  <a:pt x="918" y="282"/>
                </a:lnTo>
                <a:lnTo>
                  <a:pt x="924" y="282"/>
                </a:lnTo>
                <a:lnTo>
                  <a:pt x="930" y="282"/>
                </a:lnTo>
                <a:lnTo>
                  <a:pt x="936" y="282"/>
                </a:lnTo>
                <a:lnTo>
                  <a:pt x="942" y="282"/>
                </a:lnTo>
                <a:lnTo>
                  <a:pt x="948" y="282"/>
                </a:lnTo>
                <a:lnTo>
                  <a:pt x="954" y="282"/>
                </a:lnTo>
                <a:lnTo>
                  <a:pt x="960" y="282"/>
                </a:lnTo>
                <a:lnTo>
                  <a:pt x="966" y="282"/>
                </a:lnTo>
                <a:lnTo>
                  <a:pt x="972" y="282"/>
                </a:lnTo>
                <a:lnTo>
                  <a:pt x="978" y="282"/>
                </a:lnTo>
                <a:lnTo>
                  <a:pt x="984" y="282"/>
                </a:lnTo>
                <a:lnTo>
                  <a:pt x="990" y="282"/>
                </a:lnTo>
                <a:lnTo>
                  <a:pt x="996" y="282"/>
                </a:lnTo>
                <a:lnTo>
                  <a:pt x="1002" y="282"/>
                </a:lnTo>
                <a:lnTo>
                  <a:pt x="1008" y="282"/>
                </a:lnTo>
                <a:lnTo>
                  <a:pt x="1014" y="282"/>
                </a:lnTo>
                <a:lnTo>
                  <a:pt x="1020" y="282"/>
                </a:lnTo>
                <a:lnTo>
                  <a:pt x="1026" y="282"/>
                </a:lnTo>
                <a:lnTo>
                  <a:pt x="1032" y="282"/>
                </a:lnTo>
                <a:lnTo>
                  <a:pt x="1038" y="282"/>
                </a:lnTo>
                <a:lnTo>
                  <a:pt x="1044" y="282"/>
                </a:lnTo>
                <a:lnTo>
                  <a:pt x="1050" y="282"/>
                </a:lnTo>
                <a:lnTo>
                  <a:pt x="1056" y="282"/>
                </a:lnTo>
                <a:lnTo>
                  <a:pt x="1062" y="282"/>
                </a:lnTo>
                <a:lnTo>
                  <a:pt x="1068" y="282"/>
                </a:lnTo>
                <a:lnTo>
                  <a:pt x="1074" y="282"/>
                </a:lnTo>
                <a:lnTo>
                  <a:pt x="1080" y="282"/>
                </a:lnTo>
                <a:lnTo>
                  <a:pt x="1086" y="282"/>
                </a:lnTo>
                <a:lnTo>
                  <a:pt x="1092" y="282"/>
                </a:lnTo>
                <a:lnTo>
                  <a:pt x="1098" y="282"/>
                </a:lnTo>
                <a:lnTo>
                  <a:pt x="1104" y="282"/>
                </a:lnTo>
                <a:lnTo>
                  <a:pt x="1110" y="282"/>
                </a:lnTo>
                <a:lnTo>
                  <a:pt x="1116" y="282"/>
                </a:lnTo>
                <a:lnTo>
                  <a:pt x="1122" y="282"/>
                </a:lnTo>
                <a:lnTo>
                  <a:pt x="1128" y="282"/>
                </a:lnTo>
                <a:lnTo>
                  <a:pt x="1134" y="282"/>
                </a:lnTo>
                <a:lnTo>
                  <a:pt x="1140" y="282"/>
                </a:lnTo>
                <a:lnTo>
                  <a:pt x="1146" y="282"/>
                </a:lnTo>
                <a:lnTo>
                  <a:pt x="1152" y="282"/>
                </a:lnTo>
                <a:lnTo>
                  <a:pt x="1158" y="282"/>
                </a:lnTo>
                <a:lnTo>
                  <a:pt x="1164" y="282"/>
                </a:lnTo>
                <a:lnTo>
                  <a:pt x="1170" y="282"/>
                </a:lnTo>
                <a:lnTo>
                  <a:pt x="1176" y="282"/>
                </a:lnTo>
                <a:lnTo>
                  <a:pt x="1182" y="282"/>
                </a:lnTo>
                <a:lnTo>
                  <a:pt x="1188" y="282"/>
                </a:lnTo>
                <a:lnTo>
                  <a:pt x="1194" y="282"/>
                </a:lnTo>
                <a:lnTo>
                  <a:pt x="1200" y="282"/>
                </a:lnTo>
                <a:lnTo>
                  <a:pt x="1206" y="282"/>
                </a:lnTo>
                <a:lnTo>
                  <a:pt x="1212" y="282"/>
                </a:lnTo>
                <a:lnTo>
                  <a:pt x="1218" y="282"/>
                </a:lnTo>
                <a:lnTo>
                  <a:pt x="1224" y="282"/>
                </a:lnTo>
                <a:lnTo>
                  <a:pt x="1230" y="282"/>
                </a:lnTo>
                <a:lnTo>
                  <a:pt x="1236" y="282"/>
                </a:lnTo>
                <a:lnTo>
                  <a:pt x="1242" y="282"/>
                </a:lnTo>
                <a:lnTo>
                  <a:pt x="1248" y="282"/>
                </a:lnTo>
                <a:lnTo>
                  <a:pt x="1254" y="282"/>
                </a:lnTo>
                <a:lnTo>
                  <a:pt x="1260" y="282"/>
                </a:lnTo>
                <a:lnTo>
                  <a:pt x="1266" y="282"/>
                </a:lnTo>
                <a:lnTo>
                  <a:pt x="1272" y="282"/>
                </a:lnTo>
                <a:lnTo>
                  <a:pt x="1278" y="282"/>
                </a:lnTo>
                <a:lnTo>
                  <a:pt x="1284" y="282"/>
                </a:lnTo>
                <a:lnTo>
                  <a:pt x="1290" y="282"/>
                </a:lnTo>
                <a:lnTo>
                  <a:pt x="1296" y="282"/>
                </a:lnTo>
                <a:lnTo>
                  <a:pt x="1296" y="306"/>
                </a:lnTo>
              </a:path>
            </a:pathLst>
          </a:custGeom>
          <a:solidFill>
            <a:srgbClr val="00cc99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81680" y="219240"/>
            <a:ext cx="3762360" cy="266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Singl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4495680" y="48564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5133960" y="3981600"/>
            <a:ext cx="2971800" cy="21906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5133960" y="352440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@ Measurement of Growth rate in the negative chromat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854600" y="2981160"/>
            <a:ext cx="1708200" cy="2019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71800" y="4991040"/>
            <a:ext cx="203832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bilization by amplitude dependent tune spread induces a saw-tooth eff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D161-4610-406A-B8FF-97F46E90DD8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85807-13CC-42FE-873A-420564BF29E8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"/>
          <p:cNvGraphicFramePr/>
          <p:nvPr/>
        </p:nvGraphicFramePr>
        <p:xfrm>
          <a:off x="5549760" y="1012680"/>
          <a:ext cx="3594240" cy="295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9760" y="1012680"/>
                    <a:ext cx="359424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"/>
          <p:cNvSpPr/>
          <p:nvPr/>
        </p:nvSpPr>
        <p:spPr>
          <a:xfrm>
            <a:off x="74556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5524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5844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97280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31800" y="4343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0620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1120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61908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2876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3196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77800" y="3225960"/>
            <a:ext cx="4060800" cy="11174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98840" y="221940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85720" y="4334040"/>
            <a:ext cx="406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85720" y="3225960"/>
            <a:ext cx="3979800" cy="1117440"/>
          </a:xfrm>
          <a:custGeom>
            <a:avLst/>
            <a:gdLst/>
            <a:ahLst/>
            <a:rect l="l" t="t" r="r" b="b"/>
            <a:pathLst>
              <a:path w="3547" h="1212">
                <a:moveTo>
                  <a:pt x="0" y="1212"/>
                </a:moveTo>
                <a:lnTo>
                  <a:pt x="0" y="1212"/>
                </a:lnTo>
                <a:lnTo>
                  <a:pt x="6" y="1212"/>
                </a:lnTo>
                <a:lnTo>
                  <a:pt x="12" y="1212"/>
                </a:lnTo>
                <a:lnTo>
                  <a:pt x="18" y="1212"/>
                </a:lnTo>
                <a:lnTo>
                  <a:pt x="24" y="1212"/>
                </a:lnTo>
                <a:lnTo>
                  <a:pt x="30" y="1212"/>
                </a:lnTo>
                <a:lnTo>
                  <a:pt x="36" y="1212"/>
                </a:lnTo>
                <a:lnTo>
                  <a:pt x="42" y="1212"/>
                </a:lnTo>
                <a:lnTo>
                  <a:pt x="48" y="1212"/>
                </a:lnTo>
                <a:lnTo>
                  <a:pt x="54" y="1212"/>
                </a:lnTo>
                <a:lnTo>
                  <a:pt x="60" y="1212"/>
                </a:lnTo>
                <a:lnTo>
                  <a:pt x="66" y="1212"/>
                </a:lnTo>
                <a:lnTo>
                  <a:pt x="72" y="1212"/>
                </a:lnTo>
                <a:lnTo>
                  <a:pt x="78" y="1212"/>
                </a:lnTo>
                <a:lnTo>
                  <a:pt x="84" y="1212"/>
                </a:lnTo>
                <a:lnTo>
                  <a:pt x="90" y="1212"/>
                </a:lnTo>
                <a:lnTo>
                  <a:pt x="96" y="1212"/>
                </a:lnTo>
                <a:lnTo>
                  <a:pt x="102" y="1212"/>
                </a:lnTo>
                <a:lnTo>
                  <a:pt x="108" y="1212"/>
                </a:lnTo>
                <a:lnTo>
                  <a:pt x="114" y="1212"/>
                </a:lnTo>
                <a:lnTo>
                  <a:pt x="120" y="1212"/>
                </a:lnTo>
                <a:lnTo>
                  <a:pt x="126" y="1212"/>
                </a:lnTo>
                <a:lnTo>
                  <a:pt x="132" y="1212"/>
                </a:lnTo>
                <a:lnTo>
                  <a:pt x="138" y="1212"/>
                </a:lnTo>
                <a:lnTo>
                  <a:pt x="144" y="1212"/>
                </a:lnTo>
                <a:lnTo>
                  <a:pt x="150" y="1212"/>
                </a:lnTo>
                <a:lnTo>
                  <a:pt x="156" y="1212"/>
                </a:lnTo>
                <a:lnTo>
                  <a:pt x="162" y="1212"/>
                </a:lnTo>
                <a:lnTo>
                  <a:pt x="168" y="1212"/>
                </a:lnTo>
                <a:lnTo>
                  <a:pt x="174" y="1212"/>
                </a:lnTo>
                <a:lnTo>
                  <a:pt x="180" y="1212"/>
                </a:lnTo>
                <a:lnTo>
                  <a:pt x="186" y="1212"/>
                </a:lnTo>
                <a:lnTo>
                  <a:pt x="192" y="1212"/>
                </a:lnTo>
                <a:lnTo>
                  <a:pt x="198" y="1212"/>
                </a:lnTo>
                <a:lnTo>
                  <a:pt x="204" y="1212"/>
                </a:lnTo>
                <a:lnTo>
                  <a:pt x="210" y="1212"/>
                </a:lnTo>
                <a:lnTo>
                  <a:pt x="216" y="1212"/>
                </a:lnTo>
                <a:lnTo>
                  <a:pt x="222" y="1212"/>
                </a:lnTo>
                <a:lnTo>
                  <a:pt x="228" y="1212"/>
                </a:lnTo>
                <a:lnTo>
                  <a:pt x="234" y="1212"/>
                </a:lnTo>
                <a:lnTo>
                  <a:pt x="240" y="1212"/>
                </a:lnTo>
                <a:lnTo>
                  <a:pt x="246" y="1212"/>
                </a:lnTo>
                <a:lnTo>
                  <a:pt x="252" y="1212"/>
                </a:lnTo>
                <a:lnTo>
                  <a:pt x="258" y="1212"/>
                </a:lnTo>
                <a:lnTo>
                  <a:pt x="264" y="1212"/>
                </a:lnTo>
                <a:lnTo>
                  <a:pt x="270" y="1212"/>
                </a:lnTo>
                <a:lnTo>
                  <a:pt x="276" y="1212"/>
                </a:lnTo>
                <a:lnTo>
                  <a:pt x="282" y="1212"/>
                </a:lnTo>
                <a:lnTo>
                  <a:pt x="288" y="1212"/>
                </a:lnTo>
                <a:lnTo>
                  <a:pt x="294" y="1212"/>
                </a:lnTo>
                <a:lnTo>
                  <a:pt x="300" y="1212"/>
                </a:lnTo>
                <a:lnTo>
                  <a:pt x="306" y="1212"/>
                </a:lnTo>
                <a:lnTo>
                  <a:pt x="312" y="1212"/>
                </a:lnTo>
                <a:lnTo>
                  <a:pt x="318" y="1212"/>
                </a:lnTo>
                <a:lnTo>
                  <a:pt x="324" y="1212"/>
                </a:lnTo>
                <a:lnTo>
                  <a:pt x="330" y="1212"/>
                </a:lnTo>
                <a:lnTo>
                  <a:pt x="336" y="1212"/>
                </a:lnTo>
                <a:lnTo>
                  <a:pt x="342" y="1212"/>
                </a:lnTo>
                <a:lnTo>
                  <a:pt x="348" y="1212"/>
                </a:lnTo>
                <a:lnTo>
                  <a:pt x="354" y="1212"/>
                </a:lnTo>
                <a:lnTo>
                  <a:pt x="360" y="1212"/>
                </a:lnTo>
                <a:lnTo>
                  <a:pt x="366" y="1212"/>
                </a:lnTo>
                <a:lnTo>
                  <a:pt x="372" y="1212"/>
                </a:lnTo>
                <a:lnTo>
                  <a:pt x="378" y="1212"/>
                </a:lnTo>
                <a:lnTo>
                  <a:pt x="384" y="1212"/>
                </a:lnTo>
                <a:lnTo>
                  <a:pt x="390" y="1212"/>
                </a:lnTo>
                <a:lnTo>
                  <a:pt x="396" y="1212"/>
                </a:lnTo>
                <a:lnTo>
                  <a:pt x="402" y="1212"/>
                </a:lnTo>
                <a:lnTo>
                  <a:pt x="408" y="1212"/>
                </a:lnTo>
                <a:lnTo>
                  <a:pt x="414" y="1212"/>
                </a:lnTo>
                <a:lnTo>
                  <a:pt x="420" y="1212"/>
                </a:lnTo>
                <a:lnTo>
                  <a:pt x="426" y="1212"/>
                </a:lnTo>
                <a:lnTo>
                  <a:pt x="432" y="1212"/>
                </a:lnTo>
                <a:lnTo>
                  <a:pt x="438" y="1212"/>
                </a:lnTo>
                <a:lnTo>
                  <a:pt x="444" y="1212"/>
                </a:lnTo>
                <a:lnTo>
                  <a:pt x="450" y="1212"/>
                </a:lnTo>
                <a:lnTo>
                  <a:pt x="456" y="1212"/>
                </a:lnTo>
                <a:lnTo>
                  <a:pt x="462" y="1212"/>
                </a:lnTo>
                <a:lnTo>
                  <a:pt x="468" y="1212"/>
                </a:lnTo>
                <a:lnTo>
                  <a:pt x="474" y="1212"/>
                </a:lnTo>
                <a:lnTo>
                  <a:pt x="480" y="1212"/>
                </a:lnTo>
                <a:lnTo>
                  <a:pt x="486" y="1212"/>
                </a:lnTo>
                <a:lnTo>
                  <a:pt x="492" y="1212"/>
                </a:lnTo>
                <a:lnTo>
                  <a:pt x="498" y="1212"/>
                </a:lnTo>
                <a:lnTo>
                  <a:pt x="504" y="1212"/>
                </a:lnTo>
                <a:lnTo>
                  <a:pt x="510" y="1212"/>
                </a:lnTo>
                <a:lnTo>
                  <a:pt x="516" y="1212"/>
                </a:lnTo>
                <a:lnTo>
                  <a:pt x="522" y="1212"/>
                </a:lnTo>
                <a:lnTo>
                  <a:pt x="528" y="1212"/>
                </a:lnTo>
                <a:lnTo>
                  <a:pt x="534" y="1212"/>
                </a:lnTo>
                <a:lnTo>
                  <a:pt x="540" y="1212"/>
                </a:lnTo>
                <a:lnTo>
                  <a:pt x="546" y="1212"/>
                </a:lnTo>
                <a:lnTo>
                  <a:pt x="552" y="1212"/>
                </a:lnTo>
                <a:lnTo>
                  <a:pt x="558" y="1212"/>
                </a:lnTo>
                <a:lnTo>
                  <a:pt x="564" y="1212"/>
                </a:lnTo>
                <a:lnTo>
                  <a:pt x="570" y="1212"/>
                </a:lnTo>
                <a:lnTo>
                  <a:pt x="576" y="1212"/>
                </a:lnTo>
                <a:lnTo>
                  <a:pt x="582" y="1212"/>
                </a:lnTo>
                <a:lnTo>
                  <a:pt x="588" y="1212"/>
                </a:lnTo>
                <a:lnTo>
                  <a:pt x="594" y="1206"/>
                </a:lnTo>
                <a:lnTo>
                  <a:pt x="600" y="1206"/>
                </a:lnTo>
                <a:lnTo>
                  <a:pt x="606" y="1206"/>
                </a:lnTo>
                <a:lnTo>
                  <a:pt x="612" y="1206"/>
                </a:lnTo>
                <a:lnTo>
                  <a:pt x="618" y="1206"/>
                </a:lnTo>
                <a:lnTo>
                  <a:pt x="624" y="1206"/>
                </a:lnTo>
                <a:lnTo>
                  <a:pt x="630" y="1206"/>
                </a:lnTo>
                <a:lnTo>
                  <a:pt x="636" y="1206"/>
                </a:lnTo>
                <a:lnTo>
                  <a:pt x="642" y="1206"/>
                </a:lnTo>
                <a:lnTo>
                  <a:pt x="648" y="1206"/>
                </a:lnTo>
                <a:lnTo>
                  <a:pt x="654" y="1206"/>
                </a:lnTo>
                <a:lnTo>
                  <a:pt x="660" y="1206"/>
                </a:lnTo>
                <a:lnTo>
                  <a:pt x="666" y="1200"/>
                </a:lnTo>
                <a:lnTo>
                  <a:pt x="672" y="1200"/>
                </a:lnTo>
                <a:lnTo>
                  <a:pt x="678" y="1200"/>
                </a:lnTo>
                <a:lnTo>
                  <a:pt x="684" y="1200"/>
                </a:lnTo>
                <a:lnTo>
                  <a:pt x="690" y="1200"/>
                </a:lnTo>
                <a:lnTo>
                  <a:pt x="696" y="1194"/>
                </a:lnTo>
                <a:lnTo>
                  <a:pt x="702" y="1194"/>
                </a:lnTo>
                <a:lnTo>
                  <a:pt x="708" y="1194"/>
                </a:lnTo>
                <a:lnTo>
                  <a:pt x="714" y="1194"/>
                </a:lnTo>
                <a:lnTo>
                  <a:pt x="720" y="1188"/>
                </a:lnTo>
                <a:lnTo>
                  <a:pt x="726" y="1188"/>
                </a:lnTo>
                <a:lnTo>
                  <a:pt x="732" y="1188"/>
                </a:lnTo>
                <a:lnTo>
                  <a:pt x="738" y="1182"/>
                </a:lnTo>
                <a:lnTo>
                  <a:pt x="744" y="1182"/>
                </a:lnTo>
                <a:lnTo>
                  <a:pt x="750" y="1176"/>
                </a:lnTo>
                <a:lnTo>
                  <a:pt x="756" y="1176"/>
                </a:lnTo>
                <a:lnTo>
                  <a:pt x="762" y="1176"/>
                </a:lnTo>
                <a:lnTo>
                  <a:pt x="768" y="1170"/>
                </a:lnTo>
                <a:lnTo>
                  <a:pt x="774" y="1164"/>
                </a:lnTo>
                <a:lnTo>
                  <a:pt x="780" y="1164"/>
                </a:lnTo>
                <a:lnTo>
                  <a:pt x="786" y="1158"/>
                </a:lnTo>
                <a:lnTo>
                  <a:pt x="792" y="1152"/>
                </a:lnTo>
                <a:lnTo>
                  <a:pt x="798" y="1152"/>
                </a:lnTo>
                <a:lnTo>
                  <a:pt x="804" y="1146"/>
                </a:lnTo>
                <a:lnTo>
                  <a:pt x="810" y="1140"/>
                </a:lnTo>
                <a:lnTo>
                  <a:pt x="816" y="1134"/>
                </a:lnTo>
                <a:lnTo>
                  <a:pt x="822" y="1128"/>
                </a:lnTo>
                <a:lnTo>
                  <a:pt x="828" y="1122"/>
                </a:lnTo>
                <a:lnTo>
                  <a:pt x="834" y="1116"/>
                </a:lnTo>
                <a:lnTo>
                  <a:pt x="840" y="1110"/>
                </a:lnTo>
                <a:lnTo>
                  <a:pt x="846" y="1104"/>
                </a:lnTo>
                <a:lnTo>
                  <a:pt x="852" y="1098"/>
                </a:lnTo>
                <a:lnTo>
                  <a:pt x="858" y="1092"/>
                </a:lnTo>
                <a:lnTo>
                  <a:pt x="864" y="1086"/>
                </a:lnTo>
                <a:lnTo>
                  <a:pt x="864" y="1080"/>
                </a:lnTo>
                <a:lnTo>
                  <a:pt x="870" y="1074"/>
                </a:lnTo>
                <a:lnTo>
                  <a:pt x="876" y="1068"/>
                </a:lnTo>
                <a:lnTo>
                  <a:pt x="882" y="1062"/>
                </a:lnTo>
                <a:lnTo>
                  <a:pt x="882" y="1056"/>
                </a:lnTo>
                <a:lnTo>
                  <a:pt x="888" y="1050"/>
                </a:lnTo>
                <a:lnTo>
                  <a:pt x="888" y="1044"/>
                </a:lnTo>
                <a:lnTo>
                  <a:pt x="894" y="1038"/>
                </a:lnTo>
                <a:lnTo>
                  <a:pt x="900" y="1032"/>
                </a:lnTo>
                <a:lnTo>
                  <a:pt x="900" y="1026"/>
                </a:lnTo>
                <a:lnTo>
                  <a:pt x="906" y="1020"/>
                </a:lnTo>
                <a:lnTo>
                  <a:pt x="906" y="1008"/>
                </a:lnTo>
                <a:lnTo>
                  <a:pt x="912" y="1002"/>
                </a:lnTo>
                <a:lnTo>
                  <a:pt x="912" y="996"/>
                </a:lnTo>
                <a:lnTo>
                  <a:pt x="918" y="990"/>
                </a:lnTo>
                <a:lnTo>
                  <a:pt x="924" y="984"/>
                </a:lnTo>
                <a:lnTo>
                  <a:pt x="924" y="972"/>
                </a:lnTo>
                <a:lnTo>
                  <a:pt x="930" y="966"/>
                </a:lnTo>
                <a:lnTo>
                  <a:pt x="930" y="960"/>
                </a:lnTo>
                <a:lnTo>
                  <a:pt x="936" y="954"/>
                </a:lnTo>
                <a:lnTo>
                  <a:pt x="942" y="942"/>
                </a:lnTo>
                <a:lnTo>
                  <a:pt x="942" y="936"/>
                </a:lnTo>
                <a:lnTo>
                  <a:pt x="948" y="924"/>
                </a:lnTo>
                <a:lnTo>
                  <a:pt x="948" y="918"/>
                </a:lnTo>
                <a:lnTo>
                  <a:pt x="954" y="906"/>
                </a:lnTo>
                <a:lnTo>
                  <a:pt x="960" y="900"/>
                </a:lnTo>
                <a:lnTo>
                  <a:pt x="960" y="888"/>
                </a:lnTo>
                <a:lnTo>
                  <a:pt x="966" y="882"/>
                </a:lnTo>
                <a:lnTo>
                  <a:pt x="966" y="870"/>
                </a:lnTo>
                <a:lnTo>
                  <a:pt x="972" y="864"/>
                </a:lnTo>
                <a:lnTo>
                  <a:pt x="978" y="852"/>
                </a:lnTo>
                <a:lnTo>
                  <a:pt x="978" y="840"/>
                </a:lnTo>
                <a:lnTo>
                  <a:pt x="984" y="834"/>
                </a:lnTo>
                <a:lnTo>
                  <a:pt x="984" y="822"/>
                </a:lnTo>
                <a:lnTo>
                  <a:pt x="990" y="810"/>
                </a:lnTo>
                <a:lnTo>
                  <a:pt x="990" y="798"/>
                </a:lnTo>
                <a:lnTo>
                  <a:pt x="996" y="786"/>
                </a:lnTo>
                <a:lnTo>
                  <a:pt x="1002" y="780"/>
                </a:lnTo>
                <a:lnTo>
                  <a:pt x="1002" y="768"/>
                </a:lnTo>
                <a:lnTo>
                  <a:pt x="1008" y="756"/>
                </a:lnTo>
                <a:lnTo>
                  <a:pt x="1008" y="744"/>
                </a:lnTo>
                <a:lnTo>
                  <a:pt x="1014" y="732"/>
                </a:lnTo>
                <a:lnTo>
                  <a:pt x="1020" y="720"/>
                </a:lnTo>
                <a:lnTo>
                  <a:pt x="1020" y="708"/>
                </a:lnTo>
                <a:lnTo>
                  <a:pt x="1026" y="696"/>
                </a:lnTo>
                <a:lnTo>
                  <a:pt x="1026" y="684"/>
                </a:lnTo>
                <a:lnTo>
                  <a:pt x="1032" y="672"/>
                </a:lnTo>
                <a:lnTo>
                  <a:pt x="1038" y="660"/>
                </a:lnTo>
                <a:lnTo>
                  <a:pt x="1038" y="648"/>
                </a:lnTo>
                <a:lnTo>
                  <a:pt x="1044" y="636"/>
                </a:lnTo>
                <a:lnTo>
                  <a:pt x="1044" y="624"/>
                </a:lnTo>
                <a:lnTo>
                  <a:pt x="1050" y="612"/>
                </a:lnTo>
                <a:lnTo>
                  <a:pt x="1056" y="600"/>
                </a:lnTo>
                <a:lnTo>
                  <a:pt x="1056" y="588"/>
                </a:lnTo>
                <a:lnTo>
                  <a:pt x="1062" y="570"/>
                </a:lnTo>
                <a:lnTo>
                  <a:pt x="1062" y="558"/>
                </a:lnTo>
                <a:lnTo>
                  <a:pt x="1068" y="546"/>
                </a:lnTo>
                <a:lnTo>
                  <a:pt x="1068" y="534"/>
                </a:lnTo>
                <a:lnTo>
                  <a:pt x="1074" y="522"/>
                </a:lnTo>
                <a:lnTo>
                  <a:pt x="1080" y="510"/>
                </a:lnTo>
                <a:lnTo>
                  <a:pt x="1080" y="498"/>
                </a:lnTo>
                <a:lnTo>
                  <a:pt x="1086" y="480"/>
                </a:lnTo>
                <a:lnTo>
                  <a:pt x="1086" y="468"/>
                </a:lnTo>
                <a:lnTo>
                  <a:pt x="1092" y="456"/>
                </a:lnTo>
                <a:lnTo>
                  <a:pt x="1098" y="444"/>
                </a:lnTo>
                <a:lnTo>
                  <a:pt x="1098" y="432"/>
                </a:lnTo>
                <a:lnTo>
                  <a:pt x="1104" y="414"/>
                </a:lnTo>
                <a:lnTo>
                  <a:pt x="1104" y="402"/>
                </a:lnTo>
                <a:lnTo>
                  <a:pt x="1110" y="390"/>
                </a:lnTo>
                <a:lnTo>
                  <a:pt x="1116" y="378"/>
                </a:lnTo>
                <a:lnTo>
                  <a:pt x="1116" y="366"/>
                </a:lnTo>
                <a:lnTo>
                  <a:pt x="1122" y="354"/>
                </a:lnTo>
                <a:lnTo>
                  <a:pt x="1122" y="342"/>
                </a:lnTo>
                <a:lnTo>
                  <a:pt x="1128" y="330"/>
                </a:lnTo>
                <a:lnTo>
                  <a:pt x="1134" y="318"/>
                </a:lnTo>
                <a:lnTo>
                  <a:pt x="1134" y="300"/>
                </a:lnTo>
                <a:lnTo>
                  <a:pt x="1140" y="288"/>
                </a:lnTo>
                <a:lnTo>
                  <a:pt x="1140" y="276"/>
                </a:lnTo>
                <a:lnTo>
                  <a:pt x="1146" y="264"/>
                </a:lnTo>
                <a:lnTo>
                  <a:pt x="1146" y="252"/>
                </a:lnTo>
                <a:lnTo>
                  <a:pt x="1152" y="246"/>
                </a:lnTo>
                <a:lnTo>
                  <a:pt x="1158" y="234"/>
                </a:lnTo>
                <a:lnTo>
                  <a:pt x="1158" y="222"/>
                </a:lnTo>
                <a:lnTo>
                  <a:pt x="1164" y="210"/>
                </a:lnTo>
                <a:lnTo>
                  <a:pt x="1164" y="198"/>
                </a:lnTo>
                <a:lnTo>
                  <a:pt x="1170" y="186"/>
                </a:lnTo>
                <a:lnTo>
                  <a:pt x="1176" y="180"/>
                </a:lnTo>
                <a:lnTo>
                  <a:pt x="1176" y="168"/>
                </a:lnTo>
                <a:lnTo>
                  <a:pt x="1182" y="156"/>
                </a:lnTo>
                <a:lnTo>
                  <a:pt x="1182" y="150"/>
                </a:lnTo>
                <a:lnTo>
                  <a:pt x="1188" y="138"/>
                </a:lnTo>
                <a:lnTo>
                  <a:pt x="1194" y="126"/>
                </a:lnTo>
                <a:lnTo>
                  <a:pt x="1194" y="120"/>
                </a:lnTo>
                <a:lnTo>
                  <a:pt x="1200" y="114"/>
                </a:lnTo>
                <a:lnTo>
                  <a:pt x="1200" y="102"/>
                </a:lnTo>
                <a:lnTo>
                  <a:pt x="1206" y="96"/>
                </a:lnTo>
                <a:lnTo>
                  <a:pt x="1212" y="84"/>
                </a:lnTo>
                <a:lnTo>
                  <a:pt x="1212" y="78"/>
                </a:lnTo>
                <a:lnTo>
                  <a:pt x="1218" y="72"/>
                </a:lnTo>
                <a:lnTo>
                  <a:pt x="1218" y="66"/>
                </a:lnTo>
                <a:lnTo>
                  <a:pt x="1224" y="60"/>
                </a:lnTo>
                <a:lnTo>
                  <a:pt x="1224" y="54"/>
                </a:lnTo>
                <a:lnTo>
                  <a:pt x="1230" y="48"/>
                </a:lnTo>
                <a:lnTo>
                  <a:pt x="1236" y="42"/>
                </a:lnTo>
                <a:lnTo>
                  <a:pt x="1236" y="36"/>
                </a:lnTo>
                <a:lnTo>
                  <a:pt x="1242" y="30"/>
                </a:lnTo>
                <a:lnTo>
                  <a:pt x="1248" y="24"/>
                </a:lnTo>
                <a:lnTo>
                  <a:pt x="1254" y="18"/>
                </a:lnTo>
                <a:lnTo>
                  <a:pt x="1260" y="12"/>
                </a:lnTo>
                <a:lnTo>
                  <a:pt x="1266" y="6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6"/>
                </a:lnTo>
                <a:lnTo>
                  <a:pt x="1308" y="6"/>
                </a:lnTo>
                <a:lnTo>
                  <a:pt x="1314" y="12"/>
                </a:lnTo>
                <a:lnTo>
                  <a:pt x="1320" y="18"/>
                </a:lnTo>
                <a:lnTo>
                  <a:pt x="1326" y="24"/>
                </a:lnTo>
                <a:lnTo>
                  <a:pt x="1332" y="30"/>
                </a:lnTo>
                <a:lnTo>
                  <a:pt x="1338" y="36"/>
                </a:lnTo>
                <a:lnTo>
                  <a:pt x="1338" y="42"/>
                </a:lnTo>
                <a:lnTo>
                  <a:pt x="1344" y="48"/>
                </a:lnTo>
                <a:lnTo>
                  <a:pt x="1350" y="54"/>
                </a:lnTo>
                <a:lnTo>
                  <a:pt x="1350" y="60"/>
                </a:lnTo>
                <a:lnTo>
                  <a:pt x="1356" y="72"/>
                </a:lnTo>
                <a:lnTo>
                  <a:pt x="1356" y="78"/>
                </a:lnTo>
                <a:lnTo>
                  <a:pt x="1362" y="84"/>
                </a:lnTo>
                <a:lnTo>
                  <a:pt x="1368" y="90"/>
                </a:lnTo>
                <a:lnTo>
                  <a:pt x="1368" y="102"/>
                </a:lnTo>
                <a:lnTo>
                  <a:pt x="1374" y="108"/>
                </a:lnTo>
                <a:lnTo>
                  <a:pt x="1374" y="114"/>
                </a:lnTo>
                <a:lnTo>
                  <a:pt x="1380" y="126"/>
                </a:lnTo>
                <a:lnTo>
                  <a:pt x="1380" y="132"/>
                </a:lnTo>
                <a:lnTo>
                  <a:pt x="1386" y="144"/>
                </a:lnTo>
                <a:lnTo>
                  <a:pt x="1392" y="156"/>
                </a:lnTo>
                <a:lnTo>
                  <a:pt x="1392" y="162"/>
                </a:lnTo>
                <a:lnTo>
                  <a:pt x="1398" y="174"/>
                </a:lnTo>
                <a:lnTo>
                  <a:pt x="1398" y="186"/>
                </a:lnTo>
                <a:lnTo>
                  <a:pt x="1404" y="192"/>
                </a:lnTo>
                <a:lnTo>
                  <a:pt x="1410" y="204"/>
                </a:lnTo>
                <a:lnTo>
                  <a:pt x="1410" y="216"/>
                </a:lnTo>
                <a:lnTo>
                  <a:pt x="1416" y="228"/>
                </a:lnTo>
                <a:lnTo>
                  <a:pt x="1416" y="240"/>
                </a:lnTo>
                <a:lnTo>
                  <a:pt x="1422" y="252"/>
                </a:lnTo>
                <a:lnTo>
                  <a:pt x="1428" y="264"/>
                </a:lnTo>
                <a:lnTo>
                  <a:pt x="1428" y="276"/>
                </a:lnTo>
                <a:lnTo>
                  <a:pt x="1434" y="288"/>
                </a:lnTo>
                <a:lnTo>
                  <a:pt x="1434" y="300"/>
                </a:lnTo>
                <a:lnTo>
                  <a:pt x="1440" y="312"/>
                </a:lnTo>
                <a:lnTo>
                  <a:pt x="1446" y="324"/>
                </a:lnTo>
                <a:lnTo>
                  <a:pt x="1446" y="336"/>
                </a:lnTo>
                <a:lnTo>
                  <a:pt x="1452" y="348"/>
                </a:lnTo>
                <a:lnTo>
                  <a:pt x="1452" y="360"/>
                </a:lnTo>
                <a:lnTo>
                  <a:pt x="1458" y="372"/>
                </a:lnTo>
                <a:lnTo>
                  <a:pt x="1458" y="384"/>
                </a:lnTo>
                <a:lnTo>
                  <a:pt x="1464" y="402"/>
                </a:lnTo>
                <a:lnTo>
                  <a:pt x="1470" y="414"/>
                </a:lnTo>
                <a:lnTo>
                  <a:pt x="1470" y="426"/>
                </a:lnTo>
                <a:lnTo>
                  <a:pt x="1476" y="438"/>
                </a:lnTo>
                <a:lnTo>
                  <a:pt x="1476" y="450"/>
                </a:lnTo>
                <a:lnTo>
                  <a:pt x="1482" y="462"/>
                </a:lnTo>
                <a:lnTo>
                  <a:pt x="1488" y="480"/>
                </a:lnTo>
                <a:lnTo>
                  <a:pt x="1488" y="492"/>
                </a:lnTo>
                <a:lnTo>
                  <a:pt x="1494" y="504"/>
                </a:lnTo>
                <a:lnTo>
                  <a:pt x="1494" y="516"/>
                </a:lnTo>
                <a:lnTo>
                  <a:pt x="1500" y="528"/>
                </a:lnTo>
                <a:lnTo>
                  <a:pt x="1506" y="540"/>
                </a:lnTo>
                <a:lnTo>
                  <a:pt x="1506" y="558"/>
                </a:lnTo>
                <a:lnTo>
                  <a:pt x="1512" y="570"/>
                </a:lnTo>
                <a:lnTo>
                  <a:pt x="1512" y="582"/>
                </a:lnTo>
                <a:lnTo>
                  <a:pt x="1518" y="594"/>
                </a:lnTo>
                <a:lnTo>
                  <a:pt x="1524" y="606"/>
                </a:lnTo>
                <a:lnTo>
                  <a:pt x="1524" y="618"/>
                </a:lnTo>
                <a:lnTo>
                  <a:pt x="1530" y="630"/>
                </a:lnTo>
                <a:lnTo>
                  <a:pt x="1530" y="642"/>
                </a:lnTo>
                <a:lnTo>
                  <a:pt x="1536" y="654"/>
                </a:lnTo>
                <a:lnTo>
                  <a:pt x="1536" y="666"/>
                </a:lnTo>
                <a:lnTo>
                  <a:pt x="1542" y="684"/>
                </a:lnTo>
                <a:lnTo>
                  <a:pt x="1548" y="696"/>
                </a:lnTo>
                <a:lnTo>
                  <a:pt x="1548" y="708"/>
                </a:lnTo>
                <a:lnTo>
                  <a:pt x="1555" y="714"/>
                </a:lnTo>
                <a:lnTo>
                  <a:pt x="1555" y="726"/>
                </a:lnTo>
                <a:lnTo>
                  <a:pt x="1561" y="738"/>
                </a:lnTo>
                <a:lnTo>
                  <a:pt x="1567" y="750"/>
                </a:lnTo>
                <a:lnTo>
                  <a:pt x="1567" y="762"/>
                </a:lnTo>
                <a:lnTo>
                  <a:pt x="1573" y="774"/>
                </a:lnTo>
                <a:lnTo>
                  <a:pt x="1573" y="786"/>
                </a:lnTo>
                <a:lnTo>
                  <a:pt x="1579" y="798"/>
                </a:lnTo>
                <a:lnTo>
                  <a:pt x="1585" y="804"/>
                </a:lnTo>
                <a:lnTo>
                  <a:pt x="1585" y="816"/>
                </a:lnTo>
                <a:lnTo>
                  <a:pt x="1591" y="828"/>
                </a:lnTo>
                <a:lnTo>
                  <a:pt x="1591" y="840"/>
                </a:lnTo>
                <a:lnTo>
                  <a:pt x="1597" y="846"/>
                </a:lnTo>
                <a:lnTo>
                  <a:pt x="1603" y="858"/>
                </a:lnTo>
                <a:lnTo>
                  <a:pt x="1603" y="870"/>
                </a:lnTo>
                <a:lnTo>
                  <a:pt x="1609" y="876"/>
                </a:lnTo>
                <a:lnTo>
                  <a:pt x="1609" y="888"/>
                </a:lnTo>
                <a:lnTo>
                  <a:pt x="1615" y="894"/>
                </a:lnTo>
                <a:lnTo>
                  <a:pt x="1615" y="906"/>
                </a:lnTo>
                <a:lnTo>
                  <a:pt x="1621" y="912"/>
                </a:lnTo>
                <a:lnTo>
                  <a:pt x="1627" y="924"/>
                </a:lnTo>
                <a:lnTo>
                  <a:pt x="1627" y="930"/>
                </a:lnTo>
                <a:lnTo>
                  <a:pt x="1633" y="942"/>
                </a:lnTo>
                <a:lnTo>
                  <a:pt x="1633" y="948"/>
                </a:lnTo>
                <a:lnTo>
                  <a:pt x="1639" y="954"/>
                </a:lnTo>
                <a:lnTo>
                  <a:pt x="1645" y="966"/>
                </a:lnTo>
                <a:lnTo>
                  <a:pt x="1645" y="972"/>
                </a:lnTo>
                <a:lnTo>
                  <a:pt x="1651" y="978"/>
                </a:lnTo>
                <a:lnTo>
                  <a:pt x="1651" y="990"/>
                </a:lnTo>
                <a:lnTo>
                  <a:pt x="1657" y="996"/>
                </a:lnTo>
                <a:lnTo>
                  <a:pt x="1663" y="1002"/>
                </a:lnTo>
                <a:lnTo>
                  <a:pt x="1663" y="1008"/>
                </a:lnTo>
                <a:lnTo>
                  <a:pt x="1669" y="1014"/>
                </a:lnTo>
                <a:lnTo>
                  <a:pt x="1669" y="1020"/>
                </a:lnTo>
                <a:lnTo>
                  <a:pt x="1675" y="1026"/>
                </a:lnTo>
                <a:lnTo>
                  <a:pt x="1681" y="1032"/>
                </a:lnTo>
                <a:lnTo>
                  <a:pt x="1681" y="1038"/>
                </a:lnTo>
                <a:lnTo>
                  <a:pt x="1687" y="1044"/>
                </a:lnTo>
                <a:lnTo>
                  <a:pt x="1687" y="1050"/>
                </a:lnTo>
                <a:lnTo>
                  <a:pt x="1693" y="1056"/>
                </a:lnTo>
                <a:lnTo>
                  <a:pt x="1693" y="1062"/>
                </a:lnTo>
                <a:lnTo>
                  <a:pt x="1699" y="1068"/>
                </a:lnTo>
                <a:lnTo>
                  <a:pt x="1705" y="1074"/>
                </a:lnTo>
                <a:lnTo>
                  <a:pt x="1705" y="1080"/>
                </a:lnTo>
                <a:lnTo>
                  <a:pt x="1711" y="1086"/>
                </a:lnTo>
                <a:lnTo>
                  <a:pt x="1717" y="1092"/>
                </a:lnTo>
                <a:lnTo>
                  <a:pt x="1723" y="1098"/>
                </a:lnTo>
                <a:lnTo>
                  <a:pt x="1729" y="1104"/>
                </a:lnTo>
                <a:lnTo>
                  <a:pt x="1729" y="1110"/>
                </a:lnTo>
                <a:lnTo>
                  <a:pt x="1735" y="1116"/>
                </a:lnTo>
                <a:lnTo>
                  <a:pt x="1741" y="1122"/>
                </a:lnTo>
                <a:lnTo>
                  <a:pt x="1747" y="1128"/>
                </a:lnTo>
                <a:lnTo>
                  <a:pt x="1753" y="1134"/>
                </a:lnTo>
                <a:lnTo>
                  <a:pt x="1759" y="1140"/>
                </a:lnTo>
                <a:lnTo>
                  <a:pt x="1765" y="1146"/>
                </a:lnTo>
                <a:lnTo>
                  <a:pt x="1771" y="1146"/>
                </a:lnTo>
                <a:lnTo>
                  <a:pt x="1777" y="1152"/>
                </a:lnTo>
                <a:lnTo>
                  <a:pt x="1783" y="1158"/>
                </a:lnTo>
                <a:lnTo>
                  <a:pt x="1789" y="1164"/>
                </a:lnTo>
                <a:lnTo>
                  <a:pt x="1795" y="1164"/>
                </a:lnTo>
                <a:lnTo>
                  <a:pt x="1801" y="1170"/>
                </a:lnTo>
                <a:lnTo>
                  <a:pt x="1807" y="1170"/>
                </a:lnTo>
                <a:lnTo>
                  <a:pt x="1813" y="1176"/>
                </a:lnTo>
                <a:lnTo>
                  <a:pt x="1819" y="1176"/>
                </a:lnTo>
                <a:lnTo>
                  <a:pt x="1825" y="1182"/>
                </a:lnTo>
                <a:lnTo>
                  <a:pt x="1831" y="1182"/>
                </a:lnTo>
                <a:lnTo>
                  <a:pt x="1837" y="1188"/>
                </a:lnTo>
                <a:lnTo>
                  <a:pt x="1843" y="1188"/>
                </a:lnTo>
                <a:lnTo>
                  <a:pt x="1849" y="1188"/>
                </a:lnTo>
                <a:lnTo>
                  <a:pt x="1855" y="1188"/>
                </a:lnTo>
                <a:lnTo>
                  <a:pt x="1861" y="1194"/>
                </a:lnTo>
                <a:lnTo>
                  <a:pt x="1867" y="1194"/>
                </a:lnTo>
                <a:lnTo>
                  <a:pt x="1873" y="1194"/>
                </a:lnTo>
                <a:lnTo>
                  <a:pt x="1879" y="1200"/>
                </a:lnTo>
                <a:lnTo>
                  <a:pt x="1885" y="1200"/>
                </a:lnTo>
                <a:lnTo>
                  <a:pt x="1891" y="1200"/>
                </a:lnTo>
                <a:lnTo>
                  <a:pt x="1897" y="1200"/>
                </a:lnTo>
                <a:lnTo>
                  <a:pt x="1903" y="1200"/>
                </a:lnTo>
                <a:lnTo>
                  <a:pt x="1909" y="1200"/>
                </a:lnTo>
                <a:lnTo>
                  <a:pt x="1915" y="1206"/>
                </a:lnTo>
                <a:lnTo>
                  <a:pt x="1921" y="1206"/>
                </a:lnTo>
                <a:lnTo>
                  <a:pt x="1927" y="1206"/>
                </a:lnTo>
                <a:lnTo>
                  <a:pt x="1933" y="1206"/>
                </a:lnTo>
                <a:lnTo>
                  <a:pt x="1939" y="1206"/>
                </a:lnTo>
                <a:lnTo>
                  <a:pt x="1945" y="1206"/>
                </a:lnTo>
                <a:lnTo>
                  <a:pt x="1951" y="1206"/>
                </a:lnTo>
                <a:lnTo>
                  <a:pt x="1957" y="1206"/>
                </a:lnTo>
                <a:lnTo>
                  <a:pt x="1963" y="1206"/>
                </a:lnTo>
                <a:lnTo>
                  <a:pt x="1969" y="1206"/>
                </a:lnTo>
                <a:lnTo>
                  <a:pt x="1975" y="1206"/>
                </a:lnTo>
                <a:lnTo>
                  <a:pt x="1981" y="1212"/>
                </a:lnTo>
                <a:lnTo>
                  <a:pt x="1987" y="1212"/>
                </a:lnTo>
                <a:lnTo>
                  <a:pt x="1993" y="1212"/>
                </a:lnTo>
                <a:lnTo>
                  <a:pt x="1999" y="1212"/>
                </a:lnTo>
                <a:lnTo>
                  <a:pt x="2005" y="1212"/>
                </a:lnTo>
                <a:lnTo>
                  <a:pt x="2011" y="1212"/>
                </a:lnTo>
                <a:lnTo>
                  <a:pt x="2017" y="1212"/>
                </a:lnTo>
                <a:lnTo>
                  <a:pt x="2023" y="1212"/>
                </a:lnTo>
                <a:lnTo>
                  <a:pt x="2029" y="1212"/>
                </a:lnTo>
                <a:lnTo>
                  <a:pt x="2035" y="1212"/>
                </a:lnTo>
                <a:lnTo>
                  <a:pt x="2041" y="1212"/>
                </a:lnTo>
                <a:lnTo>
                  <a:pt x="2047" y="1212"/>
                </a:lnTo>
                <a:lnTo>
                  <a:pt x="2053" y="1212"/>
                </a:lnTo>
                <a:lnTo>
                  <a:pt x="2059" y="1212"/>
                </a:lnTo>
                <a:lnTo>
                  <a:pt x="2065" y="1212"/>
                </a:lnTo>
                <a:lnTo>
                  <a:pt x="2071" y="1212"/>
                </a:lnTo>
                <a:lnTo>
                  <a:pt x="2077" y="1212"/>
                </a:lnTo>
                <a:lnTo>
                  <a:pt x="2083" y="1212"/>
                </a:lnTo>
                <a:lnTo>
                  <a:pt x="2089" y="1212"/>
                </a:lnTo>
                <a:lnTo>
                  <a:pt x="2095" y="1212"/>
                </a:lnTo>
                <a:lnTo>
                  <a:pt x="2101" y="1212"/>
                </a:lnTo>
                <a:lnTo>
                  <a:pt x="2107" y="1212"/>
                </a:lnTo>
                <a:lnTo>
                  <a:pt x="2113" y="1212"/>
                </a:lnTo>
                <a:lnTo>
                  <a:pt x="2119" y="1212"/>
                </a:lnTo>
                <a:lnTo>
                  <a:pt x="2125" y="1212"/>
                </a:lnTo>
                <a:lnTo>
                  <a:pt x="2131" y="1212"/>
                </a:lnTo>
                <a:lnTo>
                  <a:pt x="2137" y="1212"/>
                </a:lnTo>
                <a:lnTo>
                  <a:pt x="2143" y="1212"/>
                </a:lnTo>
                <a:lnTo>
                  <a:pt x="2149" y="1212"/>
                </a:lnTo>
                <a:lnTo>
                  <a:pt x="2155" y="1212"/>
                </a:lnTo>
                <a:lnTo>
                  <a:pt x="2161" y="1212"/>
                </a:lnTo>
                <a:lnTo>
                  <a:pt x="2167" y="1212"/>
                </a:lnTo>
                <a:lnTo>
                  <a:pt x="2173" y="1212"/>
                </a:lnTo>
                <a:lnTo>
                  <a:pt x="2179" y="1212"/>
                </a:lnTo>
                <a:lnTo>
                  <a:pt x="2185" y="1212"/>
                </a:lnTo>
                <a:lnTo>
                  <a:pt x="2191" y="1212"/>
                </a:lnTo>
                <a:lnTo>
                  <a:pt x="2197" y="1212"/>
                </a:lnTo>
                <a:lnTo>
                  <a:pt x="2203" y="1212"/>
                </a:lnTo>
                <a:lnTo>
                  <a:pt x="2209" y="1212"/>
                </a:lnTo>
                <a:lnTo>
                  <a:pt x="2215" y="1212"/>
                </a:lnTo>
                <a:lnTo>
                  <a:pt x="2221" y="1212"/>
                </a:lnTo>
                <a:lnTo>
                  <a:pt x="2227" y="1212"/>
                </a:lnTo>
                <a:lnTo>
                  <a:pt x="2233" y="1212"/>
                </a:lnTo>
                <a:lnTo>
                  <a:pt x="2239" y="1212"/>
                </a:lnTo>
                <a:lnTo>
                  <a:pt x="2245" y="1212"/>
                </a:lnTo>
                <a:lnTo>
                  <a:pt x="2251" y="1212"/>
                </a:lnTo>
                <a:lnTo>
                  <a:pt x="2257" y="1212"/>
                </a:lnTo>
                <a:lnTo>
                  <a:pt x="2263" y="1212"/>
                </a:lnTo>
                <a:lnTo>
                  <a:pt x="2269" y="1212"/>
                </a:lnTo>
                <a:lnTo>
                  <a:pt x="2275" y="1212"/>
                </a:lnTo>
                <a:lnTo>
                  <a:pt x="2281" y="1212"/>
                </a:lnTo>
                <a:lnTo>
                  <a:pt x="2287" y="1212"/>
                </a:lnTo>
                <a:lnTo>
                  <a:pt x="2293" y="1212"/>
                </a:lnTo>
                <a:lnTo>
                  <a:pt x="2299" y="1212"/>
                </a:lnTo>
                <a:lnTo>
                  <a:pt x="2305" y="1212"/>
                </a:lnTo>
                <a:lnTo>
                  <a:pt x="2311" y="1212"/>
                </a:lnTo>
                <a:lnTo>
                  <a:pt x="2317" y="1212"/>
                </a:lnTo>
                <a:lnTo>
                  <a:pt x="2323" y="1212"/>
                </a:lnTo>
                <a:lnTo>
                  <a:pt x="2329" y="1212"/>
                </a:lnTo>
                <a:lnTo>
                  <a:pt x="2335" y="1212"/>
                </a:lnTo>
                <a:lnTo>
                  <a:pt x="2341" y="1212"/>
                </a:lnTo>
                <a:lnTo>
                  <a:pt x="2347" y="1212"/>
                </a:lnTo>
                <a:lnTo>
                  <a:pt x="2353" y="1212"/>
                </a:lnTo>
                <a:lnTo>
                  <a:pt x="2359" y="1212"/>
                </a:lnTo>
                <a:lnTo>
                  <a:pt x="2365" y="1212"/>
                </a:lnTo>
                <a:lnTo>
                  <a:pt x="2371" y="1212"/>
                </a:lnTo>
                <a:lnTo>
                  <a:pt x="2377" y="1212"/>
                </a:lnTo>
                <a:lnTo>
                  <a:pt x="2383" y="1212"/>
                </a:lnTo>
                <a:lnTo>
                  <a:pt x="2389" y="1212"/>
                </a:lnTo>
                <a:lnTo>
                  <a:pt x="2395" y="1212"/>
                </a:lnTo>
                <a:lnTo>
                  <a:pt x="2401" y="1212"/>
                </a:lnTo>
                <a:lnTo>
                  <a:pt x="2407" y="1212"/>
                </a:lnTo>
                <a:lnTo>
                  <a:pt x="2413" y="1212"/>
                </a:lnTo>
                <a:lnTo>
                  <a:pt x="2419" y="1212"/>
                </a:lnTo>
                <a:lnTo>
                  <a:pt x="2425" y="1212"/>
                </a:lnTo>
                <a:lnTo>
                  <a:pt x="2431" y="1212"/>
                </a:lnTo>
                <a:lnTo>
                  <a:pt x="2437" y="1212"/>
                </a:lnTo>
                <a:lnTo>
                  <a:pt x="2443" y="1212"/>
                </a:lnTo>
                <a:lnTo>
                  <a:pt x="2449" y="1212"/>
                </a:lnTo>
                <a:lnTo>
                  <a:pt x="2455" y="1212"/>
                </a:lnTo>
                <a:lnTo>
                  <a:pt x="2461" y="1212"/>
                </a:lnTo>
                <a:lnTo>
                  <a:pt x="2467" y="1212"/>
                </a:lnTo>
                <a:lnTo>
                  <a:pt x="2473" y="1212"/>
                </a:lnTo>
                <a:lnTo>
                  <a:pt x="2479" y="1212"/>
                </a:lnTo>
                <a:lnTo>
                  <a:pt x="2485" y="1212"/>
                </a:lnTo>
                <a:lnTo>
                  <a:pt x="2491" y="1212"/>
                </a:lnTo>
                <a:lnTo>
                  <a:pt x="2497" y="1212"/>
                </a:lnTo>
                <a:lnTo>
                  <a:pt x="2503" y="1212"/>
                </a:lnTo>
                <a:lnTo>
                  <a:pt x="2509" y="1212"/>
                </a:lnTo>
                <a:lnTo>
                  <a:pt x="2515" y="1212"/>
                </a:lnTo>
                <a:lnTo>
                  <a:pt x="2521" y="1212"/>
                </a:lnTo>
                <a:lnTo>
                  <a:pt x="2527" y="1212"/>
                </a:lnTo>
                <a:lnTo>
                  <a:pt x="2533" y="1212"/>
                </a:lnTo>
                <a:lnTo>
                  <a:pt x="2539" y="1212"/>
                </a:lnTo>
                <a:lnTo>
                  <a:pt x="2545" y="1212"/>
                </a:lnTo>
                <a:lnTo>
                  <a:pt x="2551" y="1212"/>
                </a:lnTo>
                <a:lnTo>
                  <a:pt x="2557" y="1212"/>
                </a:lnTo>
                <a:lnTo>
                  <a:pt x="2563" y="1212"/>
                </a:lnTo>
                <a:lnTo>
                  <a:pt x="2569" y="1212"/>
                </a:lnTo>
                <a:lnTo>
                  <a:pt x="2575" y="1212"/>
                </a:lnTo>
                <a:lnTo>
                  <a:pt x="2581" y="1212"/>
                </a:lnTo>
                <a:lnTo>
                  <a:pt x="2587" y="1212"/>
                </a:lnTo>
                <a:lnTo>
                  <a:pt x="2593" y="1212"/>
                </a:lnTo>
                <a:lnTo>
                  <a:pt x="2599" y="1212"/>
                </a:lnTo>
                <a:lnTo>
                  <a:pt x="2605" y="1212"/>
                </a:lnTo>
                <a:lnTo>
                  <a:pt x="2611" y="1212"/>
                </a:lnTo>
                <a:lnTo>
                  <a:pt x="2617" y="1212"/>
                </a:lnTo>
                <a:lnTo>
                  <a:pt x="2623" y="1212"/>
                </a:lnTo>
                <a:lnTo>
                  <a:pt x="2629" y="1212"/>
                </a:lnTo>
                <a:lnTo>
                  <a:pt x="2635" y="1212"/>
                </a:lnTo>
                <a:lnTo>
                  <a:pt x="2641" y="1212"/>
                </a:lnTo>
                <a:lnTo>
                  <a:pt x="2647" y="1212"/>
                </a:lnTo>
                <a:lnTo>
                  <a:pt x="2653" y="1212"/>
                </a:lnTo>
                <a:lnTo>
                  <a:pt x="2659" y="1212"/>
                </a:lnTo>
                <a:lnTo>
                  <a:pt x="2665" y="1212"/>
                </a:lnTo>
                <a:lnTo>
                  <a:pt x="2671" y="1212"/>
                </a:lnTo>
                <a:lnTo>
                  <a:pt x="2677" y="1212"/>
                </a:lnTo>
                <a:lnTo>
                  <a:pt x="2683" y="1212"/>
                </a:lnTo>
                <a:lnTo>
                  <a:pt x="2689" y="1212"/>
                </a:lnTo>
                <a:lnTo>
                  <a:pt x="2695" y="1212"/>
                </a:lnTo>
                <a:lnTo>
                  <a:pt x="2701" y="1212"/>
                </a:lnTo>
                <a:lnTo>
                  <a:pt x="2707" y="1212"/>
                </a:lnTo>
                <a:lnTo>
                  <a:pt x="2713" y="1212"/>
                </a:lnTo>
                <a:lnTo>
                  <a:pt x="2719" y="1212"/>
                </a:lnTo>
                <a:lnTo>
                  <a:pt x="2725" y="1212"/>
                </a:lnTo>
                <a:lnTo>
                  <a:pt x="2731" y="1212"/>
                </a:lnTo>
                <a:lnTo>
                  <a:pt x="2737" y="1212"/>
                </a:lnTo>
                <a:lnTo>
                  <a:pt x="2743" y="1212"/>
                </a:lnTo>
                <a:lnTo>
                  <a:pt x="2749" y="1212"/>
                </a:lnTo>
                <a:lnTo>
                  <a:pt x="2755" y="1212"/>
                </a:lnTo>
                <a:lnTo>
                  <a:pt x="2761" y="1212"/>
                </a:lnTo>
                <a:lnTo>
                  <a:pt x="2767" y="1212"/>
                </a:lnTo>
                <a:lnTo>
                  <a:pt x="2773" y="1212"/>
                </a:lnTo>
                <a:lnTo>
                  <a:pt x="2779" y="1212"/>
                </a:lnTo>
                <a:lnTo>
                  <a:pt x="2785" y="1212"/>
                </a:lnTo>
                <a:lnTo>
                  <a:pt x="2791" y="1212"/>
                </a:lnTo>
                <a:lnTo>
                  <a:pt x="2797" y="1212"/>
                </a:lnTo>
                <a:lnTo>
                  <a:pt x="2803" y="1212"/>
                </a:lnTo>
                <a:lnTo>
                  <a:pt x="2809" y="1212"/>
                </a:lnTo>
                <a:lnTo>
                  <a:pt x="2815" y="1212"/>
                </a:lnTo>
                <a:lnTo>
                  <a:pt x="2821" y="1212"/>
                </a:lnTo>
                <a:lnTo>
                  <a:pt x="2827" y="1212"/>
                </a:lnTo>
                <a:lnTo>
                  <a:pt x="2833" y="1212"/>
                </a:lnTo>
                <a:lnTo>
                  <a:pt x="2839" y="1212"/>
                </a:lnTo>
                <a:lnTo>
                  <a:pt x="2845" y="1212"/>
                </a:lnTo>
                <a:lnTo>
                  <a:pt x="2851" y="1212"/>
                </a:lnTo>
                <a:lnTo>
                  <a:pt x="2857" y="1212"/>
                </a:lnTo>
                <a:lnTo>
                  <a:pt x="2863" y="1212"/>
                </a:lnTo>
                <a:lnTo>
                  <a:pt x="2869" y="1212"/>
                </a:lnTo>
                <a:lnTo>
                  <a:pt x="2875" y="1212"/>
                </a:lnTo>
                <a:lnTo>
                  <a:pt x="2881" y="1212"/>
                </a:lnTo>
                <a:lnTo>
                  <a:pt x="2887" y="1212"/>
                </a:lnTo>
                <a:lnTo>
                  <a:pt x="2893" y="1212"/>
                </a:lnTo>
                <a:lnTo>
                  <a:pt x="2899" y="1212"/>
                </a:lnTo>
                <a:lnTo>
                  <a:pt x="2905" y="1212"/>
                </a:lnTo>
                <a:lnTo>
                  <a:pt x="2911" y="1212"/>
                </a:lnTo>
                <a:lnTo>
                  <a:pt x="2917" y="1212"/>
                </a:lnTo>
                <a:lnTo>
                  <a:pt x="2923" y="1212"/>
                </a:lnTo>
                <a:lnTo>
                  <a:pt x="2929" y="1212"/>
                </a:lnTo>
                <a:lnTo>
                  <a:pt x="2935" y="1212"/>
                </a:lnTo>
                <a:lnTo>
                  <a:pt x="2941" y="1212"/>
                </a:lnTo>
                <a:lnTo>
                  <a:pt x="2947" y="1212"/>
                </a:lnTo>
                <a:lnTo>
                  <a:pt x="2953" y="1212"/>
                </a:lnTo>
                <a:lnTo>
                  <a:pt x="2959" y="1212"/>
                </a:lnTo>
                <a:lnTo>
                  <a:pt x="2965" y="1212"/>
                </a:lnTo>
                <a:lnTo>
                  <a:pt x="2971" y="1212"/>
                </a:lnTo>
                <a:lnTo>
                  <a:pt x="2977" y="1212"/>
                </a:lnTo>
                <a:lnTo>
                  <a:pt x="2983" y="1212"/>
                </a:lnTo>
                <a:lnTo>
                  <a:pt x="2989" y="1212"/>
                </a:lnTo>
                <a:lnTo>
                  <a:pt x="2995" y="1212"/>
                </a:lnTo>
                <a:lnTo>
                  <a:pt x="3001" y="1212"/>
                </a:lnTo>
                <a:lnTo>
                  <a:pt x="3007" y="1212"/>
                </a:lnTo>
                <a:lnTo>
                  <a:pt x="3013" y="1212"/>
                </a:lnTo>
                <a:lnTo>
                  <a:pt x="3019" y="1212"/>
                </a:lnTo>
                <a:lnTo>
                  <a:pt x="3025" y="1212"/>
                </a:lnTo>
                <a:lnTo>
                  <a:pt x="3031" y="1212"/>
                </a:lnTo>
                <a:lnTo>
                  <a:pt x="3037" y="1212"/>
                </a:lnTo>
                <a:lnTo>
                  <a:pt x="3043" y="1212"/>
                </a:lnTo>
                <a:lnTo>
                  <a:pt x="3049" y="1212"/>
                </a:lnTo>
                <a:lnTo>
                  <a:pt x="3055" y="1212"/>
                </a:lnTo>
                <a:lnTo>
                  <a:pt x="3061" y="1212"/>
                </a:lnTo>
                <a:lnTo>
                  <a:pt x="3067" y="1212"/>
                </a:lnTo>
                <a:lnTo>
                  <a:pt x="3073" y="1212"/>
                </a:lnTo>
                <a:lnTo>
                  <a:pt x="3079" y="1212"/>
                </a:lnTo>
                <a:lnTo>
                  <a:pt x="3085" y="1212"/>
                </a:lnTo>
                <a:lnTo>
                  <a:pt x="3091" y="1212"/>
                </a:lnTo>
                <a:lnTo>
                  <a:pt x="3097" y="1212"/>
                </a:lnTo>
                <a:lnTo>
                  <a:pt x="3103" y="1212"/>
                </a:lnTo>
                <a:lnTo>
                  <a:pt x="3109" y="1212"/>
                </a:lnTo>
                <a:lnTo>
                  <a:pt x="3115" y="1212"/>
                </a:lnTo>
                <a:lnTo>
                  <a:pt x="3121" y="1212"/>
                </a:lnTo>
                <a:lnTo>
                  <a:pt x="3127" y="1212"/>
                </a:lnTo>
                <a:lnTo>
                  <a:pt x="3133" y="1212"/>
                </a:lnTo>
                <a:lnTo>
                  <a:pt x="3139" y="1212"/>
                </a:lnTo>
                <a:lnTo>
                  <a:pt x="3145" y="1212"/>
                </a:lnTo>
                <a:lnTo>
                  <a:pt x="3151" y="1212"/>
                </a:lnTo>
                <a:lnTo>
                  <a:pt x="3157" y="1212"/>
                </a:lnTo>
                <a:lnTo>
                  <a:pt x="3163" y="1212"/>
                </a:lnTo>
                <a:lnTo>
                  <a:pt x="3169" y="1212"/>
                </a:lnTo>
                <a:lnTo>
                  <a:pt x="3175" y="1212"/>
                </a:lnTo>
                <a:lnTo>
                  <a:pt x="3181" y="1212"/>
                </a:lnTo>
                <a:lnTo>
                  <a:pt x="3187" y="1212"/>
                </a:lnTo>
                <a:lnTo>
                  <a:pt x="3193" y="1212"/>
                </a:lnTo>
                <a:lnTo>
                  <a:pt x="3199" y="1212"/>
                </a:lnTo>
                <a:lnTo>
                  <a:pt x="3205" y="1212"/>
                </a:lnTo>
                <a:lnTo>
                  <a:pt x="3211" y="1212"/>
                </a:lnTo>
                <a:lnTo>
                  <a:pt x="3217" y="1212"/>
                </a:lnTo>
                <a:lnTo>
                  <a:pt x="3223" y="1212"/>
                </a:lnTo>
                <a:lnTo>
                  <a:pt x="3229" y="1212"/>
                </a:lnTo>
                <a:lnTo>
                  <a:pt x="3235" y="1212"/>
                </a:lnTo>
                <a:lnTo>
                  <a:pt x="3241" y="1212"/>
                </a:lnTo>
                <a:lnTo>
                  <a:pt x="3247" y="1212"/>
                </a:lnTo>
                <a:lnTo>
                  <a:pt x="3253" y="1212"/>
                </a:lnTo>
                <a:lnTo>
                  <a:pt x="3259" y="1212"/>
                </a:lnTo>
                <a:lnTo>
                  <a:pt x="3265" y="1212"/>
                </a:lnTo>
                <a:lnTo>
                  <a:pt x="3271" y="1212"/>
                </a:lnTo>
                <a:lnTo>
                  <a:pt x="3277" y="1212"/>
                </a:lnTo>
                <a:lnTo>
                  <a:pt x="3283" y="1212"/>
                </a:lnTo>
                <a:lnTo>
                  <a:pt x="3289" y="1212"/>
                </a:lnTo>
                <a:lnTo>
                  <a:pt x="3295" y="1212"/>
                </a:lnTo>
                <a:lnTo>
                  <a:pt x="3301" y="1212"/>
                </a:lnTo>
                <a:lnTo>
                  <a:pt x="3307" y="1212"/>
                </a:lnTo>
                <a:lnTo>
                  <a:pt x="3313" y="1212"/>
                </a:lnTo>
                <a:lnTo>
                  <a:pt x="3319" y="1212"/>
                </a:lnTo>
                <a:lnTo>
                  <a:pt x="3325" y="1212"/>
                </a:lnTo>
                <a:lnTo>
                  <a:pt x="3331" y="1212"/>
                </a:lnTo>
                <a:lnTo>
                  <a:pt x="3337" y="1212"/>
                </a:lnTo>
                <a:lnTo>
                  <a:pt x="3343" y="1212"/>
                </a:lnTo>
                <a:lnTo>
                  <a:pt x="3349" y="1212"/>
                </a:lnTo>
                <a:lnTo>
                  <a:pt x="3355" y="1212"/>
                </a:lnTo>
                <a:lnTo>
                  <a:pt x="3361" y="1212"/>
                </a:lnTo>
                <a:lnTo>
                  <a:pt x="3367" y="1212"/>
                </a:lnTo>
                <a:lnTo>
                  <a:pt x="3373" y="1212"/>
                </a:lnTo>
                <a:lnTo>
                  <a:pt x="3379" y="1212"/>
                </a:lnTo>
                <a:lnTo>
                  <a:pt x="3385" y="1212"/>
                </a:lnTo>
                <a:lnTo>
                  <a:pt x="3391" y="1212"/>
                </a:lnTo>
                <a:lnTo>
                  <a:pt x="3397" y="1212"/>
                </a:lnTo>
                <a:lnTo>
                  <a:pt x="3403" y="1212"/>
                </a:lnTo>
                <a:lnTo>
                  <a:pt x="3409" y="1212"/>
                </a:lnTo>
                <a:lnTo>
                  <a:pt x="3415" y="1212"/>
                </a:lnTo>
                <a:lnTo>
                  <a:pt x="3421" y="1212"/>
                </a:lnTo>
                <a:lnTo>
                  <a:pt x="3427" y="1212"/>
                </a:lnTo>
                <a:lnTo>
                  <a:pt x="3433" y="1212"/>
                </a:lnTo>
                <a:lnTo>
                  <a:pt x="3439" y="1212"/>
                </a:lnTo>
                <a:lnTo>
                  <a:pt x="3445" y="1212"/>
                </a:lnTo>
                <a:lnTo>
                  <a:pt x="3451" y="1212"/>
                </a:lnTo>
                <a:lnTo>
                  <a:pt x="3457" y="1212"/>
                </a:lnTo>
                <a:lnTo>
                  <a:pt x="3463" y="1212"/>
                </a:lnTo>
                <a:lnTo>
                  <a:pt x="3469" y="1212"/>
                </a:lnTo>
                <a:lnTo>
                  <a:pt x="3475" y="1212"/>
                </a:lnTo>
                <a:lnTo>
                  <a:pt x="3481" y="1212"/>
                </a:lnTo>
                <a:lnTo>
                  <a:pt x="3487" y="1212"/>
                </a:lnTo>
                <a:lnTo>
                  <a:pt x="3493" y="1212"/>
                </a:lnTo>
                <a:lnTo>
                  <a:pt x="3499" y="1212"/>
                </a:lnTo>
                <a:lnTo>
                  <a:pt x="3505" y="1212"/>
                </a:lnTo>
                <a:lnTo>
                  <a:pt x="3511" y="1212"/>
                </a:lnTo>
                <a:lnTo>
                  <a:pt x="3517" y="1212"/>
                </a:lnTo>
                <a:lnTo>
                  <a:pt x="3523" y="1212"/>
                </a:lnTo>
                <a:lnTo>
                  <a:pt x="3529" y="1212"/>
                </a:lnTo>
                <a:lnTo>
                  <a:pt x="3535" y="1212"/>
                </a:lnTo>
                <a:lnTo>
                  <a:pt x="3541" y="1212"/>
                </a:lnTo>
                <a:lnTo>
                  <a:pt x="3547" y="1212"/>
                </a:lnTo>
                <a:lnTo>
                  <a:pt x="3547" y="12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2720" y="3225960"/>
            <a:ext cx="3692520" cy="1117440"/>
          </a:xfrm>
          <a:custGeom>
            <a:avLst/>
            <a:gdLst/>
            <a:ahLst/>
            <a:rect l="l" t="t" r="r" b="b"/>
            <a:pathLst>
              <a:path w="3229" h="1044">
                <a:moveTo>
                  <a:pt x="0" y="1044"/>
                </a:moveTo>
                <a:lnTo>
                  <a:pt x="0" y="1044"/>
                </a:lnTo>
                <a:lnTo>
                  <a:pt x="6" y="1044"/>
                </a:lnTo>
                <a:lnTo>
                  <a:pt x="12" y="1044"/>
                </a:lnTo>
                <a:lnTo>
                  <a:pt x="18" y="1044"/>
                </a:lnTo>
                <a:lnTo>
                  <a:pt x="24" y="1044"/>
                </a:lnTo>
                <a:lnTo>
                  <a:pt x="30" y="1044"/>
                </a:lnTo>
                <a:lnTo>
                  <a:pt x="36" y="1044"/>
                </a:lnTo>
                <a:lnTo>
                  <a:pt x="42" y="1044"/>
                </a:lnTo>
                <a:lnTo>
                  <a:pt x="48" y="1044"/>
                </a:lnTo>
                <a:lnTo>
                  <a:pt x="54" y="1044"/>
                </a:lnTo>
                <a:lnTo>
                  <a:pt x="60" y="1044"/>
                </a:lnTo>
                <a:lnTo>
                  <a:pt x="66" y="1044"/>
                </a:lnTo>
                <a:lnTo>
                  <a:pt x="72" y="1044"/>
                </a:lnTo>
                <a:lnTo>
                  <a:pt x="78" y="1044"/>
                </a:lnTo>
                <a:lnTo>
                  <a:pt x="84" y="1044"/>
                </a:lnTo>
                <a:lnTo>
                  <a:pt x="90" y="1044"/>
                </a:lnTo>
                <a:lnTo>
                  <a:pt x="96" y="1044"/>
                </a:lnTo>
                <a:lnTo>
                  <a:pt x="102" y="1044"/>
                </a:lnTo>
                <a:lnTo>
                  <a:pt x="108" y="1044"/>
                </a:lnTo>
                <a:lnTo>
                  <a:pt x="114" y="1044"/>
                </a:lnTo>
                <a:lnTo>
                  <a:pt x="120" y="1044"/>
                </a:lnTo>
                <a:lnTo>
                  <a:pt x="126" y="1044"/>
                </a:lnTo>
                <a:lnTo>
                  <a:pt x="132" y="1044"/>
                </a:lnTo>
                <a:lnTo>
                  <a:pt x="138" y="1044"/>
                </a:lnTo>
                <a:lnTo>
                  <a:pt x="144" y="1044"/>
                </a:lnTo>
                <a:lnTo>
                  <a:pt x="150" y="1044"/>
                </a:lnTo>
                <a:lnTo>
                  <a:pt x="156" y="1044"/>
                </a:lnTo>
                <a:lnTo>
                  <a:pt x="162" y="1044"/>
                </a:lnTo>
                <a:lnTo>
                  <a:pt x="168" y="1044"/>
                </a:lnTo>
                <a:lnTo>
                  <a:pt x="174" y="1044"/>
                </a:lnTo>
                <a:lnTo>
                  <a:pt x="180" y="1044"/>
                </a:lnTo>
                <a:lnTo>
                  <a:pt x="186" y="1044"/>
                </a:lnTo>
                <a:lnTo>
                  <a:pt x="192" y="1044"/>
                </a:lnTo>
                <a:lnTo>
                  <a:pt x="198" y="1044"/>
                </a:lnTo>
                <a:lnTo>
                  <a:pt x="204" y="1044"/>
                </a:lnTo>
                <a:lnTo>
                  <a:pt x="210" y="1044"/>
                </a:lnTo>
                <a:lnTo>
                  <a:pt x="216" y="1044"/>
                </a:lnTo>
                <a:lnTo>
                  <a:pt x="222" y="1044"/>
                </a:lnTo>
                <a:lnTo>
                  <a:pt x="228" y="1044"/>
                </a:lnTo>
                <a:lnTo>
                  <a:pt x="234" y="1044"/>
                </a:lnTo>
                <a:lnTo>
                  <a:pt x="240" y="1044"/>
                </a:lnTo>
                <a:lnTo>
                  <a:pt x="246" y="1044"/>
                </a:lnTo>
                <a:lnTo>
                  <a:pt x="252" y="1044"/>
                </a:lnTo>
                <a:lnTo>
                  <a:pt x="258" y="1044"/>
                </a:lnTo>
                <a:lnTo>
                  <a:pt x="264" y="1044"/>
                </a:lnTo>
                <a:lnTo>
                  <a:pt x="270" y="1044"/>
                </a:lnTo>
                <a:lnTo>
                  <a:pt x="276" y="1044"/>
                </a:lnTo>
                <a:lnTo>
                  <a:pt x="282" y="1038"/>
                </a:lnTo>
                <a:lnTo>
                  <a:pt x="288" y="1038"/>
                </a:lnTo>
                <a:lnTo>
                  <a:pt x="294" y="1038"/>
                </a:lnTo>
                <a:lnTo>
                  <a:pt x="300" y="1038"/>
                </a:lnTo>
                <a:lnTo>
                  <a:pt x="306" y="1038"/>
                </a:lnTo>
                <a:lnTo>
                  <a:pt x="312" y="1038"/>
                </a:lnTo>
                <a:lnTo>
                  <a:pt x="318" y="1038"/>
                </a:lnTo>
                <a:lnTo>
                  <a:pt x="324" y="1038"/>
                </a:lnTo>
                <a:lnTo>
                  <a:pt x="330" y="1038"/>
                </a:lnTo>
                <a:lnTo>
                  <a:pt x="336" y="1038"/>
                </a:lnTo>
                <a:lnTo>
                  <a:pt x="342" y="1038"/>
                </a:lnTo>
                <a:lnTo>
                  <a:pt x="348" y="1032"/>
                </a:lnTo>
                <a:lnTo>
                  <a:pt x="354" y="1032"/>
                </a:lnTo>
                <a:lnTo>
                  <a:pt x="360" y="1032"/>
                </a:lnTo>
                <a:lnTo>
                  <a:pt x="366" y="1032"/>
                </a:lnTo>
                <a:lnTo>
                  <a:pt x="372" y="1032"/>
                </a:lnTo>
                <a:lnTo>
                  <a:pt x="378" y="1026"/>
                </a:lnTo>
                <a:lnTo>
                  <a:pt x="384" y="1026"/>
                </a:lnTo>
                <a:lnTo>
                  <a:pt x="390" y="1026"/>
                </a:lnTo>
                <a:lnTo>
                  <a:pt x="396" y="1020"/>
                </a:lnTo>
                <a:lnTo>
                  <a:pt x="402" y="1020"/>
                </a:lnTo>
                <a:lnTo>
                  <a:pt x="408" y="1020"/>
                </a:lnTo>
                <a:lnTo>
                  <a:pt x="414" y="1014"/>
                </a:lnTo>
                <a:lnTo>
                  <a:pt x="420" y="1014"/>
                </a:lnTo>
                <a:lnTo>
                  <a:pt x="426" y="1014"/>
                </a:lnTo>
                <a:lnTo>
                  <a:pt x="432" y="1008"/>
                </a:lnTo>
                <a:lnTo>
                  <a:pt x="438" y="1002"/>
                </a:lnTo>
                <a:lnTo>
                  <a:pt x="444" y="1002"/>
                </a:lnTo>
                <a:lnTo>
                  <a:pt x="450" y="996"/>
                </a:lnTo>
                <a:lnTo>
                  <a:pt x="456" y="990"/>
                </a:lnTo>
                <a:lnTo>
                  <a:pt x="462" y="990"/>
                </a:lnTo>
                <a:lnTo>
                  <a:pt x="468" y="984"/>
                </a:lnTo>
                <a:lnTo>
                  <a:pt x="474" y="978"/>
                </a:lnTo>
                <a:lnTo>
                  <a:pt x="480" y="972"/>
                </a:lnTo>
                <a:lnTo>
                  <a:pt x="486" y="972"/>
                </a:lnTo>
                <a:lnTo>
                  <a:pt x="492" y="966"/>
                </a:lnTo>
                <a:lnTo>
                  <a:pt x="498" y="960"/>
                </a:lnTo>
                <a:lnTo>
                  <a:pt x="504" y="954"/>
                </a:lnTo>
                <a:lnTo>
                  <a:pt x="510" y="948"/>
                </a:lnTo>
                <a:lnTo>
                  <a:pt x="516" y="942"/>
                </a:lnTo>
                <a:lnTo>
                  <a:pt x="522" y="936"/>
                </a:lnTo>
                <a:lnTo>
                  <a:pt x="522" y="930"/>
                </a:lnTo>
                <a:lnTo>
                  <a:pt x="528" y="924"/>
                </a:lnTo>
                <a:lnTo>
                  <a:pt x="534" y="918"/>
                </a:lnTo>
                <a:lnTo>
                  <a:pt x="534" y="912"/>
                </a:lnTo>
                <a:lnTo>
                  <a:pt x="540" y="906"/>
                </a:lnTo>
                <a:lnTo>
                  <a:pt x="540" y="900"/>
                </a:lnTo>
                <a:lnTo>
                  <a:pt x="546" y="894"/>
                </a:lnTo>
                <a:lnTo>
                  <a:pt x="546" y="888"/>
                </a:lnTo>
                <a:lnTo>
                  <a:pt x="552" y="882"/>
                </a:lnTo>
                <a:lnTo>
                  <a:pt x="558" y="876"/>
                </a:lnTo>
                <a:lnTo>
                  <a:pt x="564" y="870"/>
                </a:lnTo>
                <a:lnTo>
                  <a:pt x="564" y="864"/>
                </a:lnTo>
                <a:lnTo>
                  <a:pt x="570" y="858"/>
                </a:lnTo>
                <a:lnTo>
                  <a:pt x="570" y="852"/>
                </a:lnTo>
                <a:lnTo>
                  <a:pt x="576" y="840"/>
                </a:lnTo>
                <a:lnTo>
                  <a:pt x="576" y="834"/>
                </a:lnTo>
                <a:lnTo>
                  <a:pt x="582" y="828"/>
                </a:lnTo>
                <a:lnTo>
                  <a:pt x="582" y="822"/>
                </a:lnTo>
                <a:lnTo>
                  <a:pt x="588" y="816"/>
                </a:lnTo>
                <a:lnTo>
                  <a:pt x="588" y="810"/>
                </a:lnTo>
                <a:lnTo>
                  <a:pt x="594" y="804"/>
                </a:lnTo>
                <a:lnTo>
                  <a:pt x="600" y="792"/>
                </a:lnTo>
                <a:lnTo>
                  <a:pt x="600" y="786"/>
                </a:lnTo>
                <a:lnTo>
                  <a:pt x="606" y="780"/>
                </a:lnTo>
                <a:lnTo>
                  <a:pt x="606" y="768"/>
                </a:lnTo>
                <a:lnTo>
                  <a:pt x="612" y="762"/>
                </a:lnTo>
                <a:lnTo>
                  <a:pt x="612" y="756"/>
                </a:lnTo>
                <a:lnTo>
                  <a:pt x="618" y="744"/>
                </a:lnTo>
                <a:lnTo>
                  <a:pt x="618" y="738"/>
                </a:lnTo>
                <a:lnTo>
                  <a:pt x="624" y="732"/>
                </a:lnTo>
                <a:lnTo>
                  <a:pt x="624" y="720"/>
                </a:lnTo>
                <a:lnTo>
                  <a:pt x="630" y="714"/>
                </a:lnTo>
                <a:lnTo>
                  <a:pt x="630" y="702"/>
                </a:lnTo>
                <a:lnTo>
                  <a:pt x="636" y="696"/>
                </a:lnTo>
                <a:lnTo>
                  <a:pt x="642" y="684"/>
                </a:lnTo>
                <a:lnTo>
                  <a:pt x="642" y="672"/>
                </a:lnTo>
                <a:lnTo>
                  <a:pt x="648" y="666"/>
                </a:lnTo>
                <a:lnTo>
                  <a:pt x="648" y="654"/>
                </a:lnTo>
                <a:lnTo>
                  <a:pt x="654" y="648"/>
                </a:lnTo>
                <a:lnTo>
                  <a:pt x="654" y="636"/>
                </a:lnTo>
                <a:lnTo>
                  <a:pt x="660" y="624"/>
                </a:lnTo>
                <a:lnTo>
                  <a:pt x="660" y="618"/>
                </a:lnTo>
                <a:lnTo>
                  <a:pt x="666" y="606"/>
                </a:lnTo>
                <a:lnTo>
                  <a:pt x="666" y="594"/>
                </a:lnTo>
                <a:lnTo>
                  <a:pt x="672" y="582"/>
                </a:lnTo>
                <a:lnTo>
                  <a:pt x="672" y="576"/>
                </a:lnTo>
                <a:lnTo>
                  <a:pt x="678" y="564"/>
                </a:lnTo>
                <a:lnTo>
                  <a:pt x="684" y="552"/>
                </a:lnTo>
                <a:lnTo>
                  <a:pt x="684" y="540"/>
                </a:lnTo>
                <a:lnTo>
                  <a:pt x="690" y="534"/>
                </a:lnTo>
                <a:lnTo>
                  <a:pt x="690" y="522"/>
                </a:lnTo>
                <a:lnTo>
                  <a:pt x="696" y="510"/>
                </a:lnTo>
                <a:lnTo>
                  <a:pt x="696" y="498"/>
                </a:lnTo>
                <a:lnTo>
                  <a:pt x="702" y="486"/>
                </a:lnTo>
                <a:lnTo>
                  <a:pt x="702" y="474"/>
                </a:lnTo>
                <a:lnTo>
                  <a:pt x="708" y="468"/>
                </a:lnTo>
                <a:lnTo>
                  <a:pt x="708" y="456"/>
                </a:lnTo>
                <a:lnTo>
                  <a:pt x="714" y="444"/>
                </a:lnTo>
                <a:lnTo>
                  <a:pt x="714" y="432"/>
                </a:lnTo>
                <a:lnTo>
                  <a:pt x="720" y="420"/>
                </a:lnTo>
                <a:lnTo>
                  <a:pt x="726" y="408"/>
                </a:lnTo>
                <a:lnTo>
                  <a:pt x="726" y="396"/>
                </a:lnTo>
                <a:lnTo>
                  <a:pt x="732" y="384"/>
                </a:lnTo>
                <a:lnTo>
                  <a:pt x="732" y="372"/>
                </a:lnTo>
                <a:lnTo>
                  <a:pt x="738" y="366"/>
                </a:lnTo>
                <a:lnTo>
                  <a:pt x="738" y="354"/>
                </a:lnTo>
                <a:lnTo>
                  <a:pt x="744" y="342"/>
                </a:lnTo>
                <a:lnTo>
                  <a:pt x="744" y="330"/>
                </a:lnTo>
                <a:lnTo>
                  <a:pt x="750" y="318"/>
                </a:lnTo>
                <a:lnTo>
                  <a:pt x="750" y="306"/>
                </a:lnTo>
                <a:lnTo>
                  <a:pt x="756" y="300"/>
                </a:lnTo>
                <a:lnTo>
                  <a:pt x="756" y="288"/>
                </a:lnTo>
                <a:lnTo>
                  <a:pt x="762" y="276"/>
                </a:lnTo>
                <a:lnTo>
                  <a:pt x="768" y="264"/>
                </a:lnTo>
                <a:lnTo>
                  <a:pt x="768" y="252"/>
                </a:lnTo>
                <a:lnTo>
                  <a:pt x="774" y="246"/>
                </a:lnTo>
                <a:lnTo>
                  <a:pt x="774" y="234"/>
                </a:lnTo>
                <a:lnTo>
                  <a:pt x="780" y="222"/>
                </a:lnTo>
                <a:lnTo>
                  <a:pt x="780" y="216"/>
                </a:lnTo>
                <a:lnTo>
                  <a:pt x="786" y="204"/>
                </a:lnTo>
                <a:lnTo>
                  <a:pt x="786" y="192"/>
                </a:lnTo>
                <a:lnTo>
                  <a:pt x="792" y="186"/>
                </a:lnTo>
                <a:lnTo>
                  <a:pt x="792" y="174"/>
                </a:lnTo>
                <a:lnTo>
                  <a:pt x="798" y="162"/>
                </a:lnTo>
                <a:lnTo>
                  <a:pt x="798" y="156"/>
                </a:lnTo>
                <a:lnTo>
                  <a:pt x="804" y="144"/>
                </a:lnTo>
                <a:lnTo>
                  <a:pt x="810" y="138"/>
                </a:lnTo>
                <a:lnTo>
                  <a:pt x="810" y="132"/>
                </a:lnTo>
                <a:lnTo>
                  <a:pt x="816" y="120"/>
                </a:lnTo>
                <a:lnTo>
                  <a:pt x="816" y="114"/>
                </a:lnTo>
                <a:lnTo>
                  <a:pt x="822" y="108"/>
                </a:lnTo>
                <a:lnTo>
                  <a:pt x="822" y="96"/>
                </a:lnTo>
                <a:lnTo>
                  <a:pt x="828" y="90"/>
                </a:lnTo>
                <a:lnTo>
                  <a:pt x="828" y="84"/>
                </a:lnTo>
                <a:lnTo>
                  <a:pt x="834" y="78"/>
                </a:lnTo>
                <a:lnTo>
                  <a:pt x="834" y="72"/>
                </a:lnTo>
                <a:lnTo>
                  <a:pt x="840" y="60"/>
                </a:lnTo>
                <a:lnTo>
                  <a:pt x="840" y="54"/>
                </a:lnTo>
                <a:lnTo>
                  <a:pt x="846" y="48"/>
                </a:lnTo>
                <a:lnTo>
                  <a:pt x="852" y="42"/>
                </a:lnTo>
                <a:lnTo>
                  <a:pt x="858" y="36"/>
                </a:lnTo>
                <a:lnTo>
                  <a:pt x="858" y="30"/>
                </a:lnTo>
                <a:lnTo>
                  <a:pt x="864" y="24"/>
                </a:lnTo>
                <a:lnTo>
                  <a:pt x="870" y="18"/>
                </a:lnTo>
                <a:lnTo>
                  <a:pt x="876" y="12"/>
                </a:lnTo>
                <a:lnTo>
                  <a:pt x="882" y="6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6"/>
                </a:lnTo>
                <a:lnTo>
                  <a:pt x="930" y="12"/>
                </a:lnTo>
                <a:lnTo>
                  <a:pt x="936" y="12"/>
                </a:lnTo>
                <a:lnTo>
                  <a:pt x="942" y="18"/>
                </a:lnTo>
                <a:lnTo>
                  <a:pt x="948" y="24"/>
                </a:lnTo>
                <a:lnTo>
                  <a:pt x="954" y="30"/>
                </a:lnTo>
                <a:lnTo>
                  <a:pt x="954" y="36"/>
                </a:lnTo>
                <a:lnTo>
                  <a:pt x="960" y="42"/>
                </a:lnTo>
                <a:lnTo>
                  <a:pt x="960" y="48"/>
                </a:lnTo>
                <a:lnTo>
                  <a:pt x="966" y="54"/>
                </a:lnTo>
                <a:lnTo>
                  <a:pt x="966" y="60"/>
                </a:lnTo>
                <a:lnTo>
                  <a:pt x="972" y="66"/>
                </a:lnTo>
                <a:lnTo>
                  <a:pt x="972" y="72"/>
                </a:lnTo>
                <a:lnTo>
                  <a:pt x="978" y="78"/>
                </a:lnTo>
                <a:lnTo>
                  <a:pt x="984" y="84"/>
                </a:lnTo>
                <a:lnTo>
                  <a:pt x="984" y="96"/>
                </a:lnTo>
                <a:lnTo>
                  <a:pt x="990" y="102"/>
                </a:lnTo>
                <a:lnTo>
                  <a:pt x="990" y="108"/>
                </a:lnTo>
                <a:lnTo>
                  <a:pt x="996" y="114"/>
                </a:lnTo>
                <a:lnTo>
                  <a:pt x="996" y="126"/>
                </a:lnTo>
                <a:lnTo>
                  <a:pt x="1002" y="132"/>
                </a:lnTo>
                <a:lnTo>
                  <a:pt x="1002" y="144"/>
                </a:lnTo>
                <a:lnTo>
                  <a:pt x="1008" y="150"/>
                </a:lnTo>
                <a:lnTo>
                  <a:pt x="1008" y="162"/>
                </a:lnTo>
                <a:lnTo>
                  <a:pt x="1014" y="168"/>
                </a:lnTo>
                <a:lnTo>
                  <a:pt x="1014" y="180"/>
                </a:lnTo>
                <a:lnTo>
                  <a:pt x="1020" y="186"/>
                </a:lnTo>
                <a:lnTo>
                  <a:pt x="1026" y="198"/>
                </a:lnTo>
                <a:lnTo>
                  <a:pt x="1026" y="210"/>
                </a:lnTo>
                <a:lnTo>
                  <a:pt x="1032" y="216"/>
                </a:lnTo>
                <a:lnTo>
                  <a:pt x="1032" y="228"/>
                </a:lnTo>
                <a:lnTo>
                  <a:pt x="1038" y="240"/>
                </a:lnTo>
                <a:lnTo>
                  <a:pt x="1038" y="246"/>
                </a:lnTo>
                <a:lnTo>
                  <a:pt x="1044" y="258"/>
                </a:lnTo>
                <a:lnTo>
                  <a:pt x="1044" y="270"/>
                </a:lnTo>
                <a:lnTo>
                  <a:pt x="1050" y="282"/>
                </a:lnTo>
                <a:lnTo>
                  <a:pt x="1050" y="294"/>
                </a:lnTo>
                <a:lnTo>
                  <a:pt x="1056" y="300"/>
                </a:lnTo>
                <a:lnTo>
                  <a:pt x="1056" y="312"/>
                </a:lnTo>
                <a:lnTo>
                  <a:pt x="1062" y="324"/>
                </a:lnTo>
                <a:lnTo>
                  <a:pt x="1068" y="336"/>
                </a:lnTo>
                <a:lnTo>
                  <a:pt x="1068" y="348"/>
                </a:lnTo>
                <a:lnTo>
                  <a:pt x="1074" y="360"/>
                </a:lnTo>
                <a:lnTo>
                  <a:pt x="1074" y="366"/>
                </a:lnTo>
                <a:lnTo>
                  <a:pt x="1080" y="378"/>
                </a:lnTo>
                <a:lnTo>
                  <a:pt x="1080" y="390"/>
                </a:lnTo>
                <a:lnTo>
                  <a:pt x="1086" y="402"/>
                </a:lnTo>
                <a:lnTo>
                  <a:pt x="1086" y="414"/>
                </a:lnTo>
                <a:lnTo>
                  <a:pt x="1092" y="426"/>
                </a:lnTo>
                <a:lnTo>
                  <a:pt x="1092" y="438"/>
                </a:lnTo>
                <a:lnTo>
                  <a:pt x="1098" y="450"/>
                </a:lnTo>
                <a:lnTo>
                  <a:pt x="1098" y="456"/>
                </a:lnTo>
                <a:lnTo>
                  <a:pt x="1104" y="468"/>
                </a:lnTo>
                <a:lnTo>
                  <a:pt x="1110" y="480"/>
                </a:lnTo>
                <a:lnTo>
                  <a:pt x="1110" y="492"/>
                </a:lnTo>
                <a:lnTo>
                  <a:pt x="1116" y="504"/>
                </a:lnTo>
                <a:lnTo>
                  <a:pt x="1116" y="516"/>
                </a:lnTo>
                <a:lnTo>
                  <a:pt x="1122" y="528"/>
                </a:lnTo>
                <a:lnTo>
                  <a:pt x="1122" y="534"/>
                </a:lnTo>
                <a:lnTo>
                  <a:pt x="1128" y="546"/>
                </a:lnTo>
                <a:lnTo>
                  <a:pt x="1128" y="558"/>
                </a:lnTo>
                <a:lnTo>
                  <a:pt x="1134" y="570"/>
                </a:lnTo>
                <a:lnTo>
                  <a:pt x="1134" y="576"/>
                </a:lnTo>
                <a:lnTo>
                  <a:pt x="1140" y="588"/>
                </a:lnTo>
                <a:lnTo>
                  <a:pt x="1140" y="600"/>
                </a:lnTo>
                <a:lnTo>
                  <a:pt x="1146" y="612"/>
                </a:lnTo>
                <a:lnTo>
                  <a:pt x="1152" y="618"/>
                </a:lnTo>
                <a:lnTo>
                  <a:pt x="1152" y="630"/>
                </a:lnTo>
                <a:lnTo>
                  <a:pt x="1158" y="642"/>
                </a:lnTo>
                <a:lnTo>
                  <a:pt x="1158" y="648"/>
                </a:lnTo>
                <a:lnTo>
                  <a:pt x="1164" y="660"/>
                </a:lnTo>
                <a:lnTo>
                  <a:pt x="1164" y="672"/>
                </a:lnTo>
                <a:lnTo>
                  <a:pt x="1170" y="678"/>
                </a:lnTo>
                <a:lnTo>
                  <a:pt x="1170" y="690"/>
                </a:lnTo>
                <a:lnTo>
                  <a:pt x="1176" y="696"/>
                </a:lnTo>
                <a:lnTo>
                  <a:pt x="1176" y="708"/>
                </a:lnTo>
                <a:lnTo>
                  <a:pt x="1182" y="714"/>
                </a:lnTo>
                <a:lnTo>
                  <a:pt x="1182" y="726"/>
                </a:lnTo>
                <a:lnTo>
                  <a:pt x="1188" y="732"/>
                </a:lnTo>
                <a:lnTo>
                  <a:pt x="1194" y="744"/>
                </a:lnTo>
                <a:lnTo>
                  <a:pt x="1194" y="750"/>
                </a:lnTo>
                <a:lnTo>
                  <a:pt x="1200" y="756"/>
                </a:lnTo>
                <a:lnTo>
                  <a:pt x="1200" y="768"/>
                </a:lnTo>
                <a:lnTo>
                  <a:pt x="1206" y="774"/>
                </a:lnTo>
                <a:lnTo>
                  <a:pt x="1206" y="780"/>
                </a:lnTo>
                <a:lnTo>
                  <a:pt x="1212" y="792"/>
                </a:lnTo>
                <a:lnTo>
                  <a:pt x="1212" y="798"/>
                </a:lnTo>
                <a:lnTo>
                  <a:pt x="1218" y="804"/>
                </a:lnTo>
                <a:lnTo>
                  <a:pt x="1218" y="810"/>
                </a:lnTo>
                <a:lnTo>
                  <a:pt x="1224" y="816"/>
                </a:lnTo>
                <a:lnTo>
                  <a:pt x="1224" y="828"/>
                </a:lnTo>
                <a:lnTo>
                  <a:pt x="1230" y="834"/>
                </a:lnTo>
                <a:lnTo>
                  <a:pt x="1236" y="840"/>
                </a:lnTo>
                <a:lnTo>
                  <a:pt x="1236" y="846"/>
                </a:lnTo>
                <a:lnTo>
                  <a:pt x="1242" y="852"/>
                </a:lnTo>
                <a:lnTo>
                  <a:pt x="1242" y="858"/>
                </a:lnTo>
                <a:lnTo>
                  <a:pt x="1248" y="864"/>
                </a:lnTo>
                <a:lnTo>
                  <a:pt x="1248" y="870"/>
                </a:lnTo>
                <a:lnTo>
                  <a:pt x="1254" y="876"/>
                </a:lnTo>
                <a:lnTo>
                  <a:pt x="1254" y="882"/>
                </a:lnTo>
                <a:lnTo>
                  <a:pt x="1260" y="888"/>
                </a:lnTo>
                <a:lnTo>
                  <a:pt x="1260" y="894"/>
                </a:lnTo>
                <a:lnTo>
                  <a:pt x="1266" y="900"/>
                </a:lnTo>
                <a:lnTo>
                  <a:pt x="1272" y="906"/>
                </a:lnTo>
                <a:lnTo>
                  <a:pt x="1278" y="912"/>
                </a:lnTo>
                <a:lnTo>
                  <a:pt x="1278" y="918"/>
                </a:lnTo>
                <a:lnTo>
                  <a:pt x="1284" y="924"/>
                </a:lnTo>
                <a:lnTo>
                  <a:pt x="1290" y="930"/>
                </a:lnTo>
                <a:lnTo>
                  <a:pt x="1296" y="936"/>
                </a:lnTo>
                <a:lnTo>
                  <a:pt x="1296" y="942"/>
                </a:lnTo>
                <a:lnTo>
                  <a:pt x="1302" y="948"/>
                </a:lnTo>
                <a:lnTo>
                  <a:pt x="1308" y="954"/>
                </a:lnTo>
                <a:lnTo>
                  <a:pt x="1314" y="960"/>
                </a:lnTo>
                <a:lnTo>
                  <a:pt x="1320" y="966"/>
                </a:lnTo>
                <a:lnTo>
                  <a:pt x="1326" y="972"/>
                </a:lnTo>
                <a:lnTo>
                  <a:pt x="1332" y="978"/>
                </a:lnTo>
                <a:lnTo>
                  <a:pt x="1338" y="984"/>
                </a:lnTo>
                <a:lnTo>
                  <a:pt x="1344" y="990"/>
                </a:lnTo>
                <a:lnTo>
                  <a:pt x="1350" y="996"/>
                </a:lnTo>
                <a:lnTo>
                  <a:pt x="1356" y="996"/>
                </a:lnTo>
                <a:lnTo>
                  <a:pt x="1362" y="1002"/>
                </a:lnTo>
                <a:lnTo>
                  <a:pt x="1368" y="1002"/>
                </a:lnTo>
                <a:lnTo>
                  <a:pt x="1374" y="1008"/>
                </a:lnTo>
                <a:lnTo>
                  <a:pt x="1380" y="1008"/>
                </a:lnTo>
                <a:lnTo>
                  <a:pt x="1386" y="1014"/>
                </a:lnTo>
                <a:lnTo>
                  <a:pt x="1392" y="1014"/>
                </a:lnTo>
                <a:lnTo>
                  <a:pt x="1398" y="1020"/>
                </a:lnTo>
                <a:lnTo>
                  <a:pt x="1404" y="1020"/>
                </a:lnTo>
                <a:lnTo>
                  <a:pt x="1410" y="1020"/>
                </a:lnTo>
                <a:lnTo>
                  <a:pt x="1417" y="1026"/>
                </a:lnTo>
                <a:lnTo>
                  <a:pt x="1423" y="1026"/>
                </a:lnTo>
                <a:lnTo>
                  <a:pt x="1429" y="1026"/>
                </a:lnTo>
                <a:lnTo>
                  <a:pt x="1435" y="1032"/>
                </a:lnTo>
                <a:lnTo>
                  <a:pt x="1441" y="1032"/>
                </a:lnTo>
                <a:lnTo>
                  <a:pt x="1447" y="1032"/>
                </a:lnTo>
                <a:lnTo>
                  <a:pt x="1453" y="1032"/>
                </a:lnTo>
                <a:lnTo>
                  <a:pt x="1459" y="1032"/>
                </a:lnTo>
                <a:lnTo>
                  <a:pt x="1465" y="1038"/>
                </a:lnTo>
                <a:lnTo>
                  <a:pt x="1471" y="1038"/>
                </a:lnTo>
                <a:lnTo>
                  <a:pt x="1477" y="1038"/>
                </a:lnTo>
                <a:lnTo>
                  <a:pt x="1483" y="1038"/>
                </a:lnTo>
                <a:lnTo>
                  <a:pt x="1489" y="1038"/>
                </a:lnTo>
                <a:lnTo>
                  <a:pt x="1495" y="1038"/>
                </a:lnTo>
                <a:lnTo>
                  <a:pt x="1501" y="1038"/>
                </a:lnTo>
                <a:lnTo>
                  <a:pt x="1507" y="1038"/>
                </a:lnTo>
                <a:lnTo>
                  <a:pt x="1513" y="1038"/>
                </a:lnTo>
                <a:lnTo>
                  <a:pt x="1519" y="1038"/>
                </a:lnTo>
                <a:lnTo>
                  <a:pt x="1525" y="1044"/>
                </a:lnTo>
                <a:lnTo>
                  <a:pt x="1531" y="1044"/>
                </a:lnTo>
                <a:lnTo>
                  <a:pt x="1537" y="1044"/>
                </a:lnTo>
                <a:lnTo>
                  <a:pt x="1543" y="1044"/>
                </a:lnTo>
                <a:lnTo>
                  <a:pt x="1549" y="1044"/>
                </a:lnTo>
                <a:lnTo>
                  <a:pt x="1555" y="1044"/>
                </a:lnTo>
                <a:lnTo>
                  <a:pt x="1561" y="1044"/>
                </a:lnTo>
                <a:lnTo>
                  <a:pt x="1567" y="1044"/>
                </a:lnTo>
                <a:lnTo>
                  <a:pt x="1573" y="1044"/>
                </a:lnTo>
                <a:lnTo>
                  <a:pt x="1579" y="1044"/>
                </a:lnTo>
                <a:lnTo>
                  <a:pt x="1585" y="1044"/>
                </a:lnTo>
                <a:lnTo>
                  <a:pt x="1591" y="1044"/>
                </a:lnTo>
                <a:lnTo>
                  <a:pt x="1597" y="1044"/>
                </a:lnTo>
                <a:lnTo>
                  <a:pt x="1603" y="1044"/>
                </a:lnTo>
                <a:lnTo>
                  <a:pt x="1609" y="1044"/>
                </a:lnTo>
                <a:lnTo>
                  <a:pt x="1615" y="1044"/>
                </a:lnTo>
                <a:lnTo>
                  <a:pt x="1621" y="1044"/>
                </a:lnTo>
                <a:lnTo>
                  <a:pt x="1627" y="1044"/>
                </a:lnTo>
                <a:lnTo>
                  <a:pt x="1633" y="1044"/>
                </a:lnTo>
                <a:lnTo>
                  <a:pt x="1639" y="1044"/>
                </a:lnTo>
                <a:lnTo>
                  <a:pt x="1645" y="1044"/>
                </a:lnTo>
                <a:lnTo>
                  <a:pt x="1651" y="1044"/>
                </a:lnTo>
                <a:lnTo>
                  <a:pt x="1657" y="1044"/>
                </a:lnTo>
                <a:lnTo>
                  <a:pt x="1663" y="1044"/>
                </a:lnTo>
                <a:lnTo>
                  <a:pt x="1669" y="1044"/>
                </a:lnTo>
                <a:lnTo>
                  <a:pt x="1675" y="1044"/>
                </a:lnTo>
                <a:lnTo>
                  <a:pt x="1681" y="1044"/>
                </a:lnTo>
                <a:lnTo>
                  <a:pt x="1687" y="1044"/>
                </a:lnTo>
                <a:lnTo>
                  <a:pt x="1693" y="1044"/>
                </a:lnTo>
                <a:lnTo>
                  <a:pt x="1699" y="1044"/>
                </a:lnTo>
                <a:lnTo>
                  <a:pt x="1705" y="1044"/>
                </a:lnTo>
                <a:lnTo>
                  <a:pt x="1711" y="1044"/>
                </a:lnTo>
                <a:lnTo>
                  <a:pt x="1717" y="1044"/>
                </a:lnTo>
                <a:lnTo>
                  <a:pt x="1723" y="1044"/>
                </a:lnTo>
                <a:lnTo>
                  <a:pt x="1729" y="1044"/>
                </a:lnTo>
                <a:lnTo>
                  <a:pt x="1735" y="1044"/>
                </a:lnTo>
                <a:lnTo>
                  <a:pt x="1741" y="1044"/>
                </a:lnTo>
                <a:lnTo>
                  <a:pt x="1747" y="1044"/>
                </a:lnTo>
                <a:lnTo>
                  <a:pt x="1753" y="1044"/>
                </a:lnTo>
                <a:lnTo>
                  <a:pt x="1759" y="1044"/>
                </a:lnTo>
                <a:lnTo>
                  <a:pt x="1765" y="1044"/>
                </a:lnTo>
                <a:lnTo>
                  <a:pt x="1771" y="1044"/>
                </a:lnTo>
                <a:lnTo>
                  <a:pt x="1777" y="1044"/>
                </a:lnTo>
                <a:lnTo>
                  <a:pt x="1783" y="1044"/>
                </a:lnTo>
                <a:lnTo>
                  <a:pt x="1789" y="1044"/>
                </a:lnTo>
                <a:lnTo>
                  <a:pt x="1795" y="1044"/>
                </a:lnTo>
                <a:lnTo>
                  <a:pt x="1801" y="1044"/>
                </a:lnTo>
                <a:lnTo>
                  <a:pt x="1807" y="1044"/>
                </a:lnTo>
                <a:lnTo>
                  <a:pt x="1813" y="1044"/>
                </a:lnTo>
                <a:lnTo>
                  <a:pt x="1819" y="1044"/>
                </a:lnTo>
                <a:lnTo>
                  <a:pt x="1825" y="1044"/>
                </a:lnTo>
                <a:lnTo>
                  <a:pt x="1831" y="1044"/>
                </a:lnTo>
                <a:lnTo>
                  <a:pt x="1837" y="1044"/>
                </a:lnTo>
                <a:lnTo>
                  <a:pt x="1843" y="1044"/>
                </a:lnTo>
                <a:lnTo>
                  <a:pt x="1849" y="1044"/>
                </a:lnTo>
                <a:lnTo>
                  <a:pt x="1855" y="1044"/>
                </a:lnTo>
                <a:lnTo>
                  <a:pt x="1861" y="1044"/>
                </a:lnTo>
                <a:lnTo>
                  <a:pt x="1867" y="1044"/>
                </a:lnTo>
                <a:lnTo>
                  <a:pt x="1873" y="1044"/>
                </a:lnTo>
                <a:lnTo>
                  <a:pt x="1879" y="1044"/>
                </a:lnTo>
                <a:lnTo>
                  <a:pt x="1885" y="1044"/>
                </a:lnTo>
                <a:lnTo>
                  <a:pt x="1891" y="1044"/>
                </a:lnTo>
                <a:lnTo>
                  <a:pt x="1897" y="1044"/>
                </a:lnTo>
                <a:lnTo>
                  <a:pt x="1903" y="1044"/>
                </a:lnTo>
                <a:lnTo>
                  <a:pt x="1909" y="1044"/>
                </a:lnTo>
                <a:lnTo>
                  <a:pt x="1915" y="1044"/>
                </a:lnTo>
                <a:lnTo>
                  <a:pt x="1921" y="1044"/>
                </a:lnTo>
                <a:lnTo>
                  <a:pt x="1927" y="1044"/>
                </a:lnTo>
                <a:lnTo>
                  <a:pt x="1933" y="1044"/>
                </a:lnTo>
                <a:lnTo>
                  <a:pt x="1939" y="1044"/>
                </a:lnTo>
                <a:lnTo>
                  <a:pt x="1945" y="1044"/>
                </a:lnTo>
                <a:lnTo>
                  <a:pt x="1951" y="1044"/>
                </a:lnTo>
                <a:lnTo>
                  <a:pt x="1957" y="1044"/>
                </a:lnTo>
                <a:lnTo>
                  <a:pt x="1963" y="1044"/>
                </a:lnTo>
                <a:lnTo>
                  <a:pt x="1969" y="1044"/>
                </a:lnTo>
                <a:lnTo>
                  <a:pt x="1975" y="1044"/>
                </a:lnTo>
                <a:lnTo>
                  <a:pt x="1981" y="1044"/>
                </a:lnTo>
                <a:lnTo>
                  <a:pt x="1987" y="1044"/>
                </a:lnTo>
                <a:lnTo>
                  <a:pt x="1993" y="1044"/>
                </a:lnTo>
                <a:lnTo>
                  <a:pt x="1999" y="1044"/>
                </a:lnTo>
                <a:lnTo>
                  <a:pt x="2005" y="1044"/>
                </a:lnTo>
                <a:lnTo>
                  <a:pt x="2011" y="1044"/>
                </a:lnTo>
                <a:lnTo>
                  <a:pt x="2017" y="1044"/>
                </a:lnTo>
                <a:lnTo>
                  <a:pt x="2023" y="1044"/>
                </a:lnTo>
                <a:lnTo>
                  <a:pt x="2029" y="1044"/>
                </a:lnTo>
                <a:lnTo>
                  <a:pt x="2035" y="1044"/>
                </a:lnTo>
                <a:lnTo>
                  <a:pt x="2041" y="1044"/>
                </a:lnTo>
                <a:lnTo>
                  <a:pt x="2047" y="1044"/>
                </a:lnTo>
                <a:lnTo>
                  <a:pt x="2053" y="1044"/>
                </a:lnTo>
                <a:lnTo>
                  <a:pt x="2059" y="1044"/>
                </a:lnTo>
                <a:lnTo>
                  <a:pt x="2065" y="1044"/>
                </a:lnTo>
                <a:lnTo>
                  <a:pt x="2071" y="1044"/>
                </a:lnTo>
                <a:lnTo>
                  <a:pt x="2077" y="1044"/>
                </a:lnTo>
                <a:lnTo>
                  <a:pt x="2083" y="1044"/>
                </a:lnTo>
                <a:lnTo>
                  <a:pt x="2089" y="1044"/>
                </a:lnTo>
                <a:lnTo>
                  <a:pt x="2095" y="1044"/>
                </a:lnTo>
                <a:lnTo>
                  <a:pt x="2101" y="1044"/>
                </a:lnTo>
                <a:lnTo>
                  <a:pt x="2107" y="1044"/>
                </a:lnTo>
                <a:lnTo>
                  <a:pt x="2113" y="1044"/>
                </a:lnTo>
                <a:lnTo>
                  <a:pt x="2119" y="1044"/>
                </a:lnTo>
                <a:lnTo>
                  <a:pt x="2125" y="1044"/>
                </a:lnTo>
                <a:lnTo>
                  <a:pt x="2131" y="1044"/>
                </a:lnTo>
                <a:lnTo>
                  <a:pt x="2137" y="1044"/>
                </a:lnTo>
                <a:lnTo>
                  <a:pt x="2143" y="1044"/>
                </a:lnTo>
                <a:lnTo>
                  <a:pt x="2149" y="1044"/>
                </a:lnTo>
                <a:lnTo>
                  <a:pt x="2155" y="1044"/>
                </a:lnTo>
                <a:lnTo>
                  <a:pt x="2161" y="1044"/>
                </a:lnTo>
                <a:lnTo>
                  <a:pt x="2167" y="1044"/>
                </a:lnTo>
                <a:lnTo>
                  <a:pt x="2173" y="1044"/>
                </a:lnTo>
                <a:lnTo>
                  <a:pt x="2179" y="1044"/>
                </a:lnTo>
                <a:lnTo>
                  <a:pt x="2185" y="1044"/>
                </a:lnTo>
                <a:lnTo>
                  <a:pt x="2191" y="1044"/>
                </a:lnTo>
                <a:lnTo>
                  <a:pt x="2197" y="1044"/>
                </a:lnTo>
                <a:lnTo>
                  <a:pt x="2203" y="1044"/>
                </a:lnTo>
                <a:lnTo>
                  <a:pt x="2209" y="1044"/>
                </a:lnTo>
                <a:lnTo>
                  <a:pt x="2215" y="1044"/>
                </a:lnTo>
                <a:lnTo>
                  <a:pt x="2221" y="1044"/>
                </a:lnTo>
                <a:lnTo>
                  <a:pt x="2227" y="1044"/>
                </a:lnTo>
                <a:lnTo>
                  <a:pt x="2233" y="1044"/>
                </a:lnTo>
                <a:lnTo>
                  <a:pt x="2239" y="1044"/>
                </a:lnTo>
                <a:lnTo>
                  <a:pt x="2245" y="1044"/>
                </a:lnTo>
                <a:lnTo>
                  <a:pt x="2251" y="1044"/>
                </a:lnTo>
                <a:lnTo>
                  <a:pt x="2257" y="1044"/>
                </a:lnTo>
                <a:lnTo>
                  <a:pt x="2263" y="1044"/>
                </a:lnTo>
                <a:lnTo>
                  <a:pt x="2269" y="1044"/>
                </a:lnTo>
                <a:lnTo>
                  <a:pt x="2275" y="1044"/>
                </a:lnTo>
                <a:lnTo>
                  <a:pt x="2281" y="1044"/>
                </a:lnTo>
                <a:lnTo>
                  <a:pt x="2287" y="1044"/>
                </a:lnTo>
                <a:lnTo>
                  <a:pt x="2293" y="1044"/>
                </a:lnTo>
                <a:lnTo>
                  <a:pt x="2299" y="1044"/>
                </a:lnTo>
                <a:lnTo>
                  <a:pt x="2305" y="1044"/>
                </a:lnTo>
                <a:lnTo>
                  <a:pt x="2311" y="1044"/>
                </a:lnTo>
                <a:lnTo>
                  <a:pt x="2317" y="1044"/>
                </a:lnTo>
                <a:lnTo>
                  <a:pt x="2323" y="1044"/>
                </a:lnTo>
                <a:lnTo>
                  <a:pt x="2329" y="1044"/>
                </a:lnTo>
                <a:lnTo>
                  <a:pt x="2335" y="1044"/>
                </a:lnTo>
                <a:lnTo>
                  <a:pt x="2341" y="1044"/>
                </a:lnTo>
                <a:lnTo>
                  <a:pt x="2347" y="1044"/>
                </a:lnTo>
                <a:lnTo>
                  <a:pt x="2353" y="1044"/>
                </a:lnTo>
                <a:lnTo>
                  <a:pt x="2359" y="1044"/>
                </a:lnTo>
                <a:lnTo>
                  <a:pt x="2365" y="1044"/>
                </a:lnTo>
                <a:lnTo>
                  <a:pt x="2371" y="1044"/>
                </a:lnTo>
                <a:lnTo>
                  <a:pt x="2377" y="1044"/>
                </a:lnTo>
                <a:lnTo>
                  <a:pt x="2383" y="1044"/>
                </a:lnTo>
                <a:lnTo>
                  <a:pt x="2389" y="1044"/>
                </a:lnTo>
                <a:lnTo>
                  <a:pt x="2395" y="1044"/>
                </a:lnTo>
                <a:lnTo>
                  <a:pt x="2401" y="1044"/>
                </a:lnTo>
                <a:lnTo>
                  <a:pt x="2407" y="1044"/>
                </a:lnTo>
                <a:lnTo>
                  <a:pt x="2413" y="1044"/>
                </a:lnTo>
                <a:lnTo>
                  <a:pt x="2419" y="1044"/>
                </a:lnTo>
                <a:lnTo>
                  <a:pt x="2425" y="1044"/>
                </a:lnTo>
                <a:lnTo>
                  <a:pt x="2431" y="1044"/>
                </a:lnTo>
                <a:lnTo>
                  <a:pt x="2437" y="1044"/>
                </a:lnTo>
                <a:lnTo>
                  <a:pt x="2443" y="1044"/>
                </a:lnTo>
                <a:lnTo>
                  <a:pt x="2449" y="1044"/>
                </a:lnTo>
                <a:lnTo>
                  <a:pt x="2455" y="1044"/>
                </a:lnTo>
                <a:lnTo>
                  <a:pt x="2461" y="1044"/>
                </a:lnTo>
                <a:lnTo>
                  <a:pt x="2467" y="1044"/>
                </a:lnTo>
                <a:lnTo>
                  <a:pt x="2473" y="1044"/>
                </a:lnTo>
                <a:lnTo>
                  <a:pt x="2479" y="1044"/>
                </a:lnTo>
                <a:lnTo>
                  <a:pt x="2485" y="1044"/>
                </a:lnTo>
                <a:lnTo>
                  <a:pt x="2491" y="1044"/>
                </a:lnTo>
                <a:lnTo>
                  <a:pt x="2497" y="1044"/>
                </a:lnTo>
                <a:lnTo>
                  <a:pt x="2503" y="1044"/>
                </a:lnTo>
                <a:lnTo>
                  <a:pt x="2509" y="1044"/>
                </a:lnTo>
                <a:lnTo>
                  <a:pt x="2515" y="1044"/>
                </a:lnTo>
                <a:lnTo>
                  <a:pt x="2521" y="1044"/>
                </a:lnTo>
                <a:lnTo>
                  <a:pt x="2527" y="1044"/>
                </a:lnTo>
                <a:lnTo>
                  <a:pt x="2533" y="1044"/>
                </a:lnTo>
                <a:lnTo>
                  <a:pt x="2539" y="1044"/>
                </a:lnTo>
                <a:lnTo>
                  <a:pt x="2545" y="1044"/>
                </a:lnTo>
                <a:lnTo>
                  <a:pt x="2551" y="1044"/>
                </a:lnTo>
                <a:lnTo>
                  <a:pt x="2557" y="1044"/>
                </a:lnTo>
                <a:lnTo>
                  <a:pt x="2563" y="1044"/>
                </a:lnTo>
                <a:lnTo>
                  <a:pt x="2569" y="1044"/>
                </a:lnTo>
                <a:lnTo>
                  <a:pt x="2575" y="1044"/>
                </a:lnTo>
                <a:lnTo>
                  <a:pt x="2581" y="1044"/>
                </a:lnTo>
                <a:lnTo>
                  <a:pt x="2587" y="1044"/>
                </a:lnTo>
                <a:lnTo>
                  <a:pt x="2593" y="1044"/>
                </a:lnTo>
                <a:lnTo>
                  <a:pt x="2599" y="1044"/>
                </a:lnTo>
                <a:lnTo>
                  <a:pt x="2605" y="1044"/>
                </a:lnTo>
                <a:lnTo>
                  <a:pt x="2611" y="1044"/>
                </a:lnTo>
                <a:lnTo>
                  <a:pt x="2617" y="1044"/>
                </a:lnTo>
                <a:lnTo>
                  <a:pt x="2623" y="1044"/>
                </a:lnTo>
                <a:lnTo>
                  <a:pt x="2629" y="1044"/>
                </a:lnTo>
                <a:lnTo>
                  <a:pt x="2635" y="1044"/>
                </a:lnTo>
                <a:lnTo>
                  <a:pt x="2641" y="1044"/>
                </a:lnTo>
                <a:lnTo>
                  <a:pt x="2647" y="1044"/>
                </a:lnTo>
                <a:lnTo>
                  <a:pt x="2653" y="1044"/>
                </a:lnTo>
                <a:lnTo>
                  <a:pt x="2659" y="1044"/>
                </a:lnTo>
                <a:lnTo>
                  <a:pt x="2665" y="1044"/>
                </a:lnTo>
                <a:lnTo>
                  <a:pt x="2671" y="1044"/>
                </a:lnTo>
                <a:lnTo>
                  <a:pt x="2677" y="1044"/>
                </a:lnTo>
                <a:lnTo>
                  <a:pt x="2683" y="1044"/>
                </a:lnTo>
                <a:lnTo>
                  <a:pt x="2689" y="1044"/>
                </a:lnTo>
                <a:lnTo>
                  <a:pt x="2695" y="1044"/>
                </a:lnTo>
                <a:lnTo>
                  <a:pt x="2701" y="1044"/>
                </a:lnTo>
                <a:lnTo>
                  <a:pt x="2707" y="1044"/>
                </a:lnTo>
                <a:lnTo>
                  <a:pt x="2713" y="1044"/>
                </a:lnTo>
                <a:lnTo>
                  <a:pt x="2719" y="1044"/>
                </a:lnTo>
                <a:lnTo>
                  <a:pt x="2725" y="1044"/>
                </a:lnTo>
                <a:lnTo>
                  <a:pt x="2731" y="1044"/>
                </a:lnTo>
                <a:lnTo>
                  <a:pt x="2737" y="1044"/>
                </a:lnTo>
                <a:lnTo>
                  <a:pt x="2743" y="1044"/>
                </a:lnTo>
                <a:lnTo>
                  <a:pt x="2749" y="1044"/>
                </a:lnTo>
                <a:lnTo>
                  <a:pt x="2755" y="1044"/>
                </a:lnTo>
                <a:lnTo>
                  <a:pt x="2761" y="1044"/>
                </a:lnTo>
                <a:lnTo>
                  <a:pt x="2767" y="1044"/>
                </a:lnTo>
                <a:lnTo>
                  <a:pt x="2773" y="1044"/>
                </a:lnTo>
                <a:lnTo>
                  <a:pt x="2779" y="1044"/>
                </a:lnTo>
                <a:lnTo>
                  <a:pt x="2785" y="1044"/>
                </a:lnTo>
                <a:lnTo>
                  <a:pt x="2791" y="1044"/>
                </a:lnTo>
                <a:lnTo>
                  <a:pt x="2797" y="1044"/>
                </a:lnTo>
                <a:lnTo>
                  <a:pt x="2803" y="1044"/>
                </a:lnTo>
                <a:lnTo>
                  <a:pt x="2809" y="1044"/>
                </a:lnTo>
                <a:lnTo>
                  <a:pt x="2815" y="1044"/>
                </a:lnTo>
                <a:lnTo>
                  <a:pt x="2821" y="1044"/>
                </a:lnTo>
                <a:lnTo>
                  <a:pt x="2827" y="1044"/>
                </a:lnTo>
                <a:lnTo>
                  <a:pt x="2833" y="1044"/>
                </a:lnTo>
                <a:lnTo>
                  <a:pt x="2839" y="1044"/>
                </a:lnTo>
                <a:lnTo>
                  <a:pt x="2845" y="1044"/>
                </a:lnTo>
                <a:lnTo>
                  <a:pt x="2851" y="1044"/>
                </a:lnTo>
                <a:lnTo>
                  <a:pt x="2857" y="1044"/>
                </a:lnTo>
                <a:lnTo>
                  <a:pt x="2863" y="1044"/>
                </a:lnTo>
                <a:lnTo>
                  <a:pt x="2869" y="1044"/>
                </a:lnTo>
                <a:lnTo>
                  <a:pt x="2875" y="1044"/>
                </a:lnTo>
                <a:lnTo>
                  <a:pt x="2881" y="1044"/>
                </a:lnTo>
                <a:lnTo>
                  <a:pt x="2887" y="1044"/>
                </a:lnTo>
                <a:lnTo>
                  <a:pt x="2893" y="1044"/>
                </a:lnTo>
                <a:lnTo>
                  <a:pt x="2899" y="1044"/>
                </a:lnTo>
                <a:lnTo>
                  <a:pt x="2905" y="1044"/>
                </a:lnTo>
                <a:lnTo>
                  <a:pt x="2911" y="1044"/>
                </a:lnTo>
                <a:lnTo>
                  <a:pt x="2917" y="1044"/>
                </a:lnTo>
                <a:lnTo>
                  <a:pt x="2923" y="1044"/>
                </a:lnTo>
                <a:lnTo>
                  <a:pt x="2929" y="1044"/>
                </a:lnTo>
                <a:lnTo>
                  <a:pt x="2935" y="1044"/>
                </a:lnTo>
                <a:lnTo>
                  <a:pt x="2941" y="1044"/>
                </a:lnTo>
                <a:lnTo>
                  <a:pt x="2947" y="1044"/>
                </a:lnTo>
                <a:lnTo>
                  <a:pt x="2953" y="1044"/>
                </a:lnTo>
                <a:lnTo>
                  <a:pt x="2959" y="1044"/>
                </a:lnTo>
                <a:lnTo>
                  <a:pt x="2965" y="1044"/>
                </a:lnTo>
                <a:lnTo>
                  <a:pt x="2971" y="1044"/>
                </a:lnTo>
                <a:lnTo>
                  <a:pt x="2977" y="1044"/>
                </a:lnTo>
                <a:lnTo>
                  <a:pt x="2983" y="1044"/>
                </a:lnTo>
                <a:lnTo>
                  <a:pt x="2989" y="1044"/>
                </a:lnTo>
                <a:lnTo>
                  <a:pt x="2995" y="1044"/>
                </a:lnTo>
                <a:lnTo>
                  <a:pt x="3001" y="1044"/>
                </a:lnTo>
                <a:lnTo>
                  <a:pt x="3007" y="1044"/>
                </a:lnTo>
                <a:lnTo>
                  <a:pt x="3013" y="1044"/>
                </a:lnTo>
                <a:lnTo>
                  <a:pt x="3019" y="1044"/>
                </a:lnTo>
                <a:lnTo>
                  <a:pt x="3025" y="1044"/>
                </a:lnTo>
                <a:lnTo>
                  <a:pt x="3031" y="1044"/>
                </a:lnTo>
                <a:lnTo>
                  <a:pt x="3037" y="1044"/>
                </a:lnTo>
                <a:lnTo>
                  <a:pt x="3043" y="1044"/>
                </a:lnTo>
                <a:lnTo>
                  <a:pt x="3049" y="1044"/>
                </a:lnTo>
                <a:lnTo>
                  <a:pt x="3055" y="1044"/>
                </a:lnTo>
                <a:lnTo>
                  <a:pt x="3061" y="1044"/>
                </a:lnTo>
                <a:lnTo>
                  <a:pt x="3067" y="1044"/>
                </a:lnTo>
                <a:lnTo>
                  <a:pt x="3073" y="1044"/>
                </a:lnTo>
                <a:lnTo>
                  <a:pt x="3079" y="1044"/>
                </a:lnTo>
                <a:lnTo>
                  <a:pt x="3085" y="1044"/>
                </a:lnTo>
                <a:lnTo>
                  <a:pt x="3091" y="1044"/>
                </a:lnTo>
                <a:lnTo>
                  <a:pt x="3097" y="1044"/>
                </a:lnTo>
                <a:lnTo>
                  <a:pt x="3103" y="1044"/>
                </a:lnTo>
                <a:lnTo>
                  <a:pt x="3109" y="1044"/>
                </a:lnTo>
                <a:lnTo>
                  <a:pt x="3115" y="1044"/>
                </a:lnTo>
                <a:lnTo>
                  <a:pt x="3121" y="1044"/>
                </a:lnTo>
                <a:lnTo>
                  <a:pt x="3127" y="1044"/>
                </a:lnTo>
                <a:lnTo>
                  <a:pt x="3133" y="1044"/>
                </a:lnTo>
                <a:lnTo>
                  <a:pt x="3139" y="1044"/>
                </a:lnTo>
                <a:lnTo>
                  <a:pt x="3145" y="1044"/>
                </a:lnTo>
                <a:lnTo>
                  <a:pt x="3151" y="1044"/>
                </a:lnTo>
                <a:lnTo>
                  <a:pt x="3157" y="1044"/>
                </a:lnTo>
                <a:lnTo>
                  <a:pt x="3163" y="1044"/>
                </a:lnTo>
                <a:lnTo>
                  <a:pt x="3169" y="1044"/>
                </a:lnTo>
                <a:lnTo>
                  <a:pt x="3175" y="1044"/>
                </a:lnTo>
                <a:lnTo>
                  <a:pt x="3181" y="1044"/>
                </a:lnTo>
                <a:lnTo>
                  <a:pt x="3187" y="1044"/>
                </a:lnTo>
                <a:lnTo>
                  <a:pt x="3193" y="1044"/>
                </a:lnTo>
                <a:lnTo>
                  <a:pt x="3199" y="1044"/>
                </a:lnTo>
                <a:lnTo>
                  <a:pt x="3205" y="1044"/>
                </a:lnTo>
                <a:lnTo>
                  <a:pt x="3211" y="1044"/>
                </a:lnTo>
                <a:lnTo>
                  <a:pt x="3217" y="1044"/>
                </a:lnTo>
                <a:lnTo>
                  <a:pt x="3223" y="1044"/>
                </a:lnTo>
                <a:lnTo>
                  <a:pt x="3229" y="1044"/>
                </a:lnTo>
                <a:lnTo>
                  <a:pt x="3229" y="1044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7680" y="170352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1680" y="1484280"/>
            <a:ext cx="412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981000" y="1446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02880" y="1522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80972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731600" y="1522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639880" y="1446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638080" y="1522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45924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17480" y="1522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428796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246200" y="1522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2360" y="145260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22360" y="145260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590920" y="112860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  <a:lnTo>
                  <a:pt x="1296" y="20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590920" y="112860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</a:path>
            </a:pathLst>
          </a:custGeom>
          <a:solidFill>
            <a:srgbClr val="00cc99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2387160" y="515880"/>
            <a:ext cx="274320" cy="1865520"/>
            <a:chOff x="2387160" y="515880"/>
            <a:chExt cx="274320" cy="1865520"/>
          </a:xfrm>
        </p:grpSpPr>
        <p:sp>
          <p:nvSpPr>
            <p:cNvPr id="574" name=""/>
            <p:cNvSpPr/>
            <p:nvPr/>
          </p:nvSpPr>
          <p:spPr>
            <a:xfrm>
              <a:off x="2552760" y="96336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06240" y="860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552760" y="6537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06240" y="550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2570400" y="234756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2592720" y="149868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590560" y="16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70400" y="2169720"/>
              <a:ext cx="381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387160" y="2063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70400" y="185400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387160" y="17496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570400" y="15516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492280" y="144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70400" y="123552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23880" y="1130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70400" y="919440"/>
              <a:ext cx="381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594160" y="515880"/>
              <a:ext cx="0" cy="186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1332000" y="2995560"/>
            <a:ext cx="14810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820960" y="2604960"/>
            <a:ext cx="1262160" cy="733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 0 shift with negative chromati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1809720" y="293760"/>
            <a:ext cx="1440" cy="47624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16200000">
            <a:off x="1611360" y="3530880"/>
            <a:ext cx="84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-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16200000">
            <a:off x="2276640" y="3516480"/>
            <a:ext cx="65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16200000">
            <a:off x="1216080" y="3524760"/>
            <a:ext cx="84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ff33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 = -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082520" y="5024520"/>
            <a:ext cx="15764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aximum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at 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= -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581320" y="3051000"/>
            <a:ext cx="371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625920" y="4570560"/>
            <a:ext cx="3498840" cy="132156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Times New Roman"/>
              </a:rPr>
              <a:t>At high chromati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Times New Roman"/>
              </a:rPr>
              <a:t>==&gt; No contribution at low frequency of the unstable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Times New Roman"/>
              </a:rPr>
              <a:t>==&gt; need of  a high frequency pick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79760" y="4343400"/>
            <a:ext cx="1339920" cy="528480"/>
          </a:xfrm>
          <a:prstGeom prst="line">
            <a:avLst/>
          </a:prstGeom>
          <a:ln w="381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5549400" y="3300480"/>
            <a:ext cx="1552680" cy="1204920"/>
          </a:xfrm>
          <a:prstGeom prst="line">
            <a:avLst/>
          </a:prstGeom>
          <a:ln w="38160">
            <a:solidFill>
              <a:srgbClr val="99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495520" y="4124160"/>
            <a:ext cx="209520" cy="3812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72320" y="1901880"/>
            <a:ext cx="933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wing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9360" y="1481040"/>
            <a:ext cx="2058840" cy="476280"/>
          </a:xfrm>
          <a:custGeom>
            <a:avLst/>
            <a:gdLst/>
            <a:ahLst/>
            <a:rect l="l" t="t" r="r" b="b"/>
            <a:pathLst>
              <a:path w="1297" h="300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16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24"/>
                </a:lnTo>
                <a:lnTo>
                  <a:pt x="546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76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06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36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66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0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0" y="24"/>
                </a:lnTo>
                <a:lnTo>
                  <a:pt x="726" y="24"/>
                </a:lnTo>
                <a:lnTo>
                  <a:pt x="732" y="24"/>
                </a:lnTo>
                <a:lnTo>
                  <a:pt x="738" y="24"/>
                </a:lnTo>
                <a:lnTo>
                  <a:pt x="744" y="24"/>
                </a:lnTo>
                <a:lnTo>
                  <a:pt x="750" y="24"/>
                </a:lnTo>
                <a:lnTo>
                  <a:pt x="756" y="24"/>
                </a:lnTo>
                <a:lnTo>
                  <a:pt x="762" y="24"/>
                </a:lnTo>
                <a:lnTo>
                  <a:pt x="768" y="24"/>
                </a:lnTo>
                <a:lnTo>
                  <a:pt x="774" y="30"/>
                </a:lnTo>
                <a:lnTo>
                  <a:pt x="780" y="30"/>
                </a:lnTo>
                <a:lnTo>
                  <a:pt x="786" y="30"/>
                </a:lnTo>
                <a:lnTo>
                  <a:pt x="792" y="30"/>
                </a:lnTo>
                <a:lnTo>
                  <a:pt x="798" y="30"/>
                </a:lnTo>
                <a:lnTo>
                  <a:pt x="804" y="30"/>
                </a:lnTo>
                <a:lnTo>
                  <a:pt x="810" y="30"/>
                </a:lnTo>
                <a:lnTo>
                  <a:pt x="816" y="30"/>
                </a:lnTo>
                <a:lnTo>
                  <a:pt x="822" y="30"/>
                </a:lnTo>
                <a:lnTo>
                  <a:pt x="828" y="30"/>
                </a:lnTo>
                <a:lnTo>
                  <a:pt x="834" y="30"/>
                </a:lnTo>
                <a:lnTo>
                  <a:pt x="840" y="30"/>
                </a:lnTo>
                <a:lnTo>
                  <a:pt x="846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30"/>
                </a:lnTo>
                <a:lnTo>
                  <a:pt x="876" y="30"/>
                </a:lnTo>
                <a:lnTo>
                  <a:pt x="882" y="30"/>
                </a:lnTo>
                <a:lnTo>
                  <a:pt x="888" y="30"/>
                </a:lnTo>
                <a:lnTo>
                  <a:pt x="894" y="30"/>
                </a:lnTo>
                <a:lnTo>
                  <a:pt x="900" y="30"/>
                </a:lnTo>
                <a:lnTo>
                  <a:pt x="906" y="30"/>
                </a:lnTo>
                <a:lnTo>
                  <a:pt x="912" y="30"/>
                </a:lnTo>
                <a:lnTo>
                  <a:pt x="918" y="30"/>
                </a:lnTo>
                <a:lnTo>
                  <a:pt x="924" y="30"/>
                </a:lnTo>
                <a:lnTo>
                  <a:pt x="930" y="36"/>
                </a:lnTo>
                <a:lnTo>
                  <a:pt x="936" y="36"/>
                </a:lnTo>
                <a:lnTo>
                  <a:pt x="942" y="36"/>
                </a:lnTo>
                <a:lnTo>
                  <a:pt x="948" y="36"/>
                </a:lnTo>
                <a:lnTo>
                  <a:pt x="954" y="36"/>
                </a:lnTo>
                <a:lnTo>
                  <a:pt x="960" y="36"/>
                </a:lnTo>
                <a:lnTo>
                  <a:pt x="966" y="36"/>
                </a:lnTo>
                <a:lnTo>
                  <a:pt x="972" y="36"/>
                </a:lnTo>
                <a:lnTo>
                  <a:pt x="978" y="36"/>
                </a:lnTo>
                <a:lnTo>
                  <a:pt x="984" y="36"/>
                </a:lnTo>
                <a:lnTo>
                  <a:pt x="990" y="36"/>
                </a:lnTo>
                <a:lnTo>
                  <a:pt x="996" y="36"/>
                </a:lnTo>
                <a:lnTo>
                  <a:pt x="1002" y="36"/>
                </a:lnTo>
                <a:lnTo>
                  <a:pt x="1008" y="36"/>
                </a:lnTo>
                <a:lnTo>
                  <a:pt x="1014" y="36"/>
                </a:lnTo>
                <a:lnTo>
                  <a:pt x="1020" y="36"/>
                </a:lnTo>
                <a:lnTo>
                  <a:pt x="1026" y="36"/>
                </a:lnTo>
                <a:lnTo>
                  <a:pt x="1032" y="42"/>
                </a:lnTo>
                <a:lnTo>
                  <a:pt x="1038" y="42"/>
                </a:lnTo>
                <a:lnTo>
                  <a:pt x="1044" y="42"/>
                </a:lnTo>
                <a:lnTo>
                  <a:pt x="1050" y="42"/>
                </a:lnTo>
                <a:lnTo>
                  <a:pt x="1056" y="42"/>
                </a:lnTo>
                <a:lnTo>
                  <a:pt x="1062" y="42"/>
                </a:lnTo>
                <a:lnTo>
                  <a:pt x="1068" y="42"/>
                </a:lnTo>
                <a:lnTo>
                  <a:pt x="1074" y="42"/>
                </a:lnTo>
                <a:lnTo>
                  <a:pt x="1080" y="42"/>
                </a:lnTo>
                <a:lnTo>
                  <a:pt x="1086" y="42"/>
                </a:lnTo>
                <a:lnTo>
                  <a:pt x="1092" y="48"/>
                </a:lnTo>
                <a:lnTo>
                  <a:pt x="1098" y="48"/>
                </a:lnTo>
                <a:lnTo>
                  <a:pt x="1104" y="48"/>
                </a:lnTo>
                <a:lnTo>
                  <a:pt x="1110" y="48"/>
                </a:lnTo>
                <a:lnTo>
                  <a:pt x="1116" y="48"/>
                </a:lnTo>
                <a:lnTo>
                  <a:pt x="1122" y="48"/>
                </a:lnTo>
                <a:lnTo>
                  <a:pt x="1128" y="48"/>
                </a:lnTo>
                <a:lnTo>
                  <a:pt x="1134" y="48"/>
                </a:lnTo>
                <a:lnTo>
                  <a:pt x="1141" y="54"/>
                </a:lnTo>
                <a:lnTo>
                  <a:pt x="1147" y="54"/>
                </a:lnTo>
                <a:lnTo>
                  <a:pt x="1153" y="54"/>
                </a:lnTo>
                <a:lnTo>
                  <a:pt x="1159" y="54"/>
                </a:lnTo>
                <a:lnTo>
                  <a:pt x="1165" y="54"/>
                </a:lnTo>
                <a:lnTo>
                  <a:pt x="1171" y="60"/>
                </a:lnTo>
                <a:lnTo>
                  <a:pt x="1177" y="60"/>
                </a:lnTo>
                <a:lnTo>
                  <a:pt x="1183" y="60"/>
                </a:lnTo>
                <a:lnTo>
                  <a:pt x="1189" y="66"/>
                </a:lnTo>
                <a:lnTo>
                  <a:pt x="1195" y="66"/>
                </a:lnTo>
                <a:lnTo>
                  <a:pt x="1201" y="66"/>
                </a:lnTo>
                <a:lnTo>
                  <a:pt x="1207" y="72"/>
                </a:lnTo>
                <a:lnTo>
                  <a:pt x="1213" y="72"/>
                </a:lnTo>
                <a:lnTo>
                  <a:pt x="1219" y="72"/>
                </a:lnTo>
                <a:lnTo>
                  <a:pt x="1225" y="78"/>
                </a:lnTo>
                <a:lnTo>
                  <a:pt x="1231" y="78"/>
                </a:lnTo>
                <a:lnTo>
                  <a:pt x="1237" y="84"/>
                </a:lnTo>
                <a:lnTo>
                  <a:pt x="1243" y="90"/>
                </a:lnTo>
                <a:lnTo>
                  <a:pt x="1249" y="96"/>
                </a:lnTo>
                <a:lnTo>
                  <a:pt x="1255" y="102"/>
                </a:lnTo>
                <a:lnTo>
                  <a:pt x="1261" y="108"/>
                </a:lnTo>
                <a:lnTo>
                  <a:pt x="1267" y="114"/>
                </a:lnTo>
                <a:lnTo>
                  <a:pt x="1267" y="120"/>
                </a:lnTo>
                <a:lnTo>
                  <a:pt x="1273" y="126"/>
                </a:lnTo>
                <a:lnTo>
                  <a:pt x="1273" y="132"/>
                </a:lnTo>
                <a:lnTo>
                  <a:pt x="1279" y="138"/>
                </a:lnTo>
                <a:lnTo>
                  <a:pt x="1279" y="150"/>
                </a:lnTo>
                <a:lnTo>
                  <a:pt x="1279" y="156"/>
                </a:lnTo>
                <a:lnTo>
                  <a:pt x="1285" y="174"/>
                </a:lnTo>
                <a:lnTo>
                  <a:pt x="1285" y="186"/>
                </a:lnTo>
                <a:lnTo>
                  <a:pt x="1291" y="210"/>
                </a:lnTo>
                <a:lnTo>
                  <a:pt x="1291" y="246"/>
                </a:lnTo>
                <a:lnTo>
                  <a:pt x="1297" y="300"/>
                </a:lnTo>
                <a:lnTo>
                  <a:pt x="1297" y="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93800" y="995400"/>
            <a:ext cx="2057400" cy="485640"/>
          </a:xfrm>
          <a:custGeom>
            <a:avLst/>
            <a:gdLst/>
            <a:ahLst/>
            <a:rect l="l" t="t" r="r" b="b"/>
            <a:pathLst>
              <a:path w="1296" h="306">
                <a:moveTo>
                  <a:pt x="0" y="306"/>
                </a:moveTo>
                <a:lnTo>
                  <a:pt x="0" y="0"/>
                </a:lnTo>
                <a:lnTo>
                  <a:pt x="6" y="54"/>
                </a:lnTo>
                <a:lnTo>
                  <a:pt x="6" y="90"/>
                </a:lnTo>
                <a:lnTo>
                  <a:pt x="12" y="114"/>
                </a:lnTo>
                <a:lnTo>
                  <a:pt x="12" y="126"/>
                </a:lnTo>
                <a:lnTo>
                  <a:pt x="18" y="144"/>
                </a:lnTo>
                <a:lnTo>
                  <a:pt x="18" y="150"/>
                </a:lnTo>
                <a:lnTo>
                  <a:pt x="18" y="162"/>
                </a:lnTo>
                <a:lnTo>
                  <a:pt x="24" y="168"/>
                </a:lnTo>
                <a:lnTo>
                  <a:pt x="24" y="174"/>
                </a:lnTo>
                <a:lnTo>
                  <a:pt x="30" y="180"/>
                </a:lnTo>
                <a:lnTo>
                  <a:pt x="36" y="186"/>
                </a:lnTo>
                <a:lnTo>
                  <a:pt x="36" y="192"/>
                </a:lnTo>
                <a:lnTo>
                  <a:pt x="42" y="198"/>
                </a:lnTo>
                <a:lnTo>
                  <a:pt x="48" y="204"/>
                </a:lnTo>
                <a:lnTo>
                  <a:pt x="54" y="210"/>
                </a:lnTo>
                <a:lnTo>
                  <a:pt x="60" y="216"/>
                </a:lnTo>
                <a:lnTo>
                  <a:pt x="66" y="222"/>
                </a:lnTo>
                <a:lnTo>
                  <a:pt x="72" y="222"/>
                </a:lnTo>
                <a:lnTo>
                  <a:pt x="78" y="228"/>
                </a:lnTo>
                <a:lnTo>
                  <a:pt x="84" y="228"/>
                </a:lnTo>
                <a:lnTo>
                  <a:pt x="90" y="234"/>
                </a:lnTo>
                <a:lnTo>
                  <a:pt x="96" y="234"/>
                </a:lnTo>
                <a:lnTo>
                  <a:pt x="102" y="234"/>
                </a:lnTo>
                <a:lnTo>
                  <a:pt x="108" y="240"/>
                </a:lnTo>
                <a:lnTo>
                  <a:pt x="114" y="240"/>
                </a:lnTo>
                <a:lnTo>
                  <a:pt x="120" y="240"/>
                </a:lnTo>
                <a:lnTo>
                  <a:pt x="126" y="240"/>
                </a:lnTo>
                <a:lnTo>
                  <a:pt x="132" y="246"/>
                </a:lnTo>
                <a:lnTo>
                  <a:pt x="138" y="246"/>
                </a:lnTo>
                <a:lnTo>
                  <a:pt x="144" y="246"/>
                </a:lnTo>
                <a:lnTo>
                  <a:pt x="150" y="246"/>
                </a:lnTo>
                <a:lnTo>
                  <a:pt x="156" y="246"/>
                </a:lnTo>
                <a:lnTo>
                  <a:pt x="162" y="252"/>
                </a:lnTo>
                <a:lnTo>
                  <a:pt x="168" y="252"/>
                </a:lnTo>
                <a:lnTo>
                  <a:pt x="174" y="252"/>
                </a:lnTo>
                <a:lnTo>
                  <a:pt x="180" y="252"/>
                </a:lnTo>
                <a:lnTo>
                  <a:pt x="186" y="252"/>
                </a:lnTo>
                <a:lnTo>
                  <a:pt x="192" y="252"/>
                </a:lnTo>
                <a:lnTo>
                  <a:pt x="198" y="252"/>
                </a:lnTo>
                <a:lnTo>
                  <a:pt x="204" y="258"/>
                </a:lnTo>
                <a:lnTo>
                  <a:pt x="210" y="258"/>
                </a:lnTo>
                <a:lnTo>
                  <a:pt x="216" y="258"/>
                </a:lnTo>
                <a:lnTo>
                  <a:pt x="222" y="258"/>
                </a:lnTo>
                <a:lnTo>
                  <a:pt x="228" y="258"/>
                </a:lnTo>
                <a:lnTo>
                  <a:pt x="234" y="258"/>
                </a:lnTo>
                <a:lnTo>
                  <a:pt x="240" y="258"/>
                </a:lnTo>
                <a:lnTo>
                  <a:pt x="246" y="258"/>
                </a:lnTo>
                <a:lnTo>
                  <a:pt x="252" y="258"/>
                </a:lnTo>
                <a:lnTo>
                  <a:pt x="258" y="258"/>
                </a:lnTo>
                <a:lnTo>
                  <a:pt x="264" y="258"/>
                </a:lnTo>
                <a:lnTo>
                  <a:pt x="270" y="264"/>
                </a:lnTo>
                <a:lnTo>
                  <a:pt x="276" y="264"/>
                </a:lnTo>
                <a:lnTo>
                  <a:pt x="282" y="264"/>
                </a:lnTo>
                <a:lnTo>
                  <a:pt x="288" y="264"/>
                </a:lnTo>
                <a:lnTo>
                  <a:pt x="294" y="264"/>
                </a:lnTo>
                <a:lnTo>
                  <a:pt x="300" y="264"/>
                </a:lnTo>
                <a:lnTo>
                  <a:pt x="306" y="264"/>
                </a:lnTo>
                <a:lnTo>
                  <a:pt x="312" y="264"/>
                </a:lnTo>
                <a:lnTo>
                  <a:pt x="318" y="264"/>
                </a:lnTo>
                <a:lnTo>
                  <a:pt x="324" y="264"/>
                </a:lnTo>
                <a:lnTo>
                  <a:pt x="330" y="264"/>
                </a:lnTo>
                <a:lnTo>
                  <a:pt x="336" y="264"/>
                </a:lnTo>
                <a:lnTo>
                  <a:pt x="342" y="264"/>
                </a:lnTo>
                <a:lnTo>
                  <a:pt x="348" y="264"/>
                </a:lnTo>
                <a:lnTo>
                  <a:pt x="354" y="264"/>
                </a:lnTo>
                <a:lnTo>
                  <a:pt x="360" y="264"/>
                </a:lnTo>
                <a:lnTo>
                  <a:pt x="366" y="270"/>
                </a:lnTo>
                <a:lnTo>
                  <a:pt x="372" y="270"/>
                </a:lnTo>
                <a:lnTo>
                  <a:pt x="378" y="270"/>
                </a:lnTo>
                <a:lnTo>
                  <a:pt x="384" y="270"/>
                </a:lnTo>
                <a:lnTo>
                  <a:pt x="390" y="270"/>
                </a:lnTo>
                <a:lnTo>
                  <a:pt x="396" y="270"/>
                </a:lnTo>
                <a:lnTo>
                  <a:pt x="402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70"/>
                </a:lnTo>
                <a:lnTo>
                  <a:pt x="426" y="270"/>
                </a:lnTo>
                <a:lnTo>
                  <a:pt x="432" y="270"/>
                </a:lnTo>
                <a:lnTo>
                  <a:pt x="438" y="270"/>
                </a:lnTo>
                <a:lnTo>
                  <a:pt x="444" y="270"/>
                </a:lnTo>
                <a:lnTo>
                  <a:pt x="450" y="270"/>
                </a:lnTo>
                <a:lnTo>
                  <a:pt x="456" y="270"/>
                </a:lnTo>
                <a:lnTo>
                  <a:pt x="462" y="270"/>
                </a:lnTo>
                <a:lnTo>
                  <a:pt x="468" y="270"/>
                </a:lnTo>
                <a:lnTo>
                  <a:pt x="474" y="270"/>
                </a:lnTo>
                <a:lnTo>
                  <a:pt x="480" y="270"/>
                </a:lnTo>
                <a:lnTo>
                  <a:pt x="486" y="270"/>
                </a:lnTo>
                <a:lnTo>
                  <a:pt x="492" y="270"/>
                </a:lnTo>
                <a:lnTo>
                  <a:pt x="498" y="270"/>
                </a:lnTo>
                <a:lnTo>
                  <a:pt x="504" y="270"/>
                </a:lnTo>
                <a:lnTo>
                  <a:pt x="510" y="270"/>
                </a:lnTo>
                <a:lnTo>
                  <a:pt x="516" y="270"/>
                </a:lnTo>
                <a:lnTo>
                  <a:pt x="522" y="270"/>
                </a:lnTo>
                <a:lnTo>
                  <a:pt x="528" y="276"/>
                </a:lnTo>
                <a:lnTo>
                  <a:pt x="534" y="276"/>
                </a:lnTo>
                <a:lnTo>
                  <a:pt x="540" y="276"/>
                </a:lnTo>
                <a:lnTo>
                  <a:pt x="546" y="276"/>
                </a:lnTo>
                <a:lnTo>
                  <a:pt x="552" y="276"/>
                </a:lnTo>
                <a:lnTo>
                  <a:pt x="558" y="276"/>
                </a:lnTo>
                <a:lnTo>
                  <a:pt x="564" y="276"/>
                </a:lnTo>
                <a:lnTo>
                  <a:pt x="570" y="276"/>
                </a:lnTo>
                <a:lnTo>
                  <a:pt x="576" y="276"/>
                </a:lnTo>
                <a:lnTo>
                  <a:pt x="582" y="276"/>
                </a:lnTo>
                <a:lnTo>
                  <a:pt x="588" y="276"/>
                </a:lnTo>
                <a:lnTo>
                  <a:pt x="594" y="276"/>
                </a:lnTo>
                <a:lnTo>
                  <a:pt x="600" y="276"/>
                </a:lnTo>
                <a:lnTo>
                  <a:pt x="606" y="276"/>
                </a:lnTo>
                <a:lnTo>
                  <a:pt x="612" y="276"/>
                </a:lnTo>
                <a:lnTo>
                  <a:pt x="618" y="276"/>
                </a:lnTo>
                <a:lnTo>
                  <a:pt x="624" y="276"/>
                </a:lnTo>
                <a:lnTo>
                  <a:pt x="630" y="276"/>
                </a:lnTo>
                <a:lnTo>
                  <a:pt x="636" y="276"/>
                </a:lnTo>
                <a:lnTo>
                  <a:pt x="642" y="276"/>
                </a:lnTo>
                <a:lnTo>
                  <a:pt x="648" y="276"/>
                </a:lnTo>
                <a:lnTo>
                  <a:pt x="654" y="276"/>
                </a:lnTo>
                <a:lnTo>
                  <a:pt x="660" y="276"/>
                </a:lnTo>
                <a:lnTo>
                  <a:pt x="666" y="276"/>
                </a:lnTo>
                <a:lnTo>
                  <a:pt x="672" y="276"/>
                </a:lnTo>
                <a:lnTo>
                  <a:pt x="678" y="276"/>
                </a:lnTo>
                <a:lnTo>
                  <a:pt x="684" y="276"/>
                </a:lnTo>
                <a:lnTo>
                  <a:pt x="690" y="276"/>
                </a:lnTo>
                <a:lnTo>
                  <a:pt x="696" y="276"/>
                </a:lnTo>
                <a:lnTo>
                  <a:pt x="702" y="276"/>
                </a:lnTo>
                <a:lnTo>
                  <a:pt x="708" y="276"/>
                </a:lnTo>
                <a:lnTo>
                  <a:pt x="714" y="276"/>
                </a:lnTo>
                <a:lnTo>
                  <a:pt x="720" y="276"/>
                </a:lnTo>
                <a:lnTo>
                  <a:pt x="726" y="276"/>
                </a:lnTo>
                <a:lnTo>
                  <a:pt x="732" y="276"/>
                </a:lnTo>
                <a:lnTo>
                  <a:pt x="738" y="276"/>
                </a:lnTo>
                <a:lnTo>
                  <a:pt x="744" y="276"/>
                </a:lnTo>
                <a:lnTo>
                  <a:pt x="750" y="276"/>
                </a:lnTo>
                <a:lnTo>
                  <a:pt x="756" y="276"/>
                </a:lnTo>
                <a:lnTo>
                  <a:pt x="762" y="276"/>
                </a:lnTo>
                <a:lnTo>
                  <a:pt x="768" y="276"/>
                </a:lnTo>
                <a:lnTo>
                  <a:pt x="774" y="276"/>
                </a:lnTo>
                <a:lnTo>
                  <a:pt x="780" y="276"/>
                </a:lnTo>
                <a:lnTo>
                  <a:pt x="786" y="276"/>
                </a:lnTo>
                <a:lnTo>
                  <a:pt x="792" y="276"/>
                </a:lnTo>
                <a:lnTo>
                  <a:pt x="798" y="276"/>
                </a:lnTo>
                <a:lnTo>
                  <a:pt x="804" y="276"/>
                </a:lnTo>
                <a:lnTo>
                  <a:pt x="810" y="276"/>
                </a:lnTo>
                <a:lnTo>
                  <a:pt x="816" y="276"/>
                </a:lnTo>
                <a:lnTo>
                  <a:pt x="822" y="276"/>
                </a:lnTo>
                <a:lnTo>
                  <a:pt x="828" y="282"/>
                </a:lnTo>
                <a:lnTo>
                  <a:pt x="834" y="282"/>
                </a:lnTo>
                <a:lnTo>
                  <a:pt x="840" y="282"/>
                </a:lnTo>
                <a:lnTo>
                  <a:pt x="846" y="282"/>
                </a:lnTo>
                <a:lnTo>
                  <a:pt x="852" y="282"/>
                </a:lnTo>
                <a:lnTo>
                  <a:pt x="858" y="282"/>
                </a:lnTo>
                <a:lnTo>
                  <a:pt x="864" y="282"/>
                </a:lnTo>
                <a:lnTo>
                  <a:pt x="870" y="282"/>
                </a:lnTo>
                <a:lnTo>
                  <a:pt x="876" y="282"/>
                </a:lnTo>
                <a:lnTo>
                  <a:pt x="882" y="282"/>
                </a:lnTo>
                <a:lnTo>
                  <a:pt x="888" y="282"/>
                </a:lnTo>
                <a:lnTo>
                  <a:pt x="894" y="282"/>
                </a:lnTo>
                <a:lnTo>
                  <a:pt x="900" y="282"/>
                </a:lnTo>
                <a:lnTo>
                  <a:pt x="906" y="282"/>
                </a:lnTo>
                <a:lnTo>
                  <a:pt x="912" y="282"/>
                </a:lnTo>
                <a:lnTo>
                  <a:pt x="918" y="282"/>
                </a:lnTo>
                <a:lnTo>
                  <a:pt x="924" y="282"/>
                </a:lnTo>
                <a:lnTo>
                  <a:pt x="930" y="282"/>
                </a:lnTo>
                <a:lnTo>
                  <a:pt x="936" y="282"/>
                </a:lnTo>
                <a:lnTo>
                  <a:pt x="942" y="282"/>
                </a:lnTo>
                <a:lnTo>
                  <a:pt x="948" y="282"/>
                </a:lnTo>
                <a:lnTo>
                  <a:pt x="954" y="282"/>
                </a:lnTo>
                <a:lnTo>
                  <a:pt x="960" y="282"/>
                </a:lnTo>
                <a:lnTo>
                  <a:pt x="966" y="282"/>
                </a:lnTo>
                <a:lnTo>
                  <a:pt x="972" y="282"/>
                </a:lnTo>
                <a:lnTo>
                  <a:pt x="978" y="282"/>
                </a:lnTo>
                <a:lnTo>
                  <a:pt x="984" y="282"/>
                </a:lnTo>
                <a:lnTo>
                  <a:pt x="990" y="282"/>
                </a:lnTo>
                <a:lnTo>
                  <a:pt x="996" y="282"/>
                </a:lnTo>
                <a:lnTo>
                  <a:pt x="1002" y="282"/>
                </a:lnTo>
                <a:lnTo>
                  <a:pt x="1008" y="282"/>
                </a:lnTo>
                <a:lnTo>
                  <a:pt x="1014" y="282"/>
                </a:lnTo>
                <a:lnTo>
                  <a:pt x="1020" y="282"/>
                </a:lnTo>
                <a:lnTo>
                  <a:pt x="1026" y="282"/>
                </a:lnTo>
                <a:lnTo>
                  <a:pt x="1032" y="282"/>
                </a:lnTo>
                <a:lnTo>
                  <a:pt x="1038" y="282"/>
                </a:lnTo>
                <a:lnTo>
                  <a:pt x="1044" y="282"/>
                </a:lnTo>
                <a:lnTo>
                  <a:pt x="1050" y="282"/>
                </a:lnTo>
                <a:lnTo>
                  <a:pt x="1056" y="282"/>
                </a:lnTo>
                <a:lnTo>
                  <a:pt x="1062" y="282"/>
                </a:lnTo>
                <a:lnTo>
                  <a:pt x="1068" y="282"/>
                </a:lnTo>
                <a:lnTo>
                  <a:pt x="1074" y="282"/>
                </a:lnTo>
                <a:lnTo>
                  <a:pt x="1080" y="282"/>
                </a:lnTo>
                <a:lnTo>
                  <a:pt x="1086" y="282"/>
                </a:lnTo>
                <a:lnTo>
                  <a:pt x="1092" y="282"/>
                </a:lnTo>
                <a:lnTo>
                  <a:pt x="1098" y="282"/>
                </a:lnTo>
                <a:lnTo>
                  <a:pt x="1104" y="282"/>
                </a:lnTo>
                <a:lnTo>
                  <a:pt x="1110" y="282"/>
                </a:lnTo>
                <a:lnTo>
                  <a:pt x="1116" y="282"/>
                </a:lnTo>
                <a:lnTo>
                  <a:pt x="1122" y="282"/>
                </a:lnTo>
                <a:lnTo>
                  <a:pt x="1128" y="282"/>
                </a:lnTo>
                <a:lnTo>
                  <a:pt x="1134" y="282"/>
                </a:lnTo>
                <a:lnTo>
                  <a:pt x="1140" y="282"/>
                </a:lnTo>
                <a:lnTo>
                  <a:pt x="1146" y="282"/>
                </a:lnTo>
                <a:lnTo>
                  <a:pt x="1152" y="282"/>
                </a:lnTo>
                <a:lnTo>
                  <a:pt x="1158" y="282"/>
                </a:lnTo>
                <a:lnTo>
                  <a:pt x="1164" y="282"/>
                </a:lnTo>
                <a:lnTo>
                  <a:pt x="1170" y="282"/>
                </a:lnTo>
                <a:lnTo>
                  <a:pt x="1176" y="282"/>
                </a:lnTo>
                <a:lnTo>
                  <a:pt x="1182" y="282"/>
                </a:lnTo>
                <a:lnTo>
                  <a:pt x="1188" y="282"/>
                </a:lnTo>
                <a:lnTo>
                  <a:pt x="1194" y="282"/>
                </a:lnTo>
                <a:lnTo>
                  <a:pt x="1200" y="282"/>
                </a:lnTo>
                <a:lnTo>
                  <a:pt x="1206" y="282"/>
                </a:lnTo>
                <a:lnTo>
                  <a:pt x="1212" y="282"/>
                </a:lnTo>
                <a:lnTo>
                  <a:pt x="1218" y="282"/>
                </a:lnTo>
                <a:lnTo>
                  <a:pt x="1224" y="282"/>
                </a:lnTo>
                <a:lnTo>
                  <a:pt x="1230" y="282"/>
                </a:lnTo>
                <a:lnTo>
                  <a:pt x="1236" y="282"/>
                </a:lnTo>
                <a:lnTo>
                  <a:pt x="1242" y="282"/>
                </a:lnTo>
                <a:lnTo>
                  <a:pt x="1248" y="282"/>
                </a:lnTo>
                <a:lnTo>
                  <a:pt x="1254" y="282"/>
                </a:lnTo>
                <a:lnTo>
                  <a:pt x="1260" y="282"/>
                </a:lnTo>
                <a:lnTo>
                  <a:pt x="1266" y="282"/>
                </a:lnTo>
                <a:lnTo>
                  <a:pt x="1272" y="282"/>
                </a:lnTo>
                <a:lnTo>
                  <a:pt x="1278" y="282"/>
                </a:lnTo>
                <a:lnTo>
                  <a:pt x="1284" y="282"/>
                </a:lnTo>
                <a:lnTo>
                  <a:pt x="1290" y="282"/>
                </a:lnTo>
                <a:lnTo>
                  <a:pt x="1296" y="282"/>
                </a:lnTo>
                <a:lnTo>
                  <a:pt x="1296" y="306"/>
                </a:lnTo>
              </a:path>
            </a:pathLst>
          </a:custGeom>
          <a:solidFill>
            <a:srgbClr val="00cc99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981680" y="219240"/>
            <a:ext cx="3762360" cy="266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Singl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1F48-A069-4C71-9413-7F7B416CD73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A7842-FFFD-4411-B54B-2B5FC92FBDF0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5549760" y="1012680"/>
          <a:ext cx="3594240" cy="295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9760" y="1012680"/>
                    <a:ext cx="359424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"/>
          <p:cNvSpPr/>
          <p:nvPr/>
        </p:nvSpPr>
        <p:spPr>
          <a:xfrm>
            <a:off x="74556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5524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55844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97280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1800" y="4343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0620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1120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61908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02876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43196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77800" y="3225960"/>
            <a:ext cx="4060800" cy="11174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598840" y="221940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85720" y="4334040"/>
            <a:ext cx="406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85720" y="3225960"/>
            <a:ext cx="3979800" cy="1117440"/>
          </a:xfrm>
          <a:custGeom>
            <a:avLst/>
            <a:gdLst/>
            <a:ahLst/>
            <a:rect l="l" t="t" r="r" b="b"/>
            <a:pathLst>
              <a:path w="3547" h="1212">
                <a:moveTo>
                  <a:pt x="0" y="1212"/>
                </a:moveTo>
                <a:lnTo>
                  <a:pt x="0" y="1212"/>
                </a:lnTo>
                <a:lnTo>
                  <a:pt x="6" y="1212"/>
                </a:lnTo>
                <a:lnTo>
                  <a:pt x="12" y="1212"/>
                </a:lnTo>
                <a:lnTo>
                  <a:pt x="18" y="1212"/>
                </a:lnTo>
                <a:lnTo>
                  <a:pt x="24" y="1212"/>
                </a:lnTo>
                <a:lnTo>
                  <a:pt x="30" y="1212"/>
                </a:lnTo>
                <a:lnTo>
                  <a:pt x="36" y="1212"/>
                </a:lnTo>
                <a:lnTo>
                  <a:pt x="42" y="1212"/>
                </a:lnTo>
                <a:lnTo>
                  <a:pt x="48" y="1212"/>
                </a:lnTo>
                <a:lnTo>
                  <a:pt x="54" y="1212"/>
                </a:lnTo>
                <a:lnTo>
                  <a:pt x="60" y="1212"/>
                </a:lnTo>
                <a:lnTo>
                  <a:pt x="66" y="1212"/>
                </a:lnTo>
                <a:lnTo>
                  <a:pt x="72" y="1212"/>
                </a:lnTo>
                <a:lnTo>
                  <a:pt x="78" y="1212"/>
                </a:lnTo>
                <a:lnTo>
                  <a:pt x="84" y="1212"/>
                </a:lnTo>
                <a:lnTo>
                  <a:pt x="90" y="1212"/>
                </a:lnTo>
                <a:lnTo>
                  <a:pt x="96" y="1212"/>
                </a:lnTo>
                <a:lnTo>
                  <a:pt x="102" y="1212"/>
                </a:lnTo>
                <a:lnTo>
                  <a:pt x="108" y="1212"/>
                </a:lnTo>
                <a:lnTo>
                  <a:pt x="114" y="1212"/>
                </a:lnTo>
                <a:lnTo>
                  <a:pt x="120" y="1212"/>
                </a:lnTo>
                <a:lnTo>
                  <a:pt x="126" y="1212"/>
                </a:lnTo>
                <a:lnTo>
                  <a:pt x="132" y="1212"/>
                </a:lnTo>
                <a:lnTo>
                  <a:pt x="138" y="1212"/>
                </a:lnTo>
                <a:lnTo>
                  <a:pt x="144" y="1212"/>
                </a:lnTo>
                <a:lnTo>
                  <a:pt x="150" y="1212"/>
                </a:lnTo>
                <a:lnTo>
                  <a:pt x="156" y="1212"/>
                </a:lnTo>
                <a:lnTo>
                  <a:pt x="162" y="1212"/>
                </a:lnTo>
                <a:lnTo>
                  <a:pt x="168" y="1212"/>
                </a:lnTo>
                <a:lnTo>
                  <a:pt x="174" y="1212"/>
                </a:lnTo>
                <a:lnTo>
                  <a:pt x="180" y="1212"/>
                </a:lnTo>
                <a:lnTo>
                  <a:pt x="186" y="1212"/>
                </a:lnTo>
                <a:lnTo>
                  <a:pt x="192" y="1212"/>
                </a:lnTo>
                <a:lnTo>
                  <a:pt x="198" y="1212"/>
                </a:lnTo>
                <a:lnTo>
                  <a:pt x="204" y="1212"/>
                </a:lnTo>
                <a:lnTo>
                  <a:pt x="210" y="1212"/>
                </a:lnTo>
                <a:lnTo>
                  <a:pt x="216" y="1212"/>
                </a:lnTo>
                <a:lnTo>
                  <a:pt x="222" y="1212"/>
                </a:lnTo>
                <a:lnTo>
                  <a:pt x="228" y="1212"/>
                </a:lnTo>
                <a:lnTo>
                  <a:pt x="234" y="1212"/>
                </a:lnTo>
                <a:lnTo>
                  <a:pt x="240" y="1212"/>
                </a:lnTo>
                <a:lnTo>
                  <a:pt x="246" y="1212"/>
                </a:lnTo>
                <a:lnTo>
                  <a:pt x="252" y="1212"/>
                </a:lnTo>
                <a:lnTo>
                  <a:pt x="258" y="1212"/>
                </a:lnTo>
                <a:lnTo>
                  <a:pt x="264" y="1212"/>
                </a:lnTo>
                <a:lnTo>
                  <a:pt x="270" y="1212"/>
                </a:lnTo>
                <a:lnTo>
                  <a:pt x="276" y="1212"/>
                </a:lnTo>
                <a:lnTo>
                  <a:pt x="282" y="1212"/>
                </a:lnTo>
                <a:lnTo>
                  <a:pt x="288" y="1212"/>
                </a:lnTo>
                <a:lnTo>
                  <a:pt x="294" y="1212"/>
                </a:lnTo>
                <a:lnTo>
                  <a:pt x="300" y="1212"/>
                </a:lnTo>
                <a:lnTo>
                  <a:pt x="306" y="1212"/>
                </a:lnTo>
                <a:lnTo>
                  <a:pt x="312" y="1212"/>
                </a:lnTo>
                <a:lnTo>
                  <a:pt x="318" y="1212"/>
                </a:lnTo>
                <a:lnTo>
                  <a:pt x="324" y="1212"/>
                </a:lnTo>
                <a:lnTo>
                  <a:pt x="330" y="1212"/>
                </a:lnTo>
                <a:lnTo>
                  <a:pt x="336" y="1212"/>
                </a:lnTo>
                <a:lnTo>
                  <a:pt x="342" y="1212"/>
                </a:lnTo>
                <a:lnTo>
                  <a:pt x="348" y="1212"/>
                </a:lnTo>
                <a:lnTo>
                  <a:pt x="354" y="1212"/>
                </a:lnTo>
                <a:lnTo>
                  <a:pt x="360" y="1212"/>
                </a:lnTo>
                <a:lnTo>
                  <a:pt x="366" y="1212"/>
                </a:lnTo>
                <a:lnTo>
                  <a:pt x="372" y="1212"/>
                </a:lnTo>
                <a:lnTo>
                  <a:pt x="378" y="1212"/>
                </a:lnTo>
                <a:lnTo>
                  <a:pt x="384" y="1212"/>
                </a:lnTo>
                <a:lnTo>
                  <a:pt x="390" y="1212"/>
                </a:lnTo>
                <a:lnTo>
                  <a:pt x="396" y="1212"/>
                </a:lnTo>
                <a:lnTo>
                  <a:pt x="402" y="1212"/>
                </a:lnTo>
                <a:lnTo>
                  <a:pt x="408" y="1212"/>
                </a:lnTo>
                <a:lnTo>
                  <a:pt x="414" y="1212"/>
                </a:lnTo>
                <a:lnTo>
                  <a:pt x="420" y="1212"/>
                </a:lnTo>
                <a:lnTo>
                  <a:pt x="426" y="1212"/>
                </a:lnTo>
                <a:lnTo>
                  <a:pt x="432" y="1212"/>
                </a:lnTo>
                <a:lnTo>
                  <a:pt x="438" y="1212"/>
                </a:lnTo>
                <a:lnTo>
                  <a:pt x="444" y="1212"/>
                </a:lnTo>
                <a:lnTo>
                  <a:pt x="450" y="1212"/>
                </a:lnTo>
                <a:lnTo>
                  <a:pt x="456" y="1212"/>
                </a:lnTo>
                <a:lnTo>
                  <a:pt x="462" y="1212"/>
                </a:lnTo>
                <a:lnTo>
                  <a:pt x="468" y="1212"/>
                </a:lnTo>
                <a:lnTo>
                  <a:pt x="474" y="1212"/>
                </a:lnTo>
                <a:lnTo>
                  <a:pt x="480" y="1212"/>
                </a:lnTo>
                <a:lnTo>
                  <a:pt x="486" y="1212"/>
                </a:lnTo>
                <a:lnTo>
                  <a:pt x="492" y="1212"/>
                </a:lnTo>
                <a:lnTo>
                  <a:pt x="498" y="1212"/>
                </a:lnTo>
                <a:lnTo>
                  <a:pt x="504" y="1212"/>
                </a:lnTo>
                <a:lnTo>
                  <a:pt x="510" y="1212"/>
                </a:lnTo>
                <a:lnTo>
                  <a:pt x="516" y="1212"/>
                </a:lnTo>
                <a:lnTo>
                  <a:pt x="522" y="1212"/>
                </a:lnTo>
                <a:lnTo>
                  <a:pt x="528" y="1212"/>
                </a:lnTo>
                <a:lnTo>
                  <a:pt x="534" y="1212"/>
                </a:lnTo>
                <a:lnTo>
                  <a:pt x="540" y="1212"/>
                </a:lnTo>
                <a:lnTo>
                  <a:pt x="546" y="1212"/>
                </a:lnTo>
                <a:lnTo>
                  <a:pt x="552" y="1212"/>
                </a:lnTo>
                <a:lnTo>
                  <a:pt x="558" y="1212"/>
                </a:lnTo>
                <a:lnTo>
                  <a:pt x="564" y="1212"/>
                </a:lnTo>
                <a:lnTo>
                  <a:pt x="570" y="1212"/>
                </a:lnTo>
                <a:lnTo>
                  <a:pt x="576" y="1212"/>
                </a:lnTo>
                <a:lnTo>
                  <a:pt x="582" y="1212"/>
                </a:lnTo>
                <a:lnTo>
                  <a:pt x="588" y="1212"/>
                </a:lnTo>
                <a:lnTo>
                  <a:pt x="594" y="1206"/>
                </a:lnTo>
                <a:lnTo>
                  <a:pt x="600" y="1206"/>
                </a:lnTo>
                <a:lnTo>
                  <a:pt x="606" y="1206"/>
                </a:lnTo>
                <a:lnTo>
                  <a:pt x="612" y="1206"/>
                </a:lnTo>
                <a:lnTo>
                  <a:pt x="618" y="1206"/>
                </a:lnTo>
                <a:lnTo>
                  <a:pt x="624" y="1206"/>
                </a:lnTo>
                <a:lnTo>
                  <a:pt x="630" y="1206"/>
                </a:lnTo>
                <a:lnTo>
                  <a:pt x="636" y="1206"/>
                </a:lnTo>
                <a:lnTo>
                  <a:pt x="642" y="1206"/>
                </a:lnTo>
                <a:lnTo>
                  <a:pt x="648" y="1206"/>
                </a:lnTo>
                <a:lnTo>
                  <a:pt x="654" y="1206"/>
                </a:lnTo>
                <a:lnTo>
                  <a:pt x="660" y="1206"/>
                </a:lnTo>
                <a:lnTo>
                  <a:pt x="666" y="1200"/>
                </a:lnTo>
                <a:lnTo>
                  <a:pt x="672" y="1200"/>
                </a:lnTo>
                <a:lnTo>
                  <a:pt x="678" y="1200"/>
                </a:lnTo>
                <a:lnTo>
                  <a:pt x="684" y="1200"/>
                </a:lnTo>
                <a:lnTo>
                  <a:pt x="690" y="1200"/>
                </a:lnTo>
                <a:lnTo>
                  <a:pt x="696" y="1194"/>
                </a:lnTo>
                <a:lnTo>
                  <a:pt x="702" y="1194"/>
                </a:lnTo>
                <a:lnTo>
                  <a:pt x="708" y="1194"/>
                </a:lnTo>
                <a:lnTo>
                  <a:pt x="714" y="1194"/>
                </a:lnTo>
                <a:lnTo>
                  <a:pt x="720" y="1188"/>
                </a:lnTo>
                <a:lnTo>
                  <a:pt x="726" y="1188"/>
                </a:lnTo>
                <a:lnTo>
                  <a:pt x="732" y="1188"/>
                </a:lnTo>
                <a:lnTo>
                  <a:pt x="738" y="1182"/>
                </a:lnTo>
                <a:lnTo>
                  <a:pt x="744" y="1182"/>
                </a:lnTo>
                <a:lnTo>
                  <a:pt x="750" y="1176"/>
                </a:lnTo>
                <a:lnTo>
                  <a:pt x="756" y="1176"/>
                </a:lnTo>
                <a:lnTo>
                  <a:pt x="762" y="1176"/>
                </a:lnTo>
                <a:lnTo>
                  <a:pt x="768" y="1170"/>
                </a:lnTo>
                <a:lnTo>
                  <a:pt x="774" y="1164"/>
                </a:lnTo>
                <a:lnTo>
                  <a:pt x="780" y="1164"/>
                </a:lnTo>
                <a:lnTo>
                  <a:pt x="786" y="1158"/>
                </a:lnTo>
                <a:lnTo>
                  <a:pt x="792" y="1152"/>
                </a:lnTo>
                <a:lnTo>
                  <a:pt x="798" y="1152"/>
                </a:lnTo>
                <a:lnTo>
                  <a:pt x="804" y="1146"/>
                </a:lnTo>
                <a:lnTo>
                  <a:pt x="810" y="1140"/>
                </a:lnTo>
                <a:lnTo>
                  <a:pt x="816" y="1134"/>
                </a:lnTo>
                <a:lnTo>
                  <a:pt x="822" y="1128"/>
                </a:lnTo>
                <a:lnTo>
                  <a:pt x="828" y="1122"/>
                </a:lnTo>
                <a:lnTo>
                  <a:pt x="834" y="1116"/>
                </a:lnTo>
                <a:lnTo>
                  <a:pt x="840" y="1110"/>
                </a:lnTo>
                <a:lnTo>
                  <a:pt x="846" y="1104"/>
                </a:lnTo>
                <a:lnTo>
                  <a:pt x="852" y="1098"/>
                </a:lnTo>
                <a:lnTo>
                  <a:pt x="858" y="1092"/>
                </a:lnTo>
                <a:lnTo>
                  <a:pt x="864" y="1086"/>
                </a:lnTo>
                <a:lnTo>
                  <a:pt x="864" y="1080"/>
                </a:lnTo>
                <a:lnTo>
                  <a:pt x="870" y="1074"/>
                </a:lnTo>
                <a:lnTo>
                  <a:pt x="876" y="1068"/>
                </a:lnTo>
                <a:lnTo>
                  <a:pt x="882" y="1062"/>
                </a:lnTo>
                <a:lnTo>
                  <a:pt x="882" y="1056"/>
                </a:lnTo>
                <a:lnTo>
                  <a:pt x="888" y="1050"/>
                </a:lnTo>
                <a:lnTo>
                  <a:pt x="888" y="1044"/>
                </a:lnTo>
                <a:lnTo>
                  <a:pt x="894" y="1038"/>
                </a:lnTo>
                <a:lnTo>
                  <a:pt x="900" y="1032"/>
                </a:lnTo>
                <a:lnTo>
                  <a:pt x="900" y="1026"/>
                </a:lnTo>
                <a:lnTo>
                  <a:pt x="906" y="1020"/>
                </a:lnTo>
                <a:lnTo>
                  <a:pt x="906" y="1008"/>
                </a:lnTo>
                <a:lnTo>
                  <a:pt x="912" y="1002"/>
                </a:lnTo>
                <a:lnTo>
                  <a:pt x="912" y="996"/>
                </a:lnTo>
                <a:lnTo>
                  <a:pt x="918" y="990"/>
                </a:lnTo>
                <a:lnTo>
                  <a:pt x="924" y="984"/>
                </a:lnTo>
                <a:lnTo>
                  <a:pt x="924" y="972"/>
                </a:lnTo>
                <a:lnTo>
                  <a:pt x="930" y="966"/>
                </a:lnTo>
                <a:lnTo>
                  <a:pt x="930" y="960"/>
                </a:lnTo>
                <a:lnTo>
                  <a:pt x="936" y="954"/>
                </a:lnTo>
                <a:lnTo>
                  <a:pt x="942" y="942"/>
                </a:lnTo>
                <a:lnTo>
                  <a:pt x="942" y="936"/>
                </a:lnTo>
                <a:lnTo>
                  <a:pt x="948" y="924"/>
                </a:lnTo>
                <a:lnTo>
                  <a:pt x="948" y="918"/>
                </a:lnTo>
                <a:lnTo>
                  <a:pt x="954" y="906"/>
                </a:lnTo>
                <a:lnTo>
                  <a:pt x="960" y="900"/>
                </a:lnTo>
                <a:lnTo>
                  <a:pt x="960" y="888"/>
                </a:lnTo>
                <a:lnTo>
                  <a:pt x="966" y="882"/>
                </a:lnTo>
                <a:lnTo>
                  <a:pt x="966" y="870"/>
                </a:lnTo>
                <a:lnTo>
                  <a:pt x="972" y="864"/>
                </a:lnTo>
                <a:lnTo>
                  <a:pt x="978" y="852"/>
                </a:lnTo>
                <a:lnTo>
                  <a:pt x="978" y="840"/>
                </a:lnTo>
                <a:lnTo>
                  <a:pt x="984" y="834"/>
                </a:lnTo>
                <a:lnTo>
                  <a:pt x="984" y="822"/>
                </a:lnTo>
                <a:lnTo>
                  <a:pt x="990" y="810"/>
                </a:lnTo>
                <a:lnTo>
                  <a:pt x="990" y="798"/>
                </a:lnTo>
                <a:lnTo>
                  <a:pt x="996" y="786"/>
                </a:lnTo>
                <a:lnTo>
                  <a:pt x="1002" y="780"/>
                </a:lnTo>
                <a:lnTo>
                  <a:pt x="1002" y="768"/>
                </a:lnTo>
                <a:lnTo>
                  <a:pt x="1008" y="756"/>
                </a:lnTo>
                <a:lnTo>
                  <a:pt x="1008" y="744"/>
                </a:lnTo>
                <a:lnTo>
                  <a:pt x="1014" y="732"/>
                </a:lnTo>
                <a:lnTo>
                  <a:pt x="1020" y="720"/>
                </a:lnTo>
                <a:lnTo>
                  <a:pt x="1020" y="708"/>
                </a:lnTo>
                <a:lnTo>
                  <a:pt x="1026" y="696"/>
                </a:lnTo>
                <a:lnTo>
                  <a:pt x="1026" y="684"/>
                </a:lnTo>
                <a:lnTo>
                  <a:pt x="1032" y="672"/>
                </a:lnTo>
                <a:lnTo>
                  <a:pt x="1038" y="660"/>
                </a:lnTo>
                <a:lnTo>
                  <a:pt x="1038" y="648"/>
                </a:lnTo>
                <a:lnTo>
                  <a:pt x="1044" y="636"/>
                </a:lnTo>
                <a:lnTo>
                  <a:pt x="1044" y="624"/>
                </a:lnTo>
                <a:lnTo>
                  <a:pt x="1050" y="612"/>
                </a:lnTo>
                <a:lnTo>
                  <a:pt x="1056" y="600"/>
                </a:lnTo>
                <a:lnTo>
                  <a:pt x="1056" y="588"/>
                </a:lnTo>
                <a:lnTo>
                  <a:pt x="1062" y="570"/>
                </a:lnTo>
                <a:lnTo>
                  <a:pt x="1062" y="558"/>
                </a:lnTo>
                <a:lnTo>
                  <a:pt x="1068" y="546"/>
                </a:lnTo>
                <a:lnTo>
                  <a:pt x="1068" y="534"/>
                </a:lnTo>
                <a:lnTo>
                  <a:pt x="1074" y="522"/>
                </a:lnTo>
                <a:lnTo>
                  <a:pt x="1080" y="510"/>
                </a:lnTo>
                <a:lnTo>
                  <a:pt x="1080" y="498"/>
                </a:lnTo>
                <a:lnTo>
                  <a:pt x="1086" y="480"/>
                </a:lnTo>
                <a:lnTo>
                  <a:pt x="1086" y="468"/>
                </a:lnTo>
                <a:lnTo>
                  <a:pt x="1092" y="456"/>
                </a:lnTo>
                <a:lnTo>
                  <a:pt x="1098" y="444"/>
                </a:lnTo>
                <a:lnTo>
                  <a:pt x="1098" y="432"/>
                </a:lnTo>
                <a:lnTo>
                  <a:pt x="1104" y="414"/>
                </a:lnTo>
                <a:lnTo>
                  <a:pt x="1104" y="402"/>
                </a:lnTo>
                <a:lnTo>
                  <a:pt x="1110" y="390"/>
                </a:lnTo>
                <a:lnTo>
                  <a:pt x="1116" y="378"/>
                </a:lnTo>
                <a:lnTo>
                  <a:pt x="1116" y="366"/>
                </a:lnTo>
                <a:lnTo>
                  <a:pt x="1122" y="354"/>
                </a:lnTo>
                <a:lnTo>
                  <a:pt x="1122" y="342"/>
                </a:lnTo>
                <a:lnTo>
                  <a:pt x="1128" y="330"/>
                </a:lnTo>
                <a:lnTo>
                  <a:pt x="1134" y="318"/>
                </a:lnTo>
                <a:lnTo>
                  <a:pt x="1134" y="300"/>
                </a:lnTo>
                <a:lnTo>
                  <a:pt x="1140" y="288"/>
                </a:lnTo>
                <a:lnTo>
                  <a:pt x="1140" y="276"/>
                </a:lnTo>
                <a:lnTo>
                  <a:pt x="1146" y="264"/>
                </a:lnTo>
                <a:lnTo>
                  <a:pt x="1146" y="252"/>
                </a:lnTo>
                <a:lnTo>
                  <a:pt x="1152" y="246"/>
                </a:lnTo>
                <a:lnTo>
                  <a:pt x="1158" y="234"/>
                </a:lnTo>
                <a:lnTo>
                  <a:pt x="1158" y="222"/>
                </a:lnTo>
                <a:lnTo>
                  <a:pt x="1164" y="210"/>
                </a:lnTo>
                <a:lnTo>
                  <a:pt x="1164" y="198"/>
                </a:lnTo>
                <a:lnTo>
                  <a:pt x="1170" y="186"/>
                </a:lnTo>
                <a:lnTo>
                  <a:pt x="1176" y="180"/>
                </a:lnTo>
                <a:lnTo>
                  <a:pt x="1176" y="168"/>
                </a:lnTo>
                <a:lnTo>
                  <a:pt x="1182" y="156"/>
                </a:lnTo>
                <a:lnTo>
                  <a:pt x="1182" y="150"/>
                </a:lnTo>
                <a:lnTo>
                  <a:pt x="1188" y="138"/>
                </a:lnTo>
                <a:lnTo>
                  <a:pt x="1194" y="126"/>
                </a:lnTo>
                <a:lnTo>
                  <a:pt x="1194" y="120"/>
                </a:lnTo>
                <a:lnTo>
                  <a:pt x="1200" y="114"/>
                </a:lnTo>
                <a:lnTo>
                  <a:pt x="1200" y="102"/>
                </a:lnTo>
                <a:lnTo>
                  <a:pt x="1206" y="96"/>
                </a:lnTo>
                <a:lnTo>
                  <a:pt x="1212" y="84"/>
                </a:lnTo>
                <a:lnTo>
                  <a:pt x="1212" y="78"/>
                </a:lnTo>
                <a:lnTo>
                  <a:pt x="1218" y="72"/>
                </a:lnTo>
                <a:lnTo>
                  <a:pt x="1218" y="66"/>
                </a:lnTo>
                <a:lnTo>
                  <a:pt x="1224" y="60"/>
                </a:lnTo>
                <a:lnTo>
                  <a:pt x="1224" y="54"/>
                </a:lnTo>
                <a:lnTo>
                  <a:pt x="1230" y="48"/>
                </a:lnTo>
                <a:lnTo>
                  <a:pt x="1236" y="42"/>
                </a:lnTo>
                <a:lnTo>
                  <a:pt x="1236" y="36"/>
                </a:lnTo>
                <a:lnTo>
                  <a:pt x="1242" y="30"/>
                </a:lnTo>
                <a:lnTo>
                  <a:pt x="1248" y="24"/>
                </a:lnTo>
                <a:lnTo>
                  <a:pt x="1254" y="18"/>
                </a:lnTo>
                <a:lnTo>
                  <a:pt x="1260" y="12"/>
                </a:lnTo>
                <a:lnTo>
                  <a:pt x="1266" y="6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6"/>
                </a:lnTo>
                <a:lnTo>
                  <a:pt x="1308" y="6"/>
                </a:lnTo>
                <a:lnTo>
                  <a:pt x="1314" y="12"/>
                </a:lnTo>
                <a:lnTo>
                  <a:pt x="1320" y="18"/>
                </a:lnTo>
                <a:lnTo>
                  <a:pt x="1326" y="24"/>
                </a:lnTo>
                <a:lnTo>
                  <a:pt x="1332" y="30"/>
                </a:lnTo>
                <a:lnTo>
                  <a:pt x="1338" y="36"/>
                </a:lnTo>
                <a:lnTo>
                  <a:pt x="1338" y="42"/>
                </a:lnTo>
                <a:lnTo>
                  <a:pt x="1344" y="48"/>
                </a:lnTo>
                <a:lnTo>
                  <a:pt x="1350" y="54"/>
                </a:lnTo>
                <a:lnTo>
                  <a:pt x="1350" y="60"/>
                </a:lnTo>
                <a:lnTo>
                  <a:pt x="1356" y="72"/>
                </a:lnTo>
                <a:lnTo>
                  <a:pt x="1356" y="78"/>
                </a:lnTo>
                <a:lnTo>
                  <a:pt x="1362" y="84"/>
                </a:lnTo>
                <a:lnTo>
                  <a:pt x="1368" y="90"/>
                </a:lnTo>
                <a:lnTo>
                  <a:pt x="1368" y="102"/>
                </a:lnTo>
                <a:lnTo>
                  <a:pt x="1374" y="108"/>
                </a:lnTo>
                <a:lnTo>
                  <a:pt x="1374" y="114"/>
                </a:lnTo>
                <a:lnTo>
                  <a:pt x="1380" y="126"/>
                </a:lnTo>
                <a:lnTo>
                  <a:pt x="1380" y="132"/>
                </a:lnTo>
                <a:lnTo>
                  <a:pt x="1386" y="144"/>
                </a:lnTo>
                <a:lnTo>
                  <a:pt x="1392" y="156"/>
                </a:lnTo>
                <a:lnTo>
                  <a:pt x="1392" y="162"/>
                </a:lnTo>
                <a:lnTo>
                  <a:pt x="1398" y="174"/>
                </a:lnTo>
                <a:lnTo>
                  <a:pt x="1398" y="186"/>
                </a:lnTo>
                <a:lnTo>
                  <a:pt x="1404" y="192"/>
                </a:lnTo>
                <a:lnTo>
                  <a:pt x="1410" y="204"/>
                </a:lnTo>
                <a:lnTo>
                  <a:pt x="1410" y="216"/>
                </a:lnTo>
                <a:lnTo>
                  <a:pt x="1416" y="228"/>
                </a:lnTo>
                <a:lnTo>
                  <a:pt x="1416" y="240"/>
                </a:lnTo>
                <a:lnTo>
                  <a:pt x="1422" y="252"/>
                </a:lnTo>
                <a:lnTo>
                  <a:pt x="1428" y="264"/>
                </a:lnTo>
                <a:lnTo>
                  <a:pt x="1428" y="276"/>
                </a:lnTo>
                <a:lnTo>
                  <a:pt x="1434" y="288"/>
                </a:lnTo>
                <a:lnTo>
                  <a:pt x="1434" y="300"/>
                </a:lnTo>
                <a:lnTo>
                  <a:pt x="1440" y="312"/>
                </a:lnTo>
                <a:lnTo>
                  <a:pt x="1446" y="324"/>
                </a:lnTo>
                <a:lnTo>
                  <a:pt x="1446" y="336"/>
                </a:lnTo>
                <a:lnTo>
                  <a:pt x="1452" y="348"/>
                </a:lnTo>
                <a:lnTo>
                  <a:pt x="1452" y="360"/>
                </a:lnTo>
                <a:lnTo>
                  <a:pt x="1458" y="372"/>
                </a:lnTo>
                <a:lnTo>
                  <a:pt x="1458" y="384"/>
                </a:lnTo>
                <a:lnTo>
                  <a:pt x="1464" y="402"/>
                </a:lnTo>
                <a:lnTo>
                  <a:pt x="1470" y="414"/>
                </a:lnTo>
                <a:lnTo>
                  <a:pt x="1470" y="426"/>
                </a:lnTo>
                <a:lnTo>
                  <a:pt x="1476" y="438"/>
                </a:lnTo>
                <a:lnTo>
                  <a:pt x="1476" y="450"/>
                </a:lnTo>
                <a:lnTo>
                  <a:pt x="1482" y="462"/>
                </a:lnTo>
                <a:lnTo>
                  <a:pt x="1488" y="480"/>
                </a:lnTo>
                <a:lnTo>
                  <a:pt x="1488" y="492"/>
                </a:lnTo>
                <a:lnTo>
                  <a:pt x="1494" y="504"/>
                </a:lnTo>
                <a:lnTo>
                  <a:pt x="1494" y="516"/>
                </a:lnTo>
                <a:lnTo>
                  <a:pt x="1500" y="528"/>
                </a:lnTo>
                <a:lnTo>
                  <a:pt x="1506" y="540"/>
                </a:lnTo>
                <a:lnTo>
                  <a:pt x="1506" y="558"/>
                </a:lnTo>
                <a:lnTo>
                  <a:pt x="1512" y="570"/>
                </a:lnTo>
                <a:lnTo>
                  <a:pt x="1512" y="582"/>
                </a:lnTo>
                <a:lnTo>
                  <a:pt x="1518" y="594"/>
                </a:lnTo>
                <a:lnTo>
                  <a:pt x="1524" y="606"/>
                </a:lnTo>
                <a:lnTo>
                  <a:pt x="1524" y="618"/>
                </a:lnTo>
                <a:lnTo>
                  <a:pt x="1530" y="630"/>
                </a:lnTo>
                <a:lnTo>
                  <a:pt x="1530" y="642"/>
                </a:lnTo>
                <a:lnTo>
                  <a:pt x="1536" y="654"/>
                </a:lnTo>
                <a:lnTo>
                  <a:pt x="1536" y="666"/>
                </a:lnTo>
                <a:lnTo>
                  <a:pt x="1542" y="684"/>
                </a:lnTo>
                <a:lnTo>
                  <a:pt x="1548" y="696"/>
                </a:lnTo>
                <a:lnTo>
                  <a:pt x="1548" y="708"/>
                </a:lnTo>
                <a:lnTo>
                  <a:pt x="1555" y="714"/>
                </a:lnTo>
                <a:lnTo>
                  <a:pt x="1555" y="726"/>
                </a:lnTo>
                <a:lnTo>
                  <a:pt x="1561" y="738"/>
                </a:lnTo>
                <a:lnTo>
                  <a:pt x="1567" y="750"/>
                </a:lnTo>
                <a:lnTo>
                  <a:pt x="1567" y="762"/>
                </a:lnTo>
                <a:lnTo>
                  <a:pt x="1573" y="774"/>
                </a:lnTo>
                <a:lnTo>
                  <a:pt x="1573" y="786"/>
                </a:lnTo>
                <a:lnTo>
                  <a:pt x="1579" y="798"/>
                </a:lnTo>
                <a:lnTo>
                  <a:pt x="1585" y="804"/>
                </a:lnTo>
                <a:lnTo>
                  <a:pt x="1585" y="816"/>
                </a:lnTo>
                <a:lnTo>
                  <a:pt x="1591" y="828"/>
                </a:lnTo>
                <a:lnTo>
                  <a:pt x="1591" y="840"/>
                </a:lnTo>
                <a:lnTo>
                  <a:pt x="1597" y="846"/>
                </a:lnTo>
                <a:lnTo>
                  <a:pt x="1603" y="858"/>
                </a:lnTo>
                <a:lnTo>
                  <a:pt x="1603" y="870"/>
                </a:lnTo>
                <a:lnTo>
                  <a:pt x="1609" y="876"/>
                </a:lnTo>
                <a:lnTo>
                  <a:pt x="1609" y="888"/>
                </a:lnTo>
                <a:lnTo>
                  <a:pt x="1615" y="894"/>
                </a:lnTo>
                <a:lnTo>
                  <a:pt x="1615" y="906"/>
                </a:lnTo>
                <a:lnTo>
                  <a:pt x="1621" y="912"/>
                </a:lnTo>
                <a:lnTo>
                  <a:pt x="1627" y="924"/>
                </a:lnTo>
                <a:lnTo>
                  <a:pt x="1627" y="930"/>
                </a:lnTo>
                <a:lnTo>
                  <a:pt x="1633" y="942"/>
                </a:lnTo>
                <a:lnTo>
                  <a:pt x="1633" y="948"/>
                </a:lnTo>
                <a:lnTo>
                  <a:pt x="1639" y="954"/>
                </a:lnTo>
                <a:lnTo>
                  <a:pt x="1645" y="966"/>
                </a:lnTo>
                <a:lnTo>
                  <a:pt x="1645" y="972"/>
                </a:lnTo>
                <a:lnTo>
                  <a:pt x="1651" y="978"/>
                </a:lnTo>
                <a:lnTo>
                  <a:pt x="1651" y="990"/>
                </a:lnTo>
                <a:lnTo>
                  <a:pt x="1657" y="996"/>
                </a:lnTo>
                <a:lnTo>
                  <a:pt x="1663" y="1002"/>
                </a:lnTo>
                <a:lnTo>
                  <a:pt x="1663" y="1008"/>
                </a:lnTo>
                <a:lnTo>
                  <a:pt x="1669" y="1014"/>
                </a:lnTo>
                <a:lnTo>
                  <a:pt x="1669" y="1020"/>
                </a:lnTo>
                <a:lnTo>
                  <a:pt x="1675" y="1026"/>
                </a:lnTo>
                <a:lnTo>
                  <a:pt x="1681" y="1032"/>
                </a:lnTo>
                <a:lnTo>
                  <a:pt x="1681" y="1038"/>
                </a:lnTo>
                <a:lnTo>
                  <a:pt x="1687" y="1044"/>
                </a:lnTo>
                <a:lnTo>
                  <a:pt x="1687" y="1050"/>
                </a:lnTo>
                <a:lnTo>
                  <a:pt x="1693" y="1056"/>
                </a:lnTo>
                <a:lnTo>
                  <a:pt x="1693" y="1062"/>
                </a:lnTo>
                <a:lnTo>
                  <a:pt x="1699" y="1068"/>
                </a:lnTo>
                <a:lnTo>
                  <a:pt x="1705" y="1074"/>
                </a:lnTo>
                <a:lnTo>
                  <a:pt x="1705" y="1080"/>
                </a:lnTo>
                <a:lnTo>
                  <a:pt x="1711" y="1086"/>
                </a:lnTo>
                <a:lnTo>
                  <a:pt x="1717" y="1092"/>
                </a:lnTo>
                <a:lnTo>
                  <a:pt x="1723" y="1098"/>
                </a:lnTo>
                <a:lnTo>
                  <a:pt x="1729" y="1104"/>
                </a:lnTo>
                <a:lnTo>
                  <a:pt x="1729" y="1110"/>
                </a:lnTo>
                <a:lnTo>
                  <a:pt x="1735" y="1116"/>
                </a:lnTo>
                <a:lnTo>
                  <a:pt x="1741" y="1122"/>
                </a:lnTo>
                <a:lnTo>
                  <a:pt x="1747" y="1128"/>
                </a:lnTo>
                <a:lnTo>
                  <a:pt x="1753" y="1134"/>
                </a:lnTo>
                <a:lnTo>
                  <a:pt x="1759" y="1140"/>
                </a:lnTo>
                <a:lnTo>
                  <a:pt x="1765" y="1146"/>
                </a:lnTo>
                <a:lnTo>
                  <a:pt x="1771" y="1146"/>
                </a:lnTo>
                <a:lnTo>
                  <a:pt x="1777" y="1152"/>
                </a:lnTo>
                <a:lnTo>
                  <a:pt x="1783" y="1158"/>
                </a:lnTo>
                <a:lnTo>
                  <a:pt x="1789" y="1164"/>
                </a:lnTo>
                <a:lnTo>
                  <a:pt x="1795" y="1164"/>
                </a:lnTo>
                <a:lnTo>
                  <a:pt x="1801" y="1170"/>
                </a:lnTo>
                <a:lnTo>
                  <a:pt x="1807" y="1170"/>
                </a:lnTo>
                <a:lnTo>
                  <a:pt x="1813" y="1176"/>
                </a:lnTo>
                <a:lnTo>
                  <a:pt x="1819" y="1176"/>
                </a:lnTo>
                <a:lnTo>
                  <a:pt x="1825" y="1182"/>
                </a:lnTo>
                <a:lnTo>
                  <a:pt x="1831" y="1182"/>
                </a:lnTo>
                <a:lnTo>
                  <a:pt x="1837" y="1188"/>
                </a:lnTo>
                <a:lnTo>
                  <a:pt x="1843" y="1188"/>
                </a:lnTo>
                <a:lnTo>
                  <a:pt x="1849" y="1188"/>
                </a:lnTo>
                <a:lnTo>
                  <a:pt x="1855" y="1188"/>
                </a:lnTo>
                <a:lnTo>
                  <a:pt x="1861" y="1194"/>
                </a:lnTo>
                <a:lnTo>
                  <a:pt x="1867" y="1194"/>
                </a:lnTo>
                <a:lnTo>
                  <a:pt x="1873" y="1194"/>
                </a:lnTo>
                <a:lnTo>
                  <a:pt x="1879" y="1200"/>
                </a:lnTo>
                <a:lnTo>
                  <a:pt x="1885" y="1200"/>
                </a:lnTo>
                <a:lnTo>
                  <a:pt x="1891" y="1200"/>
                </a:lnTo>
                <a:lnTo>
                  <a:pt x="1897" y="1200"/>
                </a:lnTo>
                <a:lnTo>
                  <a:pt x="1903" y="1200"/>
                </a:lnTo>
                <a:lnTo>
                  <a:pt x="1909" y="1200"/>
                </a:lnTo>
                <a:lnTo>
                  <a:pt x="1915" y="1206"/>
                </a:lnTo>
                <a:lnTo>
                  <a:pt x="1921" y="1206"/>
                </a:lnTo>
                <a:lnTo>
                  <a:pt x="1927" y="1206"/>
                </a:lnTo>
                <a:lnTo>
                  <a:pt x="1933" y="1206"/>
                </a:lnTo>
                <a:lnTo>
                  <a:pt x="1939" y="1206"/>
                </a:lnTo>
                <a:lnTo>
                  <a:pt x="1945" y="1206"/>
                </a:lnTo>
                <a:lnTo>
                  <a:pt x="1951" y="1206"/>
                </a:lnTo>
                <a:lnTo>
                  <a:pt x="1957" y="1206"/>
                </a:lnTo>
                <a:lnTo>
                  <a:pt x="1963" y="1206"/>
                </a:lnTo>
                <a:lnTo>
                  <a:pt x="1969" y="1206"/>
                </a:lnTo>
                <a:lnTo>
                  <a:pt x="1975" y="1206"/>
                </a:lnTo>
                <a:lnTo>
                  <a:pt x="1981" y="1212"/>
                </a:lnTo>
                <a:lnTo>
                  <a:pt x="1987" y="1212"/>
                </a:lnTo>
                <a:lnTo>
                  <a:pt x="1993" y="1212"/>
                </a:lnTo>
                <a:lnTo>
                  <a:pt x="1999" y="1212"/>
                </a:lnTo>
                <a:lnTo>
                  <a:pt x="2005" y="1212"/>
                </a:lnTo>
                <a:lnTo>
                  <a:pt x="2011" y="1212"/>
                </a:lnTo>
                <a:lnTo>
                  <a:pt x="2017" y="1212"/>
                </a:lnTo>
                <a:lnTo>
                  <a:pt x="2023" y="1212"/>
                </a:lnTo>
                <a:lnTo>
                  <a:pt x="2029" y="1212"/>
                </a:lnTo>
                <a:lnTo>
                  <a:pt x="2035" y="1212"/>
                </a:lnTo>
                <a:lnTo>
                  <a:pt x="2041" y="1212"/>
                </a:lnTo>
                <a:lnTo>
                  <a:pt x="2047" y="1212"/>
                </a:lnTo>
                <a:lnTo>
                  <a:pt x="2053" y="1212"/>
                </a:lnTo>
                <a:lnTo>
                  <a:pt x="2059" y="1212"/>
                </a:lnTo>
                <a:lnTo>
                  <a:pt x="2065" y="1212"/>
                </a:lnTo>
                <a:lnTo>
                  <a:pt x="2071" y="1212"/>
                </a:lnTo>
                <a:lnTo>
                  <a:pt x="2077" y="1212"/>
                </a:lnTo>
                <a:lnTo>
                  <a:pt x="2083" y="1212"/>
                </a:lnTo>
                <a:lnTo>
                  <a:pt x="2089" y="1212"/>
                </a:lnTo>
                <a:lnTo>
                  <a:pt x="2095" y="1212"/>
                </a:lnTo>
                <a:lnTo>
                  <a:pt x="2101" y="1212"/>
                </a:lnTo>
                <a:lnTo>
                  <a:pt x="2107" y="1212"/>
                </a:lnTo>
                <a:lnTo>
                  <a:pt x="2113" y="1212"/>
                </a:lnTo>
                <a:lnTo>
                  <a:pt x="2119" y="1212"/>
                </a:lnTo>
                <a:lnTo>
                  <a:pt x="2125" y="1212"/>
                </a:lnTo>
                <a:lnTo>
                  <a:pt x="2131" y="1212"/>
                </a:lnTo>
                <a:lnTo>
                  <a:pt x="2137" y="1212"/>
                </a:lnTo>
                <a:lnTo>
                  <a:pt x="2143" y="1212"/>
                </a:lnTo>
                <a:lnTo>
                  <a:pt x="2149" y="1212"/>
                </a:lnTo>
                <a:lnTo>
                  <a:pt x="2155" y="1212"/>
                </a:lnTo>
                <a:lnTo>
                  <a:pt x="2161" y="1212"/>
                </a:lnTo>
                <a:lnTo>
                  <a:pt x="2167" y="1212"/>
                </a:lnTo>
                <a:lnTo>
                  <a:pt x="2173" y="1212"/>
                </a:lnTo>
                <a:lnTo>
                  <a:pt x="2179" y="1212"/>
                </a:lnTo>
                <a:lnTo>
                  <a:pt x="2185" y="1212"/>
                </a:lnTo>
                <a:lnTo>
                  <a:pt x="2191" y="1212"/>
                </a:lnTo>
                <a:lnTo>
                  <a:pt x="2197" y="1212"/>
                </a:lnTo>
                <a:lnTo>
                  <a:pt x="2203" y="1212"/>
                </a:lnTo>
                <a:lnTo>
                  <a:pt x="2209" y="1212"/>
                </a:lnTo>
                <a:lnTo>
                  <a:pt x="2215" y="1212"/>
                </a:lnTo>
                <a:lnTo>
                  <a:pt x="2221" y="1212"/>
                </a:lnTo>
                <a:lnTo>
                  <a:pt x="2227" y="1212"/>
                </a:lnTo>
                <a:lnTo>
                  <a:pt x="2233" y="1212"/>
                </a:lnTo>
                <a:lnTo>
                  <a:pt x="2239" y="1212"/>
                </a:lnTo>
                <a:lnTo>
                  <a:pt x="2245" y="1212"/>
                </a:lnTo>
                <a:lnTo>
                  <a:pt x="2251" y="1212"/>
                </a:lnTo>
                <a:lnTo>
                  <a:pt x="2257" y="1212"/>
                </a:lnTo>
                <a:lnTo>
                  <a:pt x="2263" y="1212"/>
                </a:lnTo>
                <a:lnTo>
                  <a:pt x="2269" y="1212"/>
                </a:lnTo>
                <a:lnTo>
                  <a:pt x="2275" y="1212"/>
                </a:lnTo>
                <a:lnTo>
                  <a:pt x="2281" y="1212"/>
                </a:lnTo>
                <a:lnTo>
                  <a:pt x="2287" y="1212"/>
                </a:lnTo>
                <a:lnTo>
                  <a:pt x="2293" y="1212"/>
                </a:lnTo>
                <a:lnTo>
                  <a:pt x="2299" y="1212"/>
                </a:lnTo>
                <a:lnTo>
                  <a:pt x="2305" y="1212"/>
                </a:lnTo>
                <a:lnTo>
                  <a:pt x="2311" y="1212"/>
                </a:lnTo>
                <a:lnTo>
                  <a:pt x="2317" y="1212"/>
                </a:lnTo>
                <a:lnTo>
                  <a:pt x="2323" y="1212"/>
                </a:lnTo>
                <a:lnTo>
                  <a:pt x="2329" y="1212"/>
                </a:lnTo>
                <a:lnTo>
                  <a:pt x="2335" y="1212"/>
                </a:lnTo>
                <a:lnTo>
                  <a:pt x="2341" y="1212"/>
                </a:lnTo>
                <a:lnTo>
                  <a:pt x="2347" y="1212"/>
                </a:lnTo>
                <a:lnTo>
                  <a:pt x="2353" y="1212"/>
                </a:lnTo>
                <a:lnTo>
                  <a:pt x="2359" y="1212"/>
                </a:lnTo>
                <a:lnTo>
                  <a:pt x="2365" y="1212"/>
                </a:lnTo>
                <a:lnTo>
                  <a:pt x="2371" y="1212"/>
                </a:lnTo>
                <a:lnTo>
                  <a:pt x="2377" y="1212"/>
                </a:lnTo>
                <a:lnTo>
                  <a:pt x="2383" y="1212"/>
                </a:lnTo>
                <a:lnTo>
                  <a:pt x="2389" y="1212"/>
                </a:lnTo>
                <a:lnTo>
                  <a:pt x="2395" y="1212"/>
                </a:lnTo>
                <a:lnTo>
                  <a:pt x="2401" y="1212"/>
                </a:lnTo>
                <a:lnTo>
                  <a:pt x="2407" y="1212"/>
                </a:lnTo>
                <a:lnTo>
                  <a:pt x="2413" y="1212"/>
                </a:lnTo>
                <a:lnTo>
                  <a:pt x="2419" y="1212"/>
                </a:lnTo>
                <a:lnTo>
                  <a:pt x="2425" y="1212"/>
                </a:lnTo>
                <a:lnTo>
                  <a:pt x="2431" y="1212"/>
                </a:lnTo>
                <a:lnTo>
                  <a:pt x="2437" y="1212"/>
                </a:lnTo>
                <a:lnTo>
                  <a:pt x="2443" y="1212"/>
                </a:lnTo>
                <a:lnTo>
                  <a:pt x="2449" y="1212"/>
                </a:lnTo>
                <a:lnTo>
                  <a:pt x="2455" y="1212"/>
                </a:lnTo>
                <a:lnTo>
                  <a:pt x="2461" y="1212"/>
                </a:lnTo>
                <a:lnTo>
                  <a:pt x="2467" y="1212"/>
                </a:lnTo>
                <a:lnTo>
                  <a:pt x="2473" y="1212"/>
                </a:lnTo>
                <a:lnTo>
                  <a:pt x="2479" y="1212"/>
                </a:lnTo>
                <a:lnTo>
                  <a:pt x="2485" y="1212"/>
                </a:lnTo>
                <a:lnTo>
                  <a:pt x="2491" y="1212"/>
                </a:lnTo>
                <a:lnTo>
                  <a:pt x="2497" y="1212"/>
                </a:lnTo>
                <a:lnTo>
                  <a:pt x="2503" y="1212"/>
                </a:lnTo>
                <a:lnTo>
                  <a:pt x="2509" y="1212"/>
                </a:lnTo>
                <a:lnTo>
                  <a:pt x="2515" y="1212"/>
                </a:lnTo>
                <a:lnTo>
                  <a:pt x="2521" y="1212"/>
                </a:lnTo>
                <a:lnTo>
                  <a:pt x="2527" y="1212"/>
                </a:lnTo>
                <a:lnTo>
                  <a:pt x="2533" y="1212"/>
                </a:lnTo>
                <a:lnTo>
                  <a:pt x="2539" y="1212"/>
                </a:lnTo>
                <a:lnTo>
                  <a:pt x="2545" y="1212"/>
                </a:lnTo>
                <a:lnTo>
                  <a:pt x="2551" y="1212"/>
                </a:lnTo>
                <a:lnTo>
                  <a:pt x="2557" y="1212"/>
                </a:lnTo>
                <a:lnTo>
                  <a:pt x="2563" y="1212"/>
                </a:lnTo>
                <a:lnTo>
                  <a:pt x="2569" y="1212"/>
                </a:lnTo>
                <a:lnTo>
                  <a:pt x="2575" y="1212"/>
                </a:lnTo>
                <a:lnTo>
                  <a:pt x="2581" y="1212"/>
                </a:lnTo>
                <a:lnTo>
                  <a:pt x="2587" y="1212"/>
                </a:lnTo>
                <a:lnTo>
                  <a:pt x="2593" y="1212"/>
                </a:lnTo>
                <a:lnTo>
                  <a:pt x="2599" y="1212"/>
                </a:lnTo>
                <a:lnTo>
                  <a:pt x="2605" y="1212"/>
                </a:lnTo>
                <a:lnTo>
                  <a:pt x="2611" y="1212"/>
                </a:lnTo>
                <a:lnTo>
                  <a:pt x="2617" y="1212"/>
                </a:lnTo>
                <a:lnTo>
                  <a:pt x="2623" y="1212"/>
                </a:lnTo>
                <a:lnTo>
                  <a:pt x="2629" y="1212"/>
                </a:lnTo>
                <a:lnTo>
                  <a:pt x="2635" y="1212"/>
                </a:lnTo>
                <a:lnTo>
                  <a:pt x="2641" y="1212"/>
                </a:lnTo>
                <a:lnTo>
                  <a:pt x="2647" y="1212"/>
                </a:lnTo>
                <a:lnTo>
                  <a:pt x="2653" y="1212"/>
                </a:lnTo>
                <a:lnTo>
                  <a:pt x="2659" y="1212"/>
                </a:lnTo>
                <a:lnTo>
                  <a:pt x="2665" y="1212"/>
                </a:lnTo>
                <a:lnTo>
                  <a:pt x="2671" y="1212"/>
                </a:lnTo>
                <a:lnTo>
                  <a:pt x="2677" y="1212"/>
                </a:lnTo>
                <a:lnTo>
                  <a:pt x="2683" y="1212"/>
                </a:lnTo>
                <a:lnTo>
                  <a:pt x="2689" y="1212"/>
                </a:lnTo>
                <a:lnTo>
                  <a:pt x="2695" y="1212"/>
                </a:lnTo>
                <a:lnTo>
                  <a:pt x="2701" y="1212"/>
                </a:lnTo>
                <a:lnTo>
                  <a:pt x="2707" y="1212"/>
                </a:lnTo>
                <a:lnTo>
                  <a:pt x="2713" y="1212"/>
                </a:lnTo>
                <a:lnTo>
                  <a:pt x="2719" y="1212"/>
                </a:lnTo>
                <a:lnTo>
                  <a:pt x="2725" y="1212"/>
                </a:lnTo>
                <a:lnTo>
                  <a:pt x="2731" y="1212"/>
                </a:lnTo>
                <a:lnTo>
                  <a:pt x="2737" y="1212"/>
                </a:lnTo>
                <a:lnTo>
                  <a:pt x="2743" y="1212"/>
                </a:lnTo>
                <a:lnTo>
                  <a:pt x="2749" y="1212"/>
                </a:lnTo>
                <a:lnTo>
                  <a:pt x="2755" y="1212"/>
                </a:lnTo>
                <a:lnTo>
                  <a:pt x="2761" y="1212"/>
                </a:lnTo>
                <a:lnTo>
                  <a:pt x="2767" y="1212"/>
                </a:lnTo>
                <a:lnTo>
                  <a:pt x="2773" y="1212"/>
                </a:lnTo>
                <a:lnTo>
                  <a:pt x="2779" y="1212"/>
                </a:lnTo>
                <a:lnTo>
                  <a:pt x="2785" y="1212"/>
                </a:lnTo>
                <a:lnTo>
                  <a:pt x="2791" y="1212"/>
                </a:lnTo>
                <a:lnTo>
                  <a:pt x="2797" y="1212"/>
                </a:lnTo>
                <a:lnTo>
                  <a:pt x="2803" y="1212"/>
                </a:lnTo>
                <a:lnTo>
                  <a:pt x="2809" y="1212"/>
                </a:lnTo>
                <a:lnTo>
                  <a:pt x="2815" y="1212"/>
                </a:lnTo>
                <a:lnTo>
                  <a:pt x="2821" y="1212"/>
                </a:lnTo>
                <a:lnTo>
                  <a:pt x="2827" y="1212"/>
                </a:lnTo>
                <a:lnTo>
                  <a:pt x="2833" y="1212"/>
                </a:lnTo>
                <a:lnTo>
                  <a:pt x="2839" y="1212"/>
                </a:lnTo>
                <a:lnTo>
                  <a:pt x="2845" y="1212"/>
                </a:lnTo>
                <a:lnTo>
                  <a:pt x="2851" y="1212"/>
                </a:lnTo>
                <a:lnTo>
                  <a:pt x="2857" y="1212"/>
                </a:lnTo>
                <a:lnTo>
                  <a:pt x="2863" y="1212"/>
                </a:lnTo>
                <a:lnTo>
                  <a:pt x="2869" y="1212"/>
                </a:lnTo>
                <a:lnTo>
                  <a:pt x="2875" y="1212"/>
                </a:lnTo>
                <a:lnTo>
                  <a:pt x="2881" y="1212"/>
                </a:lnTo>
                <a:lnTo>
                  <a:pt x="2887" y="1212"/>
                </a:lnTo>
                <a:lnTo>
                  <a:pt x="2893" y="1212"/>
                </a:lnTo>
                <a:lnTo>
                  <a:pt x="2899" y="1212"/>
                </a:lnTo>
                <a:lnTo>
                  <a:pt x="2905" y="1212"/>
                </a:lnTo>
                <a:lnTo>
                  <a:pt x="2911" y="1212"/>
                </a:lnTo>
                <a:lnTo>
                  <a:pt x="2917" y="1212"/>
                </a:lnTo>
                <a:lnTo>
                  <a:pt x="2923" y="1212"/>
                </a:lnTo>
                <a:lnTo>
                  <a:pt x="2929" y="1212"/>
                </a:lnTo>
                <a:lnTo>
                  <a:pt x="2935" y="1212"/>
                </a:lnTo>
                <a:lnTo>
                  <a:pt x="2941" y="1212"/>
                </a:lnTo>
                <a:lnTo>
                  <a:pt x="2947" y="1212"/>
                </a:lnTo>
                <a:lnTo>
                  <a:pt x="2953" y="1212"/>
                </a:lnTo>
                <a:lnTo>
                  <a:pt x="2959" y="1212"/>
                </a:lnTo>
                <a:lnTo>
                  <a:pt x="2965" y="1212"/>
                </a:lnTo>
                <a:lnTo>
                  <a:pt x="2971" y="1212"/>
                </a:lnTo>
                <a:lnTo>
                  <a:pt x="2977" y="1212"/>
                </a:lnTo>
                <a:lnTo>
                  <a:pt x="2983" y="1212"/>
                </a:lnTo>
                <a:lnTo>
                  <a:pt x="2989" y="1212"/>
                </a:lnTo>
                <a:lnTo>
                  <a:pt x="2995" y="1212"/>
                </a:lnTo>
                <a:lnTo>
                  <a:pt x="3001" y="1212"/>
                </a:lnTo>
                <a:lnTo>
                  <a:pt x="3007" y="1212"/>
                </a:lnTo>
                <a:lnTo>
                  <a:pt x="3013" y="1212"/>
                </a:lnTo>
                <a:lnTo>
                  <a:pt x="3019" y="1212"/>
                </a:lnTo>
                <a:lnTo>
                  <a:pt x="3025" y="1212"/>
                </a:lnTo>
                <a:lnTo>
                  <a:pt x="3031" y="1212"/>
                </a:lnTo>
                <a:lnTo>
                  <a:pt x="3037" y="1212"/>
                </a:lnTo>
                <a:lnTo>
                  <a:pt x="3043" y="1212"/>
                </a:lnTo>
                <a:lnTo>
                  <a:pt x="3049" y="1212"/>
                </a:lnTo>
                <a:lnTo>
                  <a:pt x="3055" y="1212"/>
                </a:lnTo>
                <a:lnTo>
                  <a:pt x="3061" y="1212"/>
                </a:lnTo>
                <a:lnTo>
                  <a:pt x="3067" y="1212"/>
                </a:lnTo>
                <a:lnTo>
                  <a:pt x="3073" y="1212"/>
                </a:lnTo>
                <a:lnTo>
                  <a:pt x="3079" y="1212"/>
                </a:lnTo>
                <a:lnTo>
                  <a:pt x="3085" y="1212"/>
                </a:lnTo>
                <a:lnTo>
                  <a:pt x="3091" y="1212"/>
                </a:lnTo>
                <a:lnTo>
                  <a:pt x="3097" y="1212"/>
                </a:lnTo>
                <a:lnTo>
                  <a:pt x="3103" y="1212"/>
                </a:lnTo>
                <a:lnTo>
                  <a:pt x="3109" y="1212"/>
                </a:lnTo>
                <a:lnTo>
                  <a:pt x="3115" y="1212"/>
                </a:lnTo>
                <a:lnTo>
                  <a:pt x="3121" y="1212"/>
                </a:lnTo>
                <a:lnTo>
                  <a:pt x="3127" y="1212"/>
                </a:lnTo>
                <a:lnTo>
                  <a:pt x="3133" y="1212"/>
                </a:lnTo>
                <a:lnTo>
                  <a:pt x="3139" y="1212"/>
                </a:lnTo>
                <a:lnTo>
                  <a:pt x="3145" y="1212"/>
                </a:lnTo>
                <a:lnTo>
                  <a:pt x="3151" y="1212"/>
                </a:lnTo>
                <a:lnTo>
                  <a:pt x="3157" y="1212"/>
                </a:lnTo>
                <a:lnTo>
                  <a:pt x="3163" y="1212"/>
                </a:lnTo>
                <a:lnTo>
                  <a:pt x="3169" y="1212"/>
                </a:lnTo>
                <a:lnTo>
                  <a:pt x="3175" y="1212"/>
                </a:lnTo>
                <a:lnTo>
                  <a:pt x="3181" y="1212"/>
                </a:lnTo>
                <a:lnTo>
                  <a:pt x="3187" y="1212"/>
                </a:lnTo>
                <a:lnTo>
                  <a:pt x="3193" y="1212"/>
                </a:lnTo>
                <a:lnTo>
                  <a:pt x="3199" y="1212"/>
                </a:lnTo>
                <a:lnTo>
                  <a:pt x="3205" y="1212"/>
                </a:lnTo>
                <a:lnTo>
                  <a:pt x="3211" y="1212"/>
                </a:lnTo>
                <a:lnTo>
                  <a:pt x="3217" y="1212"/>
                </a:lnTo>
                <a:lnTo>
                  <a:pt x="3223" y="1212"/>
                </a:lnTo>
                <a:lnTo>
                  <a:pt x="3229" y="1212"/>
                </a:lnTo>
                <a:lnTo>
                  <a:pt x="3235" y="1212"/>
                </a:lnTo>
                <a:lnTo>
                  <a:pt x="3241" y="1212"/>
                </a:lnTo>
                <a:lnTo>
                  <a:pt x="3247" y="1212"/>
                </a:lnTo>
                <a:lnTo>
                  <a:pt x="3253" y="1212"/>
                </a:lnTo>
                <a:lnTo>
                  <a:pt x="3259" y="1212"/>
                </a:lnTo>
                <a:lnTo>
                  <a:pt x="3265" y="1212"/>
                </a:lnTo>
                <a:lnTo>
                  <a:pt x="3271" y="1212"/>
                </a:lnTo>
                <a:lnTo>
                  <a:pt x="3277" y="1212"/>
                </a:lnTo>
                <a:lnTo>
                  <a:pt x="3283" y="1212"/>
                </a:lnTo>
                <a:lnTo>
                  <a:pt x="3289" y="1212"/>
                </a:lnTo>
                <a:lnTo>
                  <a:pt x="3295" y="1212"/>
                </a:lnTo>
                <a:lnTo>
                  <a:pt x="3301" y="1212"/>
                </a:lnTo>
                <a:lnTo>
                  <a:pt x="3307" y="1212"/>
                </a:lnTo>
                <a:lnTo>
                  <a:pt x="3313" y="1212"/>
                </a:lnTo>
                <a:lnTo>
                  <a:pt x="3319" y="1212"/>
                </a:lnTo>
                <a:lnTo>
                  <a:pt x="3325" y="1212"/>
                </a:lnTo>
                <a:lnTo>
                  <a:pt x="3331" y="1212"/>
                </a:lnTo>
                <a:lnTo>
                  <a:pt x="3337" y="1212"/>
                </a:lnTo>
                <a:lnTo>
                  <a:pt x="3343" y="1212"/>
                </a:lnTo>
                <a:lnTo>
                  <a:pt x="3349" y="1212"/>
                </a:lnTo>
                <a:lnTo>
                  <a:pt x="3355" y="1212"/>
                </a:lnTo>
                <a:lnTo>
                  <a:pt x="3361" y="1212"/>
                </a:lnTo>
                <a:lnTo>
                  <a:pt x="3367" y="1212"/>
                </a:lnTo>
                <a:lnTo>
                  <a:pt x="3373" y="1212"/>
                </a:lnTo>
                <a:lnTo>
                  <a:pt x="3379" y="1212"/>
                </a:lnTo>
                <a:lnTo>
                  <a:pt x="3385" y="1212"/>
                </a:lnTo>
                <a:lnTo>
                  <a:pt x="3391" y="1212"/>
                </a:lnTo>
                <a:lnTo>
                  <a:pt x="3397" y="1212"/>
                </a:lnTo>
                <a:lnTo>
                  <a:pt x="3403" y="1212"/>
                </a:lnTo>
                <a:lnTo>
                  <a:pt x="3409" y="1212"/>
                </a:lnTo>
                <a:lnTo>
                  <a:pt x="3415" y="1212"/>
                </a:lnTo>
                <a:lnTo>
                  <a:pt x="3421" y="1212"/>
                </a:lnTo>
                <a:lnTo>
                  <a:pt x="3427" y="1212"/>
                </a:lnTo>
                <a:lnTo>
                  <a:pt x="3433" y="1212"/>
                </a:lnTo>
                <a:lnTo>
                  <a:pt x="3439" y="1212"/>
                </a:lnTo>
                <a:lnTo>
                  <a:pt x="3445" y="1212"/>
                </a:lnTo>
                <a:lnTo>
                  <a:pt x="3451" y="1212"/>
                </a:lnTo>
                <a:lnTo>
                  <a:pt x="3457" y="1212"/>
                </a:lnTo>
                <a:lnTo>
                  <a:pt x="3463" y="1212"/>
                </a:lnTo>
                <a:lnTo>
                  <a:pt x="3469" y="1212"/>
                </a:lnTo>
                <a:lnTo>
                  <a:pt x="3475" y="1212"/>
                </a:lnTo>
                <a:lnTo>
                  <a:pt x="3481" y="1212"/>
                </a:lnTo>
                <a:lnTo>
                  <a:pt x="3487" y="1212"/>
                </a:lnTo>
                <a:lnTo>
                  <a:pt x="3493" y="1212"/>
                </a:lnTo>
                <a:lnTo>
                  <a:pt x="3499" y="1212"/>
                </a:lnTo>
                <a:lnTo>
                  <a:pt x="3505" y="1212"/>
                </a:lnTo>
                <a:lnTo>
                  <a:pt x="3511" y="1212"/>
                </a:lnTo>
                <a:lnTo>
                  <a:pt x="3517" y="1212"/>
                </a:lnTo>
                <a:lnTo>
                  <a:pt x="3523" y="1212"/>
                </a:lnTo>
                <a:lnTo>
                  <a:pt x="3529" y="1212"/>
                </a:lnTo>
                <a:lnTo>
                  <a:pt x="3535" y="1212"/>
                </a:lnTo>
                <a:lnTo>
                  <a:pt x="3541" y="1212"/>
                </a:lnTo>
                <a:lnTo>
                  <a:pt x="3547" y="1212"/>
                </a:lnTo>
                <a:lnTo>
                  <a:pt x="3547" y="12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2720" y="3225960"/>
            <a:ext cx="3692520" cy="1117440"/>
          </a:xfrm>
          <a:custGeom>
            <a:avLst/>
            <a:gdLst/>
            <a:ahLst/>
            <a:rect l="l" t="t" r="r" b="b"/>
            <a:pathLst>
              <a:path w="3229" h="1044">
                <a:moveTo>
                  <a:pt x="0" y="1044"/>
                </a:moveTo>
                <a:lnTo>
                  <a:pt x="0" y="1044"/>
                </a:lnTo>
                <a:lnTo>
                  <a:pt x="6" y="1044"/>
                </a:lnTo>
                <a:lnTo>
                  <a:pt x="12" y="1044"/>
                </a:lnTo>
                <a:lnTo>
                  <a:pt x="18" y="1044"/>
                </a:lnTo>
                <a:lnTo>
                  <a:pt x="24" y="1044"/>
                </a:lnTo>
                <a:lnTo>
                  <a:pt x="30" y="1044"/>
                </a:lnTo>
                <a:lnTo>
                  <a:pt x="36" y="1044"/>
                </a:lnTo>
                <a:lnTo>
                  <a:pt x="42" y="1044"/>
                </a:lnTo>
                <a:lnTo>
                  <a:pt x="48" y="1044"/>
                </a:lnTo>
                <a:lnTo>
                  <a:pt x="54" y="1044"/>
                </a:lnTo>
                <a:lnTo>
                  <a:pt x="60" y="1044"/>
                </a:lnTo>
                <a:lnTo>
                  <a:pt x="66" y="1044"/>
                </a:lnTo>
                <a:lnTo>
                  <a:pt x="72" y="1044"/>
                </a:lnTo>
                <a:lnTo>
                  <a:pt x="78" y="1044"/>
                </a:lnTo>
                <a:lnTo>
                  <a:pt x="84" y="1044"/>
                </a:lnTo>
                <a:lnTo>
                  <a:pt x="90" y="1044"/>
                </a:lnTo>
                <a:lnTo>
                  <a:pt x="96" y="1044"/>
                </a:lnTo>
                <a:lnTo>
                  <a:pt x="102" y="1044"/>
                </a:lnTo>
                <a:lnTo>
                  <a:pt x="108" y="1044"/>
                </a:lnTo>
                <a:lnTo>
                  <a:pt x="114" y="1044"/>
                </a:lnTo>
                <a:lnTo>
                  <a:pt x="120" y="1044"/>
                </a:lnTo>
                <a:lnTo>
                  <a:pt x="126" y="1044"/>
                </a:lnTo>
                <a:lnTo>
                  <a:pt x="132" y="1044"/>
                </a:lnTo>
                <a:lnTo>
                  <a:pt x="138" y="1044"/>
                </a:lnTo>
                <a:lnTo>
                  <a:pt x="144" y="1044"/>
                </a:lnTo>
                <a:lnTo>
                  <a:pt x="150" y="1044"/>
                </a:lnTo>
                <a:lnTo>
                  <a:pt x="156" y="1044"/>
                </a:lnTo>
                <a:lnTo>
                  <a:pt x="162" y="1044"/>
                </a:lnTo>
                <a:lnTo>
                  <a:pt x="168" y="1044"/>
                </a:lnTo>
                <a:lnTo>
                  <a:pt x="174" y="1044"/>
                </a:lnTo>
                <a:lnTo>
                  <a:pt x="180" y="1044"/>
                </a:lnTo>
                <a:lnTo>
                  <a:pt x="186" y="1044"/>
                </a:lnTo>
                <a:lnTo>
                  <a:pt x="192" y="1044"/>
                </a:lnTo>
                <a:lnTo>
                  <a:pt x="198" y="1044"/>
                </a:lnTo>
                <a:lnTo>
                  <a:pt x="204" y="1044"/>
                </a:lnTo>
                <a:lnTo>
                  <a:pt x="210" y="1044"/>
                </a:lnTo>
                <a:lnTo>
                  <a:pt x="216" y="1044"/>
                </a:lnTo>
                <a:lnTo>
                  <a:pt x="222" y="1044"/>
                </a:lnTo>
                <a:lnTo>
                  <a:pt x="228" y="1044"/>
                </a:lnTo>
                <a:lnTo>
                  <a:pt x="234" y="1044"/>
                </a:lnTo>
                <a:lnTo>
                  <a:pt x="240" y="1044"/>
                </a:lnTo>
                <a:lnTo>
                  <a:pt x="246" y="1044"/>
                </a:lnTo>
                <a:lnTo>
                  <a:pt x="252" y="1044"/>
                </a:lnTo>
                <a:lnTo>
                  <a:pt x="258" y="1044"/>
                </a:lnTo>
                <a:lnTo>
                  <a:pt x="264" y="1044"/>
                </a:lnTo>
                <a:lnTo>
                  <a:pt x="270" y="1044"/>
                </a:lnTo>
                <a:lnTo>
                  <a:pt x="276" y="1044"/>
                </a:lnTo>
                <a:lnTo>
                  <a:pt x="282" y="1038"/>
                </a:lnTo>
                <a:lnTo>
                  <a:pt x="288" y="1038"/>
                </a:lnTo>
                <a:lnTo>
                  <a:pt x="294" y="1038"/>
                </a:lnTo>
                <a:lnTo>
                  <a:pt x="300" y="1038"/>
                </a:lnTo>
                <a:lnTo>
                  <a:pt x="306" y="1038"/>
                </a:lnTo>
                <a:lnTo>
                  <a:pt x="312" y="1038"/>
                </a:lnTo>
                <a:lnTo>
                  <a:pt x="318" y="1038"/>
                </a:lnTo>
                <a:lnTo>
                  <a:pt x="324" y="1038"/>
                </a:lnTo>
                <a:lnTo>
                  <a:pt x="330" y="1038"/>
                </a:lnTo>
                <a:lnTo>
                  <a:pt x="336" y="1038"/>
                </a:lnTo>
                <a:lnTo>
                  <a:pt x="342" y="1038"/>
                </a:lnTo>
                <a:lnTo>
                  <a:pt x="348" y="1032"/>
                </a:lnTo>
                <a:lnTo>
                  <a:pt x="354" y="1032"/>
                </a:lnTo>
                <a:lnTo>
                  <a:pt x="360" y="1032"/>
                </a:lnTo>
                <a:lnTo>
                  <a:pt x="366" y="1032"/>
                </a:lnTo>
                <a:lnTo>
                  <a:pt x="372" y="1032"/>
                </a:lnTo>
                <a:lnTo>
                  <a:pt x="378" y="1026"/>
                </a:lnTo>
                <a:lnTo>
                  <a:pt x="384" y="1026"/>
                </a:lnTo>
                <a:lnTo>
                  <a:pt x="390" y="1026"/>
                </a:lnTo>
                <a:lnTo>
                  <a:pt x="396" y="1020"/>
                </a:lnTo>
                <a:lnTo>
                  <a:pt x="402" y="1020"/>
                </a:lnTo>
                <a:lnTo>
                  <a:pt x="408" y="1020"/>
                </a:lnTo>
                <a:lnTo>
                  <a:pt x="414" y="1014"/>
                </a:lnTo>
                <a:lnTo>
                  <a:pt x="420" y="1014"/>
                </a:lnTo>
                <a:lnTo>
                  <a:pt x="426" y="1014"/>
                </a:lnTo>
                <a:lnTo>
                  <a:pt x="432" y="1008"/>
                </a:lnTo>
                <a:lnTo>
                  <a:pt x="438" y="1002"/>
                </a:lnTo>
                <a:lnTo>
                  <a:pt x="444" y="1002"/>
                </a:lnTo>
                <a:lnTo>
                  <a:pt x="450" y="996"/>
                </a:lnTo>
                <a:lnTo>
                  <a:pt x="456" y="990"/>
                </a:lnTo>
                <a:lnTo>
                  <a:pt x="462" y="990"/>
                </a:lnTo>
                <a:lnTo>
                  <a:pt x="468" y="984"/>
                </a:lnTo>
                <a:lnTo>
                  <a:pt x="474" y="978"/>
                </a:lnTo>
                <a:lnTo>
                  <a:pt x="480" y="972"/>
                </a:lnTo>
                <a:lnTo>
                  <a:pt x="486" y="972"/>
                </a:lnTo>
                <a:lnTo>
                  <a:pt x="492" y="966"/>
                </a:lnTo>
                <a:lnTo>
                  <a:pt x="498" y="960"/>
                </a:lnTo>
                <a:lnTo>
                  <a:pt x="504" y="954"/>
                </a:lnTo>
                <a:lnTo>
                  <a:pt x="510" y="948"/>
                </a:lnTo>
                <a:lnTo>
                  <a:pt x="516" y="942"/>
                </a:lnTo>
                <a:lnTo>
                  <a:pt x="522" y="936"/>
                </a:lnTo>
                <a:lnTo>
                  <a:pt x="522" y="930"/>
                </a:lnTo>
                <a:lnTo>
                  <a:pt x="528" y="924"/>
                </a:lnTo>
                <a:lnTo>
                  <a:pt x="534" y="918"/>
                </a:lnTo>
                <a:lnTo>
                  <a:pt x="534" y="912"/>
                </a:lnTo>
                <a:lnTo>
                  <a:pt x="540" y="906"/>
                </a:lnTo>
                <a:lnTo>
                  <a:pt x="540" y="900"/>
                </a:lnTo>
                <a:lnTo>
                  <a:pt x="546" y="894"/>
                </a:lnTo>
                <a:lnTo>
                  <a:pt x="546" y="888"/>
                </a:lnTo>
                <a:lnTo>
                  <a:pt x="552" y="882"/>
                </a:lnTo>
                <a:lnTo>
                  <a:pt x="558" y="876"/>
                </a:lnTo>
                <a:lnTo>
                  <a:pt x="564" y="870"/>
                </a:lnTo>
                <a:lnTo>
                  <a:pt x="564" y="864"/>
                </a:lnTo>
                <a:lnTo>
                  <a:pt x="570" y="858"/>
                </a:lnTo>
                <a:lnTo>
                  <a:pt x="570" y="852"/>
                </a:lnTo>
                <a:lnTo>
                  <a:pt x="576" y="840"/>
                </a:lnTo>
                <a:lnTo>
                  <a:pt x="576" y="834"/>
                </a:lnTo>
                <a:lnTo>
                  <a:pt x="582" y="828"/>
                </a:lnTo>
                <a:lnTo>
                  <a:pt x="582" y="822"/>
                </a:lnTo>
                <a:lnTo>
                  <a:pt x="588" y="816"/>
                </a:lnTo>
                <a:lnTo>
                  <a:pt x="588" y="810"/>
                </a:lnTo>
                <a:lnTo>
                  <a:pt x="594" y="804"/>
                </a:lnTo>
                <a:lnTo>
                  <a:pt x="600" y="792"/>
                </a:lnTo>
                <a:lnTo>
                  <a:pt x="600" y="786"/>
                </a:lnTo>
                <a:lnTo>
                  <a:pt x="606" y="780"/>
                </a:lnTo>
                <a:lnTo>
                  <a:pt x="606" y="768"/>
                </a:lnTo>
                <a:lnTo>
                  <a:pt x="612" y="762"/>
                </a:lnTo>
                <a:lnTo>
                  <a:pt x="612" y="756"/>
                </a:lnTo>
                <a:lnTo>
                  <a:pt x="618" y="744"/>
                </a:lnTo>
                <a:lnTo>
                  <a:pt x="618" y="738"/>
                </a:lnTo>
                <a:lnTo>
                  <a:pt x="624" y="732"/>
                </a:lnTo>
                <a:lnTo>
                  <a:pt x="624" y="720"/>
                </a:lnTo>
                <a:lnTo>
                  <a:pt x="630" y="714"/>
                </a:lnTo>
                <a:lnTo>
                  <a:pt x="630" y="702"/>
                </a:lnTo>
                <a:lnTo>
                  <a:pt x="636" y="696"/>
                </a:lnTo>
                <a:lnTo>
                  <a:pt x="642" y="684"/>
                </a:lnTo>
                <a:lnTo>
                  <a:pt x="642" y="672"/>
                </a:lnTo>
                <a:lnTo>
                  <a:pt x="648" y="666"/>
                </a:lnTo>
                <a:lnTo>
                  <a:pt x="648" y="654"/>
                </a:lnTo>
                <a:lnTo>
                  <a:pt x="654" y="648"/>
                </a:lnTo>
                <a:lnTo>
                  <a:pt x="654" y="636"/>
                </a:lnTo>
                <a:lnTo>
                  <a:pt x="660" y="624"/>
                </a:lnTo>
                <a:lnTo>
                  <a:pt x="660" y="618"/>
                </a:lnTo>
                <a:lnTo>
                  <a:pt x="666" y="606"/>
                </a:lnTo>
                <a:lnTo>
                  <a:pt x="666" y="594"/>
                </a:lnTo>
                <a:lnTo>
                  <a:pt x="672" y="582"/>
                </a:lnTo>
                <a:lnTo>
                  <a:pt x="672" y="576"/>
                </a:lnTo>
                <a:lnTo>
                  <a:pt x="678" y="564"/>
                </a:lnTo>
                <a:lnTo>
                  <a:pt x="684" y="552"/>
                </a:lnTo>
                <a:lnTo>
                  <a:pt x="684" y="540"/>
                </a:lnTo>
                <a:lnTo>
                  <a:pt x="690" y="534"/>
                </a:lnTo>
                <a:lnTo>
                  <a:pt x="690" y="522"/>
                </a:lnTo>
                <a:lnTo>
                  <a:pt x="696" y="510"/>
                </a:lnTo>
                <a:lnTo>
                  <a:pt x="696" y="498"/>
                </a:lnTo>
                <a:lnTo>
                  <a:pt x="702" y="486"/>
                </a:lnTo>
                <a:lnTo>
                  <a:pt x="702" y="474"/>
                </a:lnTo>
                <a:lnTo>
                  <a:pt x="708" y="468"/>
                </a:lnTo>
                <a:lnTo>
                  <a:pt x="708" y="456"/>
                </a:lnTo>
                <a:lnTo>
                  <a:pt x="714" y="444"/>
                </a:lnTo>
                <a:lnTo>
                  <a:pt x="714" y="432"/>
                </a:lnTo>
                <a:lnTo>
                  <a:pt x="720" y="420"/>
                </a:lnTo>
                <a:lnTo>
                  <a:pt x="726" y="408"/>
                </a:lnTo>
                <a:lnTo>
                  <a:pt x="726" y="396"/>
                </a:lnTo>
                <a:lnTo>
                  <a:pt x="732" y="384"/>
                </a:lnTo>
                <a:lnTo>
                  <a:pt x="732" y="372"/>
                </a:lnTo>
                <a:lnTo>
                  <a:pt x="738" y="366"/>
                </a:lnTo>
                <a:lnTo>
                  <a:pt x="738" y="354"/>
                </a:lnTo>
                <a:lnTo>
                  <a:pt x="744" y="342"/>
                </a:lnTo>
                <a:lnTo>
                  <a:pt x="744" y="330"/>
                </a:lnTo>
                <a:lnTo>
                  <a:pt x="750" y="318"/>
                </a:lnTo>
                <a:lnTo>
                  <a:pt x="750" y="306"/>
                </a:lnTo>
                <a:lnTo>
                  <a:pt x="756" y="300"/>
                </a:lnTo>
                <a:lnTo>
                  <a:pt x="756" y="288"/>
                </a:lnTo>
                <a:lnTo>
                  <a:pt x="762" y="276"/>
                </a:lnTo>
                <a:lnTo>
                  <a:pt x="768" y="264"/>
                </a:lnTo>
                <a:lnTo>
                  <a:pt x="768" y="252"/>
                </a:lnTo>
                <a:lnTo>
                  <a:pt x="774" y="246"/>
                </a:lnTo>
                <a:lnTo>
                  <a:pt x="774" y="234"/>
                </a:lnTo>
                <a:lnTo>
                  <a:pt x="780" y="222"/>
                </a:lnTo>
                <a:lnTo>
                  <a:pt x="780" y="216"/>
                </a:lnTo>
                <a:lnTo>
                  <a:pt x="786" y="204"/>
                </a:lnTo>
                <a:lnTo>
                  <a:pt x="786" y="192"/>
                </a:lnTo>
                <a:lnTo>
                  <a:pt x="792" y="186"/>
                </a:lnTo>
                <a:lnTo>
                  <a:pt x="792" y="174"/>
                </a:lnTo>
                <a:lnTo>
                  <a:pt x="798" y="162"/>
                </a:lnTo>
                <a:lnTo>
                  <a:pt x="798" y="156"/>
                </a:lnTo>
                <a:lnTo>
                  <a:pt x="804" y="144"/>
                </a:lnTo>
                <a:lnTo>
                  <a:pt x="810" y="138"/>
                </a:lnTo>
                <a:lnTo>
                  <a:pt x="810" y="132"/>
                </a:lnTo>
                <a:lnTo>
                  <a:pt x="816" y="120"/>
                </a:lnTo>
                <a:lnTo>
                  <a:pt x="816" y="114"/>
                </a:lnTo>
                <a:lnTo>
                  <a:pt x="822" y="108"/>
                </a:lnTo>
                <a:lnTo>
                  <a:pt x="822" y="96"/>
                </a:lnTo>
                <a:lnTo>
                  <a:pt x="828" y="90"/>
                </a:lnTo>
                <a:lnTo>
                  <a:pt x="828" y="84"/>
                </a:lnTo>
                <a:lnTo>
                  <a:pt x="834" y="78"/>
                </a:lnTo>
                <a:lnTo>
                  <a:pt x="834" y="72"/>
                </a:lnTo>
                <a:lnTo>
                  <a:pt x="840" y="60"/>
                </a:lnTo>
                <a:lnTo>
                  <a:pt x="840" y="54"/>
                </a:lnTo>
                <a:lnTo>
                  <a:pt x="846" y="48"/>
                </a:lnTo>
                <a:lnTo>
                  <a:pt x="852" y="42"/>
                </a:lnTo>
                <a:lnTo>
                  <a:pt x="858" y="36"/>
                </a:lnTo>
                <a:lnTo>
                  <a:pt x="858" y="30"/>
                </a:lnTo>
                <a:lnTo>
                  <a:pt x="864" y="24"/>
                </a:lnTo>
                <a:lnTo>
                  <a:pt x="870" y="18"/>
                </a:lnTo>
                <a:lnTo>
                  <a:pt x="876" y="12"/>
                </a:lnTo>
                <a:lnTo>
                  <a:pt x="882" y="6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6"/>
                </a:lnTo>
                <a:lnTo>
                  <a:pt x="930" y="12"/>
                </a:lnTo>
                <a:lnTo>
                  <a:pt x="936" y="12"/>
                </a:lnTo>
                <a:lnTo>
                  <a:pt x="942" y="18"/>
                </a:lnTo>
                <a:lnTo>
                  <a:pt x="948" y="24"/>
                </a:lnTo>
                <a:lnTo>
                  <a:pt x="954" y="30"/>
                </a:lnTo>
                <a:lnTo>
                  <a:pt x="954" y="36"/>
                </a:lnTo>
                <a:lnTo>
                  <a:pt x="960" y="42"/>
                </a:lnTo>
                <a:lnTo>
                  <a:pt x="960" y="48"/>
                </a:lnTo>
                <a:lnTo>
                  <a:pt x="966" y="54"/>
                </a:lnTo>
                <a:lnTo>
                  <a:pt x="966" y="60"/>
                </a:lnTo>
                <a:lnTo>
                  <a:pt x="972" y="66"/>
                </a:lnTo>
                <a:lnTo>
                  <a:pt x="972" y="72"/>
                </a:lnTo>
                <a:lnTo>
                  <a:pt x="978" y="78"/>
                </a:lnTo>
                <a:lnTo>
                  <a:pt x="984" y="84"/>
                </a:lnTo>
                <a:lnTo>
                  <a:pt x="984" y="96"/>
                </a:lnTo>
                <a:lnTo>
                  <a:pt x="990" y="102"/>
                </a:lnTo>
                <a:lnTo>
                  <a:pt x="990" y="108"/>
                </a:lnTo>
                <a:lnTo>
                  <a:pt x="996" y="114"/>
                </a:lnTo>
                <a:lnTo>
                  <a:pt x="996" y="126"/>
                </a:lnTo>
                <a:lnTo>
                  <a:pt x="1002" y="132"/>
                </a:lnTo>
                <a:lnTo>
                  <a:pt x="1002" y="144"/>
                </a:lnTo>
                <a:lnTo>
                  <a:pt x="1008" y="150"/>
                </a:lnTo>
                <a:lnTo>
                  <a:pt x="1008" y="162"/>
                </a:lnTo>
                <a:lnTo>
                  <a:pt x="1014" y="168"/>
                </a:lnTo>
                <a:lnTo>
                  <a:pt x="1014" y="180"/>
                </a:lnTo>
                <a:lnTo>
                  <a:pt x="1020" y="186"/>
                </a:lnTo>
                <a:lnTo>
                  <a:pt x="1026" y="198"/>
                </a:lnTo>
                <a:lnTo>
                  <a:pt x="1026" y="210"/>
                </a:lnTo>
                <a:lnTo>
                  <a:pt x="1032" y="216"/>
                </a:lnTo>
                <a:lnTo>
                  <a:pt x="1032" y="228"/>
                </a:lnTo>
                <a:lnTo>
                  <a:pt x="1038" y="240"/>
                </a:lnTo>
                <a:lnTo>
                  <a:pt x="1038" y="246"/>
                </a:lnTo>
                <a:lnTo>
                  <a:pt x="1044" y="258"/>
                </a:lnTo>
                <a:lnTo>
                  <a:pt x="1044" y="270"/>
                </a:lnTo>
                <a:lnTo>
                  <a:pt x="1050" y="282"/>
                </a:lnTo>
                <a:lnTo>
                  <a:pt x="1050" y="294"/>
                </a:lnTo>
                <a:lnTo>
                  <a:pt x="1056" y="300"/>
                </a:lnTo>
                <a:lnTo>
                  <a:pt x="1056" y="312"/>
                </a:lnTo>
                <a:lnTo>
                  <a:pt x="1062" y="324"/>
                </a:lnTo>
                <a:lnTo>
                  <a:pt x="1068" y="336"/>
                </a:lnTo>
                <a:lnTo>
                  <a:pt x="1068" y="348"/>
                </a:lnTo>
                <a:lnTo>
                  <a:pt x="1074" y="360"/>
                </a:lnTo>
                <a:lnTo>
                  <a:pt x="1074" y="366"/>
                </a:lnTo>
                <a:lnTo>
                  <a:pt x="1080" y="378"/>
                </a:lnTo>
                <a:lnTo>
                  <a:pt x="1080" y="390"/>
                </a:lnTo>
                <a:lnTo>
                  <a:pt x="1086" y="402"/>
                </a:lnTo>
                <a:lnTo>
                  <a:pt x="1086" y="414"/>
                </a:lnTo>
                <a:lnTo>
                  <a:pt x="1092" y="426"/>
                </a:lnTo>
                <a:lnTo>
                  <a:pt x="1092" y="438"/>
                </a:lnTo>
                <a:lnTo>
                  <a:pt x="1098" y="450"/>
                </a:lnTo>
                <a:lnTo>
                  <a:pt x="1098" y="456"/>
                </a:lnTo>
                <a:lnTo>
                  <a:pt x="1104" y="468"/>
                </a:lnTo>
                <a:lnTo>
                  <a:pt x="1110" y="480"/>
                </a:lnTo>
                <a:lnTo>
                  <a:pt x="1110" y="492"/>
                </a:lnTo>
                <a:lnTo>
                  <a:pt x="1116" y="504"/>
                </a:lnTo>
                <a:lnTo>
                  <a:pt x="1116" y="516"/>
                </a:lnTo>
                <a:lnTo>
                  <a:pt x="1122" y="528"/>
                </a:lnTo>
                <a:lnTo>
                  <a:pt x="1122" y="534"/>
                </a:lnTo>
                <a:lnTo>
                  <a:pt x="1128" y="546"/>
                </a:lnTo>
                <a:lnTo>
                  <a:pt x="1128" y="558"/>
                </a:lnTo>
                <a:lnTo>
                  <a:pt x="1134" y="570"/>
                </a:lnTo>
                <a:lnTo>
                  <a:pt x="1134" y="576"/>
                </a:lnTo>
                <a:lnTo>
                  <a:pt x="1140" y="588"/>
                </a:lnTo>
                <a:lnTo>
                  <a:pt x="1140" y="600"/>
                </a:lnTo>
                <a:lnTo>
                  <a:pt x="1146" y="612"/>
                </a:lnTo>
                <a:lnTo>
                  <a:pt x="1152" y="618"/>
                </a:lnTo>
                <a:lnTo>
                  <a:pt x="1152" y="630"/>
                </a:lnTo>
                <a:lnTo>
                  <a:pt x="1158" y="642"/>
                </a:lnTo>
                <a:lnTo>
                  <a:pt x="1158" y="648"/>
                </a:lnTo>
                <a:lnTo>
                  <a:pt x="1164" y="660"/>
                </a:lnTo>
                <a:lnTo>
                  <a:pt x="1164" y="672"/>
                </a:lnTo>
                <a:lnTo>
                  <a:pt x="1170" y="678"/>
                </a:lnTo>
                <a:lnTo>
                  <a:pt x="1170" y="690"/>
                </a:lnTo>
                <a:lnTo>
                  <a:pt x="1176" y="696"/>
                </a:lnTo>
                <a:lnTo>
                  <a:pt x="1176" y="708"/>
                </a:lnTo>
                <a:lnTo>
                  <a:pt x="1182" y="714"/>
                </a:lnTo>
                <a:lnTo>
                  <a:pt x="1182" y="726"/>
                </a:lnTo>
                <a:lnTo>
                  <a:pt x="1188" y="732"/>
                </a:lnTo>
                <a:lnTo>
                  <a:pt x="1194" y="744"/>
                </a:lnTo>
                <a:lnTo>
                  <a:pt x="1194" y="750"/>
                </a:lnTo>
                <a:lnTo>
                  <a:pt x="1200" y="756"/>
                </a:lnTo>
                <a:lnTo>
                  <a:pt x="1200" y="768"/>
                </a:lnTo>
                <a:lnTo>
                  <a:pt x="1206" y="774"/>
                </a:lnTo>
                <a:lnTo>
                  <a:pt x="1206" y="780"/>
                </a:lnTo>
                <a:lnTo>
                  <a:pt x="1212" y="792"/>
                </a:lnTo>
                <a:lnTo>
                  <a:pt x="1212" y="798"/>
                </a:lnTo>
                <a:lnTo>
                  <a:pt x="1218" y="804"/>
                </a:lnTo>
                <a:lnTo>
                  <a:pt x="1218" y="810"/>
                </a:lnTo>
                <a:lnTo>
                  <a:pt x="1224" y="816"/>
                </a:lnTo>
                <a:lnTo>
                  <a:pt x="1224" y="828"/>
                </a:lnTo>
                <a:lnTo>
                  <a:pt x="1230" y="834"/>
                </a:lnTo>
                <a:lnTo>
                  <a:pt x="1236" y="840"/>
                </a:lnTo>
                <a:lnTo>
                  <a:pt x="1236" y="846"/>
                </a:lnTo>
                <a:lnTo>
                  <a:pt x="1242" y="852"/>
                </a:lnTo>
                <a:lnTo>
                  <a:pt x="1242" y="858"/>
                </a:lnTo>
                <a:lnTo>
                  <a:pt x="1248" y="864"/>
                </a:lnTo>
                <a:lnTo>
                  <a:pt x="1248" y="870"/>
                </a:lnTo>
                <a:lnTo>
                  <a:pt x="1254" y="876"/>
                </a:lnTo>
                <a:lnTo>
                  <a:pt x="1254" y="882"/>
                </a:lnTo>
                <a:lnTo>
                  <a:pt x="1260" y="888"/>
                </a:lnTo>
                <a:lnTo>
                  <a:pt x="1260" y="894"/>
                </a:lnTo>
                <a:lnTo>
                  <a:pt x="1266" y="900"/>
                </a:lnTo>
                <a:lnTo>
                  <a:pt x="1272" y="906"/>
                </a:lnTo>
                <a:lnTo>
                  <a:pt x="1278" y="912"/>
                </a:lnTo>
                <a:lnTo>
                  <a:pt x="1278" y="918"/>
                </a:lnTo>
                <a:lnTo>
                  <a:pt x="1284" y="924"/>
                </a:lnTo>
                <a:lnTo>
                  <a:pt x="1290" y="930"/>
                </a:lnTo>
                <a:lnTo>
                  <a:pt x="1296" y="936"/>
                </a:lnTo>
                <a:lnTo>
                  <a:pt x="1296" y="942"/>
                </a:lnTo>
                <a:lnTo>
                  <a:pt x="1302" y="948"/>
                </a:lnTo>
                <a:lnTo>
                  <a:pt x="1308" y="954"/>
                </a:lnTo>
                <a:lnTo>
                  <a:pt x="1314" y="960"/>
                </a:lnTo>
                <a:lnTo>
                  <a:pt x="1320" y="966"/>
                </a:lnTo>
                <a:lnTo>
                  <a:pt x="1326" y="972"/>
                </a:lnTo>
                <a:lnTo>
                  <a:pt x="1332" y="978"/>
                </a:lnTo>
                <a:lnTo>
                  <a:pt x="1338" y="984"/>
                </a:lnTo>
                <a:lnTo>
                  <a:pt x="1344" y="990"/>
                </a:lnTo>
                <a:lnTo>
                  <a:pt x="1350" y="996"/>
                </a:lnTo>
                <a:lnTo>
                  <a:pt x="1356" y="996"/>
                </a:lnTo>
                <a:lnTo>
                  <a:pt x="1362" y="1002"/>
                </a:lnTo>
                <a:lnTo>
                  <a:pt x="1368" y="1002"/>
                </a:lnTo>
                <a:lnTo>
                  <a:pt x="1374" y="1008"/>
                </a:lnTo>
                <a:lnTo>
                  <a:pt x="1380" y="1008"/>
                </a:lnTo>
                <a:lnTo>
                  <a:pt x="1386" y="1014"/>
                </a:lnTo>
                <a:lnTo>
                  <a:pt x="1392" y="1014"/>
                </a:lnTo>
                <a:lnTo>
                  <a:pt x="1398" y="1020"/>
                </a:lnTo>
                <a:lnTo>
                  <a:pt x="1404" y="1020"/>
                </a:lnTo>
                <a:lnTo>
                  <a:pt x="1410" y="1020"/>
                </a:lnTo>
                <a:lnTo>
                  <a:pt x="1417" y="1026"/>
                </a:lnTo>
                <a:lnTo>
                  <a:pt x="1423" y="1026"/>
                </a:lnTo>
                <a:lnTo>
                  <a:pt x="1429" y="1026"/>
                </a:lnTo>
                <a:lnTo>
                  <a:pt x="1435" y="1032"/>
                </a:lnTo>
                <a:lnTo>
                  <a:pt x="1441" y="1032"/>
                </a:lnTo>
                <a:lnTo>
                  <a:pt x="1447" y="1032"/>
                </a:lnTo>
                <a:lnTo>
                  <a:pt x="1453" y="1032"/>
                </a:lnTo>
                <a:lnTo>
                  <a:pt x="1459" y="1032"/>
                </a:lnTo>
                <a:lnTo>
                  <a:pt x="1465" y="1038"/>
                </a:lnTo>
                <a:lnTo>
                  <a:pt x="1471" y="1038"/>
                </a:lnTo>
                <a:lnTo>
                  <a:pt x="1477" y="1038"/>
                </a:lnTo>
                <a:lnTo>
                  <a:pt x="1483" y="1038"/>
                </a:lnTo>
                <a:lnTo>
                  <a:pt x="1489" y="1038"/>
                </a:lnTo>
                <a:lnTo>
                  <a:pt x="1495" y="1038"/>
                </a:lnTo>
                <a:lnTo>
                  <a:pt x="1501" y="1038"/>
                </a:lnTo>
                <a:lnTo>
                  <a:pt x="1507" y="1038"/>
                </a:lnTo>
                <a:lnTo>
                  <a:pt x="1513" y="1038"/>
                </a:lnTo>
                <a:lnTo>
                  <a:pt x="1519" y="1038"/>
                </a:lnTo>
                <a:lnTo>
                  <a:pt x="1525" y="1044"/>
                </a:lnTo>
                <a:lnTo>
                  <a:pt x="1531" y="1044"/>
                </a:lnTo>
                <a:lnTo>
                  <a:pt x="1537" y="1044"/>
                </a:lnTo>
                <a:lnTo>
                  <a:pt x="1543" y="1044"/>
                </a:lnTo>
                <a:lnTo>
                  <a:pt x="1549" y="1044"/>
                </a:lnTo>
                <a:lnTo>
                  <a:pt x="1555" y="1044"/>
                </a:lnTo>
                <a:lnTo>
                  <a:pt x="1561" y="1044"/>
                </a:lnTo>
                <a:lnTo>
                  <a:pt x="1567" y="1044"/>
                </a:lnTo>
                <a:lnTo>
                  <a:pt x="1573" y="1044"/>
                </a:lnTo>
                <a:lnTo>
                  <a:pt x="1579" y="1044"/>
                </a:lnTo>
                <a:lnTo>
                  <a:pt x="1585" y="1044"/>
                </a:lnTo>
                <a:lnTo>
                  <a:pt x="1591" y="1044"/>
                </a:lnTo>
                <a:lnTo>
                  <a:pt x="1597" y="1044"/>
                </a:lnTo>
                <a:lnTo>
                  <a:pt x="1603" y="1044"/>
                </a:lnTo>
                <a:lnTo>
                  <a:pt x="1609" y="1044"/>
                </a:lnTo>
                <a:lnTo>
                  <a:pt x="1615" y="1044"/>
                </a:lnTo>
                <a:lnTo>
                  <a:pt x="1621" y="1044"/>
                </a:lnTo>
                <a:lnTo>
                  <a:pt x="1627" y="1044"/>
                </a:lnTo>
                <a:lnTo>
                  <a:pt x="1633" y="1044"/>
                </a:lnTo>
                <a:lnTo>
                  <a:pt x="1639" y="1044"/>
                </a:lnTo>
                <a:lnTo>
                  <a:pt x="1645" y="1044"/>
                </a:lnTo>
                <a:lnTo>
                  <a:pt x="1651" y="1044"/>
                </a:lnTo>
                <a:lnTo>
                  <a:pt x="1657" y="1044"/>
                </a:lnTo>
                <a:lnTo>
                  <a:pt x="1663" y="1044"/>
                </a:lnTo>
                <a:lnTo>
                  <a:pt x="1669" y="1044"/>
                </a:lnTo>
                <a:lnTo>
                  <a:pt x="1675" y="1044"/>
                </a:lnTo>
                <a:lnTo>
                  <a:pt x="1681" y="1044"/>
                </a:lnTo>
                <a:lnTo>
                  <a:pt x="1687" y="1044"/>
                </a:lnTo>
                <a:lnTo>
                  <a:pt x="1693" y="1044"/>
                </a:lnTo>
                <a:lnTo>
                  <a:pt x="1699" y="1044"/>
                </a:lnTo>
                <a:lnTo>
                  <a:pt x="1705" y="1044"/>
                </a:lnTo>
                <a:lnTo>
                  <a:pt x="1711" y="1044"/>
                </a:lnTo>
                <a:lnTo>
                  <a:pt x="1717" y="1044"/>
                </a:lnTo>
                <a:lnTo>
                  <a:pt x="1723" y="1044"/>
                </a:lnTo>
                <a:lnTo>
                  <a:pt x="1729" y="1044"/>
                </a:lnTo>
                <a:lnTo>
                  <a:pt x="1735" y="1044"/>
                </a:lnTo>
                <a:lnTo>
                  <a:pt x="1741" y="1044"/>
                </a:lnTo>
                <a:lnTo>
                  <a:pt x="1747" y="1044"/>
                </a:lnTo>
                <a:lnTo>
                  <a:pt x="1753" y="1044"/>
                </a:lnTo>
                <a:lnTo>
                  <a:pt x="1759" y="1044"/>
                </a:lnTo>
                <a:lnTo>
                  <a:pt x="1765" y="1044"/>
                </a:lnTo>
                <a:lnTo>
                  <a:pt x="1771" y="1044"/>
                </a:lnTo>
                <a:lnTo>
                  <a:pt x="1777" y="1044"/>
                </a:lnTo>
                <a:lnTo>
                  <a:pt x="1783" y="1044"/>
                </a:lnTo>
                <a:lnTo>
                  <a:pt x="1789" y="1044"/>
                </a:lnTo>
                <a:lnTo>
                  <a:pt x="1795" y="1044"/>
                </a:lnTo>
                <a:lnTo>
                  <a:pt x="1801" y="1044"/>
                </a:lnTo>
                <a:lnTo>
                  <a:pt x="1807" y="1044"/>
                </a:lnTo>
                <a:lnTo>
                  <a:pt x="1813" y="1044"/>
                </a:lnTo>
                <a:lnTo>
                  <a:pt x="1819" y="1044"/>
                </a:lnTo>
                <a:lnTo>
                  <a:pt x="1825" y="1044"/>
                </a:lnTo>
                <a:lnTo>
                  <a:pt x="1831" y="1044"/>
                </a:lnTo>
                <a:lnTo>
                  <a:pt x="1837" y="1044"/>
                </a:lnTo>
                <a:lnTo>
                  <a:pt x="1843" y="1044"/>
                </a:lnTo>
                <a:lnTo>
                  <a:pt x="1849" y="1044"/>
                </a:lnTo>
                <a:lnTo>
                  <a:pt x="1855" y="1044"/>
                </a:lnTo>
                <a:lnTo>
                  <a:pt x="1861" y="1044"/>
                </a:lnTo>
                <a:lnTo>
                  <a:pt x="1867" y="1044"/>
                </a:lnTo>
                <a:lnTo>
                  <a:pt x="1873" y="1044"/>
                </a:lnTo>
                <a:lnTo>
                  <a:pt x="1879" y="1044"/>
                </a:lnTo>
                <a:lnTo>
                  <a:pt x="1885" y="1044"/>
                </a:lnTo>
                <a:lnTo>
                  <a:pt x="1891" y="1044"/>
                </a:lnTo>
                <a:lnTo>
                  <a:pt x="1897" y="1044"/>
                </a:lnTo>
                <a:lnTo>
                  <a:pt x="1903" y="1044"/>
                </a:lnTo>
                <a:lnTo>
                  <a:pt x="1909" y="1044"/>
                </a:lnTo>
                <a:lnTo>
                  <a:pt x="1915" y="1044"/>
                </a:lnTo>
                <a:lnTo>
                  <a:pt x="1921" y="1044"/>
                </a:lnTo>
                <a:lnTo>
                  <a:pt x="1927" y="1044"/>
                </a:lnTo>
                <a:lnTo>
                  <a:pt x="1933" y="1044"/>
                </a:lnTo>
                <a:lnTo>
                  <a:pt x="1939" y="1044"/>
                </a:lnTo>
                <a:lnTo>
                  <a:pt x="1945" y="1044"/>
                </a:lnTo>
                <a:lnTo>
                  <a:pt x="1951" y="1044"/>
                </a:lnTo>
                <a:lnTo>
                  <a:pt x="1957" y="1044"/>
                </a:lnTo>
                <a:lnTo>
                  <a:pt x="1963" y="1044"/>
                </a:lnTo>
                <a:lnTo>
                  <a:pt x="1969" y="1044"/>
                </a:lnTo>
                <a:lnTo>
                  <a:pt x="1975" y="1044"/>
                </a:lnTo>
                <a:lnTo>
                  <a:pt x="1981" y="1044"/>
                </a:lnTo>
                <a:lnTo>
                  <a:pt x="1987" y="1044"/>
                </a:lnTo>
                <a:lnTo>
                  <a:pt x="1993" y="1044"/>
                </a:lnTo>
                <a:lnTo>
                  <a:pt x="1999" y="1044"/>
                </a:lnTo>
                <a:lnTo>
                  <a:pt x="2005" y="1044"/>
                </a:lnTo>
                <a:lnTo>
                  <a:pt x="2011" y="1044"/>
                </a:lnTo>
                <a:lnTo>
                  <a:pt x="2017" y="1044"/>
                </a:lnTo>
                <a:lnTo>
                  <a:pt x="2023" y="1044"/>
                </a:lnTo>
                <a:lnTo>
                  <a:pt x="2029" y="1044"/>
                </a:lnTo>
                <a:lnTo>
                  <a:pt x="2035" y="1044"/>
                </a:lnTo>
                <a:lnTo>
                  <a:pt x="2041" y="1044"/>
                </a:lnTo>
                <a:lnTo>
                  <a:pt x="2047" y="1044"/>
                </a:lnTo>
                <a:lnTo>
                  <a:pt x="2053" y="1044"/>
                </a:lnTo>
                <a:lnTo>
                  <a:pt x="2059" y="1044"/>
                </a:lnTo>
                <a:lnTo>
                  <a:pt x="2065" y="1044"/>
                </a:lnTo>
                <a:lnTo>
                  <a:pt x="2071" y="1044"/>
                </a:lnTo>
                <a:lnTo>
                  <a:pt x="2077" y="1044"/>
                </a:lnTo>
                <a:lnTo>
                  <a:pt x="2083" y="1044"/>
                </a:lnTo>
                <a:lnTo>
                  <a:pt x="2089" y="1044"/>
                </a:lnTo>
                <a:lnTo>
                  <a:pt x="2095" y="1044"/>
                </a:lnTo>
                <a:lnTo>
                  <a:pt x="2101" y="1044"/>
                </a:lnTo>
                <a:lnTo>
                  <a:pt x="2107" y="1044"/>
                </a:lnTo>
                <a:lnTo>
                  <a:pt x="2113" y="1044"/>
                </a:lnTo>
                <a:lnTo>
                  <a:pt x="2119" y="1044"/>
                </a:lnTo>
                <a:lnTo>
                  <a:pt x="2125" y="1044"/>
                </a:lnTo>
                <a:lnTo>
                  <a:pt x="2131" y="1044"/>
                </a:lnTo>
                <a:lnTo>
                  <a:pt x="2137" y="1044"/>
                </a:lnTo>
                <a:lnTo>
                  <a:pt x="2143" y="1044"/>
                </a:lnTo>
                <a:lnTo>
                  <a:pt x="2149" y="1044"/>
                </a:lnTo>
                <a:lnTo>
                  <a:pt x="2155" y="1044"/>
                </a:lnTo>
                <a:lnTo>
                  <a:pt x="2161" y="1044"/>
                </a:lnTo>
                <a:lnTo>
                  <a:pt x="2167" y="1044"/>
                </a:lnTo>
                <a:lnTo>
                  <a:pt x="2173" y="1044"/>
                </a:lnTo>
                <a:lnTo>
                  <a:pt x="2179" y="1044"/>
                </a:lnTo>
                <a:lnTo>
                  <a:pt x="2185" y="1044"/>
                </a:lnTo>
                <a:lnTo>
                  <a:pt x="2191" y="1044"/>
                </a:lnTo>
                <a:lnTo>
                  <a:pt x="2197" y="1044"/>
                </a:lnTo>
                <a:lnTo>
                  <a:pt x="2203" y="1044"/>
                </a:lnTo>
                <a:lnTo>
                  <a:pt x="2209" y="1044"/>
                </a:lnTo>
                <a:lnTo>
                  <a:pt x="2215" y="1044"/>
                </a:lnTo>
                <a:lnTo>
                  <a:pt x="2221" y="1044"/>
                </a:lnTo>
                <a:lnTo>
                  <a:pt x="2227" y="1044"/>
                </a:lnTo>
                <a:lnTo>
                  <a:pt x="2233" y="1044"/>
                </a:lnTo>
                <a:lnTo>
                  <a:pt x="2239" y="1044"/>
                </a:lnTo>
                <a:lnTo>
                  <a:pt x="2245" y="1044"/>
                </a:lnTo>
                <a:lnTo>
                  <a:pt x="2251" y="1044"/>
                </a:lnTo>
                <a:lnTo>
                  <a:pt x="2257" y="1044"/>
                </a:lnTo>
                <a:lnTo>
                  <a:pt x="2263" y="1044"/>
                </a:lnTo>
                <a:lnTo>
                  <a:pt x="2269" y="1044"/>
                </a:lnTo>
                <a:lnTo>
                  <a:pt x="2275" y="1044"/>
                </a:lnTo>
                <a:lnTo>
                  <a:pt x="2281" y="1044"/>
                </a:lnTo>
                <a:lnTo>
                  <a:pt x="2287" y="1044"/>
                </a:lnTo>
                <a:lnTo>
                  <a:pt x="2293" y="1044"/>
                </a:lnTo>
                <a:lnTo>
                  <a:pt x="2299" y="1044"/>
                </a:lnTo>
                <a:lnTo>
                  <a:pt x="2305" y="1044"/>
                </a:lnTo>
                <a:lnTo>
                  <a:pt x="2311" y="1044"/>
                </a:lnTo>
                <a:lnTo>
                  <a:pt x="2317" y="1044"/>
                </a:lnTo>
                <a:lnTo>
                  <a:pt x="2323" y="1044"/>
                </a:lnTo>
                <a:lnTo>
                  <a:pt x="2329" y="1044"/>
                </a:lnTo>
                <a:lnTo>
                  <a:pt x="2335" y="1044"/>
                </a:lnTo>
                <a:lnTo>
                  <a:pt x="2341" y="1044"/>
                </a:lnTo>
                <a:lnTo>
                  <a:pt x="2347" y="1044"/>
                </a:lnTo>
                <a:lnTo>
                  <a:pt x="2353" y="1044"/>
                </a:lnTo>
                <a:lnTo>
                  <a:pt x="2359" y="1044"/>
                </a:lnTo>
                <a:lnTo>
                  <a:pt x="2365" y="1044"/>
                </a:lnTo>
                <a:lnTo>
                  <a:pt x="2371" y="1044"/>
                </a:lnTo>
                <a:lnTo>
                  <a:pt x="2377" y="1044"/>
                </a:lnTo>
                <a:lnTo>
                  <a:pt x="2383" y="1044"/>
                </a:lnTo>
                <a:lnTo>
                  <a:pt x="2389" y="1044"/>
                </a:lnTo>
                <a:lnTo>
                  <a:pt x="2395" y="1044"/>
                </a:lnTo>
                <a:lnTo>
                  <a:pt x="2401" y="1044"/>
                </a:lnTo>
                <a:lnTo>
                  <a:pt x="2407" y="1044"/>
                </a:lnTo>
                <a:lnTo>
                  <a:pt x="2413" y="1044"/>
                </a:lnTo>
                <a:lnTo>
                  <a:pt x="2419" y="1044"/>
                </a:lnTo>
                <a:lnTo>
                  <a:pt x="2425" y="1044"/>
                </a:lnTo>
                <a:lnTo>
                  <a:pt x="2431" y="1044"/>
                </a:lnTo>
                <a:lnTo>
                  <a:pt x="2437" y="1044"/>
                </a:lnTo>
                <a:lnTo>
                  <a:pt x="2443" y="1044"/>
                </a:lnTo>
                <a:lnTo>
                  <a:pt x="2449" y="1044"/>
                </a:lnTo>
                <a:lnTo>
                  <a:pt x="2455" y="1044"/>
                </a:lnTo>
                <a:lnTo>
                  <a:pt x="2461" y="1044"/>
                </a:lnTo>
                <a:lnTo>
                  <a:pt x="2467" y="1044"/>
                </a:lnTo>
                <a:lnTo>
                  <a:pt x="2473" y="1044"/>
                </a:lnTo>
                <a:lnTo>
                  <a:pt x="2479" y="1044"/>
                </a:lnTo>
                <a:lnTo>
                  <a:pt x="2485" y="1044"/>
                </a:lnTo>
                <a:lnTo>
                  <a:pt x="2491" y="1044"/>
                </a:lnTo>
                <a:lnTo>
                  <a:pt x="2497" y="1044"/>
                </a:lnTo>
                <a:lnTo>
                  <a:pt x="2503" y="1044"/>
                </a:lnTo>
                <a:lnTo>
                  <a:pt x="2509" y="1044"/>
                </a:lnTo>
                <a:lnTo>
                  <a:pt x="2515" y="1044"/>
                </a:lnTo>
                <a:lnTo>
                  <a:pt x="2521" y="1044"/>
                </a:lnTo>
                <a:lnTo>
                  <a:pt x="2527" y="1044"/>
                </a:lnTo>
                <a:lnTo>
                  <a:pt x="2533" y="1044"/>
                </a:lnTo>
                <a:lnTo>
                  <a:pt x="2539" y="1044"/>
                </a:lnTo>
                <a:lnTo>
                  <a:pt x="2545" y="1044"/>
                </a:lnTo>
                <a:lnTo>
                  <a:pt x="2551" y="1044"/>
                </a:lnTo>
                <a:lnTo>
                  <a:pt x="2557" y="1044"/>
                </a:lnTo>
                <a:lnTo>
                  <a:pt x="2563" y="1044"/>
                </a:lnTo>
                <a:lnTo>
                  <a:pt x="2569" y="1044"/>
                </a:lnTo>
                <a:lnTo>
                  <a:pt x="2575" y="1044"/>
                </a:lnTo>
                <a:lnTo>
                  <a:pt x="2581" y="1044"/>
                </a:lnTo>
                <a:lnTo>
                  <a:pt x="2587" y="1044"/>
                </a:lnTo>
                <a:lnTo>
                  <a:pt x="2593" y="1044"/>
                </a:lnTo>
                <a:lnTo>
                  <a:pt x="2599" y="1044"/>
                </a:lnTo>
                <a:lnTo>
                  <a:pt x="2605" y="1044"/>
                </a:lnTo>
                <a:lnTo>
                  <a:pt x="2611" y="1044"/>
                </a:lnTo>
                <a:lnTo>
                  <a:pt x="2617" y="1044"/>
                </a:lnTo>
                <a:lnTo>
                  <a:pt x="2623" y="1044"/>
                </a:lnTo>
                <a:lnTo>
                  <a:pt x="2629" y="1044"/>
                </a:lnTo>
                <a:lnTo>
                  <a:pt x="2635" y="1044"/>
                </a:lnTo>
                <a:lnTo>
                  <a:pt x="2641" y="1044"/>
                </a:lnTo>
                <a:lnTo>
                  <a:pt x="2647" y="1044"/>
                </a:lnTo>
                <a:lnTo>
                  <a:pt x="2653" y="1044"/>
                </a:lnTo>
                <a:lnTo>
                  <a:pt x="2659" y="1044"/>
                </a:lnTo>
                <a:lnTo>
                  <a:pt x="2665" y="1044"/>
                </a:lnTo>
                <a:lnTo>
                  <a:pt x="2671" y="1044"/>
                </a:lnTo>
                <a:lnTo>
                  <a:pt x="2677" y="1044"/>
                </a:lnTo>
                <a:lnTo>
                  <a:pt x="2683" y="1044"/>
                </a:lnTo>
                <a:lnTo>
                  <a:pt x="2689" y="1044"/>
                </a:lnTo>
                <a:lnTo>
                  <a:pt x="2695" y="1044"/>
                </a:lnTo>
                <a:lnTo>
                  <a:pt x="2701" y="1044"/>
                </a:lnTo>
                <a:lnTo>
                  <a:pt x="2707" y="1044"/>
                </a:lnTo>
                <a:lnTo>
                  <a:pt x="2713" y="1044"/>
                </a:lnTo>
                <a:lnTo>
                  <a:pt x="2719" y="1044"/>
                </a:lnTo>
                <a:lnTo>
                  <a:pt x="2725" y="1044"/>
                </a:lnTo>
                <a:lnTo>
                  <a:pt x="2731" y="1044"/>
                </a:lnTo>
                <a:lnTo>
                  <a:pt x="2737" y="1044"/>
                </a:lnTo>
                <a:lnTo>
                  <a:pt x="2743" y="1044"/>
                </a:lnTo>
                <a:lnTo>
                  <a:pt x="2749" y="1044"/>
                </a:lnTo>
                <a:lnTo>
                  <a:pt x="2755" y="1044"/>
                </a:lnTo>
                <a:lnTo>
                  <a:pt x="2761" y="1044"/>
                </a:lnTo>
                <a:lnTo>
                  <a:pt x="2767" y="1044"/>
                </a:lnTo>
                <a:lnTo>
                  <a:pt x="2773" y="1044"/>
                </a:lnTo>
                <a:lnTo>
                  <a:pt x="2779" y="1044"/>
                </a:lnTo>
                <a:lnTo>
                  <a:pt x="2785" y="1044"/>
                </a:lnTo>
                <a:lnTo>
                  <a:pt x="2791" y="1044"/>
                </a:lnTo>
                <a:lnTo>
                  <a:pt x="2797" y="1044"/>
                </a:lnTo>
                <a:lnTo>
                  <a:pt x="2803" y="1044"/>
                </a:lnTo>
                <a:lnTo>
                  <a:pt x="2809" y="1044"/>
                </a:lnTo>
                <a:lnTo>
                  <a:pt x="2815" y="1044"/>
                </a:lnTo>
                <a:lnTo>
                  <a:pt x="2821" y="1044"/>
                </a:lnTo>
                <a:lnTo>
                  <a:pt x="2827" y="1044"/>
                </a:lnTo>
                <a:lnTo>
                  <a:pt x="2833" y="1044"/>
                </a:lnTo>
                <a:lnTo>
                  <a:pt x="2839" y="1044"/>
                </a:lnTo>
                <a:lnTo>
                  <a:pt x="2845" y="1044"/>
                </a:lnTo>
                <a:lnTo>
                  <a:pt x="2851" y="1044"/>
                </a:lnTo>
                <a:lnTo>
                  <a:pt x="2857" y="1044"/>
                </a:lnTo>
                <a:lnTo>
                  <a:pt x="2863" y="1044"/>
                </a:lnTo>
                <a:lnTo>
                  <a:pt x="2869" y="1044"/>
                </a:lnTo>
                <a:lnTo>
                  <a:pt x="2875" y="1044"/>
                </a:lnTo>
                <a:lnTo>
                  <a:pt x="2881" y="1044"/>
                </a:lnTo>
                <a:lnTo>
                  <a:pt x="2887" y="1044"/>
                </a:lnTo>
                <a:lnTo>
                  <a:pt x="2893" y="1044"/>
                </a:lnTo>
                <a:lnTo>
                  <a:pt x="2899" y="1044"/>
                </a:lnTo>
                <a:lnTo>
                  <a:pt x="2905" y="1044"/>
                </a:lnTo>
                <a:lnTo>
                  <a:pt x="2911" y="1044"/>
                </a:lnTo>
                <a:lnTo>
                  <a:pt x="2917" y="1044"/>
                </a:lnTo>
                <a:lnTo>
                  <a:pt x="2923" y="1044"/>
                </a:lnTo>
                <a:lnTo>
                  <a:pt x="2929" y="1044"/>
                </a:lnTo>
                <a:lnTo>
                  <a:pt x="2935" y="1044"/>
                </a:lnTo>
                <a:lnTo>
                  <a:pt x="2941" y="1044"/>
                </a:lnTo>
                <a:lnTo>
                  <a:pt x="2947" y="1044"/>
                </a:lnTo>
                <a:lnTo>
                  <a:pt x="2953" y="1044"/>
                </a:lnTo>
                <a:lnTo>
                  <a:pt x="2959" y="1044"/>
                </a:lnTo>
                <a:lnTo>
                  <a:pt x="2965" y="1044"/>
                </a:lnTo>
                <a:lnTo>
                  <a:pt x="2971" y="1044"/>
                </a:lnTo>
                <a:lnTo>
                  <a:pt x="2977" y="1044"/>
                </a:lnTo>
                <a:lnTo>
                  <a:pt x="2983" y="1044"/>
                </a:lnTo>
                <a:lnTo>
                  <a:pt x="2989" y="1044"/>
                </a:lnTo>
                <a:lnTo>
                  <a:pt x="2995" y="1044"/>
                </a:lnTo>
                <a:lnTo>
                  <a:pt x="3001" y="1044"/>
                </a:lnTo>
                <a:lnTo>
                  <a:pt x="3007" y="1044"/>
                </a:lnTo>
                <a:lnTo>
                  <a:pt x="3013" y="1044"/>
                </a:lnTo>
                <a:lnTo>
                  <a:pt x="3019" y="1044"/>
                </a:lnTo>
                <a:lnTo>
                  <a:pt x="3025" y="1044"/>
                </a:lnTo>
                <a:lnTo>
                  <a:pt x="3031" y="1044"/>
                </a:lnTo>
                <a:lnTo>
                  <a:pt x="3037" y="1044"/>
                </a:lnTo>
                <a:lnTo>
                  <a:pt x="3043" y="1044"/>
                </a:lnTo>
                <a:lnTo>
                  <a:pt x="3049" y="1044"/>
                </a:lnTo>
                <a:lnTo>
                  <a:pt x="3055" y="1044"/>
                </a:lnTo>
                <a:lnTo>
                  <a:pt x="3061" y="1044"/>
                </a:lnTo>
                <a:lnTo>
                  <a:pt x="3067" y="1044"/>
                </a:lnTo>
                <a:lnTo>
                  <a:pt x="3073" y="1044"/>
                </a:lnTo>
                <a:lnTo>
                  <a:pt x="3079" y="1044"/>
                </a:lnTo>
                <a:lnTo>
                  <a:pt x="3085" y="1044"/>
                </a:lnTo>
                <a:lnTo>
                  <a:pt x="3091" y="1044"/>
                </a:lnTo>
                <a:lnTo>
                  <a:pt x="3097" y="1044"/>
                </a:lnTo>
                <a:lnTo>
                  <a:pt x="3103" y="1044"/>
                </a:lnTo>
                <a:lnTo>
                  <a:pt x="3109" y="1044"/>
                </a:lnTo>
                <a:lnTo>
                  <a:pt x="3115" y="1044"/>
                </a:lnTo>
                <a:lnTo>
                  <a:pt x="3121" y="1044"/>
                </a:lnTo>
                <a:lnTo>
                  <a:pt x="3127" y="1044"/>
                </a:lnTo>
                <a:lnTo>
                  <a:pt x="3133" y="1044"/>
                </a:lnTo>
                <a:lnTo>
                  <a:pt x="3139" y="1044"/>
                </a:lnTo>
                <a:lnTo>
                  <a:pt x="3145" y="1044"/>
                </a:lnTo>
                <a:lnTo>
                  <a:pt x="3151" y="1044"/>
                </a:lnTo>
                <a:lnTo>
                  <a:pt x="3157" y="1044"/>
                </a:lnTo>
                <a:lnTo>
                  <a:pt x="3163" y="1044"/>
                </a:lnTo>
                <a:lnTo>
                  <a:pt x="3169" y="1044"/>
                </a:lnTo>
                <a:lnTo>
                  <a:pt x="3175" y="1044"/>
                </a:lnTo>
                <a:lnTo>
                  <a:pt x="3181" y="1044"/>
                </a:lnTo>
                <a:lnTo>
                  <a:pt x="3187" y="1044"/>
                </a:lnTo>
                <a:lnTo>
                  <a:pt x="3193" y="1044"/>
                </a:lnTo>
                <a:lnTo>
                  <a:pt x="3199" y="1044"/>
                </a:lnTo>
                <a:lnTo>
                  <a:pt x="3205" y="1044"/>
                </a:lnTo>
                <a:lnTo>
                  <a:pt x="3211" y="1044"/>
                </a:lnTo>
                <a:lnTo>
                  <a:pt x="3217" y="1044"/>
                </a:lnTo>
                <a:lnTo>
                  <a:pt x="3223" y="1044"/>
                </a:lnTo>
                <a:lnTo>
                  <a:pt x="3229" y="1044"/>
                </a:lnTo>
                <a:lnTo>
                  <a:pt x="3229" y="1044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17680" y="170352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1680" y="1484280"/>
            <a:ext cx="412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981000" y="1446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02880" y="1522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180972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731600" y="1522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639880" y="1446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638080" y="1522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345924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417480" y="1522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28796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46200" y="1522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22360" y="145260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22360" y="145260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590920" y="112860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  <a:lnTo>
                  <a:pt x="1296" y="20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590920" y="112860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</a:path>
            </a:pathLst>
          </a:custGeom>
          <a:solidFill>
            <a:srgbClr val="00cc99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387160" y="515880"/>
            <a:ext cx="274320" cy="1865520"/>
            <a:chOff x="2387160" y="515880"/>
            <a:chExt cx="274320" cy="1865520"/>
          </a:xfrm>
        </p:grpSpPr>
        <p:sp>
          <p:nvSpPr>
            <p:cNvPr id="641" name=""/>
            <p:cNvSpPr/>
            <p:nvPr/>
          </p:nvSpPr>
          <p:spPr>
            <a:xfrm>
              <a:off x="2552760" y="96336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406240" y="860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52760" y="6537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06240" y="550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2570400" y="234756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2592720" y="149868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90560" y="16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70400" y="2169720"/>
              <a:ext cx="381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387160" y="2063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70400" y="185400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87160" y="17496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70400" y="15516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92280" y="144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70400" y="123552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23880" y="1130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70400" y="919440"/>
              <a:ext cx="381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94160" y="515880"/>
              <a:ext cx="0" cy="186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1332000" y="2995560"/>
            <a:ext cx="14810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20960" y="2604960"/>
            <a:ext cx="1262160" cy="733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 0 shift with negative chromati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809720" y="293760"/>
            <a:ext cx="1440" cy="47624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rot="16200000">
            <a:off x="1611360" y="3530880"/>
            <a:ext cx="84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-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rot="16200000">
            <a:off x="2276640" y="3516480"/>
            <a:ext cx="65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16200000">
            <a:off x="1216080" y="3524760"/>
            <a:ext cx="84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ff33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 = -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082520" y="5024520"/>
            <a:ext cx="15764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aximum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at 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= -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581320" y="3051000"/>
            <a:ext cx="371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329000" y="1909800"/>
            <a:ext cx="1778040" cy="161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Expected t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from 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with a BB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Fr = 22 GHz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R/Q= 13.5 M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54600" y="679320"/>
            <a:ext cx="315756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bing the real part of the impedance at negative chromaticity ==&gt;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no effect coming from the R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772320" y="1901880"/>
            <a:ext cx="933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wing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49360" y="1481040"/>
            <a:ext cx="2058840" cy="476280"/>
          </a:xfrm>
          <a:custGeom>
            <a:avLst/>
            <a:gdLst/>
            <a:ahLst/>
            <a:rect l="l" t="t" r="r" b="b"/>
            <a:pathLst>
              <a:path w="1297" h="300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16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24"/>
                </a:lnTo>
                <a:lnTo>
                  <a:pt x="546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76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06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36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66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0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0" y="24"/>
                </a:lnTo>
                <a:lnTo>
                  <a:pt x="726" y="24"/>
                </a:lnTo>
                <a:lnTo>
                  <a:pt x="732" y="24"/>
                </a:lnTo>
                <a:lnTo>
                  <a:pt x="738" y="24"/>
                </a:lnTo>
                <a:lnTo>
                  <a:pt x="744" y="24"/>
                </a:lnTo>
                <a:lnTo>
                  <a:pt x="750" y="24"/>
                </a:lnTo>
                <a:lnTo>
                  <a:pt x="756" y="24"/>
                </a:lnTo>
                <a:lnTo>
                  <a:pt x="762" y="24"/>
                </a:lnTo>
                <a:lnTo>
                  <a:pt x="768" y="24"/>
                </a:lnTo>
                <a:lnTo>
                  <a:pt x="774" y="30"/>
                </a:lnTo>
                <a:lnTo>
                  <a:pt x="780" y="30"/>
                </a:lnTo>
                <a:lnTo>
                  <a:pt x="786" y="30"/>
                </a:lnTo>
                <a:lnTo>
                  <a:pt x="792" y="30"/>
                </a:lnTo>
                <a:lnTo>
                  <a:pt x="798" y="30"/>
                </a:lnTo>
                <a:lnTo>
                  <a:pt x="804" y="30"/>
                </a:lnTo>
                <a:lnTo>
                  <a:pt x="810" y="30"/>
                </a:lnTo>
                <a:lnTo>
                  <a:pt x="816" y="30"/>
                </a:lnTo>
                <a:lnTo>
                  <a:pt x="822" y="30"/>
                </a:lnTo>
                <a:lnTo>
                  <a:pt x="828" y="30"/>
                </a:lnTo>
                <a:lnTo>
                  <a:pt x="834" y="30"/>
                </a:lnTo>
                <a:lnTo>
                  <a:pt x="840" y="30"/>
                </a:lnTo>
                <a:lnTo>
                  <a:pt x="846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30"/>
                </a:lnTo>
                <a:lnTo>
                  <a:pt x="876" y="30"/>
                </a:lnTo>
                <a:lnTo>
                  <a:pt x="882" y="30"/>
                </a:lnTo>
                <a:lnTo>
                  <a:pt x="888" y="30"/>
                </a:lnTo>
                <a:lnTo>
                  <a:pt x="894" y="30"/>
                </a:lnTo>
                <a:lnTo>
                  <a:pt x="900" y="30"/>
                </a:lnTo>
                <a:lnTo>
                  <a:pt x="906" y="30"/>
                </a:lnTo>
                <a:lnTo>
                  <a:pt x="912" y="30"/>
                </a:lnTo>
                <a:lnTo>
                  <a:pt x="918" y="30"/>
                </a:lnTo>
                <a:lnTo>
                  <a:pt x="924" y="30"/>
                </a:lnTo>
                <a:lnTo>
                  <a:pt x="930" y="36"/>
                </a:lnTo>
                <a:lnTo>
                  <a:pt x="936" y="36"/>
                </a:lnTo>
                <a:lnTo>
                  <a:pt x="942" y="36"/>
                </a:lnTo>
                <a:lnTo>
                  <a:pt x="948" y="36"/>
                </a:lnTo>
                <a:lnTo>
                  <a:pt x="954" y="36"/>
                </a:lnTo>
                <a:lnTo>
                  <a:pt x="960" y="36"/>
                </a:lnTo>
                <a:lnTo>
                  <a:pt x="966" y="36"/>
                </a:lnTo>
                <a:lnTo>
                  <a:pt x="972" y="36"/>
                </a:lnTo>
                <a:lnTo>
                  <a:pt x="978" y="36"/>
                </a:lnTo>
                <a:lnTo>
                  <a:pt x="984" y="36"/>
                </a:lnTo>
                <a:lnTo>
                  <a:pt x="990" y="36"/>
                </a:lnTo>
                <a:lnTo>
                  <a:pt x="996" y="36"/>
                </a:lnTo>
                <a:lnTo>
                  <a:pt x="1002" y="36"/>
                </a:lnTo>
                <a:lnTo>
                  <a:pt x="1008" y="36"/>
                </a:lnTo>
                <a:lnTo>
                  <a:pt x="1014" y="36"/>
                </a:lnTo>
                <a:lnTo>
                  <a:pt x="1020" y="36"/>
                </a:lnTo>
                <a:lnTo>
                  <a:pt x="1026" y="36"/>
                </a:lnTo>
                <a:lnTo>
                  <a:pt x="1032" y="42"/>
                </a:lnTo>
                <a:lnTo>
                  <a:pt x="1038" y="42"/>
                </a:lnTo>
                <a:lnTo>
                  <a:pt x="1044" y="42"/>
                </a:lnTo>
                <a:lnTo>
                  <a:pt x="1050" y="42"/>
                </a:lnTo>
                <a:lnTo>
                  <a:pt x="1056" y="42"/>
                </a:lnTo>
                <a:lnTo>
                  <a:pt x="1062" y="42"/>
                </a:lnTo>
                <a:lnTo>
                  <a:pt x="1068" y="42"/>
                </a:lnTo>
                <a:lnTo>
                  <a:pt x="1074" y="42"/>
                </a:lnTo>
                <a:lnTo>
                  <a:pt x="1080" y="42"/>
                </a:lnTo>
                <a:lnTo>
                  <a:pt x="1086" y="42"/>
                </a:lnTo>
                <a:lnTo>
                  <a:pt x="1092" y="48"/>
                </a:lnTo>
                <a:lnTo>
                  <a:pt x="1098" y="48"/>
                </a:lnTo>
                <a:lnTo>
                  <a:pt x="1104" y="48"/>
                </a:lnTo>
                <a:lnTo>
                  <a:pt x="1110" y="48"/>
                </a:lnTo>
                <a:lnTo>
                  <a:pt x="1116" y="48"/>
                </a:lnTo>
                <a:lnTo>
                  <a:pt x="1122" y="48"/>
                </a:lnTo>
                <a:lnTo>
                  <a:pt x="1128" y="48"/>
                </a:lnTo>
                <a:lnTo>
                  <a:pt x="1134" y="48"/>
                </a:lnTo>
                <a:lnTo>
                  <a:pt x="1141" y="54"/>
                </a:lnTo>
                <a:lnTo>
                  <a:pt x="1147" y="54"/>
                </a:lnTo>
                <a:lnTo>
                  <a:pt x="1153" y="54"/>
                </a:lnTo>
                <a:lnTo>
                  <a:pt x="1159" y="54"/>
                </a:lnTo>
                <a:lnTo>
                  <a:pt x="1165" y="54"/>
                </a:lnTo>
                <a:lnTo>
                  <a:pt x="1171" y="60"/>
                </a:lnTo>
                <a:lnTo>
                  <a:pt x="1177" y="60"/>
                </a:lnTo>
                <a:lnTo>
                  <a:pt x="1183" y="60"/>
                </a:lnTo>
                <a:lnTo>
                  <a:pt x="1189" y="66"/>
                </a:lnTo>
                <a:lnTo>
                  <a:pt x="1195" y="66"/>
                </a:lnTo>
                <a:lnTo>
                  <a:pt x="1201" y="66"/>
                </a:lnTo>
                <a:lnTo>
                  <a:pt x="1207" y="72"/>
                </a:lnTo>
                <a:lnTo>
                  <a:pt x="1213" y="72"/>
                </a:lnTo>
                <a:lnTo>
                  <a:pt x="1219" y="72"/>
                </a:lnTo>
                <a:lnTo>
                  <a:pt x="1225" y="78"/>
                </a:lnTo>
                <a:lnTo>
                  <a:pt x="1231" y="78"/>
                </a:lnTo>
                <a:lnTo>
                  <a:pt x="1237" y="84"/>
                </a:lnTo>
                <a:lnTo>
                  <a:pt x="1243" y="90"/>
                </a:lnTo>
                <a:lnTo>
                  <a:pt x="1249" y="96"/>
                </a:lnTo>
                <a:lnTo>
                  <a:pt x="1255" y="102"/>
                </a:lnTo>
                <a:lnTo>
                  <a:pt x="1261" y="108"/>
                </a:lnTo>
                <a:lnTo>
                  <a:pt x="1267" y="114"/>
                </a:lnTo>
                <a:lnTo>
                  <a:pt x="1267" y="120"/>
                </a:lnTo>
                <a:lnTo>
                  <a:pt x="1273" y="126"/>
                </a:lnTo>
                <a:lnTo>
                  <a:pt x="1273" y="132"/>
                </a:lnTo>
                <a:lnTo>
                  <a:pt x="1279" y="138"/>
                </a:lnTo>
                <a:lnTo>
                  <a:pt x="1279" y="150"/>
                </a:lnTo>
                <a:lnTo>
                  <a:pt x="1279" y="156"/>
                </a:lnTo>
                <a:lnTo>
                  <a:pt x="1285" y="174"/>
                </a:lnTo>
                <a:lnTo>
                  <a:pt x="1285" y="186"/>
                </a:lnTo>
                <a:lnTo>
                  <a:pt x="1291" y="210"/>
                </a:lnTo>
                <a:lnTo>
                  <a:pt x="1291" y="246"/>
                </a:lnTo>
                <a:lnTo>
                  <a:pt x="1297" y="300"/>
                </a:lnTo>
                <a:lnTo>
                  <a:pt x="1297" y="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93800" y="995400"/>
            <a:ext cx="2057400" cy="485640"/>
          </a:xfrm>
          <a:custGeom>
            <a:avLst/>
            <a:gdLst/>
            <a:ahLst/>
            <a:rect l="l" t="t" r="r" b="b"/>
            <a:pathLst>
              <a:path w="1296" h="306">
                <a:moveTo>
                  <a:pt x="0" y="306"/>
                </a:moveTo>
                <a:lnTo>
                  <a:pt x="0" y="0"/>
                </a:lnTo>
                <a:lnTo>
                  <a:pt x="6" y="54"/>
                </a:lnTo>
                <a:lnTo>
                  <a:pt x="6" y="90"/>
                </a:lnTo>
                <a:lnTo>
                  <a:pt x="12" y="114"/>
                </a:lnTo>
                <a:lnTo>
                  <a:pt x="12" y="126"/>
                </a:lnTo>
                <a:lnTo>
                  <a:pt x="18" y="144"/>
                </a:lnTo>
                <a:lnTo>
                  <a:pt x="18" y="150"/>
                </a:lnTo>
                <a:lnTo>
                  <a:pt x="18" y="162"/>
                </a:lnTo>
                <a:lnTo>
                  <a:pt x="24" y="168"/>
                </a:lnTo>
                <a:lnTo>
                  <a:pt x="24" y="174"/>
                </a:lnTo>
                <a:lnTo>
                  <a:pt x="30" y="180"/>
                </a:lnTo>
                <a:lnTo>
                  <a:pt x="36" y="186"/>
                </a:lnTo>
                <a:lnTo>
                  <a:pt x="36" y="192"/>
                </a:lnTo>
                <a:lnTo>
                  <a:pt x="42" y="198"/>
                </a:lnTo>
                <a:lnTo>
                  <a:pt x="48" y="204"/>
                </a:lnTo>
                <a:lnTo>
                  <a:pt x="54" y="210"/>
                </a:lnTo>
                <a:lnTo>
                  <a:pt x="60" y="216"/>
                </a:lnTo>
                <a:lnTo>
                  <a:pt x="66" y="222"/>
                </a:lnTo>
                <a:lnTo>
                  <a:pt x="72" y="222"/>
                </a:lnTo>
                <a:lnTo>
                  <a:pt x="78" y="228"/>
                </a:lnTo>
                <a:lnTo>
                  <a:pt x="84" y="228"/>
                </a:lnTo>
                <a:lnTo>
                  <a:pt x="90" y="234"/>
                </a:lnTo>
                <a:lnTo>
                  <a:pt x="96" y="234"/>
                </a:lnTo>
                <a:lnTo>
                  <a:pt x="102" y="234"/>
                </a:lnTo>
                <a:lnTo>
                  <a:pt x="108" y="240"/>
                </a:lnTo>
                <a:lnTo>
                  <a:pt x="114" y="240"/>
                </a:lnTo>
                <a:lnTo>
                  <a:pt x="120" y="240"/>
                </a:lnTo>
                <a:lnTo>
                  <a:pt x="126" y="240"/>
                </a:lnTo>
                <a:lnTo>
                  <a:pt x="132" y="246"/>
                </a:lnTo>
                <a:lnTo>
                  <a:pt x="138" y="246"/>
                </a:lnTo>
                <a:lnTo>
                  <a:pt x="144" y="246"/>
                </a:lnTo>
                <a:lnTo>
                  <a:pt x="150" y="246"/>
                </a:lnTo>
                <a:lnTo>
                  <a:pt x="156" y="246"/>
                </a:lnTo>
                <a:lnTo>
                  <a:pt x="162" y="252"/>
                </a:lnTo>
                <a:lnTo>
                  <a:pt x="168" y="252"/>
                </a:lnTo>
                <a:lnTo>
                  <a:pt x="174" y="252"/>
                </a:lnTo>
                <a:lnTo>
                  <a:pt x="180" y="252"/>
                </a:lnTo>
                <a:lnTo>
                  <a:pt x="186" y="252"/>
                </a:lnTo>
                <a:lnTo>
                  <a:pt x="192" y="252"/>
                </a:lnTo>
                <a:lnTo>
                  <a:pt x="198" y="252"/>
                </a:lnTo>
                <a:lnTo>
                  <a:pt x="204" y="258"/>
                </a:lnTo>
                <a:lnTo>
                  <a:pt x="210" y="258"/>
                </a:lnTo>
                <a:lnTo>
                  <a:pt x="216" y="258"/>
                </a:lnTo>
                <a:lnTo>
                  <a:pt x="222" y="258"/>
                </a:lnTo>
                <a:lnTo>
                  <a:pt x="228" y="258"/>
                </a:lnTo>
                <a:lnTo>
                  <a:pt x="234" y="258"/>
                </a:lnTo>
                <a:lnTo>
                  <a:pt x="240" y="258"/>
                </a:lnTo>
                <a:lnTo>
                  <a:pt x="246" y="258"/>
                </a:lnTo>
                <a:lnTo>
                  <a:pt x="252" y="258"/>
                </a:lnTo>
                <a:lnTo>
                  <a:pt x="258" y="258"/>
                </a:lnTo>
                <a:lnTo>
                  <a:pt x="264" y="258"/>
                </a:lnTo>
                <a:lnTo>
                  <a:pt x="270" y="264"/>
                </a:lnTo>
                <a:lnTo>
                  <a:pt x="276" y="264"/>
                </a:lnTo>
                <a:lnTo>
                  <a:pt x="282" y="264"/>
                </a:lnTo>
                <a:lnTo>
                  <a:pt x="288" y="264"/>
                </a:lnTo>
                <a:lnTo>
                  <a:pt x="294" y="264"/>
                </a:lnTo>
                <a:lnTo>
                  <a:pt x="300" y="264"/>
                </a:lnTo>
                <a:lnTo>
                  <a:pt x="306" y="264"/>
                </a:lnTo>
                <a:lnTo>
                  <a:pt x="312" y="264"/>
                </a:lnTo>
                <a:lnTo>
                  <a:pt x="318" y="264"/>
                </a:lnTo>
                <a:lnTo>
                  <a:pt x="324" y="264"/>
                </a:lnTo>
                <a:lnTo>
                  <a:pt x="330" y="264"/>
                </a:lnTo>
                <a:lnTo>
                  <a:pt x="336" y="264"/>
                </a:lnTo>
                <a:lnTo>
                  <a:pt x="342" y="264"/>
                </a:lnTo>
                <a:lnTo>
                  <a:pt x="348" y="264"/>
                </a:lnTo>
                <a:lnTo>
                  <a:pt x="354" y="264"/>
                </a:lnTo>
                <a:lnTo>
                  <a:pt x="360" y="264"/>
                </a:lnTo>
                <a:lnTo>
                  <a:pt x="366" y="270"/>
                </a:lnTo>
                <a:lnTo>
                  <a:pt x="372" y="270"/>
                </a:lnTo>
                <a:lnTo>
                  <a:pt x="378" y="270"/>
                </a:lnTo>
                <a:lnTo>
                  <a:pt x="384" y="270"/>
                </a:lnTo>
                <a:lnTo>
                  <a:pt x="390" y="270"/>
                </a:lnTo>
                <a:lnTo>
                  <a:pt x="396" y="270"/>
                </a:lnTo>
                <a:lnTo>
                  <a:pt x="402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70"/>
                </a:lnTo>
                <a:lnTo>
                  <a:pt x="426" y="270"/>
                </a:lnTo>
                <a:lnTo>
                  <a:pt x="432" y="270"/>
                </a:lnTo>
                <a:lnTo>
                  <a:pt x="438" y="270"/>
                </a:lnTo>
                <a:lnTo>
                  <a:pt x="444" y="270"/>
                </a:lnTo>
                <a:lnTo>
                  <a:pt x="450" y="270"/>
                </a:lnTo>
                <a:lnTo>
                  <a:pt x="456" y="270"/>
                </a:lnTo>
                <a:lnTo>
                  <a:pt x="462" y="270"/>
                </a:lnTo>
                <a:lnTo>
                  <a:pt x="468" y="270"/>
                </a:lnTo>
                <a:lnTo>
                  <a:pt x="474" y="270"/>
                </a:lnTo>
                <a:lnTo>
                  <a:pt x="480" y="270"/>
                </a:lnTo>
                <a:lnTo>
                  <a:pt x="486" y="270"/>
                </a:lnTo>
                <a:lnTo>
                  <a:pt x="492" y="270"/>
                </a:lnTo>
                <a:lnTo>
                  <a:pt x="498" y="270"/>
                </a:lnTo>
                <a:lnTo>
                  <a:pt x="504" y="270"/>
                </a:lnTo>
                <a:lnTo>
                  <a:pt x="510" y="270"/>
                </a:lnTo>
                <a:lnTo>
                  <a:pt x="516" y="270"/>
                </a:lnTo>
                <a:lnTo>
                  <a:pt x="522" y="270"/>
                </a:lnTo>
                <a:lnTo>
                  <a:pt x="528" y="276"/>
                </a:lnTo>
                <a:lnTo>
                  <a:pt x="534" y="276"/>
                </a:lnTo>
                <a:lnTo>
                  <a:pt x="540" y="276"/>
                </a:lnTo>
                <a:lnTo>
                  <a:pt x="546" y="276"/>
                </a:lnTo>
                <a:lnTo>
                  <a:pt x="552" y="276"/>
                </a:lnTo>
                <a:lnTo>
                  <a:pt x="558" y="276"/>
                </a:lnTo>
                <a:lnTo>
                  <a:pt x="564" y="276"/>
                </a:lnTo>
                <a:lnTo>
                  <a:pt x="570" y="276"/>
                </a:lnTo>
                <a:lnTo>
                  <a:pt x="576" y="276"/>
                </a:lnTo>
                <a:lnTo>
                  <a:pt x="582" y="276"/>
                </a:lnTo>
                <a:lnTo>
                  <a:pt x="588" y="276"/>
                </a:lnTo>
                <a:lnTo>
                  <a:pt x="594" y="276"/>
                </a:lnTo>
                <a:lnTo>
                  <a:pt x="600" y="276"/>
                </a:lnTo>
                <a:lnTo>
                  <a:pt x="606" y="276"/>
                </a:lnTo>
                <a:lnTo>
                  <a:pt x="612" y="276"/>
                </a:lnTo>
                <a:lnTo>
                  <a:pt x="618" y="276"/>
                </a:lnTo>
                <a:lnTo>
                  <a:pt x="624" y="276"/>
                </a:lnTo>
                <a:lnTo>
                  <a:pt x="630" y="276"/>
                </a:lnTo>
                <a:lnTo>
                  <a:pt x="636" y="276"/>
                </a:lnTo>
                <a:lnTo>
                  <a:pt x="642" y="276"/>
                </a:lnTo>
                <a:lnTo>
                  <a:pt x="648" y="276"/>
                </a:lnTo>
                <a:lnTo>
                  <a:pt x="654" y="276"/>
                </a:lnTo>
                <a:lnTo>
                  <a:pt x="660" y="276"/>
                </a:lnTo>
                <a:lnTo>
                  <a:pt x="666" y="276"/>
                </a:lnTo>
                <a:lnTo>
                  <a:pt x="672" y="276"/>
                </a:lnTo>
                <a:lnTo>
                  <a:pt x="678" y="276"/>
                </a:lnTo>
                <a:lnTo>
                  <a:pt x="684" y="276"/>
                </a:lnTo>
                <a:lnTo>
                  <a:pt x="690" y="276"/>
                </a:lnTo>
                <a:lnTo>
                  <a:pt x="696" y="276"/>
                </a:lnTo>
                <a:lnTo>
                  <a:pt x="702" y="276"/>
                </a:lnTo>
                <a:lnTo>
                  <a:pt x="708" y="276"/>
                </a:lnTo>
                <a:lnTo>
                  <a:pt x="714" y="276"/>
                </a:lnTo>
                <a:lnTo>
                  <a:pt x="720" y="276"/>
                </a:lnTo>
                <a:lnTo>
                  <a:pt x="726" y="276"/>
                </a:lnTo>
                <a:lnTo>
                  <a:pt x="732" y="276"/>
                </a:lnTo>
                <a:lnTo>
                  <a:pt x="738" y="276"/>
                </a:lnTo>
                <a:lnTo>
                  <a:pt x="744" y="276"/>
                </a:lnTo>
                <a:lnTo>
                  <a:pt x="750" y="276"/>
                </a:lnTo>
                <a:lnTo>
                  <a:pt x="756" y="276"/>
                </a:lnTo>
                <a:lnTo>
                  <a:pt x="762" y="276"/>
                </a:lnTo>
                <a:lnTo>
                  <a:pt x="768" y="276"/>
                </a:lnTo>
                <a:lnTo>
                  <a:pt x="774" y="276"/>
                </a:lnTo>
                <a:lnTo>
                  <a:pt x="780" y="276"/>
                </a:lnTo>
                <a:lnTo>
                  <a:pt x="786" y="276"/>
                </a:lnTo>
                <a:lnTo>
                  <a:pt x="792" y="276"/>
                </a:lnTo>
                <a:lnTo>
                  <a:pt x="798" y="276"/>
                </a:lnTo>
                <a:lnTo>
                  <a:pt x="804" y="276"/>
                </a:lnTo>
                <a:lnTo>
                  <a:pt x="810" y="276"/>
                </a:lnTo>
                <a:lnTo>
                  <a:pt x="816" y="276"/>
                </a:lnTo>
                <a:lnTo>
                  <a:pt x="822" y="276"/>
                </a:lnTo>
                <a:lnTo>
                  <a:pt x="828" y="282"/>
                </a:lnTo>
                <a:lnTo>
                  <a:pt x="834" y="282"/>
                </a:lnTo>
                <a:lnTo>
                  <a:pt x="840" y="282"/>
                </a:lnTo>
                <a:lnTo>
                  <a:pt x="846" y="282"/>
                </a:lnTo>
                <a:lnTo>
                  <a:pt x="852" y="282"/>
                </a:lnTo>
                <a:lnTo>
                  <a:pt x="858" y="282"/>
                </a:lnTo>
                <a:lnTo>
                  <a:pt x="864" y="282"/>
                </a:lnTo>
                <a:lnTo>
                  <a:pt x="870" y="282"/>
                </a:lnTo>
                <a:lnTo>
                  <a:pt x="876" y="282"/>
                </a:lnTo>
                <a:lnTo>
                  <a:pt x="882" y="282"/>
                </a:lnTo>
                <a:lnTo>
                  <a:pt x="888" y="282"/>
                </a:lnTo>
                <a:lnTo>
                  <a:pt x="894" y="282"/>
                </a:lnTo>
                <a:lnTo>
                  <a:pt x="900" y="282"/>
                </a:lnTo>
                <a:lnTo>
                  <a:pt x="906" y="282"/>
                </a:lnTo>
                <a:lnTo>
                  <a:pt x="912" y="282"/>
                </a:lnTo>
                <a:lnTo>
                  <a:pt x="918" y="282"/>
                </a:lnTo>
                <a:lnTo>
                  <a:pt x="924" y="282"/>
                </a:lnTo>
                <a:lnTo>
                  <a:pt x="930" y="282"/>
                </a:lnTo>
                <a:lnTo>
                  <a:pt x="936" y="282"/>
                </a:lnTo>
                <a:lnTo>
                  <a:pt x="942" y="282"/>
                </a:lnTo>
                <a:lnTo>
                  <a:pt x="948" y="282"/>
                </a:lnTo>
                <a:lnTo>
                  <a:pt x="954" y="282"/>
                </a:lnTo>
                <a:lnTo>
                  <a:pt x="960" y="282"/>
                </a:lnTo>
                <a:lnTo>
                  <a:pt x="966" y="282"/>
                </a:lnTo>
                <a:lnTo>
                  <a:pt x="972" y="282"/>
                </a:lnTo>
                <a:lnTo>
                  <a:pt x="978" y="282"/>
                </a:lnTo>
                <a:lnTo>
                  <a:pt x="984" y="282"/>
                </a:lnTo>
                <a:lnTo>
                  <a:pt x="990" y="282"/>
                </a:lnTo>
                <a:lnTo>
                  <a:pt x="996" y="282"/>
                </a:lnTo>
                <a:lnTo>
                  <a:pt x="1002" y="282"/>
                </a:lnTo>
                <a:lnTo>
                  <a:pt x="1008" y="282"/>
                </a:lnTo>
                <a:lnTo>
                  <a:pt x="1014" y="282"/>
                </a:lnTo>
                <a:lnTo>
                  <a:pt x="1020" y="282"/>
                </a:lnTo>
                <a:lnTo>
                  <a:pt x="1026" y="282"/>
                </a:lnTo>
                <a:lnTo>
                  <a:pt x="1032" y="282"/>
                </a:lnTo>
                <a:lnTo>
                  <a:pt x="1038" y="282"/>
                </a:lnTo>
                <a:lnTo>
                  <a:pt x="1044" y="282"/>
                </a:lnTo>
                <a:lnTo>
                  <a:pt x="1050" y="282"/>
                </a:lnTo>
                <a:lnTo>
                  <a:pt x="1056" y="282"/>
                </a:lnTo>
                <a:lnTo>
                  <a:pt x="1062" y="282"/>
                </a:lnTo>
                <a:lnTo>
                  <a:pt x="1068" y="282"/>
                </a:lnTo>
                <a:lnTo>
                  <a:pt x="1074" y="282"/>
                </a:lnTo>
                <a:lnTo>
                  <a:pt x="1080" y="282"/>
                </a:lnTo>
                <a:lnTo>
                  <a:pt x="1086" y="282"/>
                </a:lnTo>
                <a:lnTo>
                  <a:pt x="1092" y="282"/>
                </a:lnTo>
                <a:lnTo>
                  <a:pt x="1098" y="282"/>
                </a:lnTo>
                <a:lnTo>
                  <a:pt x="1104" y="282"/>
                </a:lnTo>
                <a:lnTo>
                  <a:pt x="1110" y="282"/>
                </a:lnTo>
                <a:lnTo>
                  <a:pt x="1116" y="282"/>
                </a:lnTo>
                <a:lnTo>
                  <a:pt x="1122" y="282"/>
                </a:lnTo>
                <a:lnTo>
                  <a:pt x="1128" y="282"/>
                </a:lnTo>
                <a:lnTo>
                  <a:pt x="1134" y="282"/>
                </a:lnTo>
                <a:lnTo>
                  <a:pt x="1140" y="282"/>
                </a:lnTo>
                <a:lnTo>
                  <a:pt x="1146" y="282"/>
                </a:lnTo>
                <a:lnTo>
                  <a:pt x="1152" y="282"/>
                </a:lnTo>
                <a:lnTo>
                  <a:pt x="1158" y="282"/>
                </a:lnTo>
                <a:lnTo>
                  <a:pt x="1164" y="282"/>
                </a:lnTo>
                <a:lnTo>
                  <a:pt x="1170" y="282"/>
                </a:lnTo>
                <a:lnTo>
                  <a:pt x="1176" y="282"/>
                </a:lnTo>
                <a:lnTo>
                  <a:pt x="1182" y="282"/>
                </a:lnTo>
                <a:lnTo>
                  <a:pt x="1188" y="282"/>
                </a:lnTo>
                <a:lnTo>
                  <a:pt x="1194" y="282"/>
                </a:lnTo>
                <a:lnTo>
                  <a:pt x="1200" y="282"/>
                </a:lnTo>
                <a:lnTo>
                  <a:pt x="1206" y="282"/>
                </a:lnTo>
                <a:lnTo>
                  <a:pt x="1212" y="282"/>
                </a:lnTo>
                <a:lnTo>
                  <a:pt x="1218" y="282"/>
                </a:lnTo>
                <a:lnTo>
                  <a:pt x="1224" y="282"/>
                </a:lnTo>
                <a:lnTo>
                  <a:pt x="1230" y="282"/>
                </a:lnTo>
                <a:lnTo>
                  <a:pt x="1236" y="282"/>
                </a:lnTo>
                <a:lnTo>
                  <a:pt x="1242" y="282"/>
                </a:lnTo>
                <a:lnTo>
                  <a:pt x="1248" y="282"/>
                </a:lnTo>
                <a:lnTo>
                  <a:pt x="1254" y="282"/>
                </a:lnTo>
                <a:lnTo>
                  <a:pt x="1260" y="282"/>
                </a:lnTo>
                <a:lnTo>
                  <a:pt x="1266" y="282"/>
                </a:lnTo>
                <a:lnTo>
                  <a:pt x="1272" y="282"/>
                </a:lnTo>
                <a:lnTo>
                  <a:pt x="1278" y="282"/>
                </a:lnTo>
                <a:lnTo>
                  <a:pt x="1284" y="282"/>
                </a:lnTo>
                <a:lnTo>
                  <a:pt x="1290" y="282"/>
                </a:lnTo>
                <a:lnTo>
                  <a:pt x="1296" y="282"/>
                </a:lnTo>
                <a:lnTo>
                  <a:pt x="1296" y="306"/>
                </a:lnTo>
              </a:path>
            </a:pathLst>
          </a:custGeom>
          <a:solidFill>
            <a:srgbClr val="00cc99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981680" y="219240"/>
            <a:ext cx="3762360" cy="266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Singl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7072200" y="2130480"/>
            <a:ext cx="1247760" cy="1454040"/>
          </a:xfrm>
          <a:custGeom>
            <a:avLst/>
            <a:gdLst/>
            <a:ahLst/>
            <a:rect l="l" t="t" r="r" b="b"/>
            <a:pathLst>
              <a:path w="404" h="575">
                <a:moveTo>
                  <a:pt x="404" y="573"/>
                </a:moveTo>
                <a:cubicBezTo>
                  <a:pt x="309" y="574"/>
                  <a:pt x="214" y="575"/>
                  <a:pt x="147" y="480"/>
                </a:cubicBezTo>
                <a:cubicBezTo>
                  <a:pt x="80" y="385"/>
                  <a:pt x="40" y="192"/>
                  <a:pt x="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862600" y="2139840"/>
            <a:ext cx="1247760" cy="1454400"/>
          </a:xfrm>
          <a:custGeom>
            <a:avLst/>
            <a:gdLst/>
            <a:ahLst/>
            <a:rect l="l" t="t" r="r" b="b"/>
            <a:pathLst>
              <a:path w="404" h="575">
                <a:moveTo>
                  <a:pt x="404" y="573"/>
                </a:moveTo>
                <a:cubicBezTo>
                  <a:pt x="309" y="574"/>
                  <a:pt x="214" y="575"/>
                  <a:pt x="147" y="480"/>
                </a:cubicBezTo>
                <a:cubicBezTo>
                  <a:pt x="80" y="385"/>
                  <a:pt x="40" y="192"/>
                  <a:pt x="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53120" y="4205160"/>
            <a:ext cx="3587760" cy="1960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too long observed growing time (factor 4) is in favor or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ing the strength of the BB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/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tained from mode mer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mpensated by  a  contribution from the R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2E36-5DA1-4F90-9670-81EE797222E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0BBE6-7622-45EE-8A35-BD2F2418D171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"/>
          <p:cNvGrpSpPr/>
          <p:nvPr/>
        </p:nvGrpSpPr>
        <p:grpSpPr>
          <a:xfrm>
            <a:off x="3701880" y="1836720"/>
            <a:ext cx="4908600" cy="3733560"/>
            <a:chOff x="3701880" y="1836720"/>
            <a:chExt cx="4908600" cy="3733560"/>
          </a:xfrm>
        </p:grpSpPr>
        <p:pic>
          <p:nvPicPr>
            <p:cNvPr id="676" name="figda1" descr=""/>
            <p:cNvPicPr/>
            <p:nvPr/>
          </p:nvPicPr>
          <p:blipFill>
            <a:blip r:embed="rId2"/>
            <a:stretch/>
          </p:blipFill>
          <p:spPr>
            <a:xfrm>
              <a:off x="3701880" y="1836720"/>
              <a:ext cx="3335400" cy="19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5315040" y="4989600"/>
              <a:ext cx="3200400" cy="580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pite our efforts, no valid data could be obta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24400" y="2494080"/>
              <a:ext cx="3286080" cy="181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ny difficulties in practice due to 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@ Chromatic mod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@ Amplitude dependent tune spr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74556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5524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55844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97280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31800" y="4343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0620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21120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1908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2876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3196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598840" y="221940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17680" y="170352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2360" y="766800"/>
            <a:ext cx="41259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71680" y="1484280"/>
            <a:ext cx="412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981000" y="1446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902880" y="1522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180972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731600" y="1522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639880" y="1446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638080" y="1522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345924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417480" y="1522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28796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246200" y="1522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22360" y="145260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22360" y="145260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590920" y="112860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  <a:lnTo>
                  <a:pt x="1296" y="20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590920" y="112860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</a:path>
            </a:pathLst>
          </a:custGeom>
          <a:solidFill>
            <a:srgbClr val="00cc99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387160" y="515880"/>
            <a:ext cx="274320" cy="1865520"/>
            <a:chOff x="2387160" y="515880"/>
            <a:chExt cx="274320" cy="1865520"/>
          </a:xfrm>
        </p:grpSpPr>
        <p:sp>
          <p:nvSpPr>
            <p:cNvPr id="708" name=""/>
            <p:cNvSpPr/>
            <p:nvPr/>
          </p:nvSpPr>
          <p:spPr>
            <a:xfrm>
              <a:off x="2552760" y="96336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406240" y="860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552760" y="6537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06240" y="550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2570400" y="234756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2592720" y="149868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590560" y="16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570400" y="2169720"/>
              <a:ext cx="381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87160" y="2063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570400" y="185400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387160" y="17496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570400" y="15516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492280" y="144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570400" y="123552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423880" y="1130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570400" y="919440"/>
              <a:ext cx="381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594160" y="515880"/>
              <a:ext cx="0" cy="186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 flipH="1">
            <a:off x="1809720" y="293760"/>
            <a:ext cx="1440" cy="47624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87520" y="3225960"/>
            <a:ext cx="4060800" cy="11174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577440" y="4334040"/>
            <a:ext cx="406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660240" y="3225960"/>
            <a:ext cx="3980160" cy="1117440"/>
          </a:xfrm>
          <a:custGeom>
            <a:avLst/>
            <a:gdLst/>
            <a:ahLst/>
            <a:rect l="l" t="t" r="r" b="b"/>
            <a:pathLst>
              <a:path w="3547" h="1212">
                <a:moveTo>
                  <a:pt x="0" y="1212"/>
                </a:moveTo>
                <a:lnTo>
                  <a:pt x="0" y="1212"/>
                </a:lnTo>
                <a:lnTo>
                  <a:pt x="6" y="1212"/>
                </a:lnTo>
                <a:lnTo>
                  <a:pt x="12" y="1212"/>
                </a:lnTo>
                <a:lnTo>
                  <a:pt x="18" y="1212"/>
                </a:lnTo>
                <a:lnTo>
                  <a:pt x="24" y="1212"/>
                </a:lnTo>
                <a:lnTo>
                  <a:pt x="30" y="1212"/>
                </a:lnTo>
                <a:lnTo>
                  <a:pt x="36" y="1212"/>
                </a:lnTo>
                <a:lnTo>
                  <a:pt x="42" y="1212"/>
                </a:lnTo>
                <a:lnTo>
                  <a:pt x="48" y="1212"/>
                </a:lnTo>
                <a:lnTo>
                  <a:pt x="54" y="1212"/>
                </a:lnTo>
                <a:lnTo>
                  <a:pt x="60" y="1212"/>
                </a:lnTo>
                <a:lnTo>
                  <a:pt x="66" y="1212"/>
                </a:lnTo>
                <a:lnTo>
                  <a:pt x="72" y="1212"/>
                </a:lnTo>
                <a:lnTo>
                  <a:pt x="78" y="1212"/>
                </a:lnTo>
                <a:lnTo>
                  <a:pt x="84" y="1212"/>
                </a:lnTo>
                <a:lnTo>
                  <a:pt x="90" y="1212"/>
                </a:lnTo>
                <a:lnTo>
                  <a:pt x="96" y="1212"/>
                </a:lnTo>
                <a:lnTo>
                  <a:pt x="102" y="1212"/>
                </a:lnTo>
                <a:lnTo>
                  <a:pt x="108" y="1212"/>
                </a:lnTo>
                <a:lnTo>
                  <a:pt x="114" y="1212"/>
                </a:lnTo>
                <a:lnTo>
                  <a:pt x="120" y="1212"/>
                </a:lnTo>
                <a:lnTo>
                  <a:pt x="126" y="1212"/>
                </a:lnTo>
                <a:lnTo>
                  <a:pt x="132" y="1212"/>
                </a:lnTo>
                <a:lnTo>
                  <a:pt x="138" y="1212"/>
                </a:lnTo>
                <a:lnTo>
                  <a:pt x="144" y="1212"/>
                </a:lnTo>
                <a:lnTo>
                  <a:pt x="150" y="1212"/>
                </a:lnTo>
                <a:lnTo>
                  <a:pt x="156" y="1212"/>
                </a:lnTo>
                <a:lnTo>
                  <a:pt x="162" y="1212"/>
                </a:lnTo>
                <a:lnTo>
                  <a:pt x="168" y="1212"/>
                </a:lnTo>
                <a:lnTo>
                  <a:pt x="174" y="1212"/>
                </a:lnTo>
                <a:lnTo>
                  <a:pt x="180" y="1212"/>
                </a:lnTo>
                <a:lnTo>
                  <a:pt x="186" y="1212"/>
                </a:lnTo>
                <a:lnTo>
                  <a:pt x="192" y="1212"/>
                </a:lnTo>
                <a:lnTo>
                  <a:pt x="198" y="1212"/>
                </a:lnTo>
                <a:lnTo>
                  <a:pt x="204" y="1212"/>
                </a:lnTo>
                <a:lnTo>
                  <a:pt x="210" y="1212"/>
                </a:lnTo>
                <a:lnTo>
                  <a:pt x="216" y="1212"/>
                </a:lnTo>
                <a:lnTo>
                  <a:pt x="222" y="1212"/>
                </a:lnTo>
                <a:lnTo>
                  <a:pt x="228" y="1212"/>
                </a:lnTo>
                <a:lnTo>
                  <a:pt x="234" y="1212"/>
                </a:lnTo>
                <a:lnTo>
                  <a:pt x="240" y="1212"/>
                </a:lnTo>
                <a:lnTo>
                  <a:pt x="246" y="1212"/>
                </a:lnTo>
                <a:lnTo>
                  <a:pt x="252" y="1212"/>
                </a:lnTo>
                <a:lnTo>
                  <a:pt x="258" y="1212"/>
                </a:lnTo>
                <a:lnTo>
                  <a:pt x="264" y="1212"/>
                </a:lnTo>
                <a:lnTo>
                  <a:pt x="270" y="1212"/>
                </a:lnTo>
                <a:lnTo>
                  <a:pt x="276" y="1212"/>
                </a:lnTo>
                <a:lnTo>
                  <a:pt x="282" y="1212"/>
                </a:lnTo>
                <a:lnTo>
                  <a:pt x="288" y="1212"/>
                </a:lnTo>
                <a:lnTo>
                  <a:pt x="294" y="1212"/>
                </a:lnTo>
                <a:lnTo>
                  <a:pt x="300" y="1212"/>
                </a:lnTo>
                <a:lnTo>
                  <a:pt x="306" y="1212"/>
                </a:lnTo>
                <a:lnTo>
                  <a:pt x="312" y="1212"/>
                </a:lnTo>
                <a:lnTo>
                  <a:pt x="318" y="1212"/>
                </a:lnTo>
                <a:lnTo>
                  <a:pt x="324" y="1212"/>
                </a:lnTo>
                <a:lnTo>
                  <a:pt x="330" y="1212"/>
                </a:lnTo>
                <a:lnTo>
                  <a:pt x="336" y="1212"/>
                </a:lnTo>
                <a:lnTo>
                  <a:pt x="342" y="1212"/>
                </a:lnTo>
                <a:lnTo>
                  <a:pt x="348" y="1212"/>
                </a:lnTo>
                <a:lnTo>
                  <a:pt x="354" y="1212"/>
                </a:lnTo>
                <a:lnTo>
                  <a:pt x="360" y="1212"/>
                </a:lnTo>
                <a:lnTo>
                  <a:pt x="366" y="1212"/>
                </a:lnTo>
                <a:lnTo>
                  <a:pt x="372" y="1212"/>
                </a:lnTo>
                <a:lnTo>
                  <a:pt x="378" y="1212"/>
                </a:lnTo>
                <a:lnTo>
                  <a:pt x="384" y="1212"/>
                </a:lnTo>
                <a:lnTo>
                  <a:pt x="390" y="1212"/>
                </a:lnTo>
                <a:lnTo>
                  <a:pt x="396" y="1212"/>
                </a:lnTo>
                <a:lnTo>
                  <a:pt x="402" y="1212"/>
                </a:lnTo>
                <a:lnTo>
                  <a:pt x="408" y="1212"/>
                </a:lnTo>
                <a:lnTo>
                  <a:pt x="414" y="1212"/>
                </a:lnTo>
                <a:lnTo>
                  <a:pt x="420" y="1212"/>
                </a:lnTo>
                <a:lnTo>
                  <a:pt x="426" y="1212"/>
                </a:lnTo>
                <a:lnTo>
                  <a:pt x="432" y="1212"/>
                </a:lnTo>
                <a:lnTo>
                  <a:pt x="438" y="1212"/>
                </a:lnTo>
                <a:lnTo>
                  <a:pt x="444" y="1212"/>
                </a:lnTo>
                <a:lnTo>
                  <a:pt x="450" y="1212"/>
                </a:lnTo>
                <a:lnTo>
                  <a:pt x="456" y="1212"/>
                </a:lnTo>
                <a:lnTo>
                  <a:pt x="462" y="1212"/>
                </a:lnTo>
                <a:lnTo>
                  <a:pt x="468" y="1212"/>
                </a:lnTo>
                <a:lnTo>
                  <a:pt x="474" y="1212"/>
                </a:lnTo>
                <a:lnTo>
                  <a:pt x="480" y="1212"/>
                </a:lnTo>
                <a:lnTo>
                  <a:pt x="486" y="1212"/>
                </a:lnTo>
                <a:lnTo>
                  <a:pt x="492" y="1212"/>
                </a:lnTo>
                <a:lnTo>
                  <a:pt x="498" y="1212"/>
                </a:lnTo>
                <a:lnTo>
                  <a:pt x="504" y="1212"/>
                </a:lnTo>
                <a:lnTo>
                  <a:pt x="510" y="1212"/>
                </a:lnTo>
                <a:lnTo>
                  <a:pt x="516" y="1212"/>
                </a:lnTo>
                <a:lnTo>
                  <a:pt x="522" y="1212"/>
                </a:lnTo>
                <a:lnTo>
                  <a:pt x="528" y="1212"/>
                </a:lnTo>
                <a:lnTo>
                  <a:pt x="534" y="1212"/>
                </a:lnTo>
                <a:lnTo>
                  <a:pt x="540" y="1212"/>
                </a:lnTo>
                <a:lnTo>
                  <a:pt x="546" y="1212"/>
                </a:lnTo>
                <a:lnTo>
                  <a:pt x="552" y="1212"/>
                </a:lnTo>
                <a:lnTo>
                  <a:pt x="558" y="1212"/>
                </a:lnTo>
                <a:lnTo>
                  <a:pt x="564" y="1212"/>
                </a:lnTo>
                <a:lnTo>
                  <a:pt x="570" y="1212"/>
                </a:lnTo>
                <a:lnTo>
                  <a:pt x="576" y="1212"/>
                </a:lnTo>
                <a:lnTo>
                  <a:pt x="582" y="1212"/>
                </a:lnTo>
                <a:lnTo>
                  <a:pt x="588" y="1212"/>
                </a:lnTo>
                <a:lnTo>
                  <a:pt x="594" y="1206"/>
                </a:lnTo>
                <a:lnTo>
                  <a:pt x="600" y="1206"/>
                </a:lnTo>
                <a:lnTo>
                  <a:pt x="606" y="1206"/>
                </a:lnTo>
                <a:lnTo>
                  <a:pt x="612" y="1206"/>
                </a:lnTo>
                <a:lnTo>
                  <a:pt x="618" y="1206"/>
                </a:lnTo>
                <a:lnTo>
                  <a:pt x="624" y="1206"/>
                </a:lnTo>
                <a:lnTo>
                  <a:pt x="630" y="1206"/>
                </a:lnTo>
                <a:lnTo>
                  <a:pt x="636" y="1206"/>
                </a:lnTo>
                <a:lnTo>
                  <a:pt x="642" y="1206"/>
                </a:lnTo>
                <a:lnTo>
                  <a:pt x="648" y="1206"/>
                </a:lnTo>
                <a:lnTo>
                  <a:pt x="654" y="1206"/>
                </a:lnTo>
                <a:lnTo>
                  <a:pt x="660" y="1206"/>
                </a:lnTo>
                <a:lnTo>
                  <a:pt x="666" y="1200"/>
                </a:lnTo>
                <a:lnTo>
                  <a:pt x="672" y="1200"/>
                </a:lnTo>
                <a:lnTo>
                  <a:pt x="678" y="1200"/>
                </a:lnTo>
                <a:lnTo>
                  <a:pt x="684" y="1200"/>
                </a:lnTo>
                <a:lnTo>
                  <a:pt x="690" y="1200"/>
                </a:lnTo>
                <a:lnTo>
                  <a:pt x="696" y="1194"/>
                </a:lnTo>
                <a:lnTo>
                  <a:pt x="702" y="1194"/>
                </a:lnTo>
                <a:lnTo>
                  <a:pt x="708" y="1194"/>
                </a:lnTo>
                <a:lnTo>
                  <a:pt x="714" y="1194"/>
                </a:lnTo>
                <a:lnTo>
                  <a:pt x="720" y="1188"/>
                </a:lnTo>
                <a:lnTo>
                  <a:pt x="726" y="1188"/>
                </a:lnTo>
                <a:lnTo>
                  <a:pt x="732" y="1188"/>
                </a:lnTo>
                <a:lnTo>
                  <a:pt x="738" y="1182"/>
                </a:lnTo>
                <a:lnTo>
                  <a:pt x="744" y="1182"/>
                </a:lnTo>
                <a:lnTo>
                  <a:pt x="750" y="1176"/>
                </a:lnTo>
                <a:lnTo>
                  <a:pt x="756" y="1176"/>
                </a:lnTo>
                <a:lnTo>
                  <a:pt x="762" y="1176"/>
                </a:lnTo>
                <a:lnTo>
                  <a:pt x="768" y="1170"/>
                </a:lnTo>
                <a:lnTo>
                  <a:pt x="774" y="1164"/>
                </a:lnTo>
                <a:lnTo>
                  <a:pt x="780" y="1164"/>
                </a:lnTo>
                <a:lnTo>
                  <a:pt x="786" y="1158"/>
                </a:lnTo>
                <a:lnTo>
                  <a:pt x="792" y="1152"/>
                </a:lnTo>
                <a:lnTo>
                  <a:pt x="798" y="1152"/>
                </a:lnTo>
                <a:lnTo>
                  <a:pt x="804" y="1146"/>
                </a:lnTo>
                <a:lnTo>
                  <a:pt x="810" y="1140"/>
                </a:lnTo>
                <a:lnTo>
                  <a:pt x="816" y="1134"/>
                </a:lnTo>
                <a:lnTo>
                  <a:pt x="822" y="1128"/>
                </a:lnTo>
                <a:lnTo>
                  <a:pt x="828" y="1122"/>
                </a:lnTo>
                <a:lnTo>
                  <a:pt x="834" y="1116"/>
                </a:lnTo>
                <a:lnTo>
                  <a:pt x="840" y="1110"/>
                </a:lnTo>
                <a:lnTo>
                  <a:pt x="846" y="1104"/>
                </a:lnTo>
                <a:lnTo>
                  <a:pt x="852" y="1098"/>
                </a:lnTo>
                <a:lnTo>
                  <a:pt x="858" y="1092"/>
                </a:lnTo>
                <a:lnTo>
                  <a:pt x="864" y="1086"/>
                </a:lnTo>
                <a:lnTo>
                  <a:pt x="864" y="1080"/>
                </a:lnTo>
                <a:lnTo>
                  <a:pt x="870" y="1074"/>
                </a:lnTo>
                <a:lnTo>
                  <a:pt x="876" y="1068"/>
                </a:lnTo>
                <a:lnTo>
                  <a:pt x="882" y="1062"/>
                </a:lnTo>
                <a:lnTo>
                  <a:pt x="882" y="1056"/>
                </a:lnTo>
                <a:lnTo>
                  <a:pt x="888" y="1050"/>
                </a:lnTo>
                <a:lnTo>
                  <a:pt x="888" y="1044"/>
                </a:lnTo>
                <a:lnTo>
                  <a:pt x="894" y="1038"/>
                </a:lnTo>
                <a:lnTo>
                  <a:pt x="900" y="1032"/>
                </a:lnTo>
                <a:lnTo>
                  <a:pt x="900" y="1026"/>
                </a:lnTo>
                <a:lnTo>
                  <a:pt x="906" y="1020"/>
                </a:lnTo>
                <a:lnTo>
                  <a:pt x="906" y="1008"/>
                </a:lnTo>
                <a:lnTo>
                  <a:pt x="912" y="1002"/>
                </a:lnTo>
                <a:lnTo>
                  <a:pt x="912" y="996"/>
                </a:lnTo>
                <a:lnTo>
                  <a:pt x="918" y="990"/>
                </a:lnTo>
                <a:lnTo>
                  <a:pt x="924" y="984"/>
                </a:lnTo>
                <a:lnTo>
                  <a:pt x="924" y="972"/>
                </a:lnTo>
                <a:lnTo>
                  <a:pt x="930" y="966"/>
                </a:lnTo>
                <a:lnTo>
                  <a:pt x="930" y="960"/>
                </a:lnTo>
                <a:lnTo>
                  <a:pt x="936" y="954"/>
                </a:lnTo>
                <a:lnTo>
                  <a:pt x="942" y="942"/>
                </a:lnTo>
                <a:lnTo>
                  <a:pt x="942" y="936"/>
                </a:lnTo>
                <a:lnTo>
                  <a:pt x="948" y="924"/>
                </a:lnTo>
                <a:lnTo>
                  <a:pt x="948" y="918"/>
                </a:lnTo>
                <a:lnTo>
                  <a:pt x="954" y="906"/>
                </a:lnTo>
                <a:lnTo>
                  <a:pt x="960" y="900"/>
                </a:lnTo>
                <a:lnTo>
                  <a:pt x="960" y="888"/>
                </a:lnTo>
                <a:lnTo>
                  <a:pt x="966" y="882"/>
                </a:lnTo>
                <a:lnTo>
                  <a:pt x="966" y="870"/>
                </a:lnTo>
                <a:lnTo>
                  <a:pt x="972" y="864"/>
                </a:lnTo>
                <a:lnTo>
                  <a:pt x="978" y="852"/>
                </a:lnTo>
                <a:lnTo>
                  <a:pt x="978" y="840"/>
                </a:lnTo>
                <a:lnTo>
                  <a:pt x="984" y="834"/>
                </a:lnTo>
                <a:lnTo>
                  <a:pt x="984" y="822"/>
                </a:lnTo>
                <a:lnTo>
                  <a:pt x="990" y="810"/>
                </a:lnTo>
                <a:lnTo>
                  <a:pt x="990" y="798"/>
                </a:lnTo>
                <a:lnTo>
                  <a:pt x="996" y="786"/>
                </a:lnTo>
                <a:lnTo>
                  <a:pt x="1002" y="780"/>
                </a:lnTo>
                <a:lnTo>
                  <a:pt x="1002" y="768"/>
                </a:lnTo>
                <a:lnTo>
                  <a:pt x="1008" y="756"/>
                </a:lnTo>
                <a:lnTo>
                  <a:pt x="1008" y="744"/>
                </a:lnTo>
                <a:lnTo>
                  <a:pt x="1014" y="732"/>
                </a:lnTo>
                <a:lnTo>
                  <a:pt x="1020" y="720"/>
                </a:lnTo>
                <a:lnTo>
                  <a:pt x="1020" y="708"/>
                </a:lnTo>
                <a:lnTo>
                  <a:pt x="1026" y="696"/>
                </a:lnTo>
                <a:lnTo>
                  <a:pt x="1026" y="684"/>
                </a:lnTo>
                <a:lnTo>
                  <a:pt x="1032" y="672"/>
                </a:lnTo>
                <a:lnTo>
                  <a:pt x="1038" y="660"/>
                </a:lnTo>
                <a:lnTo>
                  <a:pt x="1038" y="648"/>
                </a:lnTo>
                <a:lnTo>
                  <a:pt x="1044" y="636"/>
                </a:lnTo>
                <a:lnTo>
                  <a:pt x="1044" y="624"/>
                </a:lnTo>
                <a:lnTo>
                  <a:pt x="1050" y="612"/>
                </a:lnTo>
                <a:lnTo>
                  <a:pt x="1056" y="600"/>
                </a:lnTo>
                <a:lnTo>
                  <a:pt x="1056" y="588"/>
                </a:lnTo>
                <a:lnTo>
                  <a:pt x="1062" y="570"/>
                </a:lnTo>
                <a:lnTo>
                  <a:pt x="1062" y="558"/>
                </a:lnTo>
                <a:lnTo>
                  <a:pt x="1068" y="546"/>
                </a:lnTo>
                <a:lnTo>
                  <a:pt x="1068" y="534"/>
                </a:lnTo>
                <a:lnTo>
                  <a:pt x="1074" y="522"/>
                </a:lnTo>
                <a:lnTo>
                  <a:pt x="1080" y="510"/>
                </a:lnTo>
                <a:lnTo>
                  <a:pt x="1080" y="498"/>
                </a:lnTo>
                <a:lnTo>
                  <a:pt x="1086" y="480"/>
                </a:lnTo>
                <a:lnTo>
                  <a:pt x="1086" y="468"/>
                </a:lnTo>
                <a:lnTo>
                  <a:pt x="1092" y="456"/>
                </a:lnTo>
                <a:lnTo>
                  <a:pt x="1098" y="444"/>
                </a:lnTo>
                <a:lnTo>
                  <a:pt x="1098" y="432"/>
                </a:lnTo>
                <a:lnTo>
                  <a:pt x="1104" y="414"/>
                </a:lnTo>
                <a:lnTo>
                  <a:pt x="1104" y="402"/>
                </a:lnTo>
                <a:lnTo>
                  <a:pt x="1110" y="390"/>
                </a:lnTo>
                <a:lnTo>
                  <a:pt x="1116" y="378"/>
                </a:lnTo>
                <a:lnTo>
                  <a:pt x="1116" y="366"/>
                </a:lnTo>
                <a:lnTo>
                  <a:pt x="1122" y="354"/>
                </a:lnTo>
                <a:lnTo>
                  <a:pt x="1122" y="342"/>
                </a:lnTo>
                <a:lnTo>
                  <a:pt x="1128" y="330"/>
                </a:lnTo>
                <a:lnTo>
                  <a:pt x="1134" y="318"/>
                </a:lnTo>
                <a:lnTo>
                  <a:pt x="1134" y="300"/>
                </a:lnTo>
                <a:lnTo>
                  <a:pt x="1140" y="288"/>
                </a:lnTo>
                <a:lnTo>
                  <a:pt x="1140" y="276"/>
                </a:lnTo>
                <a:lnTo>
                  <a:pt x="1146" y="264"/>
                </a:lnTo>
                <a:lnTo>
                  <a:pt x="1146" y="252"/>
                </a:lnTo>
                <a:lnTo>
                  <a:pt x="1152" y="246"/>
                </a:lnTo>
                <a:lnTo>
                  <a:pt x="1158" y="234"/>
                </a:lnTo>
                <a:lnTo>
                  <a:pt x="1158" y="222"/>
                </a:lnTo>
                <a:lnTo>
                  <a:pt x="1164" y="210"/>
                </a:lnTo>
                <a:lnTo>
                  <a:pt x="1164" y="198"/>
                </a:lnTo>
                <a:lnTo>
                  <a:pt x="1170" y="186"/>
                </a:lnTo>
                <a:lnTo>
                  <a:pt x="1176" y="180"/>
                </a:lnTo>
                <a:lnTo>
                  <a:pt x="1176" y="168"/>
                </a:lnTo>
                <a:lnTo>
                  <a:pt x="1182" y="156"/>
                </a:lnTo>
                <a:lnTo>
                  <a:pt x="1182" y="150"/>
                </a:lnTo>
                <a:lnTo>
                  <a:pt x="1188" y="138"/>
                </a:lnTo>
                <a:lnTo>
                  <a:pt x="1194" y="126"/>
                </a:lnTo>
                <a:lnTo>
                  <a:pt x="1194" y="120"/>
                </a:lnTo>
                <a:lnTo>
                  <a:pt x="1200" y="114"/>
                </a:lnTo>
                <a:lnTo>
                  <a:pt x="1200" y="102"/>
                </a:lnTo>
                <a:lnTo>
                  <a:pt x="1206" y="96"/>
                </a:lnTo>
                <a:lnTo>
                  <a:pt x="1212" y="84"/>
                </a:lnTo>
                <a:lnTo>
                  <a:pt x="1212" y="78"/>
                </a:lnTo>
                <a:lnTo>
                  <a:pt x="1218" y="72"/>
                </a:lnTo>
                <a:lnTo>
                  <a:pt x="1218" y="66"/>
                </a:lnTo>
                <a:lnTo>
                  <a:pt x="1224" y="60"/>
                </a:lnTo>
                <a:lnTo>
                  <a:pt x="1224" y="54"/>
                </a:lnTo>
                <a:lnTo>
                  <a:pt x="1230" y="48"/>
                </a:lnTo>
                <a:lnTo>
                  <a:pt x="1236" y="42"/>
                </a:lnTo>
                <a:lnTo>
                  <a:pt x="1236" y="36"/>
                </a:lnTo>
                <a:lnTo>
                  <a:pt x="1242" y="30"/>
                </a:lnTo>
                <a:lnTo>
                  <a:pt x="1248" y="24"/>
                </a:lnTo>
                <a:lnTo>
                  <a:pt x="1254" y="18"/>
                </a:lnTo>
                <a:lnTo>
                  <a:pt x="1260" y="12"/>
                </a:lnTo>
                <a:lnTo>
                  <a:pt x="1266" y="6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6"/>
                </a:lnTo>
                <a:lnTo>
                  <a:pt x="1308" y="6"/>
                </a:lnTo>
                <a:lnTo>
                  <a:pt x="1314" y="12"/>
                </a:lnTo>
                <a:lnTo>
                  <a:pt x="1320" y="18"/>
                </a:lnTo>
                <a:lnTo>
                  <a:pt x="1326" y="24"/>
                </a:lnTo>
                <a:lnTo>
                  <a:pt x="1332" y="30"/>
                </a:lnTo>
                <a:lnTo>
                  <a:pt x="1338" y="36"/>
                </a:lnTo>
                <a:lnTo>
                  <a:pt x="1338" y="42"/>
                </a:lnTo>
                <a:lnTo>
                  <a:pt x="1344" y="48"/>
                </a:lnTo>
                <a:lnTo>
                  <a:pt x="1350" y="54"/>
                </a:lnTo>
                <a:lnTo>
                  <a:pt x="1350" y="60"/>
                </a:lnTo>
                <a:lnTo>
                  <a:pt x="1356" y="72"/>
                </a:lnTo>
                <a:lnTo>
                  <a:pt x="1356" y="78"/>
                </a:lnTo>
                <a:lnTo>
                  <a:pt x="1362" y="84"/>
                </a:lnTo>
                <a:lnTo>
                  <a:pt x="1368" y="90"/>
                </a:lnTo>
                <a:lnTo>
                  <a:pt x="1368" y="102"/>
                </a:lnTo>
                <a:lnTo>
                  <a:pt x="1374" y="108"/>
                </a:lnTo>
                <a:lnTo>
                  <a:pt x="1374" y="114"/>
                </a:lnTo>
                <a:lnTo>
                  <a:pt x="1380" y="126"/>
                </a:lnTo>
                <a:lnTo>
                  <a:pt x="1380" y="132"/>
                </a:lnTo>
                <a:lnTo>
                  <a:pt x="1386" y="144"/>
                </a:lnTo>
                <a:lnTo>
                  <a:pt x="1392" y="156"/>
                </a:lnTo>
                <a:lnTo>
                  <a:pt x="1392" y="162"/>
                </a:lnTo>
                <a:lnTo>
                  <a:pt x="1398" y="174"/>
                </a:lnTo>
                <a:lnTo>
                  <a:pt x="1398" y="186"/>
                </a:lnTo>
                <a:lnTo>
                  <a:pt x="1404" y="192"/>
                </a:lnTo>
                <a:lnTo>
                  <a:pt x="1410" y="204"/>
                </a:lnTo>
                <a:lnTo>
                  <a:pt x="1410" y="216"/>
                </a:lnTo>
                <a:lnTo>
                  <a:pt x="1416" y="228"/>
                </a:lnTo>
                <a:lnTo>
                  <a:pt x="1416" y="240"/>
                </a:lnTo>
                <a:lnTo>
                  <a:pt x="1422" y="252"/>
                </a:lnTo>
                <a:lnTo>
                  <a:pt x="1428" y="264"/>
                </a:lnTo>
                <a:lnTo>
                  <a:pt x="1428" y="276"/>
                </a:lnTo>
                <a:lnTo>
                  <a:pt x="1434" y="288"/>
                </a:lnTo>
                <a:lnTo>
                  <a:pt x="1434" y="300"/>
                </a:lnTo>
                <a:lnTo>
                  <a:pt x="1440" y="312"/>
                </a:lnTo>
                <a:lnTo>
                  <a:pt x="1446" y="324"/>
                </a:lnTo>
                <a:lnTo>
                  <a:pt x="1446" y="336"/>
                </a:lnTo>
                <a:lnTo>
                  <a:pt x="1452" y="348"/>
                </a:lnTo>
                <a:lnTo>
                  <a:pt x="1452" y="360"/>
                </a:lnTo>
                <a:lnTo>
                  <a:pt x="1458" y="372"/>
                </a:lnTo>
                <a:lnTo>
                  <a:pt x="1458" y="384"/>
                </a:lnTo>
                <a:lnTo>
                  <a:pt x="1464" y="402"/>
                </a:lnTo>
                <a:lnTo>
                  <a:pt x="1470" y="414"/>
                </a:lnTo>
                <a:lnTo>
                  <a:pt x="1470" y="426"/>
                </a:lnTo>
                <a:lnTo>
                  <a:pt x="1476" y="438"/>
                </a:lnTo>
                <a:lnTo>
                  <a:pt x="1476" y="450"/>
                </a:lnTo>
                <a:lnTo>
                  <a:pt x="1482" y="462"/>
                </a:lnTo>
                <a:lnTo>
                  <a:pt x="1488" y="480"/>
                </a:lnTo>
                <a:lnTo>
                  <a:pt x="1488" y="492"/>
                </a:lnTo>
                <a:lnTo>
                  <a:pt x="1494" y="504"/>
                </a:lnTo>
                <a:lnTo>
                  <a:pt x="1494" y="516"/>
                </a:lnTo>
                <a:lnTo>
                  <a:pt x="1500" y="528"/>
                </a:lnTo>
                <a:lnTo>
                  <a:pt x="1506" y="540"/>
                </a:lnTo>
                <a:lnTo>
                  <a:pt x="1506" y="558"/>
                </a:lnTo>
                <a:lnTo>
                  <a:pt x="1512" y="570"/>
                </a:lnTo>
                <a:lnTo>
                  <a:pt x="1512" y="582"/>
                </a:lnTo>
                <a:lnTo>
                  <a:pt x="1518" y="594"/>
                </a:lnTo>
                <a:lnTo>
                  <a:pt x="1524" y="606"/>
                </a:lnTo>
                <a:lnTo>
                  <a:pt x="1524" y="618"/>
                </a:lnTo>
                <a:lnTo>
                  <a:pt x="1530" y="630"/>
                </a:lnTo>
                <a:lnTo>
                  <a:pt x="1530" y="642"/>
                </a:lnTo>
                <a:lnTo>
                  <a:pt x="1536" y="654"/>
                </a:lnTo>
                <a:lnTo>
                  <a:pt x="1536" y="666"/>
                </a:lnTo>
                <a:lnTo>
                  <a:pt x="1542" y="684"/>
                </a:lnTo>
                <a:lnTo>
                  <a:pt x="1548" y="696"/>
                </a:lnTo>
                <a:lnTo>
                  <a:pt x="1548" y="708"/>
                </a:lnTo>
                <a:lnTo>
                  <a:pt x="1555" y="714"/>
                </a:lnTo>
                <a:lnTo>
                  <a:pt x="1555" y="726"/>
                </a:lnTo>
                <a:lnTo>
                  <a:pt x="1561" y="738"/>
                </a:lnTo>
                <a:lnTo>
                  <a:pt x="1567" y="750"/>
                </a:lnTo>
                <a:lnTo>
                  <a:pt x="1567" y="762"/>
                </a:lnTo>
                <a:lnTo>
                  <a:pt x="1573" y="774"/>
                </a:lnTo>
                <a:lnTo>
                  <a:pt x="1573" y="786"/>
                </a:lnTo>
                <a:lnTo>
                  <a:pt x="1579" y="798"/>
                </a:lnTo>
                <a:lnTo>
                  <a:pt x="1585" y="804"/>
                </a:lnTo>
                <a:lnTo>
                  <a:pt x="1585" y="816"/>
                </a:lnTo>
                <a:lnTo>
                  <a:pt x="1591" y="828"/>
                </a:lnTo>
                <a:lnTo>
                  <a:pt x="1591" y="840"/>
                </a:lnTo>
                <a:lnTo>
                  <a:pt x="1597" y="846"/>
                </a:lnTo>
                <a:lnTo>
                  <a:pt x="1603" y="858"/>
                </a:lnTo>
                <a:lnTo>
                  <a:pt x="1603" y="870"/>
                </a:lnTo>
                <a:lnTo>
                  <a:pt x="1609" y="876"/>
                </a:lnTo>
                <a:lnTo>
                  <a:pt x="1609" y="888"/>
                </a:lnTo>
                <a:lnTo>
                  <a:pt x="1615" y="894"/>
                </a:lnTo>
                <a:lnTo>
                  <a:pt x="1615" y="906"/>
                </a:lnTo>
                <a:lnTo>
                  <a:pt x="1621" y="912"/>
                </a:lnTo>
                <a:lnTo>
                  <a:pt x="1627" y="924"/>
                </a:lnTo>
                <a:lnTo>
                  <a:pt x="1627" y="930"/>
                </a:lnTo>
                <a:lnTo>
                  <a:pt x="1633" y="942"/>
                </a:lnTo>
                <a:lnTo>
                  <a:pt x="1633" y="948"/>
                </a:lnTo>
                <a:lnTo>
                  <a:pt x="1639" y="954"/>
                </a:lnTo>
                <a:lnTo>
                  <a:pt x="1645" y="966"/>
                </a:lnTo>
                <a:lnTo>
                  <a:pt x="1645" y="972"/>
                </a:lnTo>
                <a:lnTo>
                  <a:pt x="1651" y="978"/>
                </a:lnTo>
                <a:lnTo>
                  <a:pt x="1651" y="990"/>
                </a:lnTo>
                <a:lnTo>
                  <a:pt x="1657" y="996"/>
                </a:lnTo>
                <a:lnTo>
                  <a:pt x="1663" y="1002"/>
                </a:lnTo>
                <a:lnTo>
                  <a:pt x="1663" y="1008"/>
                </a:lnTo>
                <a:lnTo>
                  <a:pt x="1669" y="1014"/>
                </a:lnTo>
                <a:lnTo>
                  <a:pt x="1669" y="1020"/>
                </a:lnTo>
                <a:lnTo>
                  <a:pt x="1675" y="1026"/>
                </a:lnTo>
                <a:lnTo>
                  <a:pt x="1681" y="1032"/>
                </a:lnTo>
                <a:lnTo>
                  <a:pt x="1681" y="1038"/>
                </a:lnTo>
                <a:lnTo>
                  <a:pt x="1687" y="1044"/>
                </a:lnTo>
                <a:lnTo>
                  <a:pt x="1687" y="1050"/>
                </a:lnTo>
                <a:lnTo>
                  <a:pt x="1693" y="1056"/>
                </a:lnTo>
                <a:lnTo>
                  <a:pt x="1693" y="1062"/>
                </a:lnTo>
                <a:lnTo>
                  <a:pt x="1699" y="1068"/>
                </a:lnTo>
                <a:lnTo>
                  <a:pt x="1705" y="1074"/>
                </a:lnTo>
                <a:lnTo>
                  <a:pt x="1705" y="1080"/>
                </a:lnTo>
                <a:lnTo>
                  <a:pt x="1711" y="1086"/>
                </a:lnTo>
                <a:lnTo>
                  <a:pt x="1717" y="1092"/>
                </a:lnTo>
                <a:lnTo>
                  <a:pt x="1723" y="1098"/>
                </a:lnTo>
                <a:lnTo>
                  <a:pt x="1729" y="1104"/>
                </a:lnTo>
                <a:lnTo>
                  <a:pt x="1729" y="1110"/>
                </a:lnTo>
                <a:lnTo>
                  <a:pt x="1735" y="1116"/>
                </a:lnTo>
                <a:lnTo>
                  <a:pt x="1741" y="1122"/>
                </a:lnTo>
                <a:lnTo>
                  <a:pt x="1747" y="1128"/>
                </a:lnTo>
                <a:lnTo>
                  <a:pt x="1753" y="1134"/>
                </a:lnTo>
                <a:lnTo>
                  <a:pt x="1759" y="1140"/>
                </a:lnTo>
                <a:lnTo>
                  <a:pt x="1765" y="1146"/>
                </a:lnTo>
                <a:lnTo>
                  <a:pt x="1771" y="1146"/>
                </a:lnTo>
                <a:lnTo>
                  <a:pt x="1777" y="1152"/>
                </a:lnTo>
                <a:lnTo>
                  <a:pt x="1783" y="1158"/>
                </a:lnTo>
                <a:lnTo>
                  <a:pt x="1789" y="1164"/>
                </a:lnTo>
                <a:lnTo>
                  <a:pt x="1795" y="1164"/>
                </a:lnTo>
                <a:lnTo>
                  <a:pt x="1801" y="1170"/>
                </a:lnTo>
                <a:lnTo>
                  <a:pt x="1807" y="1170"/>
                </a:lnTo>
                <a:lnTo>
                  <a:pt x="1813" y="1176"/>
                </a:lnTo>
                <a:lnTo>
                  <a:pt x="1819" y="1176"/>
                </a:lnTo>
                <a:lnTo>
                  <a:pt x="1825" y="1182"/>
                </a:lnTo>
                <a:lnTo>
                  <a:pt x="1831" y="1182"/>
                </a:lnTo>
                <a:lnTo>
                  <a:pt x="1837" y="1188"/>
                </a:lnTo>
                <a:lnTo>
                  <a:pt x="1843" y="1188"/>
                </a:lnTo>
                <a:lnTo>
                  <a:pt x="1849" y="1188"/>
                </a:lnTo>
                <a:lnTo>
                  <a:pt x="1855" y="1188"/>
                </a:lnTo>
                <a:lnTo>
                  <a:pt x="1861" y="1194"/>
                </a:lnTo>
                <a:lnTo>
                  <a:pt x="1867" y="1194"/>
                </a:lnTo>
                <a:lnTo>
                  <a:pt x="1873" y="1194"/>
                </a:lnTo>
                <a:lnTo>
                  <a:pt x="1879" y="1200"/>
                </a:lnTo>
                <a:lnTo>
                  <a:pt x="1885" y="1200"/>
                </a:lnTo>
                <a:lnTo>
                  <a:pt x="1891" y="1200"/>
                </a:lnTo>
                <a:lnTo>
                  <a:pt x="1897" y="1200"/>
                </a:lnTo>
                <a:lnTo>
                  <a:pt x="1903" y="1200"/>
                </a:lnTo>
                <a:lnTo>
                  <a:pt x="1909" y="1200"/>
                </a:lnTo>
                <a:lnTo>
                  <a:pt x="1915" y="1206"/>
                </a:lnTo>
                <a:lnTo>
                  <a:pt x="1921" y="1206"/>
                </a:lnTo>
                <a:lnTo>
                  <a:pt x="1927" y="1206"/>
                </a:lnTo>
                <a:lnTo>
                  <a:pt x="1933" y="1206"/>
                </a:lnTo>
                <a:lnTo>
                  <a:pt x="1939" y="1206"/>
                </a:lnTo>
                <a:lnTo>
                  <a:pt x="1945" y="1206"/>
                </a:lnTo>
                <a:lnTo>
                  <a:pt x="1951" y="1206"/>
                </a:lnTo>
                <a:lnTo>
                  <a:pt x="1957" y="1206"/>
                </a:lnTo>
                <a:lnTo>
                  <a:pt x="1963" y="1206"/>
                </a:lnTo>
                <a:lnTo>
                  <a:pt x="1969" y="1206"/>
                </a:lnTo>
                <a:lnTo>
                  <a:pt x="1975" y="1206"/>
                </a:lnTo>
                <a:lnTo>
                  <a:pt x="1981" y="1212"/>
                </a:lnTo>
                <a:lnTo>
                  <a:pt x="1987" y="1212"/>
                </a:lnTo>
                <a:lnTo>
                  <a:pt x="1993" y="1212"/>
                </a:lnTo>
                <a:lnTo>
                  <a:pt x="1999" y="1212"/>
                </a:lnTo>
                <a:lnTo>
                  <a:pt x="2005" y="1212"/>
                </a:lnTo>
                <a:lnTo>
                  <a:pt x="2011" y="1212"/>
                </a:lnTo>
                <a:lnTo>
                  <a:pt x="2017" y="1212"/>
                </a:lnTo>
                <a:lnTo>
                  <a:pt x="2023" y="1212"/>
                </a:lnTo>
                <a:lnTo>
                  <a:pt x="2029" y="1212"/>
                </a:lnTo>
                <a:lnTo>
                  <a:pt x="2035" y="1212"/>
                </a:lnTo>
                <a:lnTo>
                  <a:pt x="2041" y="1212"/>
                </a:lnTo>
                <a:lnTo>
                  <a:pt x="2047" y="1212"/>
                </a:lnTo>
                <a:lnTo>
                  <a:pt x="2053" y="1212"/>
                </a:lnTo>
                <a:lnTo>
                  <a:pt x="2059" y="1212"/>
                </a:lnTo>
                <a:lnTo>
                  <a:pt x="2065" y="1212"/>
                </a:lnTo>
                <a:lnTo>
                  <a:pt x="2071" y="1212"/>
                </a:lnTo>
                <a:lnTo>
                  <a:pt x="2077" y="1212"/>
                </a:lnTo>
                <a:lnTo>
                  <a:pt x="2083" y="1212"/>
                </a:lnTo>
                <a:lnTo>
                  <a:pt x="2089" y="1212"/>
                </a:lnTo>
                <a:lnTo>
                  <a:pt x="2095" y="1212"/>
                </a:lnTo>
                <a:lnTo>
                  <a:pt x="2101" y="1212"/>
                </a:lnTo>
                <a:lnTo>
                  <a:pt x="2107" y="1212"/>
                </a:lnTo>
                <a:lnTo>
                  <a:pt x="2113" y="1212"/>
                </a:lnTo>
                <a:lnTo>
                  <a:pt x="2119" y="1212"/>
                </a:lnTo>
                <a:lnTo>
                  <a:pt x="2125" y="1212"/>
                </a:lnTo>
                <a:lnTo>
                  <a:pt x="2131" y="1212"/>
                </a:lnTo>
                <a:lnTo>
                  <a:pt x="2137" y="1212"/>
                </a:lnTo>
                <a:lnTo>
                  <a:pt x="2143" y="1212"/>
                </a:lnTo>
                <a:lnTo>
                  <a:pt x="2149" y="1212"/>
                </a:lnTo>
                <a:lnTo>
                  <a:pt x="2155" y="1212"/>
                </a:lnTo>
                <a:lnTo>
                  <a:pt x="2161" y="1212"/>
                </a:lnTo>
                <a:lnTo>
                  <a:pt x="2167" y="1212"/>
                </a:lnTo>
                <a:lnTo>
                  <a:pt x="2173" y="1212"/>
                </a:lnTo>
                <a:lnTo>
                  <a:pt x="2179" y="1212"/>
                </a:lnTo>
                <a:lnTo>
                  <a:pt x="2185" y="1212"/>
                </a:lnTo>
                <a:lnTo>
                  <a:pt x="2191" y="1212"/>
                </a:lnTo>
                <a:lnTo>
                  <a:pt x="2197" y="1212"/>
                </a:lnTo>
                <a:lnTo>
                  <a:pt x="2203" y="1212"/>
                </a:lnTo>
                <a:lnTo>
                  <a:pt x="2209" y="1212"/>
                </a:lnTo>
                <a:lnTo>
                  <a:pt x="2215" y="1212"/>
                </a:lnTo>
                <a:lnTo>
                  <a:pt x="2221" y="1212"/>
                </a:lnTo>
                <a:lnTo>
                  <a:pt x="2227" y="1212"/>
                </a:lnTo>
                <a:lnTo>
                  <a:pt x="2233" y="1212"/>
                </a:lnTo>
                <a:lnTo>
                  <a:pt x="2239" y="1212"/>
                </a:lnTo>
                <a:lnTo>
                  <a:pt x="2245" y="1212"/>
                </a:lnTo>
                <a:lnTo>
                  <a:pt x="2251" y="1212"/>
                </a:lnTo>
                <a:lnTo>
                  <a:pt x="2257" y="1212"/>
                </a:lnTo>
                <a:lnTo>
                  <a:pt x="2263" y="1212"/>
                </a:lnTo>
                <a:lnTo>
                  <a:pt x="2269" y="1212"/>
                </a:lnTo>
                <a:lnTo>
                  <a:pt x="2275" y="1212"/>
                </a:lnTo>
                <a:lnTo>
                  <a:pt x="2281" y="1212"/>
                </a:lnTo>
                <a:lnTo>
                  <a:pt x="2287" y="1212"/>
                </a:lnTo>
                <a:lnTo>
                  <a:pt x="2293" y="1212"/>
                </a:lnTo>
                <a:lnTo>
                  <a:pt x="2299" y="1212"/>
                </a:lnTo>
                <a:lnTo>
                  <a:pt x="2305" y="1212"/>
                </a:lnTo>
                <a:lnTo>
                  <a:pt x="2311" y="1212"/>
                </a:lnTo>
                <a:lnTo>
                  <a:pt x="2317" y="1212"/>
                </a:lnTo>
                <a:lnTo>
                  <a:pt x="2323" y="1212"/>
                </a:lnTo>
                <a:lnTo>
                  <a:pt x="2329" y="1212"/>
                </a:lnTo>
                <a:lnTo>
                  <a:pt x="2335" y="1212"/>
                </a:lnTo>
                <a:lnTo>
                  <a:pt x="2341" y="1212"/>
                </a:lnTo>
                <a:lnTo>
                  <a:pt x="2347" y="1212"/>
                </a:lnTo>
                <a:lnTo>
                  <a:pt x="2353" y="1212"/>
                </a:lnTo>
                <a:lnTo>
                  <a:pt x="2359" y="1212"/>
                </a:lnTo>
                <a:lnTo>
                  <a:pt x="2365" y="1212"/>
                </a:lnTo>
                <a:lnTo>
                  <a:pt x="2371" y="1212"/>
                </a:lnTo>
                <a:lnTo>
                  <a:pt x="2377" y="1212"/>
                </a:lnTo>
                <a:lnTo>
                  <a:pt x="2383" y="1212"/>
                </a:lnTo>
                <a:lnTo>
                  <a:pt x="2389" y="1212"/>
                </a:lnTo>
                <a:lnTo>
                  <a:pt x="2395" y="1212"/>
                </a:lnTo>
                <a:lnTo>
                  <a:pt x="2401" y="1212"/>
                </a:lnTo>
                <a:lnTo>
                  <a:pt x="2407" y="1212"/>
                </a:lnTo>
                <a:lnTo>
                  <a:pt x="2413" y="1212"/>
                </a:lnTo>
                <a:lnTo>
                  <a:pt x="2419" y="1212"/>
                </a:lnTo>
                <a:lnTo>
                  <a:pt x="2425" y="1212"/>
                </a:lnTo>
                <a:lnTo>
                  <a:pt x="2431" y="1212"/>
                </a:lnTo>
                <a:lnTo>
                  <a:pt x="2437" y="1212"/>
                </a:lnTo>
                <a:lnTo>
                  <a:pt x="2443" y="1212"/>
                </a:lnTo>
                <a:lnTo>
                  <a:pt x="2449" y="1212"/>
                </a:lnTo>
                <a:lnTo>
                  <a:pt x="2455" y="1212"/>
                </a:lnTo>
                <a:lnTo>
                  <a:pt x="2461" y="1212"/>
                </a:lnTo>
                <a:lnTo>
                  <a:pt x="2467" y="1212"/>
                </a:lnTo>
                <a:lnTo>
                  <a:pt x="2473" y="1212"/>
                </a:lnTo>
                <a:lnTo>
                  <a:pt x="2479" y="1212"/>
                </a:lnTo>
                <a:lnTo>
                  <a:pt x="2485" y="1212"/>
                </a:lnTo>
                <a:lnTo>
                  <a:pt x="2491" y="1212"/>
                </a:lnTo>
                <a:lnTo>
                  <a:pt x="2497" y="1212"/>
                </a:lnTo>
                <a:lnTo>
                  <a:pt x="2503" y="1212"/>
                </a:lnTo>
                <a:lnTo>
                  <a:pt x="2509" y="1212"/>
                </a:lnTo>
                <a:lnTo>
                  <a:pt x="2515" y="1212"/>
                </a:lnTo>
                <a:lnTo>
                  <a:pt x="2521" y="1212"/>
                </a:lnTo>
                <a:lnTo>
                  <a:pt x="2527" y="1212"/>
                </a:lnTo>
                <a:lnTo>
                  <a:pt x="2533" y="1212"/>
                </a:lnTo>
                <a:lnTo>
                  <a:pt x="2539" y="1212"/>
                </a:lnTo>
                <a:lnTo>
                  <a:pt x="2545" y="1212"/>
                </a:lnTo>
                <a:lnTo>
                  <a:pt x="2551" y="1212"/>
                </a:lnTo>
                <a:lnTo>
                  <a:pt x="2557" y="1212"/>
                </a:lnTo>
                <a:lnTo>
                  <a:pt x="2563" y="1212"/>
                </a:lnTo>
                <a:lnTo>
                  <a:pt x="2569" y="1212"/>
                </a:lnTo>
                <a:lnTo>
                  <a:pt x="2575" y="1212"/>
                </a:lnTo>
                <a:lnTo>
                  <a:pt x="2581" y="1212"/>
                </a:lnTo>
                <a:lnTo>
                  <a:pt x="2587" y="1212"/>
                </a:lnTo>
                <a:lnTo>
                  <a:pt x="2593" y="1212"/>
                </a:lnTo>
                <a:lnTo>
                  <a:pt x="2599" y="1212"/>
                </a:lnTo>
                <a:lnTo>
                  <a:pt x="2605" y="1212"/>
                </a:lnTo>
                <a:lnTo>
                  <a:pt x="2611" y="1212"/>
                </a:lnTo>
                <a:lnTo>
                  <a:pt x="2617" y="1212"/>
                </a:lnTo>
                <a:lnTo>
                  <a:pt x="2623" y="1212"/>
                </a:lnTo>
                <a:lnTo>
                  <a:pt x="2629" y="1212"/>
                </a:lnTo>
                <a:lnTo>
                  <a:pt x="2635" y="1212"/>
                </a:lnTo>
                <a:lnTo>
                  <a:pt x="2641" y="1212"/>
                </a:lnTo>
                <a:lnTo>
                  <a:pt x="2647" y="1212"/>
                </a:lnTo>
                <a:lnTo>
                  <a:pt x="2653" y="1212"/>
                </a:lnTo>
                <a:lnTo>
                  <a:pt x="2659" y="1212"/>
                </a:lnTo>
                <a:lnTo>
                  <a:pt x="2665" y="1212"/>
                </a:lnTo>
                <a:lnTo>
                  <a:pt x="2671" y="1212"/>
                </a:lnTo>
                <a:lnTo>
                  <a:pt x="2677" y="1212"/>
                </a:lnTo>
                <a:lnTo>
                  <a:pt x="2683" y="1212"/>
                </a:lnTo>
                <a:lnTo>
                  <a:pt x="2689" y="1212"/>
                </a:lnTo>
                <a:lnTo>
                  <a:pt x="2695" y="1212"/>
                </a:lnTo>
                <a:lnTo>
                  <a:pt x="2701" y="1212"/>
                </a:lnTo>
                <a:lnTo>
                  <a:pt x="2707" y="1212"/>
                </a:lnTo>
                <a:lnTo>
                  <a:pt x="2713" y="1212"/>
                </a:lnTo>
                <a:lnTo>
                  <a:pt x="2719" y="1212"/>
                </a:lnTo>
                <a:lnTo>
                  <a:pt x="2725" y="1212"/>
                </a:lnTo>
                <a:lnTo>
                  <a:pt x="2731" y="1212"/>
                </a:lnTo>
                <a:lnTo>
                  <a:pt x="2737" y="1212"/>
                </a:lnTo>
                <a:lnTo>
                  <a:pt x="2743" y="1212"/>
                </a:lnTo>
                <a:lnTo>
                  <a:pt x="2749" y="1212"/>
                </a:lnTo>
                <a:lnTo>
                  <a:pt x="2755" y="1212"/>
                </a:lnTo>
                <a:lnTo>
                  <a:pt x="2761" y="1212"/>
                </a:lnTo>
                <a:lnTo>
                  <a:pt x="2767" y="1212"/>
                </a:lnTo>
                <a:lnTo>
                  <a:pt x="2773" y="1212"/>
                </a:lnTo>
                <a:lnTo>
                  <a:pt x="2779" y="1212"/>
                </a:lnTo>
                <a:lnTo>
                  <a:pt x="2785" y="1212"/>
                </a:lnTo>
                <a:lnTo>
                  <a:pt x="2791" y="1212"/>
                </a:lnTo>
                <a:lnTo>
                  <a:pt x="2797" y="1212"/>
                </a:lnTo>
                <a:lnTo>
                  <a:pt x="2803" y="1212"/>
                </a:lnTo>
                <a:lnTo>
                  <a:pt x="2809" y="1212"/>
                </a:lnTo>
                <a:lnTo>
                  <a:pt x="2815" y="1212"/>
                </a:lnTo>
                <a:lnTo>
                  <a:pt x="2821" y="1212"/>
                </a:lnTo>
                <a:lnTo>
                  <a:pt x="2827" y="1212"/>
                </a:lnTo>
                <a:lnTo>
                  <a:pt x="2833" y="1212"/>
                </a:lnTo>
                <a:lnTo>
                  <a:pt x="2839" y="1212"/>
                </a:lnTo>
                <a:lnTo>
                  <a:pt x="2845" y="1212"/>
                </a:lnTo>
                <a:lnTo>
                  <a:pt x="2851" y="1212"/>
                </a:lnTo>
                <a:lnTo>
                  <a:pt x="2857" y="1212"/>
                </a:lnTo>
                <a:lnTo>
                  <a:pt x="2863" y="1212"/>
                </a:lnTo>
                <a:lnTo>
                  <a:pt x="2869" y="1212"/>
                </a:lnTo>
                <a:lnTo>
                  <a:pt x="2875" y="1212"/>
                </a:lnTo>
                <a:lnTo>
                  <a:pt x="2881" y="1212"/>
                </a:lnTo>
                <a:lnTo>
                  <a:pt x="2887" y="1212"/>
                </a:lnTo>
                <a:lnTo>
                  <a:pt x="2893" y="1212"/>
                </a:lnTo>
                <a:lnTo>
                  <a:pt x="2899" y="1212"/>
                </a:lnTo>
                <a:lnTo>
                  <a:pt x="2905" y="1212"/>
                </a:lnTo>
                <a:lnTo>
                  <a:pt x="2911" y="1212"/>
                </a:lnTo>
                <a:lnTo>
                  <a:pt x="2917" y="1212"/>
                </a:lnTo>
                <a:lnTo>
                  <a:pt x="2923" y="1212"/>
                </a:lnTo>
                <a:lnTo>
                  <a:pt x="2929" y="1212"/>
                </a:lnTo>
                <a:lnTo>
                  <a:pt x="2935" y="1212"/>
                </a:lnTo>
                <a:lnTo>
                  <a:pt x="2941" y="1212"/>
                </a:lnTo>
                <a:lnTo>
                  <a:pt x="2947" y="1212"/>
                </a:lnTo>
                <a:lnTo>
                  <a:pt x="2953" y="1212"/>
                </a:lnTo>
                <a:lnTo>
                  <a:pt x="2959" y="1212"/>
                </a:lnTo>
                <a:lnTo>
                  <a:pt x="2965" y="1212"/>
                </a:lnTo>
                <a:lnTo>
                  <a:pt x="2971" y="1212"/>
                </a:lnTo>
                <a:lnTo>
                  <a:pt x="2977" y="1212"/>
                </a:lnTo>
                <a:lnTo>
                  <a:pt x="2983" y="1212"/>
                </a:lnTo>
                <a:lnTo>
                  <a:pt x="2989" y="1212"/>
                </a:lnTo>
                <a:lnTo>
                  <a:pt x="2995" y="1212"/>
                </a:lnTo>
                <a:lnTo>
                  <a:pt x="3001" y="1212"/>
                </a:lnTo>
                <a:lnTo>
                  <a:pt x="3007" y="1212"/>
                </a:lnTo>
                <a:lnTo>
                  <a:pt x="3013" y="1212"/>
                </a:lnTo>
                <a:lnTo>
                  <a:pt x="3019" y="1212"/>
                </a:lnTo>
                <a:lnTo>
                  <a:pt x="3025" y="1212"/>
                </a:lnTo>
                <a:lnTo>
                  <a:pt x="3031" y="1212"/>
                </a:lnTo>
                <a:lnTo>
                  <a:pt x="3037" y="1212"/>
                </a:lnTo>
                <a:lnTo>
                  <a:pt x="3043" y="1212"/>
                </a:lnTo>
                <a:lnTo>
                  <a:pt x="3049" y="1212"/>
                </a:lnTo>
                <a:lnTo>
                  <a:pt x="3055" y="1212"/>
                </a:lnTo>
                <a:lnTo>
                  <a:pt x="3061" y="1212"/>
                </a:lnTo>
                <a:lnTo>
                  <a:pt x="3067" y="1212"/>
                </a:lnTo>
                <a:lnTo>
                  <a:pt x="3073" y="1212"/>
                </a:lnTo>
                <a:lnTo>
                  <a:pt x="3079" y="1212"/>
                </a:lnTo>
                <a:lnTo>
                  <a:pt x="3085" y="1212"/>
                </a:lnTo>
                <a:lnTo>
                  <a:pt x="3091" y="1212"/>
                </a:lnTo>
                <a:lnTo>
                  <a:pt x="3097" y="1212"/>
                </a:lnTo>
                <a:lnTo>
                  <a:pt x="3103" y="1212"/>
                </a:lnTo>
                <a:lnTo>
                  <a:pt x="3109" y="1212"/>
                </a:lnTo>
                <a:lnTo>
                  <a:pt x="3115" y="1212"/>
                </a:lnTo>
                <a:lnTo>
                  <a:pt x="3121" y="1212"/>
                </a:lnTo>
                <a:lnTo>
                  <a:pt x="3127" y="1212"/>
                </a:lnTo>
                <a:lnTo>
                  <a:pt x="3133" y="1212"/>
                </a:lnTo>
                <a:lnTo>
                  <a:pt x="3139" y="1212"/>
                </a:lnTo>
                <a:lnTo>
                  <a:pt x="3145" y="1212"/>
                </a:lnTo>
                <a:lnTo>
                  <a:pt x="3151" y="1212"/>
                </a:lnTo>
                <a:lnTo>
                  <a:pt x="3157" y="1212"/>
                </a:lnTo>
                <a:lnTo>
                  <a:pt x="3163" y="1212"/>
                </a:lnTo>
                <a:lnTo>
                  <a:pt x="3169" y="1212"/>
                </a:lnTo>
                <a:lnTo>
                  <a:pt x="3175" y="1212"/>
                </a:lnTo>
                <a:lnTo>
                  <a:pt x="3181" y="1212"/>
                </a:lnTo>
                <a:lnTo>
                  <a:pt x="3187" y="1212"/>
                </a:lnTo>
                <a:lnTo>
                  <a:pt x="3193" y="1212"/>
                </a:lnTo>
                <a:lnTo>
                  <a:pt x="3199" y="1212"/>
                </a:lnTo>
                <a:lnTo>
                  <a:pt x="3205" y="1212"/>
                </a:lnTo>
                <a:lnTo>
                  <a:pt x="3211" y="1212"/>
                </a:lnTo>
                <a:lnTo>
                  <a:pt x="3217" y="1212"/>
                </a:lnTo>
                <a:lnTo>
                  <a:pt x="3223" y="1212"/>
                </a:lnTo>
                <a:lnTo>
                  <a:pt x="3229" y="1212"/>
                </a:lnTo>
                <a:lnTo>
                  <a:pt x="3235" y="1212"/>
                </a:lnTo>
                <a:lnTo>
                  <a:pt x="3241" y="1212"/>
                </a:lnTo>
                <a:lnTo>
                  <a:pt x="3247" y="1212"/>
                </a:lnTo>
                <a:lnTo>
                  <a:pt x="3253" y="1212"/>
                </a:lnTo>
                <a:lnTo>
                  <a:pt x="3259" y="1212"/>
                </a:lnTo>
                <a:lnTo>
                  <a:pt x="3265" y="1212"/>
                </a:lnTo>
                <a:lnTo>
                  <a:pt x="3271" y="1212"/>
                </a:lnTo>
                <a:lnTo>
                  <a:pt x="3277" y="1212"/>
                </a:lnTo>
                <a:lnTo>
                  <a:pt x="3283" y="1212"/>
                </a:lnTo>
                <a:lnTo>
                  <a:pt x="3289" y="1212"/>
                </a:lnTo>
                <a:lnTo>
                  <a:pt x="3295" y="1212"/>
                </a:lnTo>
                <a:lnTo>
                  <a:pt x="3301" y="1212"/>
                </a:lnTo>
                <a:lnTo>
                  <a:pt x="3307" y="1212"/>
                </a:lnTo>
                <a:lnTo>
                  <a:pt x="3313" y="1212"/>
                </a:lnTo>
                <a:lnTo>
                  <a:pt x="3319" y="1212"/>
                </a:lnTo>
                <a:lnTo>
                  <a:pt x="3325" y="1212"/>
                </a:lnTo>
                <a:lnTo>
                  <a:pt x="3331" y="1212"/>
                </a:lnTo>
                <a:lnTo>
                  <a:pt x="3337" y="1212"/>
                </a:lnTo>
                <a:lnTo>
                  <a:pt x="3343" y="1212"/>
                </a:lnTo>
                <a:lnTo>
                  <a:pt x="3349" y="1212"/>
                </a:lnTo>
                <a:lnTo>
                  <a:pt x="3355" y="1212"/>
                </a:lnTo>
                <a:lnTo>
                  <a:pt x="3361" y="1212"/>
                </a:lnTo>
                <a:lnTo>
                  <a:pt x="3367" y="1212"/>
                </a:lnTo>
                <a:lnTo>
                  <a:pt x="3373" y="1212"/>
                </a:lnTo>
                <a:lnTo>
                  <a:pt x="3379" y="1212"/>
                </a:lnTo>
                <a:lnTo>
                  <a:pt x="3385" y="1212"/>
                </a:lnTo>
                <a:lnTo>
                  <a:pt x="3391" y="1212"/>
                </a:lnTo>
                <a:lnTo>
                  <a:pt x="3397" y="1212"/>
                </a:lnTo>
                <a:lnTo>
                  <a:pt x="3403" y="1212"/>
                </a:lnTo>
                <a:lnTo>
                  <a:pt x="3409" y="1212"/>
                </a:lnTo>
                <a:lnTo>
                  <a:pt x="3415" y="1212"/>
                </a:lnTo>
                <a:lnTo>
                  <a:pt x="3421" y="1212"/>
                </a:lnTo>
                <a:lnTo>
                  <a:pt x="3427" y="1212"/>
                </a:lnTo>
                <a:lnTo>
                  <a:pt x="3433" y="1212"/>
                </a:lnTo>
                <a:lnTo>
                  <a:pt x="3439" y="1212"/>
                </a:lnTo>
                <a:lnTo>
                  <a:pt x="3445" y="1212"/>
                </a:lnTo>
                <a:lnTo>
                  <a:pt x="3451" y="1212"/>
                </a:lnTo>
                <a:lnTo>
                  <a:pt x="3457" y="1212"/>
                </a:lnTo>
                <a:lnTo>
                  <a:pt x="3463" y="1212"/>
                </a:lnTo>
                <a:lnTo>
                  <a:pt x="3469" y="1212"/>
                </a:lnTo>
                <a:lnTo>
                  <a:pt x="3475" y="1212"/>
                </a:lnTo>
                <a:lnTo>
                  <a:pt x="3481" y="1212"/>
                </a:lnTo>
                <a:lnTo>
                  <a:pt x="3487" y="1212"/>
                </a:lnTo>
                <a:lnTo>
                  <a:pt x="3493" y="1212"/>
                </a:lnTo>
                <a:lnTo>
                  <a:pt x="3499" y="1212"/>
                </a:lnTo>
                <a:lnTo>
                  <a:pt x="3505" y="1212"/>
                </a:lnTo>
                <a:lnTo>
                  <a:pt x="3511" y="1212"/>
                </a:lnTo>
                <a:lnTo>
                  <a:pt x="3517" y="1212"/>
                </a:lnTo>
                <a:lnTo>
                  <a:pt x="3523" y="1212"/>
                </a:lnTo>
                <a:lnTo>
                  <a:pt x="3529" y="1212"/>
                </a:lnTo>
                <a:lnTo>
                  <a:pt x="3535" y="1212"/>
                </a:lnTo>
                <a:lnTo>
                  <a:pt x="3541" y="1212"/>
                </a:lnTo>
                <a:lnTo>
                  <a:pt x="3547" y="1212"/>
                </a:lnTo>
                <a:lnTo>
                  <a:pt x="3547" y="12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920160" y="3225960"/>
            <a:ext cx="3692520" cy="1117440"/>
          </a:xfrm>
          <a:custGeom>
            <a:avLst/>
            <a:gdLst/>
            <a:ahLst/>
            <a:rect l="l" t="t" r="r" b="b"/>
            <a:pathLst>
              <a:path w="3229" h="1044">
                <a:moveTo>
                  <a:pt x="0" y="1044"/>
                </a:moveTo>
                <a:lnTo>
                  <a:pt x="0" y="1044"/>
                </a:lnTo>
                <a:lnTo>
                  <a:pt x="6" y="1044"/>
                </a:lnTo>
                <a:lnTo>
                  <a:pt x="12" y="1044"/>
                </a:lnTo>
                <a:lnTo>
                  <a:pt x="18" y="1044"/>
                </a:lnTo>
                <a:lnTo>
                  <a:pt x="24" y="1044"/>
                </a:lnTo>
                <a:lnTo>
                  <a:pt x="30" y="1044"/>
                </a:lnTo>
                <a:lnTo>
                  <a:pt x="36" y="1044"/>
                </a:lnTo>
                <a:lnTo>
                  <a:pt x="42" y="1044"/>
                </a:lnTo>
                <a:lnTo>
                  <a:pt x="48" y="1044"/>
                </a:lnTo>
                <a:lnTo>
                  <a:pt x="54" y="1044"/>
                </a:lnTo>
                <a:lnTo>
                  <a:pt x="60" y="1044"/>
                </a:lnTo>
                <a:lnTo>
                  <a:pt x="66" y="1044"/>
                </a:lnTo>
                <a:lnTo>
                  <a:pt x="72" y="1044"/>
                </a:lnTo>
                <a:lnTo>
                  <a:pt x="78" y="1044"/>
                </a:lnTo>
                <a:lnTo>
                  <a:pt x="84" y="1044"/>
                </a:lnTo>
                <a:lnTo>
                  <a:pt x="90" y="1044"/>
                </a:lnTo>
                <a:lnTo>
                  <a:pt x="96" y="1044"/>
                </a:lnTo>
                <a:lnTo>
                  <a:pt x="102" y="1044"/>
                </a:lnTo>
                <a:lnTo>
                  <a:pt x="108" y="1044"/>
                </a:lnTo>
                <a:lnTo>
                  <a:pt x="114" y="1044"/>
                </a:lnTo>
                <a:lnTo>
                  <a:pt x="120" y="1044"/>
                </a:lnTo>
                <a:lnTo>
                  <a:pt x="126" y="1044"/>
                </a:lnTo>
                <a:lnTo>
                  <a:pt x="132" y="1044"/>
                </a:lnTo>
                <a:lnTo>
                  <a:pt x="138" y="1044"/>
                </a:lnTo>
                <a:lnTo>
                  <a:pt x="144" y="1044"/>
                </a:lnTo>
                <a:lnTo>
                  <a:pt x="150" y="1044"/>
                </a:lnTo>
                <a:lnTo>
                  <a:pt x="156" y="1044"/>
                </a:lnTo>
                <a:lnTo>
                  <a:pt x="162" y="1044"/>
                </a:lnTo>
                <a:lnTo>
                  <a:pt x="168" y="1044"/>
                </a:lnTo>
                <a:lnTo>
                  <a:pt x="174" y="1044"/>
                </a:lnTo>
                <a:lnTo>
                  <a:pt x="180" y="1044"/>
                </a:lnTo>
                <a:lnTo>
                  <a:pt x="186" y="1044"/>
                </a:lnTo>
                <a:lnTo>
                  <a:pt x="192" y="1044"/>
                </a:lnTo>
                <a:lnTo>
                  <a:pt x="198" y="1044"/>
                </a:lnTo>
                <a:lnTo>
                  <a:pt x="204" y="1044"/>
                </a:lnTo>
                <a:lnTo>
                  <a:pt x="210" y="1044"/>
                </a:lnTo>
                <a:lnTo>
                  <a:pt x="216" y="1044"/>
                </a:lnTo>
                <a:lnTo>
                  <a:pt x="222" y="1044"/>
                </a:lnTo>
                <a:lnTo>
                  <a:pt x="228" y="1044"/>
                </a:lnTo>
                <a:lnTo>
                  <a:pt x="234" y="1044"/>
                </a:lnTo>
                <a:lnTo>
                  <a:pt x="240" y="1044"/>
                </a:lnTo>
                <a:lnTo>
                  <a:pt x="246" y="1044"/>
                </a:lnTo>
                <a:lnTo>
                  <a:pt x="252" y="1044"/>
                </a:lnTo>
                <a:lnTo>
                  <a:pt x="258" y="1044"/>
                </a:lnTo>
                <a:lnTo>
                  <a:pt x="264" y="1044"/>
                </a:lnTo>
                <a:lnTo>
                  <a:pt x="270" y="1044"/>
                </a:lnTo>
                <a:lnTo>
                  <a:pt x="276" y="1044"/>
                </a:lnTo>
                <a:lnTo>
                  <a:pt x="282" y="1038"/>
                </a:lnTo>
                <a:lnTo>
                  <a:pt x="288" y="1038"/>
                </a:lnTo>
                <a:lnTo>
                  <a:pt x="294" y="1038"/>
                </a:lnTo>
                <a:lnTo>
                  <a:pt x="300" y="1038"/>
                </a:lnTo>
                <a:lnTo>
                  <a:pt x="306" y="1038"/>
                </a:lnTo>
                <a:lnTo>
                  <a:pt x="312" y="1038"/>
                </a:lnTo>
                <a:lnTo>
                  <a:pt x="318" y="1038"/>
                </a:lnTo>
                <a:lnTo>
                  <a:pt x="324" y="1038"/>
                </a:lnTo>
                <a:lnTo>
                  <a:pt x="330" y="1038"/>
                </a:lnTo>
                <a:lnTo>
                  <a:pt x="336" y="1038"/>
                </a:lnTo>
                <a:lnTo>
                  <a:pt x="342" y="1038"/>
                </a:lnTo>
                <a:lnTo>
                  <a:pt x="348" y="1032"/>
                </a:lnTo>
                <a:lnTo>
                  <a:pt x="354" y="1032"/>
                </a:lnTo>
                <a:lnTo>
                  <a:pt x="360" y="1032"/>
                </a:lnTo>
                <a:lnTo>
                  <a:pt x="366" y="1032"/>
                </a:lnTo>
                <a:lnTo>
                  <a:pt x="372" y="1032"/>
                </a:lnTo>
                <a:lnTo>
                  <a:pt x="378" y="1026"/>
                </a:lnTo>
                <a:lnTo>
                  <a:pt x="384" y="1026"/>
                </a:lnTo>
                <a:lnTo>
                  <a:pt x="390" y="1026"/>
                </a:lnTo>
                <a:lnTo>
                  <a:pt x="396" y="1020"/>
                </a:lnTo>
                <a:lnTo>
                  <a:pt x="402" y="1020"/>
                </a:lnTo>
                <a:lnTo>
                  <a:pt x="408" y="1020"/>
                </a:lnTo>
                <a:lnTo>
                  <a:pt x="414" y="1014"/>
                </a:lnTo>
                <a:lnTo>
                  <a:pt x="420" y="1014"/>
                </a:lnTo>
                <a:lnTo>
                  <a:pt x="426" y="1014"/>
                </a:lnTo>
                <a:lnTo>
                  <a:pt x="432" y="1008"/>
                </a:lnTo>
                <a:lnTo>
                  <a:pt x="438" y="1002"/>
                </a:lnTo>
                <a:lnTo>
                  <a:pt x="444" y="1002"/>
                </a:lnTo>
                <a:lnTo>
                  <a:pt x="450" y="996"/>
                </a:lnTo>
                <a:lnTo>
                  <a:pt x="456" y="990"/>
                </a:lnTo>
                <a:lnTo>
                  <a:pt x="462" y="990"/>
                </a:lnTo>
                <a:lnTo>
                  <a:pt x="468" y="984"/>
                </a:lnTo>
                <a:lnTo>
                  <a:pt x="474" y="978"/>
                </a:lnTo>
                <a:lnTo>
                  <a:pt x="480" y="972"/>
                </a:lnTo>
                <a:lnTo>
                  <a:pt x="486" y="972"/>
                </a:lnTo>
                <a:lnTo>
                  <a:pt x="492" y="966"/>
                </a:lnTo>
                <a:lnTo>
                  <a:pt x="498" y="960"/>
                </a:lnTo>
                <a:lnTo>
                  <a:pt x="504" y="954"/>
                </a:lnTo>
                <a:lnTo>
                  <a:pt x="510" y="948"/>
                </a:lnTo>
                <a:lnTo>
                  <a:pt x="516" y="942"/>
                </a:lnTo>
                <a:lnTo>
                  <a:pt x="522" y="936"/>
                </a:lnTo>
                <a:lnTo>
                  <a:pt x="522" y="930"/>
                </a:lnTo>
                <a:lnTo>
                  <a:pt x="528" y="924"/>
                </a:lnTo>
                <a:lnTo>
                  <a:pt x="534" y="918"/>
                </a:lnTo>
                <a:lnTo>
                  <a:pt x="534" y="912"/>
                </a:lnTo>
                <a:lnTo>
                  <a:pt x="540" y="906"/>
                </a:lnTo>
                <a:lnTo>
                  <a:pt x="540" y="900"/>
                </a:lnTo>
                <a:lnTo>
                  <a:pt x="546" y="894"/>
                </a:lnTo>
                <a:lnTo>
                  <a:pt x="546" y="888"/>
                </a:lnTo>
                <a:lnTo>
                  <a:pt x="552" y="882"/>
                </a:lnTo>
                <a:lnTo>
                  <a:pt x="558" y="876"/>
                </a:lnTo>
                <a:lnTo>
                  <a:pt x="564" y="870"/>
                </a:lnTo>
                <a:lnTo>
                  <a:pt x="564" y="864"/>
                </a:lnTo>
                <a:lnTo>
                  <a:pt x="570" y="858"/>
                </a:lnTo>
                <a:lnTo>
                  <a:pt x="570" y="852"/>
                </a:lnTo>
                <a:lnTo>
                  <a:pt x="576" y="840"/>
                </a:lnTo>
                <a:lnTo>
                  <a:pt x="576" y="834"/>
                </a:lnTo>
                <a:lnTo>
                  <a:pt x="582" y="828"/>
                </a:lnTo>
                <a:lnTo>
                  <a:pt x="582" y="822"/>
                </a:lnTo>
                <a:lnTo>
                  <a:pt x="588" y="816"/>
                </a:lnTo>
                <a:lnTo>
                  <a:pt x="588" y="810"/>
                </a:lnTo>
                <a:lnTo>
                  <a:pt x="594" y="804"/>
                </a:lnTo>
                <a:lnTo>
                  <a:pt x="600" y="792"/>
                </a:lnTo>
                <a:lnTo>
                  <a:pt x="600" y="786"/>
                </a:lnTo>
                <a:lnTo>
                  <a:pt x="606" y="780"/>
                </a:lnTo>
                <a:lnTo>
                  <a:pt x="606" y="768"/>
                </a:lnTo>
                <a:lnTo>
                  <a:pt x="612" y="762"/>
                </a:lnTo>
                <a:lnTo>
                  <a:pt x="612" y="756"/>
                </a:lnTo>
                <a:lnTo>
                  <a:pt x="618" y="744"/>
                </a:lnTo>
                <a:lnTo>
                  <a:pt x="618" y="738"/>
                </a:lnTo>
                <a:lnTo>
                  <a:pt x="624" y="732"/>
                </a:lnTo>
                <a:lnTo>
                  <a:pt x="624" y="720"/>
                </a:lnTo>
                <a:lnTo>
                  <a:pt x="630" y="714"/>
                </a:lnTo>
                <a:lnTo>
                  <a:pt x="630" y="702"/>
                </a:lnTo>
                <a:lnTo>
                  <a:pt x="636" y="696"/>
                </a:lnTo>
                <a:lnTo>
                  <a:pt x="642" y="684"/>
                </a:lnTo>
                <a:lnTo>
                  <a:pt x="642" y="672"/>
                </a:lnTo>
                <a:lnTo>
                  <a:pt x="648" y="666"/>
                </a:lnTo>
                <a:lnTo>
                  <a:pt x="648" y="654"/>
                </a:lnTo>
                <a:lnTo>
                  <a:pt x="654" y="648"/>
                </a:lnTo>
                <a:lnTo>
                  <a:pt x="654" y="636"/>
                </a:lnTo>
                <a:lnTo>
                  <a:pt x="660" y="624"/>
                </a:lnTo>
                <a:lnTo>
                  <a:pt x="660" y="618"/>
                </a:lnTo>
                <a:lnTo>
                  <a:pt x="666" y="606"/>
                </a:lnTo>
                <a:lnTo>
                  <a:pt x="666" y="594"/>
                </a:lnTo>
                <a:lnTo>
                  <a:pt x="672" y="582"/>
                </a:lnTo>
                <a:lnTo>
                  <a:pt x="672" y="576"/>
                </a:lnTo>
                <a:lnTo>
                  <a:pt x="678" y="564"/>
                </a:lnTo>
                <a:lnTo>
                  <a:pt x="684" y="552"/>
                </a:lnTo>
                <a:lnTo>
                  <a:pt x="684" y="540"/>
                </a:lnTo>
                <a:lnTo>
                  <a:pt x="690" y="534"/>
                </a:lnTo>
                <a:lnTo>
                  <a:pt x="690" y="522"/>
                </a:lnTo>
                <a:lnTo>
                  <a:pt x="696" y="510"/>
                </a:lnTo>
                <a:lnTo>
                  <a:pt x="696" y="498"/>
                </a:lnTo>
                <a:lnTo>
                  <a:pt x="702" y="486"/>
                </a:lnTo>
                <a:lnTo>
                  <a:pt x="702" y="474"/>
                </a:lnTo>
                <a:lnTo>
                  <a:pt x="708" y="468"/>
                </a:lnTo>
                <a:lnTo>
                  <a:pt x="708" y="456"/>
                </a:lnTo>
                <a:lnTo>
                  <a:pt x="714" y="444"/>
                </a:lnTo>
                <a:lnTo>
                  <a:pt x="714" y="432"/>
                </a:lnTo>
                <a:lnTo>
                  <a:pt x="720" y="420"/>
                </a:lnTo>
                <a:lnTo>
                  <a:pt x="726" y="408"/>
                </a:lnTo>
                <a:lnTo>
                  <a:pt x="726" y="396"/>
                </a:lnTo>
                <a:lnTo>
                  <a:pt x="732" y="384"/>
                </a:lnTo>
                <a:lnTo>
                  <a:pt x="732" y="372"/>
                </a:lnTo>
                <a:lnTo>
                  <a:pt x="738" y="366"/>
                </a:lnTo>
                <a:lnTo>
                  <a:pt x="738" y="354"/>
                </a:lnTo>
                <a:lnTo>
                  <a:pt x="744" y="342"/>
                </a:lnTo>
                <a:lnTo>
                  <a:pt x="744" y="330"/>
                </a:lnTo>
                <a:lnTo>
                  <a:pt x="750" y="318"/>
                </a:lnTo>
                <a:lnTo>
                  <a:pt x="750" y="306"/>
                </a:lnTo>
                <a:lnTo>
                  <a:pt x="756" y="300"/>
                </a:lnTo>
                <a:lnTo>
                  <a:pt x="756" y="288"/>
                </a:lnTo>
                <a:lnTo>
                  <a:pt x="762" y="276"/>
                </a:lnTo>
                <a:lnTo>
                  <a:pt x="768" y="264"/>
                </a:lnTo>
                <a:lnTo>
                  <a:pt x="768" y="252"/>
                </a:lnTo>
                <a:lnTo>
                  <a:pt x="774" y="246"/>
                </a:lnTo>
                <a:lnTo>
                  <a:pt x="774" y="234"/>
                </a:lnTo>
                <a:lnTo>
                  <a:pt x="780" y="222"/>
                </a:lnTo>
                <a:lnTo>
                  <a:pt x="780" y="216"/>
                </a:lnTo>
                <a:lnTo>
                  <a:pt x="786" y="204"/>
                </a:lnTo>
                <a:lnTo>
                  <a:pt x="786" y="192"/>
                </a:lnTo>
                <a:lnTo>
                  <a:pt x="792" y="186"/>
                </a:lnTo>
                <a:lnTo>
                  <a:pt x="792" y="174"/>
                </a:lnTo>
                <a:lnTo>
                  <a:pt x="798" y="162"/>
                </a:lnTo>
                <a:lnTo>
                  <a:pt x="798" y="156"/>
                </a:lnTo>
                <a:lnTo>
                  <a:pt x="804" y="144"/>
                </a:lnTo>
                <a:lnTo>
                  <a:pt x="810" y="138"/>
                </a:lnTo>
                <a:lnTo>
                  <a:pt x="810" y="132"/>
                </a:lnTo>
                <a:lnTo>
                  <a:pt x="816" y="120"/>
                </a:lnTo>
                <a:lnTo>
                  <a:pt x="816" y="114"/>
                </a:lnTo>
                <a:lnTo>
                  <a:pt x="822" y="108"/>
                </a:lnTo>
                <a:lnTo>
                  <a:pt x="822" y="96"/>
                </a:lnTo>
                <a:lnTo>
                  <a:pt x="828" y="90"/>
                </a:lnTo>
                <a:lnTo>
                  <a:pt x="828" y="84"/>
                </a:lnTo>
                <a:lnTo>
                  <a:pt x="834" y="78"/>
                </a:lnTo>
                <a:lnTo>
                  <a:pt x="834" y="72"/>
                </a:lnTo>
                <a:lnTo>
                  <a:pt x="840" y="60"/>
                </a:lnTo>
                <a:lnTo>
                  <a:pt x="840" y="54"/>
                </a:lnTo>
                <a:lnTo>
                  <a:pt x="846" y="48"/>
                </a:lnTo>
                <a:lnTo>
                  <a:pt x="852" y="42"/>
                </a:lnTo>
                <a:lnTo>
                  <a:pt x="858" y="36"/>
                </a:lnTo>
                <a:lnTo>
                  <a:pt x="858" y="30"/>
                </a:lnTo>
                <a:lnTo>
                  <a:pt x="864" y="24"/>
                </a:lnTo>
                <a:lnTo>
                  <a:pt x="870" y="18"/>
                </a:lnTo>
                <a:lnTo>
                  <a:pt x="876" y="12"/>
                </a:lnTo>
                <a:lnTo>
                  <a:pt x="882" y="6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6"/>
                </a:lnTo>
                <a:lnTo>
                  <a:pt x="930" y="12"/>
                </a:lnTo>
                <a:lnTo>
                  <a:pt x="936" y="12"/>
                </a:lnTo>
                <a:lnTo>
                  <a:pt x="942" y="18"/>
                </a:lnTo>
                <a:lnTo>
                  <a:pt x="948" y="24"/>
                </a:lnTo>
                <a:lnTo>
                  <a:pt x="954" y="30"/>
                </a:lnTo>
                <a:lnTo>
                  <a:pt x="954" y="36"/>
                </a:lnTo>
                <a:lnTo>
                  <a:pt x="960" y="42"/>
                </a:lnTo>
                <a:lnTo>
                  <a:pt x="960" y="48"/>
                </a:lnTo>
                <a:lnTo>
                  <a:pt x="966" y="54"/>
                </a:lnTo>
                <a:lnTo>
                  <a:pt x="966" y="60"/>
                </a:lnTo>
                <a:lnTo>
                  <a:pt x="972" y="66"/>
                </a:lnTo>
                <a:lnTo>
                  <a:pt x="972" y="72"/>
                </a:lnTo>
                <a:lnTo>
                  <a:pt x="978" y="78"/>
                </a:lnTo>
                <a:lnTo>
                  <a:pt x="984" y="84"/>
                </a:lnTo>
                <a:lnTo>
                  <a:pt x="984" y="96"/>
                </a:lnTo>
                <a:lnTo>
                  <a:pt x="990" y="102"/>
                </a:lnTo>
                <a:lnTo>
                  <a:pt x="990" y="108"/>
                </a:lnTo>
                <a:lnTo>
                  <a:pt x="996" y="114"/>
                </a:lnTo>
                <a:lnTo>
                  <a:pt x="996" y="126"/>
                </a:lnTo>
                <a:lnTo>
                  <a:pt x="1002" y="132"/>
                </a:lnTo>
                <a:lnTo>
                  <a:pt x="1002" y="144"/>
                </a:lnTo>
                <a:lnTo>
                  <a:pt x="1008" y="150"/>
                </a:lnTo>
                <a:lnTo>
                  <a:pt x="1008" y="162"/>
                </a:lnTo>
                <a:lnTo>
                  <a:pt x="1014" y="168"/>
                </a:lnTo>
                <a:lnTo>
                  <a:pt x="1014" y="180"/>
                </a:lnTo>
                <a:lnTo>
                  <a:pt x="1020" y="186"/>
                </a:lnTo>
                <a:lnTo>
                  <a:pt x="1026" y="198"/>
                </a:lnTo>
                <a:lnTo>
                  <a:pt x="1026" y="210"/>
                </a:lnTo>
                <a:lnTo>
                  <a:pt x="1032" y="216"/>
                </a:lnTo>
                <a:lnTo>
                  <a:pt x="1032" y="228"/>
                </a:lnTo>
                <a:lnTo>
                  <a:pt x="1038" y="240"/>
                </a:lnTo>
                <a:lnTo>
                  <a:pt x="1038" y="246"/>
                </a:lnTo>
                <a:lnTo>
                  <a:pt x="1044" y="258"/>
                </a:lnTo>
                <a:lnTo>
                  <a:pt x="1044" y="270"/>
                </a:lnTo>
                <a:lnTo>
                  <a:pt x="1050" y="282"/>
                </a:lnTo>
                <a:lnTo>
                  <a:pt x="1050" y="294"/>
                </a:lnTo>
                <a:lnTo>
                  <a:pt x="1056" y="300"/>
                </a:lnTo>
                <a:lnTo>
                  <a:pt x="1056" y="312"/>
                </a:lnTo>
                <a:lnTo>
                  <a:pt x="1062" y="324"/>
                </a:lnTo>
                <a:lnTo>
                  <a:pt x="1068" y="336"/>
                </a:lnTo>
                <a:lnTo>
                  <a:pt x="1068" y="348"/>
                </a:lnTo>
                <a:lnTo>
                  <a:pt x="1074" y="360"/>
                </a:lnTo>
                <a:lnTo>
                  <a:pt x="1074" y="366"/>
                </a:lnTo>
                <a:lnTo>
                  <a:pt x="1080" y="378"/>
                </a:lnTo>
                <a:lnTo>
                  <a:pt x="1080" y="390"/>
                </a:lnTo>
                <a:lnTo>
                  <a:pt x="1086" y="402"/>
                </a:lnTo>
                <a:lnTo>
                  <a:pt x="1086" y="414"/>
                </a:lnTo>
                <a:lnTo>
                  <a:pt x="1092" y="426"/>
                </a:lnTo>
                <a:lnTo>
                  <a:pt x="1092" y="438"/>
                </a:lnTo>
                <a:lnTo>
                  <a:pt x="1098" y="450"/>
                </a:lnTo>
                <a:lnTo>
                  <a:pt x="1098" y="456"/>
                </a:lnTo>
                <a:lnTo>
                  <a:pt x="1104" y="468"/>
                </a:lnTo>
                <a:lnTo>
                  <a:pt x="1110" y="480"/>
                </a:lnTo>
                <a:lnTo>
                  <a:pt x="1110" y="492"/>
                </a:lnTo>
                <a:lnTo>
                  <a:pt x="1116" y="504"/>
                </a:lnTo>
                <a:lnTo>
                  <a:pt x="1116" y="516"/>
                </a:lnTo>
                <a:lnTo>
                  <a:pt x="1122" y="528"/>
                </a:lnTo>
                <a:lnTo>
                  <a:pt x="1122" y="534"/>
                </a:lnTo>
                <a:lnTo>
                  <a:pt x="1128" y="546"/>
                </a:lnTo>
                <a:lnTo>
                  <a:pt x="1128" y="558"/>
                </a:lnTo>
                <a:lnTo>
                  <a:pt x="1134" y="570"/>
                </a:lnTo>
                <a:lnTo>
                  <a:pt x="1134" y="576"/>
                </a:lnTo>
                <a:lnTo>
                  <a:pt x="1140" y="588"/>
                </a:lnTo>
                <a:lnTo>
                  <a:pt x="1140" y="600"/>
                </a:lnTo>
                <a:lnTo>
                  <a:pt x="1146" y="612"/>
                </a:lnTo>
                <a:lnTo>
                  <a:pt x="1152" y="618"/>
                </a:lnTo>
                <a:lnTo>
                  <a:pt x="1152" y="630"/>
                </a:lnTo>
                <a:lnTo>
                  <a:pt x="1158" y="642"/>
                </a:lnTo>
                <a:lnTo>
                  <a:pt x="1158" y="648"/>
                </a:lnTo>
                <a:lnTo>
                  <a:pt x="1164" y="660"/>
                </a:lnTo>
                <a:lnTo>
                  <a:pt x="1164" y="672"/>
                </a:lnTo>
                <a:lnTo>
                  <a:pt x="1170" y="678"/>
                </a:lnTo>
                <a:lnTo>
                  <a:pt x="1170" y="690"/>
                </a:lnTo>
                <a:lnTo>
                  <a:pt x="1176" y="696"/>
                </a:lnTo>
                <a:lnTo>
                  <a:pt x="1176" y="708"/>
                </a:lnTo>
                <a:lnTo>
                  <a:pt x="1182" y="714"/>
                </a:lnTo>
                <a:lnTo>
                  <a:pt x="1182" y="726"/>
                </a:lnTo>
                <a:lnTo>
                  <a:pt x="1188" y="732"/>
                </a:lnTo>
                <a:lnTo>
                  <a:pt x="1194" y="744"/>
                </a:lnTo>
                <a:lnTo>
                  <a:pt x="1194" y="750"/>
                </a:lnTo>
                <a:lnTo>
                  <a:pt x="1200" y="756"/>
                </a:lnTo>
                <a:lnTo>
                  <a:pt x="1200" y="768"/>
                </a:lnTo>
                <a:lnTo>
                  <a:pt x="1206" y="774"/>
                </a:lnTo>
                <a:lnTo>
                  <a:pt x="1206" y="780"/>
                </a:lnTo>
                <a:lnTo>
                  <a:pt x="1212" y="792"/>
                </a:lnTo>
                <a:lnTo>
                  <a:pt x="1212" y="798"/>
                </a:lnTo>
                <a:lnTo>
                  <a:pt x="1218" y="804"/>
                </a:lnTo>
                <a:lnTo>
                  <a:pt x="1218" y="810"/>
                </a:lnTo>
                <a:lnTo>
                  <a:pt x="1224" y="816"/>
                </a:lnTo>
                <a:lnTo>
                  <a:pt x="1224" y="828"/>
                </a:lnTo>
                <a:lnTo>
                  <a:pt x="1230" y="834"/>
                </a:lnTo>
                <a:lnTo>
                  <a:pt x="1236" y="840"/>
                </a:lnTo>
                <a:lnTo>
                  <a:pt x="1236" y="846"/>
                </a:lnTo>
                <a:lnTo>
                  <a:pt x="1242" y="852"/>
                </a:lnTo>
                <a:lnTo>
                  <a:pt x="1242" y="858"/>
                </a:lnTo>
                <a:lnTo>
                  <a:pt x="1248" y="864"/>
                </a:lnTo>
                <a:lnTo>
                  <a:pt x="1248" y="870"/>
                </a:lnTo>
                <a:lnTo>
                  <a:pt x="1254" y="876"/>
                </a:lnTo>
                <a:lnTo>
                  <a:pt x="1254" y="882"/>
                </a:lnTo>
                <a:lnTo>
                  <a:pt x="1260" y="888"/>
                </a:lnTo>
                <a:lnTo>
                  <a:pt x="1260" y="894"/>
                </a:lnTo>
                <a:lnTo>
                  <a:pt x="1266" y="900"/>
                </a:lnTo>
                <a:lnTo>
                  <a:pt x="1272" y="906"/>
                </a:lnTo>
                <a:lnTo>
                  <a:pt x="1278" y="912"/>
                </a:lnTo>
                <a:lnTo>
                  <a:pt x="1278" y="918"/>
                </a:lnTo>
                <a:lnTo>
                  <a:pt x="1284" y="924"/>
                </a:lnTo>
                <a:lnTo>
                  <a:pt x="1290" y="930"/>
                </a:lnTo>
                <a:lnTo>
                  <a:pt x="1296" y="936"/>
                </a:lnTo>
                <a:lnTo>
                  <a:pt x="1296" y="942"/>
                </a:lnTo>
                <a:lnTo>
                  <a:pt x="1302" y="948"/>
                </a:lnTo>
                <a:lnTo>
                  <a:pt x="1308" y="954"/>
                </a:lnTo>
                <a:lnTo>
                  <a:pt x="1314" y="960"/>
                </a:lnTo>
                <a:lnTo>
                  <a:pt x="1320" y="966"/>
                </a:lnTo>
                <a:lnTo>
                  <a:pt x="1326" y="972"/>
                </a:lnTo>
                <a:lnTo>
                  <a:pt x="1332" y="978"/>
                </a:lnTo>
                <a:lnTo>
                  <a:pt x="1338" y="984"/>
                </a:lnTo>
                <a:lnTo>
                  <a:pt x="1344" y="990"/>
                </a:lnTo>
                <a:lnTo>
                  <a:pt x="1350" y="996"/>
                </a:lnTo>
                <a:lnTo>
                  <a:pt x="1356" y="996"/>
                </a:lnTo>
                <a:lnTo>
                  <a:pt x="1362" y="1002"/>
                </a:lnTo>
                <a:lnTo>
                  <a:pt x="1368" y="1002"/>
                </a:lnTo>
                <a:lnTo>
                  <a:pt x="1374" y="1008"/>
                </a:lnTo>
                <a:lnTo>
                  <a:pt x="1380" y="1008"/>
                </a:lnTo>
                <a:lnTo>
                  <a:pt x="1386" y="1014"/>
                </a:lnTo>
                <a:lnTo>
                  <a:pt x="1392" y="1014"/>
                </a:lnTo>
                <a:lnTo>
                  <a:pt x="1398" y="1020"/>
                </a:lnTo>
                <a:lnTo>
                  <a:pt x="1404" y="1020"/>
                </a:lnTo>
                <a:lnTo>
                  <a:pt x="1410" y="1020"/>
                </a:lnTo>
                <a:lnTo>
                  <a:pt x="1417" y="1026"/>
                </a:lnTo>
                <a:lnTo>
                  <a:pt x="1423" y="1026"/>
                </a:lnTo>
                <a:lnTo>
                  <a:pt x="1429" y="1026"/>
                </a:lnTo>
                <a:lnTo>
                  <a:pt x="1435" y="1032"/>
                </a:lnTo>
                <a:lnTo>
                  <a:pt x="1441" y="1032"/>
                </a:lnTo>
                <a:lnTo>
                  <a:pt x="1447" y="1032"/>
                </a:lnTo>
                <a:lnTo>
                  <a:pt x="1453" y="1032"/>
                </a:lnTo>
                <a:lnTo>
                  <a:pt x="1459" y="1032"/>
                </a:lnTo>
                <a:lnTo>
                  <a:pt x="1465" y="1038"/>
                </a:lnTo>
                <a:lnTo>
                  <a:pt x="1471" y="1038"/>
                </a:lnTo>
                <a:lnTo>
                  <a:pt x="1477" y="1038"/>
                </a:lnTo>
                <a:lnTo>
                  <a:pt x="1483" y="1038"/>
                </a:lnTo>
                <a:lnTo>
                  <a:pt x="1489" y="1038"/>
                </a:lnTo>
                <a:lnTo>
                  <a:pt x="1495" y="1038"/>
                </a:lnTo>
                <a:lnTo>
                  <a:pt x="1501" y="1038"/>
                </a:lnTo>
                <a:lnTo>
                  <a:pt x="1507" y="1038"/>
                </a:lnTo>
                <a:lnTo>
                  <a:pt x="1513" y="1038"/>
                </a:lnTo>
                <a:lnTo>
                  <a:pt x="1519" y="1038"/>
                </a:lnTo>
                <a:lnTo>
                  <a:pt x="1525" y="1044"/>
                </a:lnTo>
                <a:lnTo>
                  <a:pt x="1531" y="1044"/>
                </a:lnTo>
                <a:lnTo>
                  <a:pt x="1537" y="1044"/>
                </a:lnTo>
                <a:lnTo>
                  <a:pt x="1543" y="1044"/>
                </a:lnTo>
                <a:lnTo>
                  <a:pt x="1549" y="1044"/>
                </a:lnTo>
                <a:lnTo>
                  <a:pt x="1555" y="1044"/>
                </a:lnTo>
                <a:lnTo>
                  <a:pt x="1561" y="1044"/>
                </a:lnTo>
                <a:lnTo>
                  <a:pt x="1567" y="1044"/>
                </a:lnTo>
                <a:lnTo>
                  <a:pt x="1573" y="1044"/>
                </a:lnTo>
                <a:lnTo>
                  <a:pt x="1579" y="1044"/>
                </a:lnTo>
                <a:lnTo>
                  <a:pt x="1585" y="1044"/>
                </a:lnTo>
                <a:lnTo>
                  <a:pt x="1591" y="1044"/>
                </a:lnTo>
                <a:lnTo>
                  <a:pt x="1597" y="1044"/>
                </a:lnTo>
                <a:lnTo>
                  <a:pt x="1603" y="1044"/>
                </a:lnTo>
                <a:lnTo>
                  <a:pt x="1609" y="1044"/>
                </a:lnTo>
                <a:lnTo>
                  <a:pt x="1615" y="1044"/>
                </a:lnTo>
                <a:lnTo>
                  <a:pt x="1621" y="1044"/>
                </a:lnTo>
                <a:lnTo>
                  <a:pt x="1627" y="1044"/>
                </a:lnTo>
                <a:lnTo>
                  <a:pt x="1633" y="1044"/>
                </a:lnTo>
                <a:lnTo>
                  <a:pt x="1639" y="1044"/>
                </a:lnTo>
                <a:lnTo>
                  <a:pt x="1645" y="1044"/>
                </a:lnTo>
                <a:lnTo>
                  <a:pt x="1651" y="1044"/>
                </a:lnTo>
                <a:lnTo>
                  <a:pt x="1657" y="1044"/>
                </a:lnTo>
                <a:lnTo>
                  <a:pt x="1663" y="1044"/>
                </a:lnTo>
                <a:lnTo>
                  <a:pt x="1669" y="1044"/>
                </a:lnTo>
                <a:lnTo>
                  <a:pt x="1675" y="1044"/>
                </a:lnTo>
                <a:lnTo>
                  <a:pt x="1681" y="1044"/>
                </a:lnTo>
                <a:lnTo>
                  <a:pt x="1687" y="1044"/>
                </a:lnTo>
                <a:lnTo>
                  <a:pt x="1693" y="1044"/>
                </a:lnTo>
                <a:lnTo>
                  <a:pt x="1699" y="1044"/>
                </a:lnTo>
                <a:lnTo>
                  <a:pt x="1705" y="1044"/>
                </a:lnTo>
                <a:lnTo>
                  <a:pt x="1711" y="1044"/>
                </a:lnTo>
                <a:lnTo>
                  <a:pt x="1717" y="1044"/>
                </a:lnTo>
                <a:lnTo>
                  <a:pt x="1723" y="1044"/>
                </a:lnTo>
                <a:lnTo>
                  <a:pt x="1729" y="1044"/>
                </a:lnTo>
                <a:lnTo>
                  <a:pt x="1735" y="1044"/>
                </a:lnTo>
                <a:lnTo>
                  <a:pt x="1741" y="1044"/>
                </a:lnTo>
                <a:lnTo>
                  <a:pt x="1747" y="1044"/>
                </a:lnTo>
                <a:lnTo>
                  <a:pt x="1753" y="1044"/>
                </a:lnTo>
                <a:lnTo>
                  <a:pt x="1759" y="1044"/>
                </a:lnTo>
                <a:lnTo>
                  <a:pt x="1765" y="1044"/>
                </a:lnTo>
                <a:lnTo>
                  <a:pt x="1771" y="1044"/>
                </a:lnTo>
                <a:lnTo>
                  <a:pt x="1777" y="1044"/>
                </a:lnTo>
                <a:lnTo>
                  <a:pt x="1783" y="1044"/>
                </a:lnTo>
                <a:lnTo>
                  <a:pt x="1789" y="1044"/>
                </a:lnTo>
                <a:lnTo>
                  <a:pt x="1795" y="1044"/>
                </a:lnTo>
                <a:lnTo>
                  <a:pt x="1801" y="1044"/>
                </a:lnTo>
                <a:lnTo>
                  <a:pt x="1807" y="1044"/>
                </a:lnTo>
                <a:lnTo>
                  <a:pt x="1813" y="1044"/>
                </a:lnTo>
                <a:lnTo>
                  <a:pt x="1819" y="1044"/>
                </a:lnTo>
                <a:lnTo>
                  <a:pt x="1825" y="1044"/>
                </a:lnTo>
                <a:lnTo>
                  <a:pt x="1831" y="1044"/>
                </a:lnTo>
                <a:lnTo>
                  <a:pt x="1837" y="1044"/>
                </a:lnTo>
                <a:lnTo>
                  <a:pt x="1843" y="1044"/>
                </a:lnTo>
                <a:lnTo>
                  <a:pt x="1849" y="1044"/>
                </a:lnTo>
                <a:lnTo>
                  <a:pt x="1855" y="1044"/>
                </a:lnTo>
                <a:lnTo>
                  <a:pt x="1861" y="1044"/>
                </a:lnTo>
                <a:lnTo>
                  <a:pt x="1867" y="1044"/>
                </a:lnTo>
                <a:lnTo>
                  <a:pt x="1873" y="1044"/>
                </a:lnTo>
                <a:lnTo>
                  <a:pt x="1879" y="1044"/>
                </a:lnTo>
                <a:lnTo>
                  <a:pt x="1885" y="1044"/>
                </a:lnTo>
                <a:lnTo>
                  <a:pt x="1891" y="1044"/>
                </a:lnTo>
                <a:lnTo>
                  <a:pt x="1897" y="1044"/>
                </a:lnTo>
                <a:lnTo>
                  <a:pt x="1903" y="1044"/>
                </a:lnTo>
                <a:lnTo>
                  <a:pt x="1909" y="1044"/>
                </a:lnTo>
                <a:lnTo>
                  <a:pt x="1915" y="1044"/>
                </a:lnTo>
                <a:lnTo>
                  <a:pt x="1921" y="1044"/>
                </a:lnTo>
                <a:lnTo>
                  <a:pt x="1927" y="1044"/>
                </a:lnTo>
                <a:lnTo>
                  <a:pt x="1933" y="1044"/>
                </a:lnTo>
                <a:lnTo>
                  <a:pt x="1939" y="1044"/>
                </a:lnTo>
                <a:lnTo>
                  <a:pt x="1945" y="1044"/>
                </a:lnTo>
                <a:lnTo>
                  <a:pt x="1951" y="1044"/>
                </a:lnTo>
                <a:lnTo>
                  <a:pt x="1957" y="1044"/>
                </a:lnTo>
                <a:lnTo>
                  <a:pt x="1963" y="1044"/>
                </a:lnTo>
                <a:lnTo>
                  <a:pt x="1969" y="1044"/>
                </a:lnTo>
                <a:lnTo>
                  <a:pt x="1975" y="1044"/>
                </a:lnTo>
                <a:lnTo>
                  <a:pt x="1981" y="1044"/>
                </a:lnTo>
                <a:lnTo>
                  <a:pt x="1987" y="1044"/>
                </a:lnTo>
                <a:lnTo>
                  <a:pt x="1993" y="1044"/>
                </a:lnTo>
                <a:lnTo>
                  <a:pt x="1999" y="1044"/>
                </a:lnTo>
                <a:lnTo>
                  <a:pt x="2005" y="1044"/>
                </a:lnTo>
                <a:lnTo>
                  <a:pt x="2011" y="1044"/>
                </a:lnTo>
                <a:lnTo>
                  <a:pt x="2017" y="1044"/>
                </a:lnTo>
                <a:lnTo>
                  <a:pt x="2023" y="1044"/>
                </a:lnTo>
                <a:lnTo>
                  <a:pt x="2029" y="1044"/>
                </a:lnTo>
                <a:lnTo>
                  <a:pt x="2035" y="1044"/>
                </a:lnTo>
                <a:lnTo>
                  <a:pt x="2041" y="1044"/>
                </a:lnTo>
                <a:lnTo>
                  <a:pt x="2047" y="1044"/>
                </a:lnTo>
                <a:lnTo>
                  <a:pt x="2053" y="1044"/>
                </a:lnTo>
                <a:lnTo>
                  <a:pt x="2059" y="1044"/>
                </a:lnTo>
                <a:lnTo>
                  <a:pt x="2065" y="1044"/>
                </a:lnTo>
                <a:lnTo>
                  <a:pt x="2071" y="1044"/>
                </a:lnTo>
                <a:lnTo>
                  <a:pt x="2077" y="1044"/>
                </a:lnTo>
                <a:lnTo>
                  <a:pt x="2083" y="1044"/>
                </a:lnTo>
                <a:lnTo>
                  <a:pt x="2089" y="1044"/>
                </a:lnTo>
                <a:lnTo>
                  <a:pt x="2095" y="1044"/>
                </a:lnTo>
                <a:lnTo>
                  <a:pt x="2101" y="1044"/>
                </a:lnTo>
                <a:lnTo>
                  <a:pt x="2107" y="1044"/>
                </a:lnTo>
                <a:lnTo>
                  <a:pt x="2113" y="1044"/>
                </a:lnTo>
                <a:lnTo>
                  <a:pt x="2119" y="1044"/>
                </a:lnTo>
                <a:lnTo>
                  <a:pt x="2125" y="1044"/>
                </a:lnTo>
                <a:lnTo>
                  <a:pt x="2131" y="1044"/>
                </a:lnTo>
                <a:lnTo>
                  <a:pt x="2137" y="1044"/>
                </a:lnTo>
                <a:lnTo>
                  <a:pt x="2143" y="1044"/>
                </a:lnTo>
                <a:lnTo>
                  <a:pt x="2149" y="1044"/>
                </a:lnTo>
                <a:lnTo>
                  <a:pt x="2155" y="1044"/>
                </a:lnTo>
                <a:lnTo>
                  <a:pt x="2161" y="1044"/>
                </a:lnTo>
                <a:lnTo>
                  <a:pt x="2167" y="1044"/>
                </a:lnTo>
                <a:lnTo>
                  <a:pt x="2173" y="1044"/>
                </a:lnTo>
                <a:lnTo>
                  <a:pt x="2179" y="1044"/>
                </a:lnTo>
                <a:lnTo>
                  <a:pt x="2185" y="1044"/>
                </a:lnTo>
                <a:lnTo>
                  <a:pt x="2191" y="1044"/>
                </a:lnTo>
                <a:lnTo>
                  <a:pt x="2197" y="1044"/>
                </a:lnTo>
                <a:lnTo>
                  <a:pt x="2203" y="1044"/>
                </a:lnTo>
                <a:lnTo>
                  <a:pt x="2209" y="1044"/>
                </a:lnTo>
                <a:lnTo>
                  <a:pt x="2215" y="1044"/>
                </a:lnTo>
                <a:lnTo>
                  <a:pt x="2221" y="1044"/>
                </a:lnTo>
                <a:lnTo>
                  <a:pt x="2227" y="1044"/>
                </a:lnTo>
                <a:lnTo>
                  <a:pt x="2233" y="1044"/>
                </a:lnTo>
                <a:lnTo>
                  <a:pt x="2239" y="1044"/>
                </a:lnTo>
                <a:lnTo>
                  <a:pt x="2245" y="1044"/>
                </a:lnTo>
                <a:lnTo>
                  <a:pt x="2251" y="1044"/>
                </a:lnTo>
                <a:lnTo>
                  <a:pt x="2257" y="1044"/>
                </a:lnTo>
                <a:lnTo>
                  <a:pt x="2263" y="1044"/>
                </a:lnTo>
                <a:lnTo>
                  <a:pt x="2269" y="1044"/>
                </a:lnTo>
                <a:lnTo>
                  <a:pt x="2275" y="1044"/>
                </a:lnTo>
                <a:lnTo>
                  <a:pt x="2281" y="1044"/>
                </a:lnTo>
                <a:lnTo>
                  <a:pt x="2287" y="1044"/>
                </a:lnTo>
                <a:lnTo>
                  <a:pt x="2293" y="1044"/>
                </a:lnTo>
                <a:lnTo>
                  <a:pt x="2299" y="1044"/>
                </a:lnTo>
                <a:lnTo>
                  <a:pt x="2305" y="1044"/>
                </a:lnTo>
                <a:lnTo>
                  <a:pt x="2311" y="1044"/>
                </a:lnTo>
                <a:lnTo>
                  <a:pt x="2317" y="1044"/>
                </a:lnTo>
                <a:lnTo>
                  <a:pt x="2323" y="1044"/>
                </a:lnTo>
                <a:lnTo>
                  <a:pt x="2329" y="1044"/>
                </a:lnTo>
                <a:lnTo>
                  <a:pt x="2335" y="1044"/>
                </a:lnTo>
                <a:lnTo>
                  <a:pt x="2341" y="1044"/>
                </a:lnTo>
                <a:lnTo>
                  <a:pt x="2347" y="1044"/>
                </a:lnTo>
                <a:lnTo>
                  <a:pt x="2353" y="1044"/>
                </a:lnTo>
                <a:lnTo>
                  <a:pt x="2359" y="1044"/>
                </a:lnTo>
                <a:lnTo>
                  <a:pt x="2365" y="1044"/>
                </a:lnTo>
                <a:lnTo>
                  <a:pt x="2371" y="1044"/>
                </a:lnTo>
                <a:lnTo>
                  <a:pt x="2377" y="1044"/>
                </a:lnTo>
                <a:lnTo>
                  <a:pt x="2383" y="1044"/>
                </a:lnTo>
                <a:lnTo>
                  <a:pt x="2389" y="1044"/>
                </a:lnTo>
                <a:lnTo>
                  <a:pt x="2395" y="1044"/>
                </a:lnTo>
                <a:lnTo>
                  <a:pt x="2401" y="1044"/>
                </a:lnTo>
                <a:lnTo>
                  <a:pt x="2407" y="1044"/>
                </a:lnTo>
                <a:lnTo>
                  <a:pt x="2413" y="1044"/>
                </a:lnTo>
                <a:lnTo>
                  <a:pt x="2419" y="1044"/>
                </a:lnTo>
                <a:lnTo>
                  <a:pt x="2425" y="1044"/>
                </a:lnTo>
                <a:lnTo>
                  <a:pt x="2431" y="1044"/>
                </a:lnTo>
                <a:lnTo>
                  <a:pt x="2437" y="1044"/>
                </a:lnTo>
                <a:lnTo>
                  <a:pt x="2443" y="1044"/>
                </a:lnTo>
                <a:lnTo>
                  <a:pt x="2449" y="1044"/>
                </a:lnTo>
                <a:lnTo>
                  <a:pt x="2455" y="1044"/>
                </a:lnTo>
                <a:lnTo>
                  <a:pt x="2461" y="1044"/>
                </a:lnTo>
                <a:lnTo>
                  <a:pt x="2467" y="1044"/>
                </a:lnTo>
                <a:lnTo>
                  <a:pt x="2473" y="1044"/>
                </a:lnTo>
                <a:lnTo>
                  <a:pt x="2479" y="1044"/>
                </a:lnTo>
                <a:lnTo>
                  <a:pt x="2485" y="1044"/>
                </a:lnTo>
                <a:lnTo>
                  <a:pt x="2491" y="1044"/>
                </a:lnTo>
                <a:lnTo>
                  <a:pt x="2497" y="1044"/>
                </a:lnTo>
                <a:lnTo>
                  <a:pt x="2503" y="1044"/>
                </a:lnTo>
                <a:lnTo>
                  <a:pt x="2509" y="1044"/>
                </a:lnTo>
                <a:lnTo>
                  <a:pt x="2515" y="1044"/>
                </a:lnTo>
                <a:lnTo>
                  <a:pt x="2521" y="1044"/>
                </a:lnTo>
                <a:lnTo>
                  <a:pt x="2527" y="1044"/>
                </a:lnTo>
                <a:lnTo>
                  <a:pt x="2533" y="1044"/>
                </a:lnTo>
                <a:lnTo>
                  <a:pt x="2539" y="1044"/>
                </a:lnTo>
                <a:lnTo>
                  <a:pt x="2545" y="1044"/>
                </a:lnTo>
                <a:lnTo>
                  <a:pt x="2551" y="1044"/>
                </a:lnTo>
                <a:lnTo>
                  <a:pt x="2557" y="1044"/>
                </a:lnTo>
                <a:lnTo>
                  <a:pt x="2563" y="1044"/>
                </a:lnTo>
                <a:lnTo>
                  <a:pt x="2569" y="1044"/>
                </a:lnTo>
                <a:lnTo>
                  <a:pt x="2575" y="1044"/>
                </a:lnTo>
                <a:lnTo>
                  <a:pt x="2581" y="1044"/>
                </a:lnTo>
                <a:lnTo>
                  <a:pt x="2587" y="1044"/>
                </a:lnTo>
                <a:lnTo>
                  <a:pt x="2593" y="1044"/>
                </a:lnTo>
                <a:lnTo>
                  <a:pt x="2599" y="1044"/>
                </a:lnTo>
                <a:lnTo>
                  <a:pt x="2605" y="1044"/>
                </a:lnTo>
                <a:lnTo>
                  <a:pt x="2611" y="1044"/>
                </a:lnTo>
                <a:lnTo>
                  <a:pt x="2617" y="1044"/>
                </a:lnTo>
                <a:lnTo>
                  <a:pt x="2623" y="1044"/>
                </a:lnTo>
                <a:lnTo>
                  <a:pt x="2629" y="1044"/>
                </a:lnTo>
                <a:lnTo>
                  <a:pt x="2635" y="1044"/>
                </a:lnTo>
                <a:lnTo>
                  <a:pt x="2641" y="1044"/>
                </a:lnTo>
                <a:lnTo>
                  <a:pt x="2647" y="1044"/>
                </a:lnTo>
                <a:lnTo>
                  <a:pt x="2653" y="1044"/>
                </a:lnTo>
                <a:lnTo>
                  <a:pt x="2659" y="1044"/>
                </a:lnTo>
                <a:lnTo>
                  <a:pt x="2665" y="1044"/>
                </a:lnTo>
                <a:lnTo>
                  <a:pt x="2671" y="1044"/>
                </a:lnTo>
                <a:lnTo>
                  <a:pt x="2677" y="1044"/>
                </a:lnTo>
                <a:lnTo>
                  <a:pt x="2683" y="1044"/>
                </a:lnTo>
                <a:lnTo>
                  <a:pt x="2689" y="1044"/>
                </a:lnTo>
                <a:lnTo>
                  <a:pt x="2695" y="1044"/>
                </a:lnTo>
                <a:lnTo>
                  <a:pt x="2701" y="1044"/>
                </a:lnTo>
                <a:lnTo>
                  <a:pt x="2707" y="1044"/>
                </a:lnTo>
                <a:lnTo>
                  <a:pt x="2713" y="1044"/>
                </a:lnTo>
                <a:lnTo>
                  <a:pt x="2719" y="1044"/>
                </a:lnTo>
                <a:lnTo>
                  <a:pt x="2725" y="1044"/>
                </a:lnTo>
                <a:lnTo>
                  <a:pt x="2731" y="1044"/>
                </a:lnTo>
                <a:lnTo>
                  <a:pt x="2737" y="1044"/>
                </a:lnTo>
                <a:lnTo>
                  <a:pt x="2743" y="1044"/>
                </a:lnTo>
                <a:lnTo>
                  <a:pt x="2749" y="1044"/>
                </a:lnTo>
                <a:lnTo>
                  <a:pt x="2755" y="1044"/>
                </a:lnTo>
                <a:lnTo>
                  <a:pt x="2761" y="1044"/>
                </a:lnTo>
                <a:lnTo>
                  <a:pt x="2767" y="1044"/>
                </a:lnTo>
                <a:lnTo>
                  <a:pt x="2773" y="1044"/>
                </a:lnTo>
                <a:lnTo>
                  <a:pt x="2779" y="1044"/>
                </a:lnTo>
                <a:lnTo>
                  <a:pt x="2785" y="1044"/>
                </a:lnTo>
                <a:lnTo>
                  <a:pt x="2791" y="1044"/>
                </a:lnTo>
                <a:lnTo>
                  <a:pt x="2797" y="1044"/>
                </a:lnTo>
                <a:lnTo>
                  <a:pt x="2803" y="1044"/>
                </a:lnTo>
                <a:lnTo>
                  <a:pt x="2809" y="1044"/>
                </a:lnTo>
                <a:lnTo>
                  <a:pt x="2815" y="1044"/>
                </a:lnTo>
                <a:lnTo>
                  <a:pt x="2821" y="1044"/>
                </a:lnTo>
                <a:lnTo>
                  <a:pt x="2827" y="1044"/>
                </a:lnTo>
                <a:lnTo>
                  <a:pt x="2833" y="1044"/>
                </a:lnTo>
                <a:lnTo>
                  <a:pt x="2839" y="1044"/>
                </a:lnTo>
                <a:lnTo>
                  <a:pt x="2845" y="1044"/>
                </a:lnTo>
                <a:lnTo>
                  <a:pt x="2851" y="1044"/>
                </a:lnTo>
                <a:lnTo>
                  <a:pt x="2857" y="1044"/>
                </a:lnTo>
                <a:lnTo>
                  <a:pt x="2863" y="1044"/>
                </a:lnTo>
                <a:lnTo>
                  <a:pt x="2869" y="1044"/>
                </a:lnTo>
                <a:lnTo>
                  <a:pt x="2875" y="1044"/>
                </a:lnTo>
                <a:lnTo>
                  <a:pt x="2881" y="1044"/>
                </a:lnTo>
                <a:lnTo>
                  <a:pt x="2887" y="1044"/>
                </a:lnTo>
                <a:lnTo>
                  <a:pt x="2893" y="1044"/>
                </a:lnTo>
                <a:lnTo>
                  <a:pt x="2899" y="1044"/>
                </a:lnTo>
                <a:lnTo>
                  <a:pt x="2905" y="1044"/>
                </a:lnTo>
                <a:lnTo>
                  <a:pt x="2911" y="1044"/>
                </a:lnTo>
                <a:lnTo>
                  <a:pt x="2917" y="1044"/>
                </a:lnTo>
                <a:lnTo>
                  <a:pt x="2923" y="1044"/>
                </a:lnTo>
                <a:lnTo>
                  <a:pt x="2929" y="1044"/>
                </a:lnTo>
                <a:lnTo>
                  <a:pt x="2935" y="1044"/>
                </a:lnTo>
                <a:lnTo>
                  <a:pt x="2941" y="1044"/>
                </a:lnTo>
                <a:lnTo>
                  <a:pt x="2947" y="1044"/>
                </a:lnTo>
                <a:lnTo>
                  <a:pt x="2953" y="1044"/>
                </a:lnTo>
                <a:lnTo>
                  <a:pt x="2959" y="1044"/>
                </a:lnTo>
                <a:lnTo>
                  <a:pt x="2965" y="1044"/>
                </a:lnTo>
                <a:lnTo>
                  <a:pt x="2971" y="1044"/>
                </a:lnTo>
                <a:lnTo>
                  <a:pt x="2977" y="1044"/>
                </a:lnTo>
                <a:lnTo>
                  <a:pt x="2983" y="1044"/>
                </a:lnTo>
                <a:lnTo>
                  <a:pt x="2989" y="1044"/>
                </a:lnTo>
                <a:lnTo>
                  <a:pt x="2995" y="1044"/>
                </a:lnTo>
                <a:lnTo>
                  <a:pt x="3001" y="1044"/>
                </a:lnTo>
                <a:lnTo>
                  <a:pt x="3007" y="1044"/>
                </a:lnTo>
                <a:lnTo>
                  <a:pt x="3013" y="1044"/>
                </a:lnTo>
                <a:lnTo>
                  <a:pt x="3019" y="1044"/>
                </a:lnTo>
                <a:lnTo>
                  <a:pt x="3025" y="1044"/>
                </a:lnTo>
                <a:lnTo>
                  <a:pt x="3031" y="1044"/>
                </a:lnTo>
                <a:lnTo>
                  <a:pt x="3037" y="1044"/>
                </a:lnTo>
                <a:lnTo>
                  <a:pt x="3043" y="1044"/>
                </a:lnTo>
                <a:lnTo>
                  <a:pt x="3049" y="1044"/>
                </a:lnTo>
                <a:lnTo>
                  <a:pt x="3055" y="1044"/>
                </a:lnTo>
                <a:lnTo>
                  <a:pt x="3061" y="1044"/>
                </a:lnTo>
                <a:lnTo>
                  <a:pt x="3067" y="1044"/>
                </a:lnTo>
                <a:lnTo>
                  <a:pt x="3073" y="1044"/>
                </a:lnTo>
                <a:lnTo>
                  <a:pt x="3079" y="1044"/>
                </a:lnTo>
                <a:lnTo>
                  <a:pt x="3085" y="1044"/>
                </a:lnTo>
                <a:lnTo>
                  <a:pt x="3091" y="1044"/>
                </a:lnTo>
                <a:lnTo>
                  <a:pt x="3097" y="1044"/>
                </a:lnTo>
                <a:lnTo>
                  <a:pt x="3103" y="1044"/>
                </a:lnTo>
                <a:lnTo>
                  <a:pt x="3109" y="1044"/>
                </a:lnTo>
                <a:lnTo>
                  <a:pt x="3115" y="1044"/>
                </a:lnTo>
                <a:lnTo>
                  <a:pt x="3121" y="1044"/>
                </a:lnTo>
                <a:lnTo>
                  <a:pt x="3127" y="1044"/>
                </a:lnTo>
                <a:lnTo>
                  <a:pt x="3133" y="1044"/>
                </a:lnTo>
                <a:lnTo>
                  <a:pt x="3139" y="1044"/>
                </a:lnTo>
                <a:lnTo>
                  <a:pt x="3145" y="1044"/>
                </a:lnTo>
                <a:lnTo>
                  <a:pt x="3151" y="1044"/>
                </a:lnTo>
                <a:lnTo>
                  <a:pt x="3157" y="1044"/>
                </a:lnTo>
                <a:lnTo>
                  <a:pt x="3163" y="1044"/>
                </a:lnTo>
                <a:lnTo>
                  <a:pt x="3169" y="1044"/>
                </a:lnTo>
                <a:lnTo>
                  <a:pt x="3175" y="1044"/>
                </a:lnTo>
                <a:lnTo>
                  <a:pt x="3181" y="1044"/>
                </a:lnTo>
                <a:lnTo>
                  <a:pt x="3187" y="1044"/>
                </a:lnTo>
                <a:lnTo>
                  <a:pt x="3193" y="1044"/>
                </a:lnTo>
                <a:lnTo>
                  <a:pt x="3199" y="1044"/>
                </a:lnTo>
                <a:lnTo>
                  <a:pt x="3205" y="1044"/>
                </a:lnTo>
                <a:lnTo>
                  <a:pt x="3211" y="1044"/>
                </a:lnTo>
                <a:lnTo>
                  <a:pt x="3217" y="1044"/>
                </a:lnTo>
                <a:lnTo>
                  <a:pt x="3223" y="1044"/>
                </a:lnTo>
                <a:lnTo>
                  <a:pt x="3229" y="1044"/>
                </a:lnTo>
                <a:lnTo>
                  <a:pt x="3229" y="1044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2412720" y="2995200"/>
            <a:ext cx="671400" cy="190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1143000" y="2604960"/>
            <a:ext cx="1262160" cy="733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 0 shift with negative chromati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rot="16200000">
            <a:off x="2802240" y="3530880"/>
            <a:ext cx="84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-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16200000">
            <a:off x="2330640" y="3516480"/>
            <a:ext cx="65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rot="16200000">
            <a:off x="3197520" y="3524760"/>
            <a:ext cx="84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ff33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 = -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082520" y="5024520"/>
            <a:ext cx="15764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aximum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at 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= -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9360" y="1481040"/>
            <a:ext cx="2058840" cy="476280"/>
          </a:xfrm>
          <a:custGeom>
            <a:avLst/>
            <a:gdLst/>
            <a:ahLst/>
            <a:rect l="l" t="t" r="r" b="b"/>
            <a:pathLst>
              <a:path w="1297" h="300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16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24"/>
                </a:lnTo>
                <a:lnTo>
                  <a:pt x="546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76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06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36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66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0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0" y="24"/>
                </a:lnTo>
                <a:lnTo>
                  <a:pt x="726" y="24"/>
                </a:lnTo>
                <a:lnTo>
                  <a:pt x="732" y="24"/>
                </a:lnTo>
                <a:lnTo>
                  <a:pt x="738" y="24"/>
                </a:lnTo>
                <a:lnTo>
                  <a:pt x="744" y="24"/>
                </a:lnTo>
                <a:lnTo>
                  <a:pt x="750" y="24"/>
                </a:lnTo>
                <a:lnTo>
                  <a:pt x="756" y="24"/>
                </a:lnTo>
                <a:lnTo>
                  <a:pt x="762" y="24"/>
                </a:lnTo>
                <a:lnTo>
                  <a:pt x="768" y="24"/>
                </a:lnTo>
                <a:lnTo>
                  <a:pt x="774" y="30"/>
                </a:lnTo>
                <a:lnTo>
                  <a:pt x="780" y="30"/>
                </a:lnTo>
                <a:lnTo>
                  <a:pt x="786" y="30"/>
                </a:lnTo>
                <a:lnTo>
                  <a:pt x="792" y="30"/>
                </a:lnTo>
                <a:lnTo>
                  <a:pt x="798" y="30"/>
                </a:lnTo>
                <a:lnTo>
                  <a:pt x="804" y="30"/>
                </a:lnTo>
                <a:lnTo>
                  <a:pt x="810" y="30"/>
                </a:lnTo>
                <a:lnTo>
                  <a:pt x="816" y="30"/>
                </a:lnTo>
                <a:lnTo>
                  <a:pt x="822" y="30"/>
                </a:lnTo>
                <a:lnTo>
                  <a:pt x="828" y="30"/>
                </a:lnTo>
                <a:lnTo>
                  <a:pt x="834" y="30"/>
                </a:lnTo>
                <a:lnTo>
                  <a:pt x="840" y="30"/>
                </a:lnTo>
                <a:lnTo>
                  <a:pt x="846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30"/>
                </a:lnTo>
                <a:lnTo>
                  <a:pt x="876" y="30"/>
                </a:lnTo>
                <a:lnTo>
                  <a:pt x="882" y="30"/>
                </a:lnTo>
                <a:lnTo>
                  <a:pt x="888" y="30"/>
                </a:lnTo>
                <a:lnTo>
                  <a:pt x="894" y="30"/>
                </a:lnTo>
                <a:lnTo>
                  <a:pt x="900" y="30"/>
                </a:lnTo>
                <a:lnTo>
                  <a:pt x="906" y="30"/>
                </a:lnTo>
                <a:lnTo>
                  <a:pt x="912" y="30"/>
                </a:lnTo>
                <a:lnTo>
                  <a:pt x="918" y="30"/>
                </a:lnTo>
                <a:lnTo>
                  <a:pt x="924" y="30"/>
                </a:lnTo>
                <a:lnTo>
                  <a:pt x="930" y="36"/>
                </a:lnTo>
                <a:lnTo>
                  <a:pt x="936" y="36"/>
                </a:lnTo>
                <a:lnTo>
                  <a:pt x="942" y="36"/>
                </a:lnTo>
                <a:lnTo>
                  <a:pt x="948" y="36"/>
                </a:lnTo>
                <a:lnTo>
                  <a:pt x="954" y="36"/>
                </a:lnTo>
                <a:lnTo>
                  <a:pt x="960" y="36"/>
                </a:lnTo>
                <a:lnTo>
                  <a:pt x="966" y="36"/>
                </a:lnTo>
                <a:lnTo>
                  <a:pt x="972" y="36"/>
                </a:lnTo>
                <a:lnTo>
                  <a:pt x="978" y="36"/>
                </a:lnTo>
                <a:lnTo>
                  <a:pt x="984" y="36"/>
                </a:lnTo>
                <a:lnTo>
                  <a:pt x="990" y="36"/>
                </a:lnTo>
                <a:lnTo>
                  <a:pt x="996" y="36"/>
                </a:lnTo>
                <a:lnTo>
                  <a:pt x="1002" y="36"/>
                </a:lnTo>
                <a:lnTo>
                  <a:pt x="1008" y="36"/>
                </a:lnTo>
                <a:lnTo>
                  <a:pt x="1014" y="36"/>
                </a:lnTo>
                <a:lnTo>
                  <a:pt x="1020" y="36"/>
                </a:lnTo>
                <a:lnTo>
                  <a:pt x="1026" y="36"/>
                </a:lnTo>
                <a:lnTo>
                  <a:pt x="1032" y="42"/>
                </a:lnTo>
                <a:lnTo>
                  <a:pt x="1038" y="42"/>
                </a:lnTo>
                <a:lnTo>
                  <a:pt x="1044" y="42"/>
                </a:lnTo>
                <a:lnTo>
                  <a:pt x="1050" y="42"/>
                </a:lnTo>
                <a:lnTo>
                  <a:pt x="1056" y="42"/>
                </a:lnTo>
                <a:lnTo>
                  <a:pt x="1062" y="42"/>
                </a:lnTo>
                <a:lnTo>
                  <a:pt x="1068" y="42"/>
                </a:lnTo>
                <a:lnTo>
                  <a:pt x="1074" y="42"/>
                </a:lnTo>
                <a:lnTo>
                  <a:pt x="1080" y="42"/>
                </a:lnTo>
                <a:lnTo>
                  <a:pt x="1086" y="42"/>
                </a:lnTo>
                <a:lnTo>
                  <a:pt x="1092" y="48"/>
                </a:lnTo>
                <a:lnTo>
                  <a:pt x="1098" y="48"/>
                </a:lnTo>
                <a:lnTo>
                  <a:pt x="1104" y="48"/>
                </a:lnTo>
                <a:lnTo>
                  <a:pt x="1110" y="48"/>
                </a:lnTo>
                <a:lnTo>
                  <a:pt x="1116" y="48"/>
                </a:lnTo>
                <a:lnTo>
                  <a:pt x="1122" y="48"/>
                </a:lnTo>
                <a:lnTo>
                  <a:pt x="1128" y="48"/>
                </a:lnTo>
                <a:lnTo>
                  <a:pt x="1134" y="48"/>
                </a:lnTo>
                <a:lnTo>
                  <a:pt x="1141" y="54"/>
                </a:lnTo>
                <a:lnTo>
                  <a:pt x="1147" y="54"/>
                </a:lnTo>
                <a:lnTo>
                  <a:pt x="1153" y="54"/>
                </a:lnTo>
                <a:lnTo>
                  <a:pt x="1159" y="54"/>
                </a:lnTo>
                <a:lnTo>
                  <a:pt x="1165" y="54"/>
                </a:lnTo>
                <a:lnTo>
                  <a:pt x="1171" y="60"/>
                </a:lnTo>
                <a:lnTo>
                  <a:pt x="1177" y="60"/>
                </a:lnTo>
                <a:lnTo>
                  <a:pt x="1183" y="60"/>
                </a:lnTo>
                <a:lnTo>
                  <a:pt x="1189" y="66"/>
                </a:lnTo>
                <a:lnTo>
                  <a:pt x="1195" y="66"/>
                </a:lnTo>
                <a:lnTo>
                  <a:pt x="1201" y="66"/>
                </a:lnTo>
                <a:lnTo>
                  <a:pt x="1207" y="72"/>
                </a:lnTo>
                <a:lnTo>
                  <a:pt x="1213" y="72"/>
                </a:lnTo>
                <a:lnTo>
                  <a:pt x="1219" y="72"/>
                </a:lnTo>
                <a:lnTo>
                  <a:pt x="1225" y="78"/>
                </a:lnTo>
                <a:lnTo>
                  <a:pt x="1231" y="78"/>
                </a:lnTo>
                <a:lnTo>
                  <a:pt x="1237" y="84"/>
                </a:lnTo>
                <a:lnTo>
                  <a:pt x="1243" y="90"/>
                </a:lnTo>
                <a:lnTo>
                  <a:pt x="1249" y="96"/>
                </a:lnTo>
                <a:lnTo>
                  <a:pt x="1255" y="102"/>
                </a:lnTo>
                <a:lnTo>
                  <a:pt x="1261" y="108"/>
                </a:lnTo>
                <a:lnTo>
                  <a:pt x="1267" y="114"/>
                </a:lnTo>
                <a:lnTo>
                  <a:pt x="1267" y="120"/>
                </a:lnTo>
                <a:lnTo>
                  <a:pt x="1273" y="126"/>
                </a:lnTo>
                <a:lnTo>
                  <a:pt x="1273" y="132"/>
                </a:lnTo>
                <a:lnTo>
                  <a:pt x="1279" y="138"/>
                </a:lnTo>
                <a:lnTo>
                  <a:pt x="1279" y="150"/>
                </a:lnTo>
                <a:lnTo>
                  <a:pt x="1279" y="156"/>
                </a:lnTo>
                <a:lnTo>
                  <a:pt x="1285" y="174"/>
                </a:lnTo>
                <a:lnTo>
                  <a:pt x="1285" y="186"/>
                </a:lnTo>
                <a:lnTo>
                  <a:pt x="1291" y="210"/>
                </a:lnTo>
                <a:lnTo>
                  <a:pt x="1291" y="246"/>
                </a:lnTo>
                <a:lnTo>
                  <a:pt x="1297" y="300"/>
                </a:lnTo>
                <a:lnTo>
                  <a:pt x="1297" y="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593800" y="995400"/>
            <a:ext cx="2057400" cy="485640"/>
          </a:xfrm>
          <a:custGeom>
            <a:avLst/>
            <a:gdLst/>
            <a:ahLst/>
            <a:rect l="l" t="t" r="r" b="b"/>
            <a:pathLst>
              <a:path w="1296" h="306">
                <a:moveTo>
                  <a:pt x="0" y="306"/>
                </a:moveTo>
                <a:lnTo>
                  <a:pt x="0" y="0"/>
                </a:lnTo>
                <a:lnTo>
                  <a:pt x="6" y="54"/>
                </a:lnTo>
                <a:lnTo>
                  <a:pt x="6" y="90"/>
                </a:lnTo>
                <a:lnTo>
                  <a:pt x="12" y="114"/>
                </a:lnTo>
                <a:lnTo>
                  <a:pt x="12" y="126"/>
                </a:lnTo>
                <a:lnTo>
                  <a:pt x="18" y="144"/>
                </a:lnTo>
                <a:lnTo>
                  <a:pt x="18" y="150"/>
                </a:lnTo>
                <a:lnTo>
                  <a:pt x="18" y="162"/>
                </a:lnTo>
                <a:lnTo>
                  <a:pt x="24" y="168"/>
                </a:lnTo>
                <a:lnTo>
                  <a:pt x="24" y="174"/>
                </a:lnTo>
                <a:lnTo>
                  <a:pt x="30" y="180"/>
                </a:lnTo>
                <a:lnTo>
                  <a:pt x="36" y="186"/>
                </a:lnTo>
                <a:lnTo>
                  <a:pt x="36" y="192"/>
                </a:lnTo>
                <a:lnTo>
                  <a:pt x="42" y="198"/>
                </a:lnTo>
                <a:lnTo>
                  <a:pt x="48" y="204"/>
                </a:lnTo>
                <a:lnTo>
                  <a:pt x="54" y="210"/>
                </a:lnTo>
                <a:lnTo>
                  <a:pt x="60" y="216"/>
                </a:lnTo>
                <a:lnTo>
                  <a:pt x="66" y="222"/>
                </a:lnTo>
                <a:lnTo>
                  <a:pt x="72" y="222"/>
                </a:lnTo>
                <a:lnTo>
                  <a:pt x="78" y="228"/>
                </a:lnTo>
                <a:lnTo>
                  <a:pt x="84" y="228"/>
                </a:lnTo>
                <a:lnTo>
                  <a:pt x="90" y="234"/>
                </a:lnTo>
                <a:lnTo>
                  <a:pt x="96" y="234"/>
                </a:lnTo>
                <a:lnTo>
                  <a:pt x="102" y="234"/>
                </a:lnTo>
                <a:lnTo>
                  <a:pt x="108" y="240"/>
                </a:lnTo>
                <a:lnTo>
                  <a:pt x="114" y="240"/>
                </a:lnTo>
                <a:lnTo>
                  <a:pt x="120" y="240"/>
                </a:lnTo>
                <a:lnTo>
                  <a:pt x="126" y="240"/>
                </a:lnTo>
                <a:lnTo>
                  <a:pt x="132" y="246"/>
                </a:lnTo>
                <a:lnTo>
                  <a:pt x="138" y="246"/>
                </a:lnTo>
                <a:lnTo>
                  <a:pt x="144" y="246"/>
                </a:lnTo>
                <a:lnTo>
                  <a:pt x="150" y="246"/>
                </a:lnTo>
                <a:lnTo>
                  <a:pt x="156" y="246"/>
                </a:lnTo>
                <a:lnTo>
                  <a:pt x="162" y="252"/>
                </a:lnTo>
                <a:lnTo>
                  <a:pt x="168" y="252"/>
                </a:lnTo>
                <a:lnTo>
                  <a:pt x="174" y="252"/>
                </a:lnTo>
                <a:lnTo>
                  <a:pt x="180" y="252"/>
                </a:lnTo>
                <a:lnTo>
                  <a:pt x="186" y="252"/>
                </a:lnTo>
                <a:lnTo>
                  <a:pt x="192" y="252"/>
                </a:lnTo>
                <a:lnTo>
                  <a:pt x="198" y="252"/>
                </a:lnTo>
                <a:lnTo>
                  <a:pt x="204" y="258"/>
                </a:lnTo>
                <a:lnTo>
                  <a:pt x="210" y="258"/>
                </a:lnTo>
                <a:lnTo>
                  <a:pt x="216" y="258"/>
                </a:lnTo>
                <a:lnTo>
                  <a:pt x="222" y="258"/>
                </a:lnTo>
                <a:lnTo>
                  <a:pt x="228" y="258"/>
                </a:lnTo>
                <a:lnTo>
                  <a:pt x="234" y="258"/>
                </a:lnTo>
                <a:lnTo>
                  <a:pt x="240" y="258"/>
                </a:lnTo>
                <a:lnTo>
                  <a:pt x="246" y="258"/>
                </a:lnTo>
                <a:lnTo>
                  <a:pt x="252" y="258"/>
                </a:lnTo>
                <a:lnTo>
                  <a:pt x="258" y="258"/>
                </a:lnTo>
                <a:lnTo>
                  <a:pt x="264" y="258"/>
                </a:lnTo>
                <a:lnTo>
                  <a:pt x="270" y="264"/>
                </a:lnTo>
                <a:lnTo>
                  <a:pt x="276" y="264"/>
                </a:lnTo>
                <a:lnTo>
                  <a:pt x="282" y="264"/>
                </a:lnTo>
                <a:lnTo>
                  <a:pt x="288" y="264"/>
                </a:lnTo>
                <a:lnTo>
                  <a:pt x="294" y="264"/>
                </a:lnTo>
                <a:lnTo>
                  <a:pt x="300" y="264"/>
                </a:lnTo>
                <a:lnTo>
                  <a:pt x="306" y="264"/>
                </a:lnTo>
                <a:lnTo>
                  <a:pt x="312" y="264"/>
                </a:lnTo>
                <a:lnTo>
                  <a:pt x="318" y="264"/>
                </a:lnTo>
                <a:lnTo>
                  <a:pt x="324" y="264"/>
                </a:lnTo>
                <a:lnTo>
                  <a:pt x="330" y="264"/>
                </a:lnTo>
                <a:lnTo>
                  <a:pt x="336" y="264"/>
                </a:lnTo>
                <a:lnTo>
                  <a:pt x="342" y="264"/>
                </a:lnTo>
                <a:lnTo>
                  <a:pt x="348" y="264"/>
                </a:lnTo>
                <a:lnTo>
                  <a:pt x="354" y="264"/>
                </a:lnTo>
                <a:lnTo>
                  <a:pt x="360" y="264"/>
                </a:lnTo>
                <a:lnTo>
                  <a:pt x="366" y="270"/>
                </a:lnTo>
                <a:lnTo>
                  <a:pt x="372" y="270"/>
                </a:lnTo>
                <a:lnTo>
                  <a:pt x="378" y="270"/>
                </a:lnTo>
                <a:lnTo>
                  <a:pt x="384" y="270"/>
                </a:lnTo>
                <a:lnTo>
                  <a:pt x="390" y="270"/>
                </a:lnTo>
                <a:lnTo>
                  <a:pt x="396" y="270"/>
                </a:lnTo>
                <a:lnTo>
                  <a:pt x="402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70"/>
                </a:lnTo>
                <a:lnTo>
                  <a:pt x="426" y="270"/>
                </a:lnTo>
                <a:lnTo>
                  <a:pt x="432" y="270"/>
                </a:lnTo>
                <a:lnTo>
                  <a:pt x="438" y="270"/>
                </a:lnTo>
                <a:lnTo>
                  <a:pt x="444" y="270"/>
                </a:lnTo>
                <a:lnTo>
                  <a:pt x="450" y="270"/>
                </a:lnTo>
                <a:lnTo>
                  <a:pt x="456" y="270"/>
                </a:lnTo>
                <a:lnTo>
                  <a:pt x="462" y="270"/>
                </a:lnTo>
                <a:lnTo>
                  <a:pt x="468" y="270"/>
                </a:lnTo>
                <a:lnTo>
                  <a:pt x="474" y="270"/>
                </a:lnTo>
                <a:lnTo>
                  <a:pt x="480" y="270"/>
                </a:lnTo>
                <a:lnTo>
                  <a:pt x="486" y="270"/>
                </a:lnTo>
                <a:lnTo>
                  <a:pt x="492" y="270"/>
                </a:lnTo>
                <a:lnTo>
                  <a:pt x="498" y="270"/>
                </a:lnTo>
                <a:lnTo>
                  <a:pt x="504" y="270"/>
                </a:lnTo>
                <a:lnTo>
                  <a:pt x="510" y="270"/>
                </a:lnTo>
                <a:lnTo>
                  <a:pt x="516" y="270"/>
                </a:lnTo>
                <a:lnTo>
                  <a:pt x="522" y="270"/>
                </a:lnTo>
                <a:lnTo>
                  <a:pt x="528" y="276"/>
                </a:lnTo>
                <a:lnTo>
                  <a:pt x="534" y="276"/>
                </a:lnTo>
                <a:lnTo>
                  <a:pt x="540" y="276"/>
                </a:lnTo>
                <a:lnTo>
                  <a:pt x="546" y="276"/>
                </a:lnTo>
                <a:lnTo>
                  <a:pt x="552" y="276"/>
                </a:lnTo>
                <a:lnTo>
                  <a:pt x="558" y="276"/>
                </a:lnTo>
                <a:lnTo>
                  <a:pt x="564" y="276"/>
                </a:lnTo>
                <a:lnTo>
                  <a:pt x="570" y="276"/>
                </a:lnTo>
                <a:lnTo>
                  <a:pt x="576" y="276"/>
                </a:lnTo>
                <a:lnTo>
                  <a:pt x="582" y="276"/>
                </a:lnTo>
                <a:lnTo>
                  <a:pt x="588" y="276"/>
                </a:lnTo>
                <a:lnTo>
                  <a:pt x="594" y="276"/>
                </a:lnTo>
                <a:lnTo>
                  <a:pt x="600" y="276"/>
                </a:lnTo>
                <a:lnTo>
                  <a:pt x="606" y="276"/>
                </a:lnTo>
                <a:lnTo>
                  <a:pt x="612" y="276"/>
                </a:lnTo>
                <a:lnTo>
                  <a:pt x="618" y="276"/>
                </a:lnTo>
                <a:lnTo>
                  <a:pt x="624" y="276"/>
                </a:lnTo>
                <a:lnTo>
                  <a:pt x="630" y="276"/>
                </a:lnTo>
                <a:lnTo>
                  <a:pt x="636" y="276"/>
                </a:lnTo>
                <a:lnTo>
                  <a:pt x="642" y="276"/>
                </a:lnTo>
                <a:lnTo>
                  <a:pt x="648" y="276"/>
                </a:lnTo>
                <a:lnTo>
                  <a:pt x="654" y="276"/>
                </a:lnTo>
                <a:lnTo>
                  <a:pt x="660" y="276"/>
                </a:lnTo>
                <a:lnTo>
                  <a:pt x="666" y="276"/>
                </a:lnTo>
                <a:lnTo>
                  <a:pt x="672" y="276"/>
                </a:lnTo>
                <a:lnTo>
                  <a:pt x="678" y="276"/>
                </a:lnTo>
                <a:lnTo>
                  <a:pt x="684" y="276"/>
                </a:lnTo>
                <a:lnTo>
                  <a:pt x="690" y="276"/>
                </a:lnTo>
                <a:lnTo>
                  <a:pt x="696" y="276"/>
                </a:lnTo>
                <a:lnTo>
                  <a:pt x="702" y="276"/>
                </a:lnTo>
                <a:lnTo>
                  <a:pt x="708" y="276"/>
                </a:lnTo>
                <a:lnTo>
                  <a:pt x="714" y="276"/>
                </a:lnTo>
                <a:lnTo>
                  <a:pt x="720" y="276"/>
                </a:lnTo>
                <a:lnTo>
                  <a:pt x="726" y="276"/>
                </a:lnTo>
                <a:lnTo>
                  <a:pt x="732" y="276"/>
                </a:lnTo>
                <a:lnTo>
                  <a:pt x="738" y="276"/>
                </a:lnTo>
                <a:lnTo>
                  <a:pt x="744" y="276"/>
                </a:lnTo>
                <a:lnTo>
                  <a:pt x="750" y="276"/>
                </a:lnTo>
                <a:lnTo>
                  <a:pt x="756" y="276"/>
                </a:lnTo>
                <a:lnTo>
                  <a:pt x="762" y="276"/>
                </a:lnTo>
                <a:lnTo>
                  <a:pt x="768" y="276"/>
                </a:lnTo>
                <a:lnTo>
                  <a:pt x="774" y="276"/>
                </a:lnTo>
                <a:lnTo>
                  <a:pt x="780" y="276"/>
                </a:lnTo>
                <a:lnTo>
                  <a:pt x="786" y="276"/>
                </a:lnTo>
                <a:lnTo>
                  <a:pt x="792" y="276"/>
                </a:lnTo>
                <a:lnTo>
                  <a:pt x="798" y="276"/>
                </a:lnTo>
                <a:lnTo>
                  <a:pt x="804" y="276"/>
                </a:lnTo>
                <a:lnTo>
                  <a:pt x="810" y="276"/>
                </a:lnTo>
                <a:lnTo>
                  <a:pt x="816" y="276"/>
                </a:lnTo>
                <a:lnTo>
                  <a:pt x="822" y="276"/>
                </a:lnTo>
                <a:lnTo>
                  <a:pt x="828" y="282"/>
                </a:lnTo>
                <a:lnTo>
                  <a:pt x="834" y="282"/>
                </a:lnTo>
                <a:lnTo>
                  <a:pt x="840" y="282"/>
                </a:lnTo>
                <a:lnTo>
                  <a:pt x="846" y="282"/>
                </a:lnTo>
                <a:lnTo>
                  <a:pt x="852" y="282"/>
                </a:lnTo>
                <a:lnTo>
                  <a:pt x="858" y="282"/>
                </a:lnTo>
                <a:lnTo>
                  <a:pt x="864" y="282"/>
                </a:lnTo>
                <a:lnTo>
                  <a:pt x="870" y="282"/>
                </a:lnTo>
                <a:lnTo>
                  <a:pt x="876" y="282"/>
                </a:lnTo>
                <a:lnTo>
                  <a:pt x="882" y="282"/>
                </a:lnTo>
                <a:lnTo>
                  <a:pt x="888" y="282"/>
                </a:lnTo>
                <a:lnTo>
                  <a:pt x="894" y="282"/>
                </a:lnTo>
                <a:lnTo>
                  <a:pt x="900" y="282"/>
                </a:lnTo>
                <a:lnTo>
                  <a:pt x="906" y="282"/>
                </a:lnTo>
                <a:lnTo>
                  <a:pt x="912" y="282"/>
                </a:lnTo>
                <a:lnTo>
                  <a:pt x="918" y="282"/>
                </a:lnTo>
                <a:lnTo>
                  <a:pt x="924" y="282"/>
                </a:lnTo>
                <a:lnTo>
                  <a:pt x="930" y="282"/>
                </a:lnTo>
                <a:lnTo>
                  <a:pt x="936" y="282"/>
                </a:lnTo>
                <a:lnTo>
                  <a:pt x="942" y="282"/>
                </a:lnTo>
                <a:lnTo>
                  <a:pt x="948" y="282"/>
                </a:lnTo>
                <a:lnTo>
                  <a:pt x="954" y="282"/>
                </a:lnTo>
                <a:lnTo>
                  <a:pt x="960" y="282"/>
                </a:lnTo>
                <a:lnTo>
                  <a:pt x="966" y="282"/>
                </a:lnTo>
                <a:lnTo>
                  <a:pt x="972" y="282"/>
                </a:lnTo>
                <a:lnTo>
                  <a:pt x="978" y="282"/>
                </a:lnTo>
                <a:lnTo>
                  <a:pt x="984" y="282"/>
                </a:lnTo>
                <a:lnTo>
                  <a:pt x="990" y="282"/>
                </a:lnTo>
                <a:lnTo>
                  <a:pt x="996" y="282"/>
                </a:lnTo>
                <a:lnTo>
                  <a:pt x="1002" y="282"/>
                </a:lnTo>
                <a:lnTo>
                  <a:pt x="1008" y="282"/>
                </a:lnTo>
                <a:lnTo>
                  <a:pt x="1014" y="282"/>
                </a:lnTo>
                <a:lnTo>
                  <a:pt x="1020" y="282"/>
                </a:lnTo>
                <a:lnTo>
                  <a:pt x="1026" y="282"/>
                </a:lnTo>
                <a:lnTo>
                  <a:pt x="1032" y="282"/>
                </a:lnTo>
                <a:lnTo>
                  <a:pt x="1038" y="282"/>
                </a:lnTo>
                <a:lnTo>
                  <a:pt x="1044" y="282"/>
                </a:lnTo>
                <a:lnTo>
                  <a:pt x="1050" y="282"/>
                </a:lnTo>
                <a:lnTo>
                  <a:pt x="1056" y="282"/>
                </a:lnTo>
                <a:lnTo>
                  <a:pt x="1062" y="282"/>
                </a:lnTo>
                <a:lnTo>
                  <a:pt x="1068" y="282"/>
                </a:lnTo>
                <a:lnTo>
                  <a:pt x="1074" y="282"/>
                </a:lnTo>
                <a:lnTo>
                  <a:pt x="1080" y="282"/>
                </a:lnTo>
                <a:lnTo>
                  <a:pt x="1086" y="282"/>
                </a:lnTo>
                <a:lnTo>
                  <a:pt x="1092" y="282"/>
                </a:lnTo>
                <a:lnTo>
                  <a:pt x="1098" y="282"/>
                </a:lnTo>
                <a:lnTo>
                  <a:pt x="1104" y="282"/>
                </a:lnTo>
                <a:lnTo>
                  <a:pt x="1110" y="282"/>
                </a:lnTo>
                <a:lnTo>
                  <a:pt x="1116" y="282"/>
                </a:lnTo>
                <a:lnTo>
                  <a:pt x="1122" y="282"/>
                </a:lnTo>
                <a:lnTo>
                  <a:pt x="1128" y="282"/>
                </a:lnTo>
                <a:lnTo>
                  <a:pt x="1134" y="282"/>
                </a:lnTo>
                <a:lnTo>
                  <a:pt x="1140" y="282"/>
                </a:lnTo>
                <a:lnTo>
                  <a:pt x="1146" y="282"/>
                </a:lnTo>
                <a:lnTo>
                  <a:pt x="1152" y="282"/>
                </a:lnTo>
                <a:lnTo>
                  <a:pt x="1158" y="282"/>
                </a:lnTo>
                <a:lnTo>
                  <a:pt x="1164" y="282"/>
                </a:lnTo>
                <a:lnTo>
                  <a:pt x="1170" y="282"/>
                </a:lnTo>
                <a:lnTo>
                  <a:pt x="1176" y="282"/>
                </a:lnTo>
                <a:lnTo>
                  <a:pt x="1182" y="282"/>
                </a:lnTo>
                <a:lnTo>
                  <a:pt x="1188" y="282"/>
                </a:lnTo>
                <a:lnTo>
                  <a:pt x="1194" y="282"/>
                </a:lnTo>
                <a:lnTo>
                  <a:pt x="1200" y="282"/>
                </a:lnTo>
                <a:lnTo>
                  <a:pt x="1206" y="282"/>
                </a:lnTo>
                <a:lnTo>
                  <a:pt x="1212" y="282"/>
                </a:lnTo>
                <a:lnTo>
                  <a:pt x="1218" y="282"/>
                </a:lnTo>
                <a:lnTo>
                  <a:pt x="1224" y="282"/>
                </a:lnTo>
                <a:lnTo>
                  <a:pt x="1230" y="282"/>
                </a:lnTo>
                <a:lnTo>
                  <a:pt x="1236" y="282"/>
                </a:lnTo>
                <a:lnTo>
                  <a:pt x="1242" y="282"/>
                </a:lnTo>
                <a:lnTo>
                  <a:pt x="1248" y="282"/>
                </a:lnTo>
                <a:lnTo>
                  <a:pt x="1254" y="282"/>
                </a:lnTo>
                <a:lnTo>
                  <a:pt x="1260" y="282"/>
                </a:lnTo>
                <a:lnTo>
                  <a:pt x="1266" y="282"/>
                </a:lnTo>
                <a:lnTo>
                  <a:pt x="1272" y="282"/>
                </a:lnTo>
                <a:lnTo>
                  <a:pt x="1278" y="282"/>
                </a:lnTo>
                <a:lnTo>
                  <a:pt x="1284" y="282"/>
                </a:lnTo>
                <a:lnTo>
                  <a:pt x="1290" y="282"/>
                </a:lnTo>
                <a:lnTo>
                  <a:pt x="1296" y="282"/>
                </a:lnTo>
                <a:lnTo>
                  <a:pt x="1296" y="306"/>
                </a:lnTo>
              </a:path>
            </a:pathLst>
          </a:custGeom>
          <a:solidFill>
            <a:srgbClr val="00cc99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81680" y="219240"/>
            <a:ext cx="3762360" cy="266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Singl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362560" y="808200"/>
            <a:ext cx="3200400" cy="169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attempt  was made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sure head-tail damping  as a function of the single bunch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the  positive chromaticity reg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0F7-6B1D-4E76-BB17-7DD1FF39FF5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B0E7E-7D3F-4985-986D-BA0930A81CCF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5734080" y="1257480"/>
            <a:ext cx="2333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verse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bilities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ociated to narrow band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74308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909720" y="5832360"/>
            <a:ext cx="411300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909720" y="5832360"/>
            <a:ext cx="4113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90972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3176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2344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1733400" y="5784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214164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0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25574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296712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941200" y="5864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3750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78936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3176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41990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46134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5868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02272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09720" y="583236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09720" y="4054320"/>
            <a:ext cx="411300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35200" y="563256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09720" y="4970520"/>
            <a:ext cx="411300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09720" y="5322960"/>
            <a:ext cx="411300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rot="16200000">
            <a:off x="2058480" y="4976280"/>
            <a:ext cx="47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m=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rot="16200000">
            <a:off x="3513600" y="501120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90120" y="4191120"/>
            <a:ext cx="36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m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rot="16200000">
            <a:off x="2343240" y="4567320"/>
            <a:ext cx="46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m=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09720" y="5322960"/>
            <a:ext cx="411300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943360" y="378936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12960" y="4970520"/>
            <a:ext cx="411300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909720" y="4054320"/>
            <a:ext cx="411300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908440" y="1278000"/>
            <a:ext cx="37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761920" y="1084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908440" y="695160"/>
            <a:ext cx="37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761920" y="50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2925720" y="388620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79480" y="2386080"/>
            <a:ext cx="41259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28916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196640" y="23572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11788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025000" y="2381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94804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945880" y="248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6704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725280" y="2417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459576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554000" y="2367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925720" y="35514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742840" y="33512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925720" y="29559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742840" y="2759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925720" y="238608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84760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925720" y="179064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779200" y="159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925720" y="11955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957400" y="434880"/>
            <a:ext cx="0" cy="351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74720" y="8715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( M 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81320" y="3414600"/>
            <a:ext cx="19479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Zero Chroma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19120" y="3281400"/>
            <a:ext cx="20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ultibunch beam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361800" y="3851280"/>
                <a:ext cx="22878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*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92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ω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</m:nary>
                      </m:e>
                    </m:nary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ω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ω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5" name=""/>
          <p:cNvGrpSpPr/>
          <p:nvPr/>
        </p:nvGrpSpPr>
        <p:grpSpPr>
          <a:xfrm>
            <a:off x="5092200" y="808200"/>
            <a:ext cx="3947040" cy="2687400"/>
            <a:chOff x="5092200" y="808200"/>
            <a:chExt cx="3947040" cy="2687400"/>
          </a:xfrm>
        </p:grpSpPr>
        <p:sp>
          <p:nvSpPr>
            <p:cNvPr id="806" name=""/>
            <p:cNvSpPr/>
            <p:nvPr/>
          </p:nvSpPr>
          <p:spPr>
            <a:xfrm>
              <a:off x="5235480" y="1150920"/>
              <a:ext cx="3160800" cy="2219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235480" y="2251080"/>
              <a:ext cx="3160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5235480" y="1150560"/>
              <a:ext cx="1800" cy="2219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5235480" y="3312720"/>
              <a:ext cx="18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186160" y="2289240"/>
              <a:ext cx="1134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5549760" y="226548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97200" y="2289240"/>
              <a:ext cx="1134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5869080" y="226548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819400" y="2289240"/>
              <a:ext cx="1134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6183360" y="226548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130800" y="2289240"/>
              <a:ext cx="1134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6502320" y="226548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453000" y="2289240"/>
              <a:ext cx="1134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6816600" y="226548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802200" y="2289240"/>
              <a:ext cx="70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7131240" y="226548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14680" y="2289240"/>
              <a:ext cx="70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7450200" y="226548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430760" y="2289240"/>
              <a:ext cx="70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7764480" y="226548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746480" y="2289240"/>
              <a:ext cx="70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8083440" y="226548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064000" y="2289240"/>
              <a:ext cx="70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8396280" y="226548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380080" y="2360520"/>
              <a:ext cx="70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5480" y="225108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092200" y="3294000"/>
              <a:ext cx="1836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235480" y="281772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144760" y="2741760"/>
              <a:ext cx="1134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35480" y="226548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176440" y="2189160"/>
              <a:ext cx="70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235480" y="170352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76440" y="1627200"/>
              <a:ext cx="70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235480" y="115092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122440" y="1074600"/>
              <a:ext cx="140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805800" y="22654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837480" y="1265400"/>
              <a:ext cx="1568520" cy="971280"/>
            </a:xfrm>
            <a:custGeom>
              <a:avLst/>
              <a:gdLst/>
              <a:ahLst/>
              <a:rect l="l" t="t" r="r" b="b"/>
              <a:pathLst>
                <a:path w="1770" h="612">
                  <a:moveTo>
                    <a:pt x="0" y="0"/>
                  </a:moveTo>
                  <a:lnTo>
                    <a:pt x="6" y="192"/>
                  </a:lnTo>
                  <a:lnTo>
                    <a:pt x="18" y="282"/>
                  </a:lnTo>
                  <a:lnTo>
                    <a:pt x="30" y="330"/>
                  </a:lnTo>
                  <a:lnTo>
                    <a:pt x="36" y="366"/>
                  </a:lnTo>
                  <a:lnTo>
                    <a:pt x="48" y="390"/>
                  </a:lnTo>
                  <a:lnTo>
                    <a:pt x="60" y="414"/>
                  </a:lnTo>
                  <a:lnTo>
                    <a:pt x="72" y="426"/>
                  </a:lnTo>
                  <a:lnTo>
                    <a:pt x="78" y="444"/>
                  </a:lnTo>
                  <a:lnTo>
                    <a:pt x="90" y="456"/>
                  </a:lnTo>
                  <a:lnTo>
                    <a:pt x="102" y="462"/>
                  </a:lnTo>
                  <a:lnTo>
                    <a:pt x="108" y="474"/>
                  </a:lnTo>
                  <a:lnTo>
                    <a:pt x="120" y="480"/>
                  </a:lnTo>
                  <a:lnTo>
                    <a:pt x="132" y="486"/>
                  </a:lnTo>
                  <a:lnTo>
                    <a:pt x="138" y="492"/>
                  </a:lnTo>
                  <a:lnTo>
                    <a:pt x="150" y="498"/>
                  </a:lnTo>
                  <a:lnTo>
                    <a:pt x="162" y="504"/>
                  </a:lnTo>
                  <a:lnTo>
                    <a:pt x="174" y="504"/>
                  </a:lnTo>
                  <a:lnTo>
                    <a:pt x="180" y="510"/>
                  </a:lnTo>
                  <a:lnTo>
                    <a:pt x="192" y="516"/>
                  </a:lnTo>
                  <a:lnTo>
                    <a:pt x="204" y="516"/>
                  </a:lnTo>
                  <a:lnTo>
                    <a:pt x="210" y="522"/>
                  </a:lnTo>
                  <a:lnTo>
                    <a:pt x="222" y="522"/>
                  </a:lnTo>
                  <a:lnTo>
                    <a:pt x="234" y="528"/>
                  </a:lnTo>
                  <a:lnTo>
                    <a:pt x="240" y="528"/>
                  </a:lnTo>
                  <a:lnTo>
                    <a:pt x="252" y="534"/>
                  </a:lnTo>
                  <a:lnTo>
                    <a:pt x="264" y="534"/>
                  </a:lnTo>
                  <a:lnTo>
                    <a:pt x="276" y="540"/>
                  </a:lnTo>
                  <a:lnTo>
                    <a:pt x="282" y="540"/>
                  </a:lnTo>
                  <a:lnTo>
                    <a:pt x="294" y="540"/>
                  </a:lnTo>
                  <a:lnTo>
                    <a:pt x="306" y="546"/>
                  </a:lnTo>
                  <a:lnTo>
                    <a:pt x="312" y="546"/>
                  </a:lnTo>
                  <a:lnTo>
                    <a:pt x="324" y="546"/>
                  </a:lnTo>
                  <a:lnTo>
                    <a:pt x="336" y="552"/>
                  </a:lnTo>
                  <a:lnTo>
                    <a:pt x="342" y="552"/>
                  </a:lnTo>
                  <a:lnTo>
                    <a:pt x="354" y="552"/>
                  </a:lnTo>
                  <a:lnTo>
                    <a:pt x="366" y="552"/>
                  </a:lnTo>
                  <a:lnTo>
                    <a:pt x="372" y="558"/>
                  </a:lnTo>
                  <a:lnTo>
                    <a:pt x="384" y="558"/>
                  </a:lnTo>
                  <a:lnTo>
                    <a:pt x="396" y="558"/>
                  </a:lnTo>
                  <a:lnTo>
                    <a:pt x="408" y="558"/>
                  </a:lnTo>
                  <a:lnTo>
                    <a:pt x="414" y="558"/>
                  </a:lnTo>
                  <a:lnTo>
                    <a:pt x="426" y="564"/>
                  </a:lnTo>
                  <a:lnTo>
                    <a:pt x="438" y="564"/>
                  </a:lnTo>
                  <a:lnTo>
                    <a:pt x="444" y="564"/>
                  </a:lnTo>
                  <a:lnTo>
                    <a:pt x="456" y="564"/>
                  </a:lnTo>
                  <a:lnTo>
                    <a:pt x="468" y="564"/>
                  </a:lnTo>
                  <a:lnTo>
                    <a:pt x="474" y="570"/>
                  </a:lnTo>
                  <a:lnTo>
                    <a:pt x="486" y="570"/>
                  </a:lnTo>
                  <a:lnTo>
                    <a:pt x="498" y="570"/>
                  </a:lnTo>
                  <a:lnTo>
                    <a:pt x="510" y="570"/>
                  </a:lnTo>
                  <a:lnTo>
                    <a:pt x="516" y="570"/>
                  </a:lnTo>
                  <a:lnTo>
                    <a:pt x="528" y="570"/>
                  </a:lnTo>
                  <a:lnTo>
                    <a:pt x="540" y="570"/>
                  </a:lnTo>
                  <a:lnTo>
                    <a:pt x="546" y="576"/>
                  </a:lnTo>
                  <a:lnTo>
                    <a:pt x="558" y="576"/>
                  </a:lnTo>
                  <a:lnTo>
                    <a:pt x="570" y="576"/>
                  </a:lnTo>
                  <a:lnTo>
                    <a:pt x="576" y="576"/>
                  </a:lnTo>
                  <a:lnTo>
                    <a:pt x="588" y="576"/>
                  </a:lnTo>
                  <a:lnTo>
                    <a:pt x="600" y="576"/>
                  </a:lnTo>
                  <a:lnTo>
                    <a:pt x="612" y="576"/>
                  </a:lnTo>
                  <a:lnTo>
                    <a:pt x="618" y="576"/>
                  </a:lnTo>
                  <a:lnTo>
                    <a:pt x="630" y="582"/>
                  </a:lnTo>
                  <a:lnTo>
                    <a:pt x="642" y="582"/>
                  </a:lnTo>
                  <a:lnTo>
                    <a:pt x="648" y="582"/>
                  </a:lnTo>
                  <a:lnTo>
                    <a:pt x="660" y="582"/>
                  </a:lnTo>
                  <a:lnTo>
                    <a:pt x="672" y="582"/>
                  </a:lnTo>
                  <a:lnTo>
                    <a:pt x="678" y="582"/>
                  </a:lnTo>
                  <a:lnTo>
                    <a:pt x="690" y="582"/>
                  </a:lnTo>
                  <a:lnTo>
                    <a:pt x="702" y="582"/>
                  </a:lnTo>
                  <a:lnTo>
                    <a:pt x="708" y="582"/>
                  </a:lnTo>
                  <a:lnTo>
                    <a:pt x="720" y="582"/>
                  </a:lnTo>
                  <a:lnTo>
                    <a:pt x="732" y="588"/>
                  </a:lnTo>
                  <a:lnTo>
                    <a:pt x="744" y="588"/>
                  </a:lnTo>
                  <a:lnTo>
                    <a:pt x="750" y="588"/>
                  </a:lnTo>
                  <a:lnTo>
                    <a:pt x="762" y="588"/>
                  </a:lnTo>
                  <a:lnTo>
                    <a:pt x="774" y="588"/>
                  </a:lnTo>
                  <a:lnTo>
                    <a:pt x="780" y="588"/>
                  </a:lnTo>
                  <a:lnTo>
                    <a:pt x="792" y="588"/>
                  </a:lnTo>
                  <a:lnTo>
                    <a:pt x="804" y="588"/>
                  </a:lnTo>
                  <a:lnTo>
                    <a:pt x="810" y="588"/>
                  </a:lnTo>
                  <a:lnTo>
                    <a:pt x="822" y="588"/>
                  </a:lnTo>
                  <a:lnTo>
                    <a:pt x="834" y="588"/>
                  </a:lnTo>
                  <a:lnTo>
                    <a:pt x="846" y="588"/>
                  </a:lnTo>
                  <a:lnTo>
                    <a:pt x="852" y="594"/>
                  </a:lnTo>
                  <a:lnTo>
                    <a:pt x="864" y="594"/>
                  </a:lnTo>
                  <a:lnTo>
                    <a:pt x="876" y="594"/>
                  </a:lnTo>
                  <a:lnTo>
                    <a:pt x="882" y="594"/>
                  </a:lnTo>
                  <a:lnTo>
                    <a:pt x="894" y="594"/>
                  </a:lnTo>
                  <a:lnTo>
                    <a:pt x="906" y="594"/>
                  </a:lnTo>
                  <a:lnTo>
                    <a:pt x="912" y="594"/>
                  </a:lnTo>
                  <a:lnTo>
                    <a:pt x="924" y="594"/>
                  </a:lnTo>
                  <a:lnTo>
                    <a:pt x="936" y="594"/>
                  </a:lnTo>
                  <a:lnTo>
                    <a:pt x="948" y="594"/>
                  </a:lnTo>
                  <a:lnTo>
                    <a:pt x="954" y="594"/>
                  </a:lnTo>
                  <a:lnTo>
                    <a:pt x="966" y="594"/>
                  </a:lnTo>
                  <a:lnTo>
                    <a:pt x="978" y="594"/>
                  </a:lnTo>
                  <a:lnTo>
                    <a:pt x="984" y="594"/>
                  </a:lnTo>
                  <a:lnTo>
                    <a:pt x="996" y="594"/>
                  </a:lnTo>
                  <a:lnTo>
                    <a:pt x="1008" y="594"/>
                  </a:lnTo>
                  <a:lnTo>
                    <a:pt x="1014" y="600"/>
                  </a:lnTo>
                  <a:lnTo>
                    <a:pt x="1026" y="600"/>
                  </a:lnTo>
                  <a:lnTo>
                    <a:pt x="1038" y="600"/>
                  </a:lnTo>
                  <a:lnTo>
                    <a:pt x="1050" y="600"/>
                  </a:lnTo>
                  <a:lnTo>
                    <a:pt x="1056" y="600"/>
                  </a:lnTo>
                  <a:lnTo>
                    <a:pt x="1068" y="600"/>
                  </a:lnTo>
                  <a:lnTo>
                    <a:pt x="1080" y="600"/>
                  </a:lnTo>
                  <a:lnTo>
                    <a:pt x="1086" y="600"/>
                  </a:lnTo>
                  <a:lnTo>
                    <a:pt x="1098" y="600"/>
                  </a:lnTo>
                  <a:lnTo>
                    <a:pt x="1110" y="600"/>
                  </a:lnTo>
                  <a:lnTo>
                    <a:pt x="1116" y="600"/>
                  </a:lnTo>
                  <a:lnTo>
                    <a:pt x="1128" y="600"/>
                  </a:lnTo>
                  <a:lnTo>
                    <a:pt x="1140" y="600"/>
                  </a:lnTo>
                  <a:lnTo>
                    <a:pt x="1146" y="600"/>
                  </a:lnTo>
                  <a:lnTo>
                    <a:pt x="1158" y="600"/>
                  </a:lnTo>
                  <a:lnTo>
                    <a:pt x="1170" y="600"/>
                  </a:lnTo>
                  <a:lnTo>
                    <a:pt x="1182" y="600"/>
                  </a:lnTo>
                  <a:lnTo>
                    <a:pt x="1188" y="600"/>
                  </a:lnTo>
                  <a:lnTo>
                    <a:pt x="1200" y="600"/>
                  </a:lnTo>
                  <a:lnTo>
                    <a:pt x="1212" y="600"/>
                  </a:lnTo>
                  <a:lnTo>
                    <a:pt x="1218" y="600"/>
                  </a:lnTo>
                  <a:lnTo>
                    <a:pt x="1230" y="606"/>
                  </a:lnTo>
                  <a:lnTo>
                    <a:pt x="1242" y="606"/>
                  </a:lnTo>
                  <a:lnTo>
                    <a:pt x="1248" y="606"/>
                  </a:lnTo>
                  <a:lnTo>
                    <a:pt x="1260" y="606"/>
                  </a:lnTo>
                  <a:lnTo>
                    <a:pt x="1272" y="606"/>
                  </a:lnTo>
                  <a:lnTo>
                    <a:pt x="1284" y="606"/>
                  </a:lnTo>
                  <a:lnTo>
                    <a:pt x="1290" y="606"/>
                  </a:lnTo>
                  <a:lnTo>
                    <a:pt x="1302" y="606"/>
                  </a:lnTo>
                  <a:lnTo>
                    <a:pt x="1314" y="606"/>
                  </a:lnTo>
                  <a:lnTo>
                    <a:pt x="1320" y="606"/>
                  </a:lnTo>
                  <a:lnTo>
                    <a:pt x="1332" y="606"/>
                  </a:lnTo>
                  <a:lnTo>
                    <a:pt x="1344" y="606"/>
                  </a:lnTo>
                  <a:lnTo>
                    <a:pt x="1350" y="606"/>
                  </a:lnTo>
                  <a:lnTo>
                    <a:pt x="1362" y="606"/>
                  </a:lnTo>
                  <a:lnTo>
                    <a:pt x="1374" y="606"/>
                  </a:lnTo>
                  <a:lnTo>
                    <a:pt x="1386" y="606"/>
                  </a:lnTo>
                  <a:lnTo>
                    <a:pt x="1392" y="606"/>
                  </a:lnTo>
                  <a:lnTo>
                    <a:pt x="1404" y="606"/>
                  </a:lnTo>
                  <a:lnTo>
                    <a:pt x="1416" y="606"/>
                  </a:lnTo>
                  <a:lnTo>
                    <a:pt x="1422" y="606"/>
                  </a:lnTo>
                  <a:lnTo>
                    <a:pt x="1434" y="606"/>
                  </a:lnTo>
                  <a:lnTo>
                    <a:pt x="1446" y="606"/>
                  </a:lnTo>
                  <a:lnTo>
                    <a:pt x="1452" y="606"/>
                  </a:lnTo>
                  <a:lnTo>
                    <a:pt x="1464" y="606"/>
                  </a:lnTo>
                  <a:lnTo>
                    <a:pt x="1476" y="606"/>
                  </a:lnTo>
                  <a:lnTo>
                    <a:pt x="1482" y="606"/>
                  </a:lnTo>
                  <a:lnTo>
                    <a:pt x="1494" y="606"/>
                  </a:lnTo>
                  <a:lnTo>
                    <a:pt x="1506" y="606"/>
                  </a:lnTo>
                  <a:lnTo>
                    <a:pt x="1518" y="606"/>
                  </a:lnTo>
                  <a:lnTo>
                    <a:pt x="1524" y="612"/>
                  </a:lnTo>
                  <a:lnTo>
                    <a:pt x="1536" y="612"/>
                  </a:lnTo>
                  <a:lnTo>
                    <a:pt x="1548" y="612"/>
                  </a:lnTo>
                  <a:lnTo>
                    <a:pt x="1554" y="612"/>
                  </a:lnTo>
                  <a:lnTo>
                    <a:pt x="1566" y="612"/>
                  </a:lnTo>
                  <a:lnTo>
                    <a:pt x="1578" y="612"/>
                  </a:lnTo>
                  <a:lnTo>
                    <a:pt x="1584" y="612"/>
                  </a:lnTo>
                  <a:lnTo>
                    <a:pt x="1596" y="612"/>
                  </a:lnTo>
                  <a:lnTo>
                    <a:pt x="1608" y="612"/>
                  </a:lnTo>
                  <a:lnTo>
                    <a:pt x="1620" y="612"/>
                  </a:lnTo>
                  <a:lnTo>
                    <a:pt x="1626" y="612"/>
                  </a:lnTo>
                  <a:lnTo>
                    <a:pt x="1638" y="612"/>
                  </a:lnTo>
                  <a:lnTo>
                    <a:pt x="1650" y="612"/>
                  </a:lnTo>
                  <a:lnTo>
                    <a:pt x="1656" y="612"/>
                  </a:lnTo>
                  <a:lnTo>
                    <a:pt x="1668" y="612"/>
                  </a:lnTo>
                  <a:lnTo>
                    <a:pt x="1680" y="612"/>
                  </a:lnTo>
                  <a:lnTo>
                    <a:pt x="1686" y="612"/>
                  </a:lnTo>
                  <a:lnTo>
                    <a:pt x="1698" y="612"/>
                  </a:lnTo>
                  <a:lnTo>
                    <a:pt x="1710" y="612"/>
                  </a:lnTo>
                  <a:lnTo>
                    <a:pt x="1722" y="612"/>
                  </a:lnTo>
                  <a:lnTo>
                    <a:pt x="1728" y="612"/>
                  </a:lnTo>
                  <a:lnTo>
                    <a:pt x="1740" y="612"/>
                  </a:lnTo>
                  <a:lnTo>
                    <a:pt x="1752" y="612"/>
                  </a:lnTo>
                  <a:lnTo>
                    <a:pt x="1758" y="612"/>
                  </a:lnTo>
                  <a:lnTo>
                    <a:pt x="1770" y="612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805800" y="1208160"/>
              <a:ext cx="144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827760" y="1265400"/>
              <a:ext cx="1568520" cy="971280"/>
            </a:xfrm>
            <a:custGeom>
              <a:avLst/>
              <a:gdLst/>
              <a:ahLst/>
              <a:rect l="l" t="t" r="r" b="b"/>
              <a:pathLst>
                <a:path w="1770" h="612">
                  <a:moveTo>
                    <a:pt x="0" y="0"/>
                  </a:moveTo>
                  <a:lnTo>
                    <a:pt x="6" y="192"/>
                  </a:lnTo>
                  <a:lnTo>
                    <a:pt x="18" y="282"/>
                  </a:lnTo>
                  <a:lnTo>
                    <a:pt x="30" y="330"/>
                  </a:lnTo>
                  <a:lnTo>
                    <a:pt x="36" y="366"/>
                  </a:lnTo>
                  <a:lnTo>
                    <a:pt x="48" y="390"/>
                  </a:lnTo>
                  <a:lnTo>
                    <a:pt x="60" y="414"/>
                  </a:lnTo>
                  <a:lnTo>
                    <a:pt x="72" y="426"/>
                  </a:lnTo>
                  <a:lnTo>
                    <a:pt x="78" y="444"/>
                  </a:lnTo>
                  <a:lnTo>
                    <a:pt x="90" y="456"/>
                  </a:lnTo>
                  <a:lnTo>
                    <a:pt x="102" y="462"/>
                  </a:lnTo>
                  <a:lnTo>
                    <a:pt x="108" y="474"/>
                  </a:lnTo>
                  <a:lnTo>
                    <a:pt x="120" y="480"/>
                  </a:lnTo>
                  <a:lnTo>
                    <a:pt x="132" y="486"/>
                  </a:lnTo>
                  <a:lnTo>
                    <a:pt x="138" y="492"/>
                  </a:lnTo>
                  <a:lnTo>
                    <a:pt x="150" y="498"/>
                  </a:lnTo>
                  <a:lnTo>
                    <a:pt x="162" y="504"/>
                  </a:lnTo>
                  <a:lnTo>
                    <a:pt x="174" y="504"/>
                  </a:lnTo>
                  <a:lnTo>
                    <a:pt x="180" y="510"/>
                  </a:lnTo>
                  <a:lnTo>
                    <a:pt x="192" y="516"/>
                  </a:lnTo>
                  <a:lnTo>
                    <a:pt x="204" y="516"/>
                  </a:lnTo>
                  <a:lnTo>
                    <a:pt x="210" y="522"/>
                  </a:lnTo>
                  <a:lnTo>
                    <a:pt x="222" y="522"/>
                  </a:lnTo>
                  <a:lnTo>
                    <a:pt x="234" y="528"/>
                  </a:lnTo>
                  <a:lnTo>
                    <a:pt x="240" y="528"/>
                  </a:lnTo>
                  <a:lnTo>
                    <a:pt x="252" y="534"/>
                  </a:lnTo>
                  <a:lnTo>
                    <a:pt x="264" y="534"/>
                  </a:lnTo>
                  <a:lnTo>
                    <a:pt x="276" y="540"/>
                  </a:lnTo>
                  <a:lnTo>
                    <a:pt x="282" y="540"/>
                  </a:lnTo>
                  <a:lnTo>
                    <a:pt x="294" y="540"/>
                  </a:lnTo>
                  <a:lnTo>
                    <a:pt x="306" y="546"/>
                  </a:lnTo>
                  <a:lnTo>
                    <a:pt x="312" y="546"/>
                  </a:lnTo>
                  <a:lnTo>
                    <a:pt x="324" y="546"/>
                  </a:lnTo>
                  <a:lnTo>
                    <a:pt x="336" y="552"/>
                  </a:lnTo>
                  <a:lnTo>
                    <a:pt x="342" y="552"/>
                  </a:lnTo>
                  <a:lnTo>
                    <a:pt x="354" y="552"/>
                  </a:lnTo>
                  <a:lnTo>
                    <a:pt x="366" y="552"/>
                  </a:lnTo>
                  <a:lnTo>
                    <a:pt x="372" y="558"/>
                  </a:lnTo>
                  <a:lnTo>
                    <a:pt x="384" y="558"/>
                  </a:lnTo>
                  <a:lnTo>
                    <a:pt x="396" y="558"/>
                  </a:lnTo>
                  <a:lnTo>
                    <a:pt x="408" y="558"/>
                  </a:lnTo>
                  <a:lnTo>
                    <a:pt x="414" y="558"/>
                  </a:lnTo>
                  <a:lnTo>
                    <a:pt x="426" y="564"/>
                  </a:lnTo>
                  <a:lnTo>
                    <a:pt x="438" y="564"/>
                  </a:lnTo>
                  <a:lnTo>
                    <a:pt x="444" y="564"/>
                  </a:lnTo>
                  <a:lnTo>
                    <a:pt x="456" y="564"/>
                  </a:lnTo>
                  <a:lnTo>
                    <a:pt x="468" y="564"/>
                  </a:lnTo>
                  <a:lnTo>
                    <a:pt x="474" y="570"/>
                  </a:lnTo>
                  <a:lnTo>
                    <a:pt x="486" y="570"/>
                  </a:lnTo>
                  <a:lnTo>
                    <a:pt x="498" y="570"/>
                  </a:lnTo>
                  <a:lnTo>
                    <a:pt x="510" y="570"/>
                  </a:lnTo>
                  <a:lnTo>
                    <a:pt x="516" y="570"/>
                  </a:lnTo>
                  <a:lnTo>
                    <a:pt x="528" y="570"/>
                  </a:lnTo>
                  <a:lnTo>
                    <a:pt x="540" y="570"/>
                  </a:lnTo>
                  <a:lnTo>
                    <a:pt x="546" y="576"/>
                  </a:lnTo>
                  <a:lnTo>
                    <a:pt x="558" y="576"/>
                  </a:lnTo>
                  <a:lnTo>
                    <a:pt x="570" y="576"/>
                  </a:lnTo>
                  <a:lnTo>
                    <a:pt x="576" y="576"/>
                  </a:lnTo>
                  <a:lnTo>
                    <a:pt x="588" y="576"/>
                  </a:lnTo>
                  <a:lnTo>
                    <a:pt x="600" y="576"/>
                  </a:lnTo>
                  <a:lnTo>
                    <a:pt x="612" y="576"/>
                  </a:lnTo>
                  <a:lnTo>
                    <a:pt x="618" y="576"/>
                  </a:lnTo>
                  <a:lnTo>
                    <a:pt x="630" y="582"/>
                  </a:lnTo>
                  <a:lnTo>
                    <a:pt x="642" y="582"/>
                  </a:lnTo>
                  <a:lnTo>
                    <a:pt x="648" y="582"/>
                  </a:lnTo>
                  <a:lnTo>
                    <a:pt x="660" y="582"/>
                  </a:lnTo>
                  <a:lnTo>
                    <a:pt x="672" y="582"/>
                  </a:lnTo>
                  <a:lnTo>
                    <a:pt x="678" y="582"/>
                  </a:lnTo>
                  <a:lnTo>
                    <a:pt x="690" y="582"/>
                  </a:lnTo>
                  <a:lnTo>
                    <a:pt x="702" y="582"/>
                  </a:lnTo>
                  <a:lnTo>
                    <a:pt x="708" y="582"/>
                  </a:lnTo>
                  <a:lnTo>
                    <a:pt x="720" y="582"/>
                  </a:lnTo>
                  <a:lnTo>
                    <a:pt x="732" y="588"/>
                  </a:lnTo>
                  <a:lnTo>
                    <a:pt x="744" y="588"/>
                  </a:lnTo>
                  <a:lnTo>
                    <a:pt x="750" y="588"/>
                  </a:lnTo>
                  <a:lnTo>
                    <a:pt x="762" y="588"/>
                  </a:lnTo>
                  <a:lnTo>
                    <a:pt x="774" y="588"/>
                  </a:lnTo>
                  <a:lnTo>
                    <a:pt x="780" y="588"/>
                  </a:lnTo>
                  <a:lnTo>
                    <a:pt x="792" y="588"/>
                  </a:lnTo>
                  <a:lnTo>
                    <a:pt x="804" y="588"/>
                  </a:lnTo>
                  <a:lnTo>
                    <a:pt x="810" y="588"/>
                  </a:lnTo>
                  <a:lnTo>
                    <a:pt x="822" y="588"/>
                  </a:lnTo>
                  <a:lnTo>
                    <a:pt x="834" y="588"/>
                  </a:lnTo>
                  <a:lnTo>
                    <a:pt x="846" y="588"/>
                  </a:lnTo>
                  <a:lnTo>
                    <a:pt x="852" y="594"/>
                  </a:lnTo>
                  <a:lnTo>
                    <a:pt x="864" y="594"/>
                  </a:lnTo>
                  <a:lnTo>
                    <a:pt x="876" y="594"/>
                  </a:lnTo>
                  <a:lnTo>
                    <a:pt x="882" y="594"/>
                  </a:lnTo>
                  <a:lnTo>
                    <a:pt x="894" y="594"/>
                  </a:lnTo>
                  <a:lnTo>
                    <a:pt x="906" y="594"/>
                  </a:lnTo>
                  <a:lnTo>
                    <a:pt x="912" y="594"/>
                  </a:lnTo>
                  <a:lnTo>
                    <a:pt x="924" y="594"/>
                  </a:lnTo>
                  <a:lnTo>
                    <a:pt x="936" y="594"/>
                  </a:lnTo>
                  <a:lnTo>
                    <a:pt x="948" y="594"/>
                  </a:lnTo>
                  <a:lnTo>
                    <a:pt x="954" y="594"/>
                  </a:lnTo>
                  <a:lnTo>
                    <a:pt x="966" y="594"/>
                  </a:lnTo>
                  <a:lnTo>
                    <a:pt x="978" y="594"/>
                  </a:lnTo>
                  <a:lnTo>
                    <a:pt x="984" y="594"/>
                  </a:lnTo>
                  <a:lnTo>
                    <a:pt x="996" y="594"/>
                  </a:lnTo>
                  <a:lnTo>
                    <a:pt x="1008" y="594"/>
                  </a:lnTo>
                  <a:lnTo>
                    <a:pt x="1014" y="600"/>
                  </a:lnTo>
                  <a:lnTo>
                    <a:pt x="1026" y="600"/>
                  </a:lnTo>
                  <a:lnTo>
                    <a:pt x="1038" y="600"/>
                  </a:lnTo>
                  <a:lnTo>
                    <a:pt x="1050" y="600"/>
                  </a:lnTo>
                  <a:lnTo>
                    <a:pt x="1056" y="600"/>
                  </a:lnTo>
                  <a:lnTo>
                    <a:pt x="1068" y="600"/>
                  </a:lnTo>
                  <a:lnTo>
                    <a:pt x="1080" y="600"/>
                  </a:lnTo>
                  <a:lnTo>
                    <a:pt x="1086" y="600"/>
                  </a:lnTo>
                  <a:lnTo>
                    <a:pt x="1098" y="600"/>
                  </a:lnTo>
                  <a:lnTo>
                    <a:pt x="1110" y="600"/>
                  </a:lnTo>
                  <a:lnTo>
                    <a:pt x="1116" y="600"/>
                  </a:lnTo>
                  <a:lnTo>
                    <a:pt x="1128" y="600"/>
                  </a:lnTo>
                  <a:lnTo>
                    <a:pt x="1140" y="600"/>
                  </a:lnTo>
                  <a:lnTo>
                    <a:pt x="1146" y="600"/>
                  </a:lnTo>
                  <a:lnTo>
                    <a:pt x="1158" y="600"/>
                  </a:lnTo>
                  <a:lnTo>
                    <a:pt x="1170" y="600"/>
                  </a:lnTo>
                  <a:lnTo>
                    <a:pt x="1182" y="600"/>
                  </a:lnTo>
                  <a:lnTo>
                    <a:pt x="1188" y="600"/>
                  </a:lnTo>
                  <a:lnTo>
                    <a:pt x="1200" y="600"/>
                  </a:lnTo>
                  <a:lnTo>
                    <a:pt x="1212" y="600"/>
                  </a:lnTo>
                  <a:lnTo>
                    <a:pt x="1218" y="600"/>
                  </a:lnTo>
                  <a:lnTo>
                    <a:pt x="1230" y="606"/>
                  </a:lnTo>
                  <a:lnTo>
                    <a:pt x="1242" y="606"/>
                  </a:lnTo>
                  <a:lnTo>
                    <a:pt x="1248" y="606"/>
                  </a:lnTo>
                  <a:lnTo>
                    <a:pt x="1260" y="606"/>
                  </a:lnTo>
                  <a:lnTo>
                    <a:pt x="1272" y="606"/>
                  </a:lnTo>
                  <a:lnTo>
                    <a:pt x="1284" y="606"/>
                  </a:lnTo>
                  <a:lnTo>
                    <a:pt x="1290" y="606"/>
                  </a:lnTo>
                  <a:lnTo>
                    <a:pt x="1302" y="606"/>
                  </a:lnTo>
                  <a:lnTo>
                    <a:pt x="1314" y="606"/>
                  </a:lnTo>
                  <a:lnTo>
                    <a:pt x="1320" y="606"/>
                  </a:lnTo>
                  <a:lnTo>
                    <a:pt x="1332" y="606"/>
                  </a:lnTo>
                  <a:lnTo>
                    <a:pt x="1344" y="606"/>
                  </a:lnTo>
                  <a:lnTo>
                    <a:pt x="1350" y="606"/>
                  </a:lnTo>
                  <a:lnTo>
                    <a:pt x="1362" y="606"/>
                  </a:lnTo>
                  <a:lnTo>
                    <a:pt x="1374" y="606"/>
                  </a:lnTo>
                  <a:lnTo>
                    <a:pt x="1386" y="606"/>
                  </a:lnTo>
                  <a:lnTo>
                    <a:pt x="1392" y="606"/>
                  </a:lnTo>
                  <a:lnTo>
                    <a:pt x="1404" y="606"/>
                  </a:lnTo>
                  <a:lnTo>
                    <a:pt x="1416" y="606"/>
                  </a:lnTo>
                  <a:lnTo>
                    <a:pt x="1422" y="606"/>
                  </a:lnTo>
                  <a:lnTo>
                    <a:pt x="1434" y="606"/>
                  </a:lnTo>
                  <a:lnTo>
                    <a:pt x="1446" y="606"/>
                  </a:lnTo>
                  <a:lnTo>
                    <a:pt x="1452" y="606"/>
                  </a:lnTo>
                  <a:lnTo>
                    <a:pt x="1464" y="606"/>
                  </a:lnTo>
                  <a:lnTo>
                    <a:pt x="1476" y="606"/>
                  </a:lnTo>
                  <a:lnTo>
                    <a:pt x="1482" y="606"/>
                  </a:lnTo>
                  <a:lnTo>
                    <a:pt x="1494" y="606"/>
                  </a:lnTo>
                  <a:lnTo>
                    <a:pt x="1506" y="606"/>
                  </a:lnTo>
                  <a:lnTo>
                    <a:pt x="1518" y="606"/>
                  </a:lnTo>
                  <a:lnTo>
                    <a:pt x="1524" y="612"/>
                  </a:lnTo>
                  <a:lnTo>
                    <a:pt x="1536" y="612"/>
                  </a:lnTo>
                  <a:lnTo>
                    <a:pt x="1548" y="612"/>
                  </a:lnTo>
                  <a:lnTo>
                    <a:pt x="1554" y="612"/>
                  </a:lnTo>
                  <a:lnTo>
                    <a:pt x="1566" y="612"/>
                  </a:lnTo>
                  <a:lnTo>
                    <a:pt x="1578" y="612"/>
                  </a:lnTo>
                  <a:lnTo>
                    <a:pt x="1584" y="612"/>
                  </a:lnTo>
                  <a:lnTo>
                    <a:pt x="1596" y="612"/>
                  </a:lnTo>
                  <a:lnTo>
                    <a:pt x="1608" y="612"/>
                  </a:lnTo>
                  <a:lnTo>
                    <a:pt x="1620" y="612"/>
                  </a:lnTo>
                  <a:lnTo>
                    <a:pt x="1626" y="612"/>
                  </a:lnTo>
                  <a:lnTo>
                    <a:pt x="1638" y="612"/>
                  </a:lnTo>
                  <a:lnTo>
                    <a:pt x="1650" y="612"/>
                  </a:lnTo>
                  <a:lnTo>
                    <a:pt x="1656" y="612"/>
                  </a:lnTo>
                  <a:lnTo>
                    <a:pt x="1668" y="612"/>
                  </a:lnTo>
                  <a:lnTo>
                    <a:pt x="1680" y="612"/>
                  </a:lnTo>
                  <a:lnTo>
                    <a:pt x="1686" y="612"/>
                  </a:lnTo>
                  <a:lnTo>
                    <a:pt x="1698" y="612"/>
                  </a:lnTo>
                  <a:lnTo>
                    <a:pt x="1710" y="612"/>
                  </a:lnTo>
                  <a:lnTo>
                    <a:pt x="1722" y="612"/>
                  </a:lnTo>
                  <a:lnTo>
                    <a:pt x="1728" y="612"/>
                  </a:lnTo>
                  <a:lnTo>
                    <a:pt x="1740" y="612"/>
                  </a:lnTo>
                  <a:lnTo>
                    <a:pt x="1752" y="612"/>
                  </a:lnTo>
                  <a:lnTo>
                    <a:pt x="1758" y="612"/>
                  </a:lnTo>
                  <a:lnTo>
                    <a:pt x="1770" y="612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717320" y="3005280"/>
              <a:ext cx="410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 (GHz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805800" y="22654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808680" y="1246320"/>
              <a:ext cx="1568520" cy="971280"/>
            </a:xfrm>
            <a:custGeom>
              <a:avLst/>
              <a:gdLst/>
              <a:ahLst/>
              <a:rect l="l" t="t" r="r" b="b"/>
              <a:pathLst>
                <a:path w="1770" h="612">
                  <a:moveTo>
                    <a:pt x="0" y="0"/>
                  </a:moveTo>
                  <a:lnTo>
                    <a:pt x="6" y="192"/>
                  </a:lnTo>
                  <a:lnTo>
                    <a:pt x="18" y="282"/>
                  </a:lnTo>
                  <a:lnTo>
                    <a:pt x="30" y="330"/>
                  </a:lnTo>
                  <a:lnTo>
                    <a:pt x="36" y="366"/>
                  </a:lnTo>
                  <a:lnTo>
                    <a:pt x="48" y="390"/>
                  </a:lnTo>
                  <a:lnTo>
                    <a:pt x="60" y="414"/>
                  </a:lnTo>
                  <a:lnTo>
                    <a:pt x="72" y="426"/>
                  </a:lnTo>
                  <a:lnTo>
                    <a:pt x="78" y="444"/>
                  </a:lnTo>
                  <a:lnTo>
                    <a:pt x="90" y="456"/>
                  </a:lnTo>
                  <a:lnTo>
                    <a:pt x="102" y="462"/>
                  </a:lnTo>
                  <a:lnTo>
                    <a:pt x="108" y="474"/>
                  </a:lnTo>
                  <a:lnTo>
                    <a:pt x="120" y="480"/>
                  </a:lnTo>
                  <a:lnTo>
                    <a:pt x="132" y="486"/>
                  </a:lnTo>
                  <a:lnTo>
                    <a:pt x="138" y="492"/>
                  </a:lnTo>
                  <a:lnTo>
                    <a:pt x="150" y="498"/>
                  </a:lnTo>
                  <a:lnTo>
                    <a:pt x="162" y="504"/>
                  </a:lnTo>
                  <a:lnTo>
                    <a:pt x="174" y="504"/>
                  </a:lnTo>
                  <a:lnTo>
                    <a:pt x="180" y="510"/>
                  </a:lnTo>
                  <a:lnTo>
                    <a:pt x="192" y="516"/>
                  </a:lnTo>
                  <a:lnTo>
                    <a:pt x="204" y="516"/>
                  </a:lnTo>
                  <a:lnTo>
                    <a:pt x="210" y="522"/>
                  </a:lnTo>
                  <a:lnTo>
                    <a:pt x="222" y="522"/>
                  </a:lnTo>
                  <a:lnTo>
                    <a:pt x="234" y="528"/>
                  </a:lnTo>
                  <a:lnTo>
                    <a:pt x="240" y="528"/>
                  </a:lnTo>
                  <a:lnTo>
                    <a:pt x="252" y="534"/>
                  </a:lnTo>
                  <a:lnTo>
                    <a:pt x="264" y="534"/>
                  </a:lnTo>
                  <a:lnTo>
                    <a:pt x="276" y="540"/>
                  </a:lnTo>
                  <a:lnTo>
                    <a:pt x="282" y="540"/>
                  </a:lnTo>
                  <a:lnTo>
                    <a:pt x="294" y="540"/>
                  </a:lnTo>
                  <a:lnTo>
                    <a:pt x="306" y="546"/>
                  </a:lnTo>
                  <a:lnTo>
                    <a:pt x="312" y="546"/>
                  </a:lnTo>
                  <a:lnTo>
                    <a:pt x="324" y="546"/>
                  </a:lnTo>
                  <a:lnTo>
                    <a:pt x="336" y="552"/>
                  </a:lnTo>
                  <a:lnTo>
                    <a:pt x="342" y="552"/>
                  </a:lnTo>
                  <a:lnTo>
                    <a:pt x="354" y="552"/>
                  </a:lnTo>
                  <a:lnTo>
                    <a:pt x="366" y="552"/>
                  </a:lnTo>
                  <a:lnTo>
                    <a:pt x="372" y="558"/>
                  </a:lnTo>
                  <a:lnTo>
                    <a:pt x="384" y="558"/>
                  </a:lnTo>
                  <a:lnTo>
                    <a:pt x="396" y="558"/>
                  </a:lnTo>
                  <a:lnTo>
                    <a:pt x="408" y="558"/>
                  </a:lnTo>
                  <a:lnTo>
                    <a:pt x="414" y="558"/>
                  </a:lnTo>
                  <a:lnTo>
                    <a:pt x="426" y="564"/>
                  </a:lnTo>
                  <a:lnTo>
                    <a:pt x="438" y="564"/>
                  </a:lnTo>
                  <a:lnTo>
                    <a:pt x="444" y="564"/>
                  </a:lnTo>
                  <a:lnTo>
                    <a:pt x="456" y="564"/>
                  </a:lnTo>
                  <a:lnTo>
                    <a:pt x="468" y="564"/>
                  </a:lnTo>
                  <a:lnTo>
                    <a:pt x="474" y="570"/>
                  </a:lnTo>
                  <a:lnTo>
                    <a:pt x="486" y="570"/>
                  </a:lnTo>
                  <a:lnTo>
                    <a:pt x="498" y="570"/>
                  </a:lnTo>
                  <a:lnTo>
                    <a:pt x="510" y="570"/>
                  </a:lnTo>
                  <a:lnTo>
                    <a:pt x="516" y="570"/>
                  </a:lnTo>
                  <a:lnTo>
                    <a:pt x="528" y="570"/>
                  </a:lnTo>
                  <a:lnTo>
                    <a:pt x="540" y="570"/>
                  </a:lnTo>
                  <a:lnTo>
                    <a:pt x="546" y="576"/>
                  </a:lnTo>
                  <a:lnTo>
                    <a:pt x="558" y="576"/>
                  </a:lnTo>
                  <a:lnTo>
                    <a:pt x="570" y="576"/>
                  </a:lnTo>
                  <a:lnTo>
                    <a:pt x="576" y="576"/>
                  </a:lnTo>
                  <a:lnTo>
                    <a:pt x="588" y="576"/>
                  </a:lnTo>
                  <a:lnTo>
                    <a:pt x="600" y="576"/>
                  </a:lnTo>
                  <a:lnTo>
                    <a:pt x="612" y="576"/>
                  </a:lnTo>
                  <a:lnTo>
                    <a:pt x="618" y="576"/>
                  </a:lnTo>
                  <a:lnTo>
                    <a:pt x="630" y="582"/>
                  </a:lnTo>
                  <a:lnTo>
                    <a:pt x="642" y="582"/>
                  </a:lnTo>
                  <a:lnTo>
                    <a:pt x="648" y="582"/>
                  </a:lnTo>
                  <a:lnTo>
                    <a:pt x="660" y="582"/>
                  </a:lnTo>
                  <a:lnTo>
                    <a:pt x="672" y="582"/>
                  </a:lnTo>
                  <a:lnTo>
                    <a:pt x="678" y="582"/>
                  </a:lnTo>
                  <a:lnTo>
                    <a:pt x="690" y="582"/>
                  </a:lnTo>
                  <a:lnTo>
                    <a:pt x="702" y="582"/>
                  </a:lnTo>
                  <a:lnTo>
                    <a:pt x="708" y="582"/>
                  </a:lnTo>
                  <a:lnTo>
                    <a:pt x="720" y="582"/>
                  </a:lnTo>
                  <a:lnTo>
                    <a:pt x="732" y="588"/>
                  </a:lnTo>
                  <a:lnTo>
                    <a:pt x="744" y="588"/>
                  </a:lnTo>
                  <a:lnTo>
                    <a:pt x="750" y="588"/>
                  </a:lnTo>
                  <a:lnTo>
                    <a:pt x="762" y="588"/>
                  </a:lnTo>
                  <a:lnTo>
                    <a:pt x="774" y="588"/>
                  </a:lnTo>
                  <a:lnTo>
                    <a:pt x="780" y="588"/>
                  </a:lnTo>
                  <a:lnTo>
                    <a:pt x="792" y="588"/>
                  </a:lnTo>
                  <a:lnTo>
                    <a:pt x="804" y="588"/>
                  </a:lnTo>
                  <a:lnTo>
                    <a:pt x="810" y="588"/>
                  </a:lnTo>
                  <a:lnTo>
                    <a:pt x="822" y="588"/>
                  </a:lnTo>
                  <a:lnTo>
                    <a:pt x="834" y="588"/>
                  </a:lnTo>
                  <a:lnTo>
                    <a:pt x="846" y="588"/>
                  </a:lnTo>
                  <a:lnTo>
                    <a:pt x="852" y="594"/>
                  </a:lnTo>
                  <a:lnTo>
                    <a:pt x="864" y="594"/>
                  </a:lnTo>
                  <a:lnTo>
                    <a:pt x="876" y="594"/>
                  </a:lnTo>
                  <a:lnTo>
                    <a:pt x="882" y="594"/>
                  </a:lnTo>
                  <a:lnTo>
                    <a:pt x="894" y="594"/>
                  </a:lnTo>
                  <a:lnTo>
                    <a:pt x="906" y="594"/>
                  </a:lnTo>
                  <a:lnTo>
                    <a:pt x="912" y="594"/>
                  </a:lnTo>
                  <a:lnTo>
                    <a:pt x="924" y="594"/>
                  </a:lnTo>
                  <a:lnTo>
                    <a:pt x="936" y="594"/>
                  </a:lnTo>
                  <a:lnTo>
                    <a:pt x="948" y="594"/>
                  </a:lnTo>
                  <a:lnTo>
                    <a:pt x="954" y="594"/>
                  </a:lnTo>
                  <a:lnTo>
                    <a:pt x="966" y="594"/>
                  </a:lnTo>
                  <a:lnTo>
                    <a:pt x="978" y="594"/>
                  </a:lnTo>
                  <a:lnTo>
                    <a:pt x="984" y="594"/>
                  </a:lnTo>
                  <a:lnTo>
                    <a:pt x="996" y="594"/>
                  </a:lnTo>
                  <a:lnTo>
                    <a:pt x="1008" y="594"/>
                  </a:lnTo>
                  <a:lnTo>
                    <a:pt x="1014" y="600"/>
                  </a:lnTo>
                  <a:lnTo>
                    <a:pt x="1026" y="600"/>
                  </a:lnTo>
                  <a:lnTo>
                    <a:pt x="1038" y="600"/>
                  </a:lnTo>
                  <a:lnTo>
                    <a:pt x="1050" y="600"/>
                  </a:lnTo>
                  <a:lnTo>
                    <a:pt x="1056" y="600"/>
                  </a:lnTo>
                  <a:lnTo>
                    <a:pt x="1068" y="600"/>
                  </a:lnTo>
                  <a:lnTo>
                    <a:pt x="1080" y="600"/>
                  </a:lnTo>
                  <a:lnTo>
                    <a:pt x="1086" y="600"/>
                  </a:lnTo>
                  <a:lnTo>
                    <a:pt x="1098" y="600"/>
                  </a:lnTo>
                  <a:lnTo>
                    <a:pt x="1110" y="600"/>
                  </a:lnTo>
                  <a:lnTo>
                    <a:pt x="1116" y="600"/>
                  </a:lnTo>
                  <a:lnTo>
                    <a:pt x="1128" y="600"/>
                  </a:lnTo>
                  <a:lnTo>
                    <a:pt x="1140" y="600"/>
                  </a:lnTo>
                  <a:lnTo>
                    <a:pt x="1146" y="600"/>
                  </a:lnTo>
                  <a:lnTo>
                    <a:pt x="1158" y="600"/>
                  </a:lnTo>
                  <a:lnTo>
                    <a:pt x="1170" y="600"/>
                  </a:lnTo>
                  <a:lnTo>
                    <a:pt x="1182" y="600"/>
                  </a:lnTo>
                  <a:lnTo>
                    <a:pt x="1188" y="600"/>
                  </a:lnTo>
                  <a:lnTo>
                    <a:pt x="1200" y="600"/>
                  </a:lnTo>
                  <a:lnTo>
                    <a:pt x="1212" y="600"/>
                  </a:lnTo>
                  <a:lnTo>
                    <a:pt x="1218" y="600"/>
                  </a:lnTo>
                  <a:lnTo>
                    <a:pt x="1230" y="606"/>
                  </a:lnTo>
                  <a:lnTo>
                    <a:pt x="1242" y="606"/>
                  </a:lnTo>
                  <a:lnTo>
                    <a:pt x="1248" y="606"/>
                  </a:lnTo>
                  <a:lnTo>
                    <a:pt x="1260" y="606"/>
                  </a:lnTo>
                  <a:lnTo>
                    <a:pt x="1272" y="606"/>
                  </a:lnTo>
                  <a:lnTo>
                    <a:pt x="1284" y="606"/>
                  </a:lnTo>
                  <a:lnTo>
                    <a:pt x="1290" y="606"/>
                  </a:lnTo>
                  <a:lnTo>
                    <a:pt x="1302" y="606"/>
                  </a:lnTo>
                  <a:lnTo>
                    <a:pt x="1314" y="606"/>
                  </a:lnTo>
                  <a:lnTo>
                    <a:pt x="1320" y="606"/>
                  </a:lnTo>
                  <a:lnTo>
                    <a:pt x="1332" y="606"/>
                  </a:lnTo>
                  <a:lnTo>
                    <a:pt x="1344" y="606"/>
                  </a:lnTo>
                  <a:lnTo>
                    <a:pt x="1350" y="606"/>
                  </a:lnTo>
                  <a:lnTo>
                    <a:pt x="1362" y="606"/>
                  </a:lnTo>
                  <a:lnTo>
                    <a:pt x="1374" y="606"/>
                  </a:lnTo>
                  <a:lnTo>
                    <a:pt x="1386" y="606"/>
                  </a:lnTo>
                  <a:lnTo>
                    <a:pt x="1392" y="606"/>
                  </a:lnTo>
                  <a:lnTo>
                    <a:pt x="1404" y="606"/>
                  </a:lnTo>
                  <a:lnTo>
                    <a:pt x="1416" y="606"/>
                  </a:lnTo>
                  <a:lnTo>
                    <a:pt x="1422" y="606"/>
                  </a:lnTo>
                  <a:lnTo>
                    <a:pt x="1434" y="606"/>
                  </a:lnTo>
                  <a:lnTo>
                    <a:pt x="1446" y="606"/>
                  </a:lnTo>
                  <a:lnTo>
                    <a:pt x="1452" y="606"/>
                  </a:lnTo>
                  <a:lnTo>
                    <a:pt x="1464" y="606"/>
                  </a:lnTo>
                  <a:lnTo>
                    <a:pt x="1476" y="606"/>
                  </a:lnTo>
                  <a:lnTo>
                    <a:pt x="1482" y="606"/>
                  </a:lnTo>
                  <a:lnTo>
                    <a:pt x="1494" y="606"/>
                  </a:lnTo>
                  <a:lnTo>
                    <a:pt x="1506" y="606"/>
                  </a:lnTo>
                  <a:lnTo>
                    <a:pt x="1518" y="606"/>
                  </a:lnTo>
                  <a:lnTo>
                    <a:pt x="1524" y="612"/>
                  </a:lnTo>
                  <a:lnTo>
                    <a:pt x="1536" y="612"/>
                  </a:lnTo>
                  <a:lnTo>
                    <a:pt x="1548" y="612"/>
                  </a:lnTo>
                  <a:lnTo>
                    <a:pt x="1554" y="612"/>
                  </a:lnTo>
                  <a:lnTo>
                    <a:pt x="1566" y="612"/>
                  </a:lnTo>
                  <a:lnTo>
                    <a:pt x="1578" y="612"/>
                  </a:lnTo>
                  <a:lnTo>
                    <a:pt x="1584" y="612"/>
                  </a:lnTo>
                  <a:lnTo>
                    <a:pt x="1596" y="612"/>
                  </a:lnTo>
                  <a:lnTo>
                    <a:pt x="1608" y="612"/>
                  </a:lnTo>
                  <a:lnTo>
                    <a:pt x="1620" y="612"/>
                  </a:lnTo>
                  <a:lnTo>
                    <a:pt x="1626" y="612"/>
                  </a:lnTo>
                  <a:lnTo>
                    <a:pt x="1638" y="612"/>
                  </a:lnTo>
                  <a:lnTo>
                    <a:pt x="1650" y="612"/>
                  </a:lnTo>
                  <a:lnTo>
                    <a:pt x="1656" y="612"/>
                  </a:lnTo>
                  <a:lnTo>
                    <a:pt x="1668" y="612"/>
                  </a:lnTo>
                  <a:lnTo>
                    <a:pt x="1680" y="612"/>
                  </a:lnTo>
                  <a:lnTo>
                    <a:pt x="1686" y="612"/>
                  </a:lnTo>
                  <a:lnTo>
                    <a:pt x="1698" y="612"/>
                  </a:lnTo>
                  <a:lnTo>
                    <a:pt x="1710" y="612"/>
                  </a:lnTo>
                  <a:lnTo>
                    <a:pt x="1722" y="612"/>
                  </a:lnTo>
                  <a:lnTo>
                    <a:pt x="1728" y="612"/>
                  </a:lnTo>
                  <a:lnTo>
                    <a:pt x="1740" y="612"/>
                  </a:lnTo>
                  <a:lnTo>
                    <a:pt x="1752" y="612"/>
                  </a:lnTo>
                  <a:lnTo>
                    <a:pt x="1758" y="612"/>
                  </a:lnTo>
                  <a:lnTo>
                    <a:pt x="1770" y="612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805800" y="1208160"/>
              <a:ext cx="144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818400" y="1255680"/>
              <a:ext cx="1568520" cy="971640"/>
            </a:xfrm>
            <a:custGeom>
              <a:avLst/>
              <a:gdLst/>
              <a:ahLst/>
              <a:rect l="l" t="t" r="r" b="b"/>
              <a:pathLst>
                <a:path w="1770" h="612">
                  <a:moveTo>
                    <a:pt x="0" y="0"/>
                  </a:moveTo>
                  <a:lnTo>
                    <a:pt x="6" y="192"/>
                  </a:lnTo>
                  <a:lnTo>
                    <a:pt x="18" y="282"/>
                  </a:lnTo>
                  <a:lnTo>
                    <a:pt x="30" y="330"/>
                  </a:lnTo>
                  <a:lnTo>
                    <a:pt x="36" y="366"/>
                  </a:lnTo>
                  <a:lnTo>
                    <a:pt x="48" y="390"/>
                  </a:lnTo>
                  <a:lnTo>
                    <a:pt x="60" y="414"/>
                  </a:lnTo>
                  <a:lnTo>
                    <a:pt x="72" y="426"/>
                  </a:lnTo>
                  <a:lnTo>
                    <a:pt x="78" y="444"/>
                  </a:lnTo>
                  <a:lnTo>
                    <a:pt x="90" y="456"/>
                  </a:lnTo>
                  <a:lnTo>
                    <a:pt x="102" y="462"/>
                  </a:lnTo>
                  <a:lnTo>
                    <a:pt x="108" y="474"/>
                  </a:lnTo>
                  <a:lnTo>
                    <a:pt x="120" y="480"/>
                  </a:lnTo>
                  <a:lnTo>
                    <a:pt x="132" y="486"/>
                  </a:lnTo>
                  <a:lnTo>
                    <a:pt x="138" y="492"/>
                  </a:lnTo>
                  <a:lnTo>
                    <a:pt x="150" y="498"/>
                  </a:lnTo>
                  <a:lnTo>
                    <a:pt x="162" y="504"/>
                  </a:lnTo>
                  <a:lnTo>
                    <a:pt x="174" y="504"/>
                  </a:lnTo>
                  <a:lnTo>
                    <a:pt x="180" y="510"/>
                  </a:lnTo>
                  <a:lnTo>
                    <a:pt x="192" y="516"/>
                  </a:lnTo>
                  <a:lnTo>
                    <a:pt x="204" y="516"/>
                  </a:lnTo>
                  <a:lnTo>
                    <a:pt x="210" y="522"/>
                  </a:lnTo>
                  <a:lnTo>
                    <a:pt x="222" y="522"/>
                  </a:lnTo>
                  <a:lnTo>
                    <a:pt x="234" y="528"/>
                  </a:lnTo>
                  <a:lnTo>
                    <a:pt x="240" y="528"/>
                  </a:lnTo>
                  <a:lnTo>
                    <a:pt x="252" y="534"/>
                  </a:lnTo>
                  <a:lnTo>
                    <a:pt x="264" y="534"/>
                  </a:lnTo>
                  <a:lnTo>
                    <a:pt x="276" y="540"/>
                  </a:lnTo>
                  <a:lnTo>
                    <a:pt x="282" y="540"/>
                  </a:lnTo>
                  <a:lnTo>
                    <a:pt x="294" y="540"/>
                  </a:lnTo>
                  <a:lnTo>
                    <a:pt x="306" y="546"/>
                  </a:lnTo>
                  <a:lnTo>
                    <a:pt x="312" y="546"/>
                  </a:lnTo>
                  <a:lnTo>
                    <a:pt x="324" y="546"/>
                  </a:lnTo>
                  <a:lnTo>
                    <a:pt x="336" y="552"/>
                  </a:lnTo>
                  <a:lnTo>
                    <a:pt x="342" y="552"/>
                  </a:lnTo>
                  <a:lnTo>
                    <a:pt x="354" y="552"/>
                  </a:lnTo>
                  <a:lnTo>
                    <a:pt x="366" y="552"/>
                  </a:lnTo>
                  <a:lnTo>
                    <a:pt x="372" y="558"/>
                  </a:lnTo>
                  <a:lnTo>
                    <a:pt x="384" y="558"/>
                  </a:lnTo>
                  <a:lnTo>
                    <a:pt x="396" y="558"/>
                  </a:lnTo>
                  <a:lnTo>
                    <a:pt x="408" y="558"/>
                  </a:lnTo>
                  <a:lnTo>
                    <a:pt x="414" y="558"/>
                  </a:lnTo>
                  <a:lnTo>
                    <a:pt x="426" y="564"/>
                  </a:lnTo>
                  <a:lnTo>
                    <a:pt x="438" y="564"/>
                  </a:lnTo>
                  <a:lnTo>
                    <a:pt x="444" y="564"/>
                  </a:lnTo>
                  <a:lnTo>
                    <a:pt x="456" y="564"/>
                  </a:lnTo>
                  <a:lnTo>
                    <a:pt x="468" y="564"/>
                  </a:lnTo>
                  <a:lnTo>
                    <a:pt x="474" y="570"/>
                  </a:lnTo>
                  <a:lnTo>
                    <a:pt x="486" y="570"/>
                  </a:lnTo>
                  <a:lnTo>
                    <a:pt x="498" y="570"/>
                  </a:lnTo>
                  <a:lnTo>
                    <a:pt x="510" y="570"/>
                  </a:lnTo>
                  <a:lnTo>
                    <a:pt x="516" y="570"/>
                  </a:lnTo>
                  <a:lnTo>
                    <a:pt x="528" y="570"/>
                  </a:lnTo>
                  <a:lnTo>
                    <a:pt x="540" y="570"/>
                  </a:lnTo>
                  <a:lnTo>
                    <a:pt x="546" y="576"/>
                  </a:lnTo>
                  <a:lnTo>
                    <a:pt x="558" y="576"/>
                  </a:lnTo>
                  <a:lnTo>
                    <a:pt x="570" y="576"/>
                  </a:lnTo>
                  <a:lnTo>
                    <a:pt x="576" y="576"/>
                  </a:lnTo>
                  <a:lnTo>
                    <a:pt x="588" y="576"/>
                  </a:lnTo>
                  <a:lnTo>
                    <a:pt x="600" y="576"/>
                  </a:lnTo>
                  <a:lnTo>
                    <a:pt x="612" y="576"/>
                  </a:lnTo>
                  <a:lnTo>
                    <a:pt x="618" y="576"/>
                  </a:lnTo>
                  <a:lnTo>
                    <a:pt x="630" y="582"/>
                  </a:lnTo>
                  <a:lnTo>
                    <a:pt x="642" y="582"/>
                  </a:lnTo>
                  <a:lnTo>
                    <a:pt x="648" y="582"/>
                  </a:lnTo>
                  <a:lnTo>
                    <a:pt x="660" y="582"/>
                  </a:lnTo>
                  <a:lnTo>
                    <a:pt x="672" y="582"/>
                  </a:lnTo>
                  <a:lnTo>
                    <a:pt x="678" y="582"/>
                  </a:lnTo>
                  <a:lnTo>
                    <a:pt x="690" y="582"/>
                  </a:lnTo>
                  <a:lnTo>
                    <a:pt x="702" y="582"/>
                  </a:lnTo>
                  <a:lnTo>
                    <a:pt x="708" y="582"/>
                  </a:lnTo>
                  <a:lnTo>
                    <a:pt x="720" y="582"/>
                  </a:lnTo>
                  <a:lnTo>
                    <a:pt x="732" y="588"/>
                  </a:lnTo>
                  <a:lnTo>
                    <a:pt x="744" y="588"/>
                  </a:lnTo>
                  <a:lnTo>
                    <a:pt x="750" y="588"/>
                  </a:lnTo>
                  <a:lnTo>
                    <a:pt x="762" y="588"/>
                  </a:lnTo>
                  <a:lnTo>
                    <a:pt x="774" y="588"/>
                  </a:lnTo>
                  <a:lnTo>
                    <a:pt x="780" y="588"/>
                  </a:lnTo>
                  <a:lnTo>
                    <a:pt x="792" y="588"/>
                  </a:lnTo>
                  <a:lnTo>
                    <a:pt x="804" y="588"/>
                  </a:lnTo>
                  <a:lnTo>
                    <a:pt x="810" y="588"/>
                  </a:lnTo>
                  <a:lnTo>
                    <a:pt x="822" y="588"/>
                  </a:lnTo>
                  <a:lnTo>
                    <a:pt x="834" y="588"/>
                  </a:lnTo>
                  <a:lnTo>
                    <a:pt x="846" y="588"/>
                  </a:lnTo>
                  <a:lnTo>
                    <a:pt x="852" y="594"/>
                  </a:lnTo>
                  <a:lnTo>
                    <a:pt x="864" y="594"/>
                  </a:lnTo>
                  <a:lnTo>
                    <a:pt x="876" y="594"/>
                  </a:lnTo>
                  <a:lnTo>
                    <a:pt x="882" y="594"/>
                  </a:lnTo>
                  <a:lnTo>
                    <a:pt x="894" y="594"/>
                  </a:lnTo>
                  <a:lnTo>
                    <a:pt x="906" y="594"/>
                  </a:lnTo>
                  <a:lnTo>
                    <a:pt x="912" y="594"/>
                  </a:lnTo>
                  <a:lnTo>
                    <a:pt x="924" y="594"/>
                  </a:lnTo>
                  <a:lnTo>
                    <a:pt x="936" y="594"/>
                  </a:lnTo>
                  <a:lnTo>
                    <a:pt x="948" y="594"/>
                  </a:lnTo>
                  <a:lnTo>
                    <a:pt x="954" y="594"/>
                  </a:lnTo>
                  <a:lnTo>
                    <a:pt x="966" y="594"/>
                  </a:lnTo>
                  <a:lnTo>
                    <a:pt x="978" y="594"/>
                  </a:lnTo>
                  <a:lnTo>
                    <a:pt x="984" y="594"/>
                  </a:lnTo>
                  <a:lnTo>
                    <a:pt x="996" y="594"/>
                  </a:lnTo>
                  <a:lnTo>
                    <a:pt x="1008" y="594"/>
                  </a:lnTo>
                  <a:lnTo>
                    <a:pt x="1014" y="600"/>
                  </a:lnTo>
                  <a:lnTo>
                    <a:pt x="1026" y="600"/>
                  </a:lnTo>
                  <a:lnTo>
                    <a:pt x="1038" y="600"/>
                  </a:lnTo>
                  <a:lnTo>
                    <a:pt x="1050" y="600"/>
                  </a:lnTo>
                  <a:lnTo>
                    <a:pt x="1056" y="600"/>
                  </a:lnTo>
                  <a:lnTo>
                    <a:pt x="1068" y="600"/>
                  </a:lnTo>
                  <a:lnTo>
                    <a:pt x="1080" y="600"/>
                  </a:lnTo>
                  <a:lnTo>
                    <a:pt x="1086" y="600"/>
                  </a:lnTo>
                  <a:lnTo>
                    <a:pt x="1098" y="600"/>
                  </a:lnTo>
                  <a:lnTo>
                    <a:pt x="1110" y="600"/>
                  </a:lnTo>
                  <a:lnTo>
                    <a:pt x="1116" y="600"/>
                  </a:lnTo>
                  <a:lnTo>
                    <a:pt x="1128" y="600"/>
                  </a:lnTo>
                  <a:lnTo>
                    <a:pt x="1140" y="600"/>
                  </a:lnTo>
                  <a:lnTo>
                    <a:pt x="1146" y="600"/>
                  </a:lnTo>
                  <a:lnTo>
                    <a:pt x="1158" y="600"/>
                  </a:lnTo>
                  <a:lnTo>
                    <a:pt x="1170" y="600"/>
                  </a:lnTo>
                  <a:lnTo>
                    <a:pt x="1182" y="600"/>
                  </a:lnTo>
                  <a:lnTo>
                    <a:pt x="1188" y="600"/>
                  </a:lnTo>
                  <a:lnTo>
                    <a:pt x="1200" y="600"/>
                  </a:lnTo>
                  <a:lnTo>
                    <a:pt x="1212" y="600"/>
                  </a:lnTo>
                  <a:lnTo>
                    <a:pt x="1218" y="600"/>
                  </a:lnTo>
                  <a:lnTo>
                    <a:pt x="1230" y="606"/>
                  </a:lnTo>
                  <a:lnTo>
                    <a:pt x="1242" y="606"/>
                  </a:lnTo>
                  <a:lnTo>
                    <a:pt x="1248" y="606"/>
                  </a:lnTo>
                  <a:lnTo>
                    <a:pt x="1260" y="606"/>
                  </a:lnTo>
                  <a:lnTo>
                    <a:pt x="1272" y="606"/>
                  </a:lnTo>
                  <a:lnTo>
                    <a:pt x="1284" y="606"/>
                  </a:lnTo>
                  <a:lnTo>
                    <a:pt x="1290" y="606"/>
                  </a:lnTo>
                  <a:lnTo>
                    <a:pt x="1302" y="606"/>
                  </a:lnTo>
                  <a:lnTo>
                    <a:pt x="1314" y="606"/>
                  </a:lnTo>
                  <a:lnTo>
                    <a:pt x="1320" y="606"/>
                  </a:lnTo>
                  <a:lnTo>
                    <a:pt x="1332" y="606"/>
                  </a:lnTo>
                  <a:lnTo>
                    <a:pt x="1344" y="606"/>
                  </a:lnTo>
                  <a:lnTo>
                    <a:pt x="1350" y="606"/>
                  </a:lnTo>
                  <a:lnTo>
                    <a:pt x="1362" y="606"/>
                  </a:lnTo>
                  <a:lnTo>
                    <a:pt x="1374" y="606"/>
                  </a:lnTo>
                  <a:lnTo>
                    <a:pt x="1386" y="606"/>
                  </a:lnTo>
                  <a:lnTo>
                    <a:pt x="1392" y="606"/>
                  </a:lnTo>
                  <a:lnTo>
                    <a:pt x="1404" y="606"/>
                  </a:lnTo>
                  <a:lnTo>
                    <a:pt x="1416" y="606"/>
                  </a:lnTo>
                  <a:lnTo>
                    <a:pt x="1422" y="606"/>
                  </a:lnTo>
                  <a:lnTo>
                    <a:pt x="1434" y="606"/>
                  </a:lnTo>
                  <a:lnTo>
                    <a:pt x="1446" y="606"/>
                  </a:lnTo>
                  <a:lnTo>
                    <a:pt x="1452" y="606"/>
                  </a:lnTo>
                  <a:lnTo>
                    <a:pt x="1464" y="606"/>
                  </a:lnTo>
                  <a:lnTo>
                    <a:pt x="1476" y="606"/>
                  </a:lnTo>
                  <a:lnTo>
                    <a:pt x="1482" y="606"/>
                  </a:lnTo>
                  <a:lnTo>
                    <a:pt x="1494" y="606"/>
                  </a:lnTo>
                  <a:lnTo>
                    <a:pt x="1506" y="606"/>
                  </a:lnTo>
                  <a:lnTo>
                    <a:pt x="1518" y="606"/>
                  </a:lnTo>
                  <a:lnTo>
                    <a:pt x="1524" y="612"/>
                  </a:lnTo>
                  <a:lnTo>
                    <a:pt x="1536" y="612"/>
                  </a:lnTo>
                  <a:lnTo>
                    <a:pt x="1548" y="612"/>
                  </a:lnTo>
                  <a:lnTo>
                    <a:pt x="1554" y="612"/>
                  </a:lnTo>
                  <a:lnTo>
                    <a:pt x="1566" y="612"/>
                  </a:lnTo>
                  <a:lnTo>
                    <a:pt x="1578" y="612"/>
                  </a:lnTo>
                  <a:lnTo>
                    <a:pt x="1584" y="612"/>
                  </a:lnTo>
                  <a:lnTo>
                    <a:pt x="1596" y="612"/>
                  </a:lnTo>
                  <a:lnTo>
                    <a:pt x="1608" y="612"/>
                  </a:lnTo>
                  <a:lnTo>
                    <a:pt x="1620" y="612"/>
                  </a:lnTo>
                  <a:lnTo>
                    <a:pt x="1626" y="612"/>
                  </a:lnTo>
                  <a:lnTo>
                    <a:pt x="1638" y="612"/>
                  </a:lnTo>
                  <a:lnTo>
                    <a:pt x="1650" y="612"/>
                  </a:lnTo>
                  <a:lnTo>
                    <a:pt x="1656" y="612"/>
                  </a:lnTo>
                  <a:lnTo>
                    <a:pt x="1668" y="612"/>
                  </a:lnTo>
                  <a:lnTo>
                    <a:pt x="1680" y="612"/>
                  </a:lnTo>
                  <a:lnTo>
                    <a:pt x="1686" y="612"/>
                  </a:lnTo>
                  <a:lnTo>
                    <a:pt x="1698" y="612"/>
                  </a:lnTo>
                  <a:lnTo>
                    <a:pt x="1710" y="612"/>
                  </a:lnTo>
                  <a:lnTo>
                    <a:pt x="1722" y="612"/>
                  </a:lnTo>
                  <a:lnTo>
                    <a:pt x="1728" y="612"/>
                  </a:lnTo>
                  <a:lnTo>
                    <a:pt x="1740" y="612"/>
                  </a:lnTo>
                  <a:lnTo>
                    <a:pt x="1752" y="612"/>
                  </a:lnTo>
                  <a:lnTo>
                    <a:pt x="1758" y="612"/>
                  </a:lnTo>
                  <a:lnTo>
                    <a:pt x="1770" y="612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235480" y="2417760"/>
              <a:ext cx="1570320" cy="971640"/>
            </a:xfrm>
            <a:custGeom>
              <a:avLst/>
              <a:gdLst/>
              <a:ahLst/>
              <a:rect l="l" t="t" r="r" b="b"/>
              <a:pathLst>
                <a:path w="1771" h="612">
                  <a:moveTo>
                    <a:pt x="0" y="0"/>
                  </a:moveTo>
                  <a:lnTo>
                    <a:pt x="12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62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2" y="6"/>
                  </a:lnTo>
                  <a:lnTo>
                    <a:pt x="264" y="6"/>
                  </a:lnTo>
                  <a:lnTo>
                    <a:pt x="276" y="6"/>
                  </a:lnTo>
                  <a:lnTo>
                    <a:pt x="288" y="6"/>
                  </a:lnTo>
                  <a:lnTo>
                    <a:pt x="294" y="6"/>
                  </a:lnTo>
                  <a:lnTo>
                    <a:pt x="306" y="6"/>
                  </a:lnTo>
                  <a:lnTo>
                    <a:pt x="318" y="6"/>
                  </a:lnTo>
                  <a:lnTo>
                    <a:pt x="324" y="6"/>
                  </a:lnTo>
                  <a:lnTo>
                    <a:pt x="336" y="6"/>
                  </a:lnTo>
                  <a:lnTo>
                    <a:pt x="348" y="6"/>
                  </a:lnTo>
                  <a:lnTo>
                    <a:pt x="354" y="6"/>
                  </a:lnTo>
                  <a:lnTo>
                    <a:pt x="366" y="6"/>
                  </a:lnTo>
                  <a:lnTo>
                    <a:pt x="378" y="6"/>
                  </a:lnTo>
                  <a:lnTo>
                    <a:pt x="384" y="6"/>
                  </a:lnTo>
                  <a:lnTo>
                    <a:pt x="396" y="6"/>
                  </a:lnTo>
                  <a:lnTo>
                    <a:pt x="408" y="6"/>
                  </a:lnTo>
                  <a:lnTo>
                    <a:pt x="420" y="6"/>
                  </a:lnTo>
                  <a:lnTo>
                    <a:pt x="426" y="6"/>
                  </a:lnTo>
                  <a:lnTo>
                    <a:pt x="438" y="6"/>
                  </a:lnTo>
                  <a:lnTo>
                    <a:pt x="450" y="6"/>
                  </a:lnTo>
                  <a:lnTo>
                    <a:pt x="456" y="6"/>
                  </a:lnTo>
                  <a:lnTo>
                    <a:pt x="468" y="6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498" y="6"/>
                  </a:lnTo>
                  <a:lnTo>
                    <a:pt x="510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40" y="6"/>
                  </a:lnTo>
                  <a:lnTo>
                    <a:pt x="552" y="12"/>
                  </a:lnTo>
                  <a:lnTo>
                    <a:pt x="558" y="12"/>
                  </a:lnTo>
                  <a:lnTo>
                    <a:pt x="570" y="12"/>
                  </a:lnTo>
                  <a:lnTo>
                    <a:pt x="582" y="12"/>
                  </a:lnTo>
                  <a:lnTo>
                    <a:pt x="588" y="12"/>
                  </a:lnTo>
                  <a:lnTo>
                    <a:pt x="600" y="12"/>
                  </a:lnTo>
                  <a:lnTo>
                    <a:pt x="612" y="12"/>
                  </a:lnTo>
                  <a:lnTo>
                    <a:pt x="624" y="12"/>
                  </a:lnTo>
                  <a:lnTo>
                    <a:pt x="630" y="12"/>
                  </a:lnTo>
                  <a:lnTo>
                    <a:pt x="642" y="12"/>
                  </a:lnTo>
                  <a:lnTo>
                    <a:pt x="654" y="12"/>
                  </a:lnTo>
                  <a:lnTo>
                    <a:pt x="660" y="12"/>
                  </a:lnTo>
                  <a:lnTo>
                    <a:pt x="672" y="12"/>
                  </a:lnTo>
                  <a:lnTo>
                    <a:pt x="684" y="12"/>
                  </a:lnTo>
                  <a:lnTo>
                    <a:pt x="690" y="12"/>
                  </a:lnTo>
                  <a:lnTo>
                    <a:pt x="702" y="12"/>
                  </a:lnTo>
                  <a:lnTo>
                    <a:pt x="714" y="12"/>
                  </a:lnTo>
                  <a:lnTo>
                    <a:pt x="720" y="12"/>
                  </a:lnTo>
                  <a:lnTo>
                    <a:pt x="732" y="12"/>
                  </a:lnTo>
                  <a:lnTo>
                    <a:pt x="744" y="12"/>
                  </a:lnTo>
                  <a:lnTo>
                    <a:pt x="756" y="12"/>
                  </a:lnTo>
                  <a:lnTo>
                    <a:pt x="762" y="18"/>
                  </a:lnTo>
                  <a:lnTo>
                    <a:pt x="774" y="18"/>
                  </a:lnTo>
                  <a:lnTo>
                    <a:pt x="786" y="18"/>
                  </a:lnTo>
                  <a:lnTo>
                    <a:pt x="792" y="18"/>
                  </a:lnTo>
                  <a:lnTo>
                    <a:pt x="804" y="18"/>
                  </a:lnTo>
                  <a:lnTo>
                    <a:pt x="816" y="18"/>
                  </a:lnTo>
                  <a:lnTo>
                    <a:pt x="822" y="18"/>
                  </a:lnTo>
                  <a:lnTo>
                    <a:pt x="834" y="18"/>
                  </a:lnTo>
                  <a:lnTo>
                    <a:pt x="846" y="18"/>
                  </a:lnTo>
                  <a:lnTo>
                    <a:pt x="858" y="18"/>
                  </a:lnTo>
                  <a:lnTo>
                    <a:pt x="864" y="18"/>
                  </a:lnTo>
                  <a:lnTo>
                    <a:pt x="876" y="18"/>
                  </a:lnTo>
                  <a:lnTo>
                    <a:pt x="888" y="18"/>
                  </a:lnTo>
                  <a:lnTo>
                    <a:pt x="894" y="18"/>
                  </a:lnTo>
                  <a:lnTo>
                    <a:pt x="906" y="18"/>
                  </a:lnTo>
                  <a:lnTo>
                    <a:pt x="918" y="18"/>
                  </a:lnTo>
                  <a:lnTo>
                    <a:pt x="924" y="24"/>
                  </a:lnTo>
                  <a:lnTo>
                    <a:pt x="936" y="24"/>
                  </a:lnTo>
                  <a:lnTo>
                    <a:pt x="948" y="24"/>
                  </a:lnTo>
                  <a:lnTo>
                    <a:pt x="960" y="24"/>
                  </a:lnTo>
                  <a:lnTo>
                    <a:pt x="966" y="24"/>
                  </a:lnTo>
                  <a:lnTo>
                    <a:pt x="978" y="24"/>
                  </a:lnTo>
                  <a:lnTo>
                    <a:pt x="990" y="24"/>
                  </a:lnTo>
                  <a:lnTo>
                    <a:pt x="996" y="24"/>
                  </a:lnTo>
                  <a:lnTo>
                    <a:pt x="1008" y="24"/>
                  </a:lnTo>
                  <a:lnTo>
                    <a:pt x="1020" y="24"/>
                  </a:lnTo>
                  <a:lnTo>
                    <a:pt x="1026" y="24"/>
                  </a:lnTo>
                  <a:lnTo>
                    <a:pt x="1038" y="24"/>
                  </a:lnTo>
                  <a:lnTo>
                    <a:pt x="1050" y="30"/>
                  </a:lnTo>
                  <a:lnTo>
                    <a:pt x="1062" y="30"/>
                  </a:lnTo>
                  <a:lnTo>
                    <a:pt x="1068" y="30"/>
                  </a:lnTo>
                  <a:lnTo>
                    <a:pt x="1080" y="30"/>
                  </a:lnTo>
                  <a:lnTo>
                    <a:pt x="1092" y="30"/>
                  </a:lnTo>
                  <a:lnTo>
                    <a:pt x="1098" y="30"/>
                  </a:lnTo>
                  <a:lnTo>
                    <a:pt x="1110" y="30"/>
                  </a:lnTo>
                  <a:lnTo>
                    <a:pt x="1122" y="30"/>
                  </a:lnTo>
                  <a:lnTo>
                    <a:pt x="1128" y="30"/>
                  </a:lnTo>
                  <a:lnTo>
                    <a:pt x="1140" y="30"/>
                  </a:lnTo>
                  <a:lnTo>
                    <a:pt x="1152" y="36"/>
                  </a:lnTo>
                  <a:lnTo>
                    <a:pt x="1158" y="36"/>
                  </a:lnTo>
                  <a:lnTo>
                    <a:pt x="1170" y="36"/>
                  </a:lnTo>
                  <a:lnTo>
                    <a:pt x="1182" y="36"/>
                  </a:lnTo>
                  <a:lnTo>
                    <a:pt x="1194" y="36"/>
                  </a:lnTo>
                  <a:lnTo>
                    <a:pt x="1200" y="36"/>
                  </a:lnTo>
                  <a:lnTo>
                    <a:pt x="1212" y="36"/>
                  </a:lnTo>
                  <a:lnTo>
                    <a:pt x="1224" y="36"/>
                  </a:lnTo>
                  <a:lnTo>
                    <a:pt x="1230" y="42"/>
                  </a:lnTo>
                  <a:lnTo>
                    <a:pt x="1242" y="42"/>
                  </a:lnTo>
                  <a:lnTo>
                    <a:pt x="1254" y="42"/>
                  </a:lnTo>
                  <a:lnTo>
                    <a:pt x="1260" y="42"/>
                  </a:lnTo>
                  <a:lnTo>
                    <a:pt x="1272" y="42"/>
                  </a:lnTo>
                  <a:lnTo>
                    <a:pt x="1284" y="42"/>
                  </a:lnTo>
                  <a:lnTo>
                    <a:pt x="1296" y="42"/>
                  </a:lnTo>
                  <a:lnTo>
                    <a:pt x="1302" y="48"/>
                  </a:lnTo>
                  <a:lnTo>
                    <a:pt x="1314" y="48"/>
                  </a:lnTo>
                  <a:lnTo>
                    <a:pt x="1326" y="48"/>
                  </a:lnTo>
                  <a:lnTo>
                    <a:pt x="1332" y="48"/>
                  </a:lnTo>
                  <a:lnTo>
                    <a:pt x="1344" y="48"/>
                  </a:lnTo>
                  <a:lnTo>
                    <a:pt x="1356" y="54"/>
                  </a:lnTo>
                  <a:lnTo>
                    <a:pt x="1362" y="54"/>
                  </a:lnTo>
                  <a:lnTo>
                    <a:pt x="1374" y="54"/>
                  </a:lnTo>
                  <a:lnTo>
                    <a:pt x="1386" y="54"/>
                  </a:lnTo>
                  <a:lnTo>
                    <a:pt x="1398" y="54"/>
                  </a:lnTo>
                  <a:lnTo>
                    <a:pt x="1404" y="60"/>
                  </a:lnTo>
                  <a:lnTo>
                    <a:pt x="1416" y="60"/>
                  </a:lnTo>
                  <a:lnTo>
                    <a:pt x="1428" y="60"/>
                  </a:lnTo>
                  <a:lnTo>
                    <a:pt x="1434" y="60"/>
                  </a:lnTo>
                  <a:lnTo>
                    <a:pt x="1446" y="66"/>
                  </a:lnTo>
                  <a:lnTo>
                    <a:pt x="1458" y="66"/>
                  </a:lnTo>
                  <a:lnTo>
                    <a:pt x="1464" y="66"/>
                  </a:lnTo>
                  <a:lnTo>
                    <a:pt x="1476" y="72"/>
                  </a:lnTo>
                  <a:lnTo>
                    <a:pt x="1488" y="72"/>
                  </a:lnTo>
                  <a:lnTo>
                    <a:pt x="1494" y="72"/>
                  </a:lnTo>
                  <a:lnTo>
                    <a:pt x="1506" y="78"/>
                  </a:lnTo>
                  <a:lnTo>
                    <a:pt x="1518" y="78"/>
                  </a:lnTo>
                  <a:lnTo>
                    <a:pt x="1530" y="84"/>
                  </a:lnTo>
                  <a:lnTo>
                    <a:pt x="1536" y="84"/>
                  </a:lnTo>
                  <a:lnTo>
                    <a:pt x="1548" y="90"/>
                  </a:lnTo>
                  <a:lnTo>
                    <a:pt x="1561" y="90"/>
                  </a:lnTo>
                  <a:lnTo>
                    <a:pt x="1567" y="96"/>
                  </a:lnTo>
                  <a:lnTo>
                    <a:pt x="1579" y="96"/>
                  </a:lnTo>
                  <a:lnTo>
                    <a:pt x="1591" y="102"/>
                  </a:lnTo>
                  <a:lnTo>
                    <a:pt x="1597" y="108"/>
                  </a:lnTo>
                  <a:lnTo>
                    <a:pt x="1609" y="108"/>
                  </a:lnTo>
                  <a:lnTo>
                    <a:pt x="1621" y="114"/>
                  </a:lnTo>
                  <a:lnTo>
                    <a:pt x="1633" y="120"/>
                  </a:lnTo>
                  <a:lnTo>
                    <a:pt x="1639" y="126"/>
                  </a:lnTo>
                  <a:lnTo>
                    <a:pt x="1651" y="132"/>
                  </a:lnTo>
                  <a:lnTo>
                    <a:pt x="1663" y="138"/>
                  </a:lnTo>
                  <a:lnTo>
                    <a:pt x="1669" y="150"/>
                  </a:lnTo>
                  <a:lnTo>
                    <a:pt x="1681" y="156"/>
                  </a:lnTo>
                  <a:lnTo>
                    <a:pt x="1693" y="168"/>
                  </a:lnTo>
                  <a:lnTo>
                    <a:pt x="1699" y="186"/>
                  </a:lnTo>
                  <a:lnTo>
                    <a:pt x="1711" y="198"/>
                  </a:lnTo>
                  <a:lnTo>
                    <a:pt x="1723" y="222"/>
                  </a:lnTo>
                  <a:lnTo>
                    <a:pt x="1735" y="246"/>
                  </a:lnTo>
                  <a:lnTo>
                    <a:pt x="1741" y="282"/>
                  </a:lnTo>
                  <a:lnTo>
                    <a:pt x="1753" y="330"/>
                  </a:lnTo>
                  <a:lnTo>
                    <a:pt x="1765" y="420"/>
                  </a:lnTo>
                  <a:lnTo>
                    <a:pt x="1771" y="612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827760" y="1208160"/>
              <a:ext cx="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235480" y="1236600"/>
              <a:ext cx="1570320" cy="971640"/>
            </a:xfrm>
            <a:custGeom>
              <a:avLst/>
              <a:gdLst/>
              <a:ahLst/>
              <a:rect l="l" t="t" r="r" b="b"/>
              <a:pathLst>
                <a:path w="1771" h="612">
                  <a:moveTo>
                    <a:pt x="0" y="612"/>
                  </a:moveTo>
                  <a:lnTo>
                    <a:pt x="12" y="612"/>
                  </a:lnTo>
                  <a:lnTo>
                    <a:pt x="18" y="612"/>
                  </a:lnTo>
                  <a:lnTo>
                    <a:pt x="30" y="612"/>
                  </a:lnTo>
                  <a:lnTo>
                    <a:pt x="42" y="612"/>
                  </a:lnTo>
                  <a:lnTo>
                    <a:pt x="48" y="612"/>
                  </a:lnTo>
                  <a:lnTo>
                    <a:pt x="60" y="612"/>
                  </a:lnTo>
                  <a:lnTo>
                    <a:pt x="72" y="612"/>
                  </a:lnTo>
                  <a:lnTo>
                    <a:pt x="84" y="612"/>
                  </a:lnTo>
                  <a:lnTo>
                    <a:pt x="90" y="612"/>
                  </a:lnTo>
                  <a:lnTo>
                    <a:pt x="102" y="612"/>
                  </a:lnTo>
                  <a:lnTo>
                    <a:pt x="114" y="612"/>
                  </a:lnTo>
                  <a:lnTo>
                    <a:pt x="120" y="612"/>
                  </a:lnTo>
                  <a:lnTo>
                    <a:pt x="132" y="612"/>
                  </a:lnTo>
                  <a:lnTo>
                    <a:pt x="144" y="612"/>
                  </a:lnTo>
                  <a:lnTo>
                    <a:pt x="150" y="612"/>
                  </a:lnTo>
                  <a:lnTo>
                    <a:pt x="162" y="612"/>
                  </a:lnTo>
                  <a:lnTo>
                    <a:pt x="174" y="612"/>
                  </a:lnTo>
                  <a:lnTo>
                    <a:pt x="186" y="612"/>
                  </a:lnTo>
                  <a:lnTo>
                    <a:pt x="192" y="612"/>
                  </a:lnTo>
                  <a:lnTo>
                    <a:pt x="204" y="612"/>
                  </a:lnTo>
                  <a:lnTo>
                    <a:pt x="216" y="612"/>
                  </a:lnTo>
                  <a:lnTo>
                    <a:pt x="222" y="612"/>
                  </a:lnTo>
                  <a:lnTo>
                    <a:pt x="234" y="612"/>
                  </a:lnTo>
                  <a:lnTo>
                    <a:pt x="246" y="612"/>
                  </a:lnTo>
                  <a:lnTo>
                    <a:pt x="252" y="606"/>
                  </a:lnTo>
                  <a:lnTo>
                    <a:pt x="264" y="606"/>
                  </a:lnTo>
                  <a:lnTo>
                    <a:pt x="276" y="606"/>
                  </a:lnTo>
                  <a:lnTo>
                    <a:pt x="288" y="606"/>
                  </a:lnTo>
                  <a:lnTo>
                    <a:pt x="294" y="606"/>
                  </a:lnTo>
                  <a:lnTo>
                    <a:pt x="306" y="606"/>
                  </a:lnTo>
                  <a:lnTo>
                    <a:pt x="318" y="606"/>
                  </a:lnTo>
                  <a:lnTo>
                    <a:pt x="324" y="606"/>
                  </a:lnTo>
                  <a:lnTo>
                    <a:pt x="336" y="606"/>
                  </a:lnTo>
                  <a:lnTo>
                    <a:pt x="348" y="606"/>
                  </a:lnTo>
                  <a:lnTo>
                    <a:pt x="354" y="606"/>
                  </a:lnTo>
                  <a:lnTo>
                    <a:pt x="366" y="606"/>
                  </a:lnTo>
                  <a:lnTo>
                    <a:pt x="378" y="606"/>
                  </a:lnTo>
                  <a:lnTo>
                    <a:pt x="384" y="606"/>
                  </a:lnTo>
                  <a:lnTo>
                    <a:pt x="396" y="606"/>
                  </a:lnTo>
                  <a:lnTo>
                    <a:pt x="408" y="606"/>
                  </a:lnTo>
                  <a:lnTo>
                    <a:pt x="420" y="606"/>
                  </a:lnTo>
                  <a:lnTo>
                    <a:pt x="426" y="606"/>
                  </a:lnTo>
                  <a:lnTo>
                    <a:pt x="438" y="606"/>
                  </a:lnTo>
                  <a:lnTo>
                    <a:pt x="450" y="606"/>
                  </a:lnTo>
                  <a:lnTo>
                    <a:pt x="456" y="606"/>
                  </a:lnTo>
                  <a:lnTo>
                    <a:pt x="468" y="606"/>
                  </a:lnTo>
                  <a:lnTo>
                    <a:pt x="480" y="606"/>
                  </a:lnTo>
                  <a:lnTo>
                    <a:pt x="486" y="606"/>
                  </a:lnTo>
                  <a:lnTo>
                    <a:pt x="498" y="606"/>
                  </a:lnTo>
                  <a:lnTo>
                    <a:pt x="510" y="606"/>
                  </a:lnTo>
                  <a:lnTo>
                    <a:pt x="522" y="606"/>
                  </a:lnTo>
                  <a:lnTo>
                    <a:pt x="528" y="606"/>
                  </a:lnTo>
                  <a:lnTo>
                    <a:pt x="540" y="606"/>
                  </a:lnTo>
                  <a:lnTo>
                    <a:pt x="552" y="600"/>
                  </a:lnTo>
                  <a:lnTo>
                    <a:pt x="558" y="600"/>
                  </a:lnTo>
                  <a:lnTo>
                    <a:pt x="570" y="600"/>
                  </a:lnTo>
                  <a:lnTo>
                    <a:pt x="582" y="600"/>
                  </a:lnTo>
                  <a:lnTo>
                    <a:pt x="588" y="600"/>
                  </a:lnTo>
                  <a:lnTo>
                    <a:pt x="600" y="600"/>
                  </a:lnTo>
                  <a:lnTo>
                    <a:pt x="612" y="600"/>
                  </a:lnTo>
                  <a:lnTo>
                    <a:pt x="624" y="600"/>
                  </a:lnTo>
                  <a:lnTo>
                    <a:pt x="630" y="600"/>
                  </a:lnTo>
                  <a:lnTo>
                    <a:pt x="642" y="600"/>
                  </a:lnTo>
                  <a:lnTo>
                    <a:pt x="654" y="600"/>
                  </a:lnTo>
                  <a:lnTo>
                    <a:pt x="660" y="600"/>
                  </a:lnTo>
                  <a:lnTo>
                    <a:pt x="672" y="600"/>
                  </a:lnTo>
                  <a:lnTo>
                    <a:pt x="684" y="600"/>
                  </a:lnTo>
                  <a:lnTo>
                    <a:pt x="690" y="600"/>
                  </a:lnTo>
                  <a:lnTo>
                    <a:pt x="702" y="600"/>
                  </a:lnTo>
                  <a:lnTo>
                    <a:pt x="714" y="600"/>
                  </a:lnTo>
                  <a:lnTo>
                    <a:pt x="720" y="600"/>
                  </a:lnTo>
                  <a:lnTo>
                    <a:pt x="732" y="600"/>
                  </a:lnTo>
                  <a:lnTo>
                    <a:pt x="744" y="600"/>
                  </a:lnTo>
                  <a:lnTo>
                    <a:pt x="756" y="600"/>
                  </a:lnTo>
                  <a:lnTo>
                    <a:pt x="762" y="594"/>
                  </a:lnTo>
                  <a:lnTo>
                    <a:pt x="774" y="594"/>
                  </a:lnTo>
                  <a:lnTo>
                    <a:pt x="786" y="594"/>
                  </a:lnTo>
                  <a:lnTo>
                    <a:pt x="792" y="594"/>
                  </a:lnTo>
                  <a:lnTo>
                    <a:pt x="804" y="594"/>
                  </a:lnTo>
                  <a:lnTo>
                    <a:pt x="816" y="594"/>
                  </a:lnTo>
                  <a:lnTo>
                    <a:pt x="822" y="594"/>
                  </a:lnTo>
                  <a:lnTo>
                    <a:pt x="834" y="594"/>
                  </a:lnTo>
                  <a:lnTo>
                    <a:pt x="846" y="594"/>
                  </a:lnTo>
                  <a:lnTo>
                    <a:pt x="858" y="594"/>
                  </a:lnTo>
                  <a:lnTo>
                    <a:pt x="864" y="594"/>
                  </a:lnTo>
                  <a:lnTo>
                    <a:pt x="876" y="594"/>
                  </a:lnTo>
                  <a:lnTo>
                    <a:pt x="888" y="594"/>
                  </a:lnTo>
                  <a:lnTo>
                    <a:pt x="894" y="594"/>
                  </a:lnTo>
                  <a:lnTo>
                    <a:pt x="906" y="594"/>
                  </a:lnTo>
                  <a:lnTo>
                    <a:pt x="918" y="594"/>
                  </a:lnTo>
                  <a:lnTo>
                    <a:pt x="924" y="588"/>
                  </a:lnTo>
                  <a:lnTo>
                    <a:pt x="936" y="588"/>
                  </a:lnTo>
                  <a:lnTo>
                    <a:pt x="948" y="588"/>
                  </a:lnTo>
                  <a:lnTo>
                    <a:pt x="960" y="588"/>
                  </a:lnTo>
                  <a:lnTo>
                    <a:pt x="966" y="588"/>
                  </a:lnTo>
                  <a:lnTo>
                    <a:pt x="978" y="588"/>
                  </a:lnTo>
                  <a:lnTo>
                    <a:pt x="990" y="588"/>
                  </a:lnTo>
                  <a:lnTo>
                    <a:pt x="996" y="588"/>
                  </a:lnTo>
                  <a:lnTo>
                    <a:pt x="1008" y="588"/>
                  </a:lnTo>
                  <a:lnTo>
                    <a:pt x="1020" y="588"/>
                  </a:lnTo>
                  <a:lnTo>
                    <a:pt x="1026" y="588"/>
                  </a:lnTo>
                  <a:lnTo>
                    <a:pt x="1038" y="588"/>
                  </a:lnTo>
                  <a:lnTo>
                    <a:pt x="1050" y="582"/>
                  </a:lnTo>
                  <a:lnTo>
                    <a:pt x="1062" y="582"/>
                  </a:lnTo>
                  <a:lnTo>
                    <a:pt x="1068" y="582"/>
                  </a:lnTo>
                  <a:lnTo>
                    <a:pt x="1080" y="582"/>
                  </a:lnTo>
                  <a:lnTo>
                    <a:pt x="1092" y="582"/>
                  </a:lnTo>
                  <a:lnTo>
                    <a:pt x="1098" y="582"/>
                  </a:lnTo>
                  <a:lnTo>
                    <a:pt x="1110" y="582"/>
                  </a:lnTo>
                  <a:lnTo>
                    <a:pt x="1122" y="582"/>
                  </a:lnTo>
                  <a:lnTo>
                    <a:pt x="1128" y="582"/>
                  </a:lnTo>
                  <a:lnTo>
                    <a:pt x="1140" y="582"/>
                  </a:lnTo>
                  <a:lnTo>
                    <a:pt x="1152" y="576"/>
                  </a:lnTo>
                  <a:lnTo>
                    <a:pt x="1158" y="576"/>
                  </a:lnTo>
                  <a:lnTo>
                    <a:pt x="1170" y="576"/>
                  </a:lnTo>
                  <a:lnTo>
                    <a:pt x="1182" y="576"/>
                  </a:lnTo>
                  <a:lnTo>
                    <a:pt x="1194" y="576"/>
                  </a:lnTo>
                  <a:lnTo>
                    <a:pt x="1200" y="576"/>
                  </a:lnTo>
                  <a:lnTo>
                    <a:pt x="1212" y="576"/>
                  </a:lnTo>
                  <a:lnTo>
                    <a:pt x="1224" y="576"/>
                  </a:lnTo>
                  <a:lnTo>
                    <a:pt x="1230" y="570"/>
                  </a:lnTo>
                  <a:lnTo>
                    <a:pt x="1242" y="570"/>
                  </a:lnTo>
                  <a:lnTo>
                    <a:pt x="1254" y="570"/>
                  </a:lnTo>
                  <a:lnTo>
                    <a:pt x="1260" y="570"/>
                  </a:lnTo>
                  <a:lnTo>
                    <a:pt x="1272" y="570"/>
                  </a:lnTo>
                  <a:lnTo>
                    <a:pt x="1284" y="570"/>
                  </a:lnTo>
                  <a:lnTo>
                    <a:pt x="1296" y="570"/>
                  </a:lnTo>
                  <a:lnTo>
                    <a:pt x="1302" y="564"/>
                  </a:lnTo>
                  <a:lnTo>
                    <a:pt x="1314" y="564"/>
                  </a:lnTo>
                  <a:lnTo>
                    <a:pt x="1326" y="564"/>
                  </a:lnTo>
                  <a:lnTo>
                    <a:pt x="1332" y="564"/>
                  </a:lnTo>
                  <a:lnTo>
                    <a:pt x="1344" y="564"/>
                  </a:lnTo>
                  <a:lnTo>
                    <a:pt x="1356" y="558"/>
                  </a:lnTo>
                  <a:lnTo>
                    <a:pt x="1362" y="558"/>
                  </a:lnTo>
                  <a:lnTo>
                    <a:pt x="1374" y="558"/>
                  </a:lnTo>
                  <a:lnTo>
                    <a:pt x="1386" y="558"/>
                  </a:lnTo>
                  <a:lnTo>
                    <a:pt x="1398" y="558"/>
                  </a:lnTo>
                  <a:lnTo>
                    <a:pt x="1404" y="552"/>
                  </a:lnTo>
                  <a:lnTo>
                    <a:pt x="1416" y="552"/>
                  </a:lnTo>
                  <a:lnTo>
                    <a:pt x="1428" y="552"/>
                  </a:lnTo>
                  <a:lnTo>
                    <a:pt x="1434" y="552"/>
                  </a:lnTo>
                  <a:lnTo>
                    <a:pt x="1446" y="546"/>
                  </a:lnTo>
                  <a:lnTo>
                    <a:pt x="1458" y="546"/>
                  </a:lnTo>
                  <a:lnTo>
                    <a:pt x="1464" y="546"/>
                  </a:lnTo>
                  <a:lnTo>
                    <a:pt x="1476" y="540"/>
                  </a:lnTo>
                  <a:lnTo>
                    <a:pt x="1488" y="540"/>
                  </a:lnTo>
                  <a:lnTo>
                    <a:pt x="1494" y="540"/>
                  </a:lnTo>
                  <a:lnTo>
                    <a:pt x="1506" y="534"/>
                  </a:lnTo>
                  <a:lnTo>
                    <a:pt x="1518" y="534"/>
                  </a:lnTo>
                  <a:lnTo>
                    <a:pt x="1530" y="528"/>
                  </a:lnTo>
                  <a:lnTo>
                    <a:pt x="1536" y="528"/>
                  </a:lnTo>
                  <a:lnTo>
                    <a:pt x="1548" y="522"/>
                  </a:lnTo>
                  <a:lnTo>
                    <a:pt x="1561" y="522"/>
                  </a:lnTo>
                  <a:lnTo>
                    <a:pt x="1567" y="516"/>
                  </a:lnTo>
                  <a:lnTo>
                    <a:pt x="1579" y="516"/>
                  </a:lnTo>
                  <a:lnTo>
                    <a:pt x="1591" y="510"/>
                  </a:lnTo>
                  <a:lnTo>
                    <a:pt x="1597" y="504"/>
                  </a:lnTo>
                  <a:lnTo>
                    <a:pt x="1609" y="504"/>
                  </a:lnTo>
                  <a:lnTo>
                    <a:pt x="1621" y="498"/>
                  </a:lnTo>
                  <a:lnTo>
                    <a:pt x="1633" y="492"/>
                  </a:lnTo>
                  <a:lnTo>
                    <a:pt x="1639" y="486"/>
                  </a:lnTo>
                  <a:lnTo>
                    <a:pt x="1651" y="480"/>
                  </a:lnTo>
                  <a:lnTo>
                    <a:pt x="1663" y="474"/>
                  </a:lnTo>
                  <a:lnTo>
                    <a:pt x="1669" y="462"/>
                  </a:lnTo>
                  <a:lnTo>
                    <a:pt x="1681" y="456"/>
                  </a:lnTo>
                  <a:lnTo>
                    <a:pt x="1693" y="444"/>
                  </a:lnTo>
                  <a:lnTo>
                    <a:pt x="1699" y="426"/>
                  </a:lnTo>
                  <a:lnTo>
                    <a:pt x="1711" y="414"/>
                  </a:lnTo>
                  <a:lnTo>
                    <a:pt x="1723" y="390"/>
                  </a:lnTo>
                  <a:lnTo>
                    <a:pt x="1735" y="366"/>
                  </a:lnTo>
                  <a:lnTo>
                    <a:pt x="1741" y="330"/>
                  </a:lnTo>
                  <a:lnTo>
                    <a:pt x="1753" y="282"/>
                  </a:lnTo>
                  <a:lnTo>
                    <a:pt x="1765" y="192"/>
                  </a:lnTo>
                  <a:lnTo>
                    <a:pt x="1771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827760" y="1208160"/>
              <a:ext cx="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789240" y="808200"/>
              <a:ext cx="3240" cy="1441440"/>
            </a:xfrm>
            <a:prstGeom prst="line">
              <a:avLst/>
            </a:prstGeom>
            <a:ln w="38160">
              <a:solidFill>
                <a:srgbClr val="99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89840" y="2136960"/>
              <a:ext cx="19080" cy="12852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6483240" y="2097000"/>
              <a:ext cx="7920" cy="17316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61040" y="2162160"/>
              <a:ext cx="11160" cy="8100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421400" y="2122560"/>
              <a:ext cx="0" cy="13500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805800" y="3494160"/>
              <a:ext cx="144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805800" y="3494160"/>
              <a:ext cx="144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827760" y="3494160"/>
              <a:ext cx="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827760" y="3494160"/>
              <a:ext cx="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458200" y="2152800"/>
              <a:ext cx="58104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9933"/>
                  </a:solidFill>
                  <a:latin typeface="Times New Roman"/>
                </a:rPr>
                <a:t>*</a:t>
              </a: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Times New Roman"/>
                </a:rPr>
                <a:t>r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466560" y="42670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pled bunch number = 0…. 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4286160" y="3610080"/>
            <a:ext cx="4857840" cy="2962080"/>
            <a:chOff x="4286160" y="3610080"/>
            <a:chExt cx="4857840" cy="2962080"/>
          </a:xfrm>
        </p:grpSpPr>
        <p:sp>
          <p:nvSpPr>
            <p:cNvPr id="866" name=""/>
            <p:cNvSpPr/>
            <p:nvPr/>
          </p:nvSpPr>
          <p:spPr>
            <a:xfrm>
              <a:off x="5340240" y="5794200"/>
              <a:ext cx="3160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5654520" y="5808240"/>
              <a:ext cx="18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49400" y="583236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5973840" y="5808240"/>
              <a:ext cx="144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836680" y="583236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.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6288120" y="580824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183000" y="583236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6607080" y="580824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69920" y="583236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6921360" y="5808240"/>
              <a:ext cx="18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906960" y="5832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7236000" y="580824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131960" y="58323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7554960" y="580824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82600" y="5832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7869240" y="580824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763760" y="58323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8188200" y="580824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116200" y="5832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8501040" y="5808240"/>
              <a:ext cx="144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340240" y="579420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10560" y="580860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583840" y="5618160"/>
              <a:ext cx="41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 (GHz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910560" y="580860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10560" y="4854600"/>
              <a:ext cx="1590480" cy="28440"/>
            </a:xfrm>
            <a:custGeom>
              <a:avLst/>
              <a:gdLst/>
              <a:ahLst/>
              <a:rect l="l" t="t" r="r" b="b"/>
              <a:pathLst>
                <a:path w="1794" h="18">
                  <a:moveTo>
                    <a:pt x="0" y="0"/>
                  </a:moveTo>
                  <a:lnTo>
                    <a:pt x="12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4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6" y="0"/>
                  </a:lnTo>
                  <a:lnTo>
                    <a:pt x="288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8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8" y="0"/>
                  </a:lnTo>
                  <a:lnTo>
                    <a:pt x="360" y="0"/>
                  </a:lnTo>
                  <a:lnTo>
                    <a:pt x="366" y="0"/>
                  </a:lnTo>
                  <a:lnTo>
                    <a:pt x="378" y="0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8" y="0"/>
                  </a:lnTo>
                  <a:lnTo>
                    <a:pt x="420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50" y="0"/>
                  </a:lnTo>
                  <a:lnTo>
                    <a:pt x="462" y="0"/>
                  </a:lnTo>
                  <a:lnTo>
                    <a:pt x="468" y="0"/>
                  </a:lnTo>
                  <a:lnTo>
                    <a:pt x="480" y="0"/>
                  </a:lnTo>
                  <a:lnTo>
                    <a:pt x="492" y="0"/>
                  </a:lnTo>
                  <a:lnTo>
                    <a:pt x="498" y="0"/>
                  </a:lnTo>
                  <a:lnTo>
                    <a:pt x="510" y="0"/>
                  </a:lnTo>
                  <a:lnTo>
                    <a:pt x="522" y="0"/>
                  </a:lnTo>
                  <a:lnTo>
                    <a:pt x="534" y="0"/>
                  </a:lnTo>
                  <a:lnTo>
                    <a:pt x="540" y="0"/>
                  </a:lnTo>
                  <a:lnTo>
                    <a:pt x="552" y="0"/>
                  </a:lnTo>
                  <a:lnTo>
                    <a:pt x="564" y="0"/>
                  </a:lnTo>
                  <a:lnTo>
                    <a:pt x="570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00" y="0"/>
                  </a:lnTo>
                  <a:lnTo>
                    <a:pt x="612" y="0"/>
                  </a:lnTo>
                  <a:lnTo>
                    <a:pt x="624" y="6"/>
                  </a:lnTo>
                  <a:lnTo>
                    <a:pt x="636" y="6"/>
                  </a:lnTo>
                  <a:lnTo>
                    <a:pt x="642" y="6"/>
                  </a:lnTo>
                  <a:lnTo>
                    <a:pt x="654" y="6"/>
                  </a:lnTo>
                  <a:lnTo>
                    <a:pt x="666" y="6"/>
                  </a:lnTo>
                  <a:lnTo>
                    <a:pt x="672" y="6"/>
                  </a:lnTo>
                  <a:lnTo>
                    <a:pt x="684" y="6"/>
                  </a:lnTo>
                  <a:lnTo>
                    <a:pt x="696" y="6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32" y="6"/>
                  </a:lnTo>
                  <a:lnTo>
                    <a:pt x="744" y="6"/>
                  </a:lnTo>
                  <a:lnTo>
                    <a:pt x="756" y="6"/>
                  </a:lnTo>
                  <a:lnTo>
                    <a:pt x="768" y="6"/>
                  </a:lnTo>
                  <a:lnTo>
                    <a:pt x="774" y="6"/>
                  </a:lnTo>
                  <a:lnTo>
                    <a:pt x="786" y="6"/>
                  </a:lnTo>
                  <a:lnTo>
                    <a:pt x="798" y="6"/>
                  </a:lnTo>
                  <a:lnTo>
                    <a:pt x="804" y="6"/>
                  </a:lnTo>
                  <a:lnTo>
                    <a:pt x="816" y="6"/>
                  </a:lnTo>
                  <a:lnTo>
                    <a:pt x="828" y="6"/>
                  </a:lnTo>
                  <a:lnTo>
                    <a:pt x="834" y="6"/>
                  </a:lnTo>
                  <a:lnTo>
                    <a:pt x="846" y="6"/>
                  </a:lnTo>
                  <a:lnTo>
                    <a:pt x="858" y="6"/>
                  </a:lnTo>
                  <a:lnTo>
                    <a:pt x="870" y="6"/>
                  </a:lnTo>
                  <a:lnTo>
                    <a:pt x="876" y="6"/>
                  </a:lnTo>
                  <a:lnTo>
                    <a:pt x="888" y="6"/>
                  </a:lnTo>
                  <a:lnTo>
                    <a:pt x="900" y="6"/>
                  </a:lnTo>
                  <a:lnTo>
                    <a:pt x="906" y="6"/>
                  </a:lnTo>
                  <a:lnTo>
                    <a:pt x="918" y="6"/>
                  </a:lnTo>
                  <a:lnTo>
                    <a:pt x="930" y="6"/>
                  </a:lnTo>
                  <a:lnTo>
                    <a:pt x="936" y="6"/>
                  </a:lnTo>
                  <a:lnTo>
                    <a:pt x="948" y="6"/>
                  </a:lnTo>
                  <a:lnTo>
                    <a:pt x="960" y="6"/>
                  </a:lnTo>
                  <a:lnTo>
                    <a:pt x="972" y="6"/>
                  </a:lnTo>
                  <a:lnTo>
                    <a:pt x="978" y="6"/>
                  </a:lnTo>
                  <a:lnTo>
                    <a:pt x="990" y="6"/>
                  </a:lnTo>
                  <a:lnTo>
                    <a:pt x="1002" y="6"/>
                  </a:lnTo>
                  <a:lnTo>
                    <a:pt x="1008" y="6"/>
                  </a:lnTo>
                  <a:lnTo>
                    <a:pt x="1020" y="6"/>
                  </a:lnTo>
                  <a:lnTo>
                    <a:pt x="1032" y="6"/>
                  </a:lnTo>
                  <a:lnTo>
                    <a:pt x="1038" y="6"/>
                  </a:lnTo>
                  <a:lnTo>
                    <a:pt x="1050" y="6"/>
                  </a:lnTo>
                  <a:lnTo>
                    <a:pt x="1062" y="6"/>
                  </a:lnTo>
                  <a:lnTo>
                    <a:pt x="1074" y="6"/>
                  </a:lnTo>
                  <a:lnTo>
                    <a:pt x="1080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10" y="6"/>
                  </a:lnTo>
                  <a:lnTo>
                    <a:pt x="1122" y="6"/>
                  </a:lnTo>
                  <a:lnTo>
                    <a:pt x="1134" y="6"/>
                  </a:lnTo>
                  <a:lnTo>
                    <a:pt x="1140" y="6"/>
                  </a:lnTo>
                  <a:lnTo>
                    <a:pt x="1152" y="6"/>
                  </a:lnTo>
                  <a:lnTo>
                    <a:pt x="1164" y="6"/>
                  </a:lnTo>
                  <a:lnTo>
                    <a:pt x="1170" y="6"/>
                  </a:lnTo>
                  <a:lnTo>
                    <a:pt x="1182" y="12"/>
                  </a:lnTo>
                  <a:lnTo>
                    <a:pt x="1194" y="12"/>
                  </a:lnTo>
                  <a:lnTo>
                    <a:pt x="1206" y="12"/>
                  </a:lnTo>
                  <a:lnTo>
                    <a:pt x="1212" y="12"/>
                  </a:lnTo>
                  <a:lnTo>
                    <a:pt x="1224" y="12"/>
                  </a:lnTo>
                  <a:lnTo>
                    <a:pt x="1236" y="12"/>
                  </a:lnTo>
                  <a:lnTo>
                    <a:pt x="1242" y="12"/>
                  </a:lnTo>
                  <a:lnTo>
                    <a:pt x="1254" y="12"/>
                  </a:lnTo>
                  <a:lnTo>
                    <a:pt x="1266" y="12"/>
                  </a:lnTo>
                  <a:lnTo>
                    <a:pt x="1272" y="12"/>
                  </a:lnTo>
                  <a:lnTo>
                    <a:pt x="1284" y="12"/>
                  </a:lnTo>
                  <a:lnTo>
                    <a:pt x="1296" y="12"/>
                  </a:lnTo>
                  <a:lnTo>
                    <a:pt x="1308" y="12"/>
                  </a:lnTo>
                  <a:lnTo>
                    <a:pt x="1314" y="12"/>
                  </a:lnTo>
                  <a:lnTo>
                    <a:pt x="1326" y="12"/>
                  </a:lnTo>
                  <a:lnTo>
                    <a:pt x="1338" y="12"/>
                  </a:lnTo>
                  <a:lnTo>
                    <a:pt x="1344" y="12"/>
                  </a:lnTo>
                  <a:lnTo>
                    <a:pt x="1356" y="12"/>
                  </a:lnTo>
                  <a:lnTo>
                    <a:pt x="1368" y="12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10" y="12"/>
                  </a:lnTo>
                  <a:lnTo>
                    <a:pt x="1416" y="12"/>
                  </a:lnTo>
                  <a:lnTo>
                    <a:pt x="1428" y="12"/>
                  </a:lnTo>
                  <a:lnTo>
                    <a:pt x="1440" y="12"/>
                  </a:lnTo>
                  <a:lnTo>
                    <a:pt x="1446" y="12"/>
                  </a:lnTo>
                  <a:lnTo>
                    <a:pt x="1458" y="12"/>
                  </a:lnTo>
                  <a:lnTo>
                    <a:pt x="1470" y="12"/>
                  </a:lnTo>
                  <a:lnTo>
                    <a:pt x="1476" y="12"/>
                  </a:lnTo>
                  <a:lnTo>
                    <a:pt x="1488" y="12"/>
                  </a:lnTo>
                  <a:lnTo>
                    <a:pt x="1500" y="12"/>
                  </a:lnTo>
                  <a:lnTo>
                    <a:pt x="1506" y="12"/>
                  </a:lnTo>
                  <a:lnTo>
                    <a:pt x="1518" y="12"/>
                  </a:lnTo>
                  <a:lnTo>
                    <a:pt x="1530" y="12"/>
                  </a:lnTo>
                  <a:lnTo>
                    <a:pt x="1542" y="12"/>
                  </a:lnTo>
                  <a:lnTo>
                    <a:pt x="1548" y="12"/>
                  </a:lnTo>
                  <a:lnTo>
                    <a:pt x="1560" y="18"/>
                  </a:lnTo>
                  <a:lnTo>
                    <a:pt x="1572" y="18"/>
                  </a:lnTo>
                  <a:lnTo>
                    <a:pt x="1578" y="18"/>
                  </a:lnTo>
                  <a:lnTo>
                    <a:pt x="1590" y="18"/>
                  </a:lnTo>
                  <a:lnTo>
                    <a:pt x="1602" y="18"/>
                  </a:lnTo>
                  <a:lnTo>
                    <a:pt x="1608" y="18"/>
                  </a:lnTo>
                  <a:lnTo>
                    <a:pt x="1620" y="18"/>
                  </a:lnTo>
                  <a:lnTo>
                    <a:pt x="1632" y="18"/>
                  </a:lnTo>
                  <a:lnTo>
                    <a:pt x="1644" y="18"/>
                  </a:lnTo>
                  <a:lnTo>
                    <a:pt x="1650" y="18"/>
                  </a:lnTo>
                  <a:lnTo>
                    <a:pt x="1662" y="18"/>
                  </a:lnTo>
                  <a:lnTo>
                    <a:pt x="1674" y="18"/>
                  </a:lnTo>
                  <a:lnTo>
                    <a:pt x="1680" y="18"/>
                  </a:lnTo>
                  <a:lnTo>
                    <a:pt x="1692" y="18"/>
                  </a:lnTo>
                  <a:lnTo>
                    <a:pt x="1704" y="18"/>
                  </a:lnTo>
                  <a:lnTo>
                    <a:pt x="1710" y="18"/>
                  </a:lnTo>
                  <a:lnTo>
                    <a:pt x="1722" y="18"/>
                  </a:lnTo>
                  <a:lnTo>
                    <a:pt x="1734" y="18"/>
                  </a:lnTo>
                  <a:lnTo>
                    <a:pt x="1746" y="18"/>
                  </a:lnTo>
                  <a:lnTo>
                    <a:pt x="1752" y="18"/>
                  </a:lnTo>
                  <a:lnTo>
                    <a:pt x="1764" y="18"/>
                  </a:lnTo>
                  <a:lnTo>
                    <a:pt x="1776" y="18"/>
                  </a:lnTo>
                  <a:lnTo>
                    <a:pt x="1782" y="18"/>
                  </a:lnTo>
                  <a:lnTo>
                    <a:pt x="1794" y="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297400" y="4870440"/>
              <a:ext cx="1594080" cy="74520"/>
            </a:xfrm>
            <a:custGeom>
              <a:avLst/>
              <a:gdLst/>
              <a:ahLst/>
              <a:rect l="l" t="t" r="r" b="b"/>
              <a:pathLst>
                <a:path w="1795" h="18">
                  <a:moveTo>
                    <a:pt x="0" y="18"/>
                  </a:moveTo>
                  <a:lnTo>
                    <a:pt x="12" y="18"/>
                  </a:lnTo>
                  <a:lnTo>
                    <a:pt x="18" y="18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60" y="18"/>
                  </a:lnTo>
                  <a:lnTo>
                    <a:pt x="72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102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32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62" y="18"/>
                  </a:lnTo>
                  <a:lnTo>
                    <a:pt x="174" y="18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204" y="18"/>
                  </a:lnTo>
                  <a:lnTo>
                    <a:pt x="216" y="18"/>
                  </a:lnTo>
                  <a:lnTo>
                    <a:pt x="222" y="18"/>
                  </a:lnTo>
                  <a:lnTo>
                    <a:pt x="234" y="18"/>
                  </a:lnTo>
                  <a:lnTo>
                    <a:pt x="246" y="12"/>
                  </a:lnTo>
                  <a:lnTo>
                    <a:pt x="252" y="12"/>
                  </a:lnTo>
                  <a:lnTo>
                    <a:pt x="264" y="12"/>
                  </a:lnTo>
                  <a:lnTo>
                    <a:pt x="276" y="12"/>
                  </a:lnTo>
                  <a:lnTo>
                    <a:pt x="288" y="12"/>
                  </a:lnTo>
                  <a:lnTo>
                    <a:pt x="294" y="12"/>
                  </a:lnTo>
                  <a:lnTo>
                    <a:pt x="306" y="12"/>
                  </a:lnTo>
                  <a:lnTo>
                    <a:pt x="318" y="12"/>
                  </a:lnTo>
                  <a:lnTo>
                    <a:pt x="324" y="12"/>
                  </a:lnTo>
                  <a:lnTo>
                    <a:pt x="336" y="12"/>
                  </a:lnTo>
                  <a:lnTo>
                    <a:pt x="348" y="12"/>
                  </a:lnTo>
                  <a:lnTo>
                    <a:pt x="354" y="12"/>
                  </a:lnTo>
                  <a:lnTo>
                    <a:pt x="366" y="12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6" y="12"/>
                  </a:lnTo>
                  <a:lnTo>
                    <a:pt x="408" y="12"/>
                  </a:lnTo>
                  <a:lnTo>
                    <a:pt x="42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56" y="12"/>
                  </a:lnTo>
                  <a:lnTo>
                    <a:pt x="468" y="12"/>
                  </a:lnTo>
                  <a:lnTo>
                    <a:pt x="480" y="12"/>
                  </a:lnTo>
                  <a:lnTo>
                    <a:pt x="486" y="12"/>
                  </a:lnTo>
                  <a:lnTo>
                    <a:pt x="498" y="12"/>
                  </a:lnTo>
                  <a:lnTo>
                    <a:pt x="510" y="12"/>
                  </a:lnTo>
                  <a:lnTo>
                    <a:pt x="522" y="12"/>
                  </a:lnTo>
                  <a:lnTo>
                    <a:pt x="528" y="12"/>
                  </a:lnTo>
                  <a:lnTo>
                    <a:pt x="540" y="12"/>
                  </a:lnTo>
                  <a:lnTo>
                    <a:pt x="552" y="12"/>
                  </a:lnTo>
                  <a:lnTo>
                    <a:pt x="558" y="12"/>
                  </a:lnTo>
                  <a:lnTo>
                    <a:pt x="570" y="12"/>
                  </a:lnTo>
                  <a:lnTo>
                    <a:pt x="582" y="12"/>
                  </a:lnTo>
                  <a:lnTo>
                    <a:pt x="588" y="12"/>
                  </a:lnTo>
                  <a:lnTo>
                    <a:pt x="600" y="12"/>
                  </a:lnTo>
                  <a:lnTo>
                    <a:pt x="612" y="12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42" y="6"/>
                  </a:lnTo>
                  <a:lnTo>
                    <a:pt x="654" y="6"/>
                  </a:lnTo>
                  <a:lnTo>
                    <a:pt x="660" y="6"/>
                  </a:lnTo>
                  <a:lnTo>
                    <a:pt x="672" y="6"/>
                  </a:lnTo>
                  <a:lnTo>
                    <a:pt x="684" y="6"/>
                  </a:lnTo>
                  <a:lnTo>
                    <a:pt x="690" y="6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0" y="6"/>
                  </a:lnTo>
                  <a:lnTo>
                    <a:pt x="732" y="6"/>
                  </a:lnTo>
                  <a:lnTo>
                    <a:pt x="744" y="6"/>
                  </a:lnTo>
                  <a:lnTo>
                    <a:pt x="756" y="6"/>
                  </a:lnTo>
                  <a:lnTo>
                    <a:pt x="762" y="6"/>
                  </a:lnTo>
                  <a:lnTo>
                    <a:pt x="774" y="6"/>
                  </a:lnTo>
                  <a:lnTo>
                    <a:pt x="786" y="6"/>
                  </a:lnTo>
                  <a:lnTo>
                    <a:pt x="792" y="6"/>
                  </a:lnTo>
                  <a:lnTo>
                    <a:pt x="804" y="6"/>
                  </a:lnTo>
                  <a:lnTo>
                    <a:pt x="816" y="6"/>
                  </a:lnTo>
                  <a:lnTo>
                    <a:pt x="822" y="6"/>
                  </a:lnTo>
                  <a:lnTo>
                    <a:pt x="834" y="6"/>
                  </a:lnTo>
                  <a:lnTo>
                    <a:pt x="846" y="6"/>
                  </a:lnTo>
                  <a:lnTo>
                    <a:pt x="858" y="6"/>
                  </a:lnTo>
                  <a:lnTo>
                    <a:pt x="864" y="6"/>
                  </a:lnTo>
                  <a:lnTo>
                    <a:pt x="876" y="6"/>
                  </a:lnTo>
                  <a:lnTo>
                    <a:pt x="888" y="6"/>
                  </a:lnTo>
                  <a:lnTo>
                    <a:pt x="894" y="6"/>
                  </a:lnTo>
                  <a:lnTo>
                    <a:pt x="906" y="6"/>
                  </a:lnTo>
                  <a:lnTo>
                    <a:pt x="918" y="6"/>
                  </a:lnTo>
                  <a:lnTo>
                    <a:pt x="924" y="6"/>
                  </a:lnTo>
                  <a:lnTo>
                    <a:pt x="936" y="6"/>
                  </a:lnTo>
                  <a:lnTo>
                    <a:pt x="948" y="6"/>
                  </a:lnTo>
                  <a:lnTo>
                    <a:pt x="960" y="6"/>
                  </a:lnTo>
                  <a:lnTo>
                    <a:pt x="966" y="6"/>
                  </a:lnTo>
                  <a:lnTo>
                    <a:pt x="978" y="6"/>
                  </a:lnTo>
                  <a:lnTo>
                    <a:pt x="990" y="6"/>
                  </a:lnTo>
                  <a:lnTo>
                    <a:pt x="996" y="6"/>
                  </a:lnTo>
                  <a:lnTo>
                    <a:pt x="1008" y="6"/>
                  </a:lnTo>
                  <a:lnTo>
                    <a:pt x="1020" y="6"/>
                  </a:lnTo>
                  <a:lnTo>
                    <a:pt x="1026" y="6"/>
                  </a:lnTo>
                  <a:lnTo>
                    <a:pt x="1038" y="6"/>
                  </a:lnTo>
                  <a:lnTo>
                    <a:pt x="1050" y="6"/>
                  </a:lnTo>
                  <a:lnTo>
                    <a:pt x="1062" y="6"/>
                  </a:lnTo>
                  <a:lnTo>
                    <a:pt x="1068" y="6"/>
                  </a:lnTo>
                  <a:lnTo>
                    <a:pt x="1080" y="6"/>
                  </a:lnTo>
                  <a:lnTo>
                    <a:pt x="1092" y="6"/>
                  </a:lnTo>
                  <a:lnTo>
                    <a:pt x="1098" y="6"/>
                  </a:lnTo>
                  <a:lnTo>
                    <a:pt x="1110" y="6"/>
                  </a:lnTo>
                  <a:lnTo>
                    <a:pt x="1122" y="6"/>
                  </a:lnTo>
                  <a:lnTo>
                    <a:pt x="1128" y="6"/>
                  </a:lnTo>
                  <a:lnTo>
                    <a:pt x="1140" y="6"/>
                  </a:lnTo>
                  <a:lnTo>
                    <a:pt x="1152" y="6"/>
                  </a:lnTo>
                  <a:lnTo>
                    <a:pt x="1158" y="6"/>
                  </a:lnTo>
                  <a:lnTo>
                    <a:pt x="1170" y="6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0" y="0"/>
                  </a:lnTo>
                  <a:lnTo>
                    <a:pt x="1212" y="0"/>
                  </a:lnTo>
                  <a:lnTo>
                    <a:pt x="1224" y="0"/>
                  </a:lnTo>
                  <a:lnTo>
                    <a:pt x="1230" y="0"/>
                  </a:lnTo>
                  <a:lnTo>
                    <a:pt x="1242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296" y="0"/>
                  </a:lnTo>
                  <a:lnTo>
                    <a:pt x="1302" y="0"/>
                  </a:lnTo>
                  <a:lnTo>
                    <a:pt x="1314" y="0"/>
                  </a:lnTo>
                  <a:lnTo>
                    <a:pt x="1326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62" y="0"/>
                  </a:lnTo>
                  <a:lnTo>
                    <a:pt x="1374" y="0"/>
                  </a:lnTo>
                  <a:lnTo>
                    <a:pt x="1386" y="0"/>
                  </a:lnTo>
                  <a:lnTo>
                    <a:pt x="1398" y="0"/>
                  </a:lnTo>
                  <a:lnTo>
                    <a:pt x="1404" y="0"/>
                  </a:lnTo>
                  <a:lnTo>
                    <a:pt x="1416" y="0"/>
                  </a:lnTo>
                  <a:lnTo>
                    <a:pt x="1428" y="0"/>
                  </a:lnTo>
                  <a:lnTo>
                    <a:pt x="1434" y="0"/>
                  </a:lnTo>
                  <a:lnTo>
                    <a:pt x="1446" y="0"/>
                  </a:lnTo>
                  <a:lnTo>
                    <a:pt x="1458" y="0"/>
                  </a:lnTo>
                  <a:lnTo>
                    <a:pt x="1464" y="0"/>
                  </a:lnTo>
                  <a:lnTo>
                    <a:pt x="1476" y="0"/>
                  </a:lnTo>
                  <a:lnTo>
                    <a:pt x="1488" y="0"/>
                  </a:lnTo>
                  <a:lnTo>
                    <a:pt x="1494" y="0"/>
                  </a:lnTo>
                  <a:lnTo>
                    <a:pt x="1506" y="0"/>
                  </a:lnTo>
                  <a:lnTo>
                    <a:pt x="1518" y="0"/>
                  </a:lnTo>
                  <a:lnTo>
                    <a:pt x="1530" y="0"/>
                  </a:lnTo>
                  <a:lnTo>
                    <a:pt x="1536" y="0"/>
                  </a:lnTo>
                  <a:lnTo>
                    <a:pt x="1548" y="0"/>
                  </a:lnTo>
                  <a:lnTo>
                    <a:pt x="1561" y="0"/>
                  </a:lnTo>
                  <a:lnTo>
                    <a:pt x="1567" y="0"/>
                  </a:lnTo>
                  <a:lnTo>
                    <a:pt x="1579" y="0"/>
                  </a:lnTo>
                  <a:lnTo>
                    <a:pt x="1591" y="0"/>
                  </a:lnTo>
                  <a:lnTo>
                    <a:pt x="1597" y="0"/>
                  </a:lnTo>
                  <a:lnTo>
                    <a:pt x="1609" y="0"/>
                  </a:lnTo>
                  <a:lnTo>
                    <a:pt x="1621" y="0"/>
                  </a:lnTo>
                  <a:lnTo>
                    <a:pt x="1633" y="0"/>
                  </a:lnTo>
                  <a:lnTo>
                    <a:pt x="1639" y="0"/>
                  </a:lnTo>
                  <a:lnTo>
                    <a:pt x="1651" y="0"/>
                  </a:lnTo>
                  <a:lnTo>
                    <a:pt x="1663" y="0"/>
                  </a:lnTo>
                  <a:lnTo>
                    <a:pt x="1669" y="0"/>
                  </a:lnTo>
                  <a:lnTo>
                    <a:pt x="1681" y="0"/>
                  </a:lnTo>
                  <a:lnTo>
                    <a:pt x="1693" y="0"/>
                  </a:lnTo>
                  <a:lnTo>
                    <a:pt x="1699" y="0"/>
                  </a:lnTo>
                  <a:lnTo>
                    <a:pt x="1711" y="0"/>
                  </a:lnTo>
                  <a:lnTo>
                    <a:pt x="1723" y="0"/>
                  </a:lnTo>
                  <a:lnTo>
                    <a:pt x="1735" y="0"/>
                  </a:lnTo>
                  <a:lnTo>
                    <a:pt x="1741" y="0"/>
                  </a:lnTo>
                  <a:lnTo>
                    <a:pt x="1753" y="0"/>
                  </a:lnTo>
                  <a:lnTo>
                    <a:pt x="1765" y="0"/>
                  </a:lnTo>
                  <a:lnTo>
                    <a:pt x="1771" y="0"/>
                  </a:lnTo>
                  <a:lnTo>
                    <a:pt x="1783" y="0"/>
                  </a:lnTo>
                  <a:lnTo>
                    <a:pt x="179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631000" y="4835520"/>
              <a:ext cx="30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=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6578640" y="4869000"/>
              <a:ext cx="7920" cy="925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246720" y="4924440"/>
              <a:ext cx="1800" cy="8618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942160" y="4886280"/>
              <a:ext cx="1440" cy="90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627520" y="4933800"/>
              <a:ext cx="1800" cy="862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09000" y="4848120"/>
              <a:ext cx="1440" cy="947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513560" y="4905360"/>
              <a:ext cx="1800" cy="90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818480" y="4896000"/>
              <a:ext cx="1440" cy="90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151840" y="4886280"/>
              <a:ext cx="1440" cy="90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456760" y="4876920"/>
              <a:ext cx="1440" cy="90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6877080" y="487692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86160" y="4915080"/>
              <a:ext cx="666720" cy="237960"/>
            </a:xfrm>
            <a:prstGeom prst="rightArrow">
              <a:avLst>
                <a:gd name="adj1" fmla="val 50000"/>
                <a:gd name="adj2" fmla="val 7004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753240" y="3610080"/>
              <a:ext cx="314280" cy="1047600"/>
            </a:xfrm>
            <a:prstGeom prst="upArrow">
              <a:avLst>
                <a:gd name="adj1" fmla="val 50000"/>
                <a:gd name="adj2" fmla="val 8333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16220400">
              <a:off x="5143680" y="4370760"/>
              <a:ext cx="94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n =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rot="16220400">
              <a:off x="5448240" y="4323240"/>
              <a:ext cx="94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n =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16220400">
              <a:off x="5753160" y="4275720"/>
              <a:ext cx="94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n =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rot="16220400">
              <a:off x="6058080" y="4228560"/>
              <a:ext cx="9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n =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16220400">
              <a:off x="6362640" y="4180320"/>
              <a:ext cx="94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n =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16220400">
              <a:off x="6686640" y="4190400"/>
              <a:ext cx="9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n =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16220400">
              <a:off x="7010640" y="4228560"/>
              <a:ext cx="9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n =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16220400">
              <a:off x="7334280" y="4256640"/>
              <a:ext cx="94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n =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6220400">
              <a:off x="7658280" y="4295160"/>
              <a:ext cx="9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n =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16220400">
              <a:off x="7981920" y="4380480"/>
              <a:ext cx="94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n =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397000" y="5837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7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5654520" y="6017760"/>
              <a:ext cx="18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601960" y="604188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5973840" y="6017760"/>
              <a:ext cx="144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924160" y="604188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6288120" y="60177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235560" y="604188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6607080" y="60177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557760" y="604188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6921360" y="6017760"/>
              <a:ext cx="18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906960" y="604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7236000" y="60177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19440" y="604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7554960" y="60177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535520" y="604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7869240" y="60177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851240" y="604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8188200" y="60177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168760" y="604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40240" y="657072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910560" y="601812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910560" y="601812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562960" y="5905440"/>
              <a:ext cx="581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9933"/>
                  </a:solidFill>
                  <a:latin typeface="Times New Roman"/>
                </a:rPr>
                <a:t>*</a:t>
              </a: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Times New Roman"/>
                </a:rPr>
                <a:t>r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884160" y="636480"/>
            <a:ext cx="2068560" cy="1743120"/>
          </a:xfrm>
          <a:custGeom>
            <a:avLst/>
            <a:gdLst/>
            <a:ahLst/>
            <a:rect l="l" t="t" r="r" b="b"/>
            <a:pathLst>
              <a:path w="1783" h="1140">
                <a:moveTo>
                  <a:pt x="0" y="1128"/>
                </a:moveTo>
                <a:lnTo>
                  <a:pt x="0" y="1128"/>
                </a:lnTo>
                <a:lnTo>
                  <a:pt x="6" y="1128"/>
                </a:lnTo>
                <a:lnTo>
                  <a:pt x="12" y="1128"/>
                </a:lnTo>
                <a:lnTo>
                  <a:pt x="18" y="1128"/>
                </a:lnTo>
                <a:lnTo>
                  <a:pt x="24" y="1128"/>
                </a:lnTo>
                <a:lnTo>
                  <a:pt x="30" y="1128"/>
                </a:lnTo>
                <a:lnTo>
                  <a:pt x="36" y="1128"/>
                </a:lnTo>
                <a:lnTo>
                  <a:pt x="42" y="1128"/>
                </a:lnTo>
                <a:lnTo>
                  <a:pt x="48" y="1128"/>
                </a:lnTo>
                <a:lnTo>
                  <a:pt x="54" y="1128"/>
                </a:lnTo>
                <a:lnTo>
                  <a:pt x="60" y="1128"/>
                </a:lnTo>
                <a:lnTo>
                  <a:pt x="66" y="1128"/>
                </a:lnTo>
                <a:lnTo>
                  <a:pt x="72" y="1128"/>
                </a:lnTo>
                <a:lnTo>
                  <a:pt x="78" y="1128"/>
                </a:lnTo>
                <a:lnTo>
                  <a:pt x="84" y="1128"/>
                </a:lnTo>
                <a:lnTo>
                  <a:pt x="90" y="1128"/>
                </a:lnTo>
                <a:lnTo>
                  <a:pt x="96" y="1128"/>
                </a:lnTo>
                <a:lnTo>
                  <a:pt x="102" y="1128"/>
                </a:lnTo>
                <a:lnTo>
                  <a:pt x="108" y="1128"/>
                </a:lnTo>
                <a:lnTo>
                  <a:pt x="114" y="1128"/>
                </a:lnTo>
                <a:lnTo>
                  <a:pt x="120" y="1128"/>
                </a:lnTo>
                <a:lnTo>
                  <a:pt x="126" y="1128"/>
                </a:lnTo>
                <a:lnTo>
                  <a:pt x="132" y="1128"/>
                </a:lnTo>
                <a:lnTo>
                  <a:pt x="138" y="1128"/>
                </a:lnTo>
                <a:lnTo>
                  <a:pt x="144" y="1128"/>
                </a:lnTo>
                <a:lnTo>
                  <a:pt x="150" y="1128"/>
                </a:lnTo>
                <a:lnTo>
                  <a:pt x="156" y="1128"/>
                </a:lnTo>
                <a:lnTo>
                  <a:pt x="162" y="1128"/>
                </a:lnTo>
                <a:lnTo>
                  <a:pt x="168" y="1128"/>
                </a:lnTo>
                <a:lnTo>
                  <a:pt x="174" y="1128"/>
                </a:lnTo>
                <a:lnTo>
                  <a:pt x="180" y="1128"/>
                </a:lnTo>
                <a:lnTo>
                  <a:pt x="186" y="1128"/>
                </a:lnTo>
                <a:lnTo>
                  <a:pt x="192" y="1128"/>
                </a:lnTo>
                <a:lnTo>
                  <a:pt x="198" y="1128"/>
                </a:lnTo>
                <a:lnTo>
                  <a:pt x="204" y="1128"/>
                </a:lnTo>
                <a:lnTo>
                  <a:pt x="210" y="1128"/>
                </a:lnTo>
                <a:lnTo>
                  <a:pt x="216" y="1128"/>
                </a:lnTo>
                <a:lnTo>
                  <a:pt x="222" y="1128"/>
                </a:lnTo>
                <a:lnTo>
                  <a:pt x="228" y="1128"/>
                </a:lnTo>
                <a:lnTo>
                  <a:pt x="234" y="1128"/>
                </a:lnTo>
                <a:lnTo>
                  <a:pt x="240" y="1128"/>
                </a:lnTo>
                <a:lnTo>
                  <a:pt x="246" y="1128"/>
                </a:lnTo>
                <a:lnTo>
                  <a:pt x="252" y="1128"/>
                </a:lnTo>
                <a:lnTo>
                  <a:pt x="258" y="1128"/>
                </a:lnTo>
                <a:lnTo>
                  <a:pt x="264" y="1128"/>
                </a:lnTo>
                <a:lnTo>
                  <a:pt x="270" y="1128"/>
                </a:lnTo>
                <a:lnTo>
                  <a:pt x="276" y="1128"/>
                </a:lnTo>
                <a:lnTo>
                  <a:pt x="282" y="1128"/>
                </a:lnTo>
                <a:lnTo>
                  <a:pt x="288" y="1128"/>
                </a:lnTo>
                <a:lnTo>
                  <a:pt x="294" y="1128"/>
                </a:lnTo>
                <a:lnTo>
                  <a:pt x="300" y="1128"/>
                </a:lnTo>
                <a:lnTo>
                  <a:pt x="306" y="1128"/>
                </a:lnTo>
                <a:lnTo>
                  <a:pt x="312" y="1128"/>
                </a:lnTo>
                <a:lnTo>
                  <a:pt x="318" y="1128"/>
                </a:lnTo>
                <a:lnTo>
                  <a:pt x="324" y="1128"/>
                </a:lnTo>
                <a:lnTo>
                  <a:pt x="330" y="1128"/>
                </a:lnTo>
                <a:lnTo>
                  <a:pt x="336" y="1128"/>
                </a:lnTo>
                <a:lnTo>
                  <a:pt x="342" y="1128"/>
                </a:lnTo>
                <a:lnTo>
                  <a:pt x="348" y="1128"/>
                </a:lnTo>
                <a:lnTo>
                  <a:pt x="354" y="1128"/>
                </a:lnTo>
                <a:lnTo>
                  <a:pt x="360" y="1128"/>
                </a:lnTo>
                <a:lnTo>
                  <a:pt x="366" y="1128"/>
                </a:lnTo>
                <a:lnTo>
                  <a:pt x="372" y="1128"/>
                </a:lnTo>
                <a:lnTo>
                  <a:pt x="378" y="1128"/>
                </a:lnTo>
                <a:lnTo>
                  <a:pt x="384" y="1128"/>
                </a:lnTo>
                <a:lnTo>
                  <a:pt x="390" y="1128"/>
                </a:lnTo>
                <a:lnTo>
                  <a:pt x="396" y="1128"/>
                </a:lnTo>
                <a:lnTo>
                  <a:pt x="402" y="1128"/>
                </a:lnTo>
                <a:lnTo>
                  <a:pt x="408" y="1128"/>
                </a:lnTo>
                <a:lnTo>
                  <a:pt x="414" y="1128"/>
                </a:lnTo>
                <a:lnTo>
                  <a:pt x="420" y="1128"/>
                </a:lnTo>
                <a:lnTo>
                  <a:pt x="426" y="1128"/>
                </a:lnTo>
                <a:lnTo>
                  <a:pt x="432" y="1128"/>
                </a:lnTo>
                <a:lnTo>
                  <a:pt x="438" y="1128"/>
                </a:lnTo>
                <a:lnTo>
                  <a:pt x="444" y="1128"/>
                </a:lnTo>
                <a:lnTo>
                  <a:pt x="450" y="1128"/>
                </a:lnTo>
                <a:lnTo>
                  <a:pt x="456" y="1128"/>
                </a:lnTo>
                <a:lnTo>
                  <a:pt x="462" y="1128"/>
                </a:lnTo>
                <a:lnTo>
                  <a:pt x="468" y="1128"/>
                </a:lnTo>
                <a:lnTo>
                  <a:pt x="474" y="1128"/>
                </a:lnTo>
                <a:lnTo>
                  <a:pt x="480" y="1128"/>
                </a:lnTo>
                <a:lnTo>
                  <a:pt x="486" y="1128"/>
                </a:lnTo>
                <a:lnTo>
                  <a:pt x="492" y="1128"/>
                </a:lnTo>
                <a:lnTo>
                  <a:pt x="498" y="1128"/>
                </a:lnTo>
                <a:lnTo>
                  <a:pt x="504" y="1128"/>
                </a:lnTo>
                <a:lnTo>
                  <a:pt x="510" y="1128"/>
                </a:lnTo>
                <a:lnTo>
                  <a:pt x="516" y="1128"/>
                </a:lnTo>
                <a:lnTo>
                  <a:pt x="522" y="1128"/>
                </a:lnTo>
                <a:lnTo>
                  <a:pt x="528" y="1128"/>
                </a:lnTo>
                <a:lnTo>
                  <a:pt x="534" y="1128"/>
                </a:lnTo>
                <a:lnTo>
                  <a:pt x="540" y="1128"/>
                </a:lnTo>
                <a:lnTo>
                  <a:pt x="546" y="1128"/>
                </a:lnTo>
                <a:lnTo>
                  <a:pt x="552" y="1128"/>
                </a:lnTo>
                <a:lnTo>
                  <a:pt x="558" y="1128"/>
                </a:lnTo>
                <a:lnTo>
                  <a:pt x="564" y="1128"/>
                </a:lnTo>
                <a:lnTo>
                  <a:pt x="570" y="1128"/>
                </a:lnTo>
                <a:lnTo>
                  <a:pt x="576" y="1128"/>
                </a:lnTo>
                <a:lnTo>
                  <a:pt x="582" y="1128"/>
                </a:lnTo>
                <a:lnTo>
                  <a:pt x="588" y="1128"/>
                </a:lnTo>
                <a:lnTo>
                  <a:pt x="594" y="1128"/>
                </a:lnTo>
                <a:lnTo>
                  <a:pt x="600" y="1128"/>
                </a:lnTo>
                <a:lnTo>
                  <a:pt x="606" y="1128"/>
                </a:lnTo>
                <a:lnTo>
                  <a:pt x="612" y="1128"/>
                </a:lnTo>
                <a:lnTo>
                  <a:pt x="618" y="1128"/>
                </a:lnTo>
                <a:lnTo>
                  <a:pt x="624" y="1128"/>
                </a:lnTo>
                <a:lnTo>
                  <a:pt x="630" y="1128"/>
                </a:lnTo>
                <a:lnTo>
                  <a:pt x="636" y="1128"/>
                </a:lnTo>
                <a:lnTo>
                  <a:pt x="642" y="1128"/>
                </a:lnTo>
                <a:lnTo>
                  <a:pt x="648" y="1128"/>
                </a:lnTo>
                <a:lnTo>
                  <a:pt x="654" y="1128"/>
                </a:lnTo>
                <a:lnTo>
                  <a:pt x="660" y="1128"/>
                </a:lnTo>
                <a:lnTo>
                  <a:pt x="666" y="1128"/>
                </a:lnTo>
                <a:lnTo>
                  <a:pt x="672" y="1128"/>
                </a:lnTo>
                <a:lnTo>
                  <a:pt x="678" y="1128"/>
                </a:lnTo>
                <a:lnTo>
                  <a:pt x="684" y="1128"/>
                </a:lnTo>
                <a:lnTo>
                  <a:pt x="690" y="1128"/>
                </a:lnTo>
                <a:lnTo>
                  <a:pt x="696" y="1128"/>
                </a:lnTo>
                <a:lnTo>
                  <a:pt x="702" y="1128"/>
                </a:lnTo>
                <a:lnTo>
                  <a:pt x="708" y="1128"/>
                </a:lnTo>
                <a:lnTo>
                  <a:pt x="714" y="1128"/>
                </a:lnTo>
                <a:lnTo>
                  <a:pt x="720" y="1128"/>
                </a:lnTo>
                <a:lnTo>
                  <a:pt x="726" y="1128"/>
                </a:lnTo>
                <a:lnTo>
                  <a:pt x="732" y="1128"/>
                </a:lnTo>
                <a:lnTo>
                  <a:pt x="738" y="1128"/>
                </a:lnTo>
                <a:lnTo>
                  <a:pt x="744" y="1128"/>
                </a:lnTo>
                <a:lnTo>
                  <a:pt x="750" y="1128"/>
                </a:lnTo>
                <a:lnTo>
                  <a:pt x="756" y="1128"/>
                </a:lnTo>
                <a:lnTo>
                  <a:pt x="762" y="1128"/>
                </a:lnTo>
                <a:lnTo>
                  <a:pt x="768" y="1128"/>
                </a:lnTo>
                <a:lnTo>
                  <a:pt x="774" y="1128"/>
                </a:lnTo>
                <a:lnTo>
                  <a:pt x="780" y="1128"/>
                </a:lnTo>
                <a:lnTo>
                  <a:pt x="786" y="1128"/>
                </a:lnTo>
                <a:lnTo>
                  <a:pt x="792" y="1128"/>
                </a:lnTo>
                <a:lnTo>
                  <a:pt x="798" y="1128"/>
                </a:lnTo>
                <a:lnTo>
                  <a:pt x="804" y="1128"/>
                </a:lnTo>
                <a:lnTo>
                  <a:pt x="810" y="1128"/>
                </a:lnTo>
                <a:lnTo>
                  <a:pt x="816" y="1128"/>
                </a:lnTo>
                <a:lnTo>
                  <a:pt x="822" y="1128"/>
                </a:lnTo>
                <a:lnTo>
                  <a:pt x="828" y="1128"/>
                </a:lnTo>
                <a:lnTo>
                  <a:pt x="834" y="1128"/>
                </a:lnTo>
                <a:lnTo>
                  <a:pt x="840" y="1128"/>
                </a:lnTo>
                <a:lnTo>
                  <a:pt x="846" y="1128"/>
                </a:lnTo>
                <a:lnTo>
                  <a:pt x="852" y="1128"/>
                </a:lnTo>
                <a:lnTo>
                  <a:pt x="858" y="1128"/>
                </a:lnTo>
                <a:lnTo>
                  <a:pt x="864" y="1128"/>
                </a:lnTo>
                <a:lnTo>
                  <a:pt x="870" y="1128"/>
                </a:lnTo>
                <a:lnTo>
                  <a:pt x="876" y="1128"/>
                </a:lnTo>
                <a:lnTo>
                  <a:pt x="882" y="1128"/>
                </a:lnTo>
                <a:lnTo>
                  <a:pt x="888" y="1128"/>
                </a:lnTo>
                <a:lnTo>
                  <a:pt x="894" y="1128"/>
                </a:lnTo>
                <a:lnTo>
                  <a:pt x="900" y="1128"/>
                </a:lnTo>
                <a:lnTo>
                  <a:pt x="906" y="1128"/>
                </a:lnTo>
                <a:lnTo>
                  <a:pt x="912" y="1128"/>
                </a:lnTo>
                <a:lnTo>
                  <a:pt x="918" y="1128"/>
                </a:lnTo>
                <a:lnTo>
                  <a:pt x="924" y="1128"/>
                </a:lnTo>
                <a:lnTo>
                  <a:pt x="930" y="1128"/>
                </a:lnTo>
                <a:lnTo>
                  <a:pt x="936" y="1128"/>
                </a:lnTo>
                <a:lnTo>
                  <a:pt x="942" y="1128"/>
                </a:lnTo>
                <a:lnTo>
                  <a:pt x="948" y="1128"/>
                </a:lnTo>
                <a:lnTo>
                  <a:pt x="954" y="1128"/>
                </a:lnTo>
                <a:lnTo>
                  <a:pt x="960" y="1128"/>
                </a:lnTo>
                <a:lnTo>
                  <a:pt x="966" y="1128"/>
                </a:lnTo>
                <a:lnTo>
                  <a:pt x="972" y="1128"/>
                </a:lnTo>
                <a:lnTo>
                  <a:pt x="978" y="1128"/>
                </a:lnTo>
                <a:lnTo>
                  <a:pt x="984" y="1128"/>
                </a:lnTo>
                <a:lnTo>
                  <a:pt x="990" y="1128"/>
                </a:lnTo>
                <a:lnTo>
                  <a:pt x="996" y="1128"/>
                </a:lnTo>
                <a:lnTo>
                  <a:pt x="1002" y="1128"/>
                </a:lnTo>
                <a:lnTo>
                  <a:pt x="1008" y="1128"/>
                </a:lnTo>
                <a:lnTo>
                  <a:pt x="1014" y="1128"/>
                </a:lnTo>
                <a:lnTo>
                  <a:pt x="1020" y="1128"/>
                </a:lnTo>
                <a:lnTo>
                  <a:pt x="1026" y="1128"/>
                </a:lnTo>
                <a:lnTo>
                  <a:pt x="1032" y="1128"/>
                </a:lnTo>
                <a:lnTo>
                  <a:pt x="1038" y="1128"/>
                </a:lnTo>
                <a:lnTo>
                  <a:pt x="1044" y="1128"/>
                </a:lnTo>
                <a:lnTo>
                  <a:pt x="1050" y="1128"/>
                </a:lnTo>
                <a:lnTo>
                  <a:pt x="1056" y="1128"/>
                </a:lnTo>
                <a:lnTo>
                  <a:pt x="1062" y="1128"/>
                </a:lnTo>
                <a:lnTo>
                  <a:pt x="1068" y="1128"/>
                </a:lnTo>
                <a:lnTo>
                  <a:pt x="1074" y="1128"/>
                </a:lnTo>
                <a:lnTo>
                  <a:pt x="1080" y="1128"/>
                </a:lnTo>
                <a:lnTo>
                  <a:pt x="1086" y="1128"/>
                </a:lnTo>
                <a:lnTo>
                  <a:pt x="1092" y="1128"/>
                </a:lnTo>
                <a:lnTo>
                  <a:pt x="1098" y="1128"/>
                </a:lnTo>
                <a:lnTo>
                  <a:pt x="1104" y="1128"/>
                </a:lnTo>
                <a:lnTo>
                  <a:pt x="1110" y="1128"/>
                </a:lnTo>
                <a:lnTo>
                  <a:pt x="1116" y="1128"/>
                </a:lnTo>
                <a:lnTo>
                  <a:pt x="1122" y="1128"/>
                </a:lnTo>
                <a:lnTo>
                  <a:pt x="1128" y="1128"/>
                </a:lnTo>
                <a:lnTo>
                  <a:pt x="1134" y="1122"/>
                </a:lnTo>
                <a:lnTo>
                  <a:pt x="1140" y="1122"/>
                </a:lnTo>
                <a:lnTo>
                  <a:pt x="1146" y="1122"/>
                </a:lnTo>
                <a:lnTo>
                  <a:pt x="1152" y="1122"/>
                </a:lnTo>
                <a:lnTo>
                  <a:pt x="1158" y="1122"/>
                </a:lnTo>
                <a:lnTo>
                  <a:pt x="1164" y="1122"/>
                </a:lnTo>
                <a:lnTo>
                  <a:pt x="1170" y="1122"/>
                </a:lnTo>
                <a:lnTo>
                  <a:pt x="1176" y="1122"/>
                </a:lnTo>
                <a:lnTo>
                  <a:pt x="1182" y="1122"/>
                </a:lnTo>
                <a:lnTo>
                  <a:pt x="1188" y="1122"/>
                </a:lnTo>
                <a:lnTo>
                  <a:pt x="1194" y="1122"/>
                </a:lnTo>
                <a:lnTo>
                  <a:pt x="1200" y="1122"/>
                </a:lnTo>
                <a:lnTo>
                  <a:pt x="1206" y="1122"/>
                </a:lnTo>
                <a:lnTo>
                  <a:pt x="1212" y="1122"/>
                </a:lnTo>
                <a:lnTo>
                  <a:pt x="1218" y="1122"/>
                </a:lnTo>
                <a:lnTo>
                  <a:pt x="1224" y="1122"/>
                </a:lnTo>
                <a:lnTo>
                  <a:pt x="1230" y="1122"/>
                </a:lnTo>
                <a:lnTo>
                  <a:pt x="1236" y="1122"/>
                </a:lnTo>
                <a:lnTo>
                  <a:pt x="1242" y="1122"/>
                </a:lnTo>
                <a:lnTo>
                  <a:pt x="1248" y="1122"/>
                </a:lnTo>
                <a:lnTo>
                  <a:pt x="1254" y="1122"/>
                </a:lnTo>
                <a:lnTo>
                  <a:pt x="1260" y="1122"/>
                </a:lnTo>
                <a:lnTo>
                  <a:pt x="1266" y="1122"/>
                </a:lnTo>
                <a:lnTo>
                  <a:pt x="1272" y="1122"/>
                </a:lnTo>
                <a:lnTo>
                  <a:pt x="1278" y="1122"/>
                </a:lnTo>
                <a:lnTo>
                  <a:pt x="1284" y="1122"/>
                </a:lnTo>
                <a:lnTo>
                  <a:pt x="1290" y="1122"/>
                </a:lnTo>
                <a:lnTo>
                  <a:pt x="1296" y="1122"/>
                </a:lnTo>
                <a:lnTo>
                  <a:pt x="1302" y="1122"/>
                </a:lnTo>
                <a:lnTo>
                  <a:pt x="1308" y="1122"/>
                </a:lnTo>
                <a:lnTo>
                  <a:pt x="1314" y="1122"/>
                </a:lnTo>
                <a:lnTo>
                  <a:pt x="1320" y="1122"/>
                </a:lnTo>
                <a:lnTo>
                  <a:pt x="1326" y="1122"/>
                </a:lnTo>
                <a:lnTo>
                  <a:pt x="1332" y="1122"/>
                </a:lnTo>
                <a:lnTo>
                  <a:pt x="1338" y="1122"/>
                </a:lnTo>
                <a:lnTo>
                  <a:pt x="1344" y="1122"/>
                </a:lnTo>
                <a:lnTo>
                  <a:pt x="1350" y="1122"/>
                </a:lnTo>
                <a:lnTo>
                  <a:pt x="1356" y="1122"/>
                </a:lnTo>
                <a:lnTo>
                  <a:pt x="1362" y="1122"/>
                </a:lnTo>
                <a:lnTo>
                  <a:pt x="1368" y="1122"/>
                </a:lnTo>
                <a:lnTo>
                  <a:pt x="1374" y="1122"/>
                </a:lnTo>
                <a:lnTo>
                  <a:pt x="1380" y="1122"/>
                </a:lnTo>
                <a:lnTo>
                  <a:pt x="1386" y="1122"/>
                </a:lnTo>
                <a:lnTo>
                  <a:pt x="1392" y="1122"/>
                </a:lnTo>
                <a:lnTo>
                  <a:pt x="1398" y="1122"/>
                </a:lnTo>
                <a:lnTo>
                  <a:pt x="1404" y="1122"/>
                </a:lnTo>
                <a:lnTo>
                  <a:pt x="1410" y="1122"/>
                </a:lnTo>
                <a:lnTo>
                  <a:pt x="1416" y="1122"/>
                </a:lnTo>
                <a:lnTo>
                  <a:pt x="1422" y="1122"/>
                </a:lnTo>
                <a:lnTo>
                  <a:pt x="1428" y="1122"/>
                </a:lnTo>
                <a:lnTo>
                  <a:pt x="1434" y="1122"/>
                </a:lnTo>
                <a:lnTo>
                  <a:pt x="1440" y="1122"/>
                </a:lnTo>
                <a:lnTo>
                  <a:pt x="1446" y="1122"/>
                </a:lnTo>
                <a:lnTo>
                  <a:pt x="1452" y="1122"/>
                </a:lnTo>
                <a:lnTo>
                  <a:pt x="1458" y="1122"/>
                </a:lnTo>
                <a:lnTo>
                  <a:pt x="1464" y="1122"/>
                </a:lnTo>
                <a:lnTo>
                  <a:pt x="1470" y="1122"/>
                </a:lnTo>
                <a:lnTo>
                  <a:pt x="1476" y="1122"/>
                </a:lnTo>
                <a:lnTo>
                  <a:pt x="1482" y="1122"/>
                </a:lnTo>
                <a:lnTo>
                  <a:pt x="1488" y="1116"/>
                </a:lnTo>
                <a:lnTo>
                  <a:pt x="1494" y="1116"/>
                </a:lnTo>
                <a:lnTo>
                  <a:pt x="1500" y="1116"/>
                </a:lnTo>
                <a:lnTo>
                  <a:pt x="1506" y="1116"/>
                </a:lnTo>
                <a:lnTo>
                  <a:pt x="1512" y="1116"/>
                </a:lnTo>
                <a:lnTo>
                  <a:pt x="1518" y="1116"/>
                </a:lnTo>
                <a:lnTo>
                  <a:pt x="1524" y="1116"/>
                </a:lnTo>
                <a:lnTo>
                  <a:pt x="1530" y="1116"/>
                </a:lnTo>
                <a:lnTo>
                  <a:pt x="1536" y="1116"/>
                </a:lnTo>
                <a:lnTo>
                  <a:pt x="1542" y="1116"/>
                </a:lnTo>
                <a:lnTo>
                  <a:pt x="1548" y="1116"/>
                </a:lnTo>
                <a:lnTo>
                  <a:pt x="1554" y="1116"/>
                </a:lnTo>
                <a:lnTo>
                  <a:pt x="1561" y="1116"/>
                </a:lnTo>
                <a:lnTo>
                  <a:pt x="1567" y="1116"/>
                </a:lnTo>
                <a:lnTo>
                  <a:pt x="1573" y="1116"/>
                </a:lnTo>
                <a:lnTo>
                  <a:pt x="1579" y="1116"/>
                </a:lnTo>
                <a:lnTo>
                  <a:pt x="1585" y="1116"/>
                </a:lnTo>
                <a:lnTo>
                  <a:pt x="1591" y="1116"/>
                </a:lnTo>
                <a:lnTo>
                  <a:pt x="1597" y="1116"/>
                </a:lnTo>
                <a:lnTo>
                  <a:pt x="1603" y="1116"/>
                </a:lnTo>
                <a:lnTo>
                  <a:pt x="1609" y="1116"/>
                </a:lnTo>
                <a:lnTo>
                  <a:pt x="1615" y="1110"/>
                </a:lnTo>
                <a:lnTo>
                  <a:pt x="1621" y="1110"/>
                </a:lnTo>
                <a:lnTo>
                  <a:pt x="1627" y="1110"/>
                </a:lnTo>
                <a:lnTo>
                  <a:pt x="1633" y="1110"/>
                </a:lnTo>
                <a:lnTo>
                  <a:pt x="1639" y="1110"/>
                </a:lnTo>
                <a:lnTo>
                  <a:pt x="1645" y="1110"/>
                </a:lnTo>
                <a:lnTo>
                  <a:pt x="1651" y="1110"/>
                </a:lnTo>
                <a:lnTo>
                  <a:pt x="1657" y="1110"/>
                </a:lnTo>
                <a:lnTo>
                  <a:pt x="1663" y="1110"/>
                </a:lnTo>
                <a:lnTo>
                  <a:pt x="1669" y="1110"/>
                </a:lnTo>
                <a:lnTo>
                  <a:pt x="1675" y="1104"/>
                </a:lnTo>
                <a:lnTo>
                  <a:pt x="1681" y="1104"/>
                </a:lnTo>
                <a:lnTo>
                  <a:pt x="1687" y="1104"/>
                </a:lnTo>
                <a:lnTo>
                  <a:pt x="1693" y="1104"/>
                </a:lnTo>
                <a:lnTo>
                  <a:pt x="1699" y="1104"/>
                </a:lnTo>
                <a:lnTo>
                  <a:pt x="1705" y="1104"/>
                </a:lnTo>
                <a:lnTo>
                  <a:pt x="1711" y="1098"/>
                </a:lnTo>
                <a:lnTo>
                  <a:pt x="1717" y="1098"/>
                </a:lnTo>
                <a:lnTo>
                  <a:pt x="1723" y="1098"/>
                </a:lnTo>
                <a:lnTo>
                  <a:pt x="1729" y="1092"/>
                </a:lnTo>
                <a:lnTo>
                  <a:pt x="1735" y="1092"/>
                </a:lnTo>
                <a:lnTo>
                  <a:pt x="1741" y="1086"/>
                </a:lnTo>
                <a:lnTo>
                  <a:pt x="1747" y="1086"/>
                </a:lnTo>
                <a:lnTo>
                  <a:pt x="1753" y="1080"/>
                </a:lnTo>
                <a:lnTo>
                  <a:pt x="1759" y="1074"/>
                </a:lnTo>
                <a:lnTo>
                  <a:pt x="1759" y="1068"/>
                </a:lnTo>
                <a:lnTo>
                  <a:pt x="1765" y="1062"/>
                </a:lnTo>
                <a:lnTo>
                  <a:pt x="1771" y="1050"/>
                </a:lnTo>
                <a:lnTo>
                  <a:pt x="1771" y="1038"/>
                </a:lnTo>
                <a:lnTo>
                  <a:pt x="1777" y="1020"/>
                </a:lnTo>
                <a:lnTo>
                  <a:pt x="1777" y="0"/>
                </a:lnTo>
                <a:lnTo>
                  <a:pt x="1783" y="1140"/>
                </a:lnTo>
              </a:path>
            </a:pathLst>
          </a:custGeom>
          <a:solidFill>
            <a:srgbClr val="339933"/>
          </a:solidFill>
          <a:ln w="19080">
            <a:solidFill>
              <a:srgbClr val="00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2964600" y="655560"/>
            <a:ext cx="2063880" cy="1743120"/>
          </a:xfrm>
          <a:custGeom>
            <a:avLst/>
            <a:gdLst/>
            <a:ahLst/>
            <a:rect l="l" t="t" r="r" b="b"/>
            <a:pathLst>
              <a:path w="1783" h="1140">
                <a:moveTo>
                  <a:pt x="0" y="1128"/>
                </a:moveTo>
                <a:lnTo>
                  <a:pt x="0" y="1128"/>
                </a:lnTo>
                <a:lnTo>
                  <a:pt x="6" y="1128"/>
                </a:lnTo>
                <a:lnTo>
                  <a:pt x="12" y="1128"/>
                </a:lnTo>
                <a:lnTo>
                  <a:pt x="18" y="1128"/>
                </a:lnTo>
                <a:lnTo>
                  <a:pt x="24" y="1128"/>
                </a:lnTo>
                <a:lnTo>
                  <a:pt x="30" y="1128"/>
                </a:lnTo>
                <a:lnTo>
                  <a:pt x="36" y="1128"/>
                </a:lnTo>
                <a:lnTo>
                  <a:pt x="42" y="1128"/>
                </a:lnTo>
                <a:lnTo>
                  <a:pt x="48" y="1128"/>
                </a:lnTo>
                <a:lnTo>
                  <a:pt x="54" y="1128"/>
                </a:lnTo>
                <a:lnTo>
                  <a:pt x="60" y="1128"/>
                </a:lnTo>
                <a:lnTo>
                  <a:pt x="66" y="1128"/>
                </a:lnTo>
                <a:lnTo>
                  <a:pt x="72" y="1128"/>
                </a:lnTo>
                <a:lnTo>
                  <a:pt x="78" y="1128"/>
                </a:lnTo>
                <a:lnTo>
                  <a:pt x="84" y="1128"/>
                </a:lnTo>
                <a:lnTo>
                  <a:pt x="90" y="1128"/>
                </a:lnTo>
                <a:lnTo>
                  <a:pt x="96" y="1128"/>
                </a:lnTo>
                <a:lnTo>
                  <a:pt x="102" y="1128"/>
                </a:lnTo>
                <a:lnTo>
                  <a:pt x="108" y="1128"/>
                </a:lnTo>
                <a:lnTo>
                  <a:pt x="114" y="1128"/>
                </a:lnTo>
                <a:lnTo>
                  <a:pt x="120" y="1128"/>
                </a:lnTo>
                <a:lnTo>
                  <a:pt x="126" y="1128"/>
                </a:lnTo>
                <a:lnTo>
                  <a:pt x="132" y="1128"/>
                </a:lnTo>
                <a:lnTo>
                  <a:pt x="138" y="1128"/>
                </a:lnTo>
                <a:lnTo>
                  <a:pt x="144" y="1128"/>
                </a:lnTo>
                <a:lnTo>
                  <a:pt x="150" y="1128"/>
                </a:lnTo>
                <a:lnTo>
                  <a:pt x="156" y="1128"/>
                </a:lnTo>
                <a:lnTo>
                  <a:pt x="162" y="1128"/>
                </a:lnTo>
                <a:lnTo>
                  <a:pt x="168" y="1128"/>
                </a:lnTo>
                <a:lnTo>
                  <a:pt x="174" y="1128"/>
                </a:lnTo>
                <a:lnTo>
                  <a:pt x="180" y="1128"/>
                </a:lnTo>
                <a:lnTo>
                  <a:pt x="186" y="1128"/>
                </a:lnTo>
                <a:lnTo>
                  <a:pt x="192" y="1128"/>
                </a:lnTo>
                <a:lnTo>
                  <a:pt x="198" y="1128"/>
                </a:lnTo>
                <a:lnTo>
                  <a:pt x="204" y="1128"/>
                </a:lnTo>
                <a:lnTo>
                  <a:pt x="210" y="1128"/>
                </a:lnTo>
                <a:lnTo>
                  <a:pt x="216" y="1128"/>
                </a:lnTo>
                <a:lnTo>
                  <a:pt x="222" y="1128"/>
                </a:lnTo>
                <a:lnTo>
                  <a:pt x="228" y="1128"/>
                </a:lnTo>
                <a:lnTo>
                  <a:pt x="234" y="1128"/>
                </a:lnTo>
                <a:lnTo>
                  <a:pt x="240" y="1128"/>
                </a:lnTo>
                <a:lnTo>
                  <a:pt x="246" y="1128"/>
                </a:lnTo>
                <a:lnTo>
                  <a:pt x="252" y="1128"/>
                </a:lnTo>
                <a:lnTo>
                  <a:pt x="258" y="1128"/>
                </a:lnTo>
                <a:lnTo>
                  <a:pt x="264" y="1128"/>
                </a:lnTo>
                <a:lnTo>
                  <a:pt x="270" y="1128"/>
                </a:lnTo>
                <a:lnTo>
                  <a:pt x="276" y="1128"/>
                </a:lnTo>
                <a:lnTo>
                  <a:pt x="282" y="1128"/>
                </a:lnTo>
                <a:lnTo>
                  <a:pt x="288" y="1128"/>
                </a:lnTo>
                <a:lnTo>
                  <a:pt x="294" y="1128"/>
                </a:lnTo>
                <a:lnTo>
                  <a:pt x="300" y="1128"/>
                </a:lnTo>
                <a:lnTo>
                  <a:pt x="306" y="1128"/>
                </a:lnTo>
                <a:lnTo>
                  <a:pt x="312" y="1128"/>
                </a:lnTo>
                <a:lnTo>
                  <a:pt x="318" y="1128"/>
                </a:lnTo>
                <a:lnTo>
                  <a:pt x="324" y="1128"/>
                </a:lnTo>
                <a:lnTo>
                  <a:pt x="330" y="1128"/>
                </a:lnTo>
                <a:lnTo>
                  <a:pt x="336" y="1128"/>
                </a:lnTo>
                <a:lnTo>
                  <a:pt x="342" y="1128"/>
                </a:lnTo>
                <a:lnTo>
                  <a:pt x="348" y="1128"/>
                </a:lnTo>
                <a:lnTo>
                  <a:pt x="354" y="1128"/>
                </a:lnTo>
                <a:lnTo>
                  <a:pt x="360" y="1128"/>
                </a:lnTo>
                <a:lnTo>
                  <a:pt x="366" y="1128"/>
                </a:lnTo>
                <a:lnTo>
                  <a:pt x="372" y="1128"/>
                </a:lnTo>
                <a:lnTo>
                  <a:pt x="378" y="1128"/>
                </a:lnTo>
                <a:lnTo>
                  <a:pt x="384" y="1128"/>
                </a:lnTo>
                <a:lnTo>
                  <a:pt x="390" y="1128"/>
                </a:lnTo>
                <a:lnTo>
                  <a:pt x="396" y="1128"/>
                </a:lnTo>
                <a:lnTo>
                  <a:pt x="402" y="1128"/>
                </a:lnTo>
                <a:lnTo>
                  <a:pt x="408" y="1128"/>
                </a:lnTo>
                <a:lnTo>
                  <a:pt x="414" y="1128"/>
                </a:lnTo>
                <a:lnTo>
                  <a:pt x="420" y="1128"/>
                </a:lnTo>
                <a:lnTo>
                  <a:pt x="426" y="1128"/>
                </a:lnTo>
                <a:lnTo>
                  <a:pt x="432" y="1128"/>
                </a:lnTo>
                <a:lnTo>
                  <a:pt x="438" y="1128"/>
                </a:lnTo>
                <a:lnTo>
                  <a:pt x="444" y="1128"/>
                </a:lnTo>
                <a:lnTo>
                  <a:pt x="450" y="1128"/>
                </a:lnTo>
                <a:lnTo>
                  <a:pt x="456" y="1128"/>
                </a:lnTo>
                <a:lnTo>
                  <a:pt x="462" y="1128"/>
                </a:lnTo>
                <a:lnTo>
                  <a:pt x="468" y="1128"/>
                </a:lnTo>
                <a:lnTo>
                  <a:pt x="474" y="1128"/>
                </a:lnTo>
                <a:lnTo>
                  <a:pt x="480" y="1128"/>
                </a:lnTo>
                <a:lnTo>
                  <a:pt x="486" y="1128"/>
                </a:lnTo>
                <a:lnTo>
                  <a:pt x="492" y="1128"/>
                </a:lnTo>
                <a:lnTo>
                  <a:pt x="498" y="1128"/>
                </a:lnTo>
                <a:lnTo>
                  <a:pt x="504" y="1128"/>
                </a:lnTo>
                <a:lnTo>
                  <a:pt x="510" y="1128"/>
                </a:lnTo>
                <a:lnTo>
                  <a:pt x="516" y="1128"/>
                </a:lnTo>
                <a:lnTo>
                  <a:pt x="522" y="1128"/>
                </a:lnTo>
                <a:lnTo>
                  <a:pt x="528" y="1128"/>
                </a:lnTo>
                <a:lnTo>
                  <a:pt x="534" y="1128"/>
                </a:lnTo>
                <a:lnTo>
                  <a:pt x="540" y="1128"/>
                </a:lnTo>
                <a:lnTo>
                  <a:pt x="546" y="1128"/>
                </a:lnTo>
                <a:lnTo>
                  <a:pt x="552" y="1128"/>
                </a:lnTo>
                <a:lnTo>
                  <a:pt x="558" y="1128"/>
                </a:lnTo>
                <a:lnTo>
                  <a:pt x="564" y="1128"/>
                </a:lnTo>
                <a:lnTo>
                  <a:pt x="570" y="1128"/>
                </a:lnTo>
                <a:lnTo>
                  <a:pt x="576" y="1128"/>
                </a:lnTo>
                <a:lnTo>
                  <a:pt x="582" y="1128"/>
                </a:lnTo>
                <a:lnTo>
                  <a:pt x="588" y="1128"/>
                </a:lnTo>
                <a:lnTo>
                  <a:pt x="594" y="1128"/>
                </a:lnTo>
                <a:lnTo>
                  <a:pt x="600" y="1128"/>
                </a:lnTo>
                <a:lnTo>
                  <a:pt x="606" y="1128"/>
                </a:lnTo>
                <a:lnTo>
                  <a:pt x="612" y="1128"/>
                </a:lnTo>
                <a:lnTo>
                  <a:pt x="618" y="1128"/>
                </a:lnTo>
                <a:lnTo>
                  <a:pt x="624" y="1128"/>
                </a:lnTo>
                <a:lnTo>
                  <a:pt x="630" y="1128"/>
                </a:lnTo>
                <a:lnTo>
                  <a:pt x="636" y="1128"/>
                </a:lnTo>
                <a:lnTo>
                  <a:pt x="642" y="1128"/>
                </a:lnTo>
                <a:lnTo>
                  <a:pt x="648" y="1128"/>
                </a:lnTo>
                <a:lnTo>
                  <a:pt x="654" y="1128"/>
                </a:lnTo>
                <a:lnTo>
                  <a:pt x="660" y="1128"/>
                </a:lnTo>
                <a:lnTo>
                  <a:pt x="666" y="1128"/>
                </a:lnTo>
                <a:lnTo>
                  <a:pt x="672" y="1128"/>
                </a:lnTo>
                <a:lnTo>
                  <a:pt x="678" y="1128"/>
                </a:lnTo>
                <a:lnTo>
                  <a:pt x="684" y="1128"/>
                </a:lnTo>
                <a:lnTo>
                  <a:pt x="690" y="1128"/>
                </a:lnTo>
                <a:lnTo>
                  <a:pt x="696" y="1128"/>
                </a:lnTo>
                <a:lnTo>
                  <a:pt x="702" y="1128"/>
                </a:lnTo>
                <a:lnTo>
                  <a:pt x="708" y="1128"/>
                </a:lnTo>
                <a:lnTo>
                  <a:pt x="714" y="1128"/>
                </a:lnTo>
                <a:lnTo>
                  <a:pt x="720" y="1128"/>
                </a:lnTo>
                <a:lnTo>
                  <a:pt x="726" y="1128"/>
                </a:lnTo>
                <a:lnTo>
                  <a:pt x="732" y="1128"/>
                </a:lnTo>
                <a:lnTo>
                  <a:pt x="738" y="1128"/>
                </a:lnTo>
                <a:lnTo>
                  <a:pt x="744" y="1128"/>
                </a:lnTo>
                <a:lnTo>
                  <a:pt x="750" y="1128"/>
                </a:lnTo>
                <a:lnTo>
                  <a:pt x="756" y="1128"/>
                </a:lnTo>
                <a:lnTo>
                  <a:pt x="762" y="1128"/>
                </a:lnTo>
                <a:lnTo>
                  <a:pt x="768" y="1128"/>
                </a:lnTo>
                <a:lnTo>
                  <a:pt x="774" y="1128"/>
                </a:lnTo>
                <a:lnTo>
                  <a:pt x="780" y="1128"/>
                </a:lnTo>
                <a:lnTo>
                  <a:pt x="786" y="1128"/>
                </a:lnTo>
                <a:lnTo>
                  <a:pt x="792" y="1128"/>
                </a:lnTo>
                <a:lnTo>
                  <a:pt x="798" y="1128"/>
                </a:lnTo>
                <a:lnTo>
                  <a:pt x="804" y="1128"/>
                </a:lnTo>
                <a:lnTo>
                  <a:pt x="810" y="1128"/>
                </a:lnTo>
                <a:lnTo>
                  <a:pt x="816" y="1128"/>
                </a:lnTo>
                <a:lnTo>
                  <a:pt x="822" y="1128"/>
                </a:lnTo>
                <a:lnTo>
                  <a:pt x="828" y="1128"/>
                </a:lnTo>
                <a:lnTo>
                  <a:pt x="834" y="1128"/>
                </a:lnTo>
                <a:lnTo>
                  <a:pt x="840" y="1128"/>
                </a:lnTo>
                <a:lnTo>
                  <a:pt x="846" y="1128"/>
                </a:lnTo>
                <a:lnTo>
                  <a:pt x="852" y="1128"/>
                </a:lnTo>
                <a:lnTo>
                  <a:pt x="858" y="1128"/>
                </a:lnTo>
                <a:lnTo>
                  <a:pt x="864" y="1128"/>
                </a:lnTo>
                <a:lnTo>
                  <a:pt x="870" y="1128"/>
                </a:lnTo>
                <a:lnTo>
                  <a:pt x="876" y="1128"/>
                </a:lnTo>
                <a:lnTo>
                  <a:pt x="882" y="1128"/>
                </a:lnTo>
                <a:lnTo>
                  <a:pt x="888" y="1128"/>
                </a:lnTo>
                <a:lnTo>
                  <a:pt x="894" y="1128"/>
                </a:lnTo>
                <a:lnTo>
                  <a:pt x="900" y="1128"/>
                </a:lnTo>
                <a:lnTo>
                  <a:pt x="906" y="1128"/>
                </a:lnTo>
                <a:lnTo>
                  <a:pt x="912" y="1128"/>
                </a:lnTo>
                <a:lnTo>
                  <a:pt x="918" y="1128"/>
                </a:lnTo>
                <a:lnTo>
                  <a:pt x="924" y="1128"/>
                </a:lnTo>
                <a:lnTo>
                  <a:pt x="930" y="1128"/>
                </a:lnTo>
                <a:lnTo>
                  <a:pt x="936" y="1128"/>
                </a:lnTo>
                <a:lnTo>
                  <a:pt x="942" y="1128"/>
                </a:lnTo>
                <a:lnTo>
                  <a:pt x="948" y="1128"/>
                </a:lnTo>
                <a:lnTo>
                  <a:pt x="954" y="1128"/>
                </a:lnTo>
                <a:lnTo>
                  <a:pt x="960" y="1128"/>
                </a:lnTo>
                <a:lnTo>
                  <a:pt x="966" y="1128"/>
                </a:lnTo>
                <a:lnTo>
                  <a:pt x="972" y="1128"/>
                </a:lnTo>
                <a:lnTo>
                  <a:pt x="978" y="1128"/>
                </a:lnTo>
                <a:lnTo>
                  <a:pt x="984" y="1128"/>
                </a:lnTo>
                <a:lnTo>
                  <a:pt x="990" y="1128"/>
                </a:lnTo>
                <a:lnTo>
                  <a:pt x="996" y="1128"/>
                </a:lnTo>
                <a:lnTo>
                  <a:pt x="1002" y="1128"/>
                </a:lnTo>
                <a:lnTo>
                  <a:pt x="1008" y="1128"/>
                </a:lnTo>
                <a:lnTo>
                  <a:pt x="1014" y="1128"/>
                </a:lnTo>
                <a:lnTo>
                  <a:pt x="1020" y="1128"/>
                </a:lnTo>
                <a:lnTo>
                  <a:pt x="1026" y="1128"/>
                </a:lnTo>
                <a:lnTo>
                  <a:pt x="1032" y="1128"/>
                </a:lnTo>
                <a:lnTo>
                  <a:pt x="1038" y="1128"/>
                </a:lnTo>
                <a:lnTo>
                  <a:pt x="1044" y="1128"/>
                </a:lnTo>
                <a:lnTo>
                  <a:pt x="1050" y="1128"/>
                </a:lnTo>
                <a:lnTo>
                  <a:pt x="1056" y="1128"/>
                </a:lnTo>
                <a:lnTo>
                  <a:pt x="1062" y="1128"/>
                </a:lnTo>
                <a:lnTo>
                  <a:pt x="1068" y="1128"/>
                </a:lnTo>
                <a:lnTo>
                  <a:pt x="1074" y="1128"/>
                </a:lnTo>
                <a:lnTo>
                  <a:pt x="1080" y="1128"/>
                </a:lnTo>
                <a:lnTo>
                  <a:pt x="1086" y="1128"/>
                </a:lnTo>
                <a:lnTo>
                  <a:pt x="1092" y="1128"/>
                </a:lnTo>
                <a:lnTo>
                  <a:pt x="1098" y="1128"/>
                </a:lnTo>
                <a:lnTo>
                  <a:pt x="1104" y="1128"/>
                </a:lnTo>
                <a:lnTo>
                  <a:pt x="1110" y="1128"/>
                </a:lnTo>
                <a:lnTo>
                  <a:pt x="1116" y="1128"/>
                </a:lnTo>
                <a:lnTo>
                  <a:pt x="1122" y="1128"/>
                </a:lnTo>
                <a:lnTo>
                  <a:pt x="1128" y="1128"/>
                </a:lnTo>
                <a:lnTo>
                  <a:pt x="1134" y="1122"/>
                </a:lnTo>
                <a:lnTo>
                  <a:pt x="1140" y="1122"/>
                </a:lnTo>
                <a:lnTo>
                  <a:pt x="1146" y="1122"/>
                </a:lnTo>
                <a:lnTo>
                  <a:pt x="1152" y="1122"/>
                </a:lnTo>
                <a:lnTo>
                  <a:pt x="1158" y="1122"/>
                </a:lnTo>
                <a:lnTo>
                  <a:pt x="1164" y="1122"/>
                </a:lnTo>
                <a:lnTo>
                  <a:pt x="1170" y="1122"/>
                </a:lnTo>
                <a:lnTo>
                  <a:pt x="1176" y="1122"/>
                </a:lnTo>
                <a:lnTo>
                  <a:pt x="1182" y="1122"/>
                </a:lnTo>
                <a:lnTo>
                  <a:pt x="1188" y="1122"/>
                </a:lnTo>
                <a:lnTo>
                  <a:pt x="1194" y="1122"/>
                </a:lnTo>
                <a:lnTo>
                  <a:pt x="1200" y="1122"/>
                </a:lnTo>
                <a:lnTo>
                  <a:pt x="1206" y="1122"/>
                </a:lnTo>
                <a:lnTo>
                  <a:pt x="1212" y="1122"/>
                </a:lnTo>
                <a:lnTo>
                  <a:pt x="1218" y="1122"/>
                </a:lnTo>
                <a:lnTo>
                  <a:pt x="1224" y="1122"/>
                </a:lnTo>
                <a:lnTo>
                  <a:pt x="1230" y="1122"/>
                </a:lnTo>
                <a:lnTo>
                  <a:pt x="1236" y="1122"/>
                </a:lnTo>
                <a:lnTo>
                  <a:pt x="1242" y="1122"/>
                </a:lnTo>
                <a:lnTo>
                  <a:pt x="1248" y="1122"/>
                </a:lnTo>
                <a:lnTo>
                  <a:pt x="1254" y="1122"/>
                </a:lnTo>
                <a:lnTo>
                  <a:pt x="1260" y="1122"/>
                </a:lnTo>
                <a:lnTo>
                  <a:pt x="1266" y="1122"/>
                </a:lnTo>
                <a:lnTo>
                  <a:pt x="1272" y="1122"/>
                </a:lnTo>
                <a:lnTo>
                  <a:pt x="1278" y="1122"/>
                </a:lnTo>
                <a:lnTo>
                  <a:pt x="1284" y="1122"/>
                </a:lnTo>
                <a:lnTo>
                  <a:pt x="1290" y="1122"/>
                </a:lnTo>
                <a:lnTo>
                  <a:pt x="1296" y="1122"/>
                </a:lnTo>
                <a:lnTo>
                  <a:pt x="1302" y="1122"/>
                </a:lnTo>
                <a:lnTo>
                  <a:pt x="1308" y="1122"/>
                </a:lnTo>
                <a:lnTo>
                  <a:pt x="1314" y="1122"/>
                </a:lnTo>
                <a:lnTo>
                  <a:pt x="1320" y="1122"/>
                </a:lnTo>
                <a:lnTo>
                  <a:pt x="1326" y="1122"/>
                </a:lnTo>
                <a:lnTo>
                  <a:pt x="1332" y="1122"/>
                </a:lnTo>
                <a:lnTo>
                  <a:pt x="1338" y="1122"/>
                </a:lnTo>
                <a:lnTo>
                  <a:pt x="1344" y="1122"/>
                </a:lnTo>
                <a:lnTo>
                  <a:pt x="1350" y="1122"/>
                </a:lnTo>
                <a:lnTo>
                  <a:pt x="1356" y="1122"/>
                </a:lnTo>
                <a:lnTo>
                  <a:pt x="1362" y="1122"/>
                </a:lnTo>
                <a:lnTo>
                  <a:pt x="1368" y="1122"/>
                </a:lnTo>
                <a:lnTo>
                  <a:pt x="1374" y="1122"/>
                </a:lnTo>
                <a:lnTo>
                  <a:pt x="1380" y="1122"/>
                </a:lnTo>
                <a:lnTo>
                  <a:pt x="1386" y="1122"/>
                </a:lnTo>
                <a:lnTo>
                  <a:pt x="1392" y="1122"/>
                </a:lnTo>
                <a:lnTo>
                  <a:pt x="1398" y="1122"/>
                </a:lnTo>
                <a:lnTo>
                  <a:pt x="1404" y="1122"/>
                </a:lnTo>
                <a:lnTo>
                  <a:pt x="1410" y="1122"/>
                </a:lnTo>
                <a:lnTo>
                  <a:pt x="1416" y="1122"/>
                </a:lnTo>
                <a:lnTo>
                  <a:pt x="1422" y="1122"/>
                </a:lnTo>
                <a:lnTo>
                  <a:pt x="1428" y="1122"/>
                </a:lnTo>
                <a:lnTo>
                  <a:pt x="1434" y="1122"/>
                </a:lnTo>
                <a:lnTo>
                  <a:pt x="1440" y="1122"/>
                </a:lnTo>
                <a:lnTo>
                  <a:pt x="1446" y="1122"/>
                </a:lnTo>
                <a:lnTo>
                  <a:pt x="1452" y="1122"/>
                </a:lnTo>
                <a:lnTo>
                  <a:pt x="1458" y="1122"/>
                </a:lnTo>
                <a:lnTo>
                  <a:pt x="1464" y="1122"/>
                </a:lnTo>
                <a:lnTo>
                  <a:pt x="1470" y="1122"/>
                </a:lnTo>
                <a:lnTo>
                  <a:pt x="1476" y="1122"/>
                </a:lnTo>
                <a:lnTo>
                  <a:pt x="1482" y="1122"/>
                </a:lnTo>
                <a:lnTo>
                  <a:pt x="1488" y="1116"/>
                </a:lnTo>
                <a:lnTo>
                  <a:pt x="1494" y="1116"/>
                </a:lnTo>
                <a:lnTo>
                  <a:pt x="1500" y="1116"/>
                </a:lnTo>
                <a:lnTo>
                  <a:pt x="1506" y="1116"/>
                </a:lnTo>
                <a:lnTo>
                  <a:pt x="1512" y="1116"/>
                </a:lnTo>
                <a:lnTo>
                  <a:pt x="1518" y="1116"/>
                </a:lnTo>
                <a:lnTo>
                  <a:pt x="1524" y="1116"/>
                </a:lnTo>
                <a:lnTo>
                  <a:pt x="1530" y="1116"/>
                </a:lnTo>
                <a:lnTo>
                  <a:pt x="1536" y="1116"/>
                </a:lnTo>
                <a:lnTo>
                  <a:pt x="1542" y="1116"/>
                </a:lnTo>
                <a:lnTo>
                  <a:pt x="1548" y="1116"/>
                </a:lnTo>
                <a:lnTo>
                  <a:pt x="1554" y="1116"/>
                </a:lnTo>
                <a:lnTo>
                  <a:pt x="1561" y="1116"/>
                </a:lnTo>
                <a:lnTo>
                  <a:pt x="1567" y="1116"/>
                </a:lnTo>
                <a:lnTo>
                  <a:pt x="1573" y="1116"/>
                </a:lnTo>
                <a:lnTo>
                  <a:pt x="1579" y="1116"/>
                </a:lnTo>
                <a:lnTo>
                  <a:pt x="1585" y="1116"/>
                </a:lnTo>
                <a:lnTo>
                  <a:pt x="1591" y="1116"/>
                </a:lnTo>
                <a:lnTo>
                  <a:pt x="1597" y="1116"/>
                </a:lnTo>
                <a:lnTo>
                  <a:pt x="1603" y="1116"/>
                </a:lnTo>
                <a:lnTo>
                  <a:pt x="1609" y="1116"/>
                </a:lnTo>
                <a:lnTo>
                  <a:pt x="1615" y="1110"/>
                </a:lnTo>
                <a:lnTo>
                  <a:pt x="1621" y="1110"/>
                </a:lnTo>
                <a:lnTo>
                  <a:pt x="1627" y="1110"/>
                </a:lnTo>
                <a:lnTo>
                  <a:pt x="1633" y="1110"/>
                </a:lnTo>
                <a:lnTo>
                  <a:pt x="1639" y="1110"/>
                </a:lnTo>
                <a:lnTo>
                  <a:pt x="1645" y="1110"/>
                </a:lnTo>
                <a:lnTo>
                  <a:pt x="1651" y="1110"/>
                </a:lnTo>
                <a:lnTo>
                  <a:pt x="1657" y="1110"/>
                </a:lnTo>
                <a:lnTo>
                  <a:pt x="1663" y="1110"/>
                </a:lnTo>
                <a:lnTo>
                  <a:pt x="1669" y="1110"/>
                </a:lnTo>
                <a:lnTo>
                  <a:pt x="1675" y="1104"/>
                </a:lnTo>
                <a:lnTo>
                  <a:pt x="1681" y="1104"/>
                </a:lnTo>
                <a:lnTo>
                  <a:pt x="1687" y="1104"/>
                </a:lnTo>
                <a:lnTo>
                  <a:pt x="1693" y="1104"/>
                </a:lnTo>
                <a:lnTo>
                  <a:pt x="1699" y="1104"/>
                </a:lnTo>
                <a:lnTo>
                  <a:pt x="1705" y="1104"/>
                </a:lnTo>
                <a:lnTo>
                  <a:pt x="1711" y="1098"/>
                </a:lnTo>
                <a:lnTo>
                  <a:pt x="1717" y="1098"/>
                </a:lnTo>
                <a:lnTo>
                  <a:pt x="1723" y="1098"/>
                </a:lnTo>
                <a:lnTo>
                  <a:pt x="1729" y="1092"/>
                </a:lnTo>
                <a:lnTo>
                  <a:pt x="1735" y="1092"/>
                </a:lnTo>
                <a:lnTo>
                  <a:pt x="1741" y="1086"/>
                </a:lnTo>
                <a:lnTo>
                  <a:pt x="1747" y="1086"/>
                </a:lnTo>
                <a:lnTo>
                  <a:pt x="1753" y="1080"/>
                </a:lnTo>
                <a:lnTo>
                  <a:pt x="1759" y="1074"/>
                </a:lnTo>
                <a:lnTo>
                  <a:pt x="1759" y="1068"/>
                </a:lnTo>
                <a:lnTo>
                  <a:pt x="1765" y="1062"/>
                </a:lnTo>
                <a:lnTo>
                  <a:pt x="1771" y="1050"/>
                </a:lnTo>
                <a:lnTo>
                  <a:pt x="1771" y="1038"/>
                </a:lnTo>
                <a:lnTo>
                  <a:pt x="1777" y="1020"/>
                </a:lnTo>
                <a:lnTo>
                  <a:pt x="1777" y="0"/>
                </a:lnTo>
                <a:lnTo>
                  <a:pt x="1783" y="1140"/>
                </a:lnTo>
              </a:path>
            </a:pathLst>
          </a:custGeom>
          <a:solidFill>
            <a:srgbClr val="3333cc"/>
          </a:solidFill>
          <a:ln w="19080">
            <a:solidFill>
              <a:srgbClr val="00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884160" y="2370240"/>
            <a:ext cx="2068560" cy="1714320"/>
          </a:xfrm>
          <a:custGeom>
            <a:avLst/>
            <a:gdLst/>
            <a:ahLst/>
            <a:rect l="l" t="t" r="r" b="b"/>
            <a:pathLst>
              <a:path w="1783" h="1140">
                <a:moveTo>
                  <a:pt x="0" y="1128"/>
                </a:moveTo>
                <a:lnTo>
                  <a:pt x="0" y="1128"/>
                </a:lnTo>
                <a:lnTo>
                  <a:pt x="6" y="1128"/>
                </a:lnTo>
                <a:lnTo>
                  <a:pt x="12" y="1128"/>
                </a:lnTo>
                <a:lnTo>
                  <a:pt x="18" y="1128"/>
                </a:lnTo>
                <a:lnTo>
                  <a:pt x="24" y="1128"/>
                </a:lnTo>
                <a:lnTo>
                  <a:pt x="30" y="1128"/>
                </a:lnTo>
                <a:lnTo>
                  <a:pt x="36" y="1128"/>
                </a:lnTo>
                <a:lnTo>
                  <a:pt x="42" y="1128"/>
                </a:lnTo>
                <a:lnTo>
                  <a:pt x="48" y="1128"/>
                </a:lnTo>
                <a:lnTo>
                  <a:pt x="54" y="1128"/>
                </a:lnTo>
                <a:lnTo>
                  <a:pt x="60" y="1128"/>
                </a:lnTo>
                <a:lnTo>
                  <a:pt x="66" y="1128"/>
                </a:lnTo>
                <a:lnTo>
                  <a:pt x="72" y="1128"/>
                </a:lnTo>
                <a:lnTo>
                  <a:pt x="78" y="1128"/>
                </a:lnTo>
                <a:lnTo>
                  <a:pt x="84" y="1128"/>
                </a:lnTo>
                <a:lnTo>
                  <a:pt x="90" y="1128"/>
                </a:lnTo>
                <a:lnTo>
                  <a:pt x="96" y="1128"/>
                </a:lnTo>
                <a:lnTo>
                  <a:pt x="102" y="1128"/>
                </a:lnTo>
                <a:lnTo>
                  <a:pt x="108" y="1128"/>
                </a:lnTo>
                <a:lnTo>
                  <a:pt x="114" y="1128"/>
                </a:lnTo>
                <a:lnTo>
                  <a:pt x="120" y="1128"/>
                </a:lnTo>
                <a:lnTo>
                  <a:pt x="126" y="1128"/>
                </a:lnTo>
                <a:lnTo>
                  <a:pt x="132" y="1128"/>
                </a:lnTo>
                <a:lnTo>
                  <a:pt x="138" y="1128"/>
                </a:lnTo>
                <a:lnTo>
                  <a:pt x="144" y="1128"/>
                </a:lnTo>
                <a:lnTo>
                  <a:pt x="150" y="1128"/>
                </a:lnTo>
                <a:lnTo>
                  <a:pt x="156" y="1128"/>
                </a:lnTo>
                <a:lnTo>
                  <a:pt x="162" y="1128"/>
                </a:lnTo>
                <a:lnTo>
                  <a:pt x="168" y="1128"/>
                </a:lnTo>
                <a:lnTo>
                  <a:pt x="174" y="1128"/>
                </a:lnTo>
                <a:lnTo>
                  <a:pt x="180" y="1128"/>
                </a:lnTo>
                <a:lnTo>
                  <a:pt x="186" y="1128"/>
                </a:lnTo>
                <a:lnTo>
                  <a:pt x="192" y="1128"/>
                </a:lnTo>
                <a:lnTo>
                  <a:pt x="198" y="1128"/>
                </a:lnTo>
                <a:lnTo>
                  <a:pt x="204" y="1128"/>
                </a:lnTo>
                <a:lnTo>
                  <a:pt x="210" y="1128"/>
                </a:lnTo>
                <a:lnTo>
                  <a:pt x="216" y="1128"/>
                </a:lnTo>
                <a:lnTo>
                  <a:pt x="222" y="1128"/>
                </a:lnTo>
                <a:lnTo>
                  <a:pt x="228" y="1128"/>
                </a:lnTo>
                <a:lnTo>
                  <a:pt x="234" y="1128"/>
                </a:lnTo>
                <a:lnTo>
                  <a:pt x="240" y="1128"/>
                </a:lnTo>
                <a:lnTo>
                  <a:pt x="246" y="1128"/>
                </a:lnTo>
                <a:lnTo>
                  <a:pt x="252" y="1128"/>
                </a:lnTo>
                <a:lnTo>
                  <a:pt x="258" y="1128"/>
                </a:lnTo>
                <a:lnTo>
                  <a:pt x="264" y="1128"/>
                </a:lnTo>
                <a:lnTo>
                  <a:pt x="270" y="1128"/>
                </a:lnTo>
                <a:lnTo>
                  <a:pt x="276" y="1128"/>
                </a:lnTo>
                <a:lnTo>
                  <a:pt x="282" y="1128"/>
                </a:lnTo>
                <a:lnTo>
                  <a:pt x="288" y="1128"/>
                </a:lnTo>
                <a:lnTo>
                  <a:pt x="294" y="1128"/>
                </a:lnTo>
                <a:lnTo>
                  <a:pt x="300" y="1128"/>
                </a:lnTo>
                <a:lnTo>
                  <a:pt x="306" y="1128"/>
                </a:lnTo>
                <a:lnTo>
                  <a:pt x="312" y="1128"/>
                </a:lnTo>
                <a:lnTo>
                  <a:pt x="318" y="1128"/>
                </a:lnTo>
                <a:lnTo>
                  <a:pt x="324" y="1128"/>
                </a:lnTo>
                <a:lnTo>
                  <a:pt x="330" y="1128"/>
                </a:lnTo>
                <a:lnTo>
                  <a:pt x="336" y="1128"/>
                </a:lnTo>
                <a:lnTo>
                  <a:pt x="342" y="1128"/>
                </a:lnTo>
                <a:lnTo>
                  <a:pt x="348" y="1128"/>
                </a:lnTo>
                <a:lnTo>
                  <a:pt x="354" y="1128"/>
                </a:lnTo>
                <a:lnTo>
                  <a:pt x="360" y="1128"/>
                </a:lnTo>
                <a:lnTo>
                  <a:pt x="366" y="1128"/>
                </a:lnTo>
                <a:lnTo>
                  <a:pt x="372" y="1128"/>
                </a:lnTo>
                <a:lnTo>
                  <a:pt x="378" y="1128"/>
                </a:lnTo>
                <a:lnTo>
                  <a:pt x="384" y="1128"/>
                </a:lnTo>
                <a:lnTo>
                  <a:pt x="390" y="1128"/>
                </a:lnTo>
                <a:lnTo>
                  <a:pt x="396" y="1128"/>
                </a:lnTo>
                <a:lnTo>
                  <a:pt x="402" y="1128"/>
                </a:lnTo>
                <a:lnTo>
                  <a:pt x="408" y="1128"/>
                </a:lnTo>
                <a:lnTo>
                  <a:pt x="414" y="1128"/>
                </a:lnTo>
                <a:lnTo>
                  <a:pt x="420" y="1128"/>
                </a:lnTo>
                <a:lnTo>
                  <a:pt x="426" y="1128"/>
                </a:lnTo>
                <a:lnTo>
                  <a:pt x="432" y="1128"/>
                </a:lnTo>
                <a:lnTo>
                  <a:pt x="438" y="1128"/>
                </a:lnTo>
                <a:lnTo>
                  <a:pt x="444" y="1128"/>
                </a:lnTo>
                <a:lnTo>
                  <a:pt x="450" y="1128"/>
                </a:lnTo>
                <a:lnTo>
                  <a:pt x="456" y="1128"/>
                </a:lnTo>
                <a:lnTo>
                  <a:pt x="462" y="1128"/>
                </a:lnTo>
                <a:lnTo>
                  <a:pt x="468" y="1128"/>
                </a:lnTo>
                <a:lnTo>
                  <a:pt x="474" y="1128"/>
                </a:lnTo>
                <a:lnTo>
                  <a:pt x="480" y="1128"/>
                </a:lnTo>
                <a:lnTo>
                  <a:pt x="486" y="1128"/>
                </a:lnTo>
                <a:lnTo>
                  <a:pt x="492" y="1128"/>
                </a:lnTo>
                <a:lnTo>
                  <a:pt x="498" y="1128"/>
                </a:lnTo>
                <a:lnTo>
                  <a:pt x="504" y="1128"/>
                </a:lnTo>
                <a:lnTo>
                  <a:pt x="510" y="1128"/>
                </a:lnTo>
                <a:lnTo>
                  <a:pt x="516" y="1128"/>
                </a:lnTo>
                <a:lnTo>
                  <a:pt x="522" y="1128"/>
                </a:lnTo>
                <a:lnTo>
                  <a:pt x="528" y="1128"/>
                </a:lnTo>
                <a:lnTo>
                  <a:pt x="534" y="1128"/>
                </a:lnTo>
                <a:lnTo>
                  <a:pt x="540" y="1128"/>
                </a:lnTo>
                <a:lnTo>
                  <a:pt x="546" y="1128"/>
                </a:lnTo>
                <a:lnTo>
                  <a:pt x="552" y="1128"/>
                </a:lnTo>
                <a:lnTo>
                  <a:pt x="558" y="1128"/>
                </a:lnTo>
                <a:lnTo>
                  <a:pt x="564" y="1128"/>
                </a:lnTo>
                <a:lnTo>
                  <a:pt x="570" y="1128"/>
                </a:lnTo>
                <a:lnTo>
                  <a:pt x="576" y="1128"/>
                </a:lnTo>
                <a:lnTo>
                  <a:pt x="582" y="1128"/>
                </a:lnTo>
                <a:lnTo>
                  <a:pt x="588" y="1128"/>
                </a:lnTo>
                <a:lnTo>
                  <a:pt x="594" y="1128"/>
                </a:lnTo>
                <a:lnTo>
                  <a:pt x="600" y="1128"/>
                </a:lnTo>
                <a:lnTo>
                  <a:pt x="606" y="1128"/>
                </a:lnTo>
                <a:lnTo>
                  <a:pt x="612" y="1128"/>
                </a:lnTo>
                <a:lnTo>
                  <a:pt x="618" y="1128"/>
                </a:lnTo>
                <a:lnTo>
                  <a:pt x="624" y="1128"/>
                </a:lnTo>
                <a:lnTo>
                  <a:pt x="630" y="1128"/>
                </a:lnTo>
                <a:lnTo>
                  <a:pt x="636" y="1128"/>
                </a:lnTo>
                <a:lnTo>
                  <a:pt x="642" y="1128"/>
                </a:lnTo>
                <a:lnTo>
                  <a:pt x="648" y="1128"/>
                </a:lnTo>
                <a:lnTo>
                  <a:pt x="654" y="1128"/>
                </a:lnTo>
                <a:lnTo>
                  <a:pt x="660" y="1128"/>
                </a:lnTo>
                <a:lnTo>
                  <a:pt x="666" y="1128"/>
                </a:lnTo>
                <a:lnTo>
                  <a:pt x="672" y="1128"/>
                </a:lnTo>
                <a:lnTo>
                  <a:pt x="678" y="1128"/>
                </a:lnTo>
                <a:lnTo>
                  <a:pt x="684" y="1128"/>
                </a:lnTo>
                <a:lnTo>
                  <a:pt x="690" y="1128"/>
                </a:lnTo>
                <a:lnTo>
                  <a:pt x="696" y="1128"/>
                </a:lnTo>
                <a:lnTo>
                  <a:pt x="702" y="1128"/>
                </a:lnTo>
                <a:lnTo>
                  <a:pt x="708" y="1128"/>
                </a:lnTo>
                <a:lnTo>
                  <a:pt x="714" y="1128"/>
                </a:lnTo>
                <a:lnTo>
                  <a:pt x="720" y="1128"/>
                </a:lnTo>
                <a:lnTo>
                  <a:pt x="726" y="1128"/>
                </a:lnTo>
                <a:lnTo>
                  <a:pt x="732" y="1128"/>
                </a:lnTo>
                <a:lnTo>
                  <a:pt x="738" y="1128"/>
                </a:lnTo>
                <a:lnTo>
                  <a:pt x="744" y="1128"/>
                </a:lnTo>
                <a:lnTo>
                  <a:pt x="750" y="1128"/>
                </a:lnTo>
                <a:lnTo>
                  <a:pt x="756" y="1128"/>
                </a:lnTo>
                <a:lnTo>
                  <a:pt x="762" y="1128"/>
                </a:lnTo>
                <a:lnTo>
                  <a:pt x="768" y="1128"/>
                </a:lnTo>
                <a:lnTo>
                  <a:pt x="774" y="1128"/>
                </a:lnTo>
                <a:lnTo>
                  <a:pt x="780" y="1128"/>
                </a:lnTo>
                <a:lnTo>
                  <a:pt x="786" y="1128"/>
                </a:lnTo>
                <a:lnTo>
                  <a:pt x="792" y="1128"/>
                </a:lnTo>
                <a:lnTo>
                  <a:pt x="798" y="1128"/>
                </a:lnTo>
                <a:lnTo>
                  <a:pt x="804" y="1128"/>
                </a:lnTo>
                <a:lnTo>
                  <a:pt x="810" y="1128"/>
                </a:lnTo>
                <a:lnTo>
                  <a:pt x="816" y="1128"/>
                </a:lnTo>
                <a:lnTo>
                  <a:pt x="822" y="1128"/>
                </a:lnTo>
                <a:lnTo>
                  <a:pt x="828" y="1128"/>
                </a:lnTo>
                <a:lnTo>
                  <a:pt x="834" y="1128"/>
                </a:lnTo>
                <a:lnTo>
                  <a:pt x="840" y="1128"/>
                </a:lnTo>
                <a:lnTo>
                  <a:pt x="846" y="1128"/>
                </a:lnTo>
                <a:lnTo>
                  <a:pt x="852" y="1128"/>
                </a:lnTo>
                <a:lnTo>
                  <a:pt x="858" y="1128"/>
                </a:lnTo>
                <a:lnTo>
                  <a:pt x="864" y="1128"/>
                </a:lnTo>
                <a:lnTo>
                  <a:pt x="870" y="1128"/>
                </a:lnTo>
                <a:lnTo>
                  <a:pt x="876" y="1128"/>
                </a:lnTo>
                <a:lnTo>
                  <a:pt x="882" y="1128"/>
                </a:lnTo>
                <a:lnTo>
                  <a:pt x="888" y="1128"/>
                </a:lnTo>
                <a:lnTo>
                  <a:pt x="894" y="1128"/>
                </a:lnTo>
                <a:lnTo>
                  <a:pt x="900" y="1128"/>
                </a:lnTo>
                <a:lnTo>
                  <a:pt x="906" y="1128"/>
                </a:lnTo>
                <a:lnTo>
                  <a:pt x="912" y="1128"/>
                </a:lnTo>
                <a:lnTo>
                  <a:pt x="918" y="1128"/>
                </a:lnTo>
                <a:lnTo>
                  <a:pt x="924" y="1128"/>
                </a:lnTo>
                <a:lnTo>
                  <a:pt x="930" y="1128"/>
                </a:lnTo>
                <a:lnTo>
                  <a:pt x="936" y="1128"/>
                </a:lnTo>
                <a:lnTo>
                  <a:pt x="942" y="1128"/>
                </a:lnTo>
                <a:lnTo>
                  <a:pt x="948" y="1128"/>
                </a:lnTo>
                <a:lnTo>
                  <a:pt x="954" y="1128"/>
                </a:lnTo>
                <a:lnTo>
                  <a:pt x="960" y="1128"/>
                </a:lnTo>
                <a:lnTo>
                  <a:pt x="966" y="1128"/>
                </a:lnTo>
                <a:lnTo>
                  <a:pt x="972" y="1128"/>
                </a:lnTo>
                <a:lnTo>
                  <a:pt x="978" y="1128"/>
                </a:lnTo>
                <a:lnTo>
                  <a:pt x="984" y="1128"/>
                </a:lnTo>
                <a:lnTo>
                  <a:pt x="990" y="1128"/>
                </a:lnTo>
                <a:lnTo>
                  <a:pt x="996" y="1128"/>
                </a:lnTo>
                <a:lnTo>
                  <a:pt x="1002" y="1128"/>
                </a:lnTo>
                <a:lnTo>
                  <a:pt x="1008" y="1128"/>
                </a:lnTo>
                <a:lnTo>
                  <a:pt x="1014" y="1128"/>
                </a:lnTo>
                <a:lnTo>
                  <a:pt x="1020" y="1128"/>
                </a:lnTo>
                <a:lnTo>
                  <a:pt x="1026" y="1128"/>
                </a:lnTo>
                <a:lnTo>
                  <a:pt x="1032" y="1128"/>
                </a:lnTo>
                <a:lnTo>
                  <a:pt x="1038" y="1128"/>
                </a:lnTo>
                <a:lnTo>
                  <a:pt x="1044" y="1128"/>
                </a:lnTo>
                <a:lnTo>
                  <a:pt x="1050" y="1128"/>
                </a:lnTo>
                <a:lnTo>
                  <a:pt x="1056" y="1128"/>
                </a:lnTo>
                <a:lnTo>
                  <a:pt x="1062" y="1128"/>
                </a:lnTo>
                <a:lnTo>
                  <a:pt x="1068" y="1128"/>
                </a:lnTo>
                <a:lnTo>
                  <a:pt x="1074" y="1128"/>
                </a:lnTo>
                <a:lnTo>
                  <a:pt x="1080" y="1128"/>
                </a:lnTo>
                <a:lnTo>
                  <a:pt x="1086" y="1128"/>
                </a:lnTo>
                <a:lnTo>
                  <a:pt x="1092" y="1128"/>
                </a:lnTo>
                <a:lnTo>
                  <a:pt x="1098" y="1128"/>
                </a:lnTo>
                <a:lnTo>
                  <a:pt x="1104" y="1128"/>
                </a:lnTo>
                <a:lnTo>
                  <a:pt x="1110" y="1128"/>
                </a:lnTo>
                <a:lnTo>
                  <a:pt x="1116" y="1128"/>
                </a:lnTo>
                <a:lnTo>
                  <a:pt x="1122" y="1128"/>
                </a:lnTo>
                <a:lnTo>
                  <a:pt x="1128" y="1128"/>
                </a:lnTo>
                <a:lnTo>
                  <a:pt x="1134" y="1122"/>
                </a:lnTo>
                <a:lnTo>
                  <a:pt x="1140" y="1122"/>
                </a:lnTo>
                <a:lnTo>
                  <a:pt x="1146" y="1122"/>
                </a:lnTo>
                <a:lnTo>
                  <a:pt x="1152" y="1122"/>
                </a:lnTo>
                <a:lnTo>
                  <a:pt x="1158" y="1122"/>
                </a:lnTo>
                <a:lnTo>
                  <a:pt x="1164" y="1122"/>
                </a:lnTo>
                <a:lnTo>
                  <a:pt x="1170" y="1122"/>
                </a:lnTo>
                <a:lnTo>
                  <a:pt x="1176" y="1122"/>
                </a:lnTo>
                <a:lnTo>
                  <a:pt x="1182" y="1122"/>
                </a:lnTo>
                <a:lnTo>
                  <a:pt x="1188" y="1122"/>
                </a:lnTo>
                <a:lnTo>
                  <a:pt x="1194" y="1122"/>
                </a:lnTo>
                <a:lnTo>
                  <a:pt x="1200" y="1122"/>
                </a:lnTo>
                <a:lnTo>
                  <a:pt x="1206" y="1122"/>
                </a:lnTo>
                <a:lnTo>
                  <a:pt x="1212" y="1122"/>
                </a:lnTo>
                <a:lnTo>
                  <a:pt x="1218" y="1122"/>
                </a:lnTo>
                <a:lnTo>
                  <a:pt x="1224" y="1122"/>
                </a:lnTo>
                <a:lnTo>
                  <a:pt x="1230" y="1122"/>
                </a:lnTo>
                <a:lnTo>
                  <a:pt x="1236" y="1122"/>
                </a:lnTo>
                <a:lnTo>
                  <a:pt x="1242" y="1122"/>
                </a:lnTo>
                <a:lnTo>
                  <a:pt x="1248" y="1122"/>
                </a:lnTo>
                <a:lnTo>
                  <a:pt x="1254" y="1122"/>
                </a:lnTo>
                <a:lnTo>
                  <a:pt x="1260" y="1122"/>
                </a:lnTo>
                <a:lnTo>
                  <a:pt x="1266" y="1122"/>
                </a:lnTo>
                <a:lnTo>
                  <a:pt x="1272" y="1122"/>
                </a:lnTo>
                <a:lnTo>
                  <a:pt x="1278" y="1122"/>
                </a:lnTo>
                <a:lnTo>
                  <a:pt x="1284" y="1122"/>
                </a:lnTo>
                <a:lnTo>
                  <a:pt x="1290" y="1122"/>
                </a:lnTo>
                <a:lnTo>
                  <a:pt x="1296" y="1122"/>
                </a:lnTo>
                <a:lnTo>
                  <a:pt x="1302" y="1122"/>
                </a:lnTo>
                <a:lnTo>
                  <a:pt x="1308" y="1122"/>
                </a:lnTo>
                <a:lnTo>
                  <a:pt x="1314" y="1122"/>
                </a:lnTo>
                <a:lnTo>
                  <a:pt x="1320" y="1122"/>
                </a:lnTo>
                <a:lnTo>
                  <a:pt x="1326" y="1122"/>
                </a:lnTo>
                <a:lnTo>
                  <a:pt x="1332" y="1122"/>
                </a:lnTo>
                <a:lnTo>
                  <a:pt x="1338" y="1122"/>
                </a:lnTo>
                <a:lnTo>
                  <a:pt x="1344" y="1122"/>
                </a:lnTo>
                <a:lnTo>
                  <a:pt x="1350" y="1122"/>
                </a:lnTo>
                <a:lnTo>
                  <a:pt x="1356" y="1122"/>
                </a:lnTo>
                <a:lnTo>
                  <a:pt x="1362" y="1122"/>
                </a:lnTo>
                <a:lnTo>
                  <a:pt x="1368" y="1122"/>
                </a:lnTo>
                <a:lnTo>
                  <a:pt x="1374" y="1122"/>
                </a:lnTo>
                <a:lnTo>
                  <a:pt x="1380" y="1122"/>
                </a:lnTo>
                <a:lnTo>
                  <a:pt x="1386" y="1122"/>
                </a:lnTo>
                <a:lnTo>
                  <a:pt x="1392" y="1122"/>
                </a:lnTo>
                <a:lnTo>
                  <a:pt x="1398" y="1122"/>
                </a:lnTo>
                <a:lnTo>
                  <a:pt x="1404" y="1122"/>
                </a:lnTo>
                <a:lnTo>
                  <a:pt x="1410" y="1122"/>
                </a:lnTo>
                <a:lnTo>
                  <a:pt x="1416" y="1122"/>
                </a:lnTo>
                <a:lnTo>
                  <a:pt x="1422" y="1122"/>
                </a:lnTo>
                <a:lnTo>
                  <a:pt x="1428" y="1122"/>
                </a:lnTo>
                <a:lnTo>
                  <a:pt x="1434" y="1122"/>
                </a:lnTo>
                <a:lnTo>
                  <a:pt x="1440" y="1122"/>
                </a:lnTo>
                <a:lnTo>
                  <a:pt x="1446" y="1122"/>
                </a:lnTo>
                <a:lnTo>
                  <a:pt x="1452" y="1122"/>
                </a:lnTo>
                <a:lnTo>
                  <a:pt x="1458" y="1122"/>
                </a:lnTo>
                <a:lnTo>
                  <a:pt x="1464" y="1122"/>
                </a:lnTo>
                <a:lnTo>
                  <a:pt x="1470" y="1122"/>
                </a:lnTo>
                <a:lnTo>
                  <a:pt x="1476" y="1122"/>
                </a:lnTo>
                <a:lnTo>
                  <a:pt x="1482" y="1122"/>
                </a:lnTo>
                <a:lnTo>
                  <a:pt x="1488" y="1116"/>
                </a:lnTo>
                <a:lnTo>
                  <a:pt x="1494" y="1116"/>
                </a:lnTo>
                <a:lnTo>
                  <a:pt x="1500" y="1116"/>
                </a:lnTo>
                <a:lnTo>
                  <a:pt x="1506" y="1116"/>
                </a:lnTo>
                <a:lnTo>
                  <a:pt x="1512" y="1116"/>
                </a:lnTo>
                <a:lnTo>
                  <a:pt x="1518" y="1116"/>
                </a:lnTo>
                <a:lnTo>
                  <a:pt x="1524" y="1116"/>
                </a:lnTo>
                <a:lnTo>
                  <a:pt x="1530" y="1116"/>
                </a:lnTo>
                <a:lnTo>
                  <a:pt x="1536" y="1116"/>
                </a:lnTo>
                <a:lnTo>
                  <a:pt x="1542" y="1116"/>
                </a:lnTo>
                <a:lnTo>
                  <a:pt x="1548" y="1116"/>
                </a:lnTo>
                <a:lnTo>
                  <a:pt x="1554" y="1116"/>
                </a:lnTo>
                <a:lnTo>
                  <a:pt x="1561" y="1116"/>
                </a:lnTo>
                <a:lnTo>
                  <a:pt x="1567" y="1116"/>
                </a:lnTo>
                <a:lnTo>
                  <a:pt x="1573" y="1116"/>
                </a:lnTo>
                <a:lnTo>
                  <a:pt x="1579" y="1116"/>
                </a:lnTo>
                <a:lnTo>
                  <a:pt x="1585" y="1116"/>
                </a:lnTo>
                <a:lnTo>
                  <a:pt x="1591" y="1116"/>
                </a:lnTo>
                <a:lnTo>
                  <a:pt x="1597" y="1116"/>
                </a:lnTo>
                <a:lnTo>
                  <a:pt x="1603" y="1116"/>
                </a:lnTo>
                <a:lnTo>
                  <a:pt x="1609" y="1116"/>
                </a:lnTo>
                <a:lnTo>
                  <a:pt x="1615" y="1110"/>
                </a:lnTo>
                <a:lnTo>
                  <a:pt x="1621" y="1110"/>
                </a:lnTo>
                <a:lnTo>
                  <a:pt x="1627" y="1110"/>
                </a:lnTo>
                <a:lnTo>
                  <a:pt x="1633" y="1110"/>
                </a:lnTo>
                <a:lnTo>
                  <a:pt x="1639" y="1110"/>
                </a:lnTo>
                <a:lnTo>
                  <a:pt x="1645" y="1110"/>
                </a:lnTo>
                <a:lnTo>
                  <a:pt x="1651" y="1110"/>
                </a:lnTo>
                <a:lnTo>
                  <a:pt x="1657" y="1110"/>
                </a:lnTo>
                <a:lnTo>
                  <a:pt x="1663" y="1110"/>
                </a:lnTo>
                <a:lnTo>
                  <a:pt x="1669" y="1110"/>
                </a:lnTo>
                <a:lnTo>
                  <a:pt x="1675" y="1104"/>
                </a:lnTo>
                <a:lnTo>
                  <a:pt x="1681" y="1104"/>
                </a:lnTo>
                <a:lnTo>
                  <a:pt x="1687" y="1104"/>
                </a:lnTo>
                <a:lnTo>
                  <a:pt x="1693" y="1104"/>
                </a:lnTo>
                <a:lnTo>
                  <a:pt x="1699" y="1104"/>
                </a:lnTo>
                <a:lnTo>
                  <a:pt x="1705" y="1104"/>
                </a:lnTo>
                <a:lnTo>
                  <a:pt x="1711" y="1098"/>
                </a:lnTo>
                <a:lnTo>
                  <a:pt x="1717" y="1098"/>
                </a:lnTo>
                <a:lnTo>
                  <a:pt x="1723" y="1098"/>
                </a:lnTo>
                <a:lnTo>
                  <a:pt x="1729" y="1092"/>
                </a:lnTo>
                <a:lnTo>
                  <a:pt x="1735" y="1092"/>
                </a:lnTo>
                <a:lnTo>
                  <a:pt x="1741" y="1086"/>
                </a:lnTo>
                <a:lnTo>
                  <a:pt x="1747" y="1086"/>
                </a:lnTo>
                <a:lnTo>
                  <a:pt x="1753" y="1080"/>
                </a:lnTo>
                <a:lnTo>
                  <a:pt x="1759" y="1074"/>
                </a:lnTo>
                <a:lnTo>
                  <a:pt x="1759" y="1068"/>
                </a:lnTo>
                <a:lnTo>
                  <a:pt x="1765" y="1062"/>
                </a:lnTo>
                <a:lnTo>
                  <a:pt x="1771" y="1050"/>
                </a:lnTo>
                <a:lnTo>
                  <a:pt x="1771" y="1038"/>
                </a:lnTo>
                <a:lnTo>
                  <a:pt x="1777" y="1020"/>
                </a:lnTo>
                <a:lnTo>
                  <a:pt x="1777" y="0"/>
                </a:lnTo>
                <a:lnTo>
                  <a:pt x="1783" y="1140"/>
                </a:lnTo>
              </a:path>
            </a:pathLst>
          </a:custGeom>
          <a:solidFill>
            <a:srgbClr val="3333cc"/>
          </a:solid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263760" y="990720"/>
            <a:ext cx="1590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istive 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8091-91AC-4CC5-BAD2-8D5E48FD770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8F1E0-F218-4012-8F80-EDBCDEDDFFE2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909720" y="5832360"/>
            <a:ext cx="411300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909720" y="5832360"/>
            <a:ext cx="4113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90972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13176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2344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1733400" y="5784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214164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70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25574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296712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941200" y="5864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33750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378936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73176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41990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46134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55868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502272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909720" y="583236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835200" y="563256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rot="16200000">
            <a:off x="2125080" y="4995360"/>
            <a:ext cx="47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m=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rot="16200000">
            <a:off x="3513600" y="501120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775960" y="4067280"/>
            <a:ext cx="36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m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rot="16200000">
            <a:off x="2552760" y="4614840"/>
            <a:ext cx="46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m=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195560" y="5322960"/>
            <a:ext cx="411300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179360" y="4970520"/>
            <a:ext cx="411336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185840" y="4044960"/>
            <a:ext cx="411336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57040" y="3559320"/>
            <a:ext cx="194796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Chroma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5196960" y="1179360"/>
            <a:ext cx="3956400" cy="2372040"/>
            <a:chOff x="5196960" y="1179360"/>
            <a:chExt cx="3956400" cy="2372040"/>
          </a:xfrm>
        </p:grpSpPr>
        <p:sp>
          <p:nvSpPr>
            <p:cNvPr id="973" name=""/>
            <p:cNvSpPr/>
            <p:nvPr/>
          </p:nvSpPr>
          <p:spPr>
            <a:xfrm>
              <a:off x="5340240" y="1255680"/>
              <a:ext cx="3160800" cy="2219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340240" y="2355840"/>
              <a:ext cx="3160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5340240" y="1255320"/>
              <a:ext cx="1800" cy="2219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5340240" y="3417480"/>
              <a:ext cx="18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921360" y="237024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340240" y="235584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196960" y="33987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340240" y="292248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249520" y="28465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340240" y="237024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281200" y="2293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340240" y="180828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281200" y="1731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340240" y="125568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227200" y="1179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910560" y="237024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932520" y="1312920"/>
              <a:ext cx="1568520" cy="971640"/>
            </a:xfrm>
            <a:custGeom>
              <a:avLst/>
              <a:gdLst/>
              <a:ahLst/>
              <a:rect l="l" t="t" r="r" b="b"/>
              <a:pathLst>
                <a:path w="1770" h="612">
                  <a:moveTo>
                    <a:pt x="0" y="0"/>
                  </a:moveTo>
                  <a:lnTo>
                    <a:pt x="6" y="192"/>
                  </a:lnTo>
                  <a:lnTo>
                    <a:pt x="18" y="282"/>
                  </a:lnTo>
                  <a:lnTo>
                    <a:pt x="30" y="330"/>
                  </a:lnTo>
                  <a:lnTo>
                    <a:pt x="36" y="366"/>
                  </a:lnTo>
                  <a:lnTo>
                    <a:pt x="48" y="390"/>
                  </a:lnTo>
                  <a:lnTo>
                    <a:pt x="60" y="414"/>
                  </a:lnTo>
                  <a:lnTo>
                    <a:pt x="72" y="426"/>
                  </a:lnTo>
                  <a:lnTo>
                    <a:pt x="78" y="444"/>
                  </a:lnTo>
                  <a:lnTo>
                    <a:pt x="90" y="456"/>
                  </a:lnTo>
                  <a:lnTo>
                    <a:pt x="102" y="462"/>
                  </a:lnTo>
                  <a:lnTo>
                    <a:pt x="108" y="474"/>
                  </a:lnTo>
                  <a:lnTo>
                    <a:pt x="120" y="480"/>
                  </a:lnTo>
                  <a:lnTo>
                    <a:pt x="132" y="486"/>
                  </a:lnTo>
                  <a:lnTo>
                    <a:pt x="138" y="492"/>
                  </a:lnTo>
                  <a:lnTo>
                    <a:pt x="150" y="498"/>
                  </a:lnTo>
                  <a:lnTo>
                    <a:pt x="162" y="504"/>
                  </a:lnTo>
                  <a:lnTo>
                    <a:pt x="174" y="504"/>
                  </a:lnTo>
                  <a:lnTo>
                    <a:pt x="180" y="510"/>
                  </a:lnTo>
                  <a:lnTo>
                    <a:pt x="192" y="516"/>
                  </a:lnTo>
                  <a:lnTo>
                    <a:pt x="204" y="516"/>
                  </a:lnTo>
                  <a:lnTo>
                    <a:pt x="210" y="522"/>
                  </a:lnTo>
                  <a:lnTo>
                    <a:pt x="222" y="522"/>
                  </a:lnTo>
                  <a:lnTo>
                    <a:pt x="234" y="528"/>
                  </a:lnTo>
                  <a:lnTo>
                    <a:pt x="240" y="528"/>
                  </a:lnTo>
                  <a:lnTo>
                    <a:pt x="252" y="534"/>
                  </a:lnTo>
                  <a:lnTo>
                    <a:pt x="264" y="534"/>
                  </a:lnTo>
                  <a:lnTo>
                    <a:pt x="276" y="540"/>
                  </a:lnTo>
                  <a:lnTo>
                    <a:pt x="282" y="540"/>
                  </a:lnTo>
                  <a:lnTo>
                    <a:pt x="294" y="540"/>
                  </a:lnTo>
                  <a:lnTo>
                    <a:pt x="306" y="546"/>
                  </a:lnTo>
                  <a:lnTo>
                    <a:pt x="312" y="546"/>
                  </a:lnTo>
                  <a:lnTo>
                    <a:pt x="324" y="546"/>
                  </a:lnTo>
                  <a:lnTo>
                    <a:pt x="336" y="552"/>
                  </a:lnTo>
                  <a:lnTo>
                    <a:pt x="342" y="552"/>
                  </a:lnTo>
                  <a:lnTo>
                    <a:pt x="354" y="552"/>
                  </a:lnTo>
                  <a:lnTo>
                    <a:pt x="366" y="552"/>
                  </a:lnTo>
                  <a:lnTo>
                    <a:pt x="372" y="558"/>
                  </a:lnTo>
                  <a:lnTo>
                    <a:pt x="384" y="558"/>
                  </a:lnTo>
                  <a:lnTo>
                    <a:pt x="396" y="558"/>
                  </a:lnTo>
                  <a:lnTo>
                    <a:pt x="408" y="558"/>
                  </a:lnTo>
                  <a:lnTo>
                    <a:pt x="414" y="558"/>
                  </a:lnTo>
                  <a:lnTo>
                    <a:pt x="426" y="564"/>
                  </a:lnTo>
                  <a:lnTo>
                    <a:pt x="438" y="564"/>
                  </a:lnTo>
                  <a:lnTo>
                    <a:pt x="444" y="564"/>
                  </a:lnTo>
                  <a:lnTo>
                    <a:pt x="456" y="564"/>
                  </a:lnTo>
                  <a:lnTo>
                    <a:pt x="468" y="564"/>
                  </a:lnTo>
                  <a:lnTo>
                    <a:pt x="474" y="570"/>
                  </a:lnTo>
                  <a:lnTo>
                    <a:pt x="486" y="570"/>
                  </a:lnTo>
                  <a:lnTo>
                    <a:pt x="498" y="570"/>
                  </a:lnTo>
                  <a:lnTo>
                    <a:pt x="510" y="570"/>
                  </a:lnTo>
                  <a:lnTo>
                    <a:pt x="516" y="570"/>
                  </a:lnTo>
                  <a:lnTo>
                    <a:pt x="528" y="570"/>
                  </a:lnTo>
                  <a:lnTo>
                    <a:pt x="540" y="570"/>
                  </a:lnTo>
                  <a:lnTo>
                    <a:pt x="546" y="576"/>
                  </a:lnTo>
                  <a:lnTo>
                    <a:pt x="558" y="576"/>
                  </a:lnTo>
                  <a:lnTo>
                    <a:pt x="570" y="576"/>
                  </a:lnTo>
                  <a:lnTo>
                    <a:pt x="576" y="576"/>
                  </a:lnTo>
                  <a:lnTo>
                    <a:pt x="588" y="576"/>
                  </a:lnTo>
                  <a:lnTo>
                    <a:pt x="600" y="576"/>
                  </a:lnTo>
                  <a:lnTo>
                    <a:pt x="612" y="576"/>
                  </a:lnTo>
                  <a:lnTo>
                    <a:pt x="618" y="576"/>
                  </a:lnTo>
                  <a:lnTo>
                    <a:pt x="630" y="582"/>
                  </a:lnTo>
                  <a:lnTo>
                    <a:pt x="642" y="582"/>
                  </a:lnTo>
                  <a:lnTo>
                    <a:pt x="648" y="582"/>
                  </a:lnTo>
                  <a:lnTo>
                    <a:pt x="660" y="582"/>
                  </a:lnTo>
                  <a:lnTo>
                    <a:pt x="672" y="582"/>
                  </a:lnTo>
                  <a:lnTo>
                    <a:pt x="678" y="582"/>
                  </a:lnTo>
                  <a:lnTo>
                    <a:pt x="690" y="582"/>
                  </a:lnTo>
                  <a:lnTo>
                    <a:pt x="702" y="582"/>
                  </a:lnTo>
                  <a:lnTo>
                    <a:pt x="708" y="582"/>
                  </a:lnTo>
                  <a:lnTo>
                    <a:pt x="720" y="582"/>
                  </a:lnTo>
                  <a:lnTo>
                    <a:pt x="732" y="588"/>
                  </a:lnTo>
                  <a:lnTo>
                    <a:pt x="744" y="588"/>
                  </a:lnTo>
                  <a:lnTo>
                    <a:pt x="750" y="588"/>
                  </a:lnTo>
                  <a:lnTo>
                    <a:pt x="762" y="588"/>
                  </a:lnTo>
                  <a:lnTo>
                    <a:pt x="774" y="588"/>
                  </a:lnTo>
                  <a:lnTo>
                    <a:pt x="780" y="588"/>
                  </a:lnTo>
                  <a:lnTo>
                    <a:pt x="792" y="588"/>
                  </a:lnTo>
                  <a:lnTo>
                    <a:pt x="804" y="588"/>
                  </a:lnTo>
                  <a:lnTo>
                    <a:pt x="810" y="588"/>
                  </a:lnTo>
                  <a:lnTo>
                    <a:pt x="822" y="588"/>
                  </a:lnTo>
                  <a:lnTo>
                    <a:pt x="834" y="588"/>
                  </a:lnTo>
                  <a:lnTo>
                    <a:pt x="846" y="588"/>
                  </a:lnTo>
                  <a:lnTo>
                    <a:pt x="852" y="594"/>
                  </a:lnTo>
                  <a:lnTo>
                    <a:pt x="864" y="594"/>
                  </a:lnTo>
                  <a:lnTo>
                    <a:pt x="876" y="594"/>
                  </a:lnTo>
                  <a:lnTo>
                    <a:pt x="882" y="594"/>
                  </a:lnTo>
                  <a:lnTo>
                    <a:pt x="894" y="594"/>
                  </a:lnTo>
                  <a:lnTo>
                    <a:pt x="906" y="594"/>
                  </a:lnTo>
                  <a:lnTo>
                    <a:pt x="912" y="594"/>
                  </a:lnTo>
                  <a:lnTo>
                    <a:pt x="924" y="594"/>
                  </a:lnTo>
                  <a:lnTo>
                    <a:pt x="936" y="594"/>
                  </a:lnTo>
                  <a:lnTo>
                    <a:pt x="948" y="594"/>
                  </a:lnTo>
                  <a:lnTo>
                    <a:pt x="954" y="594"/>
                  </a:lnTo>
                  <a:lnTo>
                    <a:pt x="966" y="594"/>
                  </a:lnTo>
                  <a:lnTo>
                    <a:pt x="978" y="594"/>
                  </a:lnTo>
                  <a:lnTo>
                    <a:pt x="984" y="594"/>
                  </a:lnTo>
                  <a:lnTo>
                    <a:pt x="996" y="594"/>
                  </a:lnTo>
                  <a:lnTo>
                    <a:pt x="1008" y="594"/>
                  </a:lnTo>
                  <a:lnTo>
                    <a:pt x="1014" y="600"/>
                  </a:lnTo>
                  <a:lnTo>
                    <a:pt x="1026" y="600"/>
                  </a:lnTo>
                  <a:lnTo>
                    <a:pt x="1038" y="600"/>
                  </a:lnTo>
                  <a:lnTo>
                    <a:pt x="1050" y="600"/>
                  </a:lnTo>
                  <a:lnTo>
                    <a:pt x="1056" y="600"/>
                  </a:lnTo>
                  <a:lnTo>
                    <a:pt x="1068" y="600"/>
                  </a:lnTo>
                  <a:lnTo>
                    <a:pt x="1080" y="600"/>
                  </a:lnTo>
                  <a:lnTo>
                    <a:pt x="1086" y="600"/>
                  </a:lnTo>
                  <a:lnTo>
                    <a:pt x="1098" y="600"/>
                  </a:lnTo>
                  <a:lnTo>
                    <a:pt x="1110" y="600"/>
                  </a:lnTo>
                  <a:lnTo>
                    <a:pt x="1116" y="600"/>
                  </a:lnTo>
                  <a:lnTo>
                    <a:pt x="1128" y="600"/>
                  </a:lnTo>
                  <a:lnTo>
                    <a:pt x="1140" y="600"/>
                  </a:lnTo>
                  <a:lnTo>
                    <a:pt x="1146" y="600"/>
                  </a:lnTo>
                  <a:lnTo>
                    <a:pt x="1158" y="600"/>
                  </a:lnTo>
                  <a:lnTo>
                    <a:pt x="1170" y="600"/>
                  </a:lnTo>
                  <a:lnTo>
                    <a:pt x="1182" y="600"/>
                  </a:lnTo>
                  <a:lnTo>
                    <a:pt x="1188" y="600"/>
                  </a:lnTo>
                  <a:lnTo>
                    <a:pt x="1200" y="600"/>
                  </a:lnTo>
                  <a:lnTo>
                    <a:pt x="1212" y="600"/>
                  </a:lnTo>
                  <a:lnTo>
                    <a:pt x="1218" y="600"/>
                  </a:lnTo>
                  <a:lnTo>
                    <a:pt x="1230" y="606"/>
                  </a:lnTo>
                  <a:lnTo>
                    <a:pt x="1242" y="606"/>
                  </a:lnTo>
                  <a:lnTo>
                    <a:pt x="1248" y="606"/>
                  </a:lnTo>
                  <a:lnTo>
                    <a:pt x="1260" y="606"/>
                  </a:lnTo>
                  <a:lnTo>
                    <a:pt x="1272" y="606"/>
                  </a:lnTo>
                  <a:lnTo>
                    <a:pt x="1284" y="606"/>
                  </a:lnTo>
                  <a:lnTo>
                    <a:pt x="1290" y="606"/>
                  </a:lnTo>
                  <a:lnTo>
                    <a:pt x="1302" y="606"/>
                  </a:lnTo>
                  <a:lnTo>
                    <a:pt x="1314" y="606"/>
                  </a:lnTo>
                  <a:lnTo>
                    <a:pt x="1320" y="606"/>
                  </a:lnTo>
                  <a:lnTo>
                    <a:pt x="1332" y="606"/>
                  </a:lnTo>
                  <a:lnTo>
                    <a:pt x="1344" y="606"/>
                  </a:lnTo>
                  <a:lnTo>
                    <a:pt x="1350" y="606"/>
                  </a:lnTo>
                  <a:lnTo>
                    <a:pt x="1362" y="606"/>
                  </a:lnTo>
                  <a:lnTo>
                    <a:pt x="1374" y="606"/>
                  </a:lnTo>
                  <a:lnTo>
                    <a:pt x="1386" y="606"/>
                  </a:lnTo>
                  <a:lnTo>
                    <a:pt x="1392" y="606"/>
                  </a:lnTo>
                  <a:lnTo>
                    <a:pt x="1404" y="606"/>
                  </a:lnTo>
                  <a:lnTo>
                    <a:pt x="1416" y="606"/>
                  </a:lnTo>
                  <a:lnTo>
                    <a:pt x="1422" y="606"/>
                  </a:lnTo>
                  <a:lnTo>
                    <a:pt x="1434" y="606"/>
                  </a:lnTo>
                  <a:lnTo>
                    <a:pt x="1446" y="606"/>
                  </a:lnTo>
                  <a:lnTo>
                    <a:pt x="1452" y="606"/>
                  </a:lnTo>
                  <a:lnTo>
                    <a:pt x="1464" y="606"/>
                  </a:lnTo>
                  <a:lnTo>
                    <a:pt x="1476" y="606"/>
                  </a:lnTo>
                  <a:lnTo>
                    <a:pt x="1482" y="606"/>
                  </a:lnTo>
                  <a:lnTo>
                    <a:pt x="1494" y="606"/>
                  </a:lnTo>
                  <a:lnTo>
                    <a:pt x="1506" y="606"/>
                  </a:lnTo>
                  <a:lnTo>
                    <a:pt x="1518" y="606"/>
                  </a:lnTo>
                  <a:lnTo>
                    <a:pt x="1524" y="612"/>
                  </a:lnTo>
                  <a:lnTo>
                    <a:pt x="1536" y="612"/>
                  </a:lnTo>
                  <a:lnTo>
                    <a:pt x="1548" y="612"/>
                  </a:lnTo>
                  <a:lnTo>
                    <a:pt x="1554" y="612"/>
                  </a:lnTo>
                  <a:lnTo>
                    <a:pt x="1566" y="612"/>
                  </a:lnTo>
                  <a:lnTo>
                    <a:pt x="1578" y="612"/>
                  </a:lnTo>
                  <a:lnTo>
                    <a:pt x="1584" y="612"/>
                  </a:lnTo>
                  <a:lnTo>
                    <a:pt x="1596" y="612"/>
                  </a:lnTo>
                  <a:lnTo>
                    <a:pt x="1608" y="612"/>
                  </a:lnTo>
                  <a:lnTo>
                    <a:pt x="1620" y="612"/>
                  </a:lnTo>
                  <a:lnTo>
                    <a:pt x="1626" y="612"/>
                  </a:lnTo>
                  <a:lnTo>
                    <a:pt x="1638" y="612"/>
                  </a:lnTo>
                  <a:lnTo>
                    <a:pt x="1650" y="612"/>
                  </a:lnTo>
                  <a:lnTo>
                    <a:pt x="1656" y="612"/>
                  </a:lnTo>
                  <a:lnTo>
                    <a:pt x="1668" y="612"/>
                  </a:lnTo>
                  <a:lnTo>
                    <a:pt x="1680" y="612"/>
                  </a:lnTo>
                  <a:lnTo>
                    <a:pt x="1686" y="612"/>
                  </a:lnTo>
                  <a:lnTo>
                    <a:pt x="1698" y="612"/>
                  </a:lnTo>
                  <a:lnTo>
                    <a:pt x="1710" y="612"/>
                  </a:lnTo>
                  <a:lnTo>
                    <a:pt x="1722" y="612"/>
                  </a:lnTo>
                  <a:lnTo>
                    <a:pt x="1728" y="612"/>
                  </a:lnTo>
                  <a:lnTo>
                    <a:pt x="1740" y="612"/>
                  </a:lnTo>
                  <a:lnTo>
                    <a:pt x="1752" y="612"/>
                  </a:lnTo>
                  <a:lnTo>
                    <a:pt x="1758" y="612"/>
                  </a:lnTo>
                  <a:lnTo>
                    <a:pt x="1770" y="61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910560" y="1312920"/>
              <a:ext cx="144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932520" y="1312920"/>
              <a:ext cx="1568520" cy="971640"/>
            </a:xfrm>
            <a:custGeom>
              <a:avLst/>
              <a:gdLst/>
              <a:ahLst/>
              <a:rect l="l" t="t" r="r" b="b"/>
              <a:pathLst>
                <a:path w="1770" h="612">
                  <a:moveTo>
                    <a:pt x="0" y="0"/>
                  </a:moveTo>
                  <a:lnTo>
                    <a:pt x="6" y="192"/>
                  </a:lnTo>
                  <a:lnTo>
                    <a:pt x="18" y="282"/>
                  </a:lnTo>
                  <a:lnTo>
                    <a:pt x="30" y="330"/>
                  </a:lnTo>
                  <a:lnTo>
                    <a:pt x="36" y="366"/>
                  </a:lnTo>
                  <a:lnTo>
                    <a:pt x="48" y="390"/>
                  </a:lnTo>
                  <a:lnTo>
                    <a:pt x="60" y="414"/>
                  </a:lnTo>
                  <a:lnTo>
                    <a:pt x="72" y="426"/>
                  </a:lnTo>
                  <a:lnTo>
                    <a:pt x="78" y="444"/>
                  </a:lnTo>
                  <a:lnTo>
                    <a:pt x="90" y="456"/>
                  </a:lnTo>
                  <a:lnTo>
                    <a:pt x="102" y="462"/>
                  </a:lnTo>
                  <a:lnTo>
                    <a:pt x="108" y="474"/>
                  </a:lnTo>
                  <a:lnTo>
                    <a:pt x="120" y="480"/>
                  </a:lnTo>
                  <a:lnTo>
                    <a:pt x="132" y="486"/>
                  </a:lnTo>
                  <a:lnTo>
                    <a:pt x="138" y="492"/>
                  </a:lnTo>
                  <a:lnTo>
                    <a:pt x="150" y="498"/>
                  </a:lnTo>
                  <a:lnTo>
                    <a:pt x="162" y="504"/>
                  </a:lnTo>
                  <a:lnTo>
                    <a:pt x="174" y="504"/>
                  </a:lnTo>
                  <a:lnTo>
                    <a:pt x="180" y="510"/>
                  </a:lnTo>
                  <a:lnTo>
                    <a:pt x="192" y="516"/>
                  </a:lnTo>
                  <a:lnTo>
                    <a:pt x="204" y="516"/>
                  </a:lnTo>
                  <a:lnTo>
                    <a:pt x="210" y="522"/>
                  </a:lnTo>
                  <a:lnTo>
                    <a:pt x="222" y="522"/>
                  </a:lnTo>
                  <a:lnTo>
                    <a:pt x="234" y="528"/>
                  </a:lnTo>
                  <a:lnTo>
                    <a:pt x="240" y="528"/>
                  </a:lnTo>
                  <a:lnTo>
                    <a:pt x="252" y="534"/>
                  </a:lnTo>
                  <a:lnTo>
                    <a:pt x="264" y="534"/>
                  </a:lnTo>
                  <a:lnTo>
                    <a:pt x="276" y="540"/>
                  </a:lnTo>
                  <a:lnTo>
                    <a:pt x="282" y="540"/>
                  </a:lnTo>
                  <a:lnTo>
                    <a:pt x="294" y="540"/>
                  </a:lnTo>
                  <a:lnTo>
                    <a:pt x="306" y="546"/>
                  </a:lnTo>
                  <a:lnTo>
                    <a:pt x="312" y="546"/>
                  </a:lnTo>
                  <a:lnTo>
                    <a:pt x="324" y="546"/>
                  </a:lnTo>
                  <a:lnTo>
                    <a:pt x="336" y="552"/>
                  </a:lnTo>
                  <a:lnTo>
                    <a:pt x="342" y="552"/>
                  </a:lnTo>
                  <a:lnTo>
                    <a:pt x="354" y="552"/>
                  </a:lnTo>
                  <a:lnTo>
                    <a:pt x="366" y="552"/>
                  </a:lnTo>
                  <a:lnTo>
                    <a:pt x="372" y="558"/>
                  </a:lnTo>
                  <a:lnTo>
                    <a:pt x="384" y="558"/>
                  </a:lnTo>
                  <a:lnTo>
                    <a:pt x="396" y="558"/>
                  </a:lnTo>
                  <a:lnTo>
                    <a:pt x="408" y="558"/>
                  </a:lnTo>
                  <a:lnTo>
                    <a:pt x="414" y="558"/>
                  </a:lnTo>
                  <a:lnTo>
                    <a:pt x="426" y="564"/>
                  </a:lnTo>
                  <a:lnTo>
                    <a:pt x="438" y="564"/>
                  </a:lnTo>
                  <a:lnTo>
                    <a:pt x="444" y="564"/>
                  </a:lnTo>
                  <a:lnTo>
                    <a:pt x="456" y="564"/>
                  </a:lnTo>
                  <a:lnTo>
                    <a:pt x="468" y="564"/>
                  </a:lnTo>
                  <a:lnTo>
                    <a:pt x="474" y="570"/>
                  </a:lnTo>
                  <a:lnTo>
                    <a:pt x="486" y="570"/>
                  </a:lnTo>
                  <a:lnTo>
                    <a:pt x="498" y="570"/>
                  </a:lnTo>
                  <a:lnTo>
                    <a:pt x="510" y="570"/>
                  </a:lnTo>
                  <a:lnTo>
                    <a:pt x="516" y="570"/>
                  </a:lnTo>
                  <a:lnTo>
                    <a:pt x="528" y="570"/>
                  </a:lnTo>
                  <a:lnTo>
                    <a:pt x="540" y="570"/>
                  </a:lnTo>
                  <a:lnTo>
                    <a:pt x="546" y="576"/>
                  </a:lnTo>
                  <a:lnTo>
                    <a:pt x="558" y="576"/>
                  </a:lnTo>
                  <a:lnTo>
                    <a:pt x="570" y="576"/>
                  </a:lnTo>
                  <a:lnTo>
                    <a:pt x="576" y="576"/>
                  </a:lnTo>
                  <a:lnTo>
                    <a:pt x="588" y="576"/>
                  </a:lnTo>
                  <a:lnTo>
                    <a:pt x="600" y="576"/>
                  </a:lnTo>
                  <a:lnTo>
                    <a:pt x="612" y="576"/>
                  </a:lnTo>
                  <a:lnTo>
                    <a:pt x="618" y="576"/>
                  </a:lnTo>
                  <a:lnTo>
                    <a:pt x="630" y="582"/>
                  </a:lnTo>
                  <a:lnTo>
                    <a:pt x="642" y="582"/>
                  </a:lnTo>
                  <a:lnTo>
                    <a:pt x="648" y="582"/>
                  </a:lnTo>
                  <a:lnTo>
                    <a:pt x="660" y="582"/>
                  </a:lnTo>
                  <a:lnTo>
                    <a:pt x="672" y="582"/>
                  </a:lnTo>
                  <a:lnTo>
                    <a:pt x="678" y="582"/>
                  </a:lnTo>
                  <a:lnTo>
                    <a:pt x="690" y="582"/>
                  </a:lnTo>
                  <a:lnTo>
                    <a:pt x="702" y="582"/>
                  </a:lnTo>
                  <a:lnTo>
                    <a:pt x="708" y="582"/>
                  </a:lnTo>
                  <a:lnTo>
                    <a:pt x="720" y="582"/>
                  </a:lnTo>
                  <a:lnTo>
                    <a:pt x="732" y="588"/>
                  </a:lnTo>
                  <a:lnTo>
                    <a:pt x="744" y="588"/>
                  </a:lnTo>
                  <a:lnTo>
                    <a:pt x="750" y="588"/>
                  </a:lnTo>
                  <a:lnTo>
                    <a:pt x="762" y="588"/>
                  </a:lnTo>
                  <a:lnTo>
                    <a:pt x="774" y="588"/>
                  </a:lnTo>
                  <a:lnTo>
                    <a:pt x="780" y="588"/>
                  </a:lnTo>
                  <a:lnTo>
                    <a:pt x="792" y="588"/>
                  </a:lnTo>
                  <a:lnTo>
                    <a:pt x="804" y="588"/>
                  </a:lnTo>
                  <a:lnTo>
                    <a:pt x="810" y="588"/>
                  </a:lnTo>
                  <a:lnTo>
                    <a:pt x="822" y="588"/>
                  </a:lnTo>
                  <a:lnTo>
                    <a:pt x="834" y="588"/>
                  </a:lnTo>
                  <a:lnTo>
                    <a:pt x="846" y="588"/>
                  </a:lnTo>
                  <a:lnTo>
                    <a:pt x="852" y="594"/>
                  </a:lnTo>
                  <a:lnTo>
                    <a:pt x="864" y="594"/>
                  </a:lnTo>
                  <a:lnTo>
                    <a:pt x="876" y="594"/>
                  </a:lnTo>
                  <a:lnTo>
                    <a:pt x="882" y="594"/>
                  </a:lnTo>
                  <a:lnTo>
                    <a:pt x="894" y="594"/>
                  </a:lnTo>
                  <a:lnTo>
                    <a:pt x="906" y="594"/>
                  </a:lnTo>
                  <a:lnTo>
                    <a:pt x="912" y="594"/>
                  </a:lnTo>
                  <a:lnTo>
                    <a:pt x="924" y="594"/>
                  </a:lnTo>
                  <a:lnTo>
                    <a:pt x="936" y="594"/>
                  </a:lnTo>
                  <a:lnTo>
                    <a:pt x="948" y="594"/>
                  </a:lnTo>
                  <a:lnTo>
                    <a:pt x="954" y="594"/>
                  </a:lnTo>
                  <a:lnTo>
                    <a:pt x="966" y="594"/>
                  </a:lnTo>
                  <a:lnTo>
                    <a:pt x="978" y="594"/>
                  </a:lnTo>
                  <a:lnTo>
                    <a:pt x="984" y="594"/>
                  </a:lnTo>
                  <a:lnTo>
                    <a:pt x="996" y="594"/>
                  </a:lnTo>
                  <a:lnTo>
                    <a:pt x="1008" y="594"/>
                  </a:lnTo>
                  <a:lnTo>
                    <a:pt x="1014" y="600"/>
                  </a:lnTo>
                  <a:lnTo>
                    <a:pt x="1026" y="600"/>
                  </a:lnTo>
                  <a:lnTo>
                    <a:pt x="1038" y="600"/>
                  </a:lnTo>
                  <a:lnTo>
                    <a:pt x="1050" y="600"/>
                  </a:lnTo>
                  <a:lnTo>
                    <a:pt x="1056" y="600"/>
                  </a:lnTo>
                  <a:lnTo>
                    <a:pt x="1068" y="600"/>
                  </a:lnTo>
                  <a:lnTo>
                    <a:pt x="1080" y="600"/>
                  </a:lnTo>
                  <a:lnTo>
                    <a:pt x="1086" y="600"/>
                  </a:lnTo>
                  <a:lnTo>
                    <a:pt x="1098" y="600"/>
                  </a:lnTo>
                  <a:lnTo>
                    <a:pt x="1110" y="600"/>
                  </a:lnTo>
                  <a:lnTo>
                    <a:pt x="1116" y="600"/>
                  </a:lnTo>
                  <a:lnTo>
                    <a:pt x="1128" y="600"/>
                  </a:lnTo>
                  <a:lnTo>
                    <a:pt x="1140" y="600"/>
                  </a:lnTo>
                  <a:lnTo>
                    <a:pt x="1146" y="600"/>
                  </a:lnTo>
                  <a:lnTo>
                    <a:pt x="1158" y="600"/>
                  </a:lnTo>
                  <a:lnTo>
                    <a:pt x="1170" y="600"/>
                  </a:lnTo>
                  <a:lnTo>
                    <a:pt x="1182" y="600"/>
                  </a:lnTo>
                  <a:lnTo>
                    <a:pt x="1188" y="600"/>
                  </a:lnTo>
                  <a:lnTo>
                    <a:pt x="1200" y="600"/>
                  </a:lnTo>
                  <a:lnTo>
                    <a:pt x="1212" y="600"/>
                  </a:lnTo>
                  <a:lnTo>
                    <a:pt x="1218" y="600"/>
                  </a:lnTo>
                  <a:lnTo>
                    <a:pt x="1230" y="606"/>
                  </a:lnTo>
                  <a:lnTo>
                    <a:pt x="1242" y="606"/>
                  </a:lnTo>
                  <a:lnTo>
                    <a:pt x="1248" y="606"/>
                  </a:lnTo>
                  <a:lnTo>
                    <a:pt x="1260" y="606"/>
                  </a:lnTo>
                  <a:lnTo>
                    <a:pt x="1272" y="606"/>
                  </a:lnTo>
                  <a:lnTo>
                    <a:pt x="1284" y="606"/>
                  </a:lnTo>
                  <a:lnTo>
                    <a:pt x="1290" y="606"/>
                  </a:lnTo>
                  <a:lnTo>
                    <a:pt x="1302" y="606"/>
                  </a:lnTo>
                  <a:lnTo>
                    <a:pt x="1314" y="606"/>
                  </a:lnTo>
                  <a:lnTo>
                    <a:pt x="1320" y="606"/>
                  </a:lnTo>
                  <a:lnTo>
                    <a:pt x="1332" y="606"/>
                  </a:lnTo>
                  <a:lnTo>
                    <a:pt x="1344" y="606"/>
                  </a:lnTo>
                  <a:lnTo>
                    <a:pt x="1350" y="606"/>
                  </a:lnTo>
                  <a:lnTo>
                    <a:pt x="1362" y="606"/>
                  </a:lnTo>
                  <a:lnTo>
                    <a:pt x="1374" y="606"/>
                  </a:lnTo>
                  <a:lnTo>
                    <a:pt x="1386" y="606"/>
                  </a:lnTo>
                  <a:lnTo>
                    <a:pt x="1392" y="606"/>
                  </a:lnTo>
                  <a:lnTo>
                    <a:pt x="1404" y="606"/>
                  </a:lnTo>
                  <a:lnTo>
                    <a:pt x="1416" y="606"/>
                  </a:lnTo>
                  <a:lnTo>
                    <a:pt x="1422" y="606"/>
                  </a:lnTo>
                  <a:lnTo>
                    <a:pt x="1434" y="606"/>
                  </a:lnTo>
                  <a:lnTo>
                    <a:pt x="1446" y="606"/>
                  </a:lnTo>
                  <a:lnTo>
                    <a:pt x="1452" y="606"/>
                  </a:lnTo>
                  <a:lnTo>
                    <a:pt x="1464" y="606"/>
                  </a:lnTo>
                  <a:lnTo>
                    <a:pt x="1476" y="606"/>
                  </a:lnTo>
                  <a:lnTo>
                    <a:pt x="1482" y="606"/>
                  </a:lnTo>
                  <a:lnTo>
                    <a:pt x="1494" y="606"/>
                  </a:lnTo>
                  <a:lnTo>
                    <a:pt x="1506" y="606"/>
                  </a:lnTo>
                  <a:lnTo>
                    <a:pt x="1518" y="606"/>
                  </a:lnTo>
                  <a:lnTo>
                    <a:pt x="1524" y="612"/>
                  </a:lnTo>
                  <a:lnTo>
                    <a:pt x="1536" y="612"/>
                  </a:lnTo>
                  <a:lnTo>
                    <a:pt x="1548" y="612"/>
                  </a:lnTo>
                  <a:lnTo>
                    <a:pt x="1554" y="612"/>
                  </a:lnTo>
                  <a:lnTo>
                    <a:pt x="1566" y="612"/>
                  </a:lnTo>
                  <a:lnTo>
                    <a:pt x="1578" y="612"/>
                  </a:lnTo>
                  <a:lnTo>
                    <a:pt x="1584" y="612"/>
                  </a:lnTo>
                  <a:lnTo>
                    <a:pt x="1596" y="612"/>
                  </a:lnTo>
                  <a:lnTo>
                    <a:pt x="1608" y="612"/>
                  </a:lnTo>
                  <a:lnTo>
                    <a:pt x="1620" y="612"/>
                  </a:lnTo>
                  <a:lnTo>
                    <a:pt x="1626" y="612"/>
                  </a:lnTo>
                  <a:lnTo>
                    <a:pt x="1638" y="612"/>
                  </a:lnTo>
                  <a:lnTo>
                    <a:pt x="1650" y="612"/>
                  </a:lnTo>
                  <a:lnTo>
                    <a:pt x="1656" y="612"/>
                  </a:lnTo>
                  <a:lnTo>
                    <a:pt x="1668" y="612"/>
                  </a:lnTo>
                  <a:lnTo>
                    <a:pt x="1680" y="612"/>
                  </a:lnTo>
                  <a:lnTo>
                    <a:pt x="1686" y="612"/>
                  </a:lnTo>
                  <a:lnTo>
                    <a:pt x="1698" y="612"/>
                  </a:lnTo>
                  <a:lnTo>
                    <a:pt x="1710" y="612"/>
                  </a:lnTo>
                  <a:lnTo>
                    <a:pt x="1722" y="612"/>
                  </a:lnTo>
                  <a:lnTo>
                    <a:pt x="1728" y="612"/>
                  </a:lnTo>
                  <a:lnTo>
                    <a:pt x="1740" y="612"/>
                  </a:lnTo>
                  <a:lnTo>
                    <a:pt x="1752" y="612"/>
                  </a:lnTo>
                  <a:lnTo>
                    <a:pt x="1758" y="612"/>
                  </a:lnTo>
                  <a:lnTo>
                    <a:pt x="1770" y="612"/>
                  </a:lnTo>
                </a:path>
              </a:pathLst>
            </a:custGeom>
            <a:noFill/>
            <a:ln w="19080">
              <a:solidFill>
                <a:srgbClr val="00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910560" y="237024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932520" y="1312920"/>
              <a:ext cx="1568520" cy="971640"/>
            </a:xfrm>
            <a:custGeom>
              <a:avLst/>
              <a:gdLst/>
              <a:ahLst/>
              <a:rect l="l" t="t" r="r" b="b"/>
              <a:pathLst>
                <a:path w="1770" h="612">
                  <a:moveTo>
                    <a:pt x="0" y="0"/>
                  </a:moveTo>
                  <a:lnTo>
                    <a:pt x="6" y="192"/>
                  </a:lnTo>
                  <a:lnTo>
                    <a:pt x="18" y="282"/>
                  </a:lnTo>
                  <a:lnTo>
                    <a:pt x="30" y="330"/>
                  </a:lnTo>
                  <a:lnTo>
                    <a:pt x="36" y="366"/>
                  </a:lnTo>
                  <a:lnTo>
                    <a:pt x="48" y="390"/>
                  </a:lnTo>
                  <a:lnTo>
                    <a:pt x="60" y="414"/>
                  </a:lnTo>
                  <a:lnTo>
                    <a:pt x="72" y="426"/>
                  </a:lnTo>
                  <a:lnTo>
                    <a:pt x="78" y="444"/>
                  </a:lnTo>
                  <a:lnTo>
                    <a:pt x="90" y="456"/>
                  </a:lnTo>
                  <a:lnTo>
                    <a:pt x="102" y="462"/>
                  </a:lnTo>
                  <a:lnTo>
                    <a:pt x="108" y="474"/>
                  </a:lnTo>
                  <a:lnTo>
                    <a:pt x="120" y="480"/>
                  </a:lnTo>
                  <a:lnTo>
                    <a:pt x="132" y="486"/>
                  </a:lnTo>
                  <a:lnTo>
                    <a:pt x="138" y="492"/>
                  </a:lnTo>
                  <a:lnTo>
                    <a:pt x="150" y="498"/>
                  </a:lnTo>
                  <a:lnTo>
                    <a:pt x="162" y="504"/>
                  </a:lnTo>
                  <a:lnTo>
                    <a:pt x="174" y="504"/>
                  </a:lnTo>
                  <a:lnTo>
                    <a:pt x="180" y="510"/>
                  </a:lnTo>
                  <a:lnTo>
                    <a:pt x="192" y="516"/>
                  </a:lnTo>
                  <a:lnTo>
                    <a:pt x="204" y="516"/>
                  </a:lnTo>
                  <a:lnTo>
                    <a:pt x="210" y="522"/>
                  </a:lnTo>
                  <a:lnTo>
                    <a:pt x="222" y="522"/>
                  </a:lnTo>
                  <a:lnTo>
                    <a:pt x="234" y="528"/>
                  </a:lnTo>
                  <a:lnTo>
                    <a:pt x="240" y="528"/>
                  </a:lnTo>
                  <a:lnTo>
                    <a:pt x="252" y="534"/>
                  </a:lnTo>
                  <a:lnTo>
                    <a:pt x="264" y="534"/>
                  </a:lnTo>
                  <a:lnTo>
                    <a:pt x="276" y="540"/>
                  </a:lnTo>
                  <a:lnTo>
                    <a:pt x="282" y="540"/>
                  </a:lnTo>
                  <a:lnTo>
                    <a:pt x="294" y="540"/>
                  </a:lnTo>
                  <a:lnTo>
                    <a:pt x="306" y="546"/>
                  </a:lnTo>
                  <a:lnTo>
                    <a:pt x="312" y="546"/>
                  </a:lnTo>
                  <a:lnTo>
                    <a:pt x="324" y="546"/>
                  </a:lnTo>
                  <a:lnTo>
                    <a:pt x="336" y="552"/>
                  </a:lnTo>
                  <a:lnTo>
                    <a:pt x="342" y="552"/>
                  </a:lnTo>
                  <a:lnTo>
                    <a:pt x="354" y="552"/>
                  </a:lnTo>
                  <a:lnTo>
                    <a:pt x="366" y="552"/>
                  </a:lnTo>
                  <a:lnTo>
                    <a:pt x="372" y="558"/>
                  </a:lnTo>
                  <a:lnTo>
                    <a:pt x="384" y="558"/>
                  </a:lnTo>
                  <a:lnTo>
                    <a:pt x="396" y="558"/>
                  </a:lnTo>
                  <a:lnTo>
                    <a:pt x="408" y="558"/>
                  </a:lnTo>
                  <a:lnTo>
                    <a:pt x="414" y="558"/>
                  </a:lnTo>
                  <a:lnTo>
                    <a:pt x="426" y="564"/>
                  </a:lnTo>
                  <a:lnTo>
                    <a:pt x="438" y="564"/>
                  </a:lnTo>
                  <a:lnTo>
                    <a:pt x="444" y="564"/>
                  </a:lnTo>
                  <a:lnTo>
                    <a:pt x="456" y="564"/>
                  </a:lnTo>
                  <a:lnTo>
                    <a:pt x="468" y="564"/>
                  </a:lnTo>
                  <a:lnTo>
                    <a:pt x="474" y="570"/>
                  </a:lnTo>
                  <a:lnTo>
                    <a:pt x="486" y="570"/>
                  </a:lnTo>
                  <a:lnTo>
                    <a:pt x="498" y="570"/>
                  </a:lnTo>
                  <a:lnTo>
                    <a:pt x="510" y="570"/>
                  </a:lnTo>
                  <a:lnTo>
                    <a:pt x="516" y="570"/>
                  </a:lnTo>
                  <a:lnTo>
                    <a:pt x="528" y="570"/>
                  </a:lnTo>
                  <a:lnTo>
                    <a:pt x="540" y="570"/>
                  </a:lnTo>
                  <a:lnTo>
                    <a:pt x="546" y="576"/>
                  </a:lnTo>
                  <a:lnTo>
                    <a:pt x="558" y="576"/>
                  </a:lnTo>
                  <a:lnTo>
                    <a:pt x="570" y="576"/>
                  </a:lnTo>
                  <a:lnTo>
                    <a:pt x="576" y="576"/>
                  </a:lnTo>
                  <a:lnTo>
                    <a:pt x="588" y="576"/>
                  </a:lnTo>
                  <a:lnTo>
                    <a:pt x="600" y="576"/>
                  </a:lnTo>
                  <a:lnTo>
                    <a:pt x="612" y="576"/>
                  </a:lnTo>
                  <a:lnTo>
                    <a:pt x="618" y="576"/>
                  </a:lnTo>
                  <a:lnTo>
                    <a:pt x="630" y="582"/>
                  </a:lnTo>
                  <a:lnTo>
                    <a:pt x="642" y="582"/>
                  </a:lnTo>
                  <a:lnTo>
                    <a:pt x="648" y="582"/>
                  </a:lnTo>
                  <a:lnTo>
                    <a:pt x="660" y="582"/>
                  </a:lnTo>
                  <a:lnTo>
                    <a:pt x="672" y="582"/>
                  </a:lnTo>
                  <a:lnTo>
                    <a:pt x="678" y="582"/>
                  </a:lnTo>
                  <a:lnTo>
                    <a:pt x="690" y="582"/>
                  </a:lnTo>
                  <a:lnTo>
                    <a:pt x="702" y="582"/>
                  </a:lnTo>
                  <a:lnTo>
                    <a:pt x="708" y="582"/>
                  </a:lnTo>
                  <a:lnTo>
                    <a:pt x="720" y="582"/>
                  </a:lnTo>
                  <a:lnTo>
                    <a:pt x="732" y="588"/>
                  </a:lnTo>
                  <a:lnTo>
                    <a:pt x="744" y="588"/>
                  </a:lnTo>
                  <a:lnTo>
                    <a:pt x="750" y="588"/>
                  </a:lnTo>
                  <a:lnTo>
                    <a:pt x="762" y="588"/>
                  </a:lnTo>
                  <a:lnTo>
                    <a:pt x="774" y="588"/>
                  </a:lnTo>
                  <a:lnTo>
                    <a:pt x="780" y="588"/>
                  </a:lnTo>
                  <a:lnTo>
                    <a:pt x="792" y="588"/>
                  </a:lnTo>
                  <a:lnTo>
                    <a:pt x="804" y="588"/>
                  </a:lnTo>
                  <a:lnTo>
                    <a:pt x="810" y="588"/>
                  </a:lnTo>
                  <a:lnTo>
                    <a:pt x="822" y="588"/>
                  </a:lnTo>
                  <a:lnTo>
                    <a:pt x="834" y="588"/>
                  </a:lnTo>
                  <a:lnTo>
                    <a:pt x="846" y="588"/>
                  </a:lnTo>
                  <a:lnTo>
                    <a:pt x="852" y="594"/>
                  </a:lnTo>
                  <a:lnTo>
                    <a:pt x="864" y="594"/>
                  </a:lnTo>
                  <a:lnTo>
                    <a:pt x="876" y="594"/>
                  </a:lnTo>
                  <a:lnTo>
                    <a:pt x="882" y="594"/>
                  </a:lnTo>
                  <a:lnTo>
                    <a:pt x="894" y="594"/>
                  </a:lnTo>
                  <a:lnTo>
                    <a:pt x="906" y="594"/>
                  </a:lnTo>
                  <a:lnTo>
                    <a:pt x="912" y="594"/>
                  </a:lnTo>
                  <a:lnTo>
                    <a:pt x="924" y="594"/>
                  </a:lnTo>
                  <a:lnTo>
                    <a:pt x="936" y="594"/>
                  </a:lnTo>
                  <a:lnTo>
                    <a:pt x="948" y="594"/>
                  </a:lnTo>
                  <a:lnTo>
                    <a:pt x="954" y="594"/>
                  </a:lnTo>
                  <a:lnTo>
                    <a:pt x="966" y="594"/>
                  </a:lnTo>
                  <a:lnTo>
                    <a:pt x="978" y="594"/>
                  </a:lnTo>
                  <a:lnTo>
                    <a:pt x="984" y="594"/>
                  </a:lnTo>
                  <a:lnTo>
                    <a:pt x="996" y="594"/>
                  </a:lnTo>
                  <a:lnTo>
                    <a:pt x="1008" y="594"/>
                  </a:lnTo>
                  <a:lnTo>
                    <a:pt x="1014" y="600"/>
                  </a:lnTo>
                  <a:lnTo>
                    <a:pt x="1026" y="600"/>
                  </a:lnTo>
                  <a:lnTo>
                    <a:pt x="1038" y="600"/>
                  </a:lnTo>
                  <a:lnTo>
                    <a:pt x="1050" y="600"/>
                  </a:lnTo>
                  <a:lnTo>
                    <a:pt x="1056" y="600"/>
                  </a:lnTo>
                  <a:lnTo>
                    <a:pt x="1068" y="600"/>
                  </a:lnTo>
                  <a:lnTo>
                    <a:pt x="1080" y="600"/>
                  </a:lnTo>
                  <a:lnTo>
                    <a:pt x="1086" y="600"/>
                  </a:lnTo>
                  <a:lnTo>
                    <a:pt x="1098" y="600"/>
                  </a:lnTo>
                  <a:lnTo>
                    <a:pt x="1110" y="600"/>
                  </a:lnTo>
                  <a:lnTo>
                    <a:pt x="1116" y="600"/>
                  </a:lnTo>
                  <a:lnTo>
                    <a:pt x="1128" y="600"/>
                  </a:lnTo>
                  <a:lnTo>
                    <a:pt x="1140" y="600"/>
                  </a:lnTo>
                  <a:lnTo>
                    <a:pt x="1146" y="600"/>
                  </a:lnTo>
                  <a:lnTo>
                    <a:pt x="1158" y="600"/>
                  </a:lnTo>
                  <a:lnTo>
                    <a:pt x="1170" y="600"/>
                  </a:lnTo>
                  <a:lnTo>
                    <a:pt x="1182" y="600"/>
                  </a:lnTo>
                  <a:lnTo>
                    <a:pt x="1188" y="600"/>
                  </a:lnTo>
                  <a:lnTo>
                    <a:pt x="1200" y="600"/>
                  </a:lnTo>
                  <a:lnTo>
                    <a:pt x="1212" y="600"/>
                  </a:lnTo>
                  <a:lnTo>
                    <a:pt x="1218" y="600"/>
                  </a:lnTo>
                  <a:lnTo>
                    <a:pt x="1230" y="606"/>
                  </a:lnTo>
                  <a:lnTo>
                    <a:pt x="1242" y="606"/>
                  </a:lnTo>
                  <a:lnTo>
                    <a:pt x="1248" y="606"/>
                  </a:lnTo>
                  <a:lnTo>
                    <a:pt x="1260" y="606"/>
                  </a:lnTo>
                  <a:lnTo>
                    <a:pt x="1272" y="606"/>
                  </a:lnTo>
                  <a:lnTo>
                    <a:pt x="1284" y="606"/>
                  </a:lnTo>
                  <a:lnTo>
                    <a:pt x="1290" y="606"/>
                  </a:lnTo>
                  <a:lnTo>
                    <a:pt x="1302" y="606"/>
                  </a:lnTo>
                  <a:lnTo>
                    <a:pt x="1314" y="606"/>
                  </a:lnTo>
                  <a:lnTo>
                    <a:pt x="1320" y="606"/>
                  </a:lnTo>
                  <a:lnTo>
                    <a:pt x="1332" y="606"/>
                  </a:lnTo>
                  <a:lnTo>
                    <a:pt x="1344" y="606"/>
                  </a:lnTo>
                  <a:lnTo>
                    <a:pt x="1350" y="606"/>
                  </a:lnTo>
                  <a:lnTo>
                    <a:pt x="1362" y="606"/>
                  </a:lnTo>
                  <a:lnTo>
                    <a:pt x="1374" y="606"/>
                  </a:lnTo>
                  <a:lnTo>
                    <a:pt x="1386" y="606"/>
                  </a:lnTo>
                  <a:lnTo>
                    <a:pt x="1392" y="606"/>
                  </a:lnTo>
                  <a:lnTo>
                    <a:pt x="1404" y="606"/>
                  </a:lnTo>
                  <a:lnTo>
                    <a:pt x="1416" y="606"/>
                  </a:lnTo>
                  <a:lnTo>
                    <a:pt x="1422" y="606"/>
                  </a:lnTo>
                  <a:lnTo>
                    <a:pt x="1434" y="606"/>
                  </a:lnTo>
                  <a:lnTo>
                    <a:pt x="1446" y="606"/>
                  </a:lnTo>
                  <a:lnTo>
                    <a:pt x="1452" y="606"/>
                  </a:lnTo>
                  <a:lnTo>
                    <a:pt x="1464" y="606"/>
                  </a:lnTo>
                  <a:lnTo>
                    <a:pt x="1476" y="606"/>
                  </a:lnTo>
                  <a:lnTo>
                    <a:pt x="1482" y="606"/>
                  </a:lnTo>
                  <a:lnTo>
                    <a:pt x="1494" y="606"/>
                  </a:lnTo>
                  <a:lnTo>
                    <a:pt x="1506" y="606"/>
                  </a:lnTo>
                  <a:lnTo>
                    <a:pt x="1518" y="606"/>
                  </a:lnTo>
                  <a:lnTo>
                    <a:pt x="1524" y="612"/>
                  </a:lnTo>
                  <a:lnTo>
                    <a:pt x="1536" y="612"/>
                  </a:lnTo>
                  <a:lnTo>
                    <a:pt x="1548" y="612"/>
                  </a:lnTo>
                  <a:lnTo>
                    <a:pt x="1554" y="612"/>
                  </a:lnTo>
                  <a:lnTo>
                    <a:pt x="1566" y="612"/>
                  </a:lnTo>
                  <a:lnTo>
                    <a:pt x="1578" y="612"/>
                  </a:lnTo>
                  <a:lnTo>
                    <a:pt x="1584" y="612"/>
                  </a:lnTo>
                  <a:lnTo>
                    <a:pt x="1596" y="612"/>
                  </a:lnTo>
                  <a:lnTo>
                    <a:pt x="1608" y="612"/>
                  </a:lnTo>
                  <a:lnTo>
                    <a:pt x="1620" y="612"/>
                  </a:lnTo>
                  <a:lnTo>
                    <a:pt x="1626" y="612"/>
                  </a:lnTo>
                  <a:lnTo>
                    <a:pt x="1638" y="612"/>
                  </a:lnTo>
                  <a:lnTo>
                    <a:pt x="1650" y="612"/>
                  </a:lnTo>
                  <a:lnTo>
                    <a:pt x="1656" y="612"/>
                  </a:lnTo>
                  <a:lnTo>
                    <a:pt x="1668" y="612"/>
                  </a:lnTo>
                  <a:lnTo>
                    <a:pt x="1680" y="612"/>
                  </a:lnTo>
                  <a:lnTo>
                    <a:pt x="1686" y="612"/>
                  </a:lnTo>
                  <a:lnTo>
                    <a:pt x="1698" y="612"/>
                  </a:lnTo>
                  <a:lnTo>
                    <a:pt x="1710" y="612"/>
                  </a:lnTo>
                  <a:lnTo>
                    <a:pt x="1722" y="612"/>
                  </a:lnTo>
                  <a:lnTo>
                    <a:pt x="1728" y="612"/>
                  </a:lnTo>
                  <a:lnTo>
                    <a:pt x="1740" y="612"/>
                  </a:lnTo>
                  <a:lnTo>
                    <a:pt x="1752" y="612"/>
                  </a:lnTo>
                  <a:lnTo>
                    <a:pt x="1758" y="612"/>
                  </a:lnTo>
                  <a:lnTo>
                    <a:pt x="1770" y="61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910560" y="1312920"/>
              <a:ext cx="144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2520" y="1312920"/>
              <a:ext cx="1568520" cy="971640"/>
            </a:xfrm>
            <a:custGeom>
              <a:avLst/>
              <a:gdLst/>
              <a:ahLst/>
              <a:rect l="l" t="t" r="r" b="b"/>
              <a:pathLst>
                <a:path w="1770" h="612">
                  <a:moveTo>
                    <a:pt x="0" y="0"/>
                  </a:moveTo>
                  <a:lnTo>
                    <a:pt x="6" y="192"/>
                  </a:lnTo>
                  <a:lnTo>
                    <a:pt x="18" y="282"/>
                  </a:lnTo>
                  <a:lnTo>
                    <a:pt x="30" y="330"/>
                  </a:lnTo>
                  <a:lnTo>
                    <a:pt x="36" y="366"/>
                  </a:lnTo>
                  <a:lnTo>
                    <a:pt x="48" y="390"/>
                  </a:lnTo>
                  <a:lnTo>
                    <a:pt x="60" y="414"/>
                  </a:lnTo>
                  <a:lnTo>
                    <a:pt x="72" y="426"/>
                  </a:lnTo>
                  <a:lnTo>
                    <a:pt x="78" y="444"/>
                  </a:lnTo>
                  <a:lnTo>
                    <a:pt x="90" y="456"/>
                  </a:lnTo>
                  <a:lnTo>
                    <a:pt x="102" y="462"/>
                  </a:lnTo>
                  <a:lnTo>
                    <a:pt x="108" y="474"/>
                  </a:lnTo>
                  <a:lnTo>
                    <a:pt x="120" y="480"/>
                  </a:lnTo>
                  <a:lnTo>
                    <a:pt x="132" y="486"/>
                  </a:lnTo>
                  <a:lnTo>
                    <a:pt x="138" y="492"/>
                  </a:lnTo>
                  <a:lnTo>
                    <a:pt x="150" y="498"/>
                  </a:lnTo>
                  <a:lnTo>
                    <a:pt x="162" y="504"/>
                  </a:lnTo>
                  <a:lnTo>
                    <a:pt x="174" y="504"/>
                  </a:lnTo>
                  <a:lnTo>
                    <a:pt x="180" y="510"/>
                  </a:lnTo>
                  <a:lnTo>
                    <a:pt x="192" y="516"/>
                  </a:lnTo>
                  <a:lnTo>
                    <a:pt x="204" y="516"/>
                  </a:lnTo>
                  <a:lnTo>
                    <a:pt x="210" y="522"/>
                  </a:lnTo>
                  <a:lnTo>
                    <a:pt x="222" y="522"/>
                  </a:lnTo>
                  <a:lnTo>
                    <a:pt x="234" y="528"/>
                  </a:lnTo>
                  <a:lnTo>
                    <a:pt x="240" y="528"/>
                  </a:lnTo>
                  <a:lnTo>
                    <a:pt x="252" y="534"/>
                  </a:lnTo>
                  <a:lnTo>
                    <a:pt x="264" y="534"/>
                  </a:lnTo>
                  <a:lnTo>
                    <a:pt x="276" y="540"/>
                  </a:lnTo>
                  <a:lnTo>
                    <a:pt x="282" y="540"/>
                  </a:lnTo>
                  <a:lnTo>
                    <a:pt x="294" y="540"/>
                  </a:lnTo>
                  <a:lnTo>
                    <a:pt x="306" y="546"/>
                  </a:lnTo>
                  <a:lnTo>
                    <a:pt x="312" y="546"/>
                  </a:lnTo>
                  <a:lnTo>
                    <a:pt x="324" y="546"/>
                  </a:lnTo>
                  <a:lnTo>
                    <a:pt x="336" y="552"/>
                  </a:lnTo>
                  <a:lnTo>
                    <a:pt x="342" y="552"/>
                  </a:lnTo>
                  <a:lnTo>
                    <a:pt x="354" y="552"/>
                  </a:lnTo>
                  <a:lnTo>
                    <a:pt x="366" y="552"/>
                  </a:lnTo>
                  <a:lnTo>
                    <a:pt x="372" y="558"/>
                  </a:lnTo>
                  <a:lnTo>
                    <a:pt x="384" y="558"/>
                  </a:lnTo>
                  <a:lnTo>
                    <a:pt x="396" y="558"/>
                  </a:lnTo>
                  <a:lnTo>
                    <a:pt x="408" y="558"/>
                  </a:lnTo>
                  <a:lnTo>
                    <a:pt x="414" y="558"/>
                  </a:lnTo>
                  <a:lnTo>
                    <a:pt x="426" y="564"/>
                  </a:lnTo>
                  <a:lnTo>
                    <a:pt x="438" y="564"/>
                  </a:lnTo>
                  <a:lnTo>
                    <a:pt x="444" y="564"/>
                  </a:lnTo>
                  <a:lnTo>
                    <a:pt x="456" y="564"/>
                  </a:lnTo>
                  <a:lnTo>
                    <a:pt x="468" y="564"/>
                  </a:lnTo>
                  <a:lnTo>
                    <a:pt x="474" y="570"/>
                  </a:lnTo>
                  <a:lnTo>
                    <a:pt x="486" y="570"/>
                  </a:lnTo>
                  <a:lnTo>
                    <a:pt x="498" y="570"/>
                  </a:lnTo>
                  <a:lnTo>
                    <a:pt x="510" y="570"/>
                  </a:lnTo>
                  <a:lnTo>
                    <a:pt x="516" y="570"/>
                  </a:lnTo>
                  <a:lnTo>
                    <a:pt x="528" y="570"/>
                  </a:lnTo>
                  <a:lnTo>
                    <a:pt x="540" y="570"/>
                  </a:lnTo>
                  <a:lnTo>
                    <a:pt x="546" y="576"/>
                  </a:lnTo>
                  <a:lnTo>
                    <a:pt x="558" y="576"/>
                  </a:lnTo>
                  <a:lnTo>
                    <a:pt x="570" y="576"/>
                  </a:lnTo>
                  <a:lnTo>
                    <a:pt x="576" y="576"/>
                  </a:lnTo>
                  <a:lnTo>
                    <a:pt x="588" y="576"/>
                  </a:lnTo>
                  <a:lnTo>
                    <a:pt x="600" y="576"/>
                  </a:lnTo>
                  <a:lnTo>
                    <a:pt x="612" y="576"/>
                  </a:lnTo>
                  <a:lnTo>
                    <a:pt x="618" y="576"/>
                  </a:lnTo>
                  <a:lnTo>
                    <a:pt x="630" y="582"/>
                  </a:lnTo>
                  <a:lnTo>
                    <a:pt x="642" y="582"/>
                  </a:lnTo>
                  <a:lnTo>
                    <a:pt x="648" y="582"/>
                  </a:lnTo>
                  <a:lnTo>
                    <a:pt x="660" y="582"/>
                  </a:lnTo>
                  <a:lnTo>
                    <a:pt x="672" y="582"/>
                  </a:lnTo>
                  <a:lnTo>
                    <a:pt x="678" y="582"/>
                  </a:lnTo>
                  <a:lnTo>
                    <a:pt x="690" y="582"/>
                  </a:lnTo>
                  <a:lnTo>
                    <a:pt x="702" y="582"/>
                  </a:lnTo>
                  <a:lnTo>
                    <a:pt x="708" y="582"/>
                  </a:lnTo>
                  <a:lnTo>
                    <a:pt x="720" y="582"/>
                  </a:lnTo>
                  <a:lnTo>
                    <a:pt x="732" y="588"/>
                  </a:lnTo>
                  <a:lnTo>
                    <a:pt x="744" y="588"/>
                  </a:lnTo>
                  <a:lnTo>
                    <a:pt x="750" y="588"/>
                  </a:lnTo>
                  <a:lnTo>
                    <a:pt x="762" y="588"/>
                  </a:lnTo>
                  <a:lnTo>
                    <a:pt x="774" y="588"/>
                  </a:lnTo>
                  <a:lnTo>
                    <a:pt x="780" y="588"/>
                  </a:lnTo>
                  <a:lnTo>
                    <a:pt x="792" y="588"/>
                  </a:lnTo>
                  <a:lnTo>
                    <a:pt x="804" y="588"/>
                  </a:lnTo>
                  <a:lnTo>
                    <a:pt x="810" y="588"/>
                  </a:lnTo>
                  <a:lnTo>
                    <a:pt x="822" y="588"/>
                  </a:lnTo>
                  <a:lnTo>
                    <a:pt x="834" y="588"/>
                  </a:lnTo>
                  <a:lnTo>
                    <a:pt x="846" y="588"/>
                  </a:lnTo>
                  <a:lnTo>
                    <a:pt x="852" y="594"/>
                  </a:lnTo>
                  <a:lnTo>
                    <a:pt x="864" y="594"/>
                  </a:lnTo>
                  <a:lnTo>
                    <a:pt x="876" y="594"/>
                  </a:lnTo>
                  <a:lnTo>
                    <a:pt x="882" y="594"/>
                  </a:lnTo>
                  <a:lnTo>
                    <a:pt x="894" y="594"/>
                  </a:lnTo>
                  <a:lnTo>
                    <a:pt x="906" y="594"/>
                  </a:lnTo>
                  <a:lnTo>
                    <a:pt x="912" y="594"/>
                  </a:lnTo>
                  <a:lnTo>
                    <a:pt x="924" y="594"/>
                  </a:lnTo>
                  <a:lnTo>
                    <a:pt x="936" y="594"/>
                  </a:lnTo>
                  <a:lnTo>
                    <a:pt x="948" y="594"/>
                  </a:lnTo>
                  <a:lnTo>
                    <a:pt x="954" y="594"/>
                  </a:lnTo>
                  <a:lnTo>
                    <a:pt x="966" y="594"/>
                  </a:lnTo>
                  <a:lnTo>
                    <a:pt x="978" y="594"/>
                  </a:lnTo>
                  <a:lnTo>
                    <a:pt x="984" y="594"/>
                  </a:lnTo>
                  <a:lnTo>
                    <a:pt x="996" y="594"/>
                  </a:lnTo>
                  <a:lnTo>
                    <a:pt x="1008" y="594"/>
                  </a:lnTo>
                  <a:lnTo>
                    <a:pt x="1014" y="600"/>
                  </a:lnTo>
                  <a:lnTo>
                    <a:pt x="1026" y="600"/>
                  </a:lnTo>
                  <a:lnTo>
                    <a:pt x="1038" y="600"/>
                  </a:lnTo>
                  <a:lnTo>
                    <a:pt x="1050" y="600"/>
                  </a:lnTo>
                  <a:lnTo>
                    <a:pt x="1056" y="600"/>
                  </a:lnTo>
                  <a:lnTo>
                    <a:pt x="1068" y="600"/>
                  </a:lnTo>
                  <a:lnTo>
                    <a:pt x="1080" y="600"/>
                  </a:lnTo>
                  <a:lnTo>
                    <a:pt x="1086" y="600"/>
                  </a:lnTo>
                  <a:lnTo>
                    <a:pt x="1098" y="600"/>
                  </a:lnTo>
                  <a:lnTo>
                    <a:pt x="1110" y="600"/>
                  </a:lnTo>
                  <a:lnTo>
                    <a:pt x="1116" y="600"/>
                  </a:lnTo>
                  <a:lnTo>
                    <a:pt x="1128" y="600"/>
                  </a:lnTo>
                  <a:lnTo>
                    <a:pt x="1140" y="600"/>
                  </a:lnTo>
                  <a:lnTo>
                    <a:pt x="1146" y="600"/>
                  </a:lnTo>
                  <a:lnTo>
                    <a:pt x="1158" y="600"/>
                  </a:lnTo>
                  <a:lnTo>
                    <a:pt x="1170" y="600"/>
                  </a:lnTo>
                  <a:lnTo>
                    <a:pt x="1182" y="600"/>
                  </a:lnTo>
                  <a:lnTo>
                    <a:pt x="1188" y="600"/>
                  </a:lnTo>
                  <a:lnTo>
                    <a:pt x="1200" y="600"/>
                  </a:lnTo>
                  <a:lnTo>
                    <a:pt x="1212" y="600"/>
                  </a:lnTo>
                  <a:lnTo>
                    <a:pt x="1218" y="600"/>
                  </a:lnTo>
                  <a:lnTo>
                    <a:pt x="1230" y="606"/>
                  </a:lnTo>
                  <a:lnTo>
                    <a:pt x="1242" y="606"/>
                  </a:lnTo>
                  <a:lnTo>
                    <a:pt x="1248" y="606"/>
                  </a:lnTo>
                  <a:lnTo>
                    <a:pt x="1260" y="606"/>
                  </a:lnTo>
                  <a:lnTo>
                    <a:pt x="1272" y="606"/>
                  </a:lnTo>
                  <a:lnTo>
                    <a:pt x="1284" y="606"/>
                  </a:lnTo>
                  <a:lnTo>
                    <a:pt x="1290" y="606"/>
                  </a:lnTo>
                  <a:lnTo>
                    <a:pt x="1302" y="606"/>
                  </a:lnTo>
                  <a:lnTo>
                    <a:pt x="1314" y="606"/>
                  </a:lnTo>
                  <a:lnTo>
                    <a:pt x="1320" y="606"/>
                  </a:lnTo>
                  <a:lnTo>
                    <a:pt x="1332" y="606"/>
                  </a:lnTo>
                  <a:lnTo>
                    <a:pt x="1344" y="606"/>
                  </a:lnTo>
                  <a:lnTo>
                    <a:pt x="1350" y="606"/>
                  </a:lnTo>
                  <a:lnTo>
                    <a:pt x="1362" y="606"/>
                  </a:lnTo>
                  <a:lnTo>
                    <a:pt x="1374" y="606"/>
                  </a:lnTo>
                  <a:lnTo>
                    <a:pt x="1386" y="606"/>
                  </a:lnTo>
                  <a:lnTo>
                    <a:pt x="1392" y="606"/>
                  </a:lnTo>
                  <a:lnTo>
                    <a:pt x="1404" y="606"/>
                  </a:lnTo>
                  <a:lnTo>
                    <a:pt x="1416" y="606"/>
                  </a:lnTo>
                  <a:lnTo>
                    <a:pt x="1422" y="606"/>
                  </a:lnTo>
                  <a:lnTo>
                    <a:pt x="1434" y="606"/>
                  </a:lnTo>
                  <a:lnTo>
                    <a:pt x="1446" y="606"/>
                  </a:lnTo>
                  <a:lnTo>
                    <a:pt x="1452" y="606"/>
                  </a:lnTo>
                  <a:lnTo>
                    <a:pt x="1464" y="606"/>
                  </a:lnTo>
                  <a:lnTo>
                    <a:pt x="1476" y="606"/>
                  </a:lnTo>
                  <a:lnTo>
                    <a:pt x="1482" y="606"/>
                  </a:lnTo>
                  <a:lnTo>
                    <a:pt x="1494" y="606"/>
                  </a:lnTo>
                  <a:lnTo>
                    <a:pt x="1506" y="606"/>
                  </a:lnTo>
                  <a:lnTo>
                    <a:pt x="1518" y="606"/>
                  </a:lnTo>
                  <a:lnTo>
                    <a:pt x="1524" y="612"/>
                  </a:lnTo>
                  <a:lnTo>
                    <a:pt x="1536" y="612"/>
                  </a:lnTo>
                  <a:lnTo>
                    <a:pt x="1548" y="612"/>
                  </a:lnTo>
                  <a:lnTo>
                    <a:pt x="1554" y="612"/>
                  </a:lnTo>
                  <a:lnTo>
                    <a:pt x="1566" y="612"/>
                  </a:lnTo>
                  <a:lnTo>
                    <a:pt x="1578" y="612"/>
                  </a:lnTo>
                  <a:lnTo>
                    <a:pt x="1584" y="612"/>
                  </a:lnTo>
                  <a:lnTo>
                    <a:pt x="1596" y="612"/>
                  </a:lnTo>
                  <a:lnTo>
                    <a:pt x="1608" y="612"/>
                  </a:lnTo>
                  <a:lnTo>
                    <a:pt x="1620" y="612"/>
                  </a:lnTo>
                  <a:lnTo>
                    <a:pt x="1626" y="612"/>
                  </a:lnTo>
                  <a:lnTo>
                    <a:pt x="1638" y="612"/>
                  </a:lnTo>
                  <a:lnTo>
                    <a:pt x="1650" y="612"/>
                  </a:lnTo>
                  <a:lnTo>
                    <a:pt x="1656" y="612"/>
                  </a:lnTo>
                  <a:lnTo>
                    <a:pt x="1668" y="612"/>
                  </a:lnTo>
                  <a:lnTo>
                    <a:pt x="1680" y="612"/>
                  </a:lnTo>
                  <a:lnTo>
                    <a:pt x="1686" y="612"/>
                  </a:lnTo>
                  <a:lnTo>
                    <a:pt x="1698" y="612"/>
                  </a:lnTo>
                  <a:lnTo>
                    <a:pt x="1710" y="612"/>
                  </a:lnTo>
                  <a:lnTo>
                    <a:pt x="1722" y="612"/>
                  </a:lnTo>
                  <a:lnTo>
                    <a:pt x="1728" y="612"/>
                  </a:lnTo>
                  <a:lnTo>
                    <a:pt x="1740" y="612"/>
                  </a:lnTo>
                  <a:lnTo>
                    <a:pt x="1752" y="612"/>
                  </a:lnTo>
                  <a:lnTo>
                    <a:pt x="1758" y="612"/>
                  </a:lnTo>
                  <a:lnTo>
                    <a:pt x="1770" y="612"/>
                  </a:lnTo>
                </a:path>
              </a:pathLst>
            </a:custGeom>
            <a:noFill/>
            <a:ln w="19080">
              <a:solidFill>
                <a:srgbClr val="00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340240" y="2446200"/>
              <a:ext cx="1570320" cy="971640"/>
            </a:xfrm>
            <a:custGeom>
              <a:avLst/>
              <a:gdLst/>
              <a:ahLst/>
              <a:rect l="l" t="t" r="r" b="b"/>
              <a:pathLst>
                <a:path w="1771" h="612">
                  <a:moveTo>
                    <a:pt x="0" y="0"/>
                  </a:moveTo>
                  <a:lnTo>
                    <a:pt x="12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62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2" y="6"/>
                  </a:lnTo>
                  <a:lnTo>
                    <a:pt x="264" y="6"/>
                  </a:lnTo>
                  <a:lnTo>
                    <a:pt x="276" y="6"/>
                  </a:lnTo>
                  <a:lnTo>
                    <a:pt x="288" y="6"/>
                  </a:lnTo>
                  <a:lnTo>
                    <a:pt x="294" y="6"/>
                  </a:lnTo>
                  <a:lnTo>
                    <a:pt x="306" y="6"/>
                  </a:lnTo>
                  <a:lnTo>
                    <a:pt x="318" y="6"/>
                  </a:lnTo>
                  <a:lnTo>
                    <a:pt x="324" y="6"/>
                  </a:lnTo>
                  <a:lnTo>
                    <a:pt x="336" y="6"/>
                  </a:lnTo>
                  <a:lnTo>
                    <a:pt x="348" y="6"/>
                  </a:lnTo>
                  <a:lnTo>
                    <a:pt x="354" y="6"/>
                  </a:lnTo>
                  <a:lnTo>
                    <a:pt x="366" y="6"/>
                  </a:lnTo>
                  <a:lnTo>
                    <a:pt x="378" y="6"/>
                  </a:lnTo>
                  <a:lnTo>
                    <a:pt x="384" y="6"/>
                  </a:lnTo>
                  <a:lnTo>
                    <a:pt x="396" y="6"/>
                  </a:lnTo>
                  <a:lnTo>
                    <a:pt x="408" y="6"/>
                  </a:lnTo>
                  <a:lnTo>
                    <a:pt x="420" y="6"/>
                  </a:lnTo>
                  <a:lnTo>
                    <a:pt x="426" y="6"/>
                  </a:lnTo>
                  <a:lnTo>
                    <a:pt x="438" y="6"/>
                  </a:lnTo>
                  <a:lnTo>
                    <a:pt x="450" y="6"/>
                  </a:lnTo>
                  <a:lnTo>
                    <a:pt x="456" y="6"/>
                  </a:lnTo>
                  <a:lnTo>
                    <a:pt x="468" y="6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498" y="6"/>
                  </a:lnTo>
                  <a:lnTo>
                    <a:pt x="510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40" y="6"/>
                  </a:lnTo>
                  <a:lnTo>
                    <a:pt x="552" y="12"/>
                  </a:lnTo>
                  <a:lnTo>
                    <a:pt x="558" y="12"/>
                  </a:lnTo>
                  <a:lnTo>
                    <a:pt x="570" y="12"/>
                  </a:lnTo>
                  <a:lnTo>
                    <a:pt x="582" y="12"/>
                  </a:lnTo>
                  <a:lnTo>
                    <a:pt x="588" y="12"/>
                  </a:lnTo>
                  <a:lnTo>
                    <a:pt x="600" y="12"/>
                  </a:lnTo>
                  <a:lnTo>
                    <a:pt x="612" y="12"/>
                  </a:lnTo>
                  <a:lnTo>
                    <a:pt x="624" y="12"/>
                  </a:lnTo>
                  <a:lnTo>
                    <a:pt x="630" y="12"/>
                  </a:lnTo>
                  <a:lnTo>
                    <a:pt x="642" y="12"/>
                  </a:lnTo>
                  <a:lnTo>
                    <a:pt x="654" y="12"/>
                  </a:lnTo>
                  <a:lnTo>
                    <a:pt x="660" y="12"/>
                  </a:lnTo>
                  <a:lnTo>
                    <a:pt x="672" y="12"/>
                  </a:lnTo>
                  <a:lnTo>
                    <a:pt x="684" y="12"/>
                  </a:lnTo>
                  <a:lnTo>
                    <a:pt x="690" y="12"/>
                  </a:lnTo>
                  <a:lnTo>
                    <a:pt x="702" y="12"/>
                  </a:lnTo>
                  <a:lnTo>
                    <a:pt x="714" y="12"/>
                  </a:lnTo>
                  <a:lnTo>
                    <a:pt x="720" y="12"/>
                  </a:lnTo>
                  <a:lnTo>
                    <a:pt x="732" y="12"/>
                  </a:lnTo>
                  <a:lnTo>
                    <a:pt x="744" y="12"/>
                  </a:lnTo>
                  <a:lnTo>
                    <a:pt x="756" y="12"/>
                  </a:lnTo>
                  <a:lnTo>
                    <a:pt x="762" y="18"/>
                  </a:lnTo>
                  <a:lnTo>
                    <a:pt x="774" y="18"/>
                  </a:lnTo>
                  <a:lnTo>
                    <a:pt x="786" y="18"/>
                  </a:lnTo>
                  <a:lnTo>
                    <a:pt x="792" y="18"/>
                  </a:lnTo>
                  <a:lnTo>
                    <a:pt x="804" y="18"/>
                  </a:lnTo>
                  <a:lnTo>
                    <a:pt x="816" y="18"/>
                  </a:lnTo>
                  <a:lnTo>
                    <a:pt x="822" y="18"/>
                  </a:lnTo>
                  <a:lnTo>
                    <a:pt x="834" y="18"/>
                  </a:lnTo>
                  <a:lnTo>
                    <a:pt x="846" y="18"/>
                  </a:lnTo>
                  <a:lnTo>
                    <a:pt x="858" y="18"/>
                  </a:lnTo>
                  <a:lnTo>
                    <a:pt x="864" y="18"/>
                  </a:lnTo>
                  <a:lnTo>
                    <a:pt x="876" y="18"/>
                  </a:lnTo>
                  <a:lnTo>
                    <a:pt x="888" y="18"/>
                  </a:lnTo>
                  <a:lnTo>
                    <a:pt x="894" y="18"/>
                  </a:lnTo>
                  <a:lnTo>
                    <a:pt x="906" y="18"/>
                  </a:lnTo>
                  <a:lnTo>
                    <a:pt x="918" y="18"/>
                  </a:lnTo>
                  <a:lnTo>
                    <a:pt x="924" y="24"/>
                  </a:lnTo>
                  <a:lnTo>
                    <a:pt x="936" y="24"/>
                  </a:lnTo>
                  <a:lnTo>
                    <a:pt x="948" y="24"/>
                  </a:lnTo>
                  <a:lnTo>
                    <a:pt x="960" y="24"/>
                  </a:lnTo>
                  <a:lnTo>
                    <a:pt x="966" y="24"/>
                  </a:lnTo>
                  <a:lnTo>
                    <a:pt x="978" y="24"/>
                  </a:lnTo>
                  <a:lnTo>
                    <a:pt x="990" y="24"/>
                  </a:lnTo>
                  <a:lnTo>
                    <a:pt x="996" y="24"/>
                  </a:lnTo>
                  <a:lnTo>
                    <a:pt x="1008" y="24"/>
                  </a:lnTo>
                  <a:lnTo>
                    <a:pt x="1020" y="24"/>
                  </a:lnTo>
                  <a:lnTo>
                    <a:pt x="1026" y="24"/>
                  </a:lnTo>
                  <a:lnTo>
                    <a:pt x="1038" y="24"/>
                  </a:lnTo>
                  <a:lnTo>
                    <a:pt x="1050" y="30"/>
                  </a:lnTo>
                  <a:lnTo>
                    <a:pt x="1062" y="30"/>
                  </a:lnTo>
                  <a:lnTo>
                    <a:pt x="1068" y="30"/>
                  </a:lnTo>
                  <a:lnTo>
                    <a:pt x="1080" y="30"/>
                  </a:lnTo>
                  <a:lnTo>
                    <a:pt x="1092" y="30"/>
                  </a:lnTo>
                  <a:lnTo>
                    <a:pt x="1098" y="30"/>
                  </a:lnTo>
                  <a:lnTo>
                    <a:pt x="1110" y="30"/>
                  </a:lnTo>
                  <a:lnTo>
                    <a:pt x="1122" y="30"/>
                  </a:lnTo>
                  <a:lnTo>
                    <a:pt x="1128" y="30"/>
                  </a:lnTo>
                  <a:lnTo>
                    <a:pt x="1140" y="30"/>
                  </a:lnTo>
                  <a:lnTo>
                    <a:pt x="1152" y="36"/>
                  </a:lnTo>
                  <a:lnTo>
                    <a:pt x="1158" y="36"/>
                  </a:lnTo>
                  <a:lnTo>
                    <a:pt x="1170" y="36"/>
                  </a:lnTo>
                  <a:lnTo>
                    <a:pt x="1182" y="36"/>
                  </a:lnTo>
                  <a:lnTo>
                    <a:pt x="1194" y="36"/>
                  </a:lnTo>
                  <a:lnTo>
                    <a:pt x="1200" y="36"/>
                  </a:lnTo>
                  <a:lnTo>
                    <a:pt x="1212" y="36"/>
                  </a:lnTo>
                  <a:lnTo>
                    <a:pt x="1224" y="36"/>
                  </a:lnTo>
                  <a:lnTo>
                    <a:pt x="1230" y="42"/>
                  </a:lnTo>
                  <a:lnTo>
                    <a:pt x="1242" y="42"/>
                  </a:lnTo>
                  <a:lnTo>
                    <a:pt x="1254" y="42"/>
                  </a:lnTo>
                  <a:lnTo>
                    <a:pt x="1260" y="42"/>
                  </a:lnTo>
                  <a:lnTo>
                    <a:pt x="1272" y="42"/>
                  </a:lnTo>
                  <a:lnTo>
                    <a:pt x="1284" y="42"/>
                  </a:lnTo>
                  <a:lnTo>
                    <a:pt x="1296" y="42"/>
                  </a:lnTo>
                  <a:lnTo>
                    <a:pt x="1302" y="48"/>
                  </a:lnTo>
                  <a:lnTo>
                    <a:pt x="1314" y="48"/>
                  </a:lnTo>
                  <a:lnTo>
                    <a:pt x="1326" y="48"/>
                  </a:lnTo>
                  <a:lnTo>
                    <a:pt x="1332" y="48"/>
                  </a:lnTo>
                  <a:lnTo>
                    <a:pt x="1344" y="48"/>
                  </a:lnTo>
                  <a:lnTo>
                    <a:pt x="1356" y="54"/>
                  </a:lnTo>
                  <a:lnTo>
                    <a:pt x="1362" y="54"/>
                  </a:lnTo>
                  <a:lnTo>
                    <a:pt x="1374" y="54"/>
                  </a:lnTo>
                  <a:lnTo>
                    <a:pt x="1386" y="54"/>
                  </a:lnTo>
                  <a:lnTo>
                    <a:pt x="1398" y="54"/>
                  </a:lnTo>
                  <a:lnTo>
                    <a:pt x="1404" y="60"/>
                  </a:lnTo>
                  <a:lnTo>
                    <a:pt x="1416" y="60"/>
                  </a:lnTo>
                  <a:lnTo>
                    <a:pt x="1428" y="60"/>
                  </a:lnTo>
                  <a:lnTo>
                    <a:pt x="1434" y="60"/>
                  </a:lnTo>
                  <a:lnTo>
                    <a:pt x="1446" y="66"/>
                  </a:lnTo>
                  <a:lnTo>
                    <a:pt x="1458" y="66"/>
                  </a:lnTo>
                  <a:lnTo>
                    <a:pt x="1464" y="66"/>
                  </a:lnTo>
                  <a:lnTo>
                    <a:pt x="1476" y="72"/>
                  </a:lnTo>
                  <a:lnTo>
                    <a:pt x="1488" y="72"/>
                  </a:lnTo>
                  <a:lnTo>
                    <a:pt x="1494" y="72"/>
                  </a:lnTo>
                  <a:lnTo>
                    <a:pt x="1506" y="78"/>
                  </a:lnTo>
                  <a:lnTo>
                    <a:pt x="1518" y="78"/>
                  </a:lnTo>
                  <a:lnTo>
                    <a:pt x="1530" y="84"/>
                  </a:lnTo>
                  <a:lnTo>
                    <a:pt x="1536" y="84"/>
                  </a:lnTo>
                  <a:lnTo>
                    <a:pt x="1548" y="90"/>
                  </a:lnTo>
                  <a:lnTo>
                    <a:pt x="1561" y="90"/>
                  </a:lnTo>
                  <a:lnTo>
                    <a:pt x="1567" y="96"/>
                  </a:lnTo>
                  <a:lnTo>
                    <a:pt x="1579" y="96"/>
                  </a:lnTo>
                  <a:lnTo>
                    <a:pt x="1591" y="102"/>
                  </a:lnTo>
                  <a:lnTo>
                    <a:pt x="1597" y="108"/>
                  </a:lnTo>
                  <a:lnTo>
                    <a:pt x="1609" y="108"/>
                  </a:lnTo>
                  <a:lnTo>
                    <a:pt x="1621" y="114"/>
                  </a:lnTo>
                  <a:lnTo>
                    <a:pt x="1633" y="120"/>
                  </a:lnTo>
                  <a:lnTo>
                    <a:pt x="1639" y="126"/>
                  </a:lnTo>
                  <a:lnTo>
                    <a:pt x="1651" y="132"/>
                  </a:lnTo>
                  <a:lnTo>
                    <a:pt x="1663" y="138"/>
                  </a:lnTo>
                  <a:lnTo>
                    <a:pt x="1669" y="150"/>
                  </a:lnTo>
                  <a:lnTo>
                    <a:pt x="1681" y="156"/>
                  </a:lnTo>
                  <a:lnTo>
                    <a:pt x="1693" y="168"/>
                  </a:lnTo>
                  <a:lnTo>
                    <a:pt x="1699" y="186"/>
                  </a:lnTo>
                  <a:lnTo>
                    <a:pt x="1711" y="198"/>
                  </a:lnTo>
                  <a:lnTo>
                    <a:pt x="1723" y="222"/>
                  </a:lnTo>
                  <a:lnTo>
                    <a:pt x="1735" y="246"/>
                  </a:lnTo>
                  <a:lnTo>
                    <a:pt x="1741" y="282"/>
                  </a:lnTo>
                  <a:lnTo>
                    <a:pt x="1753" y="330"/>
                  </a:lnTo>
                  <a:lnTo>
                    <a:pt x="1765" y="420"/>
                  </a:lnTo>
                  <a:lnTo>
                    <a:pt x="1771" y="61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932520" y="1312920"/>
              <a:ext cx="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340240" y="1312920"/>
              <a:ext cx="1570320" cy="971640"/>
            </a:xfrm>
            <a:custGeom>
              <a:avLst/>
              <a:gdLst/>
              <a:ahLst/>
              <a:rect l="l" t="t" r="r" b="b"/>
              <a:pathLst>
                <a:path w="1771" h="612">
                  <a:moveTo>
                    <a:pt x="0" y="612"/>
                  </a:moveTo>
                  <a:lnTo>
                    <a:pt x="12" y="612"/>
                  </a:lnTo>
                  <a:lnTo>
                    <a:pt x="18" y="612"/>
                  </a:lnTo>
                  <a:lnTo>
                    <a:pt x="30" y="612"/>
                  </a:lnTo>
                  <a:lnTo>
                    <a:pt x="42" y="612"/>
                  </a:lnTo>
                  <a:lnTo>
                    <a:pt x="48" y="612"/>
                  </a:lnTo>
                  <a:lnTo>
                    <a:pt x="60" y="612"/>
                  </a:lnTo>
                  <a:lnTo>
                    <a:pt x="72" y="612"/>
                  </a:lnTo>
                  <a:lnTo>
                    <a:pt x="84" y="612"/>
                  </a:lnTo>
                  <a:lnTo>
                    <a:pt x="90" y="612"/>
                  </a:lnTo>
                  <a:lnTo>
                    <a:pt x="102" y="612"/>
                  </a:lnTo>
                  <a:lnTo>
                    <a:pt x="114" y="612"/>
                  </a:lnTo>
                  <a:lnTo>
                    <a:pt x="120" y="612"/>
                  </a:lnTo>
                  <a:lnTo>
                    <a:pt x="132" y="612"/>
                  </a:lnTo>
                  <a:lnTo>
                    <a:pt x="144" y="612"/>
                  </a:lnTo>
                  <a:lnTo>
                    <a:pt x="150" y="612"/>
                  </a:lnTo>
                  <a:lnTo>
                    <a:pt x="162" y="612"/>
                  </a:lnTo>
                  <a:lnTo>
                    <a:pt x="174" y="612"/>
                  </a:lnTo>
                  <a:lnTo>
                    <a:pt x="186" y="612"/>
                  </a:lnTo>
                  <a:lnTo>
                    <a:pt x="192" y="612"/>
                  </a:lnTo>
                  <a:lnTo>
                    <a:pt x="204" y="612"/>
                  </a:lnTo>
                  <a:lnTo>
                    <a:pt x="216" y="612"/>
                  </a:lnTo>
                  <a:lnTo>
                    <a:pt x="222" y="612"/>
                  </a:lnTo>
                  <a:lnTo>
                    <a:pt x="234" y="612"/>
                  </a:lnTo>
                  <a:lnTo>
                    <a:pt x="246" y="612"/>
                  </a:lnTo>
                  <a:lnTo>
                    <a:pt x="252" y="606"/>
                  </a:lnTo>
                  <a:lnTo>
                    <a:pt x="264" y="606"/>
                  </a:lnTo>
                  <a:lnTo>
                    <a:pt x="276" y="606"/>
                  </a:lnTo>
                  <a:lnTo>
                    <a:pt x="288" y="606"/>
                  </a:lnTo>
                  <a:lnTo>
                    <a:pt x="294" y="606"/>
                  </a:lnTo>
                  <a:lnTo>
                    <a:pt x="306" y="606"/>
                  </a:lnTo>
                  <a:lnTo>
                    <a:pt x="318" y="606"/>
                  </a:lnTo>
                  <a:lnTo>
                    <a:pt x="324" y="606"/>
                  </a:lnTo>
                  <a:lnTo>
                    <a:pt x="336" y="606"/>
                  </a:lnTo>
                  <a:lnTo>
                    <a:pt x="348" y="606"/>
                  </a:lnTo>
                  <a:lnTo>
                    <a:pt x="354" y="606"/>
                  </a:lnTo>
                  <a:lnTo>
                    <a:pt x="366" y="606"/>
                  </a:lnTo>
                  <a:lnTo>
                    <a:pt x="378" y="606"/>
                  </a:lnTo>
                  <a:lnTo>
                    <a:pt x="384" y="606"/>
                  </a:lnTo>
                  <a:lnTo>
                    <a:pt x="396" y="606"/>
                  </a:lnTo>
                  <a:lnTo>
                    <a:pt x="408" y="606"/>
                  </a:lnTo>
                  <a:lnTo>
                    <a:pt x="420" y="606"/>
                  </a:lnTo>
                  <a:lnTo>
                    <a:pt x="426" y="606"/>
                  </a:lnTo>
                  <a:lnTo>
                    <a:pt x="438" y="606"/>
                  </a:lnTo>
                  <a:lnTo>
                    <a:pt x="450" y="606"/>
                  </a:lnTo>
                  <a:lnTo>
                    <a:pt x="456" y="606"/>
                  </a:lnTo>
                  <a:lnTo>
                    <a:pt x="468" y="606"/>
                  </a:lnTo>
                  <a:lnTo>
                    <a:pt x="480" y="606"/>
                  </a:lnTo>
                  <a:lnTo>
                    <a:pt x="486" y="606"/>
                  </a:lnTo>
                  <a:lnTo>
                    <a:pt x="498" y="606"/>
                  </a:lnTo>
                  <a:lnTo>
                    <a:pt x="510" y="606"/>
                  </a:lnTo>
                  <a:lnTo>
                    <a:pt x="522" y="606"/>
                  </a:lnTo>
                  <a:lnTo>
                    <a:pt x="528" y="606"/>
                  </a:lnTo>
                  <a:lnTo>
                    <a:pt x="540" y="606"/>
                  </a:lnTo>
                  <a:lnTo>
                    <a:pt x="552" y="600"/>
                  </a:lnTo>
                  <a:lnTo>
                    <a:pt x="558" y="600"/>
                  </a:lnTo>
                  <a:lnTo>
                    <a:pt x="570" y="600"/>
                  </a:lnTo>
                  <a:lnTo>
                    <a:pt x="582" y="600"/>
                  </a:lnTo>
                  <a:lnTo>
                    <a:pt x="588" y="600"/>
                  </a:lnTo>
                  <a:lnTo>
                    <a:pt x="600" y="600"/>
                  </a:lnTo>
                  <a:lnTo>
                    <a:pt x="612" y="600"/>
                  </a:lnTo>
                  <a:lnTo>
                    <a:pt x="624" y="600"/>
                  </a:lnTo>
                  <a:lnTo>
                    <a:pt x="630" y="600"/>
                  </a:lnTo>
                  <a:lnTo>
                    <a:pt x="642" y="600"/>
                  </a:lnTo>
                  <a:lnTo>
                    <a:pt x="654" y="600"/>
                  </a:lnTo>
                  <a:lnTo>
                    <a:pt x="660" y="600"/>
                  </a:lnTo>
                  <a:lnTo>
                    <a:pt x="672" y="600"/>
                  </a:lnTo>
                  <a:lnTo>
                    <a:pt x="684" y="600"/>
                  </a:lnTo>
                  <a:lnTo>
                    <a:pt x="690" y="600"/>
                  </a:lnTo>
                  <a:lnTo>
                    <a:pt x="702" y="600"/>
                  </a:lnTo>
                  <a:lnTo>
                    <a:pt x="714" y="600"/>
                  </a:lnTo>
                  <a:lnTo>
                    <a:pt x="720" y="600"/>
                  </a:lnTo>
                  <a:lnTo>
                    <a:pt x="732" y="600"/>
                  </a:lnTo>
                  <a:lnTo>
                    <a:pt x="744" y="600"/>
                  </a:lnTo>
                  <a:lnTo>
                    <a:pt x="756" y="600"/>
                  </a:lnTo>
                  <a:lnTo>
                    <a:pt x="762" y="594"/>
                  </a:lnTo>
                  <a:lnTo>
                    <a:pt x="774" y="594"/>
                  </a:lnTo>
                  <a:lnTo>
                    <a:pt x="786" y="594"/>
                  </a:lnTo>
                  <a:lnTo>
                    <a:pt x="792" y="594"/>
                  </a:lnTo>
                  <a:lnTo>
                    <a:pt x="804" y="594"/>
                  </a:lnTo>
                  <a:lnTo>
                    <a:pt x="816" y="594"/>
                  </a:lnTo>
                  <a:lnTo>
                    <a:pt x="822" y="594"/>
                  </a:lnTo>
                  <a:lnTo>
                    <a:pt x="834" y="594"/>
                  </a:lnTo>
                  <a:lnTo>
                    <a:pt x="846" y="594"/>
                  </a:lnTo>
                  <a:lnTo>
                    <a:pt x="858" y="594"/>
                  </a:lnTo>
                  <a:lnTo>
                    <a:pt x="864" y="594"/>
                  </a:lnTo>
                  <a:lnTo>
                    <a:pt x="876" y="594"/>
                  </a:lnTo>
                  <a:lnTo>
                    <a:pt x="888" y="594"/>
                  </a:lnTo>
                  <a:lnTo>
                    <a:pt x="894" y="594"/>
                  </a:lnTo>
                  <a:lnTo>
                    <a:pt x="906" y="594"/>
                  </a:lnTo>
                  <a:lnTo>
                    <a:pt x="918" y="594"/>
                  </a:lnTo>
                  <a:lnTo>
                    <a:pt x="924" y="588"/>
                  </a:lnTo>
                  <a:lnTo>
                    <a:pt x="936" y="588"/>
                  </a:lnTo>
                  <a:lnTo>
                    <a:pt x="948" y="588"/>
                  </a:lnTo>
                  <a:lnTo>
                    <a:pt x="960" y="588"/>
                  </a:lnTo>
                  <a:lnTo>
                    <a:pt x="966" y="588"/>
                  </a:lnTo>
                  <a:lnTo>
                    <a:pt x="978" y="588"/>
                  </a:lnTo>
                  <a:lnTo>
                    <a:pt x="990" y="588"/>
                  </a:lnTo>
                  <a:lnTo>
                    <a:pt x="996" y="588"/>
                  </a:lnTo>
                  <a:lnTo>
                    <a:pt x="1008" y="588"/>
                  </a:lnTo>
                  <a:lnTo>
                    <a:pt x="1020" y="588"/>
                  </a:lnTo>
                  <a:lnTo>
                    <a:pt x="1026" y="588"/>
                  </a:lnTo>
                  <a:lnTo>
                    <a:pt x="1038" y="588"/>
                  </a:lnTo>
                  <a:lnTo>
                    <a:pt x="1050" y="582"/>
                  </a:lnTo>
                  <a:lnTo>
                    <a:pt x="1062" y="582"/>
                  </a:lnTo>
                  <a:lnTo>
                    <a:pt x="1068" y="582"/>
                  </a:lnTo>
                  <a:lnTo>
                    <a:pt x="1080" y="582"/>
                  </a:lnTo>
                  <a:lnTo>
                    <a:pt x="1092" y="582"/>
                  </a:lnTo>
                  <a:lnTo>
                    <a:pt x="1098" y="582"/>
                  </a:lnTo>
                  <a:lnTo>
                    <a:pt x="1110" y="582"/>
                  </a:lnTo>
                  <a:lnTo>
                    <a:pt x="1122" y="582"/>
                  </a:lnTo>
                  <a:lnTo>
                    <a:pt x="1128" y="582"/>
                  </a:lnTo>
                  <a:lnTo>
                    <a:pt x="1140" y="582"/>
                  </a:lnTo>
                  <a:lnTo>
                    <a:pt x="1152" y="576"/>
                  </a:lnTo>
                  <a:lnTo>
                    <a:pt x="1158" y="576"/>
                  </a:lnTo>
                  <a:lnTo>
                    <a:pt x="1170" y="576"/>
                  </a:lnTo>
                  <a:lnTo>
                    <a:pt x="1182" y="576"/>
                  </a:lnTo>
                  <a:lnTo>
                    <a:pt x="1194" y="576"/>
                  </a:lnTo>
                  <a:lnTo>
                    <a:pt x="1200" y="576"/>
                  </a:lnTo>
                  <a:lnTo>
                    <a:pt x="1212" y="576"/>
                  </a:lnTo>
                  <a:lnTo>
                    <a:pt x="1224" y="576"/>
                  </a:lnTo>
                  <a:lnTo>
                    <a:pt x="1230" y="570"/>
                  </a:lnTo>
                  <a:lnTo>
                    <a:pt x="1242" y="570"/>
                  </a:lnTo>
                  <a:lnTo>
                    <a:pt x="1254" y="570"/>
                  </a:lnTo>
                  <a:lnTo>
                    <a:pt x="1260" y="570"/>
                  </a:lnTo>
                  <a:lnTo>
                    <a:pt x="1272" y="570"/>
                  </a:lnTo>
                  <a:lnTo>
                    <a:pt x="1284" y="570"/>
                  </a:lnTo>
                  <a:lnTo>
                    <a:pt x="1296" y="570"/>
                  </a:lnTo>
                  <a:lnTo>
                    <a:pt x="1302" y="564"/>
                  </a:lnTo>
                  <a:lnTo>
                    <a:pt x="1314" y="564"/>
                  </a:lnTo>
                  <a:lnTo>
                    <a:pt x="1326" y="564"/>
                  </a:lnTo>
                  <a:lnTo>
                    <a:pt x="1332" y="564"/>
                  </a:lnTo>
                  <a:lnTo>
                    <a:pt x="1344" y="564"/>
                  </a:lnTo>
                  <a:lnTo>
                    <a:pt x="1356" y="558"/>
                  </a:lnTo>
                  <a:lnTo>
                    <a:pt x="1362" y="558"/>
                  </a:lnTo>
                  <a:lnTo>
                    <a:pt x="1374" y="558"/>
                  </a:lnTo>
                  <a:lnTo>
                    <a:pt x="1386" y="558"/>
                  </a:lnTo>
                  <a:lnTo>
                    <a:pt x="1398" y="558"/>
                  </a:lnTo>
                  <a:lnTo>
                    <a:pt x="1404" y="552"/>
                  </a:lnTo>
                  <a:lnTo>
                    <a:pt x="1416" y="552"/>
                  </a:lnTo>
                  <a:lnTo>
                    <a:pt x="1428" y="552"/>
                  </a:lnTo>
                  <a:lnTo>
                    <a:pt x="1434" y="552"/>
                  </a:lnTo>
                  <a:lnTo>
                    <a:pt x="1446" y="546"/>
                  </a:lnTo>
                  <a:lnTo>
                    <a:pt x="1458" y="546"/>
                  </a:lnTo>
                  <a:lnTo>
                    <a:pt x="1464" y="546"/>
                  </a:lnTo>
                  <a:lnTo>
                    <a:pt x="1476" y="540"/>
                  </a:lnTo>
                  <a:lnTo>
                    <a:pt x="1488" y="540"/>
                  </a:lnTo>
                  <a:lnTo>
                    <a:pt x="1494" y="540"/>
                  </a:lnTo>
                  <a:lnTo>
                    <a:pt x="1506" y="534"/>
                  </a:lnTo>
                  <a:lnTo>
                    <a:pt x="1518" y="534"/>
                  </a:lnTo>
                  <a:lnTo>
                    <a:pt x="1530" y="528"/>
                  </a:lnTo>
                  <a:lnTo>
                    <a:pt x="1536" y="528"/>
                  </a:lnTo>
                  <a:lnTo>
                    <a:pt x="1548" y="522"/>
                  </a:lnTo>
                  <a:lnTo>
                    <a:pt x="1561" y="522"/>
                  </a:lnTo>
                  <a:lnTo>
                    <a:pt x="1567" y="516"/>
                  </a:lnTo>
                  <a:lnTo>
                    <a:pt x="1579" y="516"/>
                  </a:lnTo>
                  <a:lnTo>
                    <a:pt x="1591" y="510"/>
                  </a:lnTo>
                  <a:lnTo>
                    <a:pt x="1597" y="504"/>
                  </a:lnTo>
                  <a:lnTo>
                    <a:pt x="1609" y="504"/>
                  </a:lnTo>
                  <a:lnTo>
                    <a:pt x="1621" y="498"/>
                  </a:lnTo>
                  <a:lnTo>
                    <a:pt x="1633" y="492"/>
                  </a:lnTo>
                  <a:lnTo>
                    <a:pt x="1639" y="486"/>
                  </a:lnTo>
                  <a:lnTo>
                    <a:pt x="1651" y="480"/>
                  </a:lnTo>
                  <a:lnTo>
                    <a:pt x="1663" y="474"/>
                  </a:lnTo>
                  <a:lnTo>
                    <a:pt x="1669" y="462"/>
                  </a:lnTo>
                  <a:lnTo>
                    <a:pt x="1681" y="456"/>
                  </a:lnTo>
                  <a:lnTo>
                    <a:pt x="1693" y="444"/>
                  </a:lnTo>
                  <a:lnTo>
                    <a:pt x="1699" y="426"/>
                  </a:lnTo>
                  <a:lnTo>
                    <a:pt x="1711" y="414"/>
                  </a:lnTo>
                  <a:lnTo>
                    <a:pt x="1723" y="390"/>
                  </a:lnTo>
                  <a:lnTo>
                    <a:pt x="1735" y="366"/>
                  </a:lnTo>
                  <a:lnTo>
                    <a:pt x="1741" y="330"/>
                  </a:lnTo>
                  <a:lnTo>
                    <a:pt x="1753" y="282"/>
                  </a:lnTo>
                  <a:lnTo>
                    <a:pt x="1765" y="192"/>
                  </a:lnTo>
                  <a:lnTo>
                    <a:pt x="1771" y="0"/>
                  </a:lnTo>
                </a:path>
              </a:pathLst>
            </a:custGeom>
            <a:noFill/>
            <a:ln w="19080">
              <a:solidFill>
                <a:srgbClr val="00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932520" y="1312920"/>
              <a:ext cx="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6894360" y="1512720"/>
              <a:ext cx="22320" cy="841680"/>
            </a:xfrm>
            <a:prstGeom prst="line">
              <a:avLst/>
            </a:prstGeom>
            <a:ln w="38160">
              <a:solidFill>
                <a:srgbClr val="99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213680" y="2165400"/>
              <a:ext cx="0" cy="204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595920" y="2173320"/>
              <a:ext cx="1800" cy="182520"/>
            </a:xfrm>
            <a:prstGeom prst="line">
              <a:avLst/>
            </a:prstGeom>
            <a:ln w="381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265800" y="2257560"/>
              <a:ext cx="1800" cy="81000"/>
            </a:xfrm>
            <a:prstGeom prst="line">
              <a:avLst/>
            </a:prstGeom>
            <a:ln w="381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526160" y="2227320"/>
              <a:ext cx="0" cy="1350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5664240" y="24084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611680" y="24321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5983200" y="240840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33880" y="24321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6297480" y="240840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244920" y="24321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6616800" y="240840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567120" y="24321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6931080" y="24084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916320" y="2432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7245360" y="240840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229160" y="2432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7564320" y="240840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544880" y="2432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7878600" y="240840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860960" y="2432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8197920" y="240840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178480" y="2432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919920" y="240840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919920" y="240840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72680" y="2295360"/>
              <a:ext cx="580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9933"/>
                  </a:solidFill>
                  <a:latin typeface="Times New Roman"/>
                </a:rPr>
                <a:t>*</a:t>
              </a: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Times New Roman"/>
                </a:rPr>
                <a:t>r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4286160" y="3598920"/>
            <a:ext cx="4772160" cy="2521800"/>
            <a:chOff x="4286160" y="3598920"/>
            <a:chExt cx="4772160" cy="2521800"/>
          </a:xfrm>
        </p:grpSpPr>
        <p:sp>
          <p:nvSpPr>
            <p:cNvPr id="1027" name=""/>
            <p:cNvSpPr/>
            <p:nvPr/>
          </p:nvSpPr>
          <p:spPr>
            <a:xfrm>
              <a:off x="5340240" y="5794200"/>
              <a:ext cx="3160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340240" y="579420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340240" y="580860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281200" y="5732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977160" y="580860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910560" y="3598920"/>
              <a:ext cx="144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977160" y="580860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910560" y="3598920"/>
              <a:ext cx="144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932520" y="3598920"/>
              <a:ext cx="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932520" y="3598920"/>
              <a:ext cx="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316480" y="5479920"/>
              <a:ext cx="3289320" cy="112680"/>
            </a:xfrm>
            <a:custGeom>
              <a:avLst/>
              <a:gdLst/>
              <a:ahLst/>
              <a:rect l="l" t="t" r="r" b="b"/>
              <a:pathLst>
                <a:path w="1795" h="18">
                  <a:moveTo>
                    <a:pt x="0" y="18"/>
                  </a:moveTo>
                  <a:lnTo>
                    <a:pt x="12" y="18"/>
                  </a:lnTo>
                  <a:lnTo>
                    <a:pt x="18" y="18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60" y="18"/>
                  </a:lnTo>
                  <a:lnTo>
                    <a:pt x="72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102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32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62" y="18"/>
                  </a:lnTo>
                  <a:lnTo>
                    <a:pt x="174" y="18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204" y="18"/>
                  </a:lnTo>
                  <a:lnTo>
                    <a:pt x="216" y="18"/>
                  </a:lnTo>
                  <a:lnTo>
                    <a:pt x="222" y="18"/>
                  </a:lnTo>
                  <a:lnTo>
                    <a:pt x="234" y="18"/>
                  </a:lnTo>
                  <a:lnTo>
                    <a:pt x="246" y="12"/>
                  </a:lnTo>
                  <a:lnTo>
                    <a:pt x="252" y="12"/>
                  </a:lnTo>
                  <a:lnTo>
                    <a:pt x="264" y="12"/>
                  </a:lnTo>
                  <a:lnTo>
                    <a:pt x="276" y="12"/>
                  </a:lnTo>
                  <a:lnTo>
                    <a:pt x="288" y="12"/>
                  </a:lnTo>
                  <a:lnTo>
                    <a:pt x="294" y="12"/>
                  </a:lnTo>
                  <a:lnTo>
                    <a:pt x="306" y="12"/>
                  </a:lnTo>
                  <a:lnTo>
                    <a:pt x="318" y="12"/>
                  </a:lnTo>
                  <a:lnTo>
                    <a:pt x="324" y="12"/>
                  </a:lnTo>
                  <a:lnTo>
                    <a:pt x="336" y="12"/>
                  </a:lnTo>
                  <a:lnTo>
                    <a:pt x="348" y="12"/>
                  </a:lnTo>
                  <a:lnTo>
                    <a:pt x="354" y="12"/>
                  </a:lnTo>
                  <a:lnTo>
                    <a:pt x="366" y="12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6" y="12"/>
                  </a:lnTo>
                  <a:lnTo>
                    <a:pt x="408" y="12"/>
                  </a:lnTo>
                  <a:lnTo>
                    <a:pt x="42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56" y="12"/>
                  </a:lnTo>
                  <a:lnTo>
                    <a:pt x="468" y="12"/>
                  </a:lnTo>
                  <a:lnTo>
                    <a:pt x="480" y="12"/>
                  </a:lnTo>
                  <a:lnTo>
                    <a:pt x="486" y="12"/>
                  </a:lnTo>
                  <a:lnTo>
                    <a:pt x="498" y="12"/>
                  </a:lnTo>
                  <a:lnTo>
                    <a:pt x="510" y="12"/>
                  </a:lnTo>
                  <a:lnTo>
                    <a:pt x="522" y="12"/>
                  </a:lnTo>
                  <a:lnTo>
                    <a:pt x="528" y="12"/>
                  </a:lnTo>
                  <a:lnTo>
                    <a:pt x="540" y="12"/>
                  </a:lnTo>
                  <a:lnTo>
                    <a:pt x="552" y="12"/>
                  </a:lnTo>
                  <a:lnTo>
                    <a:pt x="558" y="12"/>
                  </a:lnTo>
                  <a:lnTo>
                    <a:pt x="570" y="12"/>
                  </a:lnTo>
                  <a:lnTo>
                    <a:pt x="582" y="12"/>
                  </a:lnTo>
                  <a:lnTo>
                    <a:pt x="588" y="12"/>
                  </a:lnTo>
                  <a:lnTo>
                    <a:pt x="600" y="12"/>
                  </a:lnTo>
                  <a:lnTo>
                    <a:pt x="612" y="12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42" y="6"/>
                  </a:lnTo>
                  <a:lnTo>
                    <a:pt x="654" y="6"/>
                  </a:lnTo>
                  <a:lnTo>
                    <a:pt x="660" y="6"/>
                  </a:lnTo>
                  <a:lnTo>
                    <a:pt x="672" y="6"/>
                  </a:lnTo>
                  <a:lnTo>
                    <a:pt x="684" y="6"/>
                  </a:lnTo>
                  <a:lnTo>
                    <a:pt x="690" y="6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0" y="6"/>
                  </a:lnTo>
                  <a:lnTo>
                    <a:pt x="732" y="6"/>
                  </a:lnTo>
                  <a:lnTo>
                    <a:pt x="744" y="6"/>
                  </a:lnTo>
                  <a:lnTo>
                    <a:pt x="756" y="6"/>
                  </a:lnTo>
                  <a:lnTo>
                    <a:pt x="762" y="6"/>
                  </a:lnTo>
                  <a:lnTo>
                    <a:pt x="774" y="6"/>
                  </a:lnTo>
                  <a:lnTo>
                    <a:pt x="786" y="6"/>
                  </a:lnTo>
                  <a:lnTo>
                    <a:pt x="792" y="6"/>
                  </a:lnTo>
                  <a:lnTo>
                    <a:pt x="804" y="6"/>
                  </a:lnTo>
                  <a:lnTo>
                    <a:pt x="816" y="6"/>
                  </a:lnTo>
                  <a:lnTo>
                    <a:pt x="822" y="6"/>
                  </a:lnTo>
                  <a:lnTo>
                    <a:pt x="834" y="6"/>
                  </a:lnTo>
                  <a:lnTo>
                    <a:pt x="846" y="6"/>
                  </a:lnTo>
                  <a:lnTo>
                    <a:pt x="858" y="6"/>
                  </a:lnTo>
                  <a:lnTo>
                    <a:pt x="864" y="6"/>
                  </a:lnTo>
                  <a:lnTo>
                    <a:pt x="876" y="6"/>
                  </a:lnTo>
                  <a:lnTo>
                    <a:pt x="888" y="6"/>
                  </a:lnTo>
                  <a:lnTo>
                    <a:pt x="894" y="6"/>
                  </a:lnTo>
                  <a:lnTo>
                    <a:pt x="906" y="6"/>
                  </a:lnTo>
                  <a:lnTo>
                    <a:pt x="918" y="6"/>
                  </a:lnTo>
                  <a:lnTo>
                    <a:pt x="924" y="6"/>
                  </a:lnTo>
                  <a:lnTo>
                    <a:pt x="936" y="6"/>
                  </a:lnTo>
                  <a:lnTo>
                    <a:pt x="948" y="6"/>
                  </a:lnTo>
                  <a:lnTo>
                    <a:pt x="960" y="6"/>
                  </a:lnTo>
                  <a:lnTo>
                    <a:pt x="966" y="6"/>
                  </a:lnTo>
                  <a:lnTo>
                    <a:pt x="978" y="6"/>
                  </a:lnTo>
                  <a:lnTo>
                    <a:pt x="990" y="6"/>
                  </a:lnTo>
                  <a:lnTo>
                    <a:pt x="996" y="6"/>
                  </a:lnTo>
                  <a:lnTo>
                    <a:pt x="1008" y="6"/>
                  </a:lnTo>
                  <a:lnTo>
                    <a:pt x="1020" y="6"/>
                  </a:lnTo>
                  <a:lnTo>
                    <a:pt x="1026" y="6"/>
                  </a:lnTo>
                  <a:lnTo>
                    <a:pt x="1038" y="6"/>
                  </a:lnTo>
                  <a:lnTo>
                    <a:pt x="1050" y="6"/>
                  </a:lnTo>
                  <a:lnTo>
                    <a:pt x="1062" y="6"/>
                  </a:lnTo>
                  <a:lnTo>
                    <a:pt x="1068" y="6"/>
                  </a:lnTo>
                  <a:lnTo>
                    <a:pt x="1080" y="6"/>
                  </a:lnTo>
                  <a:lnTo>
                    <a:pt x="1092" y="6"/>
                  </a:lnTo>
                  <a:lnTo>
                    <a:pt x="1098" y="6"/>
                  </a:lnTo>
                  <a:lnTo>
                    <a:pt x="1110" y="6"/>
                  </a:lnTo>
                  <a:lnTo>
                    <a:pt x="1122" y="6"/>
                  </a:lnTo>
                  <a:lnTo>
                    <a:pt x="1128" y="6"/>
                  </a:lnTo>
                  <a:lnTo>
                    <a:pt x="1140" y="6"/>
                  </a:lnTo>
                  <a:lnTo>
                    <a:pt x="1152" y="6"/>
                  </a:lnTo>
                  <a:lnTo>
                    <a:pt x="1158" y="6"/>
                  </a:lnTo>
                  <a:lnTo>
                    <a:pt x="1170" y="6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0" y="0"/>
                  </a:lnTo>
                  <a:lnTo>
                    <a:pt x="1212" y="0"/>
                  </a:lnTo>
                  <a:lnTo>
                    <a:pt x="1224" y="0"/>
                  </a:lnTo>
                  <a:lnTo>
                    <a:pt x="1230" y="0"/>
                  </a:lnTo>
                  <a:lnTo>
                    <a:pt x="1242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296" y="0"/>
                  </a:lnTo>
                  <a:lnTo>
                    <a:pt x="1302" y="0"/>
                  </a:lnTo>
                  <a:lnTo>
                    <a:pt x="1314" y="0"/>
                  </a:lnTo>
                  <a:lnTo>
                    <a:pt x="1326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62" y="0"/>
                  </a:lnTo>
                  <a:lnTo>
                    <a:pt x="1374" y="0"/>
                  </a:lnTo>
                  <a:lnTo>
                    <a:pt x="1386" y="0"/>
                  </a:lnTo>
                  <a:lnTo>
                    <a:pt x="1398" y="0"/>
                  </a:lnTo>
                  <a:lnTo>
                    <a:pt x="1404" y="0"/>
                  </a:lnTo>
                  <a:lnTo>
                    <a:pt x="1416" y="0"/>
                  </a:lnTo>
                  <a:lnTo>
                    <a:pt x="1428" y="0"/>
                  </a:lnTo>
                  <a:lnTo>
                    <a:pt x="1434" y="0"/>
                  </a:lnTo>
                  <a:lnTo>
                    <a:pt x="1446" y="0"/>
                  </a:lnTo>
                  <a:lnTo>
                    <a:pt x="1458" y="0"/>
                  </a:lnTo>
                  <a:lnTo>
                    <a:pt x="1464" y="0"/>
                  </a:lnTo>
                  <a:lnTo>
                    <a:pt x="1476" y="0"/>
                  </a:lnTo>
                  <a:lnTo>
                    <a:pt x="1488" y="0"/>
                  </a:lnTo>
                  <a:lnTo>
                    <a:pt x="1494" y="0"/>
                  </a:lnTo>
                  <a:lnTo>
                    <a:pt x="1506" y="0"/>
                  </a:lnTo>
                  <a:lnTo>
                    <a:pt x="1518" y="0"/>
                  </a:lnTo>
                  <a:lnTo>
                    <a:pt x="1530" y="0"/>
                  </a:lnTo>
                  <a:lnTo>
                    <a:pt x="1536" y="0"/>
                  </a:lnTo>
                  <a:lnTo>
                    <a:pt x="1548" y="0"/>
                  </a:lnTo>
                  <a:lnTo>
                    <a:pt x="1561" y="0"/>
                  </a:lnTo>
                  <a:lnTo>
                    <a:pt x="1567" y="0"/>
                  </a:lnTo>
                  <a:lnTo>
                    <a:pt x="1579" y="0"/>
                  </a:lnTo>
                  <a:lnTo>
                    <a:pt x="1591" y="0"/>
                  </a:lnTo>
                  <a:lnTo>
                    <a:pt x="1597" y="0"/>
                  </a:lnTo>
                  <a:lnTo>
                    <a:pt x="1609" y="0"/>
                  </a:lnTo>
                  <a:lnTo>
                    <a:pt x="1621" y="0"/>
                  </a:lnTo>
                  <a:lnTo>
                    <a:pt x="1633" y="0"/>
                  </a:lnTo>
                  <a:lnTo>
                    <a:pt x="1639" y="0"/>
                  </a:lnTo>
                  <a:lnTo>
                    <a:pt x="1651" y="0"/>
                  </a:lnTo>
                  <a:lnTo>
                    <a:pt x="1663" y="0"/>
                  </a:lnTo>
                  <a:lnTo>
                    <a:pt x="1669" y="0"/>
                  </a:lnTo>
                  <a:lnTo>
                    <a:pt x="1681" y="0"/>
                  </a:lnTo>
                  <a:lnTo>
                    <a:pt x="1693" y="0"/>
                  </a:lnTo>
                  <a:lnTo>
                    <a:pt x="1699" y="0"/>
                  </a:lnTo>
                  <a:lnTo>
                    <a:pt x="1711" y="0"/>
                  </a:lnTo>
                  <a:lnTo>
                    <a:pt x="1723" y="0"/>
                  </a:lnTo>
                  <a:lnTo>
                    <a:pt x="1735" y="0"/>
                  </a:lnTo>
                  <a:lnTo>
                    <a:pt x="1741" y="0"/>
                  </a:lnTo>
                  <a:lnTo>
                    <a:pt x="1753" y="0"/>
                  </a:lnTo>
                  <a:lnTo>
                    <a:pt x="1765" y="0"/>
                  </a:lnTo>
                  <a:lnTo>
                    <a:pt x="1771" y="0"/>
                  </a:lnTo>
                  <a:lnTo>
                    <a:pt x="1783" y="0"/>
                  </a:lnTo>
                  <a:lnTo>
                    <a:pt x="179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178480" y="5197320"/>
              <a:ext cx="30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Arial"/>
                </a:rPr>
                <a:t>m=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6597720" y="5506920"/>
              <a:ext cx="7920" cy="287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65800" y="5562720"/>
              <a:ext cx="1800" cy="214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913360" y="5562720"/>
              <a:ext cx="1800" cy="233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618160" y="5600880"/>
              <a:ext cx="1440" cy="204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201080" y="5495760"/>
              <a:ext cx="0" cy="300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515360" y="5514840"/>
              <a:ext cx="0" cy="300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829640" y="5514840"/>
              <a:ext cx="0" cy="290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143920" y="5486400"/>
              <a:ext cx="0" cy="309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458200" y="5505480"/>
              <a:ext cx="0" cy="28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6896160" y="5514840"/>
              <a:ext cx="0" cy="276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286160" y="4915080"/>
              <a:ext cx="666720" cy="237960"/>
            </a:xfrm>
            <a:prstGeom prst="rightArrow">
              <a:avLst>
                <a:gd name="adj1" fmla="val 50000"/>
                <a:gd name="adj2" fmla="val 7004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753240" y="3610080"/>
              <a:ext cx="314280" cy="1047600"/>
            </a:xfrm>
            <a:prstGeom prst="upArrow">
              <a:avLst>
                <a:gd name="adj1" fmla="val 50000"/>
                <a:gd name="adj2" fmla="val 8333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5301720" y="5775480"/>
              <a:ext cx="32040" cy="1440"/>
            </a:xfrm>
            <a:prstGeom prst="line">
              <a:avLst/>
            </a:prstGeom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5301720" y="5789520"/>
              <a:ext cx="32040" cy="1800"/>
            </a:xfrm>
            <a:prstGeom prst="line">
              <a:avLst/>
            </a:prstGeom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6939000" y="5789520"/>
              <a:ext cx="1440" cy="1800"/>
            </a:xfrm>
            <a:prstGeom prst="line">
              <a:avLst/>
            </a:prstGeom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6939000" y="5789520"/>
              <a:ext cx="1440" cy="1800"/>
            </a:xfrm>
            <a:prstGeom prst="line">
              <a:avLst/>
            </a:prstGeom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277600" y="5460840"/>
              <a:ext cx="3289320" cy="113040"/>
            </a:xfrm>
            <a:custGeom>
              <a:avLst/>
              <a:gdLst/>
              <a:ahLst/>
              <a:rect l="l" t="t" r="r" b="b"/>
              <a:pathLst>
                <a:path w="1795" h="18">
                  <a:moveTo>
                    <a:pt x="0" y="18"/>
                  </a:moveTo>
                  <a:lnTo>
                    <a:pt x="12" y="18"/>
                  </a:lnTo>
                  <a:lnTo>
                    <a:pt x="18" y="18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60" y="18"/>
                  </a:lnTo>
                  <a:lnTo>
                    <a:pt x="72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102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32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62" y="18"/>
                  </a:lnTo>
                  <a:lnTo>
                    <a:pt x="174" y="18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204" y="18"/>
                  </a:lnTo>
                  <a:lnTo>
                    <a:pt x="216" y="18"/>
                  </a:lnTo>
                  <a:lnTo>
                    <a:pt x="222" y="18"/>
                  </a:lnTo>
                  <a:lnTo>
                    <a:pt x="234" y="18"/>
                  </a:lnTo>
                  <a:lnTo>
                    <a:pt x="246" y="12"/>
                  </a:lnTo>
                  <a:lnTo>
                    <a:pt x="252" y="12"/>
                  </a:lnTo>
                  <a:lnTo>
                    <a:pt x="264" y="12"/>
                  </a:lnTo>
                  <a:lnTo>
                    <a:pt x="276" y="12"/>
                  </a:lnTo>
                  <a:lnTo>
                    <a:pt x="288" y="12"/>
                  </a:lnTo>
                  <a:lnTo>
                    <a:pt x="294" y="12"/>
                  </a:lnTo>
                  <a:lnTo>
                    <a:pt x="306" y="12"/>
                  </a:lnTo>
                  <a:lnTo>
                    <a:pt x="318" y="12"/>
                  </a:lnTo>
                  <a:lnTo>
                    <a:pt x="324" y="12"/>
                  </a:lnTo>
                  <a:lnTo>
                    <a:pt x="336" y="12"/>
                  </a:lnTo>
                  <a:lnTo>
                    <a:pt x="348" y="12"/>
                  </a:lnTo>
                  <a:lnTo>
                    <a:pt x="354" y="12"/>
                  </a:lnTo>
                  <a:lnTo>
                    <a:pt x="366" y="12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6" y="12"/>
                  </a:lnTo>
                  <a:lnTo>
                    <a:pt x="408" y="12"/>
                  </a:lnTo>
                  <a:lnTo>
                    <a:pt x="42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56" y="12"/>
                  </a:lnTo>
                  <a:lnTo>
                    <a:pt x="468" y="12"/>
                  </a:lnTo>
                  <a:lnTo>
                    <a:pt x="480" y="12"/>
                  </a:lnTo>
                  <a:lnTo>
                    <a:pt x="486" y="12"/>
                  </a:lnTo>
                  <a:lnTo>
                    <a:pt x="498" y="12"/>
                  </a:lnTo>
                  <a:lnTo>
                    <a:pt x="510" y="12"/>
                  </a:lnTo>
                  <a:lnTo>
                    <a:pt x="522" y="12"/>
                  </a:lnTo>
                  <a:lnTo>
                    <a:pt x="528" y="12"/>
                  </a:lnTo>
                  <a:lnTo>
                    <a:pt x="540" y="12"/>
                  </a:lnTo>
                  <a:lnTo>
                    <a:pt x="552" y="12"/>
                  </a:lnTo>
                  <a:lnTo>
                    <a:pt x="558" y="12"/>
                  </a:lnTo>
                  <a:lnTo>
                    <a:pt x="570" y="12"/>
                  </a:lnTo>
                  <a:lnTo>
                    <a:pt x="582" y="12"/>
                  </a:lnTo>
                  <a:lnTo>
                    <a:pt x="588" y="12"/>
                  </a:lnTo>
                  <a:lnTo>
                    <a:pt x="600" y="12"/>
                  </a:lnTo>
                  <a:lnTo>
                    <a:pt x="612" y="12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42" y="6"/>
                  </a:lnTo>
                  <a:lnTo>
                    <a:pt x="654" y="6"/>
                  </a:lnTo>
                  <a:lnTo>
                    <a:pt x="660" y="6"/>
                  </a:lnTo>
                  <a:lnTo>
                    <a:pt x="672" y="6"/>
                  </a:lnTo>
                  <a:lnTo>
                    <a:pt x="684" y="6"/>
                  </a:lnTo>
                  <a:lnTo>
                    <a:pt x="690" y="6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0" y="6"/>
                  </a:lnTo>
                  <a:lnTo>
                    <a:pt x="732" y="6"/>
                  </a:lnTo>
                  <a:lnTo>
                    <a:pt x="744" y="6"/>
                  </a:lnTo>
                  <a:lnTo>
                    <a:pt x="756" y="6"/>
                  </a:lnTo>
                  <a:lnTo>
                    <a:pt x="762" y="6"/>
                  </a:lnTo>
                  <a:lnTo>
                    <a:pt x="774" y="6"/>
                  </a:lnTo>
                  <a:lnTo>
                    <a:pt x="786" y="6"/>
                  </a:lnTo>
                  <a:lnTo>
                    <a:pt x="792" y="6"/>
                  </a:lnTo>
                  <a:lnTo>
                    <a:pt x="804" y="6"/>
                  </a:lnTo>
                  <a:lnTo>
                    <a:pt x="816" y="6"/>
                  </a:lnTo>
                  <a:lnTo>
                    <a:pt x="822" y="6"/>
                  </a:lnTo>
                  <a:lnTo>
                    <a:pt x="834" y="6"/>
                  </a:lnTo>
                  <a:lnTo>
                    <a:pt x="846" y="6"/>
                  </a:lnTo>
                  <a:lnTo>
                    <a:pt x="858" y="6"/>
                  </a:lnTo>
                  <a:lnTo>
                    <a:pt x="864" y="6"/>
                  </a:lnTo>
                  <a:lnTo>
                    <a:pt x="876" y="6"/>
                  </a:lnTo>
                  <a:lnTo>
                    <a:pt x="888" y="6"/>
                  </a:lnTo>
                  <a:lnTo>
                    <a:pt x="894" y="6"/>
                  </a:lnTo>
                  <a:lnTo>
                    <a:pt x="906" y="6"/>
                  </a:lnTo>
                  <a:lnTo>
                    <a:pt x="918" y="6"/>
                  </a:lnTo>
                  <a:lnTo>
                    <a:pt x="924" y="6"/>
                  </a:lnTo>
                  <a:lnTo>
                    <a:pt x="936" y="6"/>
                  </a:lnTo>
                  <a:lnTo>
                    <a:pt x="948" y="6"/>
                  </a:lnTo>
                  <a:lnTo>
                    <a:pt x="960" y="6"/>
                  </a:lnTo>
                  <a:lnTo>
                    <a:pt x="966" y="6"/>
                  </a:lnTo>
                  <a:lnTo>
                    <a:pt x="978" y="6"/>
                  </a:lnTo>
                  <a:lnTo>
                    <a:pt x="990" y="6"/>
                  </a:lnTo>
                  <a:lnTo>
                    <a:pt x="996" y="6"/>
                  </a:lnTo>
                  <a:lnTo>
                    <a:pt x="1008" y="6"/>
                  </a:lnTo>
                  <a:lnTo>
                    <a:pt x="1020" y="6"/>
                  </a:lnTo>
                  <a:lnTo>
                    <a:pt x="1026" y="6"/>
                  </a:lnTo>
                  <a:lnTo>
                    <a:pt x="1038" y="6"/>
                  </a:lnTo>
                  <a:lnTo>
                    <a:pt x="1050" y="6"/>
                  </a:lnTo>
                  <a:lnTo>
                    <a:pt x="1062" y="6"/>
                  </a:lnTo>
                  <a:lnTo>
                    <a:pt x="1068" y="6"/>
                  </a:lnTo>
                  <a:lnTo>
                    <a:pt x="1080" y="6"/>
                  </a:lnTo>
                  <a:lnTo>
                    <a:pt x="1092" y="6"/>
                  </a:lnTo>
                  <a:lnTo>
                    <a:pt x="1098" y="6"/>
                  </a:lnTo>
                  <a:lnTo>
                    <a:pt x="1110" y="6"/>
                  </a:lnTo>
                  <a:lnTo>
                    <a:pt x="1122" y="6"/>
                  </a:lnTo>
                  <a:lnTo>
                    <a:pt x="1128" y="6"/>
                  </a:lnTo>
                  <a:lnTo>
                    <a:pt x="1140" y="6"/>
                  </a:lnTo>
                  <a:lnTo>
                    <a:pt x="1152" y="6"/>
                  </a:lnTo>
                  <a:lnTo>
                    <a:pt x="1158" y="6"/>
                  </a:lnTo>
                  <a:lnTo>
                    <a:pt x="1170" y="6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0" y="0"/>
                  </a:lnTo>
                  <a:lnTo>
                    <a:pt x="1212" y="0"/>
                  </a:lnTo>
                  <a:lnTo>
                    <a:pt x="1224" y="0"/>
                  </a:lnTo>
                  <a:lnTo>
                    <a:pt x="1230" y="0"/>
                  </a:lnTo>
                  <a:lnTo>
                    <a:pt x="1242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296" y="0"/>
                  </a:lnTo>
                  <a:lnTo>
                    <a:pt x="1302" y="0"/>
                  </a:lnTo>
                  <a:lnTo>
                    <a:pt x="1314" y="0"/>
                  </a:lnTo>
                  <a:lnTo>
                    <a:pt x="1326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62" y="0"/>
                  </a:lnTo>
                  <a:lnTo>
                    <a:pt x="1374" y="0"/>
                  </a:lnTo>
                  <a:lnTo>
                    <a:pt x="1386" y="0"/>
                  </a:lnTo>
                  <a:lnTo>
                    <a:pt x="1398" y="0"/>
                  </a:lnTo>
                  <a:lnTo>
                    <a:pt x="1404" y="0"/>
                  </a:lnTo>
                  <a:lnTo>
                    <a:pt x="1416" y="0"/>
                  </a:lnTo>
                  <a:lnTo>
                    <a:pt x="1428" y="0"/>
                  </a:lnTo>
                  <a:lnTo>
                    <a:pt x="1434" y="0"/>
                  </a:lnTo>
                  <a:lnTo>
                    <a:pt x="1446" y="0"/>
                  </a:lnTo>
                  <a:lnTo>
                    <a:pt x="1458" y="0"/>
                  </a:lnTo>
                  <a:lnTo>
                    <a:pt x="1464" y="0"/>
                  </a:lnTo>
                  <a:lnTo>
                    <a:pt x="1476" y="0"/>
                  </a:lnTo>
                  <a:lnTo>
                    <a:pt x="1488" y="0"/>
                  </a:lnTo>
                  <a:lnTo>
                    <a:pt x="1494" y="0"/>
                  </a:lnTo>
                  <a:lnTo>
                    <a:pt x="1506" y="0"/>
                  </a:lnTo>
                  <a:lnTo>
                    <a:pt x="1518" y="0"/>
                  </a:lnTo>
                  <a:lnTo>
                    <a:pt x="1530" y="0"/>
                  </a:lnTo>
                  <a:lnTo>
                    <a:pt x="1536" y="0"/>
                  </a:lnTo>
                  <a:lnTo>
                    <a:pt x="1548" y="0"/>
                  </a:lnTo>
                  <a:lnTo>
                    <a:pt x="1561" y="0"/>
                  </a:lnTo>
                  <a:lnTo>
                    <a:pt x="1567" y="0"/>
                  </a:lnTo>
                  <a:lnTo>
                    <a:pt x="1579" y="0"/>
                  </a:lnTo>
                  <a:lnTo>
                    <a:pt x="1591" y="0"/>
                  </a:lnTo>
                  <a:lnTo>
                    <a:pt x="1597" y="0"/>
                  </a:lnTo>
                  <a:lnTo>
                    <a:pt x="1609" y="0"/>
                  </a:lnTo>
                  <a:lnTo>
                    <a:pt x="1621" y="0"/>
                  </a:lnTo>
                  <a:lnTo>
                    <a:pt x="1633" y="0"/>
                  </a:lnTo>
                  <a:lnTo>
                    <a:pt x="1639" y="0"/>
                  </a:lnTo>
                  <a:lnTo>
                    <a:pt x="1651" y="0"/>
                  </a:lnTo>
                  <a:lnTo>
                    <a:pt x="1663" y="0"/>
                  </a:lnTo>
                  <a:lnTo>
                    <a:pt x="1669" y="0"/>
                  </a:lnTo>
                  <a:lnTo>
                    <a:pt x="1681" y="0"/>
                  </a:lnTo>
                  <a:lnTo>
                    <a:pt x="1693" y="0"/>
                  </a:lnTo>
                  <a:lnTo>
                    <a:pt x="1699" y="0"/>
                  </a:lnTo>
                  <a:lnTo>
                    <a:pt x="1711" y="0"/>
                  </a:lnTo>
                  <a:lnTo>
                    <a:pt x="1723" y="0"/>
                  </a:lnTo>
                  <a:lnTo>
                    <a:pt x="1735" y="0"/>
                  </a:lnTo>
                  <a:lnTo>
                    <a:pt x="1741" y="0"/>
                  </a:lnTo>
                  <a:lnTo>
                    <a:pt x="1753" y="0"/>
                  </a:lnTo>
                  <a:lnTo>
                    <a:pt x="1765" y="0"/>
                  </a:lnTo>
                  <a:lnTo>
                    <a:pt x="1771" y="0"/>
                  </a:lnTo>
                  <a:lnTo>
                    <a:pt x="1783" y="0"/>
                  </a:lnTo>
                  <a:lnTo>
                    <a:pt x="1795" y="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559560" y="5487840"/>
              <a:ext cx="7920" cy="287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6227280" y="5543640"/>
              <a:ext cx="1800" cy="214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5874840" y="5543640"/>
              <a:ext cx="1800" cy="233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5579640" y="5581800"/>
              <a:ext cx="1800" cy="204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162920" y="5477040"/>
              <a:ext cx="0" cy="299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477200" y="5495760"/>
              <a:ext cx="0" cy="3002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791480" y="5495760"/>
              <a:ext cx="0" cy="290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105760" y="5467320"/>
              <a:ext cx="0" cy="309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420040" y="5486400"/>
              <a:ext cx="0" cy="281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6858000" y="5495760"/>
              <a:ext cx="0" cy="276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286240" y="5197320"/>
              <a:ext cx="35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m=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5635800" y="5827320"/>
              <a:ext cx="144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582880" y="58514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5954760" y="5827320"/>
              <a:ext cx="144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905080" y="58514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6269040" y="582732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216480" y="58514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6588000" y="582732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538680" y="58514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6902280" y="5827320"/>
              <a:ext cx="18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887880" y="585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7216920" y="582732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200360" y="585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7535880" y="582732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516440" y="585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7850160" y="582732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32160" y="585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8169120" y="582732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149680" y="585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91480" y="582768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891480" y="582768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477280" y="5715000"/>
              <a:ext cx="581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9933"/>
                  </a:solidFill>
                  <a:latin typeface="Times New Roman"/>
                </a:rPr>
                <a:t>*</a:t>
              </a: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Times New Roman"/>
                </a:rPr>
                <a:t>r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381720" y="49719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 =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6916680" y="4857840"/>
              <a:ext cx="712800" cy="78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543800" y="3867120"/>
              <a:ext cx="1095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s spacing between  the two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 flipV="1">
            <a:off x="2943360" y="378936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908440" y="1278000"/>
            <a:ext cx="37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761920" y="1084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08440" y="695160"/>
            <a:ext cx="37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761920" y="50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2925720" y="388620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879480" y="2386080"/>
            <a:ext cx="41259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128916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196640" y="23572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211788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025000" y="2381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294804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945880" y="248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376704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725280" y="2417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459576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554000" y="2367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25720" y="35514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742840" y="33512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25720" y="29559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742840" y="2759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925720" y="238608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4760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925720" y="179064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779200" y="159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925720" y="11955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957400" y="434880"/>
            <a:ext cx="0" cy="351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74720" y="8715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( M 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884160" y="636480"/>
            <a:ext cx="2068560" cy="1743120"/>
          </a:xfrm>
          <a:custGeom>
            <a:avLst/>
            <a:gdLst/>
            <a:ahLst/>
            <a:rect l="l" t="t" r="r" b="b"/>
            <a:pathLst>
              <a:path w="1783" h="1140">
                <a:moveTo>
                  <a:pt x="0" y="1128"/>
                </a:moveTo>
                <a:lnTo>
                  <a:pt x="0" y="1128"/>
                </a:lnTo>
                <a:lnTo>
                  <a:pt x="6" y="1128"/>
                </a:lnTo>
                <a:lnTo>
                  <a:pt x="12" y="1128"/>
                </a:lnTo>
                <a:lnTo>
                  <a:pt x="18" y="1128"/>
                </a:lnTo>
                <a:lnTo>
                  <a:pt x="24" y="1128"/>
                </a:lnTo>
                <a:lnTo>
                  <a:pt x="30" y="1128"/>
                </a:lnTo>
                <a:lnTo>
                  <a:pt x="36" y="1128"/>
                </a:lnTo>
                <a:lnTo>
                  <a:pt x="42" y="1128"/>
                </a:lnTo>
                <a:lnTo>
                  <a:pt x="48" y="1128"/>
                </a:lnTo>
                <a:lnTo>
                  <a:pt x="54" y="1128"/>
                </a:lnTo>
                <a:lnTo>
                  <a:pt x="60" y="1128"/>
                </a:lnTo>
                <a:lnTo>
                  <a:pt x="66" y="1128"/>
                </a:lnTo>
                <a:lnTo>
                  <a:pt x="72" y="1128"/>
                </a:lnTo>
                <a:lnTo>
                  <a:pt x="78" y="1128"/>
                </a:lnTo>
                <a:lnTo>
                  <a:pt x="84" y="1128"/>
                </a:lnTo>
                <a:lnTo>
                  <a:pt x="90" y="1128"/>
                </a:lnTo>
                <a:lnTo>
                  <a:pt x="96" y="1128"/>
                </a:lnTo>
                <a:lnTo>
                  <a:pt x="102" y="1128"/>
                </a:lnTo>
                <a:lnTo>
                  <a:pt x="108" y="1128"/>
                </a:lnTo>
                <a:lnTo>
                  <a:pt x="114" y="1128"/>
                </a:lnTo>
                <a:lnTo>
                  <a:pt x="120" y="1128"/>
                </a:lnTo>
                <a:lnTo>
                  <a:pt x="126" y="1128"/>
                </a:lnTo>
                <a:lnTo>
                  <a:pt x="132" y="1128"/>
                </a:lnTo>
                <a:lnTo>
                  <a:pt x="138" y="1128"/>
                </a:lnTo>
                <a:lnTo>
                  <a:pt x="144" y="1128"/>
                </a:lnTo>
                <a:lnTo>
                  <a:pt x="150" y="1128"/>
                </a:lnTo>
                <a:lnTo>
                  <a:pt x="156" y="1128"/>
                </a:lnTo>
                <a:lnTo>
                  <a:pt x="162" y="1128"/>
                </a:lnTo>
                <a:lnTo>
                  <a:pt x="168" y="1128"/>
                </a:lnTo>
                <a:lnTo>
                  <a:pt x="174" y="1128"/>
                </a:lnTo>
                <a:lnTo>
                  <a:pt x="180" y="1128"/>
                </a:lnTo>
                <a:lnTo>
                  <a:pt x="186" y="1128"/>
                </a:lnTo>
                <a:lnTo>
                  <a:pt x="192" y="1128"/>
                </a:lnTo>
                <a:lnTo>
                  <a:pt x="198" y="1128"/>
                </a:lnTo>
                <a:lnTo>
                  <a:pt x="204" y="1128"/>
                </a:lnTo>
                <a:lnTo>
                  <a:pt x="210" y="1128"/>
                </a:lnTo>
                <a:lnTo>
                  <a:pt x="216" y="1128"/>
                </a:lnTo>
                <a:lnTo>
                  <a:pt x="222" y="1128"/>
                </a:lnTo>
                <a:lnTo>
                  <a:pt x="228" y="1128"/>
                </a:lnTo>
                <a:lnTo>
                  <a:pt x="234" y="1128"/>
                </a:lnTo>
                <a:lnTo>
                  <a:pt x="240" y="1128"/>
                </a:lnTo>
                <a:lnTo>
                  <a:pt x="246" y="1128"/>
                </a:lnTo>
                <a:lnTo>
                  <a:pt x="252" y="1128"/>
                </a:lnTo>
                <a:lnTo>
                  <a:pt x="258" y="1128"/>
                </a:lnTo>
                <a:lnTo>
                  <a:pt x="264" y="1128"/>
                </a:lnTo>
                <a:lnTo>
                  <a:pt x="270" y="1128"/>
                </a:lnTo>
                <a:lnTo>
                  <a:pt x="276" y="1128"/>
                </a:lnTo>
                <a:lnTo>
                  <a:pt x="282" y="1128"/>
                </a:lnTo>
                <a:lnTo>
                  <a:pt x="288" y="1128"/>
                </a:lnTo>
                <a:lnTo>
                  <a:pt x="294" y="1128"/>
                </a:lnTo>
                <a:lnTo>
                  <a:pt x="300" y="1128"/>
                </a:lnTo>
                <a:lnTo>
                  <a:pt x="306" y="1128"/>
                </a:lnTo>
                <a:lnTo>
                  <a:pt x="312" y="1128"/>
                </a:lnTo>
                <a:lnTo>
                  <a:pt x="318" y="1128"/>
                </a:lnTo>
                <a:lnTo>
                  <a:pt x="324" y="1128"/>
                </a:lnTo>
                <a:lnTo>
                  <a:pt x="330" y="1128"/>
                </a:lnTo>
                <a:lnTo>
                  <a:pt x="336" y="1128"/>
                </a:lnTo>
                <a:lnTo>
                  <a:pt x="342" y="1128"/>
                </a:lnTo>
                <a:lnTo>
                  <a:pt x="348" y="1128"/>
                </a:lnTo>
                <a:lnTo>
                  <a:pt x="354" y="1128"/>
                </a:lnTo>
                <a:lnTo>
                  <a:pt x="360" y="1128"/>
                </a:lnTo>
                <a:lnTo>
                  <a:pt x="366" y="1128"/>
                </a:lnTo>
                <a:lnTo>
                  <a:pt x="372" y="1128"/>
                </a:lnTo>
                <a:lnTo>
                  <a:pt x="378" y="1128"/>
                </a:lnTo>
                <a:lnTo>
                  <a:pt x="384" y="1128"/>
                </a:lnTo>
                <a:lnTo>
                  <a:pt x="390" y="1128"/>
                </a:lnTo>
                <a:lnTo>
                  <a:pt x="396" y="1128"/>
                </a:lnTo>
                <a:lnTo>
                  <a:pt x="402" y="1128"/>
                </a:lnTo>
                <a:lnTo>
                  <a:pt x="408" y="1128"/>
                </a:lnTo>
                <a:lnTo>
                  <a:pt x="414" y="1128"/>
                </a:lnTo>
                <a:lnTo>
                  <a:pt x="420" y="1128"/>
                </a:lnTo>
                <a:lnTo>
                  <a:pt x="426" y="1128"/>
                </a:lnTo>
                <a:lnTo>
                  <a:pt x="432" y="1128"/>
                </a:lnTo>
                <a:lnTo>
                  <a:pt x="438" y="1128"/>
                </a:lnTo>
                <a:lnTo>
                  <a:pt x="444" y="1128"/>
                </a:lnTo>
                <a:lnTo>
                  <a:pt x="450" y="1128"/>
                </a:lnTo>
                <a:lnTo>
                  <a:pt x="456" y="1128"/>
                </a:lnTo>
                <a:lnTo>
                  <a:pt x="462" y="1128"/>
                </a:lnTo>
                <a:lnTo>
                  <a:pt x="468" y="1128"/>
                </a:lnTo>
                <a:lnTo>
                  <a:pt x="474" y="1128"/>
                </a:lnTo>
                <a:lnTo>
                  <a:pt x="480" y="1128"/>
                </a:lnTo>
                <a:lnTo>
                  <a:pt x="486" y="1128"/>
                </a:lnTo>
                <a:lnTo>
                  <a:pt x="492" y="1128"/>
                </a:lnTo>
                <a:lnTo>
                  <a:pt x="498" y="1128"/>
                </a:lnTo>
                <a:lnTo>
                  <a:pt x="504" y="1128"/>
                </a:lnTo>
                <a:lnTo>
                  <a:pt x="510" y="1128"/>
                </a:lnTo>
                <a:lnTo>
                  <a:pt x="516" y="1128"/>
                </a:lnTo>
                <a:lnTo>
                  <a:pt x="522" y="1128"/>
                </a:lnTo>
                <a:lnTo>
                  <a:pt x="528" y="1128"/>
                </a:lnTo>
                <a:lnTo>
                  <a:pt x="534" y="1128"/>
                </a:lnTo>
                <a:lnTo>
                  <a:pt x="540" y="1128"/>
                </a:lnTo>
                <a:lnTo>
                  <a:pt x="546" y="1128"/>
                </a:lnTo>
                <a:lnTo>
                  <a:pt x="552" y="1128"/>
                </a:lnTo>
                <a:lnTo>
                  <a:pt x="558" y="1128"/>
                </a:lnTo>
                <a:lnTo>
                  <a:pt x="564" y="1128"/>
                </a:lnTo>
                <a:lnTo>
                  <a:pt x="570" y="1128"/>
                </a:lnTo>
                <a:lnTo>
                  <a:pt x="576" y="1128"/>
                </a:lnTo>
                <a:lnTo>
                  <a:pt x="582" y="1128"/>
                </a:lnTo>
                <a:lnTo>
                  <a:pt x="588" y="1128"/>
                </a:lnTo>
                <a:lnTo>
                  <a:pt x="594" y="1128"/>
                </a:lnTo>
                <a:lnTo>
                  <a:pt x="600" y="1128"/>
                </a:lnTo>
                <a:lnTo>
                  <a:pt x="606" y="1128"/>
                </a:lnTo>
                <a:lnTo>
                  <a:pt x="612" y="1128"/>
                </a:lnTo>
                <a:lnTo>
                  <a:pt x="618" y="1128"/>
                </a:lnTo>
                <a:lnTo>
                  <a:pt x="624" y="1128"/>
                </a:lnTo>
                <a:lnTo>
                  <a:pt x="630" y="1128"/>
                </a:lnTo>
                <a:lnTo>
                  <a:pt x="636" y="1128"/>
                </a:lnTo>
                <a:lnTo>
                  <a:pt x="642" y="1128"/>
                </a:lnTo>
                <a:lnTo>
                  <a:pt x="648" y="1128"/>
                </a:lnTo>
                <a:lnTo>
                  <a:pt x="654" y="1128"/>
                </a:lnTo>
                <a:lnTo>
                  <a:pt x="660" y="1128"/>
                </a:lnTo>
                <a:lnTo>
                  <a:pt x="666" y="1128"/>
                </a:lnTo>
                <a:lnTo>
                  <a:pt x="672" y="1128"/>
                </a:lnTo>
                <a:lnTo>
                  <a:pt x="678" y="1128"/>
                </a:lnTo>
                <a:lnTo>
                  <a:pt x="684" y="1128"/>
                </a:lnTo>
                <a:lnTo>
                  <a:pt x="690" y="1128"/>
                </a:lnTo>
                <a:lnTo>
                  <a:pt x="696" y="1128"/>
                </a:lnTo>
                <a:lnTo>
                  <a:pt x="702" y="1128"/>
                </a:lnTo>
                <a:lnTo>
                  <a:pt x="708" y="1128"/>
                </a:lnTo>
                <a:lnTo>
                  <a:pt x="714" y="1128"/>
                </a:lnTo>
                <a:lnTo>
                  <a:pt x="720" y="1128"/>
                </a:lnTo>
                <a:lnTo>
                  <a:pt x="726" y="1128"/>
                </a:lnTo>
                <a:lnTo>
                  <a:pt x="732" y="1128"/>
                </a:lnTo>
                <a:lnTo>
                  <a:pt x="738" y="1128"/>
                </a:lnTo>
                <a:lnTo>
                  <a:pt x="744" y="1128"/>
                </a:lnTo>
                <a:lnTo>
                  <a:pt x="750" y="1128"/>
                </a:lnTo>
                <a:lnTo>
                  <a:pt x="756" y="1128"/>
                </a:lnTo>
                <a:lnTo>
                  <a:pt x="762" y="1128"/>
                </a:lnTo>
                <a:lnTo>
                  <a:pt x="768" y="1128"/>
                </a:lnTo>
                <a:lnTo>
                  <a:pt x="774" y="1128"/>
                </a:lnTo>
                <a:lnTo>
                  <a:pt x="780" y="1128"/>
                </a:lnTo>
                <a:lnTo>
                  <a:pt x="786" y="1128"/>
                </a:lnTo>
                <a:lnTo>
                  <a:pt x="792" y="1128"/>
                </a:lnTo>
                <a:lnTo>
                  <a:pt x="798" y="1128"/>
                </a:lnTo>
                <a:lnTo>
                  <a:pt x="804" y="1128"/>
                </a:lnTo>
                <a:lnTo>
                  <a:pt x="810" y="1128"/>
                </a:lnTo>
                <a:lnTo>
                  <a:pt x="816" y="1128"/>
                </a:lnTo>
                <a:lnTo>
                  <a:pt x="822" y="1128"/>
                </a:lnTo>
                <a:lnTo>
                  <a:pt x="828" y="1128"/>
                </a:lnTo>
                <a:lnTo>
                  <a:pt x="834" y="1128"/>
                </a:lnTo>
                <a:lnTo>
                  <a:pt x="840" y="1128"/>
                </a:lnTo>
                <a:lnTo>
                  <a:pt x="846" y="1128"/>
                </a:lnTo>
                <a:lnTo>
                  <a:pt x="852" y="1128"/>
                </a:lnTo>
                <a:lnTo>
                  <a:pt x="858" y="1128"/>
                </a:lnTo>
                <a:lnTo>
                  <a:pt x="864" y="1128"/>
                </a:lnTo>
                <a:lnTo>
                  <a:pt x="870" y="1128"/>
                </a:lnTo>
                <a:lnTo>
                  <a:pt x="876" y="1128"/>
                </a:lnTo>
                <a:lnTo>
                  <a:pt x="882" y="1128"/>
                </a:lnTo>
                <a:lnTo>
                  <a:pt x="888" y="1128"/>
                </a:lnTo>
                <a:lnTo>
                  <a:pt x="894" y="1128"/>
                </a:lnTo>
                <a:lnTo>
                  <a:pt x="900" y="1128"/>
                </a:lnTo>
                <a:lnTo>
                  <a:pt x="906" y="1128"/>
                </a:lnTo>
                <a:lnTo>
                  <a:pt x="912" y="1128"/>
                </a:lnTo>
                <a:lnTo>
                  <a:pt x="918" y="1128"/>
                </a:lnTo>
                <a:lnTo>
                  <a:pt x="924" y="1128"/>
                </a:lnTo>
                <a:lnTo>
                  <a:pt x="930" y="1128"/>
                </a:lnTo>
                <a:lnTo>
                  <a:pt x="936" y="1128"/>
                </a:lnTo>
                <a:lnTo>
                  <a:pt x="942" y="1128"/>
                </a:lnTo>
                <a:lnTo>
                  <a:pt x="948" y="1128"/>
                </a:lnTo>
                <a:lnTo>
                  <a:pt x="954" y="1128"/>
                </a:lnTo>
                <a:lnTo>
                  <a:pt x="960" y="1128"/>
                </a:lnTo>
                <a:lnTo>
                  <a:pt x="966" y="1128"/>
                </a:lnTo>
                <a:lnTo>
                  <a:pt x="972" y="1128"/>
                </a:lnTo>
                <a:lnTo>
                  <a:pt x="978" y="1128"/>
                </a:lnTo>
                <a:lnTo>
                  <a:pt x="984" y="1128"/>
                </a:lnTo>
                <a:lnTo>
                  <a:pt x="990" y="1128"/>
                </a:lnTo>
                <a:lnTo>
                  <a:pt x="996" y="1128"/>
                </a:lnTo>
                <a:lnTo>
                  <a:pt x="1002" y="1128"/>
                </a:lnTo>
                <a:lnTo>
                  <a:pt x="1008" y="1128"/>
                </a:lnTo>
                <a:lnTo>
                  <a:pt x="1014" y="1128"/>
                </a:lnTo>
                <a:lnTo>
                  <a:pt x="1020" y="1128"/>
                </a:lnTo>
                <a:lnTo>
                  <a:pt x="1026" y="1128"/>
                </a:lnTo>
                <a:lnTo>
                  <a:pt x="1032" y="1128"/>
                </a:lnTo>
                <a:lnTo>
                  <a:pt x="1038" y="1128"/>
                </a:lnTo>
                <a:lnTo>
                  <a:pt x="1044" y="1128"/>
                </a:lnTo>
                <a:lnTo>
                  <a:pt x="1050" y="1128"/>
                </a:lnTo>
                <a:lnTo>
                  <a:pt x="1056" y="1128"/>
                </a:lnTo>
                <a:lnTo>
                  <a:pt x="1062" y="1128"/>
                </a:lnTo>
                <a:lnTo>
                  <a:pt x="1068" y="1128"/>
                </a:lnTo>
                <a:lnTo>
                  <a:pt x="1074" y="1128"/>
                </a:lnTo>
                <a:lnTo>
                  <a:pt x="1080" y="1128"/>
                </a:lnTo>
                <a:lnTo>
                  <a:pt x="1086" y="1128"/>
                </a:lnTo>
                <a:lnTo>
                  <a:pt x="1092" y="1128"/>
                </a:lnTo>
                <a:lnTo>
                  <a:pt x="1098" y="1128"/>
                </a:lnTo>
                <a:lnTo>
                  <a:pt x="1104" y="1128"/>
                </a:lnTo>
                <a:lnTo>
                  <a:pt x="1110" y="1128"/>
                </a:lnTo>
                <a:lnTo>
                  <a:pt x="1116" y="1128"/>
                </a:lnTo>
                <a:lnTo>
                  <a:pt x="1122" y="1128"/>
                </a:lnTo>
                <a:lnTo>
                  <a:pt x="1128" y="1128"/>
                </a:lnTo>
                <a:lnTo>
                  <a:pt x="1134" y="1122"/>
                </a:lnTo>
                <a:lnTo>
                  <a:pt x="1140" y="1122"/>
                </a:lnTo>
                <a:lnTo>
                  <a:pt x="1146" y="1122"/>
                </a:lnTo>
                <a:lnTo>
                  <a:pt x="1152" y="1122"/>
                </a:lnTo>
                <a:lnTo>
                  <a:pt x="1158" y="1122"/>
                </a:lnTo>
                <a:lnTo>
                  <a:pt x="1164" y="1122"/>
                </a:lnTo>
                <a:lnTo>
                  <a:pt x="1170" y="1122"/>
                </a:lnTo>
                <a:lnTo>
                  <a:pt x="1176" y="1122"/>
                </a:lnTo>
                <a:lnTo>
                  <a:pt x="1182" y="1122"/>
                </a:lnTo>
                <a:lnTo>
                  <a:pt x="1188" y="1122"/>
                </a:lnTo>
                <a:lnTo>
                  <a:pt x="1194" y="1122"/>
                </a:lnTo>
                <a:lnTo>
                  <a:pt x="1200" y="1122"/>
                </a:lnTo>
                <a:lnTo>
                  <a:pt x="1206" y="1122"/>
                </a:lnTo>
                <a:lnTo>
                  <a:pt x="1212" y="1122"/>
                </a:lnTo>
                <a:lnTo>
                  <a:pt x="1218" y="1122"/>
                </a:lnTo>
                <a:lnTo>
                  <a:pt x="1224" y="1122"/>
                </a:lnTo>
                <a:lnTo>
                  <a:pt x="1230" y="1122"/>
                </a:lnTo>
                <a:lnTo>
                  <a:pt x="1236" y="1122"/>
                </a:lnTo>
                <a:lnTo>
                  <a:pt x="1242" y="1122"/>
                </a:lnTo>
                <a:lnTo>
                  <a:pt x="1248" y="1122"/>
                </a:lnTo>
                <a:lnTo>
                  <a:pt x="1254" y="1122"/>
                </a:lnTo>
                <a:lnTo>
                  <a:pt x="1260" y="1122"/>
                </a:lnTo>
                <a:lnTo>
                  <a:pt x="1266" y="1122"/>
                </a:lnTo>
                <a:lnTo>
                  <a:pt x="1272" y="1122"/>
                </a:lnTo>
                <a:lnTo>
                  <a:pt x="1278" y="1122"/>
                </a:lnTo>
                <a:lnTo>
                  <a:pt x="1284" y="1122"/>
                </a:lnTo>
                <a:lnTo>
                  <a:pt x="1290" y="1122"/>
                </a:lnTo>
                <a:lnTo>
                  <a:pt x="1296" y="1122"/>
                </a:lnTo>
                <a:lnTo>
                  <a:pt x="1302" y="1122"/>
                </a:lnTo>
                <a:lnTo>
                  <a:pt x="1308" y="1122"/>
                </a:lnTo>
                <a:lnTo>
                  <a:pt x="1314" y="1122"/>
                </a:lnTo>
                <a:lnTo>
                  <a:pt x="1320" y="1122"/>
                </a:lnTo>
                <a:lnTo>
                  <a:pt x="1326" y="1122"/>
                </a:lnTo>
                <a:lnTo>
                  <a:pt x="1332" y="1122"/>
                </a:lnTo>
                <a:lnTo>
                  <a:pt x="1338" y="1122"/>
                </a:lnTo>
                <a:lnTo>
                  <a:pt x="1344" y="1122"/>
                </a:lnTo>
                <a:lnTo>
                  <a:pt x="1350" y="1122"/>
                </a:lnTo>
                <a:lnTo>
                  <a:pt x="1356" y="1122"/>
                </a:lnTo>
                <a:lnTo>
                  <a:pt x="1362" y="1122"/>
                </a:lnTo>
                <a:lnTo>
                  <a:pt x="1368" y="1122"/>
                </a:lnTo>
                <a:lnTo>
                  <a:pt x="1374" y="1122"/>
                </a:lnTo>
                <a:lnTo>
                  <a:pt x="1380" y="1122"/>
                </a:lnTo>
                <a:lnTo>
                  <a:pt x="1386" y="1122"/>
                </a:lnTo>
                <a:lnTo>
                  <a:pt x="1392" y="1122"/>
                </a:lnTo>
                <a:lnTo>
                  <a:pt x="1398" y="1122"/>
                </a:lnTo>
                <a:lnTo>
                  <a:pt x="1404" y="1122"/>
                </a:lnTo>
                <a:lnTo>
                  <a:pt x="1410" y="1122"/>
                </a:lnTo>
                <a:lnTo>
                  <a:pt x="1416" y="1122"/>
                </a:lnTo>
                <a:lnTo>
                  <a:pt x="1422" y="1122"/>
                </a:lnTo>
                <a:lnTo>
                  <a:pt x="1428" y="1122"/>
                </a:lnTo>
                <a:lnTo>
                  <a:pt x="1434" y="1122"/>
                </a:lnTo>
                <a:lnTo>
                  <a:pt x="1440" y="1122"/>
                </a:lnTo>
                <a:lnTo>
                  <a:pt x="1446" y="1122"/>
                </a:lnTo>
                <a:lnTo>
                  <a:pt x="1452" y="1122"/>
                </a:lnTo>
                <a:lnTo>
                  <a:pt x="1458" y="1122"/>
                </a:lnTo>
                <a:lnTo>
                  <a:pt x="1464" y="1122"/>
                </a:lnTo>
                <a:lnTo>
                  <a:pt x="1470" y="1122"/>
                </a:lnTo>
                <a:lnTo>
                  <a:pt x="1476" y="1122"/>
                </a:lnTo>
                <a:lnTo>
                  <a:pt x="1482" y="1122"/>
                </a:lnTo>
                <a:lnTo>
                  <a:pt x="1488" y="1116"/>
                </a:lnTo>
                <a:lnTo>
                  <a:pt x="1494" y="1116"/>
                </a:lnTo>
                <a:lnTo>
                  <a:pt x="1500" y="1116"/>
                </a:lnTo>
                <a:lnTo>
                  <a:pt x="1506" y="1116"/>
                </a:lnTo>
                <a:lnTo>
                  <a:pt x="1512" y="1116"/>
                </a:lnTo>
                <a:lnTo>
                  <a:pt x="1518" y="1116"/>
                </a:lnTo>
                <a:lnTo>
                  <a:pt x="1524" y="1116"/>
                </a:lnTo>
                <a:lnTo>
                  <a:pt x="1530" y="1116"/>
                </a:lnTo>
                <a:lnTo>
                  <a:pt x="1536" y="1116"/>
                </a:lnTo>
                <a:lnTo>
                  <a:pt x="1542" y="1116"/>
                </a:lnTo>
                <a:lnTo>
                  <a:pt x="1548" y="1116"/>
                </a:lnTo>
                <a:lnTo>
                  <a:pt x="1554" y="1116"/>
                </a:lnTo>
                <a:lnTo>
                  <a:pt x="1561" y="1116"/>
                </a:lnTo>
                <a:lnTo>
                  <a:pt x="1567" y="1116"/>
                </a:lnTo>
                <a:lnTo>
                  <a:pt x="1573" y="1116"/>
                </a:lnTo>
                <a:lnTo>
                  <a:pt x="1579" y="1116"/>
                </a:lnTo>
                <a:lnTo>
                  <a:pt x="1585" y="1116"/>
                </a:lnTo>
                <a:lnTo>
                  <a:pt x="1591" y="1116"/>
                </a:lnTo>
                <a:lnTo>
                  <a:pt x="1597" y="1116"/>
                </a:lnTo>
                <a:lnTo>
                  <a:pt x="1603" y="1116"/>
                </a:lnTo>
                <a:lnTo>
                  <a:pt x="1609" y="1116"/>
                </a:lnTo>
                <a:lnTo>
                  <a:pt x="1615" y="1110"/>
                </a:lnTo>
                <a:lnTo>
                  <a:pt x="1621" y="1110"/>
                </a:lnTo>
                <a:lnTo>
                  <a:pt x="1627" y="1110"/>
                </a:lnTo>
                <a:lnTo>
                  <a:pt x="1633" y="1110"/>
                </a:lnTo>
                <a:lnTo>
                  <a:pt x="1639" y="1110"/>
                </a:lnTo>
                <a:lnTo>
                  <a:pt x="1645" y="1110"/>
                </a:lnTo>
                <a:lnTo>
                  <a:pt x="1651" y="1110"/>
                </a:lnTo>
                <a:lnTo>
                  <a:pt x="1657" y="1110"/>
                </a:lnTo>
                <a:lnTo>
                  <a:pt x="1663" y="1110"/>
                </a:lnTo>
                <a:lnTo>
                  <a:pt x="1669" y="1110"/>
                </a:lnTo>
                <a:lnTo>
                  <a:pt x="1675" y="1104"/>
                </a:lnTo>
                <a:lnTo>
                  <a:pt x="1681" y="1104"/>
                </a:lnTo>
                <a:lnTo>
                  <a:pt x="1687" y="1104"/>
                </a:lnTo>
                <a:lnTo>
                  <a:pt x="1693" y="1104"/>
                </a:lnTo>
                <a:lnTo>
                  <a:pt x="1699" y="1104"/>
                </a:lnTo>
                <a:lnTo>
                  <a:pt x="1705" y="1104"/>
                </a:lnTo>
                <a:lnTo>
                  <a:pt x="1711" y="1098"/>
                </a:lnTo>
                <a:lnTo>
                  <a:pt x="1717" y="1098"/>
                </a:lnTo>
                <a:lnTo>
                  <a:pt x="1723" y="1098"/>
                </a:lnTo>
                <a:lnTo>
                  <a:pt x="1729" y="1092"/>
                </a:lnTo>
                <a:lnTo>
                  <a:pt x="1735" y="1092"/>
                </a:lnTo>
                <a:lnTo>
                  <a:pt x="1741" y="1086"/>
                </a:lnTo>
                <a:lnTo>
                  <a:pt x="1747" y="1086"/>
                </a:lnTo>
                <a:lnTo>
                  <a:pt x="1753" y="1080"/>
                </a:lnTo>
                <a:lnTo>
                  <a:pt x="1759" y="1074"/>
                </a:lnTo>
                <a:lnTo>
                  <a:pt x="1759" y="1068"/>
                </a:lnTo>
                <a:lnTo>
                  <a:pt x="1765" y="1062"/>
                </a:lnTo>
                <a:lnTo>
                  <a:pt x="1771" y="1050"/>
                </a:lnTo>
                <a:lnTo>
                  <a:pt x="1771" y="1038"/>
                </a:lnTo>
                <a:lnTo>
                  <a:pt x="1777" y="1020"/>
                </a:lnTo>
                <a:lnTo>
                  <a:pt x="1777" y="0"/>
                </a:lnTo>
                <a:lnTo>
                  <a:pt x="1783" y="1140"/>
                </a:lnTo>
              </a:path>
            </a:pathLst>
          </a:custGeom>
          <a:solidFill>
            <a:srgbClr val="339933"/>
          </a:solidFill>
          <a:ln w="19080">
            <a:solidFill>
              <a:srgbClr val="00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2964600" y="655560"/>
            <a:ext cx="2063880" cy="1743120"/>
          </a:xfrm>
          <a:custGeom>
            <a:avLst/>
            <a:gdLst/>
            <a:ahLst/>
            <a:rect l="l" t="t" r="r" b="b"/>
            <a:pathLst>
              <a:path w="1783" h="1140">
                <a:moveTo>
                  <a:pt x="0" y="1128"/>
                </a:moveTo>
                <a:lnTo>
                  <a:pt x="0" y="1128"/>
                </a:lnTo>
                <a:lnTo>
                  <a:pt x="6" y="1128"/>
                </a:lnTo>
                <a:lnTo>
                  <a:pt x="12" y="1128"/>
                </a:lnTo>
                <a:lnTo>
                  <a:pt x="18" y="1128"/>
                </a:lnTo>
                <a:lnTo>
                  <a:pt x="24" y="1128"/>
                </a:lnTo>
                <a:lnTo>
                  <a:pt x="30" y="1128"/>
                </a:lnTo>
                <a:lnTo>
                  <a:pt x="36" y="1128"/>
                </a:lnTo>
                <a:lnTo>
                  <a:pt x="42" y="1128"/>
                </a:lnTo>
                <a:lnTo>
                  <a:pt x="48" y="1128"/>
                </a:lnTo>
                <a:lnTo>
                  <a:pt x="54" y="1128"/>
                </a:lnTo>
                <a:lnTo>
                  <a:pt x="60" y="1128"/>
                </a:lnTo>
                <a:lnTo>
                  <a:pt x="66" y="1128"/>
                </a:lnTo>
                <a:lnTo>
                  <a:pt x="72" y="1128"/>
                </a:lnTo>
                <a:lnTo>
                  <a:pt x="78" y="1128"/>
                </a:lnTo>
                <a:lnTo>
                  <a:pt x="84" y="1128"/>
                </a:lnTo>
                <a:lnTo>
                  <a:pt x="90" y="1128"/>
                </a:lnTo>
                <a:lnTo>
                  <a:pt x="96" y="1128"/>
                </a:lnTo>
                <a:lnTo>
                  <a:pt x="102" y="1128"/>
                </a:lnTo>
                <a:lnTo>
                  <a:pt x="108" y="1128"/>
                </a:lnTo>
                <a:lnTo>
                  <a:pt x="114" y="1128"/>
                </a:lnTo>
                <a:lnTo>
                  <a:pt x="120" y="1128"/>
                </a:lnTo>
                <a:lnTo>
                  <a:pt x="126" y="1128"/>
                </a:lnTo>
                <a:lnTo>
                  <a:pt x="132" y="1128"/>
                </a:lnTo>
                <a:lnTo>
                  <a:pt x="138" y="1128"/>
                </a:lnTo>
                <a:lnTo>
                  <a:pt x="144" y="1128"/>
                </a:lnTo>
                <a:lnTo>
                  <a:pt x="150" y="1128"/>
                </a:lnTo>
                <a:lnTo>
                  <a:pt x="156" y="1128"/>
                </a:lnTo>
                <a:lnTo>
                  <a:pt x="162" y="1128"/>
                </a:lnTo>
                <a:lnTo>
                  <a:pt x="168" y="1128"/>
                </a:lnTo>
                <a:lnTo>
                  <a:pt x="174" y="1128"/>
                </a:lnTo>
                <a:lnTo>
                  <a:pt x="180" y="1128"/>
                </a:lnTo>
                <a:lnTo>
                  <a:pt x="186" y="1128"/>
                </a:lnTo>
                <a:lnTo>
                  <a:pt x="192" y="1128"/>
                </a:lnTo>
                <a:lnTo>
                  <a:pt x="198" y="1128"/>
                </a:lnTo>
                <a:lnTo>
                  <a:pt x="204" y="1128"/>
                </a:lnTo>
                <a:lnTo>
                  <a:pt x="210" y="1128"/>
                </a:lnTo>
                <a:lnTo>
                  <a:pt x="216" y="1128"/>
                </a:lnTo>
                <a:lnTo>
                  <a:pt x="222" y="1128"/>
                </a:lnTo>
                <a:lnTo>
                  <a:pt x="228" y="1128"/>
                </a:lnTo>
                <a:lnTo>
                  <a:pt x="234" y="1128"/>
                </a:lnTo>
                <a:lnTo>
                  <a:pt x="240" y="1128"/>
                </a:lnTo>
                <a:lnTo>
                  <a:pt x="246" y="1128"/>
                </a:lnTo>
                <a:lnTo>
                  <a:pt x="252" y="1128"/>
                </a:lnTo>
                <a:lnTo>
                  <a:pt x="258" y="1128"/>
                </a:lnTo>
                <a:lnTo>
                  <a:pt x="264" y="1128"/>
                </a:lnTo>
                <a:lnTo>
                  <a:pt x="270" y="1128"/>
                </a:lnTo>
                <a:lnTo>
                  <a:pt x="276" y="1128"/>
                </a:lnTo>
                <a:lnTo>
                  <a:pt x="282" y="1128"/>
                </a:lnTo>
                <a:lnTo>
                  <a:pt x="288" y="1128"/>
                </a:lnTo>
                <a:lnTo>
                  <a:pt x="294" y="1128"/>
                </a:lnTo>
                <a:lnTo>
                  <a:pt x="300" y="1128"/>
                </a:lnTo>
                <a:lnTo>
                  <a:pt x="306" y="1128"/>
                </a:lnTo>
                <a:lnTo>
                  <a:pt x="312" y="1128"/>
                </a:lnTo>
                <a:lnTo>
                  <a:pt x="318" y="1128"/>
                </a:lnTo>
                <a:lnTo>
                  <a:pt x="324" y="1128"/>
                </a:lnTo>
                <a:lnTo>
                  <a:pt x="330" y="1128"/>
                </a:lnTo>
                <a:lnTo>
                  <a:pt x="336" y="1128"/>
                </a:lnTo>
                <a:lnTo>
                  <a:pt x="342" y="1128"/>
                </a:lnTo>
                <a:lnTo>
                  <a:pt x="348" y="1128"/>
                </a:lnTo>
                <a:lnTo>
                  <a:pt x="354" y="1128"/>
                </a:lnTo>
                <a:lnTo>
                  <a:pt x="360" y="1128"/>
                </a:lnTo>
                <a:lnTo>
                  <a:pt x="366" y="1128"/>
                </a:lnTo>
                <a:lnTo>
                  <a:pt x="372" y="1128"/>
                </a:lnTo>
                <a:lnTo>
                  <a:pt x="378" y="1128"/>
                </a:lnTo>
                <a:lnTo>
                  <a:pt x="384" y="1128"/>
                </a:lnTo>
                <a:lnTo>
                  <a:pt x="390" y="1128"/>
                </a:lnTo>
                <a:lnTo>
                  <a:pt x="396" y="1128"/>
                </a:lnTo>
                <a:lnTo>
                  <a:pt x="402" y="1128"/>
                </a:lnTo>
                <a:lnTo>
                  <a:pt x="408" y="1128"/>
                </a:lnTo>
                <a:lnTo>
                  <a:pt x="414" y="1128"/>
                </a:lnTo>
                <a:lnTo>
                  <a:pt x="420" y="1128"/>
                </a:lnTo>
                <a:lnTo>
                  <a:pt x="426" y="1128"/>
                </a:lnTo>
                <a:lnTo>
                  <a:pt x="432" y="1128"/>
                </a:lnTo>
                <a:lnTo>
                  <a:pt x="438" y="1128"/>
                </a:lnTo>
                <a:lnTo>
                  <a:pt x="444" y="1128"/>
                </a:lnTo>
                <a:lnTo>
                  <a:pt x="450" y="1128"/>
                </a:lnTo>
                <a:lnTo>
                  <a:pt x="456" y="1128"/>
                </a:lnTo>
                <a:lnTo>
                  <a:pt x="462" y="1128"/>
                </a:lnTo>
                <a:lnTo>
                  <a:pt x="468" y="1128"/>
                </a:lnTo>
                <a:lnTo>
                  <a:pt x="474" y="1128"/>
                </a:lnTo>
                <a:lnTo>
                  <a:pt x="480" y="1128"/>
                </a:lnTo>
                <a:lnTo>
                  <a:pt x="486" y="1128"/>
                </a:lnTo>
                <a:lnTo>
                  <a:pt x="492" y="1128"/>
                </a:lnTo>
                <a:lnTo>
                  <a:pt x="498" y="1128"/>
                </a:lnTo>
                <a:lnTo>
                  <a:pt x="504" y="1128"/>
                </a:lnTo>
                <a:lnTo>
                  <a:pt x="510" y="1128"/>
                </a:lnTo>
                <a:lnTo>
                  <a:pt x="516" y="1128"/>
                </a:lnTo>
                <a:lnTo>
                  <a:pt x="522" y="1128"/>
                </a:lnTo>
                <a:lnTo>
                  <a:pt x="528" y="1128"/>
                </a:lnTo>
                <a:lnTo>
                  <a:pt x="534" y="1128"/>
                </a:lnTo>
                <a:lnTo>
                  <a:pt x="540" y="1128"/>
                </a:lnTo>
                <a:lnTo>
                  <a:pt x="546" y="1128"/>
                </a:lnTo>
                <a:lnTo>
                  <a:pt x="552" y="1128"/>
                </a:lnTo>
                <a:lnTo>
                  <a:pt x="558" y="1128"/>
                </a:lnTo>
                <a:lnTo>
                  <a:pt x="564" y="1128"/>
                </a:lnTo>
                <a:lnTo>
                  <a:pt x="570" y="1128"/>
                </a:lnTo>
                <a:lnTo>
                  <a:pt x="576" y="1128"/>
                </a:lnTo>
                <a:lnTo>
                  <a:pt x="582" y="1128"/>
                </a:lnTo>
                <a:lnTo>
                  <a:pt x="588" y="1128"/>
                </a:lnTo>
                <a:lnTo>
                  <a:pt x="594" y="1128"/>
                </a:lnTo>
                <a:lnTo>
                  <a:pt x="600" y="1128"/>
                </a:lnTo>
                <a:lnTo>
                  <a:pt x="606" y="1128"/>
                </a:lnTo>
                <a:lnTo>
                  <a:pt x="612" y="1128"/>
                </a:lnTo>
                <a:lnTo>
                  <a:pt x="618" y="1128"/>
                </a:lnTo>
                <a:lnTo>
                  <a:pt x="624" y="1128"/>
                </a:lnTo>
                <a:lnTo>
                  <a:pt x="630" y="1128"/>
                </a:lnTo>
                <a:lnTo>
                  <a:pt x="636" y="1128"/>
                </a:lnTo>
                <a:lnTo>
                  <a:pt x="642" y="1128"/>
                </a:lnTo>
                <a:lnTo>
                  <a:pt x="648" y="1128"/>
                </a:lnTo>
                <a:lnTo>
                  <a:pt x="654" y="1128"/>
                </a:lnTo>
                <a:lnTo>
                  <a:pt x="660" y="1128"/>
                </a:lnTo>
                <a:lnTo>
                  <a:pt x="666" y="1128"/>
                </a:lnTo>
                <a:lnTo>
                  <a:pt x="672" y="1128"/>
                </a:lnTo>
                <a:lnTo>
                  <a:pt x="678" y="1128"/>
                </a:lnTo>
                <a:lnTo>
                  <a:pt x="684" y="1128"/>
                </a:lnTo>
                <a:lnTo>
                  <a:pt x="690" y="1128"/>
                </a:lnTo>
                <a:lnTo>
                  <a:pt x="696" y="1128"/>
                </a:lnTo>
                <a:lnTo>
                  <a:pt x="702" y="1128"/>
                </a:lnTo>
                <a:lnTo>
                  <a:pt x="708" y="1128"/>
                </a:lnTo>
                <a:lnTo>
                  <a:pt x="714" y="1128"/>
                </a:lnTo>
                <a:lnTo>
                  <a:pt x="720" y="1128"/>
                </a:lnTo>
                <a:lnTo>
                  <a:pt x="726" y="1128"/>
                </a:lnTo>
                <a:lnTo>
                  <a:pt x="732" y="1128"/>
                </a:lnTo>
                <a:lnTo>
                  <a:pt x="738" y="1128"/>
                </a:lnTo>
                <a:lnTo>
                  <a:pt x="744" y="1128"/>
                </a:lnTo>
                <a:lnTo>
                  <a:pt x="750" y="1128"/>
                </a:lnTo>
                <a:lnTo>
                  <a:pt x="756" y="1128"/>
                </a:lnTo>
                <a:lnTo>
                  <a:pt x="762" y="1128"/>
                </a:lnTo>
                <a:lnTo>
                  <a:pt x="768" y="1128"/>
                </a:lnTo>
                <a:lnTo>
                  <a:pt x="774" y="1128"/>
                </a:lnTo>
                <a:lnTo>
                  <a:pt x="780" y="1128"/>
                </a:lnTo>
                <a:lnTo>
                  <a:pt x="786" y="1128"/>
                </a:lnTo>
                <a:lnTo>
                  <a:pt x="792" y="1128"/>
                </a:lnTo>
                <a:lnTo>
                  <a:pt x="798" y="1128"/>
                </a:lnTo>
                <a:lnTo>
                  <a:pt x="804" y="1128"/>
                </a:lnTo>
                <a:lnTo>
                  <a:pt x="810" y="1128"/>
                </a:lnTo>
                <a:lnTo>
                  <a:pt x="816" y="1128"/>
                </a:lnTo>
                <a:lnTo>
                  <a:pt x="822" y="1128"/>
                </a:lnTo>
                <a:lnTo>
                  <a:pt x="828" y="1128"/>
                </a:lnTo>
                <a:lnTo>
                  <a:pt x="834" y="1128"/>
                </a:lnTo>
                <a:lnTo>
                  <a:pt x="840" y="1128"/>
                </a:lnTo>
                <a:lnTo>
                  <a:pt x="846" y="1128"/>
                </a:lnTo>
                <a:lnTo>
                  <a:pt x="852" y="1128"/>
                </a:lnTo>
                <a:lnTo>
                  <a:pt x="858" y="1128"/>
                </a:lnTo>
                <a:lnTo>
                  <a:pt x="864" y="1128"/>
                </a:lnTo>
                <a:lnTo>
                  <a:pt x="870" y="1128"/>
                </a:lnTo>
                <a:lnTo>
                  <a:pt x="876" y="1128"/>
                </a:lnTo>
                <a:lnTo>
                  <a:pt x="882" y="1128"/>
                </a:lnTo>
                <a:lnTo>
                  <a:pt x="888" y="1128"/>
                </a:lnTo>
                <a:lnTo>
                  <a:pt x="894" y="1128"/>
                </a:lnTo>
                <a:lnTo>
                  <a:pt x="900" y="1128"/>
                </a:lnTo>
                <a:lnTo>
                  <a:pt x="906" y="1128"/>
                </a:lnTo>
                <a:lnTo>
                  <a:pt x="912" y="1128"/>
                </a:lnTo>
                <a:lnTo>
                  <a:pt x="918" y="1128"/>
                </a:lnTo>
                <a:lnTo>
                  <a:pt x="924" y="1128"/>
                </a:lnTo>
                <a:lnTo>
                  <a:pt x="930" y="1128"/>
                </a:lnTo>
                <a:lnTo>
                  <a:pt x="936" y="1128"/>
                </a:lnTo>
                <a:lnTo>
                  <a:pt x="942" y="1128"/>
                </a:lnTo>
                <a:lnTo>
                  <a:pt x="948" y="1128"/>
                </a:lnTo>
                <a:lnTo>
                  <a:pt x="954" y="1128"/>
                </a:lnTo>
                <a:lnTo>
                  <a:pt x="960" y="1128"/>
                </a:lnTo>
                <a:lnTo>
                  <a:pt x="966" y="1128"/>
                </a:lnTo>
                <a:lnTo>
                  <a:pt x="972" y="1128"/>
                </a:lnTo>
                <a:lnTo>
                  <a:pt x="978" y="1128"/>
                </a:lnTo>
                <a:lnTo>
                  <a:pt x="984" y="1128"/>
                </a:lnTo>
                <a:lnTo>
                  <a:pt x="990" y="1128"/>
                </a:lnTo>
                <a:lnTo>
                  <a:pt x="996" y="1128"/>
                </a:lnTo>
                <a:lnTo>
                  <a:pt x="1002" y="1128"/>
                </a:lnTo>
                <a:lnTo>
                  <a:pt x="1008" y="1128"/>
                </a:lnTo>
                <a:lnTo>
                  <a:pt x="1014" y="1128"/>
                </a:lnTo>
                <a:lnTo>
                  <a:pt x="1020" y="1128"/>
                </a:lnTo>
                <a:lnTo>
                  <a:pt x="1026" y="1128"/>
                </a:lnTo>
                <a:lnTo>
                  <a:pt x="1032" y="1128"/>
                </a:lnTo>
                <a:lnTo>
                  <a:pt x="1038" y="1128"/>
                </a:lnTo>
                <a:lnTo>
                  <a:pt x="1044" y="1128"/>
                </a:lnTo>
                <a:lnTo>
                  <a:pt x="1050" y="1128"/>
                </a:lnTo>
                <a:lnTo>
                  <a:pt x="1056" y="1128"/>
                </a:lnTo>
                <a:lnTo>
                  <a:pt x="1062" y="1128"/>
                </a:lnTo>
                <a:lnTo>
                  <a:pt x="1068" y="1128"/>
                </a:lnTo>
                <a:lnTo>
                  <a:pt x="1074" y="1128"/>
                </a:lnTo>
                <a:lnTo>
                  <a:pt x="1080" y="1128"/>
                </a:lnTo>
                <a:lnTo>
                  <a:pt x="1086" y="1128"/>
                </a:lnTo>
                <a:lnTo>
                  <a:pt x="1092" y="1128"/>
                </a:lnTo>
                <a:lnTo>
                  <a:pt x="1098" y="1128"/>
                </a:lnTo>
                <a:lnTo>
                  <a:pt x="1104" y="1128"/>
                </a:lnTo>
                <a:lnTo>
                  <a:pt x="1110" y="1128"/>
                </a:lnTo>
                <a:lnTo>
                  <a:pt x="1116" y="1128"/>
                </a:lnTo>
                <a:lnTo>
                  <a:pt x="1122" y="1128"/>
                </a:lnTo>
                <a:lnTo>
                  <a:pt x="1128" y="1128"/>
                </a:lnTo>
                <a:lnTo>
                  <a:pt x="1134" y="1122"/>
                </a:lnTo>
                <a:lnTo>
                  <a:pt x="1140" y="1122"/>
                </a:lnTo>
                <a:lnTo>
                  <a:pt x="1146" y="1122"/>
                </a:lnTo>
                <a:lnTo>
                  <a:pt x="1152" y="1122"/>
                </a:lnTo>
                <a:lnTo>
                  <a:pt x="1158" y="1122"/>
                </a:lnTo>
                <a:lnTo>
                  <a:pt x="1164" y="1122"/>
                </a:lnTo>
                <a:lnTo>
                  <a:pt x="1170" y="1122"/>
                </a:lnTo>
                <a:lnTo>
                  <a:pt x="1176" y="1122"/>
                </a:lnTo>
                <a:lnTo>
                  <a:pt x="1182" y="1122"/>
                </a:lnTo>
                <a:lnTo>
                  <a:pt x="1188" y="1122"/>
                </a:lnTo>
                <a:lnTo>
                  <a:pt x="1194" y="1122"/>
                </a:lnTo>
                <a:lnTo>
                  <a:pt x="1200" y="1122"/>
                </a:lnTo>
                <a:lnTo>
                  <a:pt x="1206" y="1122"/>
                </a:lnTo>
                <a:lnTo>
                  <a:pt x="1212" y="1122"/>
                </a:lnTo>
                <a:lnTo>
                  <a:pt x="1218" y="1122"/>
                </a:lnTo>
                <a:lnTo>
                  <a:pt x="1224" y="1122"/>
                </a:lnTo>
                <a:lnTo>
                  <a:pt x="1230" y="1122"/>
                </a:lnTo>
                <a:lnTo>
                  <a:pt x="1236" y="1122"/>
                </a:lnTo>
                <a:lnTo>
                  <a:pt x="1242" y="1122"/>
                </a:lnTo>
                <a:lnTo>
                  <a:pt x="1248" y="1122"/>
                </a:lnTo>
                <a:lnTo>
                  <a:pt x="1254" y="1122"/>
                </a:lnTo>
                <a:lnTo>
                  <a:pt x="1260" y="1122"/>
                </a:lnTo>
                <a:lnTo>
                  <a:pt x="1266" y="1122"/>
                </a:lnTo>
                <a:lnTo>
                  <a:pt x="1272" y="1122"/>
                </a:lnTo>
                <a:lnTo>
                  <a:pt x="1278" y="1122"/>
                </a:lnTo>
                <a:lnTo>
                  <a:pt x="1284" y="1122"/>
                </a:lnTo>
                <a:lnTo>
                  <a:pt x="1290" y="1122"/>
                </a:lnTo>
                <a:lnTo>
                  <a:pt x="1296" y="1122"/>
                </a:lnTo>
                <a:lnTo>
                  <a:pt x="1302" y="1122"/>
                </a:lnTo>
                <a:lnTo>
                  <a:pt x="1308" y="1122"/>
                </a:lnTo>
                <a:lnTo>
                  <a:pt x="1314" y="1122"/>
                </a:lnTo>
                <a:lnTo>
                  <a:pt x="1320" y="1122"/>
                </a:lnTo>
                <a:lnTo>
                  <a:pt x="1326" y="1122"/>
                </a:lnTo>
                <a:lnTo>
                  <a:pt x="1332" y="1122"/>
                </a:lnTo>
                <a:lnTo>
                  <a:pt x="1338" y="1122"/>
                </a:lnTo>
                <a:lnTo>
                  <a:pt x="1344" y="1122"/>
                </a:lnTo>
                <a:lnTo>
                  <a:pt x="1350" y="1122"/>
                </a:lnTo>
                <a:lnTo>
                  <a:pt x="1356" y="1122"/>
                </a:lnTo>
                <a:lnTo>
                  <a:pt x="1362" y="1122"/>
                </a:lnTo>
                <a:lnTo>
                  <a:pt x="1368" y="1122"/>
                </a:lnTo>
                <a:lnTo>
                  <a:pt x="1374" y="1122"/>
                </a:lnTo>
                <a:lnTo>
                  <a:pt x="1380" y="1122"/>
                </a:lnTo>
                <a:lnTo>
                  <a:pt x="1386" y="1122"/>
                </a:lnTo>
                <a:lnTo>
                  <a:pt x="1392" y="1122"/>
                </a:lnTo>
                <a:lnTo>
                  <a:pt x="1398" y="1122"/>
                </a:lnTo>
                <a:lnTo>
                  <a:pt x="1404" y="1122"/>
                </a:lnTo>
                <a:lnTo>
                  <a:pt x="1410" y="1122"/>
                </a:lnTo>
                <a:lnTo>
                  <a:pt x="1416" y="1122"/>
                </a:lnTo>
                <a:lnTo>
                  <a:pt x="1422" y="1122"/>
                </a:lnTo>
                <a:lnTo>
                  <a:pt x="1428" y="1122"/>
                </a:lnTo>
                <a:lnTo>
                  <a:pt x="1434" y="1122"/>
                </a:lnTo>
                <a:lnTo>
                  <a:pt x="1440" y="1122"/>
                </a:lnTo>
                <a:lnTo>
                  <a:pt x="1446" y="1122"/>
                </a:lnTo>
                <a:lnTo>
                  <a:pt x="1452" y="1122"/>
                </a:lnTo>
                <a:lnTo>
                  <a:pt x="1458" y="1122"/>
                </a:lnTo>
                <a:lnTo>
                  <a:pt x="1464" y="1122"/>
                </a:lnTo>
                <a:lnTo>
                  <a:pt x="1470" y="1122"/>
                </a:lnTo>
                <a:lnTo>
                  <a:pt x="1476" y="1122"/>
                </a:lnTo>
                <a:lnTo>
                  <a:pt x="1482" y="1122"/>
                </a:lnTo>
                <a:lnTo>
                  <a:pt x="1488" y="1116"/>
                </a:lnTo>
                <a:lnTo>
                  <a:pt x="1494" y="1116"/>
                </a:lnTo>
                <a:lnTo>
                  <a:pt x="1500" y="1116"/>
                </a:lnTo>
                <a:lnTo>
                  <a:pt x="1506" y="1116"/>
                </a:lnTo>
                <a:lnTo>
                  <a:pt x="1512" y="1116"/>
                </a:lnTo>
                <a:lnTo>
                  <a:pt x="1518" y="1116"/>
                </a:lnTo>
                <a:lnTo>
                  <a:pt x="1524" y="1116"/>
                </a:lnTo>
                <a:lnTo>
                  <a:pt x="1530" y="1116"/>
                </a:lnTo>
                <a:lnTo>
                  <a:pt x="1536" y="1116"/>
                </a:lnTo>
                <a:lnTo>
                  <a:pt x="1542" y="1116"/>
                </a:lnTo>
                <a:lnTo>
                  <a:pt x="1548" y="1116"/>
                </a:lnTo>
                <a:lnTo>
                  <a:pt x="1554" y="1116"/>
                </a:lnTo>
                <a:lnTo>
                  <a:pt x="1561" y="1116"/>
                </a:lnTo>
                <a:lnTo>
                  <a:pt x="1567" y="1116"/>
                </a:lnTo>
                <a:lnTo>
                  <a:pt x="1573" y="1116"/>
                </a:lnTo>
                <a:lnTo>
                  <a:pt x="1579" y="1116"/>
                </a:lnTo>
                <a:lnTo>
                  <a:pt x="1585" y="1116"/>
                </a:lnTo>
                <a:lnTo>
                  <a:pt x="1591" y="1116"/>
                </a:lnTo>
                <a:lnTo>
                  <a:pt x="1597" y="1116"/>
                </a:lnTo>
                <a:lnTo>
                  <a:pt x="1603" y="1116"/>
                </a:lnTo>
                <a:lnTo>
                  <a:pt x="1609" y="1116"/>
                </a:lnTo>
                <a:lnTo>
                  <a:pt x="1615" y="1110"/>
                </a:lnTo>
                <a:lnTo>
                  <a:pt x="1621" y="1110"/>
                </a:lnTo>
                <a:lnTo>
                  <a:pt x="1627" y="1110"/>
                </a:lnTo>
                <a:lnTo>
                  <a:pt x="1633" y="1110"/>
                </a:lnTo>
                <a:lnTo>
                  <a:pt x="1639" y="1110"/>
                </a:lnTo>
                <a:lnTo>
                  <a:pt x="1645" y="1110"/>
                </a:lnTo>
                <a:lnTo>
                  <a:pt x="1651" y="1110"/>
                </a:lnTo>
                <a:lnTo>
                  <a:pt x="1657" y="1110"/>
                </a:lnTo>
                <a:lnTo>
                  <a:pt x="1663" y="1110"/>
                </a:lnTo>
                <a:lnTo>
                  <a:pt x="1669" y="1110"/>
                </a:lnTo>
                <a:lnTo>
                  <a:pt x="1675" y="1104"/>
                </a:lnTo>
                <a:lnTo>
                  <a:pt x="1681" y="1104"/>
                </a:lnTo>
                <a:lnTo>
                  <a:pt x="1687" y="1104"/>
                </a:lnTo>
                <a:lnTo>
                  <a:pt x="1693" y="1104"/>
                </a:lnTo>
                <a:lnTo>
                  <a:pt x="1699" y="1104"/>
                </a:lnTo>
                <a:lnTo>
                  <a:pt x="1705" y="1104"/>
                </a:lnTo>
                <a:lnTo>
                  <a:pt x="1711" y="1098"/>
                </a:lnTo>
                <a:lnTo>
                  <a:pt x="1717" y="1098"/>
                </a:lnTo>
                <a:lnTo>
                  <a:pt x="1723" y="1098"/>
                </a:lnTo>
                <a:lnTo>
                  <a:pt x="1729" y="1092"/>
                </a:lnTo>
                <a:lnTo>
                  <a:pt x="1735" y="1092"/>
                </a:lnTo>
                <a:lnTo>
                  <a:pt x="1741" y="1086"/>
                </a:lnTo>
                <a:lnTo>
                  <a:pt x="1747" y="1086"/>
                </a:lnTo>
                <a:lnTo>
                  <a:pt x="1753" y="1080"/>
                </a:lnTo>
                <a:lnTo>
                  <a:pt x="1759" y="1074"/>
                </a:lnTo>
                <a:lnTo>
                  <a:pt x="1759" y="1068"/>
                </a:lnTo>
                <a:lnTo>
                  <a:pt x="1765" y="1062"/>
                </a:lnTo>
                <a:lnTo>
                  <a:pt x="1771" y="1050"/>
                </a:lnTo>
                <a:lnTo>
                  <a:pt x="1771" y="1038"/>
                </a:lnTo>
                <a:lnTo>
                  <a:pt x="1777" y="1020"/>
                </a:lnTo>
                <a:lnTo>
                  <a:pt x="1777" y="0"/>
                </a:lnTo>
                <a:lnTo>
                  <a:pt x="1783" y="1140"/>
                </a:lnTo>
              </a:path>
            </a:pathLst>
          </a:custGeom>
          <a:solidFill>
            <a:srgbClr val="3333cc"/>
          </a:solidFill>
          <a:ln w="19080">
            <a:solidFill>
              <a:srgbClr val="00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884160" y="2370240"/>
            <a:ext cx="2068560" cy="1714320"/>
          </a:xfrm>
          <a:custGeom>
            <a:avLst/>
            <a:gdLst/>
            <a:ahLst/>
            <a:rect l="l" t="t" r="r" b="b"/>
            <a:pathLst>
              <a:path w="1783" h="1140">
                <a:moveTo>
                  <a:pt x="0" y="1128"/>
                </a:moveTo>
                <a:lnTo>
                  <a:pt x="0" y="1128"/>
                </a:lnTo>
                <a:lnTo>
                  <a:pt x="6" y="1128"/>
                </a:lnTo>
                <a:lnTo>
                  <a:pt x="12" y="1128"/>
                </a:lnTo>
                <a:lnTo>
                  <a:pt x="18" y="1128"/>
                </a:lnTo>
                <a:lnTo>
                  <a:pt x="24" y="1128"/>
                </a:lnTo>
                <a:lnTo>
                  <a:pt x="30" y="1128"/>
                </a:lnTo>
                <a:lnTo>
                  <a:pt x="36" y="1128"/>
                </a:lnTo>
                <a:lnTo>
                  <a:pt x="42" y="1128"/>
                </a:lnTo>
                <a:lnTo>
                  <a:pt x="48" y="1128"/>
                </a:lnTo>
                <a:lnTo>
                  <a:pt x="54" y="1128"/>
                </a:lnTo>
                <a:lnTo>
                  <a:pt x="60" y="1128"/>
                </a:lnTo>
                <a:lnTo>
                  <a:pt x="66" y="1128"/>
                </a:lnTo>
                <a:lnTo>
                  <a:pt x="72" y="1128"/>
                </a:lnTo>
                <a:lnTo>
                  <a:pt x="78" y="1128"/>
                </a:lnTo>
                <a:lnTo>
                  <a:pt x="84" y="1128"/>
                </a:lnTo>
                <a:lnTo>
                  <a:pt x="90" y="1128"/>
                </a:lnTo>
                <a:lnTo>
                  <a:pt x="96" y="1128"/>
                </a:lnTo>
                <a:lnTo>
                  <a:pt x="102" y="1128"/>
                </a:lnTo>
                <a:lnTo>
                  <a:pt x="108" y="1128"/>
                </a:lnTo>
                <a:lnTo>
                  <a:pt x="114" y="1128"/>
                </a:lnTo>
                <a:lnTo>
                  <a:pt x="120" y="1128"/>
                </a:lnTo>
                <a:lnTo>
                  <a:pt x="126" y="1128"/>
                </a:lnTo>
                <a:lnTo>
                  <a:pt x="132" y="1128"/>
                </a:lnTo>
                <a:lnTo>
                  <a:pt x="138" y="1128"/>
                </a:lnTo>
                <a:lnTo>
                  <a:pt x="144" y="1128"/>
                </a:lnTo>
                <a:lnTo>
                  <a:pt x="150" y="1128"/>
                </a:lnTo>
                <a:lnTo>
                  <a:pt x="156" y="1128"/>
                </a:lnTo>
                <a:lnTo>
                  <a:pt x="162" y="1128"/>
                </a:lnTo>
                <a:lnTo>
                  <a:pt x="168" y="1128"/>
                </a:lnTo>
                <a:lnTo>
                  <a:pt x="174" y="1128"/>
                </a:lnTo>
                <a:lnTo>
                  <a:pt x="180" y="1128"/>
                </a:lnTo>
                <a:lnTo>
                  <a:pt x="186" y="1128"/>
                </a:lnTo>
                <a:lnTo>
                  <a:pt x="192" y="1128"/>
                </a:lnTo>
                <a:lnTo>
                  <a:pt x="198" y="1128"/>
                </a:lnTo>
                <a:lnTo>
                  <a:pt x="204" y="1128"/>
                </a:lnTo>
                <a:lnTo>
                  <a:pt x="210" y="1128"/>
                </a:lnTo>
                <a:lnTo>
                  <a:pt x="216" y="1128"/>
                </a:lnTo>
                <a:lnTo>
                  <a:pt x="222" y="1128"/>
                </a:lnTo>
                <a:lnTo>
                  <a:pt x="228" y="1128"/>
                </a:lnTo>
                <a:lnTo>
                  <a:pt x="234" y="1128"/>
                </a:lnTo>
                <a:lnTo>
                  <a:pt x="240" y="1128"/>
                </a:lnTo>
                <a:lnTo>
                  <a:pt x="246" y="1128"/>
                </a:lnTo>
                <a:lnTo>
                  <a:pt x="252" y="1128"/>
                </a:lnTo>
                <a:lnTo>
                  <a:pt x="258" y="1128"/>
                </a:lnTo>
                <a:lnTo>
                  <a:pt x="264" y="1128"/>
                </a:lnTo>
                <a:lnTo>
                  <a:pt x="270" y="1128"/>
                </a:lnTo>
                <a:lnTo>
                  <a:pt x="276" y="1128"/>
                </a:lnTo>
                <a:lnTo>
                  <a:pt x="282" y="1128"/>
                </a:lnTo>
                <a:lnTo>
                  <a:pt x="288" y="1128"/>
                </a:lnTo>
                <a:lnTo>
                  <a:pt x="294" y="1128"/>
                </a:lnTo>
                <a:lnTo>
                  <a:pt x="300" y="1128"/>
                </a:lnTo>
                <a:lnTo>
                  <a:pt x="306" y="1128"/>
                </a:lnTo>
                <a:lnTo>
                  <a:pt x="312" y="1128"/>
                </a:lnTo>
                <a:lnTo>
                  <a:pt x="318" y="1128"/>
                </a:lnTo>
                <a:lnTo>
                  <a:pt x="324" y="1128"/>
                </a:lnTo>
                <a:lnTo>
                  <a:pt x="330" y="1128"/>
                </a:lnTo>
                <a:lnTo>
                  <a:pt x="336" y="1128"/>
                </a:lnTo>
                <a:lnTo>
                  <a:pt x="342" y="1128"/>
                </a:lnTo>
                <a:lnTo>
                  <a:pt x="348" y="1128"/>
                </a:lnTo>
                <a:lnTo>
                  <a:pt x="354" y="1128"/>
                </a:lnTo>
                <a:lnTo>
                  <a:pt x="360" y="1128"/>
                </a:lnTo>
                <a:lnTo>
                  <a:pt x="366" y="1128"/>
                </a:lnTo>
                <a:lnTo>
                  <a:pt x="372" y="1128"/>
                </a:lnTo>
                <a:lnTo>
                  <a:pt x="378" y="1128"/>
                </a:lnTo>
                <a:lnTo>
                  <a:pt x="384" y="1128"/>
                </a:lnTo>
                <a:lnTo>
                  <a:pt x="390" y="1128"/>
                </a:lnTo>
                <a:lnTo>
                  <a:pt x="396" y="1128"/>
                </a:lnTo>
                <a:lnTo>
                  <a:pt x="402" y="1128"/>
                </a:lnTo>
                <a:lnTo>
                  <a:pt x="408" y="1128"/>
                </a:lnTo>
                <a:lnTo>
                  <a:pt x="414" y="1128"/>
                </a:lnTo>
                <a:lnTo>
                  <a:pt x="420" y="1128"/>
                </a:lnTo>
                <a:lnTo>
                  <a:pt x="426" y="1128"/>
                </a:lnTo>
                <a:lnTo>
                  <a:pt x="432" y="1128"/>
                </a:lnTo>
                <a:lnTo>
                  <a:pt x="438" y="1128"/>
                </a:lnTo>
                <a:lnTo>
                  <a:pt x="444" y="1128"/>
                </a:lnTo>
                <a:lnTo>
                  <a:pt x="450" y="1128"/>
                </a:lnTo>
                <a:lnTo>
                  <a:pt x="456" y="1128"/>
                </a:lnTo>
                <a:lnTo>
                  <a:pt x="462" y="1128"/>
                </a:lnTo>
                <a:lnTo>
                  <a:pt x="468" y="1128"/>
                </a:lnTo>
                <a:lnTo>
                  <a:pt x="474" y="1128"/>
                </a:lnTo>
                <a:lnTo>
                  <a:pt x="480" y="1128"/>
                </a:lnTo>
                <a:lnTo>
                  <a:pt x="486" y="1128"/>
                </a:lnTo>
                <a:lnTo>
                  <a:pt x="492" y="1128"/>
                </a:lnTo>
                <a:lnTo>
                  <a:pt x="498" y="1128"/>
                </a:lnTo>
                <a:lnTo>
                  <a:pt x="504" y="1128"/>
                </a:lnTo>
                <a:lnTo>
                  <a:pt x="510" y="1128"/>
                </a:lnTo>
                <a:lnTo>
                  <a:pt x="516" y="1128"/>
                </a:lnTo>
                <a:lnTo>
                  <a:pt x="522" y="1128"/>
                </a:lnTo>
                <a:lnTo>
                  <a:pt x="528" y="1128"/>
                </a:lnTo>
                <a:lnTo>
                  <a:pt x="534" y="1128"/>
                </a:lnTo>
                <a:lnTo>
                  <a:pt x="540" y="1128"/>
                </a:lnTo>
                <a:lnTo>
                  <a:pt x="546" y="1128"/>
                </a:lnTo>
                <a:lnTo>
                  <a:pt x="552" y="1128"/>
                </a:lnTo>
                <a:lnTo>
                  <a:pt x="558" y="1128"/>
                </a:lnTo>
                <a:lnTo>
                  <a:pt x="564" y="1128"/>
                </a:lnTo>
                <a:lnTo>
                  <a:pt x="570" y="1128"/>
                </a:lnTo>
                <a:lnTo>
                  <a:pt x="576" y="1128"/>
                </a:lnTo>
                <a:lnTo>
                  <a:pt x="582" y="1128"/>
                </a:lnTo>
                <a:lnTo>
                  <a:pt x="588" y="1128"/>
                </a:lnTo>
                <a:lnTo>
                  <a:pt x="594" y="1128"/>
                </a:lnTo>
                <a:lnTo>
                  <a:pt x="600" y="1128"/>
                </a:lnTo>
                <a:lnTo>
                  <a:pt x="606" y="1128"/>
                </a:lnTo>
                <a:lnTo>
                  <a:pt x="612" y="1128"/>
                </a:lnTo>
                <a:lnTo>
                  <a:pt x="618" y="1128"/>
                </a:lnTo>
                <a:lnTo>
                  <a:pt x="624" y="1128"/>
                </a:lnTo>
                <a:lnTo>
                  <a:pt x="630" y="1128"/>
                </a:lnTo>
                <a:lnTo>
                  <a:pt x="636" y="1128"/>
                </a:lnTo>
                <a:lnTo>
                  <a:pt x="642" y="1128"/>
                </a:lnTo>
                <a:lnTo>
                  <a:pt x="648" y="1128"/>
                </a:lnTo>
                <a:lnTo>
                  <a:pt x="654" y="1128"/>
                </a:lnTo>
                <a:lnTo>
                  <a:pt x="660" y="1128"/>
                </a:lnTo>
                <a:lnTo>
                  <a:pt x="666" y="1128"/>
                </a:lnTo>
                <a:lnTo>
                  <a:pt x="672" y="1128"/>
                </a:lnTo>
                <a:lnTo>
                  <a:pt x="678" y="1128"/>
                </a:lnTo>
                <a:lnTo>
                  <a:pt x="684" y="1128"/>
                </a:lnTo>
                <a:lnTo>
                  <a:pt x="690" y="1128"/>
                </a:lnTo>
                <a:lnTo>
                  <a:pt x="696" y="1128"/>
                </a:lnTo>
                <a:lnTo>
                  <a:pt x="702" y="1128"/>
                </a:lnTo>
                <a:lnTo>
                  <a:pt x="708" y="1128"/>
                </a:lnTo>
                <a:lnTo>
                  <a:pt x="714" y="1128"/>
                </a:lnTo>
                <a:lnTo>
                  <a:pt x="720" y="1128"/>
                </a:lnTo>
                <a:lnTo>
                  <a:pt x="726" y="1128"/>
                </a:lnTo>
                <a:lnTo>
                  <a:pt x="732" y="1128"/>
                </a:lnTo>
                <a:lnTo>
                  <a:pt x="738" y="1128"/>
                </a:lnTo>
                <a:lnTo>
                  <a:pt x="744" y="1128"/>
                </a:lnTo>
                <a:lnTo>
                  <a:pt x="750" y="1128"/>
                </a:lnTo>
                <a:lnTo>
                  <a:pt x="756" y="1128"/>
                </a:lnTo>
                <a:lnTo>
                  <a:pt x="762" y="1128"/>
                </a:lnTo>
                <a:lnTo>
                  <a:pt x="768" y="1128"/>
                </a:lnTo>
                <a:lnTo>
                  <a:pt x="774" y="1128"/>
                </a:lnTo>
                <a:lnTo>
                  <a:pt x="780" y="1128"/>
                </a:lnTo>
                <a:lnTo>
                  <a:pt x="786" y="1128"/>
                </a:lnTo>
                <a:lnTo>
                  <a:pt x="792" y="1128"/>
                </a:lnTo>
                <a:lnTo>
                  <a:pt x="798" y="1128"/>
                </a:lnTo>
                <a:lnTo>
                  <a:pt x="804" y="1128"/>
                </a:lnTo>
                <a:lnTo>
                  <a:pt x="810" y="1128"/>
                </a:lnTo>
                <a:lnTo>
                  <a:pt x="816" y="1128"/>
                </a:lnTo>
                <a:lnTo>
                  <a:pt x="822" y="1128"/>
                </a:lnTo>
                <a:lnTo>
                  <a:pt x="828" y="1128"/>
                </a:lnTo>
                <a:lnTo>
                  <a:pt x="834" y="1128"/>
                </a:lnTo>
                <a:lnTo>
                  <a:pt x="840" y="1128"/>
                </a:lnTo>
                <a:lnTo>
                  <a:pt x="846" y="1128"/>
                </a:lnTo>
                <a:lnTo>
                  <a:pt x="852" y="1128"/>
                </a:lnTo>
                <a:lnTo>
                  <a:pt x="858" y="1128"/>
                </a:lnTo>
                <a:lnTo>
                  <a:pt x="864" y="1128"/>
                </a:lnTo>
                <a:lnTo>
                  <a:pt x="870" y="1128"/>
                </a:lnTo>
                <a:lnTo>
                  <a:pt x="876" y="1128"/>
                </a:lnTo>
                <a:lnTo>
                  <a:pt x="882" y="1128"/>
                </a:lnTo>
                <a:lnTo>
                  <a:pt x="888" y="1128"/>
                </a:lnTo>
                <a:lnTo>
                  <a:pt x="894" y="1128"/>
                </a:lnTo>
                <a:lnTo>
                  <a:pt x="900" y="1128"/>
                </a:lnTo>
                <a:lnTo>
                  <a:pt x="906" y="1128"/>
                </a:lnTo>
                <a:lnTo>
                  <a:pt x="912" y="1128"/>
                </a:lnTo>
                <a:lnTo>
                  <a:pt x="918" y="1128"/>
                </a:lnTo>
                <a:lnTo>
                  <a:pt x="924" y="1128"/>
                </a:lnTo>
                <a:lnTo>
                  <a:pt x="930" y="1128"/>
                </a:lnTo>
                <a:lnTo>
                  <a:pt x="936" y="1128"/>
                </a:lnTo>
                <a:lnTo>
                  <a:pt x="942" y="1128"/>
                </a:lnTo>
                <a:lnTo>
                  <a:pt x="948" y="1128"/>
                </a:lnTo>
                <a:lnTo>
                  <a:pt x="954" y="1128"/>
                </a:lnTo>
                <a:lnTo>
                  <a:pt x="960" y="1128"/>
                </a:lnTo>
                <a:lnTo>
                  <a:pt x="966" y="1128"/>
                </a:lnTo>
                <a:lnTo>
                  <a:pt x="972" y="1128"/>
                </a:lnTo>
                <a:lnTo>
                  <a:pt x="978" y="1128"/>
                </a:lnTo>
                <a:lnTo>
                  <a:pt x="984" y="1128"/>
                </a:lnTo>
                <a:lnTo>
                  <a:pt x="990" y="1128"/>
                </a:lnTo>
                <a:lnTo>
                  <a:pt x="996" y="1128"/>
                </a:lnTo>
                <a:lnTo>
                  <a:pt x="1002" y="1128"/>
                </a:lnTo>
                <a:lnTo>
                  <a:pt x="1008" y="1128"/>
                </a:lnTo>
                <a:lnTo>
                  <a:pt x="1014" y="1128"/>
                </a:lnTo>
                <a:lnTo>
                  <a:pt x="1020" y="1128"/>
                </a:lnTo>
                <a:lnTo>
                  <a:pt x="1026" y="1128"/>
                </a:lnTo>
                <a:lnTo>
                  <a:pt x="1032" y="1128"/>
                </a:lnTo>
                <a:lnTo>
                  <a:pt x="1038" y="1128"/>
                </a:lnTo>
                <a:lnTo>
                  <a:pt x="1044" y="1128"/>
                </a:lnTo>
                <a:lnTo>
                  <a:pt x="1050" y="1128"/>
                </a:lnTo>
                <a:lnTo>
                  <a:pt x="1056" y="1128"/>
                </a:lnTo>
                <a:lnTo>
                  <a:pt x="1062" y="1128"/>
                </a:lnTo>
                <a:lnTo>
                  <a:pt x="1068" y="1128"/>
                </a:lnTo>
                <a:lnTo>
                  <a:pt x="1074" y="1128"/>
                </a:lnTo>
                <a:lnTo>
                  <a:pt x="1080" y="1128"/>
                </a:lnTo>
                <a:lnTo>
                  <a:pt x="1086" y="1128"/>
                </a:lnTo>
                <a:lnTo>
                  <a:pt x="1092" y="1128"/>
                </a:lnTo>
                <a:lnTo>
                  <a:pt x="1098" y="1128"/>
                </a:lnTo>
                <a:lnTo>
                  <a:pt x="1104" y="1128"/>
                </a:lnTo>
                <a:lnTo>
                  <a:pt x="1110" y="1128"/>
                </a:lnTo>
                <a:lnTo>
                  <a:pt x="1116" y="1128"/>
                </a:lnTo>
                <a:lnTo>
                  <a:pt x="1122" y="1128"/>
                </a:lnTo>
                <a:lnTo>
                  <a:pt x="1128" y="1128"/>
                </a:lnTo>
                <a:lnTo>
                  <a:pt x="1134" y="1122"/>
                </a:lnTo>
                <a:lnTo>
                  <a:pt x="1140" y="1122"/>
                </a:lnTo>
                <a:lnTo>
                  <a:pt x="1146" y="1122"/>
                </a:lnTo>
                <a:lnTo>
                  <a:pt x="1152" y="1122"/>
                </a:lnTo>
                <a:lnTo>
                  <a:pt x="1158" y="1122"/>
                </a:lnTo>
                <a:lnTo>
                  <a:pt x="1164" y="1122"/>
                </a:lnTo>
                <a:lnTo>
                  <a:pt x="1170" y="1122"/>
                </a:lnTo>
                <a:lnTo>
                  <a:pt x="1176" y="1122"/>
                </a:lnTo>
                <a:lnTo>
                  <a:pt x="1182" y="1122"/>
                </a:lnTo>
                <a:lnTo>
                  <a:pt x="1188" y="1122"/>
                </a:lnTo>
                <a:lnTo>
                  <a:pt x="1194" y="1122"/>
                </a:lnTo>
                <a:lnTo>
                  <a:pt x="1200" y="1122"/>
                </a:lnTo>
                <a:lnTo>
                  <a:pt x="1206" y="1122"/>
                </a:lnTo>
                <a:lnTo>
                  <a:pt x="1212" y="1122"/>
                </a:lnTo>
                <a:lnTo>
                  <a:pt x="1218" y="1122"/>
                </a:lnTo>
                <a:lnTo>
                  <a:pt x="1224" y="1122"/>
                </a:lnTo>
                <a:lnTo>
                  <a:pt x="1230" y="1122"/>
                </a:lnTo>
                <a:lnTo>
                  <a:pt x="1236" y="1122"/>
                </a:lnTo>
                <a:lnTo>
                  <a:pt x="1242" y="1122"/>
                </a:lnTo>
                <a:lnTo>
                  <a:pt x="1248" y="1122"/>
                </a:lnTo>
                <a:lnTo>
                  <a:pt x="1254" y="1122"/>
                </a:lnTo>
                <a:lnTo>
                  <a:pt x="1260" y="1122"/>
                </a:lnTo>
                <a:lnTo>
                  <a:pt x="1266" y="1122"/>
                </a:lnTo>
                <a:lnTo>
                  <a:pt x="1272" y="1122"/>
                </a:lnTo>
                <a:lnTo>
                  <a:pt x="1278" y="1122"/>
                </a:lnTo>
                <a:lnTo>
                  <a:pt x="1284" y="1122"/>
                </a:lnTo>
                <a:lnTo>
                  <a:pt x="1290" y="1122"/>
                </a:lnTo>
                <a:lnTo>
                  <a:pt x="1296" y="1122"/>
                </a:lnTo>
                <a:lnTo>
                  <a:pt x="1302" y="1122"/>
                </a:lnTo>
                <a:lnTo>
                  <a:pt x="1308" y="1122"/>
                </a:lnTo>
                <a:lnTo>
                  <a:pt x="1314" y="1122"/>
                </a:lnTo>
                <a:lnTo>
                  <a:pt x="1320" y="1122"/>
                </a:lnTo>
                <a:lnTo>
                  <a:pt x="1326" y="1122"/>
                </a:lnTo>
                <a:lnTo>
                  <a:pt x="1332" y="1122"/>
                </a:lnTo>
                <a:lnTo>
                  <a:pt x="1338" y="1122"/>
                </a:lnTo>
                <a:lnTo>
                  <a:pt x="1344" y="1122"/>
                </a:lnTo>
                <a:lnTo>
                  <a:pt x="1350" y="1122"/>
                </a:lnTo>
                <a:lnTo>
                  <a:pt x="1356" y="1122"/>
                </a:lnTo>
                <a:lnTo>
                  <a:pt x="1362" y="1122"/>
                </a:lnTo>
                <a:lnTo>
                  <a:pt x="1368" y="1122"/>
                </a:lnTo>
                <a:lnTo>
                  <a:pt x="1374" y="1122"/>
                </a:lnTo>
                <a:lnTo>
                  <a:pt x="1380" y="1122"/>
                </a:lnTo>
                <a:lnTo>
                  <a:pt x="1386" y="1122"/>
                </a:lnTo>
                <a:lnTo>
                  <a:pt x="1392" y="1122"/>
                </a:lnTo>
                <a:lnTo>
                  <a:pt x="1398" y="1122"/>
                </a:lnTo>
                <a:lnTo>
                  <a:pt x="1404" y="1122"/>
                </a:lnTo>
                <a:lnTo>
                  <a:pt x="1410" y="1122"/>
                </a:lnTo>
                <a:lnTo>
                  <a:pt x="1416" y="1122"/>
                </a:lnTo>
                <a:lnTo>
                  <a:pt x="1422" y="1122"/>
                </a:lnTo>
                <a:lnTo>
                  <a:pt x="1428" y="1122"/>
                </a:lnTo>
                <a:lnTo>
                  <a:pt x="1434" y="1122"/>
                </a:lnTo>
                <a:lnTo>
                  <a:pt x="1440" y="1122"/>
                </a:lnTo>
                <a:lnTo>
                  <a:pt x="1446" y="1122"/>
                </a:lnTo>
                <a:lnTo>
                  <a:pt x="1452" y="1122"/>
                </a:lnTo>
                <a:lnTo>
                  <a:pt x="1458" y="1122"/>
                </a:lnTo>
                <a:lnTo>
                  <a:pt x="1464" y="1122"/>
                </a:lnTo>
                <a:lnTo>
                  <a:pt x="1470" y="1122"/>
                </a:lnTo>
                <a:lnTo>
                  <a:pt x="1476" y="1122"/>
                </a:lnTo>
                <a:lnTo>
                  <a:pt x="1482" y="1122"/>
                </a:lnTo>
                <a:lnTo>
                  <a:pt x="1488" y="1116"/>
                </a:lnTo>
                <a:lnTo>
                  <a:pt x="1494" y="1116"/>
                </a:lnTo>
                <a:lnTo>
                  <a:pt x="1500" y="1116"/>
                </a:lnTo>
                <a:lnTo>
                  <a:pt x="1506" y="1116"/>
                </a:lnTo>
                <a:lnTo>
                  <a:pt x="1512" y="1116"/>
                </a:lnTo>
                <a:lnTo>
                  <a:pt x="1518" y="1116"/>
                </a:lnTo>
                <a:lnTo>
                  <a:pt x="1524" y="1116"/>
                </a:lnTo>
                <a:lnTo>
                  <a:pt x="1530" y="1116"/>
                </a:lnTo>
                <a:lnTo>
                  <a:pt x="1536" y="1116"/>
                </a:lnTo>
                <a:lnTo>
                  <a:pt x="1542" y="1116"/>
                </a:lnTo>
                <a:lnTo>
                  <a:pt x="1548" y="1116"/>
                </a:lnTo>
                <a:lnTo>
                  <a:pt x="1554" y="1116"/>
                </a:lnTo>
                <a:lnTo>
                  <a:pt x="1561" y="1116"/>
                </a:lnTo>
                <a:lnTo>
                  <a:pt x="1567" y="1116"/>
                </a:lnTo>
                <a:lnTo>
                  <a:pt x="1573" y="1116"/>
                </a:lnTo>
                <a:lnTo>
                  <a:pt x="1579" y="1116"/>
                </a:lnTo>
                <a:lnTo>
                  <a:pt x="1585" y="1116"/>
                </a:lnTo>
                <a:lnTo>
                  <a:pt x="1591" y="1116"/>
                </a:lnTo>
                <a:lnTo>
                  <a:pt x="1597" y="1116"/>
                </a:lnTo>
                <a:lnTo>
                  <a:pt x="1603" y="1116"/>
                </a:lnTo>
                <a:lnTo>
                  <a:pt x="1609" y="1116"/>
                </a:lnTo>
                <a:lnTo>
                  <a:pt x="1615" y="1110"/>
                </a:lnTo>
                <a:lnTo>
                  <a:pt x="1621" y="1110"/>
                </a:lnTo>
                <a:lnTo>
                  <a:pt x="1627" y="1110"/>
                </a:lnTo>
                <a:lnTo>
                  <a:pt x="1633" y="1110"/>
                </a:lnTo>
                <a:lnTo>
                  <a:pt x="1639" y="1110"/>
                </a:lnTo>
                <a:lnTo>
                  <a:pt x="1645" y="1110"/>
                </a:lnTo>
                <a:lnTo>
                  <a:pt x="1651" y="1110"/>
                </a:lnTo>
                <a:lnTo>
                  <a:pt x="1657" y="1110"/>
                </a:lnTo>
                <a:lnTo>
                  <a:pt x="1663" y="1110"/>
                </a:lnTo>
                <a:lnTo>
                  <a:pt x="1669" y="1110"/>
                </a:lnTo>
                <a:lnTo>
                  <a:pt x="1675" y="1104"/>
                </a:lnTo>
                <a:lnTo>
                  <a:pt x="1681" y="1104"/>
                </a:lnTo>
                <a:lnTo>
                  <a:pt x="1687" y="1104"/>
                </a:lnTo>
                <a:lnTo>
                  <a:pt x="1693" y="1104"/>
                </a:lnTo>
                <a:lnTo>
                  <a:pt x="1699" y="1104"/>
                </a:lnTo>
                <a:lnTo>
                  <a:pt x="1705" y="1104"/>
                </a:lnTo>
                <a:lnTo>
                  <a:pt x="1711" y="1098"/>
                </a:lnTo>
                <a:lnTo>
                  <a:pt x="1717" y="1098"/>
                </a:lnTo>
                <a:lnTo>
                  <a:pt x="1723" y="1098"/>
                </a:lnTo>
                <a:lnTo>
                  <a:pt x="1729" y="1092"/>
                </a:lnTo>
                <a:lnTo>
                  <a:pt x="1735" y="1092"/>
                </a:lnTo>
                <a:lnTo>
                  <a:pt x="1741" y="1086"/>
                </a:lnTo>
                <a:lnTo>
                  <a:pt x="1747" y="1086"/>
                </a:lnTo>
                <a:lnTo>
                  <a:pt x="1753" y="1080"/>
                </a:lnTo>
                <a:lnTo>
                  <a:pt x="1759" y="1074"/>
                </a:lnTo>
                <a:lnTo>
                  <a:pt x="1759" y="1068"/>
                </a:lnTo>
                <a:lnTo>
                  <a:pt x="1765" y="1062"/>
                </a:lnTo>
                <a:lnTo>
                  <a:pt x="1771" y="1050"/>
                </a:lnTo>
                <a:lnTo>
                  <a:pt x="1771" y="1038"/>
                </a:lnTo>
                <a:lnTo>
                  <a:pt x="1777" y="1020"/>
                </a:lnTo>
                <a:lnTo>
                  <a:pt x="1777" y="0"/>
                </a:lnTo>
                <a:lnTo>
                  <a:pt x="1783" y="1140"/>
                </a:lnTo>
              </a:path>
            </a:pathLst>
          </a:custGeom>
          <a:solidFill>
            <a:srgbClr val="3333cc"/>
          </a:solid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74308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B4A1-D6E4-4FFE-8C9D-DCFA33E3662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E2D4F-A2B2-4E6B-B419-8B2341D54929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1874880" y="163440"/>
            <a:ext cx="23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Observation in uniform f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pict10" descr=""/>
          <p:cNvPicPr/>
          <p:nvPr/>
        </p:nvPicPr>
        <p:blipFill>
          <a:blip r:embed="rId2"/>
          <a:stretch/>
        </p:blipFill>
        <p:spPr>
          <a:xfrm>
            <a:off x="4692600" y="920880"/>
            <a:ext cx="3948120" cy="207468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8312040" y="2289240"/>
            <a:ext cx="0" cy="1235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351400" y="2289240"/>
            <a:ext cx="0" cy="107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568840" y="2289240"/>
            <a:ext cx="0" cy="1035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843520" y="2289240"/>
            <a:ext cx="9720" cy="107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6108840" y="2289240"/>
            <a:ext cx="9360" cy="1035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92880" y="2289240"/>
            <a:ext cx="0" cy="1035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667560" y="2289240"/>
            <a:ext cx="0" cy="1006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940440" y="2289240"/>
            <a:ext cx="0" cy="1035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215120" y="2289240"/>
            <a:ext cx="0" cy="996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489800" y="2289240"/>
            <a:ext cx="0" cy="1054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764480" y="2289240"/>
            <a:ext cx="0" cy="102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8028000" y="2289240"/>
            <a:ext cx="9360" cy="1035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130720" y="345924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402160" y="3459240"/>
            <a:ext cx="3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626080" y="3459240"/>
            <a:ext cx="3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954760" y="3478320"/>
            <a:ext cx="3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227640" y="3459240"/>
            <a:ext cx="3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502320" y="3459240"/>
            <a:ext cx="3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777000" y="3459240"/>
            <a:ext cx="3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051680" y="3459240"/>
            <a:ext cx="3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324560" y="3459240"/>
            <a:ext cx="3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99240" y="3459240"/>
            <a:ext cx="3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873920" y="3459240"/>
            <a:ext cx="3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8148600" y="3459240"/>
            <a:ext cx="3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7720" y="3311640"/>
            <a:ext cx="31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408280" y="33037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05280" y="3298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979960" y="32828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284880" y="3298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576840" y="3259080"/>
            <a:ext cx="23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833880" y="3298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107120" y="3274920"/>
            <a:ext cx="2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348320" y="3298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597440" y="3298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871760" y="3298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202600" y="3274920"/>
            <a:ext cx="274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122800" y="833400"/>
            <a:ext cx="2350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9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43480" y="1582560"/>
            <a:ext cx="2332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568840" y="1141560"/>
            <a:ext cx="111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nly two unstable m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644920" y="1228680"/>
            <a:ext cx="3948120" cy="4763520"/>
            <a:chOff x="2644920" y="1228680"/>
            <a:chExt cx="3948120" cy="4763520"/>
          </a:xfrm>
        </p:grpSpPr>
        <p:grpSp>
          <p:nvGrpSpPr>
            <p:cNvPr id="1165" name=""/>
            <p:cNvGrpSpPr/>
            <p:nvPr/>
          </p:nvGrpSpPr>
          <p:grpSpPr>
            <a:xfrm>
              <a:off x="2644920" y="3808440"/>
              <a:ext cx="3948120" cy="2183760"/>
              <a:chOff x="2644920" y="3808440"/>
              <a:chExt cx="3948120" cy="2183760"/>
            </a:xfrm>
          </p:grpSpPr>
          <p:pic>
            <p:nvPicPr>
              <p:cNvPr id="1166" name="pict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644920" y="3808440"/>
                <a:ext cx="3948120" cy="20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7" name=""/>
              <p:cNvSpPr/>
              <p:nvPr/>
            </p:nvSpPr>
            <p:spPr>
              <a:xfrm>
                <a:off x="3678120" y="4071960"/>
                <a:ext cx="235080" cy="641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Times New Roman"/>
                  </a:rPr>
                  <a:t>9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267160" y="4294080"/>
                <a:ext cx="235080" cy="641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Times New Roman"/>
                  </a:rPr>
                  <a:t>9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290840" y="4559400"/>
                <a:ext cx="382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F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40280" y="46465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934240" y="4646520"/>
                <a:ext cx="384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F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849840" y="3902040"/>
                <a:ext cx="219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003640" y="4691160"/>
                <a:ext cx="5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113440" y="4029120"/>
                <a:ext cx="0" cy="66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935600" y="4116240"/>
                <a:ext cx="2332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30 d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439960" y="4183200"/>
                <a:ext cx="77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hiv=0.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887640" y="5400720"/>
                <a:ext cx="146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305240" y="5532480"/>
                <a:ext cx="6922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9" name=""/>
            <p:cNvSpPr/>
            <p:nvPr/>
          </p:nvSpPr>
          <p:spPr>
            <a:xfrm>
              <a:off x="4923000" y="1228680"/>
              <a:ext cx="766440" cy="1677960"/>
            </a:xfrm>
            <a:prstGeom prst="wedgeEllipseCallout">
              <a:avLst>
                <a:gd name="adj1" fmla="val -80435"/>
                <a:gd name="adj2" fmla="val 109791"/>
              </a:avLst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0" name=""/>
          <p:cNvSpPr/>
          <p:nvPr/>
        </p:nvSpPr>
        <p:spPr>
          <a:xfrm>
            <a:off x="4981680" y="533520"/>
            <a:ext cx="2135160" cy="2000160"/>
          </a:xfrm>
          <a:custGeom>
            <a:avLst/>
            <a:gdLst/>
            <a:ahLst/>
            <a:rect l="l" t="t" r="r" b="b"/>
            <a:pathLst>
              <a:path w="1345" h="1260">
                <a:moveTo>
                  <a:pt x="0" y="0"/>
                </a:moveTo>
                <a:cubicBezTo>
                  <a:pt x="59" y="257"/>
                  <a:pt x="119" y="514"/>
                  <a:pt x="210" y="690"/>
                </a:cubicBezTo>
                <a:cubicBezTo>
                  <a:pt x="301" y="866"/>
                  <a:pt x="375" y="965"/>
                  <a:pt x="546" y="1056"/>
                </a:cubicBezTo>
                <a:cubicBezTo>
                  <a:pt x="717" y="1147"/>
                  <a:pt x="1127" y="1212"/>
                  <a:pt x="1236" y="1236"/>
                </a:cubicBezTo>
                <a:cubicBezTo>
                  <a:pt x="1345" y="1260"/>
                  <a:pt x="1205" y="1205"/>
                  <a:pt x="1200" y="12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857520" y="933480"/>
            <a:ext cx="3441600" cy="4468680"/>
            <a:chOff x="857520" y="933480"/>
            <a:chExt cx="3441600" cy="4468680"/>
          </a:xfrm>
        </p:grpSpPr>
        <p:grpSp>
          <p:nvGrpSpPr>
            <p:cNvPr id="1182" name=""/>
            <p:cNvGrpSpPr/>
            <p:nvPr/>
          </p:nvGrpSpPr>
          <p:grpSpPr>
            <a:xfrm>
              <a:off x="857520" y="1228680"/>
              <a:ext cx="3231720" cy="2743200"/>
              <a:chOff x="857520" y="1228680"/>
              <a:chExt cx="3231720" cy="2743200"/>
            </a:xfrm>
          </p:grpSpPr>
          <p:pic>
            <p:nvPicPr>
              <p:cNvPr id="1183" name="I150_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85600" y="1228680"/>
                <a:ext cx="3203640" cy="274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84" name=""/>
              <p:cNvGrpSpPr/>
              <p:nvPr/>
            </p:nvGrpSpPr>
            <p:grpSpPr>
              <a:xfrm>
                <a:off x="857520" y="1418400"/>
                <a:ext cx="2563200" cy="1880640"/>
                <a:chOff x="857520" y="1418400"/>
                <a:chExt cx="2563200" cy="1880640"/>
              </a:xfrm>
            </p:grpSpPr>
            <p:sp>
              <p:nvSpPr>
                <p:cNvPr id="1185" name=""/>
                <p:cNvSpPr/>
                <p:nvPr/>
              </p:nvSpPr>
              <p:spPr>
                <a:xfrm rot="16219200">
                  <a:off x="1656360" y="1711440"/>
                  <a:ext cx="6714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ode 0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rot="16225800">
                  <a:off x="2118240" y="1646640"/>
                  <a:ext cx="731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ode -1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209240" y="2224080"/>
                  <a:ext cx="83520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Red: Chi V =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544480" y="2224080"/>
                  <a:ext cx="87624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ff"/>
                      </a:solidFill>
                      <a:latin typeface="Times New Roman"/>
                    </a:rPr>
                    <a:t>Blue: Chi V =0.3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2001600" y="2428920"/>
                  <a:ext cx="458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2085480" y="2122560"/>
                  <a:ext cx="2923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F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126800" y="2173320"/>
                  <a:ext cx="0" cy="1125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 rot="16161000">
                  <a:off x="615960" y="2436480"/>
                  <a:ext cx="79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0 d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3" name=""/>
            <p:cNvSpPr/>
            <p:nvPr/>
          </p:nvSpPr>
          <p:spPr>
            <a:xfrm>
              <a:off x="3532320" y="3724200"/>
              <a:ext cx="766800" cy="1677960"/>
            </a:xfrm>
            <a:prstGeom prst="wedgeEllipseCallout">
              <a:avLst>
                <a:gd name="adj1" fmla="val -214597"/>
                <a:gd name="adj2" fmla="val -96828"/>
              </a:avLst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704960" y="933480"/>
              <a:ext cx="11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Mode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"/>
          <p:cNvSpPr/>
          <p:nvPr/>
        </p:nvSpPr>
        <p:spPr>
          <a:xfrm>
            <a:off x="6877080" y="1209600"/>
            <a:ext cx="13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iform F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14280" y="3876840"/>
            <a:ext cx="194796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Chroma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74308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E513-9DFE-4B6F-A837-994DA1A1F4A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E0946-17F7-4B31-999A-265480BC3B4E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8" name=""/>
          <p:cNvGraphicFramePr/>
          <p:nvPr/>
        </p:nvGraphicFramePr>
        <p:xfrm>
          <a:off x="357120" y="382680"/>
          <a:ext cx="4805280" cy="468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20" y="382680"/>
                    <a:ext cx="480528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0" name=""/>
          <p:cNvSpPr/>
          <p:nvPr/>
        </p:nvSpPr>
        <p:spPr>
          <a:xfrm rot="45000">
            <a:off x="3695400" y="321768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20 dB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49440" y="5429160"/>
            <a:ext cx="4542480" cy="580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uniform filling,  RW is  a rather smooth instabilit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criteria for the threshold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2" name="pict13" descr=""/>
          <p:cNvPicPr/>
          <p:nvPr/>
        </p:nvPicPr>
        <p:blipFill>
          <a:blip r:embed="rId4"/>
          <a:stretch/>
        </p:blipFill>
        <p:spPr>
          <a:xfrm>
            <a:off x="5429160" y="382680"/>
            <a:ext cx="3103560" cy="207468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6078600" y="604800"/>
            <a:ext cx="603360" cy="1677960"/>
          </a:xfrm>
          <a:prstGeom prst="wedgeEllipseCallout">
            <a:avLst>
              <a:gd name="adj1" fmla="val -499208"/>
              <a:gd name="adj2" fmla="val -10736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168960" y="738360"/>
            <a:ext cx="1843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9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238400" y="371520"/>
            <a:ext cx="1218960" cy="106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pled bunch mode 991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rot="18442800">
            <a:off x="1190880" y="26668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ode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rot="18026400">
            <a:off x="2181600" y="163800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Mode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rot="18026400">
            <a:off x="2438640" y="76176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Mode 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1584360" y="2781360"/>
            <a:ext cx="7359480" cy="2968200"/>
            <a:chOff x="1584360" y="2781360"/>
            <a:chExt cx="7359480" cy="2968200"/>
          </a:xfrm>
        </p:grpSpPr>
        <p:grpSp>
          <p:nvGrpSpPr>
            <p:cNvPr id="1210" name=""/>
            <p:cNvGrpSpPr/>
            <p:nvPr/>
          </p:nvGrpSpPr>
          <p:grpSpPr>
            <a:xfrm>
              <a:off x="5029200" y="2781360"/>
              <a:ext cx="3914640" cy="2968200"/>
              <a:chOff x="5029200" y="2781360"/>
              <a:chExt cx="3914640" cy="2968200"/>
            </a:xfrm>
          </p:grpSpPr>
          <p:graphicFrame>
            <p:nvGraphicFramePr>
              <p:cNvPr id="1211" name=""/>
              <p:cNvGraphicFramePr/>
              <p:nvPr/>
            </p:nvGraphicFramePr>
            <p:xfrm>
              <a:off x="5029200" y="2871720"/>
              <a:ext cx="3914640" cy="2390760"/>
            </p:xfrm>
            <a:graphic>
              <a:graphicData uri="http://schemas.openxmlformats.org/presentationml/2006/ole">
                <p:oleObj progId="Excel.Sheet.12" r:id="rId5" spid="">
                  <p:embed/>
                  <p:pic>
                    <p:nvPicPr>
                      <p:cNvPr id="121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029200" y="2871720"/>
                        <a:ext cx="3914640" cy="2390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13" name=""/>
              <p:cNvSpPr/>
              <p:nvPr/>
            </p:nvSpPr>
            <p:spPr>
              <a:xfrm>
                <a:off x="6162840" y="5229360"/>
                <a:ext cx="2600280" cy="52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ulti: n = 991  I= 50 mA</a:t>
                </a:r>
                <a:br>
                  <a:rPr sz="1400"/>
                </a:b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==&gt; single : m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400800" y="2781360"/>
                <a:ext cx="0" cy="2266920"/>
              </a:xfrm>
              <a:prstGeom prst="line">
                <a:avLst/>
              </a:prstGeom>
              <a:ln w="7632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105600" y="4962600"/>
                <a:ext cx="56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</a:rPr>
                  <a:t>0.1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705720" y="2857680"/>
                <a:ext cx="1771560" cy="70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Vertical emit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blow u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7" name=""/>
            <p:cNvSpPr/>
            <p:nvPr/>
          </p:nvSpPr>
          <p:spPr>
            <a:xfrm>
              <a:off x="1584360" y="3224160"/>
              <a:ext cx="222120" cy="476280"/>
            </a:xfrm>
            <a:prstGeom prst="wedgeEllipseCallout">
              <a:avLst>
                <a:gd name="adj1" fmla="val 1574287"/>
                <a:gd name="adj2" fmla="val 134666"/>
              </a:avLst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574344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629080" y="190440"/>
            <a:ext cx="1939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iform f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0B58-0561-4A4C-80E0-2AE1AAAE02B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BEA60-DB78-4934-980C-1CE3C7F80B78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0" name=""/>
          <p:cNvGraphicFramePr/>
          <p:nvPr/>
        </p:nvGraphicFramePr>
        <p:xfrm>
          <a:off x="2546280" y="692280"/>
          <a:ext cx="3853080" cy="277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6280" y="692280"/>
                    <a:ext cx="385308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2" name=""/>
          <p:cNvSpPr/>
          <p:nvPr/>
        </p:nvSpPr>
        <p:spPr>
          <a:xfrm flipV="1">
            <a:off x="3086280" y="2790720"/>
            <a:ext cx="1218960" cy="381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4305240" y="2733840"/>
            <a:ext cx="1238400" cy="475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5543640" y="2704680"/>
            <a:ext cx="552240" cy="1908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143240" y="2705040"/>
            <a:ext cx="352440" cy="2095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362560" y="2638440"/>
            <a:ext cx="352440" cy="2095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838840" y="2581200"/>
            <a:ext cx="352440" cy="2095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353200" y="2162160"/>
            <a:ext cx="352440" cy="2095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029040" y="2819520"/>
            <a:ext cx="285840" cy="95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3095640" y="2676600"/>
            <a:ext cx="1190520" cy="123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4419720" y="2228760"/>
            <a:ext cx="1209600" cy="44784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5553000" y="1228680"/>
            <a:ext cx="381240" cy="94320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5533920" y="905040"/>
            <a:ext cx="561960" cy="11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4314960" y="2114280"/>
            <a:ext cx="1162080" cy="571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533760" y="1676520"/>
            <a:ext cx="158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ack is the measured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74344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9941-4DE8-470E-9D8A-8201EBA5B79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E1192-487A-4EC8-A30C-2DB105FC8FDB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7" name=""/>
          <p:cNvGraphicFramePr/>
          <p:nvPr/>
        </p:nvGraphicFramePr>
        <p:xfrm>
          <a:off x="2546280" y="692280"/>
          <a:ext cx="3853080" cy="277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6280" y="692280"/>
                    <a:ext cx="385308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9" name=""/>
          <p:cNvSpPr/>
          <p:nvPr/>
        </p:nvSpPr>
        <p:spPr>
          <a:xfrm>
            <a:off x="198360" y="866880"/>
            <a:ext cx="2105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t of the threshold curve of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mode 99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 uniform f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=&gt; simulation of the interaction of the beam spectrum with an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42080" y="539640"/>
            <a:ext cx="218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Resistive wall only,  largely underestimates the threshold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5151600" y="1280880"/>
            <a:ext cx="1811160" cy="14158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3086280" y="2790720"/>
            <a:ext cx="1218960" cy="38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4305240" y="2733840"/>
            <a:ext cx="1238400" cy="47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543640" y="2704680"/>
            <a:ext cx="552240" cy="19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3009960" y="2695320"/>
            <a:ext cx="1257120" cy="1141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4248000" y="2247840"/>
            <a:ext cx="1362240" cy="48600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5524560" y="904680"/>
            <a:ext cx="542880" cy="135252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3057480" y="2685960"/>
            <a:ext cx="1190520" cy="12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4314960" y="2104920"/>
            <a:ext cx="1218960" cy="54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5543640" y="885600"/>
            <a:ext cx="59040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353200" y="2190600"/>
            <a:ext cx="228600" cy="2286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74344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BF3-BB1E-44AC-8604-292F1B9B396C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6E8B7-CF1F-4E1D-9F3A-8065C43996B9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838080" y="3228840"/>
            <a:ext cx="8077320" cy="2886120"/>
            <a:chOff x="838080" y="3228840"/>
            <a:chExt cx="8077320" cy="2886120"/>
          </a:xfrm>
        </p:grpSpPr>
        <p:sp>
          <p:nvSpPr>
            <p:cNvPr id="46" name=""/>
            <p:cNvSpPr/>
            <p:nvPr/>
          </p:nvSpPr>
          <p:spPr>
            <a:xfrm>
              <a:off x="5076720" y="4876920"/>
              <a:ext cx="3810240" cy="108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981840" y="486720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067360" y="3228840"/>
              <a:ext cx="3848040" cy="1257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8080" y="4857840"/>
              <a:ext cx="3762360" cy="1257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81000" y="3267000"/>
              <a:ext cx="3638520" cy="132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81160" y="360036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Longitudinal Si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24560" y="35053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Transverse Si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810400" y="5334120"/>
              <a:ext cx="255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Transverse Multi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19320" y="5486400"/>
              <a:ext cx="27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Longitudinal Multi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800680" y="4086360"/>
              <a:ext cx="117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ert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57920" y="503856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ert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00920" y="503856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orizon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43680" y="4076640"/>
              <a:ext cx="117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orizon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81840" y="390528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SRF Experimental Contribution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wards Working Group Introduc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33360" y="3067200"/>
            <a:ext cx="8582040" cy="3251880"/>
            <a:chOff x="333360" y="3067200"/>
            <a:chExt cx="8582040" cy="3251880"/>
          </a:xfrm>
        </p:grpSpPr>
        <p:grpSp>
          <p:nvGrpSpPr>
            <p:cNvPr id="62" name=""/>
            <p:cNvGrpSpPr/>
            <p:nvPr/>
          </p:nvGrpSpPr>
          <p:grpSpPr>
            <a:xfrm>
              <a:off x="838080" y="3228840"/>
              <a:ext cx="8077320" cy="2886120"/>
              <a:chOff x="838080" y="3228840"/>
              <a:chExt cx="8077320" cy="2886120"/>
            </a:xfrm>
          </p:grpSpPr>
          <p:sp>
            <p:nvSpPr>
              <p:cNvPr id="63" name=""/>
              <p:cNvSpPr/>
              <p:nvPr/>
            </p:nvSpPr>
            <p:spPr>
              <a:xfrm>
                <a:off x="5076720" y="4876920"/>
                <a:ext cx="3810240" cy="1085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981840" y="4867200"/>
                <a:ext cx="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067360" y="3228840"/>
                <a:ext cx="3848040" cy="1257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38080" y="4857840"/>
                <a:ext cx="3762360" cy="125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1000" y="3267000"/>
                <a:ext cx="3638520" cy="1324080"/>
              </a:xfrm>
              <a:prstGeom prst="ellipse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81160" y="3600360"/>
                <a:ext cx="281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Longitudinal Sing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524560" y="3505320"/>
                <a:ext cx="281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Transverse Sing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810400" y="5334120"/>
                <a:ext cx="255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Transverse Multi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219320" y="5486400"/>
                <a:ext cx="278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Longitudinal Multi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800680" y="4086360"/>
                <a:ext cx="1171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ertic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857920" y="5038560"/>
                <a:ext cx="117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ertic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000920" y="5038560"/>
                <a:ext cx="117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Horizont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943680" y="4076640"/>
                <a:ext cx="1171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Horizont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981840" y="3905280"/>
                <a:ext cx="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4219560" y="3067200"/>
              <a:ext cx="9619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G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67080" y="5981760"/>
              <a:ext cx="96228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G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3360" y="4705200"/>
              <a:ext cx="84200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76720" y="4876920"/>
              <a:ext cx="3810240" cy="1085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81840" y="486720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67360" y="3228840"/>
              <a:ext cx="3848040" cy="1257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80" y="4857840"/>
              <a:ext cx="3762360" cy="1257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81000" y="3267000"/>
              <a:ext cx="3638520" cy="13240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1160" y="360036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Longitudinal Si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24560" y="35053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Transverse Si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10400" y="5334120"/>
              <a:ext cx="255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Transverse Multi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19320" y="5486400"/>
              <a:ext cx="27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Longitudinal Multi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00680" y="4086360"/>
              <a:ext cx="117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ert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57920" y="503856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ert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00920" y="503856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orizon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43680" y="4076640"/>
              <a:ext cx="117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orizon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81840" y="390528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133640" y="1538280"/>
            <a:ext cx="7010280" cy="4219200"/>
            <a:chOff x="1133640" y="1538280"/>
            <a:chExt cx="7010280" cy="4219200"/>
          </a:xfrm>
        </p:grpSpPr>
        <p:sp>
          <p:nvSpPr>
            <p:cNvPr id="95" name=""/>
            <p:cNvSpPr/>
            <p:nvPr/>
          </p:nvSpPr>
          <p:spPr>
            <a:xfrm>
              <a:off x="1133640" y="1538280"/>
              <a:ext cx="7010280" cy="1290240"/>
            </a:xfrm>
            <a:prstGeom prst="rect">
              <a:avLst/>
            </a:prstGeom>
            <a:solidFill>
              <a:srgbClr val="ccffcc"/>
            </a:solidFill>
            <a:ln w="76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oal of this talk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erdepende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ongitudinal/transverse/single-bunch/multi-bun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sed on ESRF observation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2229120" y="3767040"/>
              <a:ext cx="4809960" cy="1990440"/>
              <a:chOff x="2229120" y="3767040"/>
              <a:chExt cx="4809960" cy="1990440"/>
            </a:xfrm>
          </p:grpSpPr>
          <p:sp>
            <p:nvSpPr>
              <p:cNvPr id="97" name=""/>
              <p:cNvSpPr/>
              <p:nvPr/>
            </p:nvSpPr>
            <p:spPr>
              <a:xfrm>
                <a:off x="2229120" y="3767040"/>
                <a:ext cx="4809960" cy="1990440"/>
              </a:xfrm>
              <a:prstGeom prst="rect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847960" y="4147920"/>
                <a:ext cx="914400" cy="380880"/>
              </a:xfrm>
              <a:prstGeom prst="line">
                <a:avLst/>
              </a:prstGeom>
              <a:ln w="7632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5209920" y="4071600"/>
                <a:ext cx="685800" cy="457200"/>
              </a:xfrm>
              <a:prstGeom prst="line">
                <a:avLst/>
              </a:prstGeom>
              <a:ln w="7632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flipV="1">
                <a:off x="5136120" y="4937760"/>
                <a:ext cx="757800" cy="324360"/>
              </a:xfrm>
              <a:prstGeom prst="line">
                <a:avLst/>
              </a:prstGeom>
              <a:ln w="7632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2769480" y="5154480"/>
                <a:ext cx="957600" cy="253800"/>
              </a:xfrm>
              <a:prstGeom prst="line">
                <a:avLst/>
              </a:prstGeom>
              <a:ln w="7632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C4D-DDCE-4C9A-8D83-90814DC8916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12179-8F00-48BE-AA8A-AF94BD08BA72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3" name=""/>
          <p:cNvGraphicFramePr/>
          <p:nvPr/>
        </p:nvGraphicFramePr>
        <p:xfrm>
          <a:off x="2546280" y="692280"/>
          <a:ext cx="3853080" cy="277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6280" y="692280"/>
                    <a:ext cx="385308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5" name=""/>
          <p:cNvSpPr/>
          <p:nvPr/>
        </p:nvSpPr>
        <p:spPr>
          <a:xfrm>
            <a:off x="326880" y="3408480"/>
            <a:ext cx="3635640" cy="131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Times New Roman"/>
              </a:rPr>
              <a:t>The threshold at zero chromaticity is not sensitive to BB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GB" sz="1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en-GB" sz="1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 = 8 mm</a:t>
            </a:r>
            <a:r>
              <a:rPr b="0" lang="en-GB" sz="1400" spc="-1" strike="noStrike">
                <a:solidFill>
                  <a:srgbClr val="3333cc"/>
                </a:solidFill>
                <a:latin typeface="Times New Roman"/>
              </a:rPr>
              <a:t> is deduc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Good agreement with beff = 7.3 mm from the evaluation of resistive wall components from the low gap ID vessels</a:t>
            </a:r>
            <a:r>
              <a:rPr b="0" lang="en-GB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98360" y="866880"/>
            <a:ext cx="2105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t of the threshold curve of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mode 99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 uniform f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=&gt; simulation of the interaction of the beam spectrum with an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742080" y="539640"/>
            <a:ext cx="218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Resistive wall only,  largely underestimates the threshold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5151600" y="1280880"/>
            <a:ext cx="1811160" cy="14158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551640" y="2320920"/>
            <a:ext cx="2184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he addition of a broadband contribution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helps to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increase the threshold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which gives more damping with the increased chromati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 flipV="1">
            <a:off x="5781240" y="1831680"/>
            <a:ext cx="809640" cy="5698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178680" y="4829040"/>
            <a:ext cx="2695320" cy="111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eping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22 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=&gt; R/Q = 6.8 M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needed for the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3086280" y="2790720"/>
            <a:ext cx="1218960" cy="38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4305240" y="2733840"/>
            <a:ext cx="1238400" cy="47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5543640" y="2704680"/>
            <a:ext cx="552240" cy="19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439040" y="1504800"/>
            <a:ext cx="409680" cy="657360"/>
          </a:xfrm>
          <a:prstGeom prst="downArrow">
            <a:avLst>
              <a:gd name="adj1" fmla="val 50000"/>
              <a:gd name="adj2" fmla="val 401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429680" y="4200480"/>
            <a:ext cx="409320" cy="657360"/>
          </a:xfrm>
          <a:prstGeom prst="downArrow">
            <a:avLst>
              <a:gd name="adj1" fmla="val 50000"/>
              <a:gd name="adj2" fmla="val 401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rot="14598000">
            <a:off x="2399760" y="2695320"/>
            <a:ext cx="409680" cy="666720"/>
          </a:xfrm>
          <a:prstGeom prst="downArrow">
            <a:avLst>
              <a:gd name="adj1" fmla="val 50000"/>
              <a:gd name="adj2" fmla="val 406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74344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209520" y="4843440"/>
            <a:ext cx="6111000" cy="1437840"/>
            <a:chOff x="209520" y="4843440"/>
            <a:chExt cx="6111000" cy="1437840"/>
          </a:xfrm>
        </p:grpSpPr>
        <p:sp>
          <p:nvSpPr>
            <p:cNvPr id="1270" name=""/>
            <p:cNvSpPr/>
            <p:nvPr/>
          </p:nvSpPr>
          <p:spPr>
            <a:xfrm rot="3492000">
              <a:off x="5724000" y="5152680"/>
              <a:ext cx="409680" cy="666720"/>
            </a:xfrm>
            <a:prstGeom prst="downArrow">
              <a:avLst>
                <a:gd name="adj1" fmla="val 50000"/>
                <a:gd name="adj2" fmla="val 406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1" name=""/>
            <p:cNvGrpSpPr/>
            <p:nvPr/>
          </p:nvGrpSpPr>
          <p:grpSpPr>
            <a:xfrm>
              <a:off x="209520" y="4843440"/>
              <a:ext cx="5454720" cy="1437840"/>
              <a:chOff x="209520" y="4843440"/>
              <a:chExt cx="5454720" cy="1437840"/>
            </a:xfrm>
          </p:grpSpPr>
          <p:sp>
            <p:nvSpPr>
              <p:cNvPr id="1272" name=""/>
              <p:cNvSpPr/>
              <p:nvPr/>
            </p:nvSpPr>
            <p:spPr>
              <a:xfrm>
                <a:off x="3247920" y="5095800"/>
                <a:ext cx="2416320" cy="1067400"/>
              </a:xfrm>
              <a:prstGeom prst="rect">
                <a:avLst/>
              </a:prstGeom>
              <a:noFill/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Which is also in favour of reducing the shunt impedance obtained with the mode merg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209520" y="4843440"/>
                <a:ext cx="2790720" cy="1437840"/>
              </a:xfrm>
              <a:prstGeom prst="rect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he obtained combination of BBR+R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pplied to mode-merging calculation gives a rather good reprodu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rot="5400600">
                <a:off x="2809440" y="5200200"/>
                <a:ext cx="409680" cy="666720"/>
              </a:xfrm>
              <a:prstGeom prst="downArrow">
                <a:avLst>
                  <a:gd name="adj1" fmla="val 50000"/>
                  <a:gd name="adj2" fmla="val 40685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787-49E2-45CB-AD21-D375FFD9E82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04C73-57FD-42B5-ABC5-87F6EC497DCD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2409840" y="380880"/>
            <a:ext cx="1657440" cy="582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09720" y="5832360"/>
            <a:ext cx="411300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909720" y="5832360"/>
            <a:ext cx="4113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90972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13176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2344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1733400" y="5784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214164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570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25574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296712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941200" y="5864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33750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78936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73176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41990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46134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55868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909720" y="583236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35200" y="563256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rot="16200000">
            <a:off x="2125080" y="4995360"/>
            <a:ext cx="47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m=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rot="16200000">
            <a:off x="3513600" y="501120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775960" y="4067280"/>
            <a:ext cx="36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m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rot="16200000">
            <a:off x="2552760" y="4614840"/>
            <a:ext cx="46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m=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195560" y="5322960"/>
            <a:ext cx="411300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2943360" y="378936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179360" y="4970520"/>
            <a:ext cx="411336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185840" y="4044960"/>
            <a:ext cx="411336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908440" y="1278000"/>
            <a:ext cx="37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761920" y="1084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908440" y="695160"/>
            <a:ext cx="37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761920" y="50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2925720" y="388620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879480" y="2386080"/>
            <a:ext cx="41259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128916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196640" y="23572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211788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025000" y="2381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294804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945880" y="248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376704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25280" y="2417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459576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554000" y="2367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925720" y="35514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742840" y="33512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925720" y="29559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742840" y="2759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925720" y="238608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84760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925720" y="179064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779200" y="159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925720" y="11955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957400" y="434880"/>
            <a:ext cx="0" cy="3514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674720" y="8715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( M 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887400" y="2389320"/>
            <a:ext cx="2062080" cy="271440"/>
          </a:xfrm>
          <a:custGeom>
            <a:avLst/>
            <a:gdLst/>
            <a:ahLst/>
            <a:rect l="l" t="t" r="r" b="b"/>
            <a:pathLst>
              <a:path w="1297" h="300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16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24"/>
                </a:lnTo>
                <a:lnTo>
                  <a:pt x="546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76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06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36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66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0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0" y="24"/>
                </a:lnTo>
                <a:lnTo>
                  <a:pt x="726" y="24"/>
                </a:lnTo>
                <a:lnTo>
                  <a:pt x="732" y="24"/>
                </a:lnTo>
                <a:lnTo>
                  <a:pt x="738" y="24"/>
                </a:lnTo>
                <a:lnTo>
                  <a:pt x="744" y="24"/>
                </a:lnTo>
                <a:lnTo>
                  <a:pt x="750" y="24"/>
                </a:lnTo>
                <a:lnTo>
                  <a:pt x="756" y="24"/>
                </a:lnTo>
                <a:lnTo>
                  <a:pt x="762" y="24"/>
                </a:lnTo>
                <a:lnTo>
                  <a:pt x="768" y="24"/>
                </a:lnTo>
                <a:lnTo>
                  <a:pt x="774" y="30"/>
                </a:lnTo>
                <a:lnTo>
                  <a:pt x="780" y="30"/>
                </a:lnTo>
                <a:lnTo>
                  <a:pt x="786" y="30"/>
                </a:lnTo>
                <a:lnTo>
                  <a:pt x="792" y="30"/>
                </a:lnTo>
                <a:lnTo>
                  <a:pt x="798" y="30"/>
                </a:lnTo>
                <a:lnTo>
                  <a:pt x="804" y="30"/>
                </a:lnTo>
                <a:lnTo>
                  <a:pt x="810" y="30"/>
                </a:lnTo>
                <a:lnTo>
                  <a:pt x="816" y="30"/>
                </a:lnTo>
                <a:lnTo>
                  <a:pt x="822" y="30"/>
                </a:lnTo>
                <a:lnTo>
                  <a:pt x="828" y="30"/>
                </a:lnTo>
                <a:lnTo>
                  <a:pt x="834" y="30"/>
                </a:lnTo>
                <a:lnTo>
                  <a:pt x="840" y="30"/>
                </a:lnTo>
                <a:lnTo>
                  <a:pt x="846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30"/>
                </a:lnTo>
                <a:lnTo>
                  <a:pt x="876" y="30"/>
                </a:lnTo>
                <a:lnTo>
                  <a:pt x="882" y="30"/>
                </a:lnTo>
                <a:lnTo>
                  <a:pt x="888" y="30"/>
                </a:lnTo>
                <a:lnTo>
                  <a:pt x="894" y="30"/>
                </a:lnTo>
                <a:lnTo>
                  <a:pt x="900" y="30"/>
                </a:lnTo>
                <a:lnTo>
                  <a:pt x="906" y="30"/>
                </a:lnTo>
                <a:lnTo>
                  <a:pt x="912" y="30"/>
                </a:lnTo>
                <a:lnTo>
                  <a:pt x="918" y="30"/>
                </a:lnTo>
                <a:lnTo>
                  <a:pt x="924" y="30"/>
                </a:lnTo>
                <a:lnTo>
                  <a:pt x="930" y="36"/>
                </a:lnTo>
                <a:lnTo>
                  <a:pt x="936" y="36"/>
                </a:lnTo>
                <a:lnTo>
                  <a:pt x="942" y="36"/>
                </a:lnTo>
                <a:lnTo>
                  <a:pt x="948" y="36"/>
                </a:lnTo>
                <a:lnTo>
                  <a:pt x="954" y="36"/>
                </a:lnTo>
                <a:lnTo>
                  <a:pt x="960" y="36"/>
                </a:lnTo>
                <a:lnTo>
                  <a:pt x="966" y="36"/>
                </a:lnTo>
                <a:lnTo>
                  <a:pt x="972" y="36"/>
                </a:lnTo>
                <a:lnTo>
                  <a:pt x="978" y="36"/>
                </a:lnTo>
                <a:lnTo>
                  <a:pt x="984" y="36"/>
                </a:lnTo>
                <a:lnTo>
                  <a:pt x="990" y="36"/>
                </a:lnTo>
                <a:lnTo>
                  <a:pt x="996" y="36"/>
                </a:lnTo>
                <a:lnTo>
                  <a:pt x="1002" y="36"/>
                </a:lnTo>
                <a:lnTo>
                  <a:pt x="1008" y="36"/>
                </a:lnTo>
                <a:lnTo>
                  <a:pt x="1014" y="36"/>
                </a:lnTo>
                <a:lnTo>
                  <a:pt x="1020" y="36"/>
                </a:lnTo>
                <a:lnTo>
                  <a:pt x="1026" y="36"/>
                </a:lnTo>
                <a:lnTo>
                  <a:pt x="1032" y="42"/>
                </a:lnTo>
                <a:lnTo>
                  <a:pt x="1038" y="42"/>
                </a:lnTo>
                <a:lnTo>
                  <a:pt x="1044" y="42"/>
                </a:lnTo>
                <a:lnTo>
                  <a:pt x="1050" y="42"/>
                </a:lnTo>
                <a:lnTo>
                  <a:pt x="1056" y="42"/>
                </a:lnTo>
                <a:lnTo>
                  <a:pt x="1062" y="42"/>
                </a:lnTo>
                <a:lnTo>
                  <a:pt x="1068" y="42"/>
                </a:lnTo>
                <a:lnTo>
                  <a:pt x="1074" y="42"/>
                </a:lnTo>
                <a:lnTo>
                  <a:pt x="1080" y="42"/>
                </a:lnTo>
                <a:lnTo>
                  <a:pt x="1086" y="42"/>
                </a:lnTo>
                <a:lnTo>
                  <a:pt x="1092" y="48"/>
                </a:lnTo>
                <a:lnTo>
                  <a:pt x="1098" y="48"/>
                </a:lnTo>
                <a:lnTo>
                  <a:pt x="1104" y="48"/>
                </a:lnTo>
                <a:lnTo>
                  <a:pt x="1110" y="48"/>
                </a:lnTo>
                <a:lnTo>
                  <a:pt x="1116" y="48"/>
                </a:lnTo>
                <a:lnTo>
                  <a:pt x="1122" y="48"/>
                </a:lnTo>
                <a:lnTo>
                  <a:pt x="1128" y="48"/>
                </a:lnTo>
                <a:lnTo>
                  <a:pt x="1134" y="48"/>
                </a:lnTo>
                <a:lnTo>
                  <a:pt x="1141" y="54"/>
                </a:lnTo>
                <a:lnTo>
                  <a:pt x="1147" y="54"/>
                </a:lnTo>
                <a:lnTo>
                  <a:pt x="1153" y="54"/>
                </a:lnTo>
                <a:lnTo>
                  <a:pt x="1159" y="54"/>
                </a:lnTo>
                <a:lnTo>
                  <a:pt x="1165" y="54"/>
                </a:lnTo>
                <a:lnTo>
                  <a:pt x="1171" y="60"/>
                </a:lnTo>
                <a:lnTo>
                  <a:pt x="1177" y="60"/>
                </a:lnTo>
                <a:lnTo>
                  <a:pt x="1183" y="60"/>
                </a:lnTo>
                <a:lnTo>
                  <a:pt x="1189" y="66"/>
                </a:lnTo>
                <a:lnTo>
                  <a:pt x="1195" y="66"/>
                </a:lnTo>
                <a:lnTo>
                  <a:pt x="1201" y="66"/>
                </a:lnTo>
                <a:lnTo>
                  <a:pt x="1207" y="72"/>
                </a:lnTo>
                <a:lnTo>
                  <a:pt x="1213" y="72"/>
                </a:lnTo>
                <a:lnTo>
                  <a:pt x="1219" y="72"/>
                </a:lnTo>
                <a:lnTo>
                  <a:pt x="1225" y="78"/>
                </a:lnTo>
                <a:lnTo>
                  <a:pt x="1231" y="78"/>
                </a:lnTo>
                <a:lnTo>
                  <a:pt x="1237" y="84"/>
                </a:lnTo>
                <a:lnTo>
                  <a:pt x="1243" y="90"/>
                </a:lnTo>
                <a:lnTo>
                  <a:pt x="1249" y="96"/>
                </a:lnTo>
                <a:lnTo>
                  <a:pt x="1255" y="102"/>
                </a:lnTo>
                <a:lnTo>
                  <a:pt x="1261" y="108"/>
                </a:lnTo>
                <a:lnTo>
                  <a:pt x="1267" y="114"/>
                </a:lnTo>
                <a:lnTo>
                  <a:pt x="1267" y="120"/>
                </a:lnTo>
                <a:lnTo>
                  <a:pt x="1273" y="126"/>
                </a:lnTo>
                <a:lnTo>
                  <a:pt x="1273" y="132"/>
                </a:lnTo>
                <a:lnTo>
                  <a:pt x="1279" y="138"/>
                </a:lnTo>
                <a:lnTo>
                  <a:pt x="1279" y="150"/>
                </a:lnTo>
                <a:lnTo>
                  <a:pt x="1279" y="156"/>
                </a:lnTo>
                <a:lnTo>
                  <a:pt x="1285" y="174"/>
                </a:lnTo>
                <a:lnTo>
                  <a:pt x="1285" y="186"/>
                </a:lnTo>
                <a:lnTo>
                  <a:pt x="1291" y="210"/>
                </a:lnTo>
                <a:lnTo>
                  <a:pt x="1291" y="246"/>
                </a:lnTo>
                <a:lnTo>
                  <a:pt x="1297" y="300"/>
                </a:lnTo>
                <a:lnTo>
                  <a:pt x="1297" y="0"/>
                </a:lnTo>
              </a:path>
            </a:pathLst>
          </a:custGeom>
          <a:solidFill>
            <a:srgbClr val="ff330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967120" y="2095560"/>
            <a:ext cx="2068560" cy="293760"/>
          </a:xfrm>
          <a:custGeom>
            <a:avLst/>
            <a:gdLst/>
            <a:ahLst/>
            <a:rect l="l" t="t" r="r" b="b"/>
            <a:pathLst>
              <a:path w="1296" h="306">
                <a:moveTo>
                  <a:pt x="0" y="306"/>
                </a:moveTo>
                <a:lnTo>
                  <a:pt x="0" y="0"/>
                </a:lnTo>
                <a:lnTo>
                  <a:pt x="6" y="54"/>
                </a:lnTo>
                <a:lnTo>
                  <a:pt x="6" y="90"/>
                </a:lnTo>
                <a:lnTo>
                  <a:pt x="12" y="114"/>
                </a:lnTo>
                <a:lnTo>
                  <a:pt x="12" y="126"/>
                </a:lnTo>
                <a:lnTo>
                  <a:pt x="18" y="144"/>
                </a:lnTo>
                <a:lnTo>
                  <a:pt x="18" y="150"/>
                </a:lnTo>
                <a:lnTo>
                  <a:pt x="18" y="162"/>
                </a:lnTo>
                <a:lnTo>
                  <a:pt x="24" y="168"/>
                </a:lnTo>
                <a:lnTo>
                  <a:pt x="24" y="174"/>
                </a:lnTo>
                <a:lnTo>
                  <a:pt x="30" y="180"/>
                </a:lnTo>
                <a:lnTo>
                  <a:pt x="36" y="186"/>
                </a:lnTo>
                <a:lnTo>
                  <a:pt x="36" y="192"/>
                </a:lnTo>
                <a:lnTo>
                  <a:pt x="42" y="198"/>
                </a:lnTo>
                <a:lnTo>
                  <a:pt x="48" y="204"/>
                </a:lnTo>
                <a:lnTo>
                  <a:pt x="54" y="210"/>
                </a:lnTo>
                <a:lnTo>
                  <a:pt x="60" y="216"/>
                </a:lnTo>
                <a:lnTo>
                  <a:pt x="66" y="222"/>
                </a:lnTo>
                <a:lnTo>
                  <a:pt x="72" y="222"/>
                </a:lnTo>
                <a:lnTo>
                  <a:pt x="78" y="228"/>
                </a:lnTo>
                <a:lnTo>
                  <a:pt x="84" y="228"/>
                </a:lnTo>
                <a:lnTo>
                  <a:pt x="90" y="234"/>
                </a:lnTo>
                <a:lnTo>
                  <a:pt x="96" y="234"/>
                </a:lnTo>
                <a:lnTo>
                  <a:pt x="102" y="234"/>
                </a:lnTo>
                <a:lnTo>
                  <a:pt x="108" y="240"/>
                </a:lnTo>
                <a:lnTo>
                  <a:pt x="114" y="240"/>
                </a:lnTo>
                <a:lnTo>
                  <a:pt x="120" y="240"/>
                </a:lnTo>
                <a:lnTo>
                  <a:pt x="126" y="240"/>
                </a:lnTo>
                <a:lnTo>
                  <a:pt x="132" y="246"/>
                </a:lnTo>
                <a:lnTo>
                  <a:pt x="138" y="246"/>
                </a:lnTo>
                <a:lnTo>
                  <a:pt x="144" y="246"/>
                </a:lnTo>
                <a:lnTo>
                  <a:pt x="150" y="246"/>
                </a:lnTo>
                <a:lnTo>
                  <a:pt x="156" y="246"/>
                </a:lnTo>
                <a:lnTo>
                  <a:pt x="162" y="252"/>
                </a:lnTo>
                <a:lnTo>
                  <a:pt x="168" y="252"/>
                </a:lnTo>
                <a:lnTo>
                  <a:pt x="174" y="252"/>
                </a:lnTo>
                <a:lnTo>
                  <a:pt x="180" y="252"/>
                </a:lnTo>
                <a:lnTo>
                  <a:pt x="186" y="252"/>
                </a:lnTo>
                <a:lnTo>
                  <a:pt x="192" y="252"/>
                </a:lnTo>
                <a:lnTo>
                  <a:pt x="198" y="252"/>
                </a:lnTo>
                <a:lnTo>
                  <a:pt x="204" y="258"/>
                </a:lnTo>
                <a:lnTo>
                  <a:pt x="210" y="258"/>
                </a:lnTo>
                <a:lnTo>
                  <a:pt x="216" y="258"/>
                </a:lnTo>
                <a:lnTo>
                  <a:pt x="222" y="258"/>
                </a:lnTo>
                <a:lnTo>
                  <a:pt x="228" y="258"/>
                </a:lnTo>
                <a:lnTo>
                  <a:pt x="234" y="258"/>
                </a:lnTo>
                <a:lnTo>
                  <a:pt x="240" y="258"/>
                </a:lnTo>
                <a:lnTo>
                  <a:pt x="246" y="258"/>
                </a:lnTo>
                <a:lnTo>
                  <a:pt x="252" y="258"/>
                </a:lnTo>
                <a:lnTo>
                  <a:pt x="258" y="258"/>
                </a:lnTo>
                <a:lnTo>
                  <a:pt x="264" y="258"/>
                </a:lnTo>
                <a:lnTo>
                  <a:pt x="270" y="264"/>
                </a:lnTo>
                <a:lnTo>
                  <a:pt x="276" y="264"/>
                </a:lnTo>
                <a:lnTo>
                  <a:pt x="282" y="264"/>
                </a:lnTo>
                <a:lnTo>
                  <a:pt x="288" y="264"/>
                </a:lnTo>
                <a:lnTo>
                  <a:pt x="294" y="264"/>
                </a:lnTo>
                <a:lnTo>
                  <a:pt x="300" y="264"/>
                </a:lnTo>
                <a:lnTo>
                  <a:pt x="306" y="264"/>
                </a:lnTo>
                <a:lnTo>
                  <a:pt x="312" y="264"/>
                </a:lnTo>
                <a:lnTo>
                  <a:pt x="318" y="264"/>
                </a:lnTo>
                <a:lnTo>
                  <a:pt x="324" y="264"/>
                </a:lnTo>
                <a:lnTo>
                  <a:pt x="330" y="264"/>
                </a:lnTo>
                <a:lnTo>
                  <a:pt x="336" y="264"/>
                </a:lnTo>
                <a:lnTo>
                  <a:pt x="342" y="264"/>
                </a:lnTo>
                <a:lnTo>
                  <a:pt x="348" y="264"/>
                </a:lnTo>
                <a:lnTo>
                  <a:pt x="354" y="264"/>
                </a:lnTo>
                <a:lnTo>
                  <a:pt x="360" y="264"/>
                </a:lnTo>
                <a:lnTo>
                  <a:pt x="366" y="270"/>
                </a:lnTo>
                <a:lnTo>
                  <a:pt x="372" y="270"/>
                </a:lnTo>
                <a:lnTo>
                  <a:pt x="378" y="270"/>
                </a:lnTo>
                <a:lnTo>
                  <a:pt x="384" y="270"/>
                </a:lnTo>
                <a:lnTo>
                  <a:pt x="390" y="270"/>
                </a:lnTo>
                <a:lnTo>
                  <a:pt x="396" y="270"/>
                </a:lnTo>
                <a:lnTo>
                  <a:pt x="402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70"/>
                </a:lnTo>
                <a:lnTo>
                  <a:pt x="426" y="270"/>
                </a:lnTo>
                <a:lnTo>
                  <a:pt x="432" y="270"/>
                </a:lnTo>
                <a:lnTo>
                  <a:pt x="438" y="270"/>
                </a:lnTo>
                <a:lnTo>
                  <a:pt x="444" y="270"/>
                </a:lnTo>
                <a:lnTo>
                  <a:pt x="450" y="270"/>
                </a:lnTo>
                <a:lnTo>
                  <a:pt x="456" y="270"/>
                </a:lnTo>
                <a:lnTo>
                  <a:pt x="462" y="270"/>
                </a:lnTo>
                <a:lnTo>
                  <a:pt x="468" y="270"/>
                </a:lnTo>
                <a:lnTo>
                  <a:pt x="474" y="270"/>
                </a:lnTo>
                <a:lnTo>
                  <a:pt x="480" y="270"/>
                </a:lnTo>
                <a:lnTo>
                  <a:pt x="486" y="270"/>
                </a:lnTo>
                <a:lnTo>
                  <a:pt x="492" y="270"/>
                </a:lnTo>
                <a:lnTo>
                  <a:pt x="498" y="270"/>
                </a:lnTo>
                <a:lnTo>
                  <a:pt x="504" y="270"/>
                </a:lnTo>
                <a:lnTo>
                  <a:pt x="510" y="270"/>
                </a:lnTo>
                <a:lnTo>
                  <a:pt x="516" y="270"/>
                </a:lnTo>
                <a:lnTo>
                  <a:pt x="522" y="270"/>
                </a:lnTo>
                <a:lnTo>
                  <a:pt x="528" y="276"/>
                </a:lnTo>
                <a:lnTo>
                  <a:pt x="534" y="276"/>
                </a:lnTo>
                <a:lnTo>
                  <a:pt x="540" y="276"/>
                </a:lnTo>
                <a:lnTo>
                  <a:pt x="546" y="276"/>
                </a:lnTo>
                <a:lnTo>
                  <a:pt x="552" y="276"/>
                </a:lnTo>
                <a:lnTo>
                  <a:pt x="558" y="276"/>
                </a:lnTo>
                <a:lnTo>
                  <a:pt x="564" y="276"/>
                </a:lnTo>
                <a:lnTo>
                  <a:pt x="570" y="276"/>
                </a:lnTo>
                <a:lnTo>
                  <a:pt x="576" y="276"/>
                </a:lnTo>
                <a:lnTo>
                  <a:pt x="582" y="276"/>
                </a:lnTo>
                <a:lnTo>
                  <a:pt x="588" y="276"/>
                </a:lnTo>
                <a:lnTo>
                  <a:pt x="594" y="276"/>
                </a:lnTo>
                <a:lnTo>
                  <a:pt x="600" y="276"/>
                </a:lnTo>
                <a:lnTo>
                  <a:pt x="606" y="276"/>
                </a:lnTo>
                <a:lnTo>
                  <a:pt x="612" y="276"/>
                </a:lnTo>
                <a:lnTo>
                  <a:pt x="618" y="276"/>
                </a:lnTo>
                <a:lnTo>
                  <a:pt x="624" y="276"/>
                </a:lnTo>
                <a:lnTo>
                  <a:pt x="630" y="276"/>
                </a:lnTo>
                <a:lnTo>
                  <a:pt x="636" y="276"/>
                </a:lnTo>
                <a:lnTo>
                  <a:pt x="642" y="276"/>
                </a:lnTo>
                <a:lnTo>
                  <a:pt x="648" y="276"/>
                </a:lnTo>
                <a:lnTo>
                  <a:pt x="654" y="276"/>
                </a:lnTo>
                <a:lnTo>
                  <a:pt x="660" y="276"/>
                </a:lnTo>
                <a:lnTo>
                  <a:pt x="666" y="276"/>
                </a:lnTo>
                <a:lnTo>
                  <a:pt x="672" y="276"/>
                </a:lnTo>
                <a:lnTo>
                  <a:pt x="678" y="276"/>
                </a:lnTo>
                <a:lnTo>
                  <a:pt x="684" y="276"/>
                </a:lnTo>
                <a:lnTo>
                  <a:pt x="690" y="276"/>
                </a:lnTo>
                <a:lnTo>
                  <a:pt x="696" y="276"/>
                </a:lnTo>
                <a:lnTo>
                  <a:pt x="702" y="276"/>
                </a:lnTo>
                <a:lnTo>
                  <a:pt x="708" y="276"/>
                </a:lnTo>
                <a:lnTo>
                  <a:pt x="714" y="276"/>
                </a:lnTo>
                <a:lnTo>
                  <a:pt x="720" y="276"/>
                </a:lnTo>
                <a:lnTo>
                  <a:pt x="726" y="276"/>
                </a:lnTo>
                <a:lnTo>
                  <a:pt x="732" y="276"/>
                </a:lnTo>
                <a:lnTo>
                  <a:pt x="738" y="276"/>
                </a:lnTo>
                <a:lnTo>
                  <a:pt x="744" y="276"/>
                </a:lnTo>
                <a:lnTo>
                  <a:pt x="750" y="276"/>
                </a:lnTo>
                <a:lnTo>
                  <a:pt x="756" y="276"/>
                </a:lnTo>
                <a:lnTo>
                  <a:pt x="762" y="276"/>
                </a:lnTo>
                <a:lnTo>
                  <a:pt x="768" y="276"/>
                </a:lnTo>
                <a:lnTo>
                  <a:pt x="774" y="276"/>
                </a:lnTo>
                <a:lnTo>
                  <a:pt x="780" y="276"/>
                </a:lnTo>
                <a:lnTo>
                  <a:pt x="786" y="276"/>
                </a:lnTo>
                <a:lnTo>
                  <a:pt x="792" y="276"/>
                </a:lnTo>
                <a:lnTo>
                  <a:pt x="798" y="276"/>
                </a:lnTo>
                <a:lnTo>
                  <a:pt x="804" y="276"/>
                </a:lnTo>
                <a:lnTo>
                  <a:pt x="810" y="276"/>
                </a:lnTo>
                <a:lnTo>
                  <a:pt x="816" y="276"/>
                </a:lnTo>
                <a:lnTo>
                  <a:pt x="822" y="276"/>
                </a:lnTo>
                <a:lnTo>
                  <a:pt x="828" y="282"/>
                </a:lnTo>
                <a:lnTo>
                  <a:pt x="834" y="282"/>
                </a:lnTo>
                <a:lnTo>
                  <a:pt x="840" y="282"/>
                </a:lnTo>
                <a:lnTo>
                  <a:pt x="846" y="282"/>
                </a:lnTo>
                <a:lnTo>
                  <a:pt x="852" y="282"/>
                </a:lnTo>
                <a:lnTo>
                  <a:pt x="858" y="282"/>
                </a:lnTo>
                <a:lnTo>
                  <a:pt x="864" y="282"/>
                </a:lnTo>
                <a:lnTo>
                  <a:pt x="870" y="282"/>
                </a:lnTo>
                <a:lnTo>
                  <a:pt x="876" y="282"/>
                </a:lnTo>
                <a:lnTo>
                  <a:pt x="882" y="282"/>
                </a:lnTo>
                <a:lnTo>
                  <a:pt x="888" y="282"/>
                </a:lnTo>
                <a:lnTo>
                  <a:pt x="894" y="282"/>
                </a:lnTo>
                <a:lnTo>
                  <a:pt x="900" y="282"/>
                </a:lnTo>
                <a:lnTo>
                  <a:pt x="906" y="282"/>
                </a:lnTo>
                <a:lnTo>
                  <a:pt x="912" y="282"/>
                </a:lnTo>
                <a:lnTo>
                  <a:pt x="918" y="282"/>
                </a:lnTo>
                <a:lnTo>
                  <a:pt x="924" y="282"/>
                </a:lnTo>
                <a:lnTo>
                  <a:pt x="930" y="282"/>
                </a:lnTo>
                <a:lnTo>
                  <a:pt x="936" y="282"/>
                </a:lnTo>
                <a:lnTo>
                  <a:pt x="942" y="282"/>
                </a:lnTo>
                <a:lnTo>
                  <a:pt x="948" y="282"/>
                </a:lnTo>
                <a:lnTo>
                  <a:pt x="954" y="282"/>
                </a:lnTo>
                <a:lnTo>
                  <a:pt x="960" y="282"/>
                </a:lnTo>
                <a:lnTo>
                  <a:pt x="966" y="282"/>
                </a:lnTo>
                <a:lnTo>
                  <a:pt x="972" y="282"/>
                </a:lnTo>
                <a:lnTo>
                  <a:pt x="978" y="282"/>
                </a:lnTo>
                <a:lnTo>
                  <a:pt x="984" y="282"/>
                </a:lnTo>
                <a:lnTo>
                  <a:pt x="990" y="282"/>
                </a:lnTo>
                <a:lnTo>
                  <a:pt x="996" y="282"/>
                </a:lnTo>
                <a:lnTo>
                  <a:pt x="1002" y="282"/>
                </a:lnTo>
                <a:lnTo>
                  <a:pt x="1008" y="282"/>
                </a:lnTo>
                <a:lnTo>
                  <a:pt x="1014" y="282"/>
                </a:lnTo>
                <a:lnTo>
                  <a:pt x="1020" y="282"/>
                </a:lnTo>
                <a:lnTo>
                  <a:pt x="1026" y="282"/>
                </a:lnTo>
                <a:lnTo>
                  <a:pt x="1032" y="282"/>
                </a:lnTo>
                <a:lnTo>
                  <a:pt x="1038" y="282"/>
                </a:lnTo>
                <a:lnTo>
                  <a:pt x="1044" y="282"/>
                </a:lnTo>
                <a:lnTo>
                  <a:pt x="1050" y="282"/>
                </a:lnTo>
                <a:lnTo>
                  <a:pt x="1056" y="282"/>
                </a:lnTo>
                <a:lnTo>
                  <a:pt x="1062" y="282"/>
                </a:lnTo>
                <a:lnTo>
                  <a:pt x="1068" y="282"/>
                </a:lnTo>
                <a:lnTo>
                  <a:pt x="1074" y="282"/>
                </a:lnTo>
                <a:lnTo>
                  <a:pt x="1080" y="282"/>
                </a:lnTo>
                <a:lnTo>
                  <a:pt x="1086" y="282"/>
                </a:lnTo>
                <a:lnTo>
                  <a:pt x="1092" y="282"/>
                </a:lnTo>
                <a:lnTo>
                  <a:pt x="1098" y="282"/>
                </a:lnTo>
                <a:lnTo>
                  <a:pt x="1104" y="282"/>
                </a:lnTo>
                <a:lnTo>
                  <a:pt x="1110" y="282"/>
                </a:lnTo>
                <a:lnTo>
                  <a:pt x="1116" y="282"/>
                </a:lnTo>
                <a:lnTo>
                  <a:pt x="1122" y="282"/>
                </a:lnTo>
                <a:lnTo>
                  <a:pt x="1128" y="282"/>
                </a:lnTo>
                <a:lnTo>
                  <a:pt x="1134" y="282"/>
                </a:lnTo>
                <a:lnTo>
                  <a:pt x="1140" y="282"/>
                </a:lnTo>
                <a:lnTo>
                  <a:pt x="1146" y="282"/>
                </a:lnTo>
                <a:lnTo>
                  <a:pt x="1152" y="282"/>
                </a:lnTo>
                <a:lnTo>
                  <a:pt x="1158" y="282"/>
                </a:lnTo>
                <a:lnTo>
                  <a:pt x="1164" y="282"/>
                </a:lnTo>
                <a:lnTo>
                  <a:pt x="1170" y="282"/>
                </a:lnTo>
                <a:lnTo>
                  <a:pt x="1176" y="282"/>
                </a:lnTo>
                <a:lnTo>
                  <a:pt x="1182" y="282"/>
                </a:lnTo>
                <a:lnTo>
                  <a:pt x="1188" y="282"/>
                </a:lnTo>
                <a:lnTo>
                  <a:pt x="1194" y="282"/>
                </a:lnTo>
                <a:lnTo>
                  <a:pt x="1200" y="282"/>
                </a:lnTo>
                <a:lnTo>
                  <a:pt x="1206" y="282"/>
                </a:lnTo>
                <a:lnTo>
                  <a:pt x="1212" y="282"/>
                </a:lnTo>
                <a:lnTo>
                  <a:pt x="1218" y="282"/>
                </a:lnTo>
                <a:lnTo>
                  <a:pt x="1224" y="282"/>
                </a:lnTo>
                <a:lnTo>
                  <a:pt x="1230" y="282"/>
                </a:lnTo>
                <a:lnTo>
                  <a:pt x="1236" y="282"/>
                </a:lnTo>
                <a:lnTo>
                  <a:pt x="1242" y="282"/>
                </a:lnTo>
                <a:lnTo>
                  <a:pt x="1248" y="282"/>
                </a:lnTo>
                <a:lnTo>
                  <a:pt x="1254" y="282"/>
                </a:lnTo>
                <a:lnTo>
                  <a:pt x="1260" y="282"/>
                </a:lnTo>
                <a:lnTo>
                  <a:pt x="1266" y="282"/>
                </a:lnTo>
                <a:lnTo>
                  <a:pt x="1272" y="282"/>
                </a:lnTo>
                <a:lnTo>
                  <a:pt x="1278" y="282"/>
                </a:lnTo>
                <a:lnTo>
                  <a:pt x="1284" y="282"/>
                </a:lnTo>
                <a:lnTo>
                  <a:pt x="1290" y="282"/>
                </a:lnTo>
                <a:lnTo>
                  <a:pt x="1296" y="282"/>
                </a:lnTo>
                <a:lnTo>
                  <a:pt x="1296" y="306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57040" y="3559320"/>
            <a:ext cx="194796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Chroma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855720" y="237636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solidFill>
            <a:srgbClr val="ff330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924280" y="207648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63560" y="2146320"/>
            <a:ext cx="40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381640" y="3019320"/>
            <a:ext cx="3143160" cy="147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band impedanc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ongly hel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bilize the narrow band resistive wall impe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959200" y="2357280"/>
            <a:ext cx="0" cy="1592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74308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427F-B9D0-4F85-A650-E9B19371F26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A1447-62EA-4820-9B12-C99FF3BFD1D8}" type="datetime1">
              <a:rPr lang="en-US"/>
              <a:t>07/29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/>
          <p:nvPr/>
        </p:nvSpPr>
        <p:spPr>
          <a:xfrm>
            <a:off x="2409840" y="380880"/>
            <a:ext cx="1657440" cy="582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909720" y="5832360"/>
            <a:ext cx="411300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909720" y="5832360"/>
            <a:ext cx="4113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90972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13176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2344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1733400" y="5784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214164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0570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25574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296712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941200" y="5864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33750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378936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3176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41990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46134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55868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909720" y="583236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835200" y="563256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rot="16200000">
            <a:off x="2125080" y="4995360"/>
            <a:ext cx="47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m=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rot="16200000">
            <a:off x="3513600" y="501120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775960" y="4067280"/>
            <a:ext cx="36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m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rot="16200000">
            <a:off x="2552760" y="4614840"/>
            <a:ext cx="46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m=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195560" y="5322960"/>
            <a:ext cx="411300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2943360" y="378936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179360" y="4970520"/>
            <a:ext cx="411336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185840" y="4044960"/>
            <a:ext cx="411336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908440" y="1278000"/>
            <a:ext cx="37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761920" y="1084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908440" y="695160"/>
            <a:ext cx="37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761920" y="50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2925720" y="388620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879480" y="2386080"/>
            <a:ext cx="41259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128916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196640" y="23572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211788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025000" y="2381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294804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945880" y="248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376704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725280" y="2417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459576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554000" y="2367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925720" y="35514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742840" y="33512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925720" y="29559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742840" y="2759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925720" y="238608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84760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925720" y="179064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779200" y="159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925720" y="11955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957400" y="434880"/>
            <a:ext cx="0" cy="3514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674720" y="8715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( M 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887400" y="2389320"/>
            <a:ext cx="2062080" cy="271440"/>
          </a:xfrm>
          <a:custGeom>
            <a:avLst/>
            <a:gdLst/>
            <a:ahLst/>
            <a:rect l="l" t="t" r="r" b="b"/>
            <a:pathLst>
              <a:path w="1297" h="300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16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24"/>
                </a:lnTo>
                <a:lnTo>
                  <a:pt x="546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76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06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36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66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0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0" y="24"/>
                </a:lnTo>
                <a:lnTo>
                  <a:pt x="726" y="24"/>
                </a:lnTo>
                <a:lnTo>
                  <a:pt x="732" y="24"/>
                </a:lnTo>
                <a:lnTo>
                  <a:pt x="738" y="24"/>
                </a:lnTo>
                <a:lnTo>
                  <a:pt x="744" y="24"/>
                </a:lnTo>
                <a:lnTo>
                  <a:pt x="750" y="24"/>
                </a:lnTo>
                <a:lnTo>
                  <a:pt x="756" y="24"/>
                </a:lnTo>
                <a:lnTo>
                  <a:pt x="762" y="24"/>
                </a:lnTo>
                <a:lnTo>
                  <a:pt x="768" y="24"/>
                </a:lnTo>
                <a:lnTo>
                  <a:pt x="774" y="30"/>
                </a:lnTo>
                <a:lnTo>
                  <a:pt x="780" y="30"/>
                </a:lnTo>
                <a:lnTo>
                  <a:pt x="786" y="30"/>
                </a:lnTo>
                <a:lnTo>
                  <a:pt x="792" y="30"/>
                </a:lnTo>
                <a:lnTo>
                  <a:pt x="798" y="30"/>
                </a:lnTo>
                <a:lnTo>
                  <a:pt x="804" y="30"/>
                </a:lnTo>
                <a:lnTo>
                  <a:pt x="810" y="30"/>
                </a:lnTo>
                <a:lnTo>
                  <a:pt x="816" y="30"/>
                </a:lnTo>
                <a:lnTo>
                  <a:pt x="822" y="30"/>
                </a:lnTo>
                <a:lnTo>
                  <a:pt x="828" y="30"/>
                </a:lnTo>
                <a:lnTo>
                  <a:pt x="834" y="30"/>
                </a:lnTo>
                <a:lnTo>
                  <a:pt x="840" y="30"/>
                </a:lnTo>
                <a:lnTo>
                  <a:pt x="846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30"/>
                </a:lnTo>
                <a:lnTo>
                  <a:pt x="876" y="30"/>
                </a:lnTo>
                <a:lnTo>
                  <a:pt x="882" y="30"/>
                </a:lnTo>
                <a:lnTo>
                  <a:pt x="888" y="30"/>
                </a:lnTo>
                <a:lnTo>
                  <a:pt x="894" y="30"/>
                </a:lnTo>
                <a:lnTo>
                  <a:pt x="900" y="30"/>
                </a:lnTo>
                <a:lnTo>
                  <a:pt x="906" y="30"/>
                </a:lnTo>
                <a:lnTo>
                  <a:pt x="912" y="30"/>
                </a:lnTo>
                <a:lnTo>
                  <a:pt x="918" y="30"/>
                </a:lnTo>
                <a:lnTo>
                  <a:pt x="924" y="30"/>
                </a:lnTo>
                <a:lnTo>
                  <a:pt x="930" y="36"/>
                </a:lnTo>
                <a:lnTo>
                  <a:pt x="936" y="36"/>
                </a:lnTo>
                <a:lnTo>
                  <a:pt x="942" y="36"/>
                </a:lnTo>
                <a:lnTo>
                  <a:pt x="948" y="36"/>
                </a:lnTo>
                <a:lnTo>
                  <a:pt x="954" y="36"/>
                </a:lnTo>
                <a:lnTo>
                  <a:pt x="960" y="36"/>
                </a:lnTo>
                <a:lnTo>
                  <a:pt x="966" y="36"/>
                </a:lnTo>
                <a:lnTo>
                  <a:pt x="972" y="36"/>
                </a:lnTo>
                <a:lnTo>
                  <a:pt x="978" y="36"/>
                </a:lnTo>
                <a:lnTo>
                  <a:pt x="984" y="36"/>
                </a:lnTo>
                <a:lnTo>
                  <a:pt x="990" y="36"/>
                </a:lnTo>
                <a:lnTo>
                  <a:pt x="996" y="36"/>
                </a:lnTo>
                <a:lnTo>
                  <a:pt x="1002" y="36"/>
                </a:lnTo>
                <a:lnTo>
                  <a:pt x="1008" y="36"/>
                </a:lnTo>
                <a:lnTo>
                  <a:pt x="1014" y="36"/>
                </a:lnTo>
                <a:lnTo>
                  <a:pt x="1020" y="36"/>
                </a:lnTo>
                <a:lnTo>
                  <a:pt x="1026" y="36"/>
                </a:lnTo>
                <a:lnTo>
                  <a:pt x="1032" y="42"/>
                </a:lnTo>
                <a:lnTo>
                  <a:pt x="1038" y="42"/>
                </a:lnTo>
                <a:lnTo>
                  <a:pt x="1044" y="42"/>
                </a:lnTo>
                <a:lnTo>
                  <a:pt x="1050" y="42"/>
                </a:lnTo>
                <a:lnTo>
                  <a:pt x="1056" y="42"/>
                </a:lnTo>
                <a:lnTo>
                  <a:pt x="1062" y="42"/>
                </a:lnTo>
                <a:lnTo>
                  <a:pt x="1068" y="42"/>
                </a:lnTo>
                <a:lnTo>
                  <a:pt x="1074" y="42"/>
                </a:lnTo>
                <a:lnTo>
                  <a:pt x="1080" y="42"/>
                </a:lnTo>
                <a:lnTo>
                  <a:pt x="1086" y="42"/>
                </a:lnTo>
                <a:lnTo>
                  <a:pt x="1092" y="48"/>
                </a:lnTo>
                <a:lnTo>
                  <a:pt x="1098" y="48"/>
                </a:lnTo>
                <a:lnTo>
                  <a:pt x="1104" y="48"/>
                </a:lnTo>
                <a:lnTo>
                  <a:pt x="1110" y="48"/>
                </a:lnTo>
                <a:lnTo>
                  <a:pt x="1116" y="48"/>
                </a:lnTo>
                <a:lnTo>
                  <a:pt x="1122" y="48"/>
                </a:lnTo>
                <a:lnTo>
                  <a:pt x="1128" y="48"/>
                </a:lnTo>
                <a:lnTo>
                  <a:pt x="1134" y="48"/>
                </a:lnTo>
                <a:lnTo>
                  <a:pt x="1141" y="54"/>
                </a:lnTo>
                <a:lnTo>
                  <a:pt x="1147" y="54"/>
                </a:lnTo>
                <a:lnTo>
                  <a:pt x="1153" y="54"/>
                </a:lnTo>
                <a:lnTo>
                  <a:pt x="1159" y="54"/>
                </a:lnTo>
                <a:lnTo>
                  <a:pt x="1165" y="54"/>
                </a:lnTo>
                <a:lnTo>
                  <a:pt x="1171" y="60"/>
                </a:lnTo>
                <a:lnTo>
                  <a:pt x="1177" y="60"/>
                </a:lnTo>
                <a:lnTo>
                  <a:pt x="1183" y="60"/>
                </a:lnTo>
                <a:lnTo>
                  <a:pt x="1189" y="66"/>
                </a:lnTo>
                <a:lnTo>
                  <a:pt x="1195" y="66"/>
                </a:lnTo>
                <a:lnTo>
                  <a:pt x="1201" y="66"/>
                </a:lnTo>
                <a:lnTo>
                  <a:pt x="1207" y="72"/>
                </a:lnTo>
                <a:lnTo>
                  <a:pt x="1213" y="72"/>
                </a:lnTo>
                <a:lnTo>
                  <a:pt x="1219" y="72"/>
                </a:lnTo>
                <a:lnTo>
                  <a:pt x="1225" y="78"/>
                </a:lnTo>
                <a:lnTo>
                  <a:pt x="1231" y="78"/>
                </a:lnTo>
                <a:lnTo>
                  <a:pt x="1237" y="84"/>
                </a:lnTo>
                <a:lnTo>
                  <a:pt x="1243" y="90"/>
                </a:lnTo>
                <a:lnTo>
                  <a:pt x="1249" y="96"/>
                </a:lnTo>
                <a:lnTo>
                  <a:pt x="1255" y="102"/>
                </a:lnTo>
                <a:lnTo>
                  <a:pt x="1261" y="108"/>
                </a:lnTo>
                <a:lnTo>
                  <a:pt x="1267" y="114"/>
                </a:lnTo>
                <a:lnTo>
                  <a:pt x="1267" y="120"/>
                </a:lnTo>
                <a:lnTo>
                  <a:pt x="1273" y="126"/>
                </a:lnTo>
                <a:lnTo>
                  <a:pt x="1273" y="132"/>
                </a:lnTo>
                <a:lnTo>
                  <a:pt x="1279" y="138"/>
                </a:lnTo>
                <a:lnTo>
                  <a:pt x="1279" y="150"/>
                </a:lnTo>
                <a:lnTo>
                  <a:pt x="1279" y="156"/>
                </a:lnTo>
                <a:lnTo>
                  <a:pt x="1285" y="174"/>
                </a:lnTo>
                <a:lnTo>
                  <a:pt x="1285" y="186"/>
                </a:lnTo>
                <a:lnTo>
                  <a:pt x="1291" y="210"/>
                </a:lnTo>
                <a:lnTo>
                  <a:pt x="1291" y="246"/>
                </a:lnTo>
                <a:lnTo>
                  <a:pt x="1297" y="300"/>
                </a:lnTo>
                <a:lnTo>
                  <a:pt x="1297" y="0"/>
                </a:lnTo>
              </a:path>
            </a:pathLst>
          </a:custGeom>
          <a:solidFill>
            <a:srgbClr val="ff330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967120" y="2095560"/>
            <a:ext cx="2068560" cy="293760"/>
          </a:xfrm>
          <a:custGeom>
            <a:avLst/>
            <a:gdLst/>
            <a:ahLst/>
            <a:rect l="l" t="t" r="r" b="b"/>
            <a:pathLst>
              <a:path w="1296" h="306">
                <a:moveTo>
                  <a:pt x="0" y="306"/>
                </a:moveTo>
                <a:lnTo>
                  <a:pt x="0" y="0"/>
                </a:lnTo>
                <a:lnTo>
                  <a:pt x="6" y="54"/>
                </a:lnTo>
                <a:lnTo>
                  <a:pt x="6" y="90"/>
                </a:lnTo>
                <a:lnTo>
                  <a:pt x="12" y="114"/>
                </a:lnTo>
                <a:lnTo>
                  <a:pt x="12" y="126"/>
                </a:lnTo>
                <a:lnTo>
                  <a:pt x="18" y="144"/>
                </a:lnTo>
                <a:lnTo>
                  <a:pt x="18" y="150"/>
                </a:lnTo>
                <a:lnTo>
                  <a:pt x="18" y="162"/>
                </a:lnTo>
                <a:lnTo>
                  <a:pt x="24" y="168"/>
                </a:lnTo>
                <a:lnTo>
                  <a:pt x="24" y="174"/>
                </a:lnTo>
                <a:lnTo>
                  <a:pt x="30" y="180"/>
                </a:lnTo>
                <a:lnTo>
                  <a:pt x="36" y="186"/>
                </a:lnTo>
                <a:lnTo>
                  <a:pt x="36" y="192"/>
                </a:lnTo>
                <a:lnTo>
                  <a:pt x="42" y="198"/>
                </a:lnTo>
                <a:lnTo>
                  <a:pt x="48" y="204"/>
                </a:lnTo>
                <a:lnTo>
                  <a:pt x="54" y="210"/>
                </a:lnTo>
                <a:lnTo>
                  <a:pt x="60" y="216"/>
                </a:lnTo>
                <a:lnTo>
                  <a:pt x="66" y="222"/>
                </a:lnTo>
                <a:lnTo>
                  <a:pt x="72" y="222"/>
                </a:lnTo>
                <a:lnTo>
                  <a:pt x="78" y="228"/>
                </a:lnTo>
                <a:lnTo>
                  <a:pt x="84" y="228"/>
                </a:lnTo>
                <a:lnTo>
                  <a:pt x="90" y="234"/>
                </a:lnTo>
                <a:lnTo>
                  <a:pt x="96" y="234"/>
                </a:lnTo>
                <a:lnTo>
                  <a:pt x="102" y="234"/>
                </a:lnTo>
                <a:lnTo>
                  <a:pt x="108" y="240"/>
                </a:lnTo>
                <a:lnTo>
                  <a:pt x="114" y="240"/>
                </a:lnTo>
                <a:lnTo>
                  <a:pt x="120" y="240"/>
                </a:lnTo>
                <a:lnTo>
                  <a:pt x="126" y="240"/>
                </a:lnTo>
                <a:lnTo>
                  <a:pt x="132" y="246"/>
                </a:lnTo>
                <a:lnTo>
                  <a:pt x="138" y="246"/>
                </a:lnTo>
                <a:lnTo>
                  <a:pt x="144" y="246"/>
                </a:lnTo>
                <a:lnTo>
                  <a:pt x="150" y="246"/>
                </a:lnTo>
                <a:lnTo>
                  <a:pt x="156" y="246"/>
                </a:lnTo>
                <a:lnTo>
                  <a:pt x="162" y="252"/>
                </a:lnTo>
                <a:lnTo>
                  <a:pt x="168" y="252"/>
                </a:lnTo>
                <a:lnTo>
                  <a:pt x="174" y="252"/>
                </a:lnTo>
                <a:lnTo>
                  <a:pt x="180" y="252"/>
                </a:lnTo>
                <a:lnTo>
                  <a:pt x="186" y="252"/>
                </a:lnTo>
                <a:lnTo>
                  <a:pt x="192" y="252"/>
                </a:lnTo>
                <a:lnTo>
                  <a:pt x="198" y="252"/>
                </a:lnTo>
                <a:lnTo>
                  <a:pt x="204" y="258"/>
                </a:lnTo>
                <a:lnTo>
                  <a:pt x="210" y="258"/>
                </a:lnTo>
                <a:lnTo>
                  <a:pt x="216" y="258"/>
                </a:lnTo>
                <a:lnTo>
                  <a:pt x="222" y="258"/>
                </a:lnTo>
                <a:lnTo>
                  <a:pt x="228" y="258"/>
                </a:lnTo>
                <a:lnTo>
                  <a:pt x="234" y="258"/>
                </a:lnTo>
                <a:lnTo>
                  <a:pt x="240" y="258"/>
                </a:lnTo>
                <a:lnTo>
                  <a:pt x="246" y="258"/>
                </a:lnTo>
                <a:lnTo>
                  <a:pt x="252" y="258"/>
                </a:lnTo>
                <a:lnTo>
                  <a:pt x="258" y="258"/>
                </a:lnTo>
                <a:lnTo>
                  <a:pt x="264" y="258"/>
                </a:lnTo>
                <a:lnTo>
                  <a:pt x="270" y="264"/>
                </a:lnTo>
                <a:lnTo>
                  <a:pt x="276" y="264"/>
                </a:lnTo>
                <a:lnTo>
                  <a:pt x="282" y="264"/>
                </a:lnTo>
                <a:lnTo>
                  <a:pt x="288" y="264"/>
                </a:lnTo>
                <a:lnTo>
                  <a:pt x="294" y="264"/>
                </a:lnTo>
                <a:lnTo>
                  <a:pt x="300" y="264"/>
                </a:lnTo>
                <a:lnTo>
                  <a:pt x="306" y="264"/>
                </a:lnTo>
                <a:lnTo>
                  <a:pt x="312" y="264"/>
                </a:lnTo>
                <a:lnTo>
                  <a:pt x="318" y="264"/>
                </a:lnTo>
                <a:lnTo>
                  <a:pt x="324" y="264"/>
                </a:lnTo>
                <a:lnTo>
                  <a:pt x="330" y="264"/>
                </a:lnTo>
                <a:lnTo>
                  <a:pt x="336" y="264"/>
                </a:lnTo>
                <a:lnTo>
                  <a:pt x="342" y="264"/>
                </a:lnTo>
                <a:lnTo>
                  <a:pt x="348" y="264"/>
                </a:lnTo>
                <a:lnTo>
                  <a:pt x="354" y="264"/>
                </a:lnTo>
                <a:lnTo>
                  <a:pt x="360" y="264"/>
                </a:lnTo>
                <a:lnTo>
                  <a:pt x="366" y="270"/>
                </a:lnTo>
                <a:lnTo>
                  <a:pt x="372" y="270"/>
                </a:lnTo>
                <a:lnTo>
                  <a:pt x="378" y="270"/>
                </a:lnTo>
                <a:lnTo>
                  <a:pt x="384" y="270"/>
                </a:lnTo>
                <a:lnTo>
                  <a:pt x="390" y="270"/>
                </a:lnTo>
                <a:lnTo>
                  <a:pt x="396" y="270"/>
                </a:lnTo>
                <a:lnTo>
                  <a:pt x="402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70"/>
                </a:lnTo>
                <a:lnTo>
                  <a:pt x="426" y="270"/>
                </a:lnTo>
                <a:lnTo>
                  <a:pt x="432" y="270"/>
                </a:lnTo>
                <a:lnTo>
                  <a:pt x="438" y="270"/>
                </a:lnTo>
                <a:lnTo>
                  <a:pt x="444" y="270"/>
                </a:lnTo>
                <a:lnTo>
                  <a:pt x="450" y="270"/>
                </a:lnTo>
                <a:lnTo>
                  <a:pt x="456" y="270"/>
                </a:lnTo>
                <a:lnTo>
                  <a:pt x="462" y="270"/>
                </a:lnTo>
                <a:lnTo>
                  <a:pt x="468" y="270"/>
                </a:lnTo>
                <a:lnTo>
                  <a:pt x="474" y="270"/>
                </a:lnTo>
                <a:lnTo>
                  <a:pt x="480" y="270"/>
                </a:lnTo>
                <a:lnTo>
                  <a:pt x="486" y="270"/>
                </a:lnTo>
                <a:lnTo>
                  <a:pt x="492" y="270"/>
                </a:lnTo>
                <a:lnTo>
                  <a:pt x="498" y="270"/>
                </a:lnTo>
                <a:lnTo>
                  <a:pt x="504" y="270"/>
                </a:lnTo>
                <a:lnTo>
                  <a:pt x="510" y="270"/>
                </a:lnTo>
                <a:lnTo>
                  <a:pt x="516" y="270"/>
                </a:lnTo>
                <a:lnTo>
                  <a:pt x="522" y="270"/>
                </a:lnTo>
                <a:lnTo>
                  <a:pt x="528" y="276"/>
                </a:lnTo>
                <a:lnTo>
                  <a:pt x="534" y="276"/>
                </a:lnTo>
                <a:lnTo>
                  <a:pt x="540" y="276"/>
                </a:lnTo>
                <a:lnTo>
                  <a:pt x="546" y="276"/>
                </a:lnTo>
                <a:lnTo>
                  <a:pt x="552" y="276"/>
                </a:lnTo>
                <a:lnTo>
                  <a:pt x="558" y="276"/>
                </a:lnTo>
                <a:lnTo>
                  <a:pt x="564" y="276"/>
                </a:lnTo>
                <a:lnTo>
                  <a:pt x="570" y="276"/>
                </a:lnTo>
                <a:lnTo>
                  <a:pt x="576" y="276"/>
                </a:lnTo>
                <a:lnTo>
                  <a:pt x="582" y="276"/>
                </a:lnTo>
                <a:lnTo>
                  <a:pt x="588" y="276"/>
                </a:lnTo>
                <a:lnTo>
                  <a:pt x="594" y="276"/>
                </a:lnTo>
                <a:lnTo>
                  <a:pt x="600" y="276"/>
                </a:lnTo>
                <a:lnTo>
                  <a:pt x="606" y="276"/>
                </a:lnTo>
                <a:lnTo>
                  <a:pt x="612" y="276"/>
                </a:lnTo>
                <a:lnTo>
                  <a:pt x="618" y="276"/>
                </a:lnTo>
                <a:lnTo>
                  <a:pt x="624" y="276"/>
                </a:lnTo>
                <a:lnTo>
                  <a:pt x="630" y="276"/>
                </a:lnTo>
                <a:lnTo>
                  <a:pt x="636" y="276"/>
                </a:lnTo>
                <a:lnTo>
                  <a:pt x="642" y="276"/>
                </a:lnTo>
                <a:lnTo>
                  <a:pt x="648" y="276"/>
                </a:lnTo>
                <a:lnTo>
                  <a:pt x="654" y="276"/>
                </a:lnTo>
                <a:lnTo>
                  <a:pt x="660" y="276"/>
                </a:lnTo>
                <a:lnTo>
                  <a:pt x="666" y="276"/>
                </a:lnTo>
                <a:lnTo>
                  <a:pt x="672" y="276"/>
                </a:lnTo>
                <a:lnTo>
                  <a:pt x="678" y="276"/>
                </a:lnTo>
                <a:lnTo>
                  <a:pt x="684" y="276"/>
                </a:lnTo>
                <a:lnTo>
                  <a:pt x="690" y="276"/>
                </a:lnTo>
                <a:lnTo>
                  <a:pt x="696" y="276"/>
                </a:lnTo>
                <a:lnTo>
                  <a:pt x="702" y="276"/>
                </a:lnTo>
                <a:lnTo>
                  <a:pt x="708" y="276"/>
                </a:lnTo>
                <a:lnTo>
                  <a:pt x="714" y="276"/>
                </a:lnTo>
                <a:lnTo>
                  <a:pt x="720" y="276"/>
                </a:lnTo>
                <a:lnTo>
                  <a:pt x="726" y="276"/>
                </a:lnTo>
                <a:lnTo>
                  <a:pt x="732" y="276"/>
                </a:lnTo>
                <a:lnTo>
                  <a:pt x="738" y="276"/>
                </a:lnTo>
                <a:lnTo>
                  <a:pt x="744" y="276"/>
                </a:lnTo>
                <a:lnTo>
                  <a:pt x="750" y="276"/>
                </a:lnTo>
                <a:lnTo>
                  <a:pt x="756" y="276"/>
                </a:lnTo>
                <a:lnTo>
                  <a:pt x="762" y="276"/>
                </a:lnTo>
                <a:lnTo>
                  <a:pt x="768" y="276"/>
                </a:lnTo>
                <a:lnTo>
                  <a:pt x="774" y="276"/>
                </a:lnTo>
                <a:lnTo>
                  <a:pt x="780" y="276"/>
                </a:lnTo>
                <a:lnTo>
                  <a:pt x="786" y="276"/>
                </a:lnTo>
                <a:lnTo>
                  <a:pt x="792" y="276"/>
                </a:lnTo>
                <a:lnTo>
                  <a:pt x="798" y="276"/>
                </a:lnTo>
                <a:lnTo>
                  <a:pt x="804" y="276"/>
                </a:lnTo>
                <a:lnTo>
                  <a:pt x="810" y="276"/>
                </a:lnTo>
                <a:lnTo>
                  <a:pt x="816" y="276"/>
                </a:lnTo>
                <a:lnTo>
                  <a:pt x="822" y="276"/>
                </a:lnTo>
                <a:lnTo>
                  <a:pt x="828" y="282"/>
                </a:lnTo>
                <a:lnTo>
                  <a:pt x="834" y="282"/>
                </a:lnTo>
                <a:lnTo>
                  <a:pt x="840" y="282"/>
                </a:lnTo>
                <a:lnTo>
                  <a:pt x="846" y="282"/>
                </a:lnTo>
                <a:lnTo>
                  <a:pt x="852" y="282"/>
                </a:lnTo>
                <a:lnTo>
                  <a:pt x="858" y="282"/>
                </a:lnTo>
                <a:lnTo>
                  <a:pt x="864" y="282"/>
                </a:lnTo>
                <a:lnTo>
                  <a:pt x="870" y="282"/>
                </a:lnTo>
                <a:lnTo>
                  <a:pt x="876" y="282"/>
                </a:lnTo>
                <a:lnTo>
                  <a:pt x="882" y="282"/>
                </a:lnTo>
                <a:lnTo>
                  <a:pt x="888" y="282"/>
                </a:lnTo>
                <a:lnTo>
                  <a:pt x="894" y="282"/>
                </a:lnTo>
                <a:lnTo>
                  <a:pt x="900" y="282"/>
                </a:lnTo>
                <a:lnTo>
                  <a:pt x="906" y="282"/>
                </a:lnTo>
                <a:lnTo>
                  <a:pt x="912" y="282"/>
                </a:lnTo>
                <a:lnTo>
                  <a:pt x="918" y="282"/>
                </a:lnTo>
                <a:lnTo>
                  <a:pt x="924" y="282"/>
                </a:lnTo>
                <a:lnTo>
                  <a:pt x="930" y="282"/>
                </a:lnTo>
                <a:lnTo>
                  <a:pt x="936" y="282"/>
                </a:lnTo>
                <a:lnTo>
                  <a:pt x="942" y="282"/>
                </a:lnTo>
                <a:lnTo>
                  <a:pt x="948" y="282"/>
                </a:lnTo>
                <a:lnTo>
                  <a:pt x="954" y="282"/>
                </a:lnTo>
                <a:lnTo>
                  <a:pt x="960" y="282"/>
                </a:lnTo>
                <a:lnTo>
                  <a:pt x="966" y="282"/>
                </a:lnTo>
                <a:lnTo>
                  <a:pt x="972" y="282"/>
                </a:lnTo>
                <a:lnTo>
                  <a:pt x="978" y="282"/>
                </a:lnTo>
                <a:lnTo>
                  <a:pt x="984" y="282"/>
                </a:lnTo>
                <a:lnTo>
                  <a:pt x="990" y="282"/>
                </a:lnTo>
                <a:lnTo>
                  <a:pt x="996" y="282"/>
                </a:lnTo>
                <a:lnTo>
                  <a:pt x="1002" y="282"/>
                </a:lnTo>
                <a:lnTo>
                  <a:pt x="1008" y="282"/>
                </a:lnTo>
                <a:lnTo>
                  <a:pt x="1014" y="282"/>
                </a:lnTo>
                <a:lnTo>
                  <a:pt x="1020" y="282"/>
                </a:lnTo>
                <a:lnTo>
                  <a:pt x="1026" y="282"/>
                </a:lnTo>
                <a:lnTo>
                  <a:pt x="1032" y="282"/>
                </a:lnTo>
                <a:lnTo>
                  <a:pt x="1038" y="282"/>
                </a:lnTo>
                <a:lnTo>
                  <a:pt x="1044" y="282"/>
                </a:lnTo>
                <a:lnTo>
                  <a:pt x="1050" y="282"/>
                </a:lnTo>
                <a:lnTo>
                  <a:pt x="1056" y="282"/>
                </a:lnTo>
                <a:lnTo>
                  <a:pt x="1062" y="282"/>
                </a:lnTo>
                <a:lnTo>
                  <a:pt x="1068" y="282"/>
                </a:lnTo>
                <a:lnTo>
                  <a:pt x="1074" y="282"/>
                </a:lnTo>
                <a:lnTo>
                  <a:pt x="1080" y="282"/>
                </a:lnTo>
                <a:lnTo>
                  <a:pt x="1086" y="282"/>
                </a:lnTo>
                <a:lnTo>
                  <a:pt x="1092" y="282"/>
                </a:lnTo>
                <a:lnTo>
                  <a:pt x="1098" y="282"/>
                </a:lnTo>
                <a:lnTo>
                  <a:pt x="1104" y="282"/>
                </a:lnTo>
                <a:lnTo>
                  <a:pt x="1110" y="282"/>
                </a:lnTo>
                <a:lnTo>
                  <a:pt x="1116" y="282"/>
                </a:lnTo>
                <a:lnTo>
                  <a:pt x="1122" y="282"/>
                </a:lnTo>
                <a:lnTo>
                  <a:pt x="1128" y="282"/>
                </a:lnTo>
                <a:lnTo>
                  <a:pt x="1134" y="282"/>
                </a:lnTo>
                <a:lnTo>
                  <a:pt x="1140" y="282"/>
                </a:lnTo>
                <a:lnTo>
                  <a:pt x="1146" y="282"/>
                </a:lnTo>
                <a:lnTo>
                  <a:pt x="1152" y="282"/>
                </a:lnTo>
                <a:lnTo>
                  <a:pt x="1158" y="282"/>
                </a:lnTo>
                <a:lnTo>
                  <a:pt x="1164" y="282"/>
                </a:lnTo>
                <a:lnTo>
                  <a:pt x="1170" y="282"/>
                </a:lnTo>
                <a:lnTo>
                  <a:pt x="1176" y="282"/>
                </a:lnTo>
                <a:lnTo>
                  <a:pt x="1182" y="282"/>
                </a:lnTo>
                <a:lnTo>
                  <a:pt x="1188" y="282"/>
                </a:lnTo>
                <a:lnTo>
                  <a:pt x="1194" y="282"/>
                </a:lnTo>
                <a:lnTo>
                  <a:pt x="1200" y="282"/>
                </a:lnTo>
                <a:lnTo>
                  <a:pt x="1206" y="282"/>
                </a:lnTo>
                <a:lnTo>
                  <a:pt x="1212" y="282"/>
                </a:lnTo>
                <a:lnTo>
                  <a:pt x="1218" y="282"/>
                </a:lnTo>
                <a:lnTo>
                  <a:pt x="1224" y="282"/>
                </a:lnTo>
                <a:lnTo>
                  <a:pt x="1230" y="282"/>
                </a:lnTo>
                <a:lnTo>
                  <a:pt x="1236" y="282"/>
                </a:lnTo>
                <a:lnTo>
                  <a:pt x="1242" y="282"/>
                </a:lnTo>
                <a:lnTo>
                  <a:pt x="1248" y="282"/>
                </a:lnTo>
                <a:lnTo>
                  <a:pt x="1254" y="282"/>
                </a:lnTo>
                <a:lnTo>
                  <a:pt x="1260" y="282"/>
                </a:lnTo>
                <a:lnTo>
                  <a:pt x="1266" y="282"/>
                </a:lnTo>
                <a:lnTo>
                  <a:pt x="1272" y="282"/>
                </a:lnTo>
                <a:lnTo>
                  <a:pt x="1278" y="282"/>
                </a:lnTo>
                <a:lnTo>
                  <a:pt x="1284" y="282"/>
                </a:lnTo>
                <a:lnTo>
                  <a:pt x="1290" y="282"/>
                </a:lnTo>
                <a:lnTo>
                  <a:pt x="1296" y="282"/>
                </a:lnTo>
                <a:lnTo>
                  <a:pt x="1296" y="306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57040" y="3559320"/>
            <a:ext cx="194796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Chroma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855720" y="237636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solidFill>
            <a:srgbClr val="ff330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924280" y="207648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63560" y="2146320"/>
            <a:ext cx="40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959200" y="2357280"/>
            <a:ext cx="0" cy="1592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164200" y="1562040"/>
            <a:ext cx="3695760" cy="3578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sign of transverse HOM induced by the cavity at ESRF.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rrow band impedanc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mechanism to cure transverse HOM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97 the installation of 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pair of caviti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ifi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ither the SINGLE BUNCH dynamic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ULTIBUNCH  TRANSVERSE dynam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74308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9C8-6996-4DCC-BD6A-A0E6B4817D5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C414F-1174-4933-A485-8B2314BD6F01}" type="datetime1">
              <a:rPr lang="en-US"/>
              <a:t>07/29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2409840" y="380880"/>
            <a:ext cx="1657440" cy="582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909720" y="5832360"/>
            <a:ext cx="411300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909720" y="5832360"/>
            <a:ext cx="4113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90972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13176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2344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1733400" y="5784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214164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0570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25574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296712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941200" y="5864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33750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378936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73176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41990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46134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55868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909720" y="583236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835200" y="563256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rot="16200000">
            <a:off x="2125080" y="4995360"/>
            <a:ext cx="47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m=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rot="16200000">
            <a:off x="3513600" y="501120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775960" y="4067280"/>
            <a:ext cx="36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m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rot="16200000">
            <a:off x="2552760" y="4614840"/>
            <a:ext cx="46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m=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195560" y="5322960"/>
            <a:ext cx="411300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943360" y="378936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179360" y="4970520"/>
            <a:ext cx="411336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185840" y="4044960"/>
            <a:ext cx="411336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908440" y="1278000"/>
            <a:ext cx="37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761920" y="1084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908440" y="695160"/>
            <a:ext cx="37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761920" y="50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2925720" y="388620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879480" y="2386080"/>
            <a:ext cx="41259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128916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196640" y="23572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211788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025000" y="2381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V="1">
            <a:off x="294804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945880" y="248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376704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25280" y="2417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459576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554000" y="2367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925720" y="35514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742840" y="33512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925720" y="29559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742840" y="2759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925720" y="238608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84760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925720" y="179064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779200" y="159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925720" y="11955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957400" y="434880"/>
            <a:ext cx="0" cy="351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674720" y="8715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( M 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57040" y="3559320"/>
            <a:ext cx="194796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Chroma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855720" y="235260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solidFill>
            <a:srgbClr val="ff330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924280" y="207648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763560" y="2146320"/>
            <a:ext cx="40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743200" y="2143080"/>
            <a:ext cx="123840" cy="228600"/>
          </a:xfrm>
          <a:prstGeom prst="upArrow">
            <a:avLst>
              <a:gd name="adj1" fmla="val 50000"/>
              <a:gd name="adj2" fmla="val 461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700600" y="1919160"/>
            <a:ext cx="128880" cy="457200"/>
          </a:xfrm>
          <a:custGeom>
            <a:avLst/>
            <a:gdLst/>
            <a:ahLst/>
            <a:rect l="l" t="t" r="r" b="b"/>
            <a:pathLst>
              <a:path w="81" h="288">
                <a:moveTo>
                  <a:pt x="0" y="285"/>
                </a:moveTo>
                <a:cubicBezTo>
                  <a:pt x="11" y="142"/>
                  <a:pt x="23" y="0"/>
                  <a:pt x="36" y="0"/>
                </a:cubicBezTo>
                <a:cubicBezTo>
                  <a:pt x="49" y="0"/>
                  <a:pt x="65" y="144"/>
                  <a:pt x="81" y="288"/>
                </a:cubicBezTo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149800" y="2374920"/>
            <a:ext cx="316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6740640" y="1265400"/>
            <a:ext cx="1440" cy="221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6740640" y="3427560"/>
            <a:ext cx="1440" cy="5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V="1">
            <a:off x="6730920" y="2389320"/>
            <a:ext cx="1800" cy="5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740640" y="2365200"/>
            <a:ext cx="31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597000" y="3408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740640" y="2932200"/>
            <a:ext cx="31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649920" y="285588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740640" y="2379600"/>
            <a:ext cx="31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681240" y="2303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740640" y="1817640"/>
            <a:ext cx="31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681240" y="1741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740640" y="1265400"/>
            <a:ext cx="31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627240" y="118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719760" y="238932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719760" y="1332000"/>
            <a:ext cx="1800" cy="1440"/>
          </a:xfrm>
          <a:prstGeom prst="line">
            <a:avLst/>
          </a:prstGeom>
          <a:ln w="1908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719760" y="238932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719760" y="1332000"/>
            <a:ext cx="1800" cy="1440"/>
          </a:xfrm>
          <a:prstGeom prst="line">
            <a:avLst/>
          </a:prstGeom>
          <a:ln w="1908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742080" y="1332000"/>
            <a:ext cx="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742080" y="1332000"/>
            <a:ext cx="0" cy="1440"/>
          </a:xfrm>
          <a:prstGeom prst="line">
            <a:avLst/>
          </a:prstGeom>
          <a:ln w="1908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719760" y="3618000"/>
            <a:ext cx="1800" cy="1440"/>
          </a:xfrm>
          <a:prstGeom prst="line">
            <a:avLst/>
          </a:prstGeom>
          <a:ln w="1908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719760" y="3618000"/>
            <a:ext cx="1800" cy="1440"/>
          </a:xfrm>
          <a:prstGeom prst="line">
            <a:avLst/>
          </a:prstGeom>
          <a:ln w="1908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6742080" y="3618000"/>
            <a:ext cx="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742080" y="3618000"/>
            <a:ext cx="0" cy="1440"/>
          </a:xfrm>
          <a:prstGeom prst="line">
            <a:avLst/>
          </a:prstGeom>
          <a:ln w="1908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6740640" y="242676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737040" y="2527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9933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6729480" y="242712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729480" y="242712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211720" y="2486160"/>
            <a:ext cx="58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33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339933"/>
                </a:solidFill>
                <a:latin typeface="Times New Roman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821720" y="2467080"/>
            <a:ext cx="58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339933"/>
                </a:solidFill>
                <a:latin typeface="Times New Roman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472000" y="2209680"/>
            <a:ext cx="504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8082000" y="2209680"/>
            <a:ext cx="468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681520" y="2367000"/>
            <a:ext cx="2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762520" y="2224080"/>
            <a:ext cx="504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886440" y="2209680"/>
            <a:ext cx="504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7781760" y="1924200"/>
            <a:ext cx="128880" cy="457200"/>
          </a:xfrm>
          <a:custGeom>
            <a:avLst/>
            <a:gdLst/>
            <a:ahLst/>
            <a:rect l="l" t="t" r="r" b="b"/>
            <a:pathLst>
              <a:path w="81" h="288">
                <a:moveTo>
                  <a:pt x="0" y="285"/>
                </a:moveTo>
                <a:cubicBezTo>
                  <a:pt x="11" y="142"/>
                  <a:pt x="23" y="0"/>
                  <a:pt x="36" y="0"/>
                </a:cubicBezTo>
                <a:cubicBezTo>
                  <a:pt x="49" y="0"/>
                  <a:pt x="65" y="144"/>
                  <a:pt x="81" y="288"/>
                </a:cubicBezTo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810480" y="2381400"/>
            <a:ext cx="2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8267760" y="2238480"/>
            <a:ext cx="468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8191440" y="2409840"/>
            <a:ext cx="2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391000" y="3933720"/>
            <a:ext cx="3143520" cy="147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band impedanc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ongly hel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bilize the narrow band transverse HOM inst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574308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C06-3B37-443C-9F1E-8FA0C250DDA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6C93A-F7BA-441B-91F3-53F2BAAEC20E}" type="datetime1">
              <a:rPr lang="en-US"/>
              <a:t>07/29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"/>
          <p:cNvSpPr/>
          <p:nvPr/>
        </p:nvSpPr>
        <p:spPr>
          <a:xfrm>
            <a:off x="2409840" y="380880"/>
            <a:ext cx="1657440" cy="582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909720" y="5832360"/>
            <a:ext cx="411300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909720" y="5832360"/>
            <a:ext cx="4113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90972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13176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2344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1733400" y="5784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214164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0570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V="1">
            <a:off x="25574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296712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2941200" y="5864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33750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378936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73176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41990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46134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55868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909720" y="583236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835200" y="563256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rot="16200000">
            <a:off x="2125080" y="4995360"/>
            <a:ext cx="47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m=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rot="16200000">
            <a:off x="3513600" y="501120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775960" y="4067280"/>
            <a:ext cx="36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m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rot="16200000">
            <a:off x="2552760" y="4614840"/>
            <a:ext cx="46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m=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195560" y="5322960"/>
            <a:ext cx="411300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2943360" y="378936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179360" y="4970520"/>
            <a:ext cx="411336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185840" y="4044960"/>
            <a:ext cx="411336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908440" y="1278000"/>
            <a:ext cx="37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761920" y="1084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908440" y="695160"/>
            <a:ext cx="37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761920" y="50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2925720" y="388620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879480" y="2386080"/>
            <a:ext cx="41259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128916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196640" y="23572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211788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025000" y="2381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294804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945880" y="248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376704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725280" y="2417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459576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554000" y="2367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925720" y="35514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742840" y="33512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925720" y="29559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742840" y="2759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925720" y="238608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84760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925720" y="179064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779200" y="159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925720" y="11955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2957400" y="434880"/>
            <a:ext cx="0" cy="3514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674720" y="8715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( M 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887400" y="2389320"/>
            <a:ext cx="2062080" cy="271440"/>
          </a:xfrm>
          <a:custGeom>
            <a:avLst/>
            <a:gdLst/>
            <a:ahLst/>
            <a:rect l="l" t="t" r="r" b="b"/>
            <a:pathLst>
              <a:path w="1297" h="300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16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24"/>
                </a:lnTo>
                <a:lnTo>
                  <a:pt x="546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76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06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36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66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0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0" y="24"/>
                </a:lnTo>
                <a:lnTo>
                  <a:pt x="726" y="24"/>
                </a:lnTo>
                <a:lnTo>
                  <a:pt x="732" y="24"/>
                </a:lnTo>
                <a:lnTo>
                  <a:pt x="738" y="24"/>
                </a:lnTo>
                <a:lnTo>
                  <a:pt x="744" y="24"/>
                </a:lnTo>
                <a:lnTo>
                  <a:pt x="750" y="24"/>
                </a:lnTo>
                <a:lnTo>
                  <a:pt x="756" y="24"/>
                </a:lnTo>
                <a:lnTo>
                  <a:pt x="762" y="24"/>
                </a:lnTo>
                <a:lnTo>
                  <a:pt x="768" y="24"/>
                </a:lnTo>
                <a:lnTo>
                  <a:pt x="774" y="30"/>
                </a:lnTo>
                <a:lnTo>
                  <a:pt x="780" y="30"/>
                </a:lnTo>
                <a:lnTo>
                  <a:pt x="786" y="30"/>
                </a:lnTo>
                <a:lnTo>
                  <a:pt x="792" y="30"/>
                </a:lnTo>
                <a:lnTo>
                  <a:pt x="798" y="30"/>
                </a:lnTo>
                <a:lnTo>
                  <a:pt x="804" y="30"/>
                </a:lnTo>
                <a:lnTo>
                  <a:pt x="810" y="30"/>
                </a:lnTo>
                <a:lnTo>
                  <a:pt x="816" y="30"/>
                </a:lnTo>
                <a:lnTo>
                  <a:pt x="822" y="30"/>
                </a:lnTo>
                <a:lnTo>
                  <a:pt x="828" y="30"/>
                </a:lnTo>
                <a:lnTo>
                  <a:pt x="834" y="30"/>
                </a:lnTo>
                <a:lnTo>
                  <a:pt x="840" y="30"/>
                </a:lnTo>
                <a:lnTo>
                  <a:pt x="846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30"/>
                </a:lnTo>
                <a:lnTo>
                  <a:pt x="876" y="30"/>
                </a:lnTo>
                <a:lnTo>
                  <a:pt x="882" y="30"/>
                </a:lnTo>
                <a:lnTo>
                  <a:pt x="888" y="30"/>
                </a:lnTo>
                <a:lnTo>
                  <a:pt x="894" y="30"/>
                </a:lnTo>
                <a:lnTo>
                  <a:pt x="900" y="30"/>
                </a:lnTo>
                <a:lnTo>
                  <a:pt x="906" y="30"/>
                </a:lnTo>
                <a:lnTo>
                  <a:pt x="912" y="30"/>
                </a:lnTo>
                <a:lnTo>
                  <a:pt x="918" y="30"/>
                </a:lnTo>
                <a:lnTo>
                  <a:pt x="924" y="30"/>
                </a:lnTo>
                <a:lnTo>
                  <a:pt x="930" y="36"/>
                </a:lnTo>
                <a:lnTo>
                  <a:pt x="936" y="36"/>
                </a:lnTo>
                <a:lnTo>
                  <a:pt x="942" y="36"/>
                </a:lnTo>
                <a:lnTo>
                  <a:pt x="948" y="36"/>
                </a:lnTo>
                <a:lnTo>
                  <a:pt x="954" y="36"/>
                </a:lnTo>
                <a:lnTo>
                  <a:pt x="960" y="36"/>
                </a:lnTo>
                <a:lnTo>
                  <a:pt x="966" y="36"/>
                </a:lnTo>
                <a:lnTo>
                  <a:pt x="972" y="36"/>
                </a:lnTo>
                <a:lnTo>
                  <a:pt x="978" y="36"/>
                </a:lnTo>
                <a:lnTo>
                  <a:pt x="984" y="36"/>
                </a:lnTo>
                <a:lnTo>
                  <a:pt x="990" y="36"/>
                </a:lnTo>
                <a:lnTo>
                  <a:pt x="996" y="36"/>
                </a:lnTo>
                <a:lnTo>
                  <a:pt x="1002" y="36"/>
                </a:lnTo>
                <a:lnTo>
                  <a:pt x="1008" y="36"/>
                </a:lnTo>
                <a:lnTo>
                  <a:pt x="1014" y="36"/>
                </a:lnTo>
                <a:lnTo>
                  <a:pt x="1020" y="36"/>
                </a:lnTo>
                <a:lnTo>
                  <a:pt x="1026" y="36"/>
                </a:lnTo>
                <a:lnTo>
                  <a:pt x="1032" y="42"/>
                </a:lnTo>
                <a:lnTo>
                  <a:pt x="1038" y="42"/>
                </a:lnTo>
                <a:lnTo>
                  <a:pt x="1044" y="42"/>
                </a:lnTo>
                <a:lnTo>
                  <a:pt x="1050" y="42"/>
                </a:lnTo>
                <a:lnTo>
                  <a:pt x="1056" y="42"/>
                </a:lnTo>
                <a:lnTo>
                  <a:pt x="1062" y="42"/>
                </a:lnTo>
                <a:lnTo>
                  <a:pt x="1068" y="42"/>
                </a:lnTo>
                <a:lnTo>
                  <a:pt x="1074" y="42"/>
                </a:lnTo>
                <a:lnTo>
                  <a:pt x="1080" y="42"/>
                </a:lnTo>
                <a:lnTo>
                  <a:pt x="1086" y="42"/>
                </a:lnTo>
                <a:lnTo>
                  <a:pt x="1092" y="48"/>
                </a:lnTo>
                <a:lnTo>
                  <a:pt x="1098" y="48"/>
                </a:lnTo>
                <a:lnTo>
                  <a:pt x="1104" y="48"/>
                </a:lnTo>
                <a:lnTo>
                  <a:pt x="1110" y="48"/>
                </a:lnTo>
                <a:lnTo>
                  <a:pt x="1116" y="48"/>
                </a:lnTo>
                <a:lnTo>
                  <a:pt x="1122" y="48"/>
                </a:lnTo>
                <a:lnTo>
                  <a:pt x="1128" y="48"/>
                </a:lnTo>
                <a:lnTo>
                  <a:pt x="1134" y="48"/>
                </a:lnTo>
                <a:lnTo>
                  <a:pt x="1141" y="54"/>
                </a:lnTo>
                <a:lnTo>
                  <a:pt x="1147" y="54"/>
                </a:lnTo>
                <a:lnTo>
                  <a:pt x="1153" y="54"/>
                </a:lnTo>
                <a:lnTo>
                  <a:pt x="1159" y="54"/>
                </a:lnTo>
                <a:lnTo>
                  <a:pt x="1165" y="54"/>
                </a:lnTo>
                <a:lnTo>
                  <a:pt x="1171" y="60"/>
                </a:lnTo>
                <a:lnTo>
                  <a:pt x="1177" y="60"/>
                </a:lnTo>
                <a:lnTo>
                  <a:pt x="1183" y="60"/>
                </a:lnTo>
                <a:lnTo>
                  <a:pt x="1189" y="66"/>
                </a:lnTo>
                <a:lnTo>
                  <a:pt x="1195" y="66"/>
                </a:lnTo>
                <a:lnTo>
                  <a:pt x="1201" y="66"/>
                </a:lnTo>
                <a:lnTo>
                  <a:pt x="1207" y="72"/>
                </a:lnTo>
                <a:lnTo>
                  <a:pt x="1213" y="72"/>
                </a:lnTo>
                <a:lnTo>
                  <a:pt x="1219" y="72"/>
                </a:lnTo>
                <a:lnTo>
                  <a:pt x="1225" y="78"/>
                </a:lnTo>
                <a:lnTo>
                  <a:pt x="1231" y="78"/>
                </a:lnTo>
                <a:lnTo>
                  <a:pt x="1237" y="84"/>
                </a:lnTo>
                <a:lnTo>
                  <a:pt x="1243" y="90"/>
                </a:lnTo>
                <a:lnTo>
                  <a:pt x="1249" y="96"/>
                </a:lnTo>
                <a:lnTo>
                  <a:pt x="1255" y="102"/>
                </a:lnTo>
                <a:lnTo>
                  <a:pt x="1261" y="108"/>
                </a:lnTo>
                <a:lnTo>
                  <a:pt x="1267" y="114"/>
                </a:lnTo>
                <a:lnTo>
                  <a:pt x="1267" y="120"/>
                </a:lnTo>
                <a:lnTo>
                  <a:pt x="1273" y="126"/>
                </a:lnTo>
                <a:lnTo>
                  <a:pt x="1273" y="132"/>
                </a:lnTo>
                <a:lnTo>
                  <a:pt x="1279" y="138"/>
                </a:lnTo>
                <a:lnTo>
                  <a:pt x="1279" y="150"/>
                </a:lnTo>
                <a:lnTo>
                  <a:pt x="1279" y="156"/>
                </a:lnTo>
                <a:lnTo>
                  <a:pt x="1285" y="174"/>
                </a:lnTo>
                <a:lnTo>
                  <a:pt x="1285" y="186"/>
                </a:lnTo>
                <a:lnTo>
                  <a:pt x="1291" y="210"/>
                </a:lnTo>
                <a:lnTo>
                  <a:pt x="1291" y="246"/>
                </a:lnTo>
                <a:lnTo>
                  <a:pt x="1297" y="300"/>
                </a:lnTo>
                <a:lnTo>
                  <a:pt x="1297" y="0"/>
                </a:lnTo>
              </a:path>
            </a:pathLst>
          </a:custGeom>
          <a:solidFill>
            <a:srgbClr val="ff330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967120" y="2095560"/>
            <a:ext cx="2068560" cy="293760"/>
          </a:xfrm>
          <a:custGeom>
            <a:avLst/>
            <a:gdLst/>
            <a:ahLst/>
            <a:rect l="l" t="t" r="r" b="b"/>
            <a:pathLst>
              <a:path w="1296" h="306">
                <a:moveTo>
                  <a:pt x="0" y="306"/>
                </a:moveTo>
                <a:lnTo>
                  <a:pt x="0" y="0"/>
                </a:lnTo>
                <a:lnTo>
                  <a:pt x="6" y="54"/>
                </a:lnTo>
                <a:lnTo>
                  <a:pt x="6" y="90"/>
                </a:lnTo>
                <a:lnTo>
                  <a:pt x="12" y="114"/>
                </a:lnTo>
                <a:lnTo>
                  <a:pt x="12" y="126"/>
                </a:lnTo>
                <a:lnTo>
                  <a:pt x="18" y="144"/>
                </a:lnTo>
                <a:lnTo>
                  <a:pt x="18" y="150"/>
                </a:lnTo>
                <a:lnTo>
                  <a:pt x="18" y="162"/>
                </a:lnTo>
                <a:lnTo>
                  <a:pt x="24" y="168"/>
                </a:lnTo>
                <a:lnTo>
                  <a:pt x="24" y="174"/>
                </a:lnTo>
                <a:lnTo>
                  <a:pt x="30" y="180"/>
                </a:lnTo>
                <a:lnTo>
                  <a:pt x="36" y="186"/>
                </a:lnTo>
                <a:lnTo>
                  <a:pt x="36" y="192"/>
                </a:lnTo>
                <a:lnTo>
                  <a:pt x="42" y="198"/>
                </a:lnTo>
                <a:lnTo>
                  <a:pt x="48" y="204"/>
                </a:lnTo>
                <a:lnTo>
                  <a:pt x="54" y="210"/>
                </a:lnTo>
                <a:lnTo>
                  <a:pt x="60" y="216"/>
                </a:lnTo>
                <a:lnTo>
                  <a:pt x="66" y="222"/>
                </a:lnTo>
                <a:lnTo>
                  <a:pt x="72" y="222"/>
                </a:lnTo>
                <a:lnTo>
                  <a:pt x="78" y="228"/>
                </a:lnTo>
                <a:lnTo>
                  <a:pt x="84" y="228"/>
                </a:lnTo>
                <a:lnTo>
                  <a:pt x="90" y="234"/>
                </a:lnTo>
                <a:lnTo>
                  <a:pt x="96" y="234"/>
                </a:lnTo>
                <a:lnTo>
                  <a:pt x="102" y="234"/>
                </a:lnTo>
                <a:lnTo>
                  <a:pt x="108" y="240"/>
                </a:lnTo>
                <a:lnTo>
                  <a:pt x="114" y="240"/>
                </a:lnTo>
                <a:lnTo>
                  <a:pt x="120" y="240"/>
                </a:lnTo>
                <a:lnTo>
                  <a:pt x="126" y="240"/>
                </a:lnTo>
                <a:lnTo>
                  <a:pt x="132" y="246"/>
                </a:lnTo>
                <a:lnTo>
                  <a:pt x="138" y="246"/>
                </a:lnTo>
                <a:lnTo>
                  <a:pt x="144" y="246"/>
                </a:lnTo>
                <a:lnTo>
                  <a:pt x="150" y="246"/>
                </a:lnTo>
                <a:lnTo>
                  <a:pt x="156" y="246"/>
                </a:lnTo>
                <a:lnTo>
                  <a:pt x="162" y="252"/>
                </a:lnTo>
                <a:lnTo>
                  <a:pt x="168" y="252"/>
                </a:lnTo>
                <a:lnTo>
                  <a:pt x="174" y="252"/>
                </a:lnTo>
                <a:lnTo>
                  <a:pt x="180" y="252"/>
                </a:lnTo>
                <a:lnTo>
                  <a:pt x="186" y="252"/>
                </a:lnTo>
                <a:lnTo>
                  <a:pt x="192" y="252"/>
                </a:lnTo>
                <a:lnTo>
                  <a:pt x="198" y="252"/>
                </a:lnTo>
                <a:lnTo>
                  <a:pt x="204" y="258"/>
                </a:lnTo>
                <a:lnTo>
                  <a:pt x="210" y="258"/>
                </a:lnTo>
                <a:lnTo>
                  <a:pt x="216" y="258"/>
                </a:lnTo>
                <a:lnTo>
                  <a:pt x="222" y="258"/>
                </a:lnTo>
                <a:lnTo>
                  <a:pt x="228" y="258"/>
                </a:lnTo>
                <a:lnTo>
                  <a:pt x="234" y="258"/>
                </a:lnTo>
                <a:lnTo>
                  <a:pt x="240" y="258"/>
                </a:lnTo>
                <a:lnTo>
                  <a:pt x="246" y="258"/>
                </a:lnTo>
                <a:lnTo>
                  <a:pt x="252" y="258"/>
                </a:lnTo>
                <a:lnTo>
                  <a:pt x="258" y="258"/>
                </a:lnTo>
                <a:lnTo>
                  <a:pt x="264" y="258"/>
                </a:lnTo>
                <a:lnTo>
                  <a:pt x="270" y="264"/>
                </a:lnTo>
                <a:lnTo>
                  <a:pt x="276" y="264"/>
                </a:lnTo>
                <a:lnTo>
                  <a:pt x="282" y="264"/>
                </a:lnTo>
                <a:lnTo>
                  <a:pt x="288" y="264"/>
                </a:lnTo>
                <a:lnTo>
                  <a:pt x="294" y="264"/>
                </a:lnTo>
                <a:lnTo>
                  <a:pt x="300" y="264"/>
                </a:lnTo>
                <a:lnTo>
                  <a:pt x="306" y="264"/>
                </a:lnTo>
                <a:lnTo>
                  <a:pt x="312" y="264"/>
                </a:lnTo>
                <a:lnTo>
                  <a:pt x="318" y="264"/>
                </a:lnTo>
                <a:lnTo>
                  <a:pt x="324" y="264"/>
                </a:lnTo>
                <a:lnTo>
                  <a:pt x="330" y="264"/>
                </a:lnTo>
                <a:lnTo>
                  <a:pt x="336" y="264"/>
                </a:lnTo>
                <a:lnTo>
                  <a:pt x="342" y="264"/>
                </a:lnTo>
                <a:lnTo>
                  <a:pt x="348" y="264"/>
                </a:lnTo>
                <a:lnTo>
                  <a:pt x="354" y="264"/>
                </a:lnTo>
                <a:lnTo>
                  <a:pt x="360" y="264"/>
                </a:lnTo>
                <a:lnTo>
                  <a:pt x="366" y="270"/>
                </a:lnTo>
                <a:lnTo>
                  <a:pt x="372" y="270"/>
                </a:lnTo>
                <a:lnTo>
                  <a:pt x="378" y="270"/>
                </a:lnTo>
                <a:lnTo>
                  <a:pt x="384" y="270"/>
                </a:lnTo>
                <a:lnTo>
                  <a:pt x="390" y="270"/>
                </a:lnTo>
                <a:lnTo>
                  <a:pt x="396" y="270"/>
                </a:lnTo>
                <a:lnTo>
                  <a:pt x="402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70"/>
                </a:lnTo>
                <a:lnTo>
                  <a:pt x="426" y="270"/>
                </a:lnTo>
                <a:lnTo>
                  <a:pt x="432" y="270"/>
                </a:lnTo>
                <a:lnTo>
                  <a:pt x="438" y="270"/>
                </a:lnTo>
                <a:lnTo>
                  <a:pt x="444" y="270"/>
                </a:lnTo>
                <a:lnTo>
                  <a:pt x="450" y="270"/>
                </a:lnTo>
                <a:lnTo>
                  <a:pt x="456" y="270"/>
                </a:lnTo>
                <a:lnTo>
                  <a:pt x="462" y="270"/>
                </a:lnTo>
                <a:lnTo>
                  <a:pt x="468" y="270"/>
                </a:lnTo>
                <a:lnTo>
                  <a:pt x="474" y="270"/>
                </a:lnTo>
                <a:lnTo>
                  <a:pt x="480" y="270"/>
                </a:lnTo>
                <a:lnTo>
                  <a:pt x="486" y="270"/>
                </a:lnTo>
                <a:lnTo>
                  <a:pt x="492" y="270"/>
                </a:lnTo>
                <a:lnTo>
                  <a:pt x="498" y="270"/>
                </a:lnTo>
                <a:lnTo>
                  <a:pt x="504" y="270"/>
                </a:lnTo>
                <a:lnTo>
                  <a:pt x="510" y="270"/>
                </a:lnTo>
                <a:lnTo>
                  <a:pt x="516" y="270"/>
                </a:lnTo>
                <a:lnTo>
                  <a:pt x="522" y="270"/>
                </a:lnTo>
                <a:lnTo>
                  <a:pt x="528" y="276"/>
                </a:lnTo>
                <a:lnTo>
                  <a:pt x="534" y="276"/>
                </a:lnTo>
                <a:lnTo>
                  <a:pt x="540" y="276"/>
                </a:lnTo>
                <a:lnTo>
                  <a:pt x="546" y="276"/>
                </a:lnTo>
                <a:lnTo>
                  <a:pt x="552" y="276"/>
                </a:lnTo>
                <a:lnTo>
                  <a:pt x="558" y="276"/>
                </a:lnTo>
                <a:lnTo>
                  <a:pt x="564" y="276"/>
                </a:lnTo>
                <a:lnTo>
                  <a:pt x="570" y="276"/>
                </a:lnTo>
                <a:lnTo>
                  <a:pt x="576" y="276"/>
                </a:lnTo>
                <a:lnTo>
                  <a:pt x="582" y="276"/>
                </a:lnTo>
                <a:lnTo>
                  <a:pt x="588" y="276"/>
                </a:lnTo>
                <a:lnTo>
                  <a:pt x="594" y="276"/>
                </a:lnTo>
                <a:lnTo>
                  <a:pt x="600" y="276"/>
                </a:lnTo>
                <a:lnTo>
                  <a:pt x="606" y="276"/>
                </a:lnTo>
                <a:lnTo>
                  <a:pt x="612" y="276"/>
                </a:lnTo>
                <a:lnTo>
                  <a:pt x="618" y="276"/>
                </a:lnTo>
                <a:lnTo>
                  <a:pt x="624" y="276"/>
                </a:lnTo>
                <a:lnTo>
                  <a:pt x="630" y="276"/>
                </a:lnTo>
                <a:lnTo>
                  <a:pt x="636" y="276"/>
                </a:lnTo>
                <a:lnTo>
                  <a:pt x="642" y="276"/>
                </a:lnTo>
                <a:lnTo>
                  <a:pt x="648" y="276"/>
                </a:lnTo>
                <a:lnTo>
                  <a:pt x="654" y="276"/>
                </a:lnTo>
                <a:lnTo>
                  <a:pt x="660" y="276"/>
                </a:lnTo>
                <a:lnTo>
                  <a:pt x="666" y="276"/>
                </a:lnTo>
                <a:lnTo>
                  <a:pt x="672" y="276"/>
                </a:lnTo>
                <a:lnTo>
                  <a:pt x="678" y="276"/>
                </a:lnTo>
                <a:lnTo>
                  <a:pt x="684" y="276"/>
                </a:lnTo>
                <a:lnTo>
                  <a:pt x="690" y="276"/>
                </a:lnTo>
                <a:lnTo>
                  <a:pt x="696" y="276"/>
                </a:lnTo>
                <a:lnTo>
                  <a:pt x="702" y="276"/>
                </a:lnTo>
                <a:lnTo>
                  <a:pt x="708" y="276"/>
                </a:lnTo>
                <a:lnTo>
                  <a:pt x="714" y="276"/>
                </a:lnTo>
                <a:lnTo>
                  <a:pt x="720" y="276"/>
                </a:lnTo>
                <a:lnTo>
                  <a:pt x="726" y="276"/>
                </a:lnTo>
                <a:lnTo>
                  <a:pt x="732" y="276"/>
                </a:lnTo>
                <a:lnTo>
                  <a:pt x="738" y="276"/>
                </a:lnTo>
                <a:lnTo>
                  <a:pt x="744" y="276"/>
                </a:lnTo>
                <a:lnTo>
                  <a:pt x="750" y="276"/>
                </a:lnTo>
                <a:lnTo>
                  <a:pt x="756" y="276"/>
                </a:lnTo>
                <a:lnTo>
                  <a:pt x="762" y="276"/>
                </a:lnTo>
                <a:lnTo>
                  <a:pt x="768" y="276"/>
                </a:lnTo>
                <a:lnTo>
                  <a:pt x="774" y="276"/>
                </a:lnTo>
                <a:lnTo>
                  <a:pt x="780" y="276"/>
                </a:lnTo>
                <a:lnTo>
                  <a:pt x="786" y="276"/>
                </a:lnTo>
                <a:lnTo>
                  <a:pt x="792" y="276"/>
                </a:lnTo>
                <a:lnTo>
                  <a:pt x="798" y="276"/>
                </a:lnTo>
                <a:lnTo>
                  <a:pt x="804" y="276"/>
                </a:lnTo>
                <a:lnTo>
                  <a:pt x="810" y="276"/>
                </a:lnTo>
                <a:lnTo>
                  <a:pt x="816" y="276"/>
                </a:lnTo>
                <a:lnTo>
                  <a:pt x="822" y="276"/>
                </a:lnTo>
                <a:lnTo>
                  <a:pt x="828" y="282"/>
                </a:lnTo>
                <a:lnTo>
                  <a:pt x="834" y="282"/>
                </a:lnTo>
                <a:lnTo>
                  <a:pt x="840" y="282"/>
                </a:lnTo>
                <a:lnTo>
                  <a:pt x="846" y="282"/>
                </a:lnTo>
                <a:lnTo>
                  <a:pt x="852" y="282"/>
                </a:lnTo>
                <a:lnTo>
                  <a:pt x="858" y="282"/>
                </a:lnTo>
                <a:lnTo>
                  <a:pt x="864" y="282"/>
                </a:lnTo>
                <a:lnTo>
                  <a:pt x="870" y="282"/>
                </a:lnTo>
                <a:lnTo>
                  <a:pt x="876" y="282"/>
                </a:lnTo>
                <a:lnTo>
                  <a:pt x="882" y="282"/>
                </a:lnTo>
                <a:lnTo>
                  <a:pt x="888" y="282"/>
                </a:lnTo>
                <a:lnTo>
                  <a:pt x="894" y="282"/>
                </a:lnTo>
                <a:lnTo>
                  <a:pt x="900" y="282"/>
                </a:lnTo>
                <a:lnTo>
                  <a:pt x="906" y="282"/>
                </a:lnTo>
                <a:lnTo>
                  <a:pt x="912" y="282"/>
                </a:lnTo>
                <a:lnTo>
                  <a:pt x="918" y="282"/>
                </a:lnTo>
                <a:lnTo>
                  <a:pt x="924" y="282"/>
                </a:lnTo>
                <a:lnTo>
                  <a:pt x="930" y="282"/>
                </a:lnTo>
                <a:lnTo>
                  <a:pt x="936" y="282"/>
                </a:lnTo>
                <a:lnTo>
                  <a:pt x="942" y="282"/>
                </a:lnTo>
                <a:lnTo>
                  <a:pt x="948" y="282"/>
                </a:lnTo>
                <a:lnTo>
                  <a:pt x="954" y="282"/>
                </a:lnTo>
                <a:lnTo>
                  <a:pt x="960" y="282"/>
                </a:lnTo>
                <a:lnTo>
                  <a:pt x="966" y="282"/>
                </a:lnTo>
                <a:lnTo>
                  <a:pt x="972" y="282"/>
                </a:lnTo>
                <a:lnTo>
                  <a:pt x="978" y="282"/>
                </a:lnTo>
                <a:lnTo>
                  <a:pt x="984" y="282"/>
                </a:lnTo>
                <a:lnTo>
                  <a:pt x="990" y="282"/>
                </a:lnTo>
                <a:lnTo>
                  <a:pt x="996" y="282"/>
                </a:lnTo>
                <a:lnTo>
                  <a:pt x="1002" y="282"/>
                </a:lnTo>
                <a:lnTo>
                  <a:pt x="1008" y="282"/>
                </a:lnTo>
                <a:lnTo>
                  <a:pt x="1014" y="282"/>
                </a:lnTo>
                <a:lnTo>
                  <a:pt x="1020" y="282"/>
                </a:lnTo>
                <a:lnTo>
                  <a:pt x="1026" y="282"/>
                </a:lnTo>
                <a:lnTo>
                  <a:pt x="1032" y="282"/>
                </a:lnTo>
                <a:lnTo>
                  <a:pt x="1038" y="282"/>
                </a:lnTo>
                <a:lnTo>
                  <a:pt x="1044" y="282"/>
                </a:lnTo>
                <a:lnTo>
                  <a:pt x="1050" y="282"/>
                </a:lnTo>
                <a:lnTo>
                  <a:pt x="1056" y="282"/>
                </a:lnTo>
                <a:lnTo>
                  <a:pt x="1062" y="282"/>
                </a:lnTo>
                <a:lnTo>
                  <a:pt x="1068" y="282"/>
                </a:lnTo>
                <a:lnTo>
                  <a:pt x="1074" y="282"/>
                </a:lnTo>
                <a:lnTo>
                  <a:pt x="1080" y="282"/>
                </a:lnTo>
                <a:lnTo>
                  <a:pt x="1086" y="282"/>
                </a:lnTo>
                <a:lnTo>
                  <a:pt x="1092" y="282"/>
                </a:lnTo>
                <a:lnTo>
                  <a:pt x="1098" y="282"/>
                </a:lnTo>
                <a:lnTo>
                  <a:pt x="1104" y="282"/>
                </a:lnTo>
                <a:lnTo>
                  <a:pt x="1110" y="282"/>
                </a:lnTo>
                <a:lnTo>
                  <a:pt x="1116" y="282"/>
                </a:lnTo>
                <a:lnTo>
                  <a:pt x="1122" y="282"/>
                </a:lnTo>
                <a:lnTo>
                  <a:pt x="1128" y="282"/>
                </a:lnTo>
                <a:lnTo>
                  <a:pt x="1134" y="282"/>
                </a:lnTo>
                <a:lnTo>
                  <a:pt x="1140" y="282"/>
                </a:lnTo>
                <a:lnTo>
                  <a:pt x="1146" y="282"/>
                </a:lnTo>
                <a:lnTo>
                  <a:pt x="1152" y="282"/>
                </a:lnTo>
                <a:lnTo>
                  <a:pt x="1158" y="282"/>
                </a:lnTo>
                <a:lnTo>
                  <a:pt x="1164" y="282"/>
                </a:lnTo>
                <a:lnTo>
                  <a:pt x="1170" y="282"/>
                </a:lnTo>
                <a:lnTo>
                  <a:pt x="1176" y="282"/>
                </a:lnTo>
                <a:lnTo>
                  <a:pt x="1182" y="282"/>
                </a:lnTo>
                <a:lnTo>
                  <a:pt x="1188" y="282"/>
                </a:lnTo>
                <a:lnTo>
                  <a:pt x="1194" y="282"/>
                </a:lnTo>
                <a:lnTo>
                  <a:pt x="1200" y="282"/>
                </a:lnTo>
                <a:lnTo>
                  <a:pt x="1206" y="282"/>
                </a:lnTo>
                <a:lnTo>
                  <a:pt x="1212" y="282"/>
                </a:lnTo>
                <a:lnTo>
                  <a:pt x="1218" y="282"/>
                </a:lnTo>
                <a:lnTo>
                  <a:pt x="1224" y="282"/>
                </a:lnTo>
                <a:lnTo>
                  <a:pt x="1230" y="282"/>
                </a:lnTo>
                <a:lnTo>
                  <a:pt x="1236" y="282"/>
                </a:lnTo>
                <a:lnTo>
                  <a:pt x="1242" y="282"/>
                </a:lnTo>
                <a:lnTo>
                  <a:pt x="1248" y="282"/>
                </a:lnTo>
                <a:lnTo>
                  <a:pt x="1254" y="282"/>
                </a:lnTo>
                <a:lnTo>
                  <a:pt x="1260" y="282"/>
                </a:lnTo>
                <a:lnTo>
                  <a:pt x="1266" y="282"/>
                </a:lnTo>
                <a:lnTo>
                  <a:pt x="1272" y="282"/>
                </a:lnTo>
                <a:lnTo>
                  <a:pt x="1278" y="282"/>
                </a:lnTo>
                <a:lnTo>
                  <a:pt x="1284" y="282"/>
                </a:lnTo>
                <a:lnTo>
                  <a:pt x="1290" y="282"/>
                </a:lnTo>
                <a:lnTo>
                  <a:pt x="1296" y="282"/>
                </a:lnTo>
                <a:lnTo>
                  <a:pt x="1296" y="306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57040" y="3559320"/>
            <a:ext cx="194796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Chroma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855720" y="237636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solidFill>
            <a:srgbClr val="ff330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924280" y="207648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63560" y="2146320"/>
            <a:ext cx="40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959200" y="2357280"/>
            <a:ext cx="0" cy="1592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086440" y="4952880"/>
            <a:ext cx="36669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 transverse impedance effects at ESRF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048280" y="2990880"/>
            <a:ext cx="3705120" cy="156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romaticity is a very efficient tool to cure transverse instabilit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vertheless, the impact i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ong on the LIFETI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ly for single bun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5038560" y="809640"/>
            <a:ext cx="3686400" cy="1194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status between impedance modeling and measurement with beam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ESRF a new modeling campaign is under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574308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7410-6DCA-4AF0-AEEB-AE6C3DDFDFF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B76FF-F5BC-4D4D-BC73-145D0FD1EC6D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"/>
          <p:cNvSpPr/>
          <p:nvPr/>
        </p:nvSpPr>
        <p:spPr>
          <a:xfrm>
            <a:off x="5086440" y="4952880"/>
            <a:ext cx="36669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 transverse impedance effects at ESRF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048280" y="2990880"/>
            <a:ext cx="3705120" cy="156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romaticity is a very efficient tool to cure transverse instabilit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vertheless, the impact i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ong on the LIFETI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ly for single bun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038560" y="809640"/>
            <a:ext cx="3686400" cy="1194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status between impedance modeling and measurement with beam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ESRF a new modeling campaign is under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841320" y="1677960"/>
            <a:ext cx="3556080" cy="2908080"/>
            <a:chOff x="841320" y="1677960"/>
            <a:chExt cx="3556080" cy="2908080"/>
          </a:xfrm>
        </p:grpSpPr>
        <p:pic>
          <p:nvPicPr>
            <p:cNvPr id="1583" name="jlr2" descr=""/>
            <p:cNvPicPr/>
            <p:nvPr/>
          </p:nvPicPr>
          <p:blipFill>
            <a:blip r:embed="rId2"/>
            <a:stretch/>
          </p:blipFill>
          <p:spPr>
            <a:xfrm>
              <a:off x="841320" y="1677960"/>
              <a:ext cx="3478320" cy="29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4" name=""/>
            <p:cNvSpPr/>
            <p:nvPr/>
          </p:nvSpPr>
          <p:spPr>
            <a:xfrm flipH="1">
              <a:off x="2502720" y="2536560"/>
              <a:ext cx="22068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ffcc"/>
                  </a:solidFill>
                  <a:latin typeface="Times New Roman"/>
                </a:rPr>
                <a:t>98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484360" y="2038320"/>
              <a:ext cx="19080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form 124 mA Verti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hih = 0.2 ChiV =0.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611360" y="3001680"/>
              <a:ext cx="2371680" cy="870120"/>
            </a:xfrm>
            <a:custGeom>
              <a:avLst/>
              <a:gdLst/>
              <a:ahLst/>
              <a:rect l="l" t="t" r="r" b="b"/>
              <a:pathLst>
                <a:path w="1920" h="600">
                  <a:moveTo>
                    <a:pt x="0" y="600"/>
                  </a:moveTo>
                  <a:cubicBezTo>
                    <a:pt x="224" y="324"/>
                    <a:pt x="448" y="48"/>
                    <a:pt x="768" y="24"/>
                  </a:cubicBezTo>
                  <a:cubicBezTo>
                    <a:pt x="1088" y="0"/>
                    <a:pt x="1728" y="384"/>
                    <a:pt x="1920" y="456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152520" y="2886120"/>
              <a:ext cx="124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9966"/>
                  </a:solidFill>
                  <a:latin typeface="Times New Roman"/>
                </a:rPr>
                <a:t>Bump at 5 F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255680" y="2084400"/>
              <a:ext cx="1955880" cy="1739880"/>
            </a:xfrm>
            <a:custGeom>
              <a:avLst/>
              <a:gdLst/>
              <a:ahLst/>
              <a:rect l="l" t="t" r="r" b="b"/>
              <a:pathLst>
                <a:path w="1584" h="1440">
                  <a:moveTo>
                    <a:pt x="0" y="0"/>
                  </a:moveTo>
                  <a:cubicBezTo>
                    <a:pt x="24" y="332"/>
                    <a:pt x="48" y="664"/>
                    <a:pt x="144" y="864"/>
                  </a:cubicBezTo>
                  <a:cubicBezTo>
                    <a:pt x="240" y="1064"/>
                    <a:pt x="336" y="1104"/>
                    <a:pt x="576" y="1200"/>
                  </a:cubicBezTo>
                  <a:cubicBezTo>
                    <a:pt x="816" y="1296"/>
                    <a:pt x="1200" y="1368"/>
                    <a:pt x="1584" y="1440"/>
                  </a:cubicBezTo>
                </a:path>
              </a:pathLst>
            </a:custGeom>
            <a:noFill/>
            <a:ln w="2844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1197000" y="2259000"/>
              <a:ext cx="21888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Times New Roman"/>
                </a:rPr>
                <a:t>9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1492920" y="2722320"/>
              <a:ext cx="21924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99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493640" y="2246040"/>
              <a:ext cx="82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99"/>
                  </a:solidFill>
                  <a:latin typeface="Times New Roman"/>
                </a:rPr>
                <a:t>Resistive wa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574308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926D-841B-4BFB-8C74-75A86823B62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E67B1-50FC-48BA-9B38-A79E8E8767D7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3" name=""/>
          <p:cNvGraphicFramePr/>
          <p:nvPr/>
        </p:nvGraphicFramePr>
        <p:xfrm>
          <a:off x="819000" y="1071720"/>
          <a:ext cx="4287960" cy="4047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9000" y="1071720"/>
                    <a:ext cx="4287960" cy="40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5" name=""/>
          <p:cNvSpPr/>
          <p:nvPr/>
        </p:nvSpPr>
        <p:spPr>
          <a:xfrm flipH="1">
            <a:off x="1827360" y="2484360"/>
            <a:ext cx="9360" cy="1790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1287360" y="4405320"/>
            <a:ext cx="1096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</a:rPr>
              <a:t>Partial Filling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ff0000"/>
                </a:solidFill>
                <a:latin typeface="Times New Roman"/>
              </a:rPr>
              <a:t>Thresho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600280" y="3409920"/>
            <a:ext cx="1895400" cy="2095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050920" y="2066760"/>
            <a:ext cx="749520" cy="1371600"/>
          </a:xfrm>
          <a:custGeom>
            <a:avLst/>
            <a:gdLst/>
            <a:ahLst/>
            <a:rect l="l" t="t" r="r" b="b"/>
            <a:pathLst>
              <a:path w="358" h="1014">
                <a:moveTo>
                  <a:pt x="10" y="0"/>
                </a:moveTo>
                <a:cubicBezTo>
                  <a:pt x="5" y="248"/>
                  <a:pt x="0" y="497"/>
                  <a:pt x="58" y="666"/>
                </a:cubicBezTo>
                <a:cubicBezTo>
                  <a:pt x="116" y="835"/>
                  <a:pt x="237" y="924"/>
                  <a:pt x="358" y="101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rot="514200">
            <a:off x="2982600" y="319104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9933ff"/>
                </a:solidFill>
                <a:latin typeface="Times New Roman"/>
              </a:rPr>
              <a:t>Bump” eff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rot="4049400">
            <a:off x="1886040" y="24192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sistive Wall eff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153040" y="981000"/>
            <a:ext cx="3905280" cy="275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riments performed showed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ONG STABILIZING EFFE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IAL FILLING OF THE 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THE RESISTIVE WALL INSTABIL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* and also of the “bump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 a quasi uniform filling was more 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257800" y="4700520"/>
            <a:ext cx="3743280" cy="1321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stabilization coming from longitudina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uniform, the use of the RF modulation for longitudinal Landau dam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id not change the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952640" y="1476360"/>
            <a:ext cx="20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 = 0 and n =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74344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819440" y="5400720"/>
            <a:ext cx="18572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50 mA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9B5-6D1F-40EE-AA9A-51174B3F130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6F96F-EB9E-4662-8648-E1BEE92A8F93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6" name=""/>
          <p:cNvGraphicFramePr/>
          <p:nvPr/>
        </p:nvGraphicFramePr>
        <p:xfrm>
          <a:off x="708120" y="785880"/>
          <a:ext cx="4678200" cy="5067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120" y="785880"/>
                    <a:ext cx="46782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8" name=""/>
          <p:cNvSpPr/>
          <p:nvPr/>
        </p:nvSpPr>
        <p:spPr>
          <a:xfrm>
            <a:off x="4371840" y="2695680"/>
            <a:ext cx="0" cy="609480"/>
          </a:xfrm>
          <a:prstGeom prst="line">
            <a:avLst/>
          </a:prstGeom>
          <a:ln w="93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282920" y="277344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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Q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600880" y="990720"/>
            <a:ext cx="299052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arge incoherent betatron tune shifts observed are suspected of coming from an ASYMMETRY of resistive wall chamber cross sec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695920" y="2871720"/>
            <a:ext cx="2886120" cy="1159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Is stabilisation due to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n intra-beam tune spread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rising from the current dependent tune shift resulting from the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ifferently populated bunches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5533920" y="4933800"/>
            <a:ext cx="3400560" cy="631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Quantification of this effect is on the 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(R. Nagaoka et a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7029360" y="2124000"/>
            <a:ext cx="247680" cy="533520"/>
          </a:xfrm>
          <a:prstGeom prst="downArrow">
            <a:avLst>
              <a:gd name="adj1" fmla="val 50000"/>
              <a:gd name="adj2" fmla="val 538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058160" y="4314960"/>
            <a:ext cx="247680" cy="533160"/>
          </a:xfrm>
          <a:prstGeom prst="downArrow">
            <a:avLst>
              <a:gd name="adj1" fmla="val 50000"/>
              <a:gd name="adj2" fmla="val 538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rot="20146800">
            <a:off x="2495520" y="24004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rot="1003200">
            <a:off x="2533320" y="372420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74344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3AA-D220-4525-B396-639BC3F58C60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7B67C-02C8-4B43-9F6D-C21713DDA57D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8" name="spec008" descr=""/>
          <p:cNvPicPr/>
          <p:nvPr/>
        </p:nvPicPr>
        <p:blipFill>
          <a:blip r:embed="rId2"/>
          <a:stretch/>
        </p:blipFill>
        <p:spPr>
          <a:xfrm>
            <a:off x="555480" y="681120"/>
            <a:ext cx="3633840" cy="1888920"/>
          </a:xfrm>
          <a:prstGeom prst="rect">
            <a:avLst/>
          </a:prstGeom>
          <a:ln w="0">
            <a:noFill/>
          </a:ln>
        </p:spPr>
      </p:pic>
      <p:sp>
        <p:nvSpPr>
          <p:cNvPr id="1619" name=""/>
          <p:cNvSpPr/>
          <p:nvPr/>
        </p:nvSpPr>
        <p:spPr>
          <a:xfrm>
            <a:off x="2468520" y="984240"/>
            <a:ext cx="1146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hiV = 0.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038480" y="1111320"/>
            <a:ext cx="145116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utal apparition of the instability at 0.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384200" y="479520"/>
            <a:ext cx="0" cy="539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893960" y="479520"/>
            <a:ext cx="0" cy="539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340000" y="479520"/>
            <a:ext cx="0" cy="539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2851200" y="479520"/>
            <a:ext cx="0" cy="539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001880" y="5676840"/>
            <a:ext cx="70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F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360600" y="479520"/>
            <a:ext cx="0" cy="539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870360" y="428760"/>
            <a:ext cx="0" cy="539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551400" y="5729400"/>
            <a:ext cx="70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 F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9" name=""/>
          <p:cNvGrpSpPr/>
          <p:nvPr/>
        </p:nvGrpSpPr>
        <p:grpSpPr>
          <a:xfrm>
            <a:off x="428760" y="1390680"/>
            <a:ext cx="5607000" cy="2670120"/>
            <a:chOff x="428760" y="1390680"/>
            <a:chExt cx="5607000" cy="2670120"/>
          </a:xfrm>
        </p:grpSpPr>
        <p:pic>
          <p:nvPicPr>
            <p:cNvPr id="1630" name="spec008f" descr=""/>
            <p:cNvPicPr/>
            <p:nvPr/>
          </p:nvPicPr>
          <p:blipFill>
            <a:blip r:embed="rId3"/>
            <a:stretch/>
          </p:blipFill>
          <p:spPr>
            <a:xfrm>
              <a:off x="555480" y="2193840"/>
              <a:ext cx="363384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1" name=""/>
            <p:cNvSpPr/>
            <p:nvPr/>
          </p:nvSpPr>
          <p:spPr>
            <a:xfrm>
              <a:off x="2468520" y="2548080"/>
              <a:ext cx="1146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Times New Roman"/>
                </a:rPr>
                <a:t>ChiV = 0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983040" y="2557440"/>
              <a:ext cx="2052720" cy="91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abilization of all the lines by a 2 modes feedb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9933"/>
                  </a:solidFill>
                  <a:latin typeface="Times New Roman"/>
                </a:rPr>
                <a:t>(additional lines are induced by the filling pattern</a:t>
              </a:r>
              <a:r>
                <a:rPr b="1" lang="en-US" sz="1200" spc="-1" strike="noStrike">
                  <a:solidFill>
                    <a:srgbClr val="339933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28760" y="2246400"/>
              <a:ext cx="12747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ode 991 and 990 Feedback 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938160" y="2548080"/>
              <a:ext cx="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257480" y="2548080"/>
              <a:ext cx="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130400" y="3506760"/>
              <a:ext cx="2187360" cy="27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ertical emittance = 13 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409760" y="1390680"/>
              <a:ext cx="2828880" cy="866880"/>
            </a:xfrm>
            <a:prstGeom prst="wedgeEllipseCallout">
              <a:avLst>
                <a:gd name="adj1" fmla="val 44726"/>
                <a:gd name="adj2" fmla="val 160074"/>
              </a:avLst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8" name=""/>
          <p:cNvSpPr/>
          <p:nvPr/>
        </p:nvSpPr>
        <p:spPr>
          <a:xfrm>
            <a:off x="1638360" y="5877000"/>
            <a:ext cx="14954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= 50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933480" y="743040"/>
            <a:ext cx="514440" cy="1038240"/>
          </a:xfrm>
          <a:custGeom>
            <a:avLst/>
            <a:gdLst/>
            <a:ahLst/>
            <a:rect l="l" t="t" r="r" b="b"/>
            <a:pathLst>
              <a:path w="276" h="672">
                <a:moveTo>
                  <a:pt x="0" y="0"/>
                </a:moveTo>
                <a:cubicBezTo>
                  <a:pt x="16" y="103"/>
                  <a:pt x="32" y="206"/>
                  <a:pt x="78" y="318"/>
                </a:cubicBezTo>
                <a:cubicBezTo>
                  <a:pt x="124" y="430"/>
                  <a:pt x="242" y="613"/>
                  <a:pt x="276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114560" y="295200"/>
            <a:ext cx="27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artial filling pattern 2*1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546120" y="3822840"/>
            <a:ext cx="4987440" cy="1866600"/>
            <a:chOff x="546120" y="3822840"/>
            <a:chExt cx="4987440" cy="1866600"/>
          </a:xfrm>
        </p:grpSpPr>
        <p:grpSp>
          <p:nvGrpSpPr>
            <p:cNvPr id="1642" name=""/>
            <p:cNvGrpSpPr/>
            <p:nvPr/>
          </p:nvGrpSpPr>
          <p:grpSpPr>
            <a:xfrm>
              <a:off x="546120" y="3822840"/>
              <a:ext cx="4987440" cy="1866600"/>
              <a:chOff x="546120" y="3822840"/>
              <a:chExt cx="4987440" cy="1866600"/>
            </a:xfrm>
          </p:grpSpPr>
          <p:pic>
            <p:nvPicPr>
              <p:cNvPr id="1643" name="spec003f" descr=""/>
              <p:cNvPicPr/>
              <p:nvPr/>
            </p:nvPicPr>
            <p:blipFill>
              <a:blip r:embed="rId4"/>
              <a:stretch/>
            </p:blipFill>
            <p:spPr>
              <a:xfrm>
                <a:off x="546120" y="3822840"/>
                <a:ext cx="3633480" cy="186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4" name=""/>
              <p:cNvSpPr/>
              <p:nvPr/>
            </p:nvSpPr>
            <p:spPr>
              <a:xfrm>
                <a:off x="3985920" y="4276440"/>
                <a:ext cx="1547640" cy="73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Brutal apparition of the instability at 0.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(Feedback ON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5" name=""/>
            <p:cNvSpPr/>
            <p:nvPr/>
          </p:nvSpPr>
          <p:spPr>
            <a:xfrm>
              <a:off x="2452680" y="4195800"/>
              <a:ext cx="1146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Times New Roman"/>
                </a:rPr>
                <a:t>ChiV = 0.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6" name=""/>
          <p:cNvSpPr/>
          <p:nvPr/>
        </p:nvSpPr>
        <p:spPr>
          <a:xfrm>
            <a:off x="6089760" y="1042920"/>
            <a:ext cx="2805120" cy="3328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 m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ld be reached in 2*1/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a chromaticity of 0.0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ead of 0.4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oper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with a low emittance of 14 p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t 0,07, the beam explod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@ Feedback in 1/3 did not 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74344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2052-0BED-4E62-8746-D7B43CD53CC0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4B499-81A5-44F0-9ACA-CC1191655129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8" name="f2uni10" descr=""/>
          <p:cNvPicPr/>
          <p:nvPr/>
        </p:nvPicPr>
        <p:blipFill>
          <a:blip r:embed="rId2"/>
          <a:stretch/>
        </p:blipFill>
        <p:spPr>
          <a:xfrm>
            <a:off x="819000" y="1768320"/>
            <a:ext cx="3181680" cy="2446560"/>
          </a:xfrm>
          <a:prstGeom prst="rect">
            <a:avLst/>
          </a:prstGeom>
          <a:ln w="0">
            <a:noFill/>
          </a:ln>
        </p:spPr>
      </p:pic>
      <p:sp>
        <p:nvSpPr>
          <p:cNvPr id="1649" name=""/>
          <p:cNvSpPr/>
          <p:nvPr/>
        </p:nvSpPr>
        <p:spPr>
          <a:xfrm>
            <a:off x="841320" y="89676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 mA in uniform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 V = 0.1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nstead of 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177920" y="1004760"/>
            <a:ext cx="2643120" cy="2129040"/>
          </a:xfrm>
          <a:custGeom>
            <a:avLst/>
            <a:gdLst/>
            <a:ahLst/>
            <a:rect l="l" t="t" r="r" b="b"/>
            <a:pathLst>
              <a:path w="2832" h="2544">
                <a:moveTo>
                  <a:pt x="0" y="0"/>
                </a:moveTo>
                <a:cubicBezTo>
                  <a:pt x="64" y="444"/>
                  <a:pt x="128" y="888"/>
                  <a:pt x="336" y="1200"/>
                </a:cubicBezTo>
                <a:cubicBezTo>
                  <a:pt x="544" y="1512"/>
                  <a:pt x="832" y="1648"/>
                  <a:pt x="1248" y="1872"/>
                </a:cubicBezTo>
                <a:cubicBezTo>
                  <a:pt x="1664" y="2096"/>
                  <a:pt x="2248" y="2320"/>
                  <a:pt x="2832" y="2544"/>
                </a:cubicBezTo>
              </a:path>
            </a:pathLst>
          </a:custGeom>
          <a:noFill/>
          <a:ln w="284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467000" y="1743120"/>
            <a:ext cx="2685960" cy="1800360"/>
          </a:xfrm>
          <a:prstGeom prst="wedgeEllipseCallout">
            <a:avLst>
              <a:gd name="adj1" fmla="val 29254"/>
              <a:gd name="adj2" fmla="val 10308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857160" y="4448160"/>
            <a:ext cx="3314880" cy="934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 still a lot of lines to stabilize to reach the low emittance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ing from the 5 f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bump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991040" y="4395960"/>
            <a:ext cx="3987720" cy="1383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 many modes should we feedback 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get low emittanc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 it achievable with a bunch by bunch feedback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089760" y="1042920"/>
            <a:ext cx="2805120" cy="3328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 m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ld be reached in 2*1/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a chromaticity of 0.0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ead of 0.4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oper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with a low emittance of 14 p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t 0,07, the beam explod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@ Feedback in 1/3 did not 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74344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1AD2-C9A4-4C7B-AE7E-CE3104ABAC2E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730DA-C7D9-4106-B6F7-9F3812703301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076720" y="4876920"/>
            <a:ext cx="3810240" cy="1085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81840" y="486720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67360" y="3228840"/>
            <a:ext cx="3848040" cy="1257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857840"/>
            <a:ext cx="3762360" cy="1257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81000" y="3267000"/>
            <a:ext cx="3638520" cy="13240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1160" y="36003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ngitudinal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24560" y="3505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verse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10400" y="5334120"/>
            <a:ext cx="25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verse Mul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48640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ngitudinal Mul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00680" y="4086360"/>
            <a:ext cx="11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57920" y="503856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00920" y="503856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43680" y="4076640"/>
            <a:ext cx="11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81840" y="390528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SRF Experimental Contribution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wards Working Group Introduc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19560" y="3067200"/>
            <a:ext cx="96192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G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5981760"/>
            <a:ext cx="96228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G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3360" y="4705200"/>
            <a:ext cx="8420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4876920"/>
            <a:ext cx="3810240" cy="1085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81840" y="486720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67360" y="3228840"/>
            <a:ext cx="3848040" cy="1257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857840"/>
            <a:ext cx="3762360" cy="1257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81000" y="3267000"/>
            <a:ext cx="3638520" cy="1324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81160" y="36003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ngitudinal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24560" y="3505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verse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10400" y="5334120"/>
            <a:ext cx="25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verse Mul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548640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ngitudinal Mul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00680" y="4086360"/>
            <a:ext cx="11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57920" y="503856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00920" y="503856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43680" y="4076640"/>
            <a:ext cx="11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81840" y="390528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67360" y="3728880"/>
            <a:ext cx="2674800" cy="2133720"/>
          </a:xfrm>
          <a:custGeom>
            <a:avLst/>
            <a:gdLst/>
            <a:ahLst/>
            <a:rect l="l" t="t" r="r" b="b"/>
            <a:pathLst>
              <a:path w="1685" h="1344">
                <a:moveTo>
                  <a:pt x="453" y="897"/>
                </a:moveTo>
                <a:cubicBezTo>
                  <a:pt x="323" y="701"/>
                  <a:pt x="0" y="282"/>
                  <a:pt x="87" y="141"/>
                </a:cubicBezTo>
                <a:cubicBezTo>
                  <a:pt x="174" y="0"/>
                  <a:pt x="753" y="0"/>
                  <a:pt x="975" y="51"/>
                </a:cubicBezTo>
                <a:cubicBezTo>
                  <a:pt x="1197" y="102"/>
                  <a:pt x="1316" y="281"/>
                  <a:pt x="1419" y="447"/>
                </a:cubicBezTo>
                <a:cubicBezTo>
                  <a:pt x="1522" y="613"/>
                  <a:pt x="1685" y="902"/>
                  <a:pt x="1593" y="1047"/>
                </a:cubicBezTo>
                <a:cubicBezTo>
                  <a:pt x="1501" y="1192"/>
                  <a:pt x="1060" y="1344"/>
                  <a:pt x="867" y="1317"/>
                </a:cubicBezTo>
                <a:cubicBezTo>
                  <a:pt x="674" y="1290"/>
                  <a:pt x="583" y="1093"/>
                  <a:pt x="453" y="897"/>
                </a:cubicBezTo>
                <a:close/>
              </a:path>
            </a:pathLst>
          </a:cu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33640" y="1538280"/>
            <a:ext cx="7010280" cy="1290240"/>
          </a:xfrm>
          <a:prstGeom prst="rect">
            <a:avLst/>
          </a:prstGeom>
          <a:solidFill>
            <a:srgbClr val="ccffcc"/>
          </a:solidFill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Goal of this talk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depen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ngitudinal/transverse/single-bunch/multi-bun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sed on ESRF observ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1080" y="3095640"/>
            <a:ext cx="3943080" cy="2983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EDANCE MODE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B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istive wall contribution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bunch dynam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 Band contribution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bunch dynam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ffect of partial filling on multibunch transverse inst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ransverse feedb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ECB-6932-4A3B-88C0-1FFBC910B74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68662-5593-47A7-B76F-210872220949}" type="datetime1">
              <a:rPr lang="en-US"/>
              <a:t>07/29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/>
          <p:nvPr/>
        </p:nvSpPr>
        <p:spPr>
          <a:xfrm>
            <a:off x="4991040" y="4395960"/>
            <a:ext cx="3987720" cy="1383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 many modes should we feedback 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get low emittanc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 it achievable with a bunch by bunch feedback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62120" y="719280"/>
            <a:ext cx="3848040" cy="304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gle bunch transverse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 working on mode merging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eedback allows to increase the current by a factor 5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=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7 * 5 = 3.5 mA 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ith Empirical setting of the feedback parameters (most probably resistiv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1104840" y="4038480"/>
            <a:ext cx="2667240" cy="2062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 in single bunch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erformance is not competi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the chromatic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 mA at 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nd bunch lengthen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089760" y="1042920"/>
            <a:ext cx="2805120" cy="3328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 m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ld be reached in 2*1/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a chromaticity of 0.0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ead of 0.4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oper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with a low emittance of 14 p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t 0,07, the beam explod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@ Feedback in 1/3 did not 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574344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57360" y="233280"/>
            <a:ext cx="2657520" cy="292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Singl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C18-3822-42C2-B235-4DBB5D66516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A44A4-52E3-4AF1-A97B-1CBA5DB2FC93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2" name="pict3" descr=""/>
          <p:cNvPicPr/>
          <p:nvPr/>
        </p:nvPicPr>
        <p:blipFill>
          <a:blip r:embed="rId2"/>
          <a:stretch/>
        </p:blipFill>
        <p:spPr>
          <a:xfrm>
            <a:off x="824040" y="3338640"/>
            <a:ext cx="3601800" cy="2527200"/>
          </a:xfrm>
          <a:prstGeom prst="rect">
            <a:avLst/>
          </a:prstGeom>
          <a:ln w="0">
            <a:noFill/>
          </a:ln>
        </p:spPr>
      </p:pic>
      <p:pic>
        <p:nvPicPr>
          <p:cNvPr id="1663" name="pict1" descr=""/>
          <p:cNvPicPr/>
          <p:nvPr/>
        </p:nvPicPr>
        <p:blipFill>
          <a:blip r:embed="rId3"/>
          <a:stretch/>
        </p:blipFill>
        <p:spPr>
          <a:xfrm>
            <a:off x="819000" y="376200"/>
            <a:ext cx="3584880" cy="2657520"/>
          </a:xfrm>
          <a:prstGeom prst="rect">
            <a:avLst/>
          </a:prstGeom>
          <a:ln w="0">
            <a:noFill/>
          </a:ln>
        </p:spPr>
      </p:pic>
      <p:sp>
        <p:nvSpPr>
          <p:cNvPr id="1664" name=""/>
          <p:cNvSpPr/>
          <p:nvPr/>
        </p:nvSpPr>
        <p:spPr>
          <a:xfrm>
            <a:off x="3564000" y="264780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440160" y="5486400"/>
            <a:ext cx="80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H="1">
            <a:off x="3147840" y="995400"/>
            <a:ext cx="5040" cy="21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76600" y="2976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4 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H="1">
            <a:off x="3095280" y="3900600"/>
            <a:ext cx="4680" cy="21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643120" y="5958000"/>
            <a:ext cx="9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2 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638440" y="666720"/>
            <a:ext cx="102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e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685880" y="3809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e 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600280" y="3591000"/>
            <a:ext cx="10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e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5168880" y="304920"/>
            <a:ext cx="341964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edback in single bunch at higher chromati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692600" y="885960"/>
            <a:ext cx="4276800" cy="2568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3 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out feedback, strong instability at v = 0.3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ich could be damped by the feed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ld be reached with feedback, at v = 0.3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(instead of 0.5 withou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n we get two strong unstable modes which could not be damped independent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(empirical setting of the phase to optimize the damping of both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200560" y="5067360"/>
            <a:ext cx="313380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feedback acting independent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two single bunch mod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under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076720" y="3772080"/>
            <a:ext cx="3210120" cy="1194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edback is less and less efficient with increased chromati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he emittance is strongly aff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DA3-5F09-48FD-BF8A-8AF85D87D437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39E77-6CD0-4B7A-B579-3EAEF680F586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"/>
          <p:cNvSpPr/>
          <p:nvPr/>
        </p:nvSpPr>
        <p:spPr>
          <a:xfrm>
            <a:off x="380880" y="171360"/>
            <a:ext cx="419760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587840" y="162000"/>
            <a:ext cx="419724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2885760" y="266760"/>
            <a:ext cx="3629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43040" y="457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G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7439040" y="4665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G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171880" y="2514600"/>
            <a:ext cx="4686120" cy="707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far, RW should be considered in single bunch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far, BBR should be considered in multibunch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838080" y="4672080"/>
            <a:ext cx="7467840" cy="1078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limitation of the transverse feedback in single bunch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many modes should we consider for a transverse feedback in multibunch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transverse feedback compatible with very low emittance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171880" y="1209600"/>
            <a:ext cx="4771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y is the ESRF longitudinal turbulent regime stabl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085760" y="5915160"/>
            <a:ext cx="6962760" cy="337320"/>
          </a:xfrm>
          <a:prstGeom prst="rect">
            <a:avLst/>
          </a:prstGeom>
          <a:solidFill>
            <a:srgbClr val="ff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much more questions will be asked during the working group discussions 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71440" y="3352680"/>
            <a:ext cx="67629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multibunch transverse stabilizing mechanism in partial fill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876240" y="3809880"/>
            <a:ext cx="7400880" cy="707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single bunch dynamics at high chromaticit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ld we use an harmonic cavity to increase the single bunch intensity threshol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581120" y="1647720"/>
            <a:ext cx="5981760" cy="707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are the experimental methods to probe the machine impedanc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comparison between experimental model and simul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19A-C984-4E20-966A-A460068DDC4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6AF59-9025-4D95-B72F-679CC97808D7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0120" y="409320"/>
            <a:ext cx="3857760" cy="32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Longitudinal /Single B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48040" y="3110040"/>
            <a:ext cx="752400" cy="842760"/>
          </a:xfrm>
          <a:prstGeom prst="wedgeEllipseCallout">
            <a:avLst>
              <a:gd name="adj1" fmla="val -87976"/>
              <a:gd name="adj2" fmla="val 12871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640" y="4809960"/>
            <a:ext cx="4067280" cy="1067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66"/>
                </a:solidFill>
                <a:latin typeface="Times New Roman"/>
              </a:rPr>
              <a:t>At zero current, discrepancy between </a:t>
            </a:r>
            <a:br>
              <a:rPr sz="1600"/>
            </a:br>
            <a:r>
              <a:rPr b="0" lang="en-US" sz="1600" spc="-1" strike="noStrike">
                <a:solidFill>
                  <a:srgbClr val="339966"/>
                </a:solidFill>
                <a:latin typeface="Times New Roman"/>
              </a:rPr>
              <a:t>theoretical bunch length </a:t>
            </a:r>
            <a:br>
              <a:rPr sz="1600"/>
            </a:br>
            <a:r>
              <a:rPr b="0" lang="en-US" sz="1600" spc="-1" strike="noStrike">
                <a:solidFill>
                  <a:srgbClr val="339966"/>
                </a:solidFill>
                <a:latin typeface="Times New Roman"/>
              </a:rPr>
              <a:t>and measured bunch length </a:t>
            </a:r>
            <a:br>
              <a:rPr sz="1600"/>
            </a:br>
            <a:r>
              <a:rPr b="0" lang="en-US" sz="1600" spc="-1" strike="noStrike">
                <a:solidFill>
                  <a:srgbClr val="339966"/>
                </a:solidFill>
                <a:latin typeface="Times New Roman"/>
              </a:rPr>
              <a:t>&gt; 20 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817640" y="1281240"/>
          <a:ext cx="3870360" cy="329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7640" y="1281240"/>
                    <a:ext cx="387036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923760" y="885960"/>
            <a:ext cx="21909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nch lengthe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57680" y="2200320"/>
            <a:ext cx="9360" cy="21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28920" y="423864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5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57920" y="1685880"/>
            <a:ext cx="278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ble turbulent regine above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714840" y="1366920"/>
            <a:ext cx="4956120" cy="1395360"/>
            <a:chOff x="3714840" y="1366920"/>
            <a:chExt cx="4956120" cy="1395360"/>
          </a:xfrm>
        </p:grpSpPr>
        <p:sp>
          <p:nvSpPr>
            <p:cNvPr id="147" name=""/>
            <p:cNvSpPr/>
            <p:nvPr/>
          </p:nvSpPr>
          <p:spPr>
            <a:xfrm>
              <a:off x="5656320" y="1366920"/>
              <a:ext cx="3014640" cy="1067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cent measurements show oscillating valu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 it a sign of a Saw-tooth mechanism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14840" y="1562400"/>
              <a:ext cx="1790640" cy="1199880"/>
            </a:xfrm>
            <a:prstGeom prst="wedgeEllipseCallout">
              <a:avLst>
                <a:gd name="adj1" fmla="val 78013"/>
                <a:gd name="adj2" fmla="val -28837"/>
              </a:avLst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1FD1-60C5-4208-97D9-0B9239DD544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B946C-403B-4A18-A7F9-C854C0B3A6C1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energyspread" descr=""/>
          <p:cNvPicPr/>
          <p:nvPr/>
        </p:nvPicPr>
        <p:blipFill>
          <a:blip r:embed="rId2"/>
          <a:stretch/>
        </p:blipFill>
        <p:spPr>
          <a:xfrm>
            <a:off x="318960" y="1644480"/>
            <a:ext cx="5448600" cy="4084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V="1">
            <a:off x="1781280" y="3300480"/>
            <a:ext cx="1028520" cy="936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52760" y="2155680"/>
            <a:ext cx="3105000" cy="1187640"/>
          </a:xfrm>
          <a:custGeom>
            <a:avLst/>
            <a:gdLst/>
            <a:ahLst/>
            <a:rect l="l" t="t" r="r" b="b"/>
            <a:pathLst>
              <a:path w="1956" h="748">
                <a:moveTo>
                  <a:pt x="0" y="748"/>
                </a:moveTo>
                <a:cubicBezTo>
                  <a:pt x="506" y="498"/>
                  <a:pt x="1012" y="248"/>
                  <a:pt x="1338" y="124"/>
                </a:cubicBezTo>
                <a:cubicBezTo>
                  <a:pt x="1664" y="0"/>
                  <a:pt x="1810" y="2"/>
                  <a:pt x="1956" y="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2443320"/>
            <a:ext cx="0" cy="22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14440" y="45720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5 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6760" y="733320"/>
            <a:ext cx="549576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surement  of energy spread based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two emittance measurements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in a dispersive section and one in a non dispersive 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47880" y="5248440"/>
            <a:ext cx="2009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29080" y="2695680"/>
            <a:ext cx="2057400" cy="5331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57840" y="277668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crowave regime starts at 3.5 m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the ESR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52960" y="3819600"/>
            <a:ext cx="2772000" cy="181152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bunch lengthening and energy spread</a:t>
            </a:r>
            <a:br>
              <a:rPr sz="1600"/>
            </a:b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simulated by tracking c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BR model for the longitudinal imped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30 GHz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42 k, Q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91040" y="333360"/>
            <a:ext cx="3857760" cy="32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Longitudinal  /Single B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AF5E-E32E-4327-8953-770FF19149E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067F0-CA9C-4C09-8E77-A96DC4EC09DD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747880" y="1249200"/>
            <a:ext cx="825480" cy="489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60680" y="1554120"/>
            <a:ext cx="396720" cy="4584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47840" y="1806480"/>
            <a:ext cx="425520" cy="4337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43560" y="2954160"/>
            <a:ext cx="3127320" cy="106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Times New Roman"/>
              </a:rPr>
              <a:t>Mode 0 and mode -1</a:t>
            </a: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interact with the imaginary positive part of the impedance</a:t>
            </a:r>
            <a:br>
              <a:rPr sz="1600"/>
            </a:b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 ==&gt; defoc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0960" y="1373040"/>
            <a:ext cx="216720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imulation of the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ode coupling with a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BBR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91280" y="1231920"/>
            <a:ext cx="3279600" cy="106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Times New Roman"/>
              </a:rPr>
              <a:t>==&gt; no effect of the resistive impedance </a:t>
            </a:r>
            <a:br>
              <a:rPr sz="1600"/>
            </a:br>
            <a:r>
              <a:rPr b="0" lang="en-US" sz="1600" spc="-1" strike="noStrike">
                <a:solidFill>
                  <a:srgbClr val="0066ff"/>
                </a:solidFill>
                <a:latin typeface="Times New Roman"/>
              </a:rPr>
              <a:t>==&gt; Positive real part compensates exactly the negative real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71600" y="371520"/>
            <a:ext cx="376236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Single Bunch / B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65440" y="3933720"/>
            <a:ext cx="1800" cy="2006640"/>
          </a:xfrm>
          <a:custGeom>
            <a:avLst/>
            <a:gdLst/>
            <a:ahLst/>
            <a:rect l="l" t="t" r="r" b="b"/>
            <a:pathLst>
              <a:path w="0" h="256">
                <a:moveTo>
                  <a:pt x="0" y="25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0160" y="5940360"/>
            <a:ext cx="411336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0160" y="5940360"/>
            <a:ext cx="411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10016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08040" y="5892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25240" y="5972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2420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3208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47480" y="5972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74788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15756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31640" y="5972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565440" y="5892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979800" y="5892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22200" y="5972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38948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80384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49480" y="5972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21352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00160" y="594036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00160" y="4162320"/>
            <a:ext cx="411336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26000" y="574056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00160" y="5078520"/>
            <a:ext cx="411336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3389760" y="4785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00160" y="5430960"/>
            <a:ext cx="411336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2248920" y="5084280"/>
            <a:ext cx="47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m=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3704040" y="511920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18600" y="3979800"/>
            <a:ext cx="36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m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2533680" y="4675320"/>
            <a:ext cx="46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m=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3389760" y="4785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00160" y="5430960"/>
            <a:ext cx="411336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solidFill>
            <a:srgbClr val="ccccff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133800" y="389736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935080" y="-1393920"/>
            <a:ext cx="897840" cy="652320"/>
            <a:chOff x="2935080" y="-1393920"/>
            <a:chExt cx="897840" cy="652320"/>
          </a:xfrm>
        </p:grpSpPr>
        <p:sp>
          <p:nvSpPr>
            <p:cNvPr id="200" name=""/>
            <p:cNvSpPr/>
            <p:nvPr/>
          </p:nvSpPr>
          <p:spPr>
            <a:xfrm>
              <a:off x="2935080" y="-942840"/>
              <a:ext cx="26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 (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23840" y="-1393920"/>
              <a:ext cx="109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</a:rPr>
                <a:t>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52760" y="-8942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005120" y="222552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87560" y="2397240"/>
            <a:ext cx="41259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87560" y="2397240"/>
            <a:ext cx="2068560" cy="81756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87560" y="1630440"/>
            <a:ext cx="2068560" cy="1014480"/>
          </a:xfrm>
          <a:custGeom>
            <a:avLst/>
            <a:gdLst/>
            <a:ahLst/>
            <a:rect l="l" t="t" r="r" b="b"/>
            <a:pathLst>
              <a:path w="1303" h="246">
                <a:moveTo>
                  <a:pt x="0" y="186"/>
                </a:moveTo>
                <a:lnTo>
                  <a:pt x="0" y="216"/>
                </a:lnTo>
                <a:lnTo>
                  <a:pt x="6" y="216"/>
                </a:lnTo>
                <a:lnTo>
                  <a:pt x="12" y="216"/>
                </a:lnTo>
                <a:lnTo>
                  <a:pt x="18" y="216"/>
                </a:lnTo>
                <a:lnTo>
                  <a:pt x="24" y="216"/>
                </a:lnTo>
                <a:lnTo>
                  <a:pt x="30" y="216"/>
                </a:lnTo>
                <a:lnTo>
                  <a:pt x="36" y="222"/>
                </a:lnTo>
                <a:lnTo>
                  <a:pt x="42" y="222"/>
                </a:lnTo>
                <a:lnTo>
                  <a:pt x="48" y="222"/>
                </a:lnTo>
                <a:lnTo>
                  <a:pt x="54" y="222"/>
                </a:lnTo>
                <a:lnTo>
                  <a:pt x="60" y="222"/>
                </a:lnTo>
                <a:lnTo>
                  <a:pt x="66" y="222"/>
                </a:lnTo>
                <a:lnTo>
                  <a:pt x="72" y="222"/>
                </a:lnTo>
                <a:lnTo>
                  <a:pt x="78" y="222"/>
                </a:lnTo>
                <a:lnTo>
                  <a:pt x="84" y="222"/>
                </a:lnTo>
                <a:lnTo>
                  <a:pt x="90" y="222"/>
                </a:lnTo>
                <a:lnTo>
                  <a:pt x="96" y="222"/>
                </a:lnTo>
                <a:lnTo>
                  <a:pt x="102" y="222"/>
                </a:lnTo>
                <a:lnTo>
                  <a:pt x="108" y="222"/>
                </a:lnTo>
                <a:lnTo>
                  <a:pt x="114" y="222"/>
                </a:lnTo>
                <a:lnTo>
                  <a:pt x="120" y="222"/>
                </a:lnTo>
                <a:lnTo>
                  <a:pt x="126" y="222"/>
                </a:lnTo>
                <a:lnTo>
                  <a:pt x="132" y="222"/>
                </a:lnTo>
                <a:lnTo>
                  <a:pt x="138" y="222"/>
                </a:lnTo>
                <a:lnTo>
                  <a:pt x="144" y="228"/>
                </a:lnTo>
                <a:lnTo>
                  <a:pt x="150" y="228"/>
                </a:lnTo>
                <a:lnTo>
                  <a:pt x="156" y="228"/>
                </a:lnTo>
                <a:lnTo>
                  <a:pt x="162" y="228"/>
                </a:lnTo>
                <a:lnTo>
                  <a:pt x="168" y="228"/>
                </a:lnTo>
                <a:lnTo>
                  <a:pt x="174" y="228"/>
                </a:lnTo>
                <a:lnTo>
                  <a:pt x="180" y="228"/>
                </a:lnTo>
                <a:lnTo>
                  <a:pt x="186" y="228"/>
                </a:lnTo>
                <a:lnTo>
                  <a:pt x="192" y="228"/>
                </a:lnTo>
                <a:lnTo>
                  <a:pt x="198" y="228"/>
                </a:lnTo>
                <a:lnTo>
                  <a:pt x="204" y="228"/>
                </a:lnTo>
                <a:lnTo>
                  <a:pt x="210" y="228"/>
                </a:lnTo>
                <a:lnTo>
                  <a:pt x="216" y="228"/>
                </a:lnTo>
                <a:lnTo>
                  <a:pt x="222" y="228"/>
                </a:lnTo>
                <a:lnTo>
                  <a:pt x="228" y="228"/>
                </a:lnTo>
                <a:lnTo>
                  <a:pt x="234" y="234"/>
                </a:lnTo>
                <a:lnTo>
                  <a:pt x="240" y="234"/>
                </a:lnTo>
                <a:lnTo>
                  <a:pt x="246" y="234"/>
                </a:lnTo>
                <a:lnTo>
                  <a:pt x="252" y="234"/>
                </a:lnTo>
                <a:lnTo>
                  <a:pt x="258" y="234"/>
                </a:lnTo>
                <a:lnTo>
                  <a:pt x="264" y="234"/>
                </a:lnTo>
                <a:lnTo>
                  <a:pt x="270" y="234"/>
                </a:lnTo>
                <a:lnTo>
                  <a:pt x="276" y="234"/>
                </a:lnTo>
                <a:lnTo>
                  <a:pt x="282" y="234"/>
                </a:lnTo>
                <a:lnTo>
                  <a:pt x="288" y="234"/>
                </a:lnTo>
                <a:lnTo>
                  <a:pt x="294" y="234"/>
                </a:lnTo>
                <a:lnTo>
                  <a:pt x="300" y="234"/>
                </a:lnTo>
                <a:lnTo>
                  <a:pt x="306" y="234"/>
                </a:lnTo>
                <a:lnTo>
                  <a:pt x="312" y="234"/>
                </a:lnTo>
                <a:lnTo>
                  <a:pt x="318" y="234"/>
                </a:lnTo>
                <a:lnTo>
                  <a:pt x="324" y="240"/>
                </a:lnTo>
                <a:lnTo>
                  <a:pt x="330" y="240"/>
                </a:lnTo>
                <a:lnTo>
                  <a:pt x="336" y="240"/>
                </a:lnTo>
                <a:lnTo>
                  <a:pt x="342" y="240"/>
                </a:lnTo>
                <a:lnTo>
                  <a:pt x="348" y="240"/>
                </a:lnTo>
                <a:lnTo>
                  <a:pt x="354" y="240"/>
                </a:lnTo>
                <a:lnTo>
                  <a:pt x="360" y="240"/>
                </a:lnTo>
                <a:lnTo>
                  <a:pt x="366" y="240"/>
                </a:lnTo>
                <a:lnTo>
                  <a:pt x="372" y="240"/>
                </a:lnTo>
                <a:lnTo>
                  <a:pt x="378" y="240"/>
                </a:lnTo>
                <a:lnTo>
                  <a:pt x="384" y="240"/>
                </a:lnTo>
                <a:lnTo>
                  <a:pt x="390" y="240"/>
                </a:lnTo>
                <a:lnTo>
                  <a:pt x="396" y="240"/>
                </a:lnTo>
                <a:lnTo>
                  <a:pt x="402" y="240"/>
                </a:lnTo>
                <a:lnTo>
                  <a:pt x="408" y="240"/>
                </a:lnTo>
                <a:lnTo>
                  <a:pt x="414" y="240"/>
                </a:lnTo>
                <a:lnTo>
                  <a:pt x="420" y="246"/>
                </a:lnTo>
                <a:lnTo>
                  <a:pt x="426" y="246"/>
                </a:lnTo>
                <a:lnTo>
                  <a:pt x="432" y="246"/>
                </a:lnTo>
                <a:lnTo>
                  <a:pt x="438" y="246"/>
                </a:lnTo>
                <a:lnTo>
                  <a:pt x="444" y="246"/>
                </a:lnTo>
                <a:lnTo>
                  <a:pt x="450" y="246"/>
                </a:lnTo>
                <a:lnTo>
                  <a:pt x="456" y="246"/>
                </a:lnTo>
                <a:lnTo>
                  <a:pt x="462" y="246"/>
                </a:lnTo>
                <a:lnTo>
                  <a:pt x="468" y="246"/>
                </a:lnTo>
                <a:lnTo>
                  <a:pt x="474" y="246"/>
                </a:lnTo>
                <a:lnTo>
                  <a:pt x="480" y="246"/>
                </a:lnTo>
                <a:lnTo>
                  <a:pt x="486" y="246"/>
                </a:lnTo>
                <a:lnTo>
                  <a:pt x="492" y="246"/>
                </a:lnTo>
                <a:lnTo>
                  <a:pt x="498" y="246"/>
                </a:lnTo>
                <a:lnTo>
                  <a:pt x="504" y="246"/>
                </a:lnTo>
                <a:lnTo>
                  <a:pt x="510" y="246"/>
                </a:lnTo>
                <a:lnTo>
                  <a:pt x="516" y="246"/>
                </a:lnTo>
                <a:lnTo>
                  <a:pt x="522" y="246"/>
                </a:lnTo>
                <a:lnTo>
                  <a:pt x="528" y="246"/>
                </a:lnTo>
                <a:lnTo>
                  <a:pt x="534" y="246"/>
                </a:lnTo>
                <a:lnTo>
                  <a:pt x="540" y="246"/>
                </a:lnTo>
                <a:lnTo>
                  <a:pt x="546" y="240"/>
                </a:lnTo>
                <a:lnTo>
                  <a:pt x="552" y="240"/>
                </a:lnTo>
                <a:lnTo>
                  <a:pt x="558" y="240"/>
                </a:lnTo>
                <a:lnTo>
                  <a:pt x="564" y="240"/>
                </a:lnTo>
                <a:lnTo>
                  <a:pt x="570" y="240"/>
                </a:lnTo>
                <a:lnTo>
                  <a:pt x="576" y="240"/>
                </a:lnTo>
                <a:lnTo>
                  <a:pt x="582" y="240"/>
                </a:lnTo>
                <a:lnTo>
                  <a:pt x="588" y="240"/>
                </a:lnTo>
                <a:lnTo>
                  <a:pt x="594" y="234"/>
                </a:lnTo>
                <a:lnTo>
                  <a:pt x="600" y="234"/>
                </a:lnTo>
                <a:lnTo>
                  <a:pt x="606" y="234"/>
                </a:lnTo>
                <a:lnTo>
                  <a:pt x="612" y="234"/>
                </a:lnTo>
                <a:lnTo>
                  <a:pt x="618" y="234"/>
                </a:lnTo>
                <a:lnTo>
                  <a:pt x="624" y="228"/>
                </a:lnTo>
                <a:lnTo>
                  <a:pt x="630" y="228"/>
                </a:lnTo>
                <a:lnTo>
                  <a:pt x="636" y="228"/>
                </a:lnTo>
                <a:lnTo>
                  <a:pt x="642" y="222"/>
                </a:lnTo>
                <a:lnTo>
                  <a:pt x="648" y="222"/>
                </a:lnTo>
                <a:lnTo>
                  <a:pt x="654" y="222"/>
                </a:lnTo>
                <a:lnTo>
                  <a:pt x="660" y="216"/>
                </a:lnTo>
                <a:lnTo>
                  <a:pt x="666" y="216"/>
                </a:lnTo>
                <a:lnTo>
                  <a:pt x="672" y="210"/>
                </a:lnTo>
                <a:lnTo>
                  <a:pt x="678" y="210"/>
                </a:lnTo>
                <a:lnTo>
                  <a:pt x="684" y="204"/>
                </a:lnTo>
                <a:lnTo>
                  <a:pt x="690" y="204"/>
                </a:lnTo>
                <a:lnTo>
                  <a:pt x="696" y="198"/>
                </a:lnTo>
                <a:lnTo>
                  <a:pt x="702" y="198"/>
                </a:lnTo>
                <a:lnTo>
                  <a:pt x="708" y="192"/>
                </a:lnTo>
                <a:lnTo>
                  <a:pt x="714" y="192"/>
                </a:lnTo>
                <a:lnTo>
                  <a:pt x="720" y="186"/>
                </a:lnTo>
                <a:lnTo>
                  <a:pt x="726" y="186"/>
                </a:lnTo>
                <a:lnTo>
                  <a:pt x="732" y="180"/>
                </a:lnTo>
                <a:lnTo>
                  <a:pt x="738" y="174"/>
                </a:lnTo>
                <a:lnTo>
                  <a:pt x="744" y="168"/>
                </a:lnTo>
                <a:lnTo>
                  <a:pt x="750" y="168"/>
                </a:lnTo>
                <a:lnTo>
                  <a:pt x="756" y="162"/>
                </a:lnTo>
                <a:lnTo>
                  <a:pt x="762" y="156"/>
                </a:lnTo>
                <a:lnTo>
                  <a:pt x="768" y="156"/>
                </a:lnTo>
                <a:lnTo>
                  <a:pt x="774" y="150"/>
                </a:lnTo>
                <a:lnTo>
                  <a:pt x="780" y="144"/>
                </a:lnTo>
                <a:lnTo>
                  <a:pt x="786" y="138"/>
                </a:lnTo>
                <a:lnTo>
                  <a:pt x="792" y="132"/>
                </a:lnTo>
                <a:lnTo>
                  <a:pt x="798" y="126"/>
                </a:lnTo>
                <a:lnTo>
                  <a:pt x="804" y="126"/>
                </a:lnTo>
                <a:lnTo>
                  <a:pt x="810" y="120"/>
                </a:lnTo>
                <a:lnTo>
                  <a:pt x="816" y="114"/>
                </a:lnTo>
                <a:lnTo>
                  <a:pt x="822" y="108"/>
                </a:lnTo>
                <a:lnTo>
                  <a:pt x="828" y="108"/>
                </a:lnTo>
                <a:lnTo>
                  <a:pt x="834" y="102"/>
                </a:lnTo>
                <a:lnTo>
                  <a:pt x="840" y="96"/>
                </a:lnTo>
                <a:lnTo>
                  <a:pt x="846" y="90"/>
                </a:lnTo>
                <a:lnTo>
                  <a:pt x="852" y="84"/>
                </a:lnTo>
                <a:lnTo>
                  <a:pt x="858" y="84"/>
                </a:lnTo>
                <a:lnTo>
                  <a:pt x="864" y="78"/>
                </a:lnTo>
                <a:lnTo>
                  <a:pt x="870" y="72"/>
                </a:lnTo>
                <a:lnTo>
                  <a:pt x="876" y="72"/>
                </a:lnTo>
                <a:lnTo>
                  <a:pt x="882" y="66"/>
                </a:lnTo>
                <a:lnTo>
                  <a:pt x="888" y="66"/>
                </a:lnTo>
                <a:lnTo>
                  <a:pt x="894" y="60"/>
                </a:lnTo>
                <a:lnTo>
                  <a:pt x="900" y="54"/>
                </a:lnTo>
                <a:lnTo>
                  <a:pt x="906" y="54"/>
                </a:lnTo>
                <a:lnTo>
                  <a:pt x="912" y="48"/>
                </a:lnTo>
                <a:lnTo>
                  <a:pt x="918" y="42"/>
                </a:lnTo>
                <a:lnTo>
                  <a:pt x="924" y="42"/>
                </a:lnTo>
                <a:lnTo>
                  <a:pt x="930" y="36"/>
                </a:lnTo>
                <a:lnTo>
                  <a:pt x="936" y="36"/>
                </a:lnTo>
                <a:lnTo>
                  <a:pt x="942" y="36"/>
                </a:lnTo>
                <a:lnTo>
                  <a:pt x="948" y="30"/>
                </a:lnTo>
                <a:lnTo>
                  <a:pt x="954" y="30"/>
                </a:lnTo>
                <a:lnTo>
                  <a:pt x="960" y="24"/>
                </a:lnTo>
                <a:lnTo>
                  <a:pt x="966" y="24"/>
                </a:lnTo>
                <a:lnTo>
                  <a:pt x="972" y="24"/>
                </a:lnTo>
                <a:lnTo>
                  <a:pt x="978" y="18"/>
                </a:lnTo>
                <a:lnTo>
                  <a:pt x="984" y="18"/>
                </a:lnTo>
                <a:lnTo>
                  <a:pt x="990" y="18"/>
                </a:lnTo>
                <a:lnTo>
                  <a:pt x="996" y="18"/>
                </a:lnTo>
                <a:lnTo>
                  <a:pt x="1002" y="12"/>
                </a:lnTo>
                <a:lnTo>
                  <a:pt x="1008" y="12"/>
                </a:lnTo>
                <a:lnTo>
                  <a:pt x="1014" y="12"/>
                </a:lnTo>
                <a:lnTo>
                  <a:pt x="1020" y="12"/>
                </a:lnTo>
                <a:lnTo>
                  <a:pt x="1026" y="6"/>
                </a:lnTo>
                <a:lnTo>
                  <a:pt x="1032" y="6"/>
                </a:lnTo>
                <a:lnTo>
                  <a:pt x="1038" y="6"/>
                </a:lnTo>
                <a:lnTo>
                  <a:pt x="1044" y="6"/>
                </a:lnTo>
                <a:lnTo>
                  <a:pt x="1050" y="6"/>
                </a:lnTo>
                <a:lnTo>
                  <a:pt x="1056" y="6"/>
                </a:lnTo>
                <a:lnTo>
                  <a:pt x="1062" y="6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1" y="0"/>
                </a:lnTo>
                <a:lnTo>
                  <a:pt x="1147" y="0"/>
                </a:lnTo>
                <a:lnTo>
                  <a:pt x="1153" y="0"/>
                </a:lnTo>
                <a:lnTo>
                  <a:pt x="1159" y="0"/>
                </a:lnTo>
                <a:lnTo>
                  <a:pt x="1165" y="0"/>
                </a:lnTo>
                <a:lnTo>
                  <a:pt x="1171" y="0"/>
                </a:lnTo>
                <a:lnTo>
                  <a:pt x="1177" y="0"/>
                </a:lnTo>
                <a:lnTo>
                  <a:pt x="1183" y="0"/>
                </a:lnTo>
                <a:lnTo>
                  <a:pt x="1189" y="0"/>
                </a:lnTo>
                <a:lnTo>
                  <a:pt x="1195" y="0"/>
                </a:lnTo>
                <a:lnTo>
                  <a:pt x="1201" y="0"/>
                </a:lnTo>
                <a:lnTo>
                  <a:pt x="1207" y="0"/>
                </a:lnTo>
                <a:lnTo>
                  <a:pt x="1213" y="0"/>
                </a:lnTo>
                <a:lnTo>
                  <a:pt x="1219" y="0"/>
                </a:lnTo>
                <a:lnTo>
                  <a:pt x="1225" y="0"/>
                </a:lnTo>
                <a:lnTo>
                  <a:pt x="1231" y="0"/>
                </a:lnTo>
                <a:lnTo>
                  <a:pt x="1237" y="0"/>
                </a:lnTo>
                <a:lnTo>
                  <a:pt x="1243" y="0"/>
                </a:lnTo>
                <a:lnTo>
                  <a:pt x="1249" y="0"/>
                </a:lnTo>
                <a:lnTo>
                  <a:pt x="1255" y="0"/>
                </a:lnTo>
                <a:lnTo>
                  <a:pt x="1261" y="0"/>
                </a:lnTo>
                <a:lnTo>
                  <a:pt x="1267" y="0"/>
                </a:lnTo>
                <a:lnTo>
                  <a:pt x="1273" y="0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186"/>
                </a:lnTo>
              </a:path>
            </a:pathLst>
          </a:custGeom>
          <a:solidFill>
            <a:srgbClr val="00ff00">
              <a:alpha val="50000"/>
            </a:srgbClr>
          </a:solidFill>
          <a:ln w="19080">
            <a:solidFill>
              <a:srgbClr val="00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87560" y="2397240"/>
            <a:ext cx="2068560" cy="81756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496880" y="229860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04360" y="2368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325600" y="229860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33080" y="2392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156120" y="229860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53960" y="2495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975120" y="229860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3336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803840" y="229860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62080" y="2378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33800" y="35622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50560" y="3362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33800" y="296712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50560" y="2770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3800" y="239724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55680" y="2198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33800" y="180180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87280" y="160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33800" y="1206360"/>
            <a:ext cx="3816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87280" y="1096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56120" y="1554120"/>
            <a:ext cx="2057400" cy="84312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  <a:lnTo>
                  <a:pt x="1296" y="20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56120" y="1630440"/>
            <a:ext cx="2057400" cy="1014480"/>
          </a:xfrm>
          <a:custGeom>
            <a:avLst/>
            <a:gdLst/>
            <a:ahLst/>
            <a:rect l="l" t="t" r="r" b="b"/>
            <a:pathLst>
              <a:path w="1296" h="246">
                <a:moveTo>
                  <a:pt x="0" y="186"/>
                </a:moveTo>
                <a:lnTo>
                  <a:pt x="0" y="0"/>
                </a:ln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0" y="12"/>
                </a:lnTo>
                <a:lnTo>
                  <a:pt x="276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36" y="30"/>
                </a:lnTo>
                <a:lnTo>
                  <a:pt x="342" y="30"/>
                </a:lnTo>
                <a:lnTo>
                  <a:pt x="348" y="30"/>
                </a:lnTo>
                <a:lnTo>
                  <a:pt x="354" y="36"/>
                </a:lnTo>
                <a:lnTo>
                  <a:pt x="360" y="36"/>
                </a:lnTo>
                <a:lnTo>
                  <a:pt x="366" y="42"/>
                </a:lnTo>
                <a:lnTo>
                  <a:pt x="372" y="42"/>
                </a:lnTo>
                <a:lnTo>
                  <a:pt x="378" y="48"/>
                </a:lnTo>
                <a:lnTo>
                  <a:pt x="384" y="48"/>
                </a:lnTo>
                <a:lnTo>
                  <a:pt x="390" y="54"/>
                </a:lnTo>
                <a:lnTo>
                  <a:pt x="396" y="54"/>
                </a:lnTo>
                <a:lnTo>
                  <a:pt x="402" y="60"/>
                </a:lnTo>
                <a:lnTo>
                  <a:pt x="408" y="66"/>
                </a:lnTo>
                <a:lnTo>
                  <a:pt x="414" y="66"/>
                </a:lnTo>
                <a:lnTo>
                  <a:pt x="420" y="72"/>
                </a:lnTo>
                <a:lnTo>
                  <a:pt x="426" y="78"/>
                </a:lnTo>
                <a:lnTo>
                  <a:pt x="432" y="78"/>
                </a:lnTo>
                <a:lnTo>
                  <a:pt x="438" y="84"/>
                </a:lnTo>
                <a:lnTo>
                  <a:pt x="444" y="90"/>
                </a:lnTo>
                <a:lnTo>
                  <a:pt x="450" y="96"/>
                </a:lnTo>
                <a:lnTo>
                  <a:pt x="456" y="96"/>
                </a:lnTo>
                <a:lnTo>
                  <a:pt x="462" y="102"/>
                </a:lnTo>
                <a:lnTo>
                  <a:pt x="468" y="108"/>
                </a:lnTo>
                <a:lnTo>
                  <a:pt x="474" y="114"/>
                </a:lnTo>
                <a:lnTo>
                  <a:pt x="480" y="120"/>
                </a:lnTo>
                <a:lnTo>
                  <a:pt x="486" y="120"/>
                </a:lnTo>
                <a:lnTo>
                  <a:pt x="492" y="126"/>
                </a:lnTo>
                <a:lnTo>
                  <a:pt x="498" y="132"/>
                </a:lnTo>
                <a:lnTo>
                  <a:pt x="504" y="138"/>
                </a:lnTo>
                <a:lnTo>
                  <a:pt x="510" y="144"/>
                </a:lnTo>
                <a:lnTo>
                  <a:pt x="516" y="144"/>
                </a:lnTo>
                <a:lnTo>
                  <a:pt x="522" y="150"/>
                </a:lnTo>
                <a:lnTo>
                  <a:pt x="528" y="156"/>
                </a:lnTo>
                <a:lnTo>
                  <a:pt x="534" y="162"/>
                </a:lnTo>
                <a:lnTo>
                  <a:pt x="540" y="168"/>
                </a:lnTo>
                <a:lnTo>
                  <a:pt x="546" y="168"/>
                </a:lnTo>
                <a:lnTo>
                  <a:pt x="552" y="174"/>
                </a:lnTo>
                <a:lnTo>
                  <a:pt x="558" y="180"/>
                </a:lnTo>
                <a:lnTo>
                  <a:pt x="564" y="180"/>
                </a:lnTo>
                <a:lnTo>
                  <a:pt x="570" y="186"/>
                </a:lnTo>
                <a:lnTo>
                  <a:pt x="576" y="192"/>
                </a:lnTo>
                <a:lnTo>
                  <a:pt x="582" y="192"/>
                </a:lnTo>
                <a:lnTo>
                  <a:pt x="588" y="198"/>
                </a:lnTo>
                <a:lnTo>
                  <a:pt x="594" y="198"/>
                </a:lnTo>
                <a:lnTo>
                  <a:pt x="600" y="204"/>
                </a:lnTo>
                <a:lnTo>
                  <a:pt x="606" y="204"/>
                </a:lnTo>
                <a:lnTo>
                  <a:pt x="612" y="210"/>
                </a:lnTo>
                <a:lnTo>
                  <a:pt x="618" y="210"/>
                </a:lnTo>
                <a:lnTo>
                  <a:pt x="624" y="216"/>
                </a:lnTo>
                <a:lnTo>
                  <a:pt x="630" y="216"/>
                </a:lnTo>
                <a:lnTo>
                  <a:pt x="636" y="222"/>
                </a:lnTo>
                <a:lnTo>
                  <a:pt x="642" y="222"/>
                </a:lnTo>
                <a:lnTo>
                  <a:pt x="648" y="222"/>
                </a:lnTo>
                <a:lnTo>
                  <a:pt x="654" y="228"/>
                </a:lnTo>
                <a:lnTo>
                  <a:pt x="660" y="228"/>
                </a:lnTo>
                <a:lnTo>
                  <a:pt x="666" y="228"/>
                </a:lnTo>
                <a:lnTo>
                  <a:pt x="672" y="228"/>
                </a:lnTo>
                <a:lnTo>
                  <a:pt x="678" y="234"/>
                </a:lnTo>
                <a:lnTo>
                  <a:pt x="684" y="234"/>
                </a:lnTo>
                <a:lnTo>
                  <a:pt x="690" y="234"/>
                </a:lnTo>
                <a:lnTo>
                  <a:pt x="696" y="234"/>
                </a:lnTo>
                <a:lnTo>
                  <a:pt x="702" y="240"/>
                </a:lnTo>
                <a:lnTo>
                  <a:pt x="708" y="240"/>
                </a:lnTo>
                <a:lnTo>
                  <a:pt x="714" y="240"/>
                </a:lnTo>
                <a:lnTo>
                  <a:pt x="720" y="240"/>
                </a:lnTo>
                <a:lnTo>
                  <a:pt x="726" y="240"/>
                </a:lnTo>
                <a:lnTo>
                  <a:pt x="732" y="240"/>
                </a:lnTo>
                <a:lnTo>
                  <a:pt x="738" y="240"/>
                </a:lnTo>
                <a:lnTo>
                  <a:pt x="744" y="240"/>
                </a:lnTo>
                <a:lnTo>
                  <a:pt x="750" y="246"/>
                </a:lnTo>
                <a:lnTo>
                  <a:pt x="756" y="246"/>
                </a:lnTo>
                <a:lnTo>
                  <a:pt x="762" y="246"/>
                </a:lnTo>
                <a:lnTo>
                  <a:pt x="768" y="246"/>
                </a:lnTo>
                <a:lnTo>
                  <a:pt x="774" y="246"/>
                </a:lnTo>
                <a:lnTo>
                  <a:pt x="780" y="246"/>
                </a:lnTo>
                <a:lnTo>
                  <a:pt x="786" y="246"/>
                </a:lnTo>
                <a:lnTo>
                  <a:pt x="792" y="246"/>
                </a:lnTo>
                <a:lnTo>
                  <a:pt x="798" y="246"/>
                </a:lnTo>
                <a:lnTo>
                  <a:pt x="804" y="246"/>
                </a:lnTo>
                <a:lnTo>
                  <a:pt x="810" y="246"/>
                </a:lnTo>
                <a:lnTo>
                  <a:pt x="816" y="246"/>
                </a:lnTo>
                <a:lnTo>
                  <a:pt x="822" y="246"/>
                </a:lnTo>
                <a:lnTo>
                  <a:pt x="828" y="246"/>
                </a:lnTo>
                <a:lnTo>
                  <a:pt x="834" y="246"/>
                </a:lnTo>
                <a:lnTo>
                  <a:pt x="840" y="246"/>
                </a:lnTo>
                <a:lnTo>
                  <a:pt x="846" y="246"/>
                </a:lnTo>
                <a:lnTo>
                  <a:pt x="852" y="246"/>
                </a:lnTo>
                <a:lnTo>
                  <a:pt x="858" y="246"/>
                </a:lnTo>
                <a:lnTo>
                  <a:pt x="864" y="246"/>
                </a:lnTo>
                <a:lnTo>
                  <a:pt x="870" y="246"/>
                </a:lnTo>
                <a:lnTo>
                  <a:pt x="876" y="240"/>
                </a:lnTo>
                <a:lnTo>
                  <a:pt x="882" y="240"/>
                </a:lnTo>
                <a:lnTo>
                  <a:pt x="888" y="240"/>
                </a:lnTo>
                <a:lnTo>
                  <a:pt x="894" y="240"/>
                </a:lnTo>
                <a:lnTo>
                  <a:pt x="900" y="240"/>
                </a:lnTo>
                <a:lnTo>
                  <a:pt x="906" y="240"/>
                </a:lnTo>
                <a:lnTo>
                  <a:pt x="912" y="240"/>
                </a:lnTo>
                <a:lnTo>
                  <a:pt x="918" y="240"/>
                </a:lnTo>
                <a:lnTo>
                  <a:pt x="924" y="240"/>
                </a:lnTo>
                <a:lnTo>
                  <a:pt x="930" y="240"/>
                </a:lnTo>
                <a:lnTo>
                  <a:pt x="936" y="240"/>
                </a:lnTo>
                <a:lnTo>
                  <a:pt x="942" y="240"/>
                </a:lnTo>
                <a:lnTo>
                  <a:pt x="948" y="240"/>
                </a:lnTo>
                <a:lnTo>
                  <a:pt x="954" y="240"/>
                </a:lnTo>
                <a:lnTo>
                  <a:pt x="960" y="240"/>
                </a:lnTo>
                <a:lnTo>
                  <a:pt x="966" y="240"/>
                </a:lnTo>
                <a:lnTo>
                  <a:pt x="972" y="240"/>
                </a:lnTo>
                <a:lnTo>
                  <a:pt x="978" y="234"/>
                </a:lnTo>
                <a:lnTo>
                  <a:pt x="984" y="234"/>
                </a:lnTo>
                <a:lnTo>
                  <a:pt x="990" y="234"/>
                </a:lnTo>
                <a:lnTo>
                  <a:pt x="996" y="234"/>
                </a:lnTo>
                <a:lnTo>
                  <a:pt x="1002" y="234"/>
                </a:lnTo>
                <a:lnTo>
                  <a:pt x="1008" y="234"/>
                </a:lnTo>
                <a:lnTo>
                  <a:pt x="1014" y="234"/>
                </a:lnTo>
                <a:lnTo>
                  <a:pt x="1020" y="234"/>
                </a:lnTo>
                <a:lnTo>
                  <a:pt x="1026" y="234"/>
                </a:lnTo>
                <a:lnTo>
                  <a:pt x="1032" y="234"/>
                </a:lnTo>
                <a:lnTo>
                  <a:pt x="1038" y="234"/>
                </a:lnTo>
                <a:lnTo>
                  <a:pt x="1044" y="234"/>
                </a:lnTo>
                <a:lnTo>
                  <a:pt x="1050" y="234"/>
                </a:lnTo>
                <a:lnTo>
                  <a:pt x="1056" y="234"/>
                </a:lnTo>
                <a:lnTo>
                  <a:pt x="1062" y="228"/>
                </a:lnTo>
                <a:lnTo>
                  <a:pt x="1068" y="228"/>
                </a:lnTo>
                <a:lnTo>
                  <a:pt x="1074" y="228"/>
                </a:lnTo>
                <a:lnTo>
                  <a:pt x="1080" y="228"/>
                </a:lnTo>
                <a:lnTo>
                  <a:pt x="1086" y="228"/>
                </a:lnTo>
                <a:lnTo>
                  <a:pt x="1092" y="228"/>
                </a:lnTo>
                <a:lnTo>
                  <a:pt x="1098" y="228"/>
                </a:lnTo>
                <a:lnTo>
                  <a:pt x="1104" y="228"/>
                </a:lnTo>
                <a:lnTo>
                  <a:pt x="1110" y="228"/>
                </a:lnTo>
                <a:lnTo>
                  <a:pt x="1116" y="228"/>
                </a:lnTo>
                <a:lnTo>
                  <a:pt x="1122" y="228"/>
                </a:lnTo>
                <a:lnTo>
                  <a:pt x="1128" y="228"/>
                </a:lnTo>
                <a:lnTo>
                  <a:pt x="1134" y="228"/>
                </a:lnTo>
                <a:lnTo>
                  <a:pt x="1140" y="228"/>
                </a:lnTo>
                <a:lnTo>
                  <a:pt x="1146" y="228"/>
                </a:lnTo>
                <a:lnTo>
                  <a:pt x="1152" y="228"/>
                </a:lnTo>
                <a:lnTo>
                  <a:pt x="1158" y="222"/>
                </a:lnTo>
                <a:lnTo>
                  <a:pt x="1164" y="222"/>
                </a:lnTo>
                <a:lnTo>
                  <a:pt x="1170" y="222"/>
                </a:lnTo>
                <a:lnTo>
                  <a:pt x="1176" y="222"/>
                </a:lnTo>
                <a:lnTo>
                  <a:pt x="1182" y="222"/>
                </a:lnTo>
                <a:lnTo>
                  <a:pt x="1188" y="222"/>
                </a:lnTo>
                <a:lnTo>
                  <a:pt x="1194" y="222"/>
                </a:lnTo>
                <a:lnTo>
                  <a:pt x="1200" y="222"/>
                </a:lnTo>
                <a:lnTo>
                  <a:pt x="1206" y="222"/>
                </a:lnTo>
                <a:lnTo>
                  <a:pt x="1212" y="222"/>
                </a:lnTo>
                <a:lnTo>
                  <a:pt x="1218" y="222"/>
                </a:lnTo>
                <a:lnTo>
                  <a:pt x="1224" y="222"/>
                </a:lnTo>
                <a:lnTo>
                  <a:pt x="1230" y="222"/>
                </a:lnTo>
                <a:lnTo>
                  <a:pt x="1236" y="222"/>
                </a:lnTo>
                <a:lnTo>
                  <a:pt x="1242" y="222"/>
                </a:lnTo>
                <a:lnTo>
                  <a:pt x="1248" y="222"/>
                </a:lnTo>
                <a:lnTo>
                  <a:pt x="1254" y="222"/>
                </a:lnTo>
                <a:lnTo>
                  <a:pt x="1260" y="222"/>
                </a:lnTo>
                <a:lnTo>
                  <a:pt x="1266" y="216"/>
                </a:lnTo>
                <a:lnTo>
                  <a:pt x="1272" y="216"/>
                </a:lnTo>
                <a:lnTo>
                  <a:pt x="1278" y="216"/>
                </a:lnTo>
                <a:lnTo>
                  <a:pt x="1284" y="216"/>
                </a:lnTo>
                <a:lnTo>
                  <a:pt x="1290" y="216"/>
                </a:lnTo>
                <a:lnTo>
                  <a:pt x="1296" y="216"/>
                </a:lnTo>
                <a:lnTo>
                  <a:pt x="1296" y="186"/>
                </a:lnTo>
              </a:path>
            </a:pathLst>
          </a:custGeom>
          <a:solidFill>
            <a:srgbClr val="00ff00">
              <a:alpha val="50000"/>
            </a:srgbClr>
          </a:solidFill>
          <a:ln w="19080">
            <a:solidFill>
              <a:srgbClr val="00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56120" y="1554120"/>
            <a:ext cx="2057400" cy="84312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49640" y="1009800"/>
            <a:ext cx="0" cy="258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73360" y="277020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33"/>
                </a:solidFill>
                <a:latin typeface="Times New Roman"/>
              </a:rPr>
              <a:t>Imag 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35320" y="1603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Real 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282920" y="1846080"/>
            <a:ext cx="1127160" cy="379080"/>
          </a:xfrm>
          <a:prstGeom prst="line">
            <a:avLst/>
          </a:prstGeom>
          <a:ln w="28440">
            <a:solidFill>
              <a:srgbClr val="00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7040" y="3559320"/>
            <a:ext cx="19479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Zero Chroma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406680" y="3746160"/>
            <a:ext cx="2073240" cy="77940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747880" y="3871800"/>
            <a:ext cx="2957760" cy="120672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21000" y="1801800"/>
            <a:ext cx="2158920" cy="140508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82800" y="882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( M 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00160" y="5078520"/>
            <a:ext cx="411336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solidFill>
            <a:srgbClr val="66ffff">
              <a:alpha val="50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00160" y="4162320"/>
            <a:ext cx="411336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solidFill>
            <a:srgbClr val="ff0000">
              <a:alpha val="50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91280" y="4525920"/>
            <a:ext cx="3279600" cy="127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uning of Mode 0 = f (R/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uning of mode -1 = f(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ode with larger m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re much less detu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87000" y="12668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/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BC7A-CA90-4CA2-A05E-7E47A3367A7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EA460-4E4D-47F2-BFD5-7AD4FE2104C0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747880" y="1249200"/>
            <a:ext cx="825480" cy="489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60680" y="1554120"/>
            <a:ext cx="396720" cy="4584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47840" y="1806480"/>
            <a:ext cx="425520" cy="4337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0960" y="1373040"/>
            <a:ext cx="216720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imulation of the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ode coupling with a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BBR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65440" y="3933720"/>
            <a:ext cx="1800" cy="2006640"/>
          </a:xfrm>
          <a:custGeom>
            <a:avLst/>
            <a:gdLst/>
            <a:ahLst/>
            <a:rect l="l" t="t" r="r" b="b"/>
            <a:pathLst>
              <a:path w="0" h="256">
                <a:moveTo>
                  <a:pt x="0" y="25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00160" y="5940360"/>
            <a:ext cx="411336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00160" y="5940360"/>
            <a:ext cx="411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10016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508040" y="5892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25240" y="5972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92420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33208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47480" y="5972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74788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15756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31640" y="5972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565440" y="5892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979800" y="5892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200" y="5972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38948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80384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49480" y="5972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21352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00160" y="594036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00160" y="4162320"/>
            <a:ext cx="411336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26000" y="574056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00160" y="5078520"/>
            <a:ext cx="411336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3389760" y="4785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00160" y="5430960"/>
            <a:ext cx="411336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2248920" y="5084280"/>
            <a:ext cx="47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m=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6200000">
            <a:off x="3704040" y="511920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18600" y="3979800"/>
            <a:ext cx="36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m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2533680" y="4675320"/>
            <a:ext cx="46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m=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3389760" y="4785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00160" y="5430960"/>
            <a:ext cx="411336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solidFill>
            <a:srgbClr val="ccccff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133800" y="389736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935080" y="-1393920"/>
            <a:ext cx="897840" cy="652320"/>
            <a:chOff x="2935080" y="-1393920"/>
            <a:chExt cx="897840" cy="652320"/>
          </a:xfrm>
        </p:grpSpPr>
        <p:sp>
          <p:nvSpPr>
            <p:cNvPr id="281" name=""/>
            <p:cNvSpPr/>
            <p:nvPr/>
          </p:nvSpPr>
          <p:spPr>
            <a:xfrm>
              <a:off x="2935080" y="-942840"/>
              <a:ext cx="26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 (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23840" y="-1393920"/>
              <a:ext cx="109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</a:rPr>
                <a:t>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52760" y="-8942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005120" y="222552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87560" y="2397240"/>
            <a:ext cx="41259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87560" y="2397240"/>
            <a:ext cx="2068560" cy="81756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87560" y="1630440"/>
            <a:ext cx="2068560" cy="1014480"/>
          </a:xfrm>
          <a:custGeom>
            <a:avLst/>
            <a:gdLst/>
            <a:ahLst/>
            <a:rect l="l" t="t" r="r" b="b"/>
            <a:pathLst>
              <a:path w="1303" h="246">
                <a:moveTo>
                  <a:pt x="0" y="186"/>
                </a:moveTo>
                <a:lnTo>
                  <a:pt x="0" y="216"/>
                </a:lnTo>
                <a:lnTo>
                  <a:pt x="6" y="216"/>
                </a:lnTo>
                <a:lnTo>
                  <a:pt x="12" y="216"/>
                </a:lnTo>
                <a:lnTo>
                  <a:pt x="18" y="216"/>
                </a:lnTo>
                <a:lnTo>
                  <a:pt x="24" y="216"/>
                </a:lnTo>
                <a:lnTo>
                  <a:pt x="30" y="216"/>
                </a:lnTo>
                <a:lnTo>
                  <a:pt x="36" y="222"/>
                </a:lnTo>
                <a:lnTo>
                  <a:pt x="42" y="222"/>
                </a:lnTo>
                <a:lnTo>
                  <a:pt x="48" y="222"/>
                </a:lnTo>
                <a:lnTo>
                  <a:pt x="54" y="222"/>
                </a:lnTo>
                <a:lnTo>
                  <a:pt x="60" y="222"/>
                </a:lnTo>
                <a:lnTo>
                  <a:pt x="66" y="222"/>
                </a:lnTo>
                <a:lnTo>
                  <a:pt x="72" y="222"/>
                </a:lnTo>
                <a:lnTo>
                  <a:pt x="78" y="222"/>
                </a:lnTo>
                <a:lnTo>
                  <a:pt x="84" y="222"/>
                </a:lnTo>
                <a:lnTo>
                  <a:pt x="90" y="222"/>
                </a:lnTo>
                <a:lnTo>
                  <a:pt x="96" y="222"/>
                </a:lnTo>
                <a:lnTo>
                  <a:pt x="102" y="222"/>
                </a:lnTo>
                <a:lnTo>
                  <a:pt x="108" y="222"/>
                </a:lnTo>
                <a:lnTo>
                  <a:pt x="114" y="222"/>
                </a:lnTo>
                <a:lnTo>
                  <a:pt x="120" y="222"/>
                </a:lnTo>
                <a:lnTo>
                  <a:pt x="126" y="222"/>
                </a:lnTo>
                <a:lnTo>
                  <a:pt x="132" y="222"/>
                </a:lnTo>
                <a:lnTo>
                  <a:pt x="138" y="222"/>
                </a:lnTo>
                <a:lnTo>
                  <a:pt x="144" y="228"/>
                </a:lnTo>
                <a:lnTo>
                  <a:pt x="150" y="228"/>
                </a:lnTo>
                <a:lnTo>
                  <a:pt x="156" y="228"/>
                </a:lnTo>
                <a:lnTo>
                  <a:pt x="162" y="228"/>
                </a:lnTo>
                <a:lnTo>
                  <a:pt x="168" y="228"/>
                </a:lnTo>
                <a:lnTo>
                  <a:pt x="174" y="228"/>
                </a:lnTo>
                <a:lnTo>
                  <a:pt x="180" y="228"/>
                </a:lnTo>
                <a:lnTo>
                  <a:pt x="186" y="228"/>
                </a:lnTo>
                <a:lnTo>
                  <a:pt x="192" y="228"/>
                </a:lnTo>
                <a:lnTo>
                  <a:pt x="198" y="228"/>
                </a:lnTo>
                <a:lnTo>
                  <a:pt x="204" y="228"/>
                </a:lnTo>
                <a:lnTo>
                  <a:pt x="210" y="228"/>
                </a:lnTo>
                <a:lnTo>
                  <a:pt x="216" y="228"/>
                </a:lnTo>
                <a:lnTo>
                  <a:pt x="222" y="228"/>
                </a:lnTo>
                <a:lnTo>
                  <a:pt x="228" y="228"/>
                </a:lnTo>
                <a:lnTo>
                  <a:pt x="234" y="234"/>
                </a:lnTo>
                <a:lnTo>
                  <a:pt x="240" y="234"/>
                </a:lnTo>
                <a:lnTo>
                  <a:pt x="246" y="234"/>
                </a:lnTo>
                <a:lnTo>
                  <a:pt x="252" y="234"/>
                </a:lnTo>
                <a:lnTo>
                  <a:pt x="258" y="234"/>
                </a:lnTo>
                <a:lnTo>
                  <a:pt x="264" y="234"/>
                </a:lnTo>
                <a:lnTo>
                  <a:pt x="270" y="234"/>
                </a:lnTo>
                <a:lnTo>
                  <a:pt x="276" y="234"/>
                </a:lnTo>
                <a:lnTo>
                  <a:pt x="282" y="234"/>
                </a:lnTo>
                <a:lnTo>
                  <a:pt x="288" y="234"/>
                </a:lnTo>
                <a:lnTo>
                  <a:pt x="294" y="234"/>
                </a:lnTo>
                <a:lnTo>
                  <a:pt x="300" y="234"/>
                </a:lnTo>
                <a:lnTo>
                  <a:pt x="306" y="234"/>
                </a:lnTo>
                <a:lnTo>
                  <a:pt x="312" y="234"/>
                </a:lnTo>
                <a:lnTo>
                  <a:pt x="318" y="234"/>
                </a:lnTo>
                <a:lnTo>
                  <a:pt x="324" y="240"/>
                </a:lnTo>
                <a:lnTo>
                  <a:pt x="330" y="240"/>
                </a:lnTo>
                <a:lnTo>
                  <a:pt x="336" y="240"/>
                </a:lnTo>
                <a:lnTo>
                  <a:pt x="342" y="240"/>
                </a:lnTo>
                <a:lnTo>
                  <a:pt x="348" y="240"/>
                </a:lnTo>
                <a:lnTo>
                  <a:pt x="354" y="240"/>
                </a:lnTo>
                <a:lnTo>
                  <a:pt x="360" y="240"/>
                </a:lnTo>
                <a:lnTo>
                  <a:pt x="366" y="240"/>
                </a:lnTo>
                <a:lnTo>
                  <a:pt x="372" y="240"/>
                </a:lnTo>
                <a:lnTo>
                  <a:pt x="378" y="240"/>
                </a:lnTo>
                <a:lnTo>
                  <a:pt x="384" y="240"/>
                </a:lnTo>
                <a:lnTo>
                  <a:pt x="390" y="240"/>
                </a:lnTo>
                <a:lnTo>
                  <a:pt x="396" y="240"/>
                </a:lnTo>
                <a:lnTo>
                  <a:pt x="402" y="240"/>
                </a:lnTo>
                <a:lnTo>
                  <a:pt x="408" y="240"/>
                </a:lnTo>
                <a:lnTo>
                  <a:pt x="414" y="240"/>
                </a:lnTo>
                <a:lnTo>
                  <a:pt x="420" y="246"/>
                </a:lnTo>
                <a:lnTo>
                  <a:pt x="426" y="246"/>
                </a:lnTo>
                <a:lnTo>
                  <a:pt x="432" y="246"/>
                </a:lnTo>
                <a:lnTo>
                  <a:pt x="438" y="246"/>
                </a:lnTo>
                <a:lnTo>
                  <a:pt x="444" y="246"/>
                </a:lnTo>
                <a:lnTo>
                  <a:pt x="450" y="246"/>
                </a:lnTo>
                <a:lnTo>
                  <a:pt x="456" y="246"/>
                </a:lnTo>
                <a:lnTo>
                  <a:pt x="462" y="246"/>
                </a:lnTo>
                <a:lnTo>
                  <a:pt x="468" y="246"/>
                </a:lnTo>
                <a:lnTo>
                  <a:pt x="474" y="246"/>
                </a:lnTo>
                <a:lnTo>
                  <a:pt x="480" y="246"/>
                </a:lnTo>
                <a:lnTo>
                  <a:pt x="486" y="246"/>
                </a:lnTo>
                <a:lnTo>
                  <a:pt x="492" y="246"/>
                </a:lnTo>
                <a:lnTo>
                  <a:pt x="498" y="246"/>
                </a:lnTo>
                <a:lnTo>
                  <a:pt x="504" y="246"/>
                </a:lnTo>
                <a:lnTo>
                  <a:pt x="510" y="246"/>
                </a:lnTo>
                <a:lnTo>
                  <a:pt x="516" y="246"/>
                </a:lnTo>
                <a:lnTo>
                  <a:pt x="522" y="246"/>
                </a:lnTo>
                <a:lnTo>
                  <a:pt x="528" y="246"/>
                </a:lnTo>
                <a:lnTo>
                  <a:pt x="534" y="246"/>
                </a:lnTo>
                <a:lnTo>
                  <a:pt x="540" y="246"/>
                </a:lnTo>
                <a:lnTo>
                  <a:pt x="546" y="240"/>
                </a:lnTo>
                <a:lnTo>
                  <a:pt x="552" y="240"/>
                </a:lnTo>
                <a:lnTo>
                  <a:pt x="558" y="240"/>
                </a:lnTo>
                <a:lnTo>
                  <a:pt x="564" y="240"/>
                </a:lnTo>
                <a:lnTo>
                  <a:pt x="570" y="240"/>
                </a:lnTo>
                <a:lnTo>
                  <a:pt x="576" y="240"/>
                </a:lnTo>
                <a:lnTo>
                  <a:pt x="582" y="240"/>
                </a:lnTo>
                <a:lnTo>
                  <a:pt x="588" y="240"/>
                </a:lnTo>
                <a:lnTo>
                  <a:pt x="594" y="234"/>
                </a:lnTo>
                <a:lnTo>
                  <a:pt x="600" y="234"/>
                </a:lnTo>
                <a:lnTo>
                  <a:pt x="606" y="234"/>
                </a:lnTo>
                <a:lnTo>
                  <a:pt x="612" y="234"/>
                </a:lnTo>
                <a:lnTo>
                  <a:pt x="618" y="234"/>
                </a:lnTo>
                <a:lnTo>
                  <a:pt x="624" y="228"/>
                </a:lnTo>
                <a:lnTo>
                  <a:pt x="630" y="228"/>
                </a:lnTo>
                <a:lnTo>
                  <a:pt x="636" y="228"/>
                </a:lnTo>
                <a:lnTo>
                  <a:pt x="642" y="222"/>
                </a:lnTo>
                <a:lnTo>
                  <a:pt x="648" y="222"/>
                </a:lnTo>
                <a:lnTo>
                  <a:pt x="654" y="222"/>
                </a:lnTo>
                <a:lnTo>
                  <a:pt x="660" y="216"/>
                </a:lnTo>
                <a:lnTo>
                  <a:pt x="666" y="216"/>
                </a:lnTo>
                <a:lnTo>
                  <a:pt x="672" y="210"/>
                </a:lnTo>
                <a:lnTo>
                  <a:pt x="678" y="210"/>
                </a:lnTo>
                <a:lnTo>
                  <a:pt x="684" y="204"/>
                </a:lnTo>
                <a:lnTo>
                  <a:pt x="690" y="204"/>
                </a:lnTo>
                <a:lnTo>
                  <a:pt x="696" y="198"/>
                </a:lnTo>
                <a:lnTo>
                  <a:pt x="702" y="198"/>
                </a:lnTo>
                <a:lnTo>
                  <a:pt x="708" y="192"/>
                </a:lnTo>
                <a:lnTo>
                  <a:pt x="714" y="192"/>
                </a:lnTo>
                <a:lnTo>
                  <a:pt x="720" y="186"/>
                </a:lnTo>
                <a:lnTo>
                  <a:pt x="726" y="186"/>
                </a:lnTo>
                <a:lnTo>
                  <a:pt x="732" y="180"/>
                </a:lnTo>
                <a:lnTo>
                  <a:pt x="738" y="174"/>
                </a:lnTo>
                <a:lnTo>
                  <a:pt x="744" y="168"/>
                </a:lnTo>
                <a:lnTo>
                  <a:pt x="750" y="168"/>
                </a:lnTo>
                <a:lnTo>
                  <a:pt x="756" y="162"/>
                </a:lnTo>
                <a:lnTo>
                  <a:pt x="762" y="156"/>
                </a:lnTo>
                <a:lnTo>
                  <a:pt x="768" y="156"/>
                </a:lnTo>
                <a:lnTo>
                  <a:pt x="774" y="150"/>
                </a:lnTo>
                <a:lnTo>
                  <a:pt x="780" y="144"/>
                </a:lnTo>
                <a:lnTo>
                  <a:pt x="786" y="138"/>
                </a:lnTo>
                <a:lnTo>
                  <a:pt x="792" y="132"/>
                </a:lnTo>
                <a:lnTo>
                  <a:pt x="798" y="126"/>
                </a:lnTo>
                <a:lnTo>
                  <a:pt x="804" y="126"/>
                </a:lnTo>
                <a:lnTo>
                  <a:pt x="810" y="120"/>
                </a:lnTo>
                <a:lnTo>
                  <a:pt x="816" y="114"/>
                </a:lnTo>
                <a:lnTo>
                  <a:pt x="822" y="108"/>
                </a:lnTo>
                <a:lnTo>
                  <a:pt x="828" y="108"/>
                </a:lnTo>
                <a:lnTo>
                  <a:pt x="834" y="102"/>
                </a:lnTo>
                <a:lnTo>
                  <a:pt x="840" y="96"/>
                </a:lnTo>
                <a:lnTo>
                  <a:pt x="846" y="90"/>
                </a:lnTo>
                <a:lnTo>
                  <a:pt x="852" y="84"/>
                </a:lnTo>
                <a:lnTo>
                  <a:pt x="858" y="84"/>
                </a:lnTo>
                <a:lnTo>
                  <a:pt x="864" y="78"/>
                </a:lnTo>
                <a:lnTo>
                  <a:pt x="870" y="72"/>
                </a:lnTo>
                <a:lnTo>
                  <a:pt x="876" y="72"/>
                </a:lnTo>
                <a:lnTo>
                  <a:pt x="882" y="66"/>
                </a:lnTo>
                <a:lnTo>
                  <a:pt x="888" y="66"/>
                </a:lnTo>
                <a:lnTo>
                  <a:pt x="894" y="60"/>
                </a:lnTo>
                <a:lnTo>
                  <a:pt x="900" y="54"/>
                </a:lnTo>
                <a:lnTo>
                  <a:pt x="906" y="54"/>
                </a:lnTo>
                <a:lnTo>
                  <a:pt x="912" y="48"/>
                </a:lnTo>
                <a:lnTo>
                  <a:pt x="918" y="42"/>
                </a:lnTo>
                <a:lnTo>
                  <a:pt x="924" y="42"/>
                </a:lnTo>
                <a:lnTo>
                  <a:pt x="930" y="36"/>
                </a:lnTo>
                <a:lnTo>
                  <a:pt x="936" y="36"/>
                </a:lnTo>
                <a:lnTo>
                  <a:pt x="942" y="36"/>
                </a:lnTo>
                <a:lnTo>
                  <a:pt x="948" y="30"/>
                </a:lnTo>
                <a:lnTo>
                  <a:pt x="954" y="30"/>
                </a:lnTo>
                <a:lnTo>
                  <a:pt x="960" y="24"/>
                </a:lnTo>
                <a:lnTo>
                  <a:pt x="966" y="24"/>
                </a:lnTo>
                <a:lnTo>
                  <a:pt x="972" y="24"/>
                </a:lnTo>
                <a:lnTo>
                  <a:pt x="978" y="18"/>
                </a:lnTo>
                <a:lnTo>
                  <a:pt x="984" y="18"/>
                </a:lnTo>
                <a:lnTo>
                  <a:pt x="990" y="18"/>
                </a:lnTo>
                <a:lnTo>
                  <a:pt x="996" y="18"/>
                </a:lnTo>
                <a:lnTo>
                  <a:pt x="1002" y="12"/>
                </a:lnTo>
                <a:lnTo>
                  <a:pt x="1008" y="12"/>
                </a:lnTo>
                <a:lnTo>
                  <a:pt x="1014" y="12"/>
                </a:lnTo>
                <a:lnTo>
                  <a:pt x="1020" y="12"/>
                </a:lnTo>
                <a:lnTo>
                  <a:pt x="1026" y="6"/>
                </a:lnTo>
                <a:lnTo>
                  <a:pt x="1032" y="6"/>
                </a:lnTo>
                <a:lnTo>
                  <a:pt x="1038" y="6"/>
                </a:lnTo>
                <a:lnTo>
                  <a:pt x="1044" y="6"/>
                </a:lnTo>
                <a:lnTo>
                  <a:pt x="1050" y="6"/>
                </a:lnTo>
                <a:lnTo>
                  <a:pt x="1056" y="6"/>
                </a:lnTo>
                <a:lnTo>
                  <a:pt x="1062" y="6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1" y="0"/>
                </a:lnTo>
                <a:lnTo>
                  <a:pt x="1147" y="0"/>
                </a:lnTo>
                <a:lnTo>
                  <a:pt x="1153" y="0"/>
                </a:lnTo>
                <a:lnTo>
                  <a:pt x="1159" y="0"/>
                </a:lnTo>
                <a:lnTo>
                  <a:pt x="1165" y="0"/>
                </a:lnTo>
                <a:lnTo>
                  <a:pt x="1171" y="0"/>
                </a:lnTo>
                <a:lnTo>
                  <a:pt x="1177" y="0"/>
                </a:lnTo>
                <a:lnTo>
                  <a:pt x="1183" y="0"/>
                </a:lnTo>
                <a:lnTo>
                  <a:pt x="1189" y="0"/>
                </a:lnTo>
                <a:lnTo>
                  <a:pt x="1195" y="0"/>
                </a:lnTo>
                <a:lnTo>
                  <a:pt x="1201" y="0"/>
                </a:lnTo>
                <a:lnTo>
                  <a:pt x="1207" y="0"/>
                </a:lnTo>
                <a:lnTo>
                  <a:pt x="1213" y="0"/>
                </a:lnTo>
                <a:lnTo>
                  <a:pt x="1219" y="0"/>
                </a:lnTo>
                <a:lnTo>
                  <a:pt x="1225" y="0"/>
                </a:lnTo>
                <a:lnTo>
                  <a:pt x="1231" y="0"/>
                </a:lnTo>
                <a:lnTo>
                  <a:pt x="1237" y="0"/>
                </a:lnTo>
                <a:lnTo>
                  <a:pt x="1243" y="0"/>
                </a:lnTo>
                <a:lnTo>
                  <a:pt x="1249" y="0"/>
                </a:lnTo>
                <a:lnTo>
                  <a:pt x="1255" y="0"/>
                </a:lnTo>
                <a:lnTo>
                  <a:pt x="1261" y="0"/>
                </a:lnTo>
                <a:lnTo>
                  <a:pt x="1267" y="0"/>
                </a:lnTo>
                <a:lnTo>
                  <a:pt x="1273" y="0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186"/>
                </a:lnTo>
              </a:path>
            </a:pathLst>
          </a:custGeom>
          <a:solidFill>
            <a:srgbClr val="00ff00">
              <a:alpha val="50000"/>
            </a:srgbClr>
          </a:solidFill>
          <a:ln w="19080">
            <a:solidFill>
              <a:srgbClr val="00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87560" y="2397240"/>
            <a:ext cx="2068560" cy="81756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496880" y="229860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04360" y="2368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325600" y="229860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33080" y="2392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156120" y="229860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53960" y="2495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975120" y="229860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3336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775040" y="229860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33280" y="2378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33800" y="35622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50560" y="3362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33800" y="296712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50560" y="2770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33800" y="239724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55680" y="2198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33800" y="180180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87280" y="160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33800" y="1206360"/>
            <a:ext cx="3816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87280" y="1096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56120" y="1554120"/>
            <a:ext cx="2057400" cy="84312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  <a:lnTo>
                  <a:pt x="1296" y="20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56120" y="1630440"/>
            <a:ext cx="2057400" cy="1014480"/>
          </a:xfrm>
          <a:custGeom>
            <a:avLst/>
            <a:gdLst/>
            <a:ahLst/>
            <a:rect l="l" t="t" r="r" b="b"/>
            <a:pathLst>
              <a:path w="1296" h="246">
                <a:moveTo>
                  <a:pt x="0" y="186"/>
                </a:moveTo>
                <a:lnTo>
                  <a:pt x="0" y="0"/>
                </a:ln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0" y="12"/>
                </a:lnTo>
                <a:lnTo>
                  <a:pt x="276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36" y="30"/>
                </a:lnTo>
                <a:lnTo>
                  <a:pt x="342" y="30"/>
                </a:lnTo>
                <a:lnTo>
                  <a:pt x="348" y="30"/>
                </a:lnTo>
                <a:lnTo>
                  <a:pt x="354" y="36"/>
                </a:lnTo>
                <a:lnTo>
                  <a:pt x="360" y="36"/>
                </a:lnTo>
                <a:lnTo>
                  <a:pt x="366" y="42"/>
                </a:lnTo>
                <a:lnTo>
                  <a:pt x="372" y="42"/>
                </a:lnTo>
                <a:lnTo>
                  <a:pt x="378" y="48"/>
                </a:lnTo>
                <a:lnTo>
                  <a:pt x="384" y="48"/>
                </a:lnTo>
                <a:lnTo>
                  <a:pt x="390" y="54"/>
                </a:lnTo>
                <a:lnTo>
                  <a:pt x="396" y="54"/>
                </a:lnTo>
                <a:lnTo>
                  <a:pt x="402" y="60"/>
                </a:lnTo>
                <a:lnTo>
                  <a:pt x="408" y="66"/>
                </a:lnTo>
                <a:lnTo>
                  <a:pt x="414" y="66"/>
                </a:lnTo>
                <a:lnTo>
                  <a:pt x="420" y="72"/>
                </a:lnTo>
                <a:lnTo>
                  <a:pt x="426" y="78"/>
                </a:lnTo>
                <a:lnTo>
                  <a:pt x="432" y="78"/>
                </a:lnTo>
                <a:lnTo>
                  <a:pt x="438" y="84"/>
                </a:lnTo>
                <a:lnTo>
                  <a:pt x="444" y="90"/>
                </a:lnTo>
                <a:lnTo>
                  <a:pt x="450" y="96"/>
                </a:lnTo>
                <a:lnTo>
                  <a:pt x="456" y="96"/>
                </a:lnTo>
                <a:lnTo>
                  <a:pt x="462" y="102"/>
                </a:lnTo>
                <a:lnTo>
                  <a:pt x="468" y="108"/>
                </a:lnTo>
                <a:lnTo>
                  <a:pt x="474" y="114"/>
                </a:lnTo>
                <a:lnTo>
                  <a:pt x="480" y="120"/>
                </a:lnTo>
                <a:lnTo>
                  <a:pt x="486" y="120"/>
                </a:lnTo>
                <a:lnTo>
                  <a:pt x="492" y="126"/>
                </a:lnTo>
                <a:lnTo>
                  <a:pt x="498" y="132"/>
                </a:lnTo>
                <a:lnTo>
                  <a:pt x="504" y="138"/>
                </a:lnTo>
                <a:lnTo>
                  <a:pt x="510" y="144"/>
                </a:lnTo>
                <a:lnTo>
                  <a:pt x="516" y="144"/>
                </a:lnTo>
                <a:lnTo>
                  <a:pt x="522" y="150"/>
                </a:lnTo>
                <a:lnTo>
                  <a:pt x="528" y="156"/>
                </a:lnTo>
                <a:lnTo>
                  <a:pt x="534" y="162"/>
                </a:lnTo>
                <a:lnTo>
                  <a:pt x="540" y="168"/>
                </a:lnTo>
                <a:lnTo>
                  <a:pt x="546" y="168"/>
                </a:lnTo>
                <a:lnTo>
                  <a:pt x="552" y="174"/>
                </a:lnTo>
                <a:lnTo>
                  <a:pt x="558" y="180"/>
                </a:lnTo>
                <a:lnTo>
                  <a:pt x="564" y="180"/>
                </a:lnTo>
                <a:lnTo>
                  <a:pt x="570" y="186"/>
                </a:lnTo>
                <a:lnTo>
                  <a:pt x="576" y="192"/>
                </a:lnTo>
                <a:lnTo>
                  <a:pt x="582" y="192"/>
                </a:lnTo>
                <a:lnTo>
                  <a:pt x="588" y="198"/>
                </a:lnTo>
                <a:lnTo>
                  <a:pt x="594" y="198"/>
                </a:lnTo>
                <a:lnTo>
                  <a:pt x="600" y="204"/>
                </a:lnTo>
                <a:lnTo>
                  <a:pt x="606" y="204"/>
                </a:lnTo>
                <a:lnTo>
                  <a:pt x="612" y="210"/>
                </a:lnTo>
                <a:lnTo>
                  <a:pt x="618" y="210"/>
                </a:lnTo>
                <a:lnTo>
                  <a:pt x="624" y="216"/>
                </a:lnTo>
                <a:lnTo>
                  <a:pt x="630" y="216"/>
                </a:lnTo>
                <a:lnTo>
                  <a:pt x="636" y="222"/>
                </a:lnTo>
                <a:lnTo>
                  <a:pt x="642" y="222"/>
                </a:lnTo>
                <a:lnTo>
                  <a:pt x="648" y="222"/>
                </a:lnTo>
                <a:lnTo>
                  <a:pt x="654" y="228"/>
                </a:lnTo>
                <a:lnTo>
                  <a:pt x="660" y="228"/>
                </a:lnTo>
                <a:lnTo>
                  <a:pt x="666" y="228"/>
                </a:lnTo>
                <a:lnTo>
                  <a:pt x="672" y="228"/>
                </a:lnTo>
                <a:lnTo>
                  <a:pt x="678" y="234"/>
                </a:lnTo>
                <a:lnTo>
                  <a:pt x="684" y="234"/>
                </a:lnTo>
                <a:lnTo>
                  <a:pt x="690" y="234"/>
                </a:lnTo>
                <a:lnTo>
                  <a:pt x="696" y="234"/>
                </a:lnTo>
                <a:lnTo>
                  <a:pt x="702" y="240"/>
                </a:lnTo>
                <a:lnTo>
                  <a:pt x="708" y="240"/>
                </a:lnTo>
                <a:lnTo>
                  <a:pt x="714" y="240"/>
                </a:lnTo>
                <a:lnTo>
                  <a:pt x="720" y="240"/>
                </a:lnTo>
                <a:lnTo>
                  <a:pt x="726" y="240"/>
                </a:lnTo>
                <a:lnTo>
                  <a:pt x="732" y="240"/>
                </a:lnTo>
                <a:lnTo>
                  <a:pt x="738" y="240"/>
                </a:lnTo>
                <a:lnTo>
                  <a:pt x="744" y="240"/>
                </a:lnTo>
                <a:lnTo>
                  <a:pt x="750" y="246"/>
                </a:lnTo>
                <a:lnTo>
                  <a:pt x="756" y="246"/>
                </a:lnTo>
                <a:lnTo>
                  <a:pt x="762" y="246"/>
                </a:lnTo>
                <a:lnTo>
                  <a:pt x="768" y="246"/>
                </a:lnTo>
                <a:lnTo>
                  <a:pt x="774" y="246"/>
                </a:lnTo>
                <a:lnTo>
                  <a:pt x="780" y="246"/>
                </a:lnTo>
                <a:lnTo>
                  <a:pt x="786" y="246"/>
                </a:lnTo>
                <a:lnTo>
                  <a:pt x="792" y="246"/>
                </a:lnTo>
                <a:lnTo>
                  <a:pt x="798" y="246"/>
                </a:lnTo>
                <a:lnTo>
                  <a:pt x="804" y="246"/>
                </a:lnTo>
                <a:lnTo>
                  <a:pt x="810" y="246"/>
                </a:lnTo>
                <a:lnTo>
                  <a:pt x="816" y="246"/>
                </a:lnTo>
                <a:lnTo>
                  <a:pt x="822" y="246"/>
                </a:lnTo>
                <a:lnTo>
                  <a:pt x="828" y="246"/>
                </a:lnTo>
                <a:lnTo>
                  <a:pt x="834" y="246"/>
                </a:lnTo>
                <a:lnTo>
                  <a:pt x="840" y="246"/>
                </a:lnTo>
                <a:lnTo>
                  <a:pt x="846" y="246"/>
                </a:lnTo>
                <a:lnTo>
                  <a:pt x="852" y="246"/>
                </a:lnTo>
                <a:lnTo>
                  <a:pt x="858" y="246"/>
                </a:lnTo>
                <a:lnTo>
                  <a:pt x="864" y="246"/>
                </a:lnTo>
                <a:lnTo>
                  <a:pt x="870" y="246"/>
                </a:lnTo>
                <a:lnTo>
                  <a:pt x="876" y="240"/>
                </a:lnTo>
                <a:lnTo>
                  <a:pt x="882" y="240"/>
                </a:lnTo>
                <a:lnTo>
                  <a:pt x="888" y="240"/>
                </a:lnTo>
                <a:lnTo>
                  <a:pt x="894" y="240"/>
                </a:lnTo>
                <a:lnTo>
                  <a:pt x="900" y="240"/>
                </a:lnTo>
                <a:lnTo>
                  <a:pt x="906" y="240"/>
                </a:lnTo>
                <a:lnTo>
                  <a:pt x="912" y="240"/>
                </a:lnTo>
                <a:lnTo>
                  <a:pt x="918" y="240"/>
                </a:lnTo>
                <a:lnTo>
                  <a:pt x="924" y="240"/>
                </a:lnTo>
                <a:lnTo>
                  <a:pt x="930" y="240"/>
                </a:lnTo>
                <a:lnTo>
                  <a:pt x="936" y="240"/>
                </a:lnTo>
                <a:lnTo>
                  <a:pt x="942" y="240"/>
                </a:lnTo>
                <a:lnTo>
                  <a:pt x="948" y="240"/>
                </a:lnTo>
                <a:lnTo>
                  <a:pt x="954" y="240"/>
                </a:lnTo>
                <a:lnTo>
                  <a:pt x="960" y="240"/>
                </a:lnTo>
                <a:lnTo>
                  <a:pt x="966" y="240"/>
                </a:lnTo>
                <a:lnTo>
                  <a:pt x="972" y="240"/>
                </a:lnTo>
                <a:lnTo>
                  <a:pt x="978" y="234"/>
                </a:lnTo>
                <a:lnTo>
                  <a:pt x="984" y="234"/>
                </a:lnTo>
                <a:lnTo>
                  <a:pt x="990" y="234"/>
                </a:lnTo>
                <a:lnTo>
                  <a:pt x="996" y="234"/>
                </a:lnTo>
                <a:lnTo>
                  <a:pt x="1002" y="234"/>
                </a:lnTo>
                <a:lnTo>
                  <a:pt x="1008" y="234"/>
                </a:lnTo>
                <a:lnTo>
                  <a:pt x="1014" y="234"/>
                </a:lnTo>
                <a:lnTo>
                  <a:pt x="1020" y="234"/>
                </a:lnTo>
                <a:lnTo>
                  <a:pt x="1026" y="234"/>
                </a:lnTo>
                <a:lnTo>
                  <a:pt x="1032" y="234"/>
                </a:lnTo>
                <a:lnTo>
                  <a:pt x="1038" y="234"/>
                </a:lnTo>
                <a:lnTo>
                  <a:pt x="1044" y="234"/>
                </a:lnTo>
                <a:lnTo>
                  <a:pt x="1050" y="234"/>
                </a:lnTo>
                <a:lnTo>
                  <a:pt x="1056" y="234"/>
                </a:lnTo>
                <a:lnTo>
                  <a:pt x="1062" y="228"/>
                </a:lnTo>
                <a:lnTo>
                  <a:pt x="1068" y="228"/>
                </a:lnTo>
                <a:lnTo>
                  <a:pt x="1074" y="228"/>
                </a:lnTo>
                <a:lnTo>
                  <a:pt x="1080" y="228"/>
                </a:lnTo>
                <a:lnTo>
                  <a:pt x="1086" y="228"/>
                </a:lnTo>
                <a:lnTo>
                  <a:pt x="1092" y="228"/>
                </a:lnTo>
                <a:lnTo>
                  <a:pt x="1098" y="228"/>
                </a:lnTo>
                <a:lnTo>
                  <a:pt x="1104" y="228"/>
                </a:lnTo>
                <a:lnTo>
                  <a:pt x="1110" y="228"/>
                </a:lnTo>
                <a:lnTo>
                  <a:pt x="1116" y="228"/>
                </a:lnTo>
                <a:lnTo>
                  <a:pt x="1122" y="228"/>
                </a:lnTo>
                <a:lnTo>
                  <a:pt x="1128" y="228"/>
                </a:lnTo>
                <a:lnTo>
                  <a:pt x="1134" y="228"/>
                </a:lnTo>
                <a:lnTo>
                  <a:pt x="1140" y="228"/>
                </a:lnTo>
                <a:lnTo>
                  <a:pt x="1146" y="228"/>
                </a:lnTo>
                <a:lnTo>
                  <a:pt x="1152" y="228"/>
                </a:lnTo>
                <a:lnTo>
                  <a:pt x="1158" y="222"/>
                </a:lnTo>
                <a:lnTo>
                  <a:pt x="1164" y="222"/>
                </a:lnTo>
                <a:lnTo>
                  <a:pt x="1170" y="222"/>
                </a:lnTo>
                <a:lnTo>
                  <a:pt x="1176" y="222"/>
                </a:lnTo>
                <a:lnTo>
                  <a:pt x="1182" y="222"/>
                </a:lnTo>
                <a:lnTo>
                  <a:pt x="1188" y="222"/>
                </a:lnTo>
                <a:lnTo>
                  <a:pt x="1194" y="222"/>
                </a:lnTo>
                <a:lnTo>
                  <a:pt x="1200" y="222"/>
                </a:lnTo>
                <a:lnTo>
                  <a:pt x="1206" y="222"/>
                </a:lnTo>
                <a:lnTo>
                  <a:pt x="1212" y="222"/>
                </a:lnTo>
                <a:lnTo>
                  <a:pt x="1218" y="222"/>
                </a:lnTo>
                <a:lnTo>
                  <a:pt x="1224" y="222"/>
                </a:lnTo>
                <a:lnTo>
                  <a:pt x="1230" y="222"/>
                </a:lnTo>
                <a:lnTo>
                  <a:pt x="1236" y="222"/>
                </a:lnTo>
                <a:lnTo>
                  <a:pt x="1242" y="222"/>
                </a:lnTo>
                <a:lnTo>
                  <a:pt x="1248" y="222"/>
                </a:lnTo>
                <a:lnTo>
                  <a:pt x="1254" y="222"/>
                </a:lnTo>
                <a:lnTo>
                  <a:pt x="1260" y="222"/>
                </a:lnTo>
                <a:lnTo>
                  <a:pt x="1266" y="216"/>
                </a:lnTo>
                <a:lnTo>
                  <a:pt x="1272" y="216"/>
                </a:lnTo>
                <a:lnTo>
                  <a:pt x="1278" y="216"/>
                </a:lnTo>
                <a:lnTo>
                  <a:pt x="1284" y="216"/>
                </a:lnTo>
                <a:lnTo>
                  <a:pt x="1290" y="216"/>
                </a:lnTo>
                <a:lnTo>
                  <a:pt x="1296" y="216"/>
                </a:lnTo>
                <a:lnTo>
                  <a:pt x="1296" y="186"/>
                </a:lnTo>
              </a:path>
            </a:pathLst>
          </a:custGeom>
          <a:solidFill>
            <a:srgbClr val="00ff00">
              <a:alpha val="50000"/>
            </a:srgbClr>
          </a:solidFill>
          <a:ln w="19080">
            <a:solidFill>
              <a:srgbClr val="00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56120" y="1554120"/>
            <a:ext cx="2057400" cy="84312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49640" y="1009800"/>
            <a:ext cx="0" cy="258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73360" y="277020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33"/>
                </a:solidFill>
                <a:latin typeface="Times New Roman"/>
              </a:rPr>
              <a:t>Imag 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35320" y="1603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Real 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82800" y="882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( M 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00160" y="5078520"/>
            <a:ext cx="411336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solidFill>
            <a:srgbClr val="66ffff">
              <a:alpha val="50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00160" y="4162320"/>
            <a:ext cx="411336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solidFill>
            <a:srgbClr val="ff0000">
              <a:alpha val="50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2800" y="3419640"/>
            <a:ext cx="2328840" cy="101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 = 22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/Q= 13.5 M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87000" y="12668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/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5156280" y="1249200"/>
          <a:ext cx="3386160" cy="2648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56280" y="1249200"/>
                    <a:ext cx="338616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418520" y="351468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339933"/>
                </a:solidFill>
                <a:latin typeface="Times New Roman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43560" y="2971800"/>
            <a:ext cx="157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Q </a:t>
            </a:r>
            <a:r>
              <a:rPr b="0" lang="en-US" sz="2400" spc="-1" strike="noStrike" baseline="-25000">
                <a:solidFill>
                  <a:srgbClr val="339933"/>
                </a:solidFill>
                <a:latin typeface="Times New Roman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510320" y="1096920"/>
            <a:ext cx="0" cy="233208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5300280" y="3157560"/>
            <a:ext cx="315612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72040" y="1755720"/>
            <a:ext cx="1800" cy="1166760"/>
          </a:xfrm>
          <a:prstGeom prst="line">
            <a:avLst/>
          </a:prstGeom>
          <a:ln w="381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5731200" y="21708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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96000" y="4192560"/>
            <a:ext cx="370332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 of the model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erimental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2590560" y="3933720"/>
            <a:ext cx="2431800" cy="6336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1320" y="380880"/>
            <a:ext cx="3762360" cy="409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Single Bunch / Mode mer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237600">
            <a:off x="5916240" y="1805040"/>
            <a:ext cx="2054160" cy="1414440"/>
          </a:xfrm>
          <a:custGeom>
            <a:avLst/>
            <a:gdLst/>
            <a:ahLst/>
            <a:rect l="l" t="t" r="r" b="b"/>
            <a:pathLst>
              <a:path w="1176" h="930">
                <a:moveTo>
                  <a:pt x="0" y="0"/>
                </a:moveTo>
                <a:lnTo>
                  <a:pt x="1008" y="930"/>
                </a:lnTo>
                <a:lnTo>
                  <a:pt x="1176" y="660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52960" y="2867040"/>
            <a:ext cx="1676520" cy="600120"/>
          </a:xfrm>
          <a:custGeom>
            <a:avLst/>
            <a:gdLst/>
            <a:ahLst/>
            <a:rect l="l" t="t" r="r" b="b"/>
            <a:pathLst>
              <a:path w="1056" h="378">
                <a:moveTo>
                  <a:pt x="0" y="0"/>
                </a:moveTo>
                <a:lnTo>
                  <a:pt x="1056" y="378"/>
                </a:lnTo>
                <a:lnTo>
                  <a:pt x="1056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48560" y="2351160"/>
            <a:ext cx="171360" cy="1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77080" y="33717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8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7487-6281-4795-BDA4-E57D8FBE5DE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5809F-766E-4B4D-84B7-8E605AC4DFB9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116160" y="12891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69640" y="1095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16160" y="70632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69640" y="512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134920" y="446040"/>
            <a:ext cx="61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ed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71960" y="700200"/>
            <a:ext cx="2057400" cy="1650960"/>
          </a:xfrm>
          <a:custGeom>
            <a:avLst/>
            <a:gdLst/>
            <a:ahLst/>
            <a:rect l="l" t="t" r="r" b="b"/>
            <a:pathLst>
              <a:path w="1296" h="408">
                <a:moveTo>
                  <a:pt x="0" y="0"/>
                </a:moveTo>
                <a:lnTo>
                  <a:pt x="0" y="126"/>
                </a:lnTo>
                <a:lnTo>
                  <a:pt x="6" y="180"/>
                </a:lnTo>
                <a:lnTo>
                  <a:pt x="6" y="216"/>
                </a:lnTo>
                <a:lnTo>
                  <a:pt x="12" y="240"/>
                </a:lnTo>
                <a:lnTo>
                  <a:pt x="12" y="252"/>
                </a:lnTo>
                <a:lnTo>
                  <a:pt x="18" y="270"/>
                </a:lnTo>
                <a:lnTo>
                  <a:pt x="18" y="276"/>
                </a:lnTo>
                <a:lnTo>
                  <a:pt x="18" y="288"/>
                </a:lnTo>
                <a:lnTo>
                  <a:pt x="24" y="294"/>
                </a:lnTo>
                <a:lnTo>
                  <a:pt x="24" y="300"/>
                </a:lnTo>
                <a:lnTo>
                  <a:pt x="30" y="306"/>
                </a:lnTo>
                <a:lnTo>
                  <a:pt x="36" y="312"/>
                </a:lnTo>
                <a:lnTo>
                  <a:pt x="36" y="318"/>
                </a:lnTo>
                <a:lnTo>
                  <a:pt x="42" y="324"/>
                </a:lnTo>
                <a:lnTo>
                  <a:pt x="48" y="330"/>
                </a:lnTo>
                <a:lnTo>
                  <a:pt x="54" y="336"/>
                </a:lnTo>
                <a:lnTo>
                  <a:pt x="60" y="342"/>
                </a:lnTo>
                <a:lnTo>
                  <a:pt x="66" y="348"/>
                </a:lnTo>
                <a:lnTo>
                  <a:pt x="72" y="348"/>
                </a:lnTo>
                <a:lnTo>
                  <a:pt x="78" y="354"/>
                </a:lnTo>
                <a:lnTo>
                  <a:pt x="84" y="354"/>
                </a:lnTo>
                <a:lnTo>
                  <a:pt x="90" y="360"/>
                </a:lnTo>
                <a:lnTo>
                  <a:pt x="96" y="360"/>
                </a:lnTo>
                <a:lnTo>
                  <a:pt x="102" y="360"/>
                </a:lnTo>
                <a:lnTo>
                  <a:pt x="108" y="366"/>
                </a:lnTo>
                <a:lnTo>
                  <a:pt x="114" y="366"/>
                </a:lnTo>
                <a:lnTo>
                  <a:pt x="120" y="366"/>
                </a:lnTo>
                <a:lnTo>
                  <a:pt x="126" y="366"/>
                </a:lnTo>
                <a:lnTo>
                  <a:pt x="132" y="372"/>
                </a:lnTo>
                <a:lnTo>
                  <a:pt x="138" y="372"/>
                </a:lnTo>
                <a:lnTo>
                  <a:pt x="144" y="372"/>
                </a:lnTo>
                <a:lnTo>
                  <a:pt x="150" y="372"/>
                </a:lnTo>
                <a:lnTo>
                  <a:pt x="156" y="372"/>
                </a:lnTo>
                <a:lnTo>
                  <a:pt x="162" y="378"/>
                </a:lnTo>
                <a:lnTo>
                  <a:pt x="168" y="378"/>
                </a:lnTo>
                <a:lnTo>
                  <a:pt x="174" y="378"/>
                </a:lnTo>
                <a:lnTo>
                  <a:pt x="180" y="378"/>
                </a:lnTo>
                <a:lnTo>
                  <a:pt x="186" y="378"/>
                </a:lnTo>
                <a:lnTo>
                  <a:pt x="192" y="378"/>
                </a:lnTo>
                <a:lnTo>
                  <a:pt x="198" y="378"/>
                </a:lnTo>
                <a:lnTo>
                  <a:pt x="204" y="384"/>
                </a:lnTo>
                <a:lnTo>
                  <a:pt x="210" y="384"/>
                </a:lnTo>
                <a:lnTo>
                  <a:pt x="216" y="384"/>
                </a:lnTo>
                <a:lnTo>
                  <a:pt x="222" y="384"/>
                </a:lnTo>
                <a:lnTo>
                  <a:pt x="228" y="384"/>
                </a:lnTo>
                <a:lnTo>
                  <a:pt x="234" y="384"/>
                </a:lnTo>
                <a:lnTo>
                  <a:pt x="240" y="384"/>
                </a:lnTo>
                <a:lnTo>
                  <a:pt x="246" y="384"/>
                </a:lnTo>
                <a:lnTo>
                  <a:pt x="252" y="384"/>
                </a:lnTo>
                <a:lnTo>
                  <a:pt x="258" y="384"/>
                </a:lnTo>
                <a:lnTo>
                  <a:pt x="264" y="384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6"/>
                </a:lnTo>
                <a:lnTo>
                  <a:pt x="372" y="396"/>
                </a:lnTo>
                <a:lnTo>
                  <a:pt x="378" y="396"/>
                </a:lnTo>
                <a:lnTo>
                  <a:pt x="384" y="396"/>
                </a:lnTo>
                <a:lnTo>
                  <a:pt x="390" y="396"/>
                </a:lnTo>
                <a:lnTo>
                  <a:pt x="396" y="396"/>
                </a:lnTo>
                <a:lnTo>
                  <a:pt x="402" y="396"/>
                </a:lnTo>
                <a:lnTo>
                  <a:pt x="408" y="396"/>
                </a:lnTo>
                <a:lnTo>
                  <a:pt x="414" y="396"/>
                </a:lnTo>
                <a:lnTo>
                  <a:pt x="420" y="396"/>
                </a:lnTo>
                <a:lnTo>
                  <a:pt x="426" y="396"/>
                </a:lnTo>
                <a:lnTo>
                  <a:pt x="432" y="396"/>
                </a:lnTo>
                <a:lnTo>
                  <a:pt x="438" y="396"/>
                </a:lnTo>
                <a:lnTo>
                  <a:pt x="444" y="396"/>
                </a:lnTo>
                <a:lnTo>
                  <a:pt x="450" y="396"/>
                </a:lnTo>
                <a:lnTo>
                  <a:pt x="456" y="396"/>
                </a:lnTo>
                <a:lnTo>
                  <a:pt x="462" y="396"/>
                </a:lnTo>
                <a:lnTo>
                  <a:pt x="468" y="396"/>
                </a:lnTo>
                <a:lnTo>
                  <a:pt x="474" y="396"/>
                </a:lnTo>
                <a:lnTo>
                  <a:pt x="480" y="396"/>
                </a:lnTo>
                <a:lnTo>
                  <a:pt x="486" y="396"/>
                </a:lnTo>
                <a:lnTo>
                  <a:pt x="492" y="396"/>
                </a:lnTo>
                <a:lnTo>
                  <a:pt x="498" y="396"/>
                </a:lnTo>
                <a:lnTo>
                  <a:pt x="504" y="396"/>
                </a:lnTo>
                <a:lnTo>
                  <a:pt x="510" y="396"/>
                </a:lnTo>
                <a:lnTo>
                  <a:pt x="516" y="396"/>
                </a:lnTo>
                <a:lnTo>
                  <a:pt x="522" y="396"/>
                </a:lnTo>
                <a:lnTo>
                  <a:pt x="528" y="402"/>
                </a:lnTo>
                <a:lnTo>
                  <a:pt x="534" y="402"/>
                </a:lnTo>
                <a:lnTo>
                  <a:pt x="540" y="402"/>
                </a:lnTo>
                <a:lnTo>
                  <a:pt x="546" y="402"/>
                </a:lnTo>
                <a:lnTo>
                  <a:pt x="552" y="402"/>
                </a:lnTo>
                <a:lnTo>
                  <a:pt x="558" y="402"/>
                </a:lnTo>
                <a:lnTo>
                  <a:pt x="564" y="402"/>
                </a:lnTo>
                <a:lnTo>
                  <a:pt x="570" y="402"/>
                </a:lnTo>
                <a:lnTo>
                  <a:pt x="576" y="402"/>
                </a:lnTo>
                <a:lnTo>
                  <a:pt x="582" y="402"/>
                </a:lnTo>
                <a:lnTo>
                  <a:pt x="588" y="402"/>
                </a:lnTo>
                <a:lnTo>
                  <a:pt x="594" y="402"/>
                </a:lnTo>
                <a:lnTo>
                  <a:pt x="600" y="402"/>
                </a:lnTo>
                <a:lnTo>
                  <a:pt x="606" y="402"/>
                </a:lnTo>
                <a:lnTo>
                  <a:pt x="612" y="402"/>
                </a:lnTo>
                <a:lnTo>
                  <a:pt x="618" y="402"/>
                </a:lnTo>
                <a:lnTo>
                  <a:pt x="624" y="402"/>
                </a:lnTo>
                <a:lnTo>
                  <a:pt x="630" y="402"/>
                </a:lnTo>
                <a:lnTo>
                  <a:pt x="636" y="402"/>
                </a:lnTo>
                <a:lnTo>
                  <a:pt x="642" y="402"/>
                </a:lnTo>
                <a:lnTo>
                  <a:pt x="648" y="402"/>
                </a:lnTo>
                <a:lnTo>
                  <a:pt x="654" y="402"/>
                </a:lnTo>
                <a:lnTo>
                  <a:pt x="660" y="402"/>
                </a:lnTo>
                <a:lnTo>
                  <a:pt x="666" y="402"/>
                </a:lnTo>
                <a:lnTo>
                  <a:pt x="672" y="402"/>
                </a:lnTo>
                <a:lnTo>
                  <a:pt x="678" y="402"/>
                </a:lnTo>
                <a:lnTo>
                  <a:pt x="684" y="402"/>
                </a:lnTo>
                <a:lnTo>
                  <a:pt x="690" y="402"/>
                </a:lnTo>
                <a:lnTo>
                  <a:pt x="696" y="402"/>
                </a:lnTo>
                <a:lnTo>
                  <a:pt x="702" y="402"/>
                </a:lnTo>
                <a:lnTo>
                  <a:pt x="708" y="402"/>
                </a:lnTo>
                <a:lnTo>
                  <a:pt x="714" y="402"/>
                </a:lnTo>
                <a:lnTo>
                  <a:pt x="720" y="402"/>
                </a:lnTo>
                <a:lnTo>
                  <a:pt x="726" y="402"/>
                </a:lnTo>
                <a:lnTo>
                  <a:pt x="732" y="402"/>
                </a:lnTo>
                <a:lnTo>
                  <a:pt x="738" y="402"/>
                </a:lnTo>
                <a:lnTo>
                  <a:pt x="744" y="402"/>
                </a:lnTo>
                <a:lnTo>
                  <a:pt x="750" y="402"/>
                </a:lnTo>
                <a:lnTo>
                  <a:pt x="756" y="402"/>
                </a:lnTo>
                <a:lnTo>
                  <a:pt x="762" y="402"/>
                </a:lnTo>
                <a:lnTo>
                  <a:pt x="768" y="402"/>
                </a:lnTo>
                <a:lnTo>
                  <a:pt x="774" y="402"/>
                </a:lnTo>
                <a:lnTo>
                  <a:pt x="780" y="402"/>
                </a:lnTo>
                <a:lnTo>
                  <a:pt x="786" y="402"/>
                </a:lnTo>
                <a:lnTo>
                  <a:pt x="792" y="402"/>
                </a:lnTo>
                <a:lnTo>
                  <a:pt x="798" y="402"/>
                </a:lnTo>
                <a:lnTo>
                  <a:pt x="804" y="402"/>
                </a:lnTo>
                <a:lnTo>
                  <a:pt x="810" y="402"/>
                </a:lnTo>
                <a:lnTo>
                  <a:pt x="816" y="402"/>
                </a:lnTo>
                <a:lnTo>
                  <a:pt x="822" y="402"/>
                </a:lnTo>
                <a:lnTo>
                  <a:pt x="828" y="408"/>
                </a:lnTo>
                <a:lnTo>
                  <a:pt x="834" y="408"/>
                </a:lnTo>
                <a:lnTo>
                  <a:pt x="840" y="408"/>
                </a:lnTo>
                <a:lnTo>
                  <a:pt x="846" y="408"/>
                </a:lnTo>
                <a:lnTo>
                  <a:pt x="852" y="408"/>
                </a:lnTo>
                <a:lnTo>
                  <a:pt x="858" y="408"/>
                </a:lnTo>
                <a:lnTo>
                  <a:pt x="864" y="408"/>
                </a:lnTo>
                <a:lnTo>
                  <a:pt x="870" y="408"/>
                </a:lnTo>
                <a:lnTo>
                  <a:pt x="876" y="408"/>
                </a:lnTo>
                <a:lnTo>
                  <a:pt x="882" y="408"/>
                </a:lnTo>
                <a:lnTo>
                  <a:pt x="888" y="408"/>
                </a:lnTo>
                <a:lnTo>
                  <a:pt x="894" y="408"/>
                </a:lnTo>
                <a:lnTo>
                  <a:pt x="900" y="408"/>
                </a:lnTo>
                <a:lnTo>
                  <a:pt x="906" y="408"/>
                </a:lnTo>
                <a:lnTo>
                  <a:pt x="912" y="408"/>
                </a:lnTo>
                <a:lnTo>
                  <a:pt x="918" y="408"/>
                </a:lnTo>
                <a:lnTo>
                  <a:pt x="924" y="408"/>
                </a:lnTo>
                <a:lnTo>
                  <a:pt x="930" y="408"/>
                </a:lnTo>
                <a:lnTo>
                  <a:pt x="936" y="408"/>
                </a:lnTo>
                <a:lnTo>
                  <a:pt x="942" y="408"/>
                </a:lnTo>
                <a:lnTo>
                  <a:pt x="948" y="408"/>
                </a:lnTo>
                <a:lnTo>
                  <a:pt x="954" y="408"/>
                </a:lnTo>
                <a:lnTo>
                  <a:pt x="960" y="408"/>
                </a:lnTo>
                <a:lnTo>
                  <a:pt x="966" y="408"/>
                </a:lnTo>
                <a:lnTo>
                  <a:pt x="972" y="408"/>
                </a:lnTo>
                <a:lnTo>
                  <a:pt x="978" y="408"/>
                </a:lnTo>
                <a:lnTo>
                  <a:pt x="984" y="408"/>
                </a:lnTo>
                <a:lnTo>
                  <a:pt x="990" y="408"/>
                </a:lnTo>
                <a:lnTo>
                  <a:pt x="996" y="408"/>
                </a:lnTo>
                <a:lnTo>
                  <a:pt x="1002" y="408"/>
                </a:lnTo>
                <a:lnTo>
                  <a:pt x="1008" y="408"/>
                </a:lnTo>
                <a:lnTo>
                  <a:pt x="1014" y="408"/>
                </a:lnTo>
                <a:lnTo>
                  <a:pt x="1020" y="408"/>
                </a:lnTo>
                <a:lnTo>
                  <a:pt x="1026" y="408"/>
                </a:lnTo>
                <a:lnTo>
                  <a:pt x="1032" y="408"/>
                </a:lnTo>
                <a:lnTo>
                  <a:pt x="1038" y="408"/>
                </a:lnTo>
                <a:lnTo>
                  <a:pt x="1044" y="408"/>
                </a:lnTo>
                <a:lnTo>
                  <a:pt x="1050" y="408"/>
                </a:lnTo>
                <a:lnTo>
                  <a:pt x="1056" y="408"/>
                </a:lnTo>
                <a:lnTo>
                  <a:pt x="1062" y="408"/>
                </a:lnTo>
                <a:lnTo>
                  <a:pt x="1068" y="408"/>
                </a:lnTo>
                <a:lnTo>
                  <a:pt x="1074" y="408"/>
                </a:lnTo>
                <a:lnTo>
                  <a:pt x="1080" y="408"/>
                </a:lnTo>
                <a:lnTo>
                  <a:pt x="1086" y="408"/>
                </a:lnTo>
                <a:lnTo>
                  <a:pt x="1092" y="408"/>
                </a:lnTo>
                <a:lnTo>
                  <a:pt x="1098" y="408"/>
                </a:lnTo>
                <a:lnTo>
                  <a:pt x="1104" y="408"/>
                </a:lnTo>
                <a:lnTo>
                  <a:pt x="1110" y="408"/>
                </a:lnTo>
                <a:lnTo>
                  <a:pt x="1116" y="408"/>
                </a:lnTo>
                <a:lnTo>
                  <a:pt x="1122" y="408"/>
                </a:lnTo>
                <a:lnTo>
                  <a:pt x="1128" y="408"/>
                </a:lnTo>
                <a:lnTo>
                  <a:pt x="1134" y="408"/>
                </a:lnTo>
                <a:lnTo>
                  <a:pt x="1140" y="408"/>
                </a:lnTo>
                <a:lnTo>
                  <a:pt x="1146" y="408"/>
                </a:lnTo>
                <a:lnTo>
                  <a:pt x="1152" y="408"/>
                </a:lnTo>
                <a:lnTo>
                  <a:pt x="1158" y="408"/>
                </a:lnTo>
                <a:lnTo>
                  <a:pt x="1164" y="408"/>
                </a:lnTo>
                <a:lnTo>
                  <a:pt x="1170" y="408"/>
                </a:lnTo>
                <a:lnTo>
                  <a:pt x="1176" y="408"/>
                </a:lnTo>
                <a:lnTo>
                  <a:pt x="1182" y="408"/>
                </a:lnTo>
                <a:lnTo>
                  <a:pt x="1188" y="408"/>
                </a:lnTo>
                <a:lnTo>
                  <a:pt x="1194" y="408"/>
                </a:lnTo>
                <a:lnTo>
                  <a:pt x="1200" y="408"/>
                </a:lnTo>
                <a:lnTo>
                  <a:pt x="1206" y="408"/>
                </a:lnTo>
                <a:lnTo>
                  <a:pt x="1212" y="408"/>
                </a:lnTo>
                <a:lnTo>
                  <a:pt x="1218" y="408"/>
                </a:lnTo>
                <a:lnTo>
                  <a:pt x="1224" y="408"/>
                </a:lnTo>
                <a:lnTo>
                  <a:pt x="1230" y="408"/>
                </a:lnTo>
                <a:lnTo>
                  <a:pt x="1236" y="408"/>
                </a:lnTo>
                <a:lnTo>
                  <a:pt x="1242" y="408"/>
                </a:lnTo>
                <a:lnTo>
                  <a:pt x="1248" y="408"/>
                </a:lnTo>
                <a:lnTo>
                  <a:pt x="1254" y="408"/>
                </a:lnTo>
                <a:lnTo>
                  <a:pt x="1260" y="408"/>
                </a:lnTo>
                <a:lnTo>
                  <a:pt x="1266" y="408"/>
                </a:lnTo>
                <a:lnTo>
                  <a:pt x="1272" y="408"/>
                </a:lnTo>
                <a:lnTo>
                  <a:pt x="1278" y="408"/>
                </a:lnTo>
                <a:lnTo>
                  <a:pt x="1284" y="408"/>
                </a:lnTo>
                <a:lnTo>
                  <a:pt x="1290" y="408"/>
                </a:lnTo>
                <a:lnTo>
                  <a:pt x="1296" y="40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81320" y="266400"/>
            <a:ext cx="3762360" cy="266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Singl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7880" y="1249200"/>
            <a:ext cx="825480" cy="489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60680" y="1554120"/>
            <a:ext cx="396720" cy="4584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47840" y="1806480"/>
            <a:ext cx="425520" cy="4337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0960" y="1373040"/>
            <a:ext cx="216720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imulation of the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ode coupling with a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RW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65440" y="3933720"/>
            <a:ext cx="1800" cy="2006640"/>
          </a:xfrm>
          <a:custGeom>
            <a:avLst/>
            <a:gdLst/>
            <a:ahLst/>
            <a:rect l="l" t="t" r="r" b="b"/>
            <a:pathLst>
              <a:path w="0" h="256">
                <a:moveTo>
                  <a:pt x="0" y="25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00160" y="5940360"/>
            <a:ext cx="411336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00160" y="5940360"/>
            <a:ext cx="411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10016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508040" y="5892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25240" y="5972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192420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33208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47480" y="5972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74788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15756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31640" y="5972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565440" y="5892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3979800" y="5892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22200" y="5972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38948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80384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49480" y="5972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21352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00160" y="594036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00160" y="4162320"/>
            <a:ext cx="411336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26000" y="574056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00160" y="5078520"/>
            <a:ext cx="411336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3389760" y="4785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00160" y="5430960"/>
            <a:ext cx="411336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2248920" y="5084280"/>
            <a:ext cx="47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m=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3704040" y="511920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18600" y="3979800"/>
            <a:ext cx="36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m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2533680" y="4675320"/>
            <a:ext cx="46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m=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3389760" y="4785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00160" y="5430960"/>
            <a:ext cx="411336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solidFill>
            <a:srgbClr val="ccccff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33800" y="389736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5120" y="222552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87560" y="2397240"/>
            <a:ext cx="41259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1496880" y="229860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04360" y="2368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325600" y="229860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33080" y="2392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3156120" y="229860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53960" y="2495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975120" y="229860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3336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4803840" y="229860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62080" y="2378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33800" y="35622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50560" y="3362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33800" y="296712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50560" y="2770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33800" y="239724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5680" y="2198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33800" y="180180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987280" y="160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33800" y="1206360"/>
            <a:ext cx="3816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57560" y="446040"/>
            <a:ext cx="0" cy="351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73360" y="277020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33"/>
                </a:solidFill>
                <a:latin typeface="Times New Roman"/>
              </a:rPr>
              <a:t>Imag 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7040" y="3559320"/>
            <a:ext cx="19479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Zero Chroma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82800" y="882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( M 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00160" y="5078520"/>
            <a:ext cx="411336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solidFill>
            <a:srgbClr val="66ffff">
              <a:alpha val="50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00160" y="4162320"/>
            <a:ext cx="411336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solidFill>
            <a:srgbClr val="ff0000">
              <a:alpha val="50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87000" y="12668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/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95480" y="1189080"/>
            <a:ext cx="2058840" cy="1239840"/>
          </a:xfrm>
          <a:custGeom>
            <a:avLst/>
            <a:gdLst/>
            <a:ahLst/>
            <a:rect l="l" t="t" r="r" b="b"/>
            <a:pathLst>
              <a:path w="1297" h="306">
                <a:moveTo>
                  <a:pt x="0" y="306"/>
                </a:moveTo>
                <a:lnTo>
                  <a:pt x="0" y="282"/>
                </a:lnTo>
                <a:lnTo>
                  <a:pt x="6" y="282"/>
                </a:lnTo>
                <a:lnTo>
                  <a:pt x="12" y="282"/>
                </a:lnTo>
                <a:lnTo>
                  <a:pt x="18" y="282"/>
                </a:lnTo>
                <a:lnTo>
                  <a:pt x="24" y="282"/>
                </a:lnTo>
                <a:lnTo>
                  <a:pt x="30" y="282"/>
                </a:lnTo>
                <a:lnTo>
                  <a:pt x="36" y="282"/>
                </a:lnTo>
                <a:lnTo>
                  <a:pt x="42" y="282"/>
                </a:lnTo>
                <a:lnTo>
                  <a:pt x="48" y="282"/>
                </a:lnTo>
                <a:lnTo>
                  <a:pt x="54" y="282"/>
                </a:lnTo>
                <a:lnTo>
                  <a:pt x="60" y="282"/>
                </a:lnTo>
                <a:lnTo>
                  <a:pt x="66" y="282"/>
                </a:lnTo>
                <a:lnTo>
                  <a:pt x="72" y="282"/>
                </a:lnTo>
                <a:lnTo>
                  <a:pt x="78" y="282"/>
                </a:lnTo>
                <a:lnTo>
                  <a:pt x="84" y="282"/>
                </a:lnTo>
                <a:lnTo>
                  <a:pt x="90" y="282"/>
                </a:lnTo>
                <a:lnTo>
                  <a:pt x="96" y="282"/>
                </a:lnTo>
                <a:lnTo>
                  <a:pt x="102" y="282"/>
                </a:lnTo>
                <a:lnTo>
                  <a:pt x="108" y="282"/>
                </a:lnTo>
                <a:lnTo>
                  <a:pt x="114" y="282"/>
                </a:lnTo>
                <a:lnTo>
                  <a:pt x="120" y="282"/>
                </a:lnTo>
                <a:lnTo>
                  <a:pt x="126" y="282"/>
                </a:lnTo>
                <a:lnTo>
                  <a:pt x="132" y="282"/>
                </a:lnTo>
                <a:lnTo>
                  <a:pt x="138" y="282"/>
                </a:lnTo>
                <a:lnTo>
                  <a:pt x="144" y="282"/>
                </a:lnTo>
                <a:lnTo>
                  <a:pt x="150" y="282"/>
                </a:lnTo>
                <a:lnTo>
                  <a:pt x="156" y="282"/>
                </a:lnTo>
                <a:lnTo>
                  <a:pt x="162" y="282"/>
                </a:lnTo>
                <a:lnTo>
                  <a:pt x="168" y="282"/>
                </a:lnTo>
                <a:lnTo>
                  <a:pt x="174" y="282"/>
                </a:lnTo>
                <a:lnTo>
                  <a:pt x="180" y="282"/>
                </a:lnTo>
                <a:lnTo>
                  <a:pt x="186" y="282"/>
                </a:lnTo>
                <a:lnTo>
                  <a:pt x="192" y="282"/>
                </a:lnTo>
                <a:lnTo>
                  <a:pt x="198" y="282"/>
                </a:lnTo>
                <a:lnTo>
                  <a:pt x="204" y="282"/>
                </a:lnTo>
                <a:lnTo>
                  <a:pt x="210" y="282"/>
                </a:lnTo>
                <a:lnTo>
                  <a:pt x="216" y="282"/>
                </a:lnTo>
                <a:lnTo>
                  <a:pt x="222" y="282"/>
                </a:lnTo>
                <a:lnTo>
                  <a:pt x="228" y="282"/>
                </a:lnTo>
                <a:lnTo>
                  <a:pt x="234" y="282"/>
                </a:lnTo>
                <a:lnTo>
                  <a:pt x="240" y="282"/>
                </a:lnTo>
                <a:lnTo>
                  <a:pt x="246" y="282"/>
                </a:lnTo>
                <a:lnTo>
                  <a:pt x="252" y="282"/>
                </a:lnTo>
                <a:lnTo>
                  <a:pt x="258" y="282"/>
                </a:lnTo>
                <a:lnTo>
                  <a:pt x="264" y="282"/>
                </a:lnTo>
                <a:lnTo>
                  <a:pt x="270" y="282"/>
                </a:lnTo>
                <a:lnTo>
                  <a:pt x="276" y="282"/>
                </a:lnTo>
                <a:lnTo>
                  <a:pt x="282" y="282"/>
                </a:lnTo>
                <a:lnTo>
                  <a:pt x="288" y="282"/>
                </a:lnTo>
                <a:lnTo>
                  <a:pt x="294" y="282"/>
                </a:lnTo>
                <a:lnTo>
                  <a:pt x="300" y="282"/>
                </a:lnTo>
                <a:lnTo>
                  <a:pt x="306" y="282"/>
                </a:lnTo>
                <a:lnTo>
                  <a:pt x="312" y="282"/>
                </a:lnTo>
                <a:lnTo>
                  <a:pt x="318" y="282"/>
                </a:lnTo>
                <a:lnTo>
                  <a:pt x="324" y="282"/>
                </a:lnTo>
                <a:lnTo>
                  <a:pt x="330" y="282"/>
                </a:lnTo>
                <a:lnTo>
                  <a:pt x="336" y="282"/>
                </a:lnTo>
                <a:lnTo>
                  <a:pt x="342" y="282"/>
                </a:lnTo>
                <a:lnTo>
                  <a:pt x="348" y="282"/>
                </a:lnTo>
                <a:lnTo>
                  <a:pt x="354" y="282"/>
                </a:lnTo>
                <a:lnTo>
                  <a:pt x="360" y="282"/>
                </a:lnTo>
                <a:lnTo>
                  <a:pt x="366" y="282"/>
                </a:lnTo>
                <a:lnTo>
                  <a:pt x="372" y="282"/>
                </a:lnTo>
                <a:lnTo>
                  <a:pt x="378" y="282"/>
                </a:lnTo>
                <a:lnTo>
                  <a:pt x="384" y="282"/>
                </a:lnTo>
                <a:lnTo>
                  <a:pt x="390" y="282"/>
                </a:lnTo>
                <a:lnTo>
                  <a:pt x="396" y="282"/>
                </a:lnTo>
                <a:lnTo>
                  <a:pt x="402" y="282"/>
                </a:lnTo>
                <a:lnTo>
                  <a:pt x="408" y="282"/>
                </a:lnTo>
                <a:lnTo>
                  <a:pt x="414" y="282"/>
                </a:lnTo>
                <a:lnTo>
                  <a:pt x="420" y="282"/>
                </a:lnTo>
                <a:lnTo>
                  <a:pt x="426" y="282"/>
                </a:lnTo>
                <a:lnTo>
                  <a:pt x="432" y="282"/>
                </a:lnTo>
                <a:lnTo>
                  <a:pt x="438" y="282"/>
                </a:lnTo>
                <a:lnTo>
                  <a:pt x="444" y="282"/>
                </a:lnTo>
                <a:lnTo>
                  <a:pt x="450" y="282"/>
                </a:lnTo>
                <a:lnTo>
                  <a:pt x="456" y="282"/>
                </a:lnTo>
                <a:lnTo>
                  <a:pt x="462" y="282"/>
                </a:lnTo>
                <a:lnTo>
                  <a:pt x="468" y="282"/>
                </a:lnTo>
                <a:lnTo>
                  <a:pt x="474" y="276"/>
                </a:lnTo>
                <a:lnTo>
                  <a:pt x="480" y="276"/>
                </a:lnTo>
                <a:lnTo>
                  <a:pt x="486" y="276"/>
                </a:lnTo>
                <a:lnTo>
                  <a:pt x="492" y="276"/>
                </a:lnTo>
                <a:lnTo>
                  <a:pt x="498" y="276"/>
                </a:lnTo>
                <a:lnTo>
                  <a:pt x="504" y="276"/>
                </a:lnTo>
                <a:lnTo>
                  <a:pt x="510" y="276"/>
                </a:lnTo>
                <a:lnTo>
                  <a:pt x="516" y="276"/>
                </a:lnTo>
                <a:lnTo>
                  <a:pt x="522" y="276"/>
                </a:lnTo>
                <a:lnTo>
                  <a:pt x="528" y="276"/>
                </a:lnTo>
                <a:lnTo>
                  <a:pt x="534" y="276"/>
                </a:lnTo>
                <a:lnTo>
                  <a:pt x="540" y="276"/>
                </a:lnTo>
                <a:lnTo>
                  <a:pt x="546" y="276"/>
                </a:lnTo>
                <a:lnTo>
                  <a:pt x="552" y="276"/>
                </a:lnTo>
                <a:lnTo>
                  <a:pt x="558" y="276"/>
                </a:lnTo>
                <a:lnTo>
                  <a:pt x="564" y="276"/>
                </a:lnTo>
                <a:lnTo>
                  <a:pt x="570" y="276"/>
                </a:lnTo>
                <a:lnTo>
                  <a:pt x="576" y="276"/>
                </a:lnTo>
                <a:lnTo>
                  <a:pt x="582" y="276"/>
                </a:lnTo>
                <a:lnTo>
                  <a:pt x="588" y="276"/>
                </a:lnTo>
                <a:lnTo>
                  <a:pt x="594" y="276"/>
                </a:lnTo>
                <a:lnTo>
                  <a:pt x="600" y="276"/>
                </a:lnTo>
                <a:lnTo>
                  <a:pt x="606" y="276"/>
                </a:lnTo>
                <a:lnTo>
                  <a:pt x="612" y="276"/>
                </a:lnTo>
                <a:lnTo>
                  <a:pt x="618" y="276"/>
                </a:lnTo>
                <a:lnTo>
                  <a:pt x="624" y="276"/>
                </a:lnTo>
                <a:lnTo>
                  <a:pt x="630" y="276"/>
                </a:lnTo>
                <a:lnTo>
                  <a:pt x="636" y="276"/>
                </a:lnTo>
                <a:lnTo>
                  <a:pt x="642" y="276"/>
                </a:lnTo>
                <a:lnTo>
                  <a:pt x="648" y="276"/>
                </a:lnTo>
                <a:lnTo>
                  <a:pt x="654" y="276"/>
                </a:lnTo>
                <a:lnTo>
                  <a:pt x="660" y="276"/>
                </a:lnTo>
                <a:lnTo>
                  <a:pt x="666" y="276"/>
                </a:lnTo>
                <a:lnTo>
                  <a:pt x="672" y="276"/>
                </a:lnTo>
                <a:lnTo>
                  <a:pt x="678" y="276"/>
                </a:lnTo>
                <a:lnTo>
                  <a:pt x="684" y="276"/>
                </a:lnTo>
                <a:lnTo>
                  <a:pt x="690" y="276"/>
                </a:lnTo>
                <a:lnTo>
                  <a:pt x="696" y="276"/>
                </a:lnTo>
                <a:lnTo>
                  <a:pt x="702" y="276"/>
                </a:lnTo>
                <a:lnTo>
                  <a:pt x="708" y="276"/>
                </a:lnTo>
                <a:lnTo>
                  <a:pt x="714" y="276"/>
                </a:lnTo>
                <a:lnTo>
                  <a:pt x="720" y="276"/>
                </a:lnTo>
                <a:lnTo>
                  <a:pt x="726" y="276"/>
                </a:lnTo>
                <a:lnTo>
                  <a:pt x="732" y="276"/>
                </a:lnTo>
                <a:lnTo>
                  <a:pt x="738" y="276"/>
                </a:lnTo>
                <a:lnTo>
                  <a:pt x="744" y="276"/>
                </a:lnTo>
                <a:lnTo>
                  <a:pt x="750" y="276"/>
                </a:lnTo>
                <a:lnTo>
                  <a:pt x="756" y="276"/>
                </a:lnTo>
                <a:lnTo>
                  <a:pt x="762" y="276"/>
                </a:lnTo>
                <a:lnTo>
                  <a:pt x="768" y="276"/>
                </a:lnTo>
                <a:lnTo>
                  <a:pt x="774" y="270"/>
                </a:lnTo>
                <a:lnTo>
                  <a:pt x="780" y="270"/>
                </a:lnTo>
                <a:lnTo>
                  <a:pt x="786" y="270"/>
                </a:lnTo>
                <a:lnTo>
                  <a:pt x="792" y="270"/>
                </a:lnTo>
                <a:lnTo>
                  <a:pt x="798" y="270"/>
                </a:lnTo>
                <a:lnTo>
                  <a:pt x="804" y="270"/>
                </a:lnTo>
                <a:lnTo>
                  <a:pt x="810" y="270"/>
                </a:lnTo>
                <a:lnTo>
                  <a:pt x="816" y="270"/>
                </a:lnTo>
                <a:lnTo>
                  <a:pt x="822" y="270"/>
                </a:lnTo>
                <a:lnTo>
                  <a:pt x="828" y="270"/>
                </a:lnTo>
                <a:lnTo>
                  <a:pt x="834" y="270"/>
                </a:lnTo>
                <a:lnTo>
                  <a:pt x="840" y="270"/>
                </a:lnTo>
                <a:lnTo>
                  <a:pt x="846" y="270"/>
                </a:lnTo>
                <a:lnTo>
                  <a:pt x="852" y="270"/>
                </a:lnTo>
                <a:lnTo>
                  <a:pt x="858" y="270"/>
                </a:lnTo>
                <a:lnTo>
                  <a:pt x="864" y="270"/>
                </a:lnTo>
                <a:lnTo>
                  <a:pt x="870" y="270"/>
                </a:lnTo>
                <a:lnTo>
                  <a:pt x="876" y="270"/>
                </a:lnTo>
                <a:lnTo>
                  <a:pt x="882" y="270"/>
                </a:lnTo>
                <a:lnTo>
                  <a:pt x="888" y="270"/>
                </a:lnTo>
                <a:lnTo>
                  <a:pt x="894" y="270"/>
                </a:lnTo>
                <a:lnTo>
                  <a:pt x="900" y="270"/>
                </a:lnTo>
                <a:lnTo>
                  <a:pt x="906" y="270"/>
                </a:lnTo>
                <a:lnTo>
                  <a:pt x="912" y="270"/>
                </a:lnTo>
                <a:lnTo>
                  <a:pt x="918" y="270"/>
                </a:lnTo>
                <a:lnTo>
                  <a:pt x="924" y="270"/>
                </a:lnTo>
                <a:lnTo>
                  <a:pt x="930" y="264"/>
                </a:lnTo>
                <a:lnTo>
                  <a:pt x="936" y="264"/>
                </a:lnTo>
                <a:lnTo>
                  <a:pt x="942" y="264"/>
                </a:lnTo>
                <a:lnTo>
                  <a:pt x="948" y="264"/>
                </a:lnTo>
                <a:lnTo>
                  <a:pt x="954" y="264"/>
                </a:lnTo>
                <a:lnTo>
                  <a:pt x="960" y="264"/>
                </a:lnTo>
                <a:lnTo>
                  <a:pt x="966" y="264"/>
                </a:lnTo>
                <a:lnTo>
                  <a:pt x="972" y="264"/>
                </a:lnTo>
                <a:lnTo>
                  <a:pt x="978" y="264"/>
                </a:lnTo>
                <a:lnTo>
                  <a:pt x="984" y="264"/>
                </a:lnTo>
                <a:lnTo>
                  <a:pt x="990" y="264"/>
                </a:lnTo>
                <a:lnTo>
                  <a:pt x="996" y="264"/>
                </a:lnTo>
                <a:lnTo>
                  <a:pt x="1002" y="264"/>
                </a:lnTo>
                <a:lnTo>
                  <a:pt x="1008" y="264"/>
                </a:lnTo>
                <a:lnTo>
                  <a:pt x="1014" y="264"/>
                </a:lnTo>
                <a:lnTo>
                  <a:pt x="1020" y="264"/>
                </a:lnTo>
                <a:lnTo>
                  <a:pt x="1026" y="264"/>
                </a:lnTo>
                <a:lnTo>
                  <a:pt x="1032" y="258"/>
                </a:lnTo>
                <a:lnTo>
                  <a:pt x="1038" y="258"/>
                </a:lnTo>
                <a:lnTo>
                  <a:pt x="1044" y="258"/>
                </a:lnTo>
                <a:lnTo>
                  <a:pt x="1050" y="258"/>
                </a:lnTo>
                <a:lnTo>
                  <a:pt x="1056" y="258"/>
                </a:lnTo>
                <a:lnTo>
                  <a:pt x="1062" y="258"/>
                </a:lnTo>
                <a:lnTo>
                  <a:pt x="1068" y="258"/>
                </a:lnTo>
                <a:lnTo>
                  <a:pt x="1074" y="258"/>
                </a:lnTo>
                <a:lnTo>
                  <a:pt x="1080" y="258"/>
                </a:lnTo>
                <a:lnTo>
                  <a:pt x="1086" y="258"/>
                </a:lnTo>
                <a:lnTo>
                  <a:pt x="1092" y="252"/>
                </a:lnTo>
                <a:lnTo>
                  <a:pt x="1098" y="252"/>
                </a:lnTo>
                <a:lnTo>
                  <a:pt x="1104" y="252"/>
                </a:lnTo>
                <a:lnTo>
                  <a:pt x="1110" y="252"/>
                </a:lnTo>
                <a:lnTo>
                  <a:pt x="1116" y="252"/>
                </a:lnTo>
                <a:lnTo>
                  <a:pt x="1122" y="252"/>
                </a:lnTo>
                <a:lnTo>
                  <a:pt x="1128" y="252"/>
                </a:lnTo>
                <a:lnTo>
                  <a:pt x="1134" y="252"/>
                </a:lnTo>
                <a:lnTo>
                  <a:pt x="1141" y="246"/>
                </a:lnTo>
                <a:lnTo>
                  <a:pt x="1147" y="246"/>
                </a:lnTo>
                <a:lnTo>
                  <a:pt x="1153" y="246"/>
                </a:lnTo>
                <a:lnTo>
                  <a:pt x="1159" y="246"/>
                </a:lnTo>
                <a:lnTo>
                  <a:pt x="1165" y="246"/>
                </a:lnTo>
                <a:lnTo>
                  <a:pt x="1171" y="240"/>
                </a:lnTo>
                <a:lnTo>
                  <a:pt x="1177" y="240"/>
                </a:lnTo>
                <a:lnTo>
                  <a:pt x="1183" y="240"/>
                </a:lnTo>
                <a:lnTo>
                  <a:pt x="1189" y="234"/>
                </a:lnTo>
                <a:lnTo>
                  <a:pt x="1195" y="234"/>
                </a:lnTo>
                <a:lnTo>
                  <a:pt x="1201" y="234"/>
                </a:lnTo>
                <a:lnTo>
                  <a:pt x="1207" y="228"/>
                </a:lnTo>
                <a:lnTo>
                  <a:pt x="1213" y="228"/>
                </a:lnTo>
                <a:lnTo>
                  <a:pt x="1219" y="228"/>
                </a:lnTo>
                <a:lnTo>
                  <a:pt x="1225" y="222"/>
                </a:lnTo>
                <a:lnTo>
                  <a:pt x="1231" y="222"/>
                </a:lnTo>
                <a:lnTo>
                  <a:pt x="1237" y="216"/>
                </a:lnTo>
                <a:lnTo>
                  <a:pt x="1243" y="210"/>
                </a:lnTo>
                <a:lnTo>
                  <a:pt x="1249" y="204"/>
                </a:lnTo>
                <a:lnTo>
                  <a:pt x="1255" y="198"/>
                </a:lnTo>
                <a:lnTo>
                  <a:pt x="1261" y="192"/>
                </a:lnTo>
                <a:lnTo>
                  <a:pt x="1267" y="186"/>
                </a:lnTo>
                <a:lnTo>
                  <a:pt x="1267" y="180"/>
                </a:lnTo>
                <a:lnTo>
                  <a:pt x="1273" y="174"/>
                </a:lnTo>
                <a:lnTo>
                  <a:pt x="1273" y="168"/>
                </a:lnTo>
                <a:lnTo>
                  <a:pt x="1279" y="162"/>
                </a:lnTo>
                <a:lnTo>
                  <a:pt x="1279" y="150"/>
                </a:lnTo>
                <a:lnTo>
                  <a:pt x="1279" y="144"/>
                </a:lnTo>
                <a:lnTo>
                  <a:pt x="1285" y="126"/>
                </a:lnTo>
                <a:lnTo>
                  <a:pt x="1285" y="114"/>
                </a:lnTo>
                <a:lnTo>
                  <a:pt x="1291" y="90"/>
                </a:lnTo>
                <a:lnTo>
                  <a:pt x="1291" y="54"/>
                </a:lnTo>
                <a:lnTo>
                  <a:pt x="1297" y="0"/>
                </a:lnTo>
                <a:lnTo>
                  <a:pt x="1297" y="306"/>
                </a:lnTo>
              </a:path>
            </a:pathLst>
          </a:custGeom>
          <a:solidFill>
            <a:srgbClr val="66ff33">
              <a:alpha val="50000"/>
            </a:srgbClr>
          </a:solidFill>
          <a:ln w="19080">
            <a:solidFill>
              <a:srgbClr val="00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86000" y="1152360"/>
            <a:ext cx="2057400" cy="1239840"/>
          </a:xfrm>
          <a:custGeom>
            <a:avLst/>
            <a:gdLst/>
            <a:ahLst/>
            <a:rect l="l" t="t" r="r" b="b"/>
            <a:pathLst>
              <a:path w="1296" h="306">
                <a:moveTo>
                  <a:pt x="0" y="306"/>
                </a:moveTo>
                <a:lnTo>
                  <a:pt x="0" y="0"/>
                </a:lnTo>
                <a:lnTo>
                  <a:pt x="6" y="54"/>
                </a:lnTo>
                <a:lnTo>
                  <a:pt x="6" y="90"/>
                </a:lnTo>
                <a:lnTo>
                  <a:pt x="12" y="114"/>
                </a:lnTo>
                <a:lnTo>
                  <a:pt x="12" y="126"/>
                </a:lnTo>
                <a:lnTo>
                  <a:pt x="18" y="144"/>
                </a:lnTo>
                <a:lnTo>
                  <a:pt x="18" y="150"/>
                </a:lnTo>
                <a:lnTo>
                  <a:pt x="18" y="162"/>
                </a:lnTo>
                <a:lnTo>
                  <a:pt x="24" y="168"/>
                </a:lnTo>
                <a:lnTo>
                  <a:pt x="24" y="174"/>
                </a:lnTo>
                <a:lnTo>
                  <a:pt x="30" y="180"/>
                </a:lnTo>
                <a:lnTo>
                  <a:pt x="36" y="186"/>
                </a:lnTo>
                <a:lnTo>
                  <a:pt x="36" y="192"/>
                </a:lnTo>
                <a:lnTo>
                  <a:pt x="42" y="198"/>
                </a:lnTo>
                <a:lnTo>
                  <a:pt x="48" y="204"/>
                </a:lnTo>
                <a:lnTo>
                  <a:pt x="54" y="210"/>
                </a:lnTo>
                <a:lnTo>
                  <a:pt x="60" y="216"/>
                </a:lnTo>
                <a:lnTo>
                  <a:pt x="66" y="222"/>
                </a:lnTo>
                <a:lnTo>
                  <a:pt x="72" y="222"/>
                </a:lnTo>
                <a:lnTo>
                  <a:pt x="78" y="228"/>
                </a:lnTo>
                <a:lnTo>
                  <a:pt x="84" y="228"/>
                </a:lnTo>
                <a:lnTo>
                  <a:pt x="90" y="234"/>
                </a:lnTo>
                <a:lnTo>
                  <a:pt x="96" y="234"/>
                </a:lnTo>
                <a:lnTo>
                  <a:pt x="102" y="234"/>
                </a:lnTo>
                <a:lnTo>
                  <a:pt x="108" y="240"/>
                </a:lnTo>
                <a:lnTo>
                  <a:pt x="114" y="240"/>
                </a:lnTo>
                <a:lnTo>
                  <a:pt x="120" y="240"/>
                </a:lnTo>
                <a:lnTo>
                  <a:pt x="126" y="240"/>
                </a:lnTo>
                <a:lnTo>
                  <a:pt x="132" y="246"/>
                </a:lnTo>
                <a:lnTo>
                  <a:pt x="138" y="246"/>
                </a:lnTo>
                <a:lnTo>
                  <a:pt x="144" y="246"/>
                </a:lnTo>
                <a:lnTo>
                  <a:pt x="150" y="246"/>
                </a:lnTo>
                <a:lnTo>
                  <a:pt x="156" y="246"/>
                </a:lnTo>
                <a:lnTo>
                  <a:pt x="162" y="252"/>
                </a:lnTo>
                <a:lnTo>
                  <a:pt x="168" y="252"/>
                </a:lnTo>
                <a:lnTo>
                  <a:pt x="174" y="252"/>
                </a:lnTo>
                <a:lnTo>
                  <a:pt x="180" y="252"/>
                </a:lnTo>
                <a:lnTo>
                  <a:pt x="186" y="252"/>
                </a:lnTo>
                <a:lnTo>
                  <a:pt x="192" y="252"/>
                </a:lnTo>
                <a:lnTo>
                  <a:pt x="198" y="252"/>
                </a:lnTo>
                <a:lnTo>
                  <a:pt x="204" y="258"/>
                </a:lnTo>
                <a:lnTo>
                  <a:pt x="210" y="258"/>
                </a:lnTo>
                <a:lnTo>
                  <a:pt x="216" y="258"/>
                </a:lnTo>
                <a:lnTo>
                  <a:pt x="222" y="258"/>
                </a:lnTo>
                <a:lnTo>
                  <a:pt x="228" y="258"/>
                </a:lnTo>
                <a:lnTo>
                  <a:pt x="234" y="258"/>
                </a:lnTo>
                <a:lnTo>
                  <a:pt x="240" y="258"/>
                </a:lnTo>
                <a:lnTo>
                  <a:pt x="246" y="258"/>
                </a:lnTo>
                <a:lnTo>
                  <a:pt x="252" y="258"/>
                </a:lnTo>
                <a:lnTo>
                  <a:pt x="258" y="258"/>
                </a:lnTo>
                <a:lnTo>
                  <a:pt x="264" y="258"/>
                </a:lnTo>
                <a:lnTo>
                  <a:pt x="270" y="264"/>
                </a:lnTo>
                <a:lnTo>
                  <a:pt x="276" y="264"/>
                </a:lnTo>
                <a:lnTo>
                  <a:pt x="282" y="264"/>
                </a:lnTo>
                <a:lnTo>
                  <a:pt x="288" y="264"/>
                </a:lnTo>
                <a:lnTo>
                  <a:pt x="294" y="264"/>
                </a:lnTo>
                <a:lnTo>
                  <a:pt x="300" y="264"/>
                </a:lnTo>
                <a:lnTo>
                  <a:pt x="306" y="264"/>
                </a:lnTo>
                <a:lnTo>
                  <a:pt x="312" y="264"/>
                </a:lnTo>
                <a:lnTo>
                  <a:pt x="318" y="264"/>
                </a:lnTo>
                <a:lnTo>
                  <a:pt x="324" y="264"/>
                </a:lnTo>
                <a:lnTo>
                  <a:pt x="330" y="264"/>
                </a:lnTo>
                <a:lnTo>
                  <a:pt x="336" y="264"/>
                </a:lnTo>
                <a:lnTo>
                  <a:pt x="342" y="264"/>
                </a:lnTo>
                <a:lnTo>
                  <a:pt x="348" y="264"/>
                </a:lnTo>
                <a:lnTo>
                  <a:pt x="354" y="264"/>
                </a:lnTo>
                <a:lnTo>
                  <a:pt x="360" y="264"/>
                </a:lnTo>
                <a:lnTo>
                  <a:pt x="366" y="270"/>
                </a:lnTo>
                <a:lnTo>
                  <a:pt x="372" y="270"/>
                </a:lnTo>
                <a:lnTo>
                  <a:pt x="378" y="270"/>
                </a:lnTo>
                <a:lnTo>
                  <a:pt x="384" y="270"/>
                </a:lnTo>
                <a:lnTo>
                  <a:pt x="390" y="270"/>
                </a:lnTo>
                <a:lnTo>
                  <a:pt x="396" y="270"/>
                </a:lnTo>
                <a:lnTo>
                  <a:pt x="402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70"/>
                </a:lnTo>
                <a:lnTo>
                  <a:pt x="426" y="270"/>
                </a:lnTo>
                <a:lnTo>
                  <a:pt x="432" y="270"/>
                </a:lnTo>
                <a:lnTo>
                  <a:pt x="438" y="270"/>
                </a:lnTo>
                <a:lnTo>
                  <a:pt x="444" y="270"/>
                </a:lnTo>
                <a:lnTo>
                  <a:pt x="450" y="270"/>
                </a:lnTo>
                <a:lnTo>
                  <a:pt x="456" y="270"/>
                </a:lnTo>
                <a:lnTo>
                  <a:pt x="462" y="270"/>
                </a:lnTo>
                <a:lnTo>
                  <a:pt x="468" y="270"/>
                </a:lnTo>
                <a:lnTo>
                  <a:pt x="474" y="270"/>
                </a:lnTo>
                <a:lnTo>
                  <a:pt x="480" y="270"/>
                </a:lnTo>
                <a:lnTo>
                  <a:pt x="486" y="270"/>
                </a:lnTo>
                <a:lnTo>
                  <a:pt x="492" y="270"/>
                </a:lnTo>
                <a:lnTo>
                  <a:pt x="498" y="270"/>
                </a:lnTo>
                <a:lnTo>
                  <a:pt x="504" y="270"/>
                </a:lnTo>
                <a:lnTo>
                  <a:pt x="510" y="270"/>
                </a:lnTo>
                <a:lnTo>
                  <a:pt x="516" y="270"/>
                </a:lnTo>
                <a:lnTo>
                  <a:pt x="522" y="270"/>
                </a:lnTo>
                <a:lnTo>
                  <a:pt x="528" y="276"/>
                </a:lnTo>
                <a:lnTo>
                  <a:pt x="534" y="276"/>
                </a:lnTo>
                <a:lnTo>
                  <a:pt x="540" y="276"/>
                </a:lnTo>
                <a:lnTo>
                  <a:pt x="546" y="276"/>
                </a:lnTo>
                <a:lnTo>
                  <a:pt x="552" y="276"/>
                </a:lnTo>
                <a:lnTo>
                  <a:pt x="558" y="276"/>
                </a:lnTo>
                <a:lnTo>
                  <a:pt x="564" y="276"/>
                </a:lnTo>
                <a:lnTo>
                  <a:pt x="570" y="276"/>
                </a:lnTo>
                <a:lnTo>
                  <a:pt x="576" y="276"/>
                </a:lnTo>
                <a:lnTo>
                  <a:pt x="582" y="276"/>
                </a:lnTo>
                <a:lnTo>
                  <a:pt x="588" y="276"/>
                </a:lnTo>
                <a:lnTo>
                  <a:pt x="594" y="276"/>
                </a:lnTo>
                <a:lnTo>
                  <a:pt x="600" y="276"/>
                </a:lnTo>
                <a:lnTo>
                  <a:pt x="606" y="276"/>
                </a:lnTo>
                <a:lnTo>
                  <a:pt x="612" y="276"/>
                </a:lnTo>
                <a:lnTo>
                  <a:pt x="618" y="276"/>
                </a:lnTo>
                <a:lnTo>
                  <a:pt x="624" y="276"/>
                </a:lnTo>
                <a:lnTo>
                  <a:pt x="630" y="276"/>
                </a:lnTo>
                <a:lnTo>
                  <a:pt x="636" y="276"/>
                </a:lnTo>
                <a:lnTo>
                  <a:pt x="642" y="276"/>
                </a:lnTo>
                <a:lnTo>
                  <a:pt x="648" y="276"/>
                </a:lnTo>
                <a:lnTo>
                  <a:pt x="654" y="276"/>
                </a:lnTo>
                <a:lnTo>
                  <a:pt x="660" y="276"/>
                </a:lnTo>
                <a:lnTo>
                  <a:pt x="666" y="276"/>
                </a:lnTo>
                <a:lnTo>
                  <a:pt x="672" y="276"/>
                </a:lnTo>
                <a:lnTo>
                  <a:pt x="678" y="276"/>
                </a:lnTo>
                <a:lnTo>
                  <a:pt x="684" y="276"/>
                </a:lnTo>
                <a:lnTo>
                  <a:pt x="690" y="276"/>
                </a:lnTo>
                <a:lnTo>
                  <a:pt x="696" y="276"/>
                </a:lnTo>
                <a:lnTo>
                  <a:pt x="702" y="276"/>
                </a:lnTo>
                <a:lnTo>
                  <a:pt x="708" y="276"/>
                </a:lnTo>
                <a:lnTo>
                  <a:pt x="714" y="276"/>
                </a:lnTo>
                <a:lnTo>
                  <a:pt x="720" y="276"/>
                </a:lnTo>
                <a:lnTo>
                  <a:pt x="726" y="276"/>
                </a:lnTo>
                <a:lnTo>
                  <a:pt x="732" y="276"/>
                </a:lnTo>
                <a:lnTo>
                  <a:pt x="738" y="276"/>
                </a:lnTo>
                <a:lnTo>
                  <a:pt x="744" y="276"/>
                </a:lnTo>
                <a:lnTo>
                  <a:pt x="750" y="276"/>
                </a:lnTo>
                <a:lnTo>
                  <a:pt x="756" y="276"/>
                </a:lnTo>
                <a:lnTo>
                  <a:pt x="762" y="276"/>
                </a:lnTo>
                <a:lnTo>
                  <a:pt x="768" y="276"/>
                </a:lnTo>
                <a:lnTo>
                  <a:pt x="774" y="276"/>
                </a:lnTo>
                <a:lnTo>
                  <a:pt x="780" y="276"/>
                </a:lnTo>
                <a:lnTo>
                  <a:pt x="786" y="276"/>
                </a:lnTo>
                <a:lnTo>
                  <a:pt x="792" y="276"/>
                </a:lnTo>
                <a:lnTo>
                  <a:pt x="798" y="276"/>
                </a:lnTo>
                <a:lnTo>
                  <a:pt x="804" y="276"/>
                </a:lnTo>
                <a:lnTo>
                  <a:pt x="810" y="276"/>
                </a:lnTo>
                <a:lnTo>
                  <a:pt x="816" y="276"/>
                </a:lnTo>
                <a:lnTo>
                  <a:pt x="822" y="276"/>
                </a:lnTo>
                <a:lnTo>
                  <a:pt x="828" y="282"/>
                </a:lnTo>
                <a:lnTo>
                  <a:pt x="834" y="282"/>
                </a:lnTo>
                <a:lnTo>
                  <a:pt x="840" y="282"/>
                </a:lnTo>
                <a:lnTo>
                  <a:pt x="846" y="282"/>
                </a:lnTo>
                <a:lnTo>
                  <a:pt x="852" y="282"/>
                </a:lnTo>
                <a:lnTo>
                  <a:pt x="858" y="282"/>
                </a:lnTo>
                <a:lnTo>
                  <a:pt x="864" y="282"/>
                </a:lnTo>
                <a:lnTo>
                  <a:pt x="870" y="282"/>
                </a:lnTo>
                <a:lnTo>
                  <a:pt x="876" y="282"/>
                </a:lnTo>
                <a:lnTo>
                  <a:pt x="882" y="282"/>
                </a:lnTo>
                <a:lnTo>
                  <a:pt x="888" y="282"/>
                </a:lnTo>
                <a:lnTo>
                  <a:pt x="894" y="282"/>
                </a:lnTo>
                <a:lnTo>
                  <a:pt x="900" y="282"/>
                </a:lnTo>
                <a:lnTo>
                  <a:pt x="906" y="282"/>
                </a:lnTo>
                <a:lnTo>
                  <a:pt x="912" y="282"/>
                </a:lnTo>
                <a:lnTo>
                  <a:pt x="918" y="282"/>
                </a:lnTo>
                <a:lnTo>
                  <a:pt x="924" y="282"/>
                </a:lnTo>
                <a:lnTo>
                  <a:pt x="930" y="282"/>
                </a:lnTo>
                <a:lnTo>
                  <a:pt x="936" y="282"/>
                </a:lnTo>
                <a:lnTo>
                  <a:pt x="942" y="282"/>
                </a:lnTo>
                <a:lnTo>
                  <a:pt x="948" y="282"/>
                </a:lnTo>
                <a:lnTo>
                  <a:pt x="954" y="282"/>
                </a:lnTo>
                <a:lnTo>
                  <a:pt x="960" y="282"/>
                </a:lnTo>
                <a:lnTo>
                  <a:pt x="966" y="282"/>
                </a:lnTo>
                <a:lnTo>
                  <a:pt x="972" y="282"/>
                </a:lnTo>
                <a:lnTo>
                  <a:pt x="978" y="282"/>
                </a:lnTo>
                <a:lnTo>
                  <a:pt x="984" y="282"/>
                </a:lnTo>
                <a:lnTo>
                  <a:pt x="990" y="282"/>
                </a:lnTo>
                <a:lnTo>
                  <a:pt x="996" y="282"/>
                </a:lnTo>
                <a:lnTo>
                  <a:pt x="1002" y="282"/>
                </a:lnTo>
                <a:lnTo>
                  <a:pt x="1008" y="282"/>
                </a:lnTo>
                <a:lnTo>
                  <a:pt x="1014" y="282"/>
                </a:lnTo>
                <a:lnTo>
                  <a:pt x="1020" y="282"/>
                </a:lnTo>
                <a:lnTo>
                  <a:pt x="1026" y="282"/>
                </a:lnTo>
                <a:lnTo>
                  <a:pt x="1032" y="282"/>
                </a:lnTo>
                <a:lnTo>
                  <a:pt x="1038" y="282"/>
                </a:lnTo>
                <a:lnTo>
                  <a:pt x="1044" y="282"/>
                </a:lnTo>
                <a:lnTo>
                  <a:pt x="1050" y="282"/>
                </a:lnTo>
                <a:lnTo>
                  <a:pt x="1056" y="282"/>
                </a:lnTo>
                <a:lnTo>
                  <a:pt x="1062" y="282"/>
                </a:lnTo>
                <a:lnTo>
                  <a:pt x="1068" y="282"/>
                </a:lnTo>
                <a:lnTo>
                  <a:pt x="1074" y="282"/>
                </a:lnTo>
                <a:lnTo>
                  <a:pt x="1080" y="282"/>
                </a:lnTo>
                <a:lnTo>
                  <a:pt x="1086" y="282"/>
                </a:lnTo>
                <a:lnTo>
                  <a:pt x="1092" y="282"/>
                </a:lnTo>
                <a:lnTo>
                  <a:pt x="1098" y="282"/>
                </a:lnTo>
                <a:lnTo>
                  <a:pt x="1104" y="282"/>
                </a:lnTo>
                <a:lnTo>
                  <a:pt x="1110" y="282"/>
                </a:lnTo>
                <a:lnTo>
                  <a:pt x="1116" y="282"/>
                </a:lnTo>
                <a:lnTo>
                  <a:pt x="1122" y="282"/>
                </a:lnTo>
                <a:lnTo>
                  <a:pt x="1128" y="282"/>
                </a:lnTo>
                <a:lnTo>
                  <a:pt x="1134" y="282"/>
                </a:lnTo>
                <a:lnTo>
                  <a:pt x="1140" y="282"/>
                </a:lnTo>
                <a:lnTo>
                  <a:pt x="1146" y="282"/>
                </a:lnTo>
                <a:lnTo>
                  <a:pt x="1152" y="282"/>
                </a:lnTo>
                <a:lnTo>
                  <a:pt x="1158" y="282"/>
                </a:lnTo>
                <a:lnTo>
                  <a:pt x="1164" y="282"/>
                </a:lnTo>
                <a:lnTo>
                  <a:pt x="1170" y="282"/>
                </a:lnTo>
                <a:lnTo>
                  <a:pt x="1176" y="282"/>
                </a:lnTo>
                <a:lnTo>
                  <a:pt x="1182" y="282"/>
                </a:lnTo>
                <a:lnTo>
                  <a:pt x="1188" y="282"/>
                </a:lnTo>
                <a:lnTo>
                  <a:pt x="1194" y="282"/>
                </a:lnTo>
                <a:lnTo>
                  <a:pt x="1200" y="282"/>
                </a:lnTo>
                <a:lnTo>
                  <a:pt x="1206" y="282"/>
                </a:lnTo>
                <a:lnTo>
                  <a:pt x="1212" y="282"/>
                </a:lnTo>
                <a:lnTo>
                  <a:pt x="1218" y="282"/>
                </a:lnTo>
                <a:lnTo>
                  <a:pt x="1224" y="282"/>
                </a:lnTo>
                <a:lnTo>
                  <a:pt x="1230" y="282"/>
                </a:lnTo>
                <a:lnTo>
                  <a:pt x="1236" y="282"/>
                </a:lnTo>
                <a:lnTo>
                  <a:pt x="1242" y="282"/>
                </a:lnTo>
                <a:lnTo>
                  <a:pt x="1248" y="282"/>
                </a:lnTo>
                <a:lnTo>
                  <a:pt x="1254" y="282"/>
                </a:lnTo>
                <a:lnTo>
                  <a:pt x="1260" y="282"/>
                </a:lnTo>
                <a:lnTo>
                  <a:pt x="1266" y="282"/>
                </a:lnTo>
                <a:lnTo>
                  <a:pt x="1272" y="282"/>
                </a:lnTo>
                <a:lnTo>
                  <a:pt x="1278" y="282"/>
                </a:lnTo>
                <a:lnTo>
                  <a:pt x="1284" y="282"/>
                </a:lnTo>
                <a:lnTo>
                  <a:pt x="1290" y="282"/>
                </a:lnTo>
                <a:lnTo>
                  <a:pt x="1296" y="282"/>
                </a:lnTo>
                <a:lnTo>
                  <a:pt x="1296" y="306"/>
                </a:lnTo>
              </a:path>
            </a:pathLst>
          </a:custGeom>
          <a:solidFill>
            <a:srgbClr val="66ff33">
              <a:alpha val="50000"/>
            </a:srgbClr>
          </a:solidFill>
          <a:ln w="19080">
            <a:solidFill>
              <a:srgbClr val="00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91160" y="1373040"/>
            <a:ext cx="3152880" cy="106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or the ESRF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he modeling of the mode merging could be obtained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ith a Resistive Wall model  only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24560" y="2924280"/>
            <a:ext cx="3276720" cy="144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But this resistive wall mo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hould be much  larger th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he theoretical one 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(Factor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886360" y="4857840"/>
            <a:ext cx="2305080" cy="1194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mode merging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cannot conclude on the broadband 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BR + R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341-0509-4C51-862B-492034F24A6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0BE0B-C274-443F-94F2-6277D94FBF04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12720" y="3225960"/>
            <a:ext cx="3692520" cy="1117440"/>
            <a:chOff x="612720" y="3225960"/>
            <a:chExt cx="3692520" cy="1117440"/>
          </a:xfrm>
        </p:grpSpPr>
        <p:sp>
          <p:nvSpPr>
            <p:cNvPr id="412" name=""/>
            <p:cNvSpPr/>
            <p:nvPr/>
          </p:nvSpPr>
          <p:spPr>
            <a:xfrm>
              <a:off x="612720" y="3225960"/>
              <a:ext cx="3692520" cy="1117440"/>
            </a:xfrm>
            <a:custGeom>
              <a:avLst/>
              <a:gdLst/>
              <a:ahLst/>
              <a:rect l="l" t="t" r="r" b="b"/>
              <a:pathLst>
                <a:path w="3229" h="1044">
                  <a:moveTo>
                    <a:pt x="0" y="1044"/>
                  </a:moveTo>
                  <a:lnTo>
                    <a:pt x="0" y="1044"/>
                  </a:lnTo>
                  <a:lnTo>
                    <a:pt x="6" y="1044"/>
                  </a:lnTo>
                  <a:lnTo>
                    <a:pt x="12" y="1044"/>
                  </a:lnTo>
                  <a:lnTo>
                    <a:pt x="18" y="1044"/>
                  </a:lnTo>
                  <a:lnTo>
                    <a:pt x="24" y="1044"/>
                  </a:lnTo>
                  <a:lnTo>
                    <a:pt x="30" y="1044"/>
                  </a:lnTo>
                  <a:lnTo>
                    <a:pt x="36" y="1044"/>
                  </a:lnTo>
                  <a:lnTo>
                    <a:pt x="42" y="1044"/>
                  </a:lnTo>
                  <a:lnTo>
                    <a:pt x="48" y="1044"/>
                  </a:lnTo>
                  <a:lnTo>
                    <a:pt x="54" y="1044"/>
                  </a:lnTo>
                  <a:lnTo>
                    <a:pt x="60" y="1044"/>
                  </a:lnTo>
                  <a:lnTo>
                    <a:pt x="66" y="1044"/>
                  </a:lnTo>
                  <a:lnTo>
                    <a:pt x="72" y="1044"/>
                  </a:lnTo>
                  <a:lnTo>
                    <a:pt x="78" y="1044"/>
                  </a:lnTo>
                  <a:lnTo>
                    <a:pt x="84" y="1044"/>
                  </a:lnTo>
                  <a:lnTo>
                    <a:pt x="90" y="1044"/>
                  </a:lnTo>
                  <a:lnTo>
                    <a:pt x="96" y="1044"/>
                  </a:lnTo>
                  <a:lnTo>
                    <a:pt x="102" y="1044"/>
                  </a:lnTo>
                  <a:lnTo>
                    <a:pt x="108" y="1044"/>
                  </a:lnTo>
                  <a:lnTo>
                    <a:pt x="114" y="1044"/>
                  </a:lnTo>
                  <a:lnTo>
                    <a:pt x="120" y="1044"/>
                  </a:lnTo>
                  <a:lnTo>
                    <a:pt x="126" y="1044"/>
                  </a:lnTo>
                  <a:lnTo>
                    <a:pt x="132" y="1044"/>
                  </a:lnTo>
                  <a:lnTo>
                    <a:pt x="138" y="1044"/>
                  </a:lnTo>
                  <a:lnTo>
                    <a:pt x="144" y="1044"/>
                  </a:lnTo>
                  <a:lnTo>
                    <a:pt x="150" y="1044"/>
                  </a:lnTo>
                  <a:lnTo>
                    <a:pt x="156" y="1044"/>
                  </a:lnTo>
                  <a:lnTo>
                    <a:pt x="162" y="1044"/>
                  </a:lnTo>
                  <a:lnTo>
                    <a:pt x="168" y="1044"/>
                  </a:lnTo>
                  <a:lnTo>
                    <a:pt x="174" y="1044"/>
                  </a:lnTo>
                  <a:lnTo>
                    <a:pt x="180" y="1044"/>
                  </a:lnTo>
                  <a:lnTo>
                    <a:pt x="186" y="1044"/>
                  </a:lnTo>
                  <a:lnTo>
                    <a:pt x="192" y="1044"/>
                  </a:lnTo>
                  <a:lnTo>
                    <a:pt x="198" y="1044"/>
                  </a:lnTo>
                  <a:lnTo>
                    <a:pt x="204" y="1044"/>
                  </a:lnTo>
                  <a:lnTo>
                    <a:pt x="210" y="1044"/>
                  </a:lnTo>
                  <a:lnTo>
                    <a:pt x="216" y="1044"/>
                  </a:lnTo>
                  <a:lnTo>
                    <a:pt x="222" y="1044"/>
                  </a:lnTo>
                  <a:lnTo>
                    <a:pt x="228" y="1044"/>
                  </a:lnTo>
                  <a:lnTo>
                    <a:pt x="234" y="1044"/>
                  </a:lnTo>
                  <a:lnTo>
                    <a:pt x="240" y="1044"/>
                  </a:lnTo>
                  <a:lnTo>
                    <a:pt x="246" y="1044"/>
                  </a:lnTo>
                  <a:lnTo>
                    <a:pt x="252" y="1044"/>
                  </a:lnTo>
                  <a:lnTo>
                    <a:pt x="258" y="1044"/>
                  </a:lnTo>
                  <a:lnTo>
                    <a:pt x="264" y="1044"/>
                  </a:lnTo>
                  <a:lnTo>
                    <a:pt x="270" y="1044"/>
                  </a:lnTo>
                  <a:lnTo>
                    <a:pt x="276" y="1044"/>
                  </a:lnTo>
                  <a:lnTo>
                    <a:pt x="282" y="1038"/>
                  </a:lnTo>
                  <a:lnTo>
                    <a:pt x="288" y="1038"/>
                  </a:lnTo>
                  <a:lnTo>
                    <a:pt x="294" y="1038"/>
                  </a:lnTo>
                  <a:lnTo>
                    <a:pt x="300" y="1038"/>
                  </a:lnTo>
                  <a:lnTo>
                    <a:pt x="306" y="1038"/>
                  </a:lnTo>
                  <a:lnTo>
                    <a:pt x="312" y="1038"/>
                  </a:lnTo>
                  <a:lnTo>
                    <a:pt x="318" y="1038"/>
                  </a:lnTo>
                  <a:lnTo>
                    <a:pt x="324" y="1038"/>
                  </a:lnTo>
                  <a:lnTo>
                    <a:pt x="330" y="1038"/>
                  </a:lnTo>
                  <a:lnTo>
                    <a:pt x="336" y="1038"/>
                  </a:lnTo>
                  <a:lnTo>
                    <a:pt x="342" y="1038"/>
                  </a:lnTo>
                  <a:lnTo>
                    <a:pt x="348" y="1032"/>
                  </a:lnTo>
                  <a:lnTo>
                    <a:pt x="354" y="1032"/>
                  </a:lnTo>
                  <a:lnTo>
                    <a:pt x="360" y="1032"/>
                  </a:lnTo>
                  <a:lnTo>
                    <a:pt x="366" y="1032"/>
                  </a:lnTo>
                  <a:lnTo>
                    <a:pt x="372" y="1032"/>
                  </a:lnTo>
                  <a:lnTo>
                    <a:pt x="378" y="1026"/>
                  </a:lnTo>
                  <a:lnTo>
                    <a:pt x="384" y="1026"/>
                  </a:lnTo>
                  <a:lnTo>
                    <a:pt x="390" y="1026"/>
                  </a:lnTo>
                  <a:lnTo>
                    <a:pt x="396" y="1020"/>
                  </a:lnTo>
                  <a:lnTo>
                    <a:pt x="402" y="1020"/>
                  </a:lnTo>
                  <a:lnTo>
                    <a:pt x="408" y="1020"/>
                  </a:lnTo>
                  <a:lnTo>
                    <a:pt x="414" y="1014"/>
                  </a:lnTo>
                  <a:lnTo>
                    <a:pt x="420" y="1014"/>
                  </a:lnTo>
                  <a:lnTo>
                    <a:pt x="426" y="1014"/>
                  </a:lnTo>
                  <a:lnTo>
                    <a:pt x="432" y="1008"/>
                  </a:lnTo>
                  <a:lnTo>
                    <a:pt x="438" y="1002"/>
                  </a:lnTo>
                  <a:lnTo>
                    <a:pt x="444" y="1002"/>
                  </a:lnTo>
                  <a:lnTo>
                    <a:pt x="450" y="996"/>
                  </a:lnTo>
                  <a:lnTo>
                    <a:pt x="456" y="990"/>
                  </a:lnTo>
                  <a:lnTo>
                    <a:pt x="462" y="990"/>
                  </a:lnTo>
                  <a:lnTo>
                    <a:pt x="468" y="984"/>
                  </a:lnTo>
                  <a:lnTo>
                    <a:pt x="474" y="978"/>
                  </a:lnTo>
                  <a:lnTo>
                    <a:pt x="480" y="972"/>
                  </a:lnTo>
                  <a:lnTo>
                    <a:pt x="486" y="972"/>
                  </a:lnTo>
                  <a:lnTo>
                    <a:pt x="492" y="966"/>
                  </a:lnTo>
                  <a:lnTo>
                    <a:pt x="498" y="960"/>
                  </a:lnTo>
                  <a:lnTo>
                    <a:pt x="504" y="954"/>
                  </a:lnTo>
                  <a:lnTo>
                    <a:pt x="510" y="948"/>
                  </a:lnTo>
                  <a:lnTo>
                    <a:pt x="516" y="942"/>
                  </a:lnTo>
                  <a:lnTo>
                    <a:pt x="522" y="936"/>
                  </a:lnTo>
                  <a:lnTo>
                    <a:pt x="522" y="930"/>
                  </a:lnTo>
                  <a:lnTo>
                    <a:pt x="528" y="924"/>
                  </a:lnTo>
                  <a:lnTo>
                    <a:pt x="534" y="918"/>
                  </a:lnTo>
                  <a:lnTo>
                    <a:pt x="534" y="912"/>
                  </a:lnTo>
                  <a:lnTo>
                    <a:pt x="540" y="906"/>
                  </a:lnTo>
                  <a:lnTo>
                    <a:pt x="540" y="900"/>
                  </a:lnTo>
                  <a:lnTo>
                    <a:pt x="546" y="894"/>
                  </a:lnTo>
                  <a:lnTo>
                    <a:pt x="546" y="888"/>
                  </a:lnTo>
                  <a:lnTo>
                    <a:pt x="552" y="882"/>
                  </a:lnTo>
                  <a:lnTo>
                    <a:pt x="558" y="876"/>
                  </a:lnTo>
                  <a:lnTo>
                    <a:pt x="564" y="870"/>
                  </a:lnTo>
                  <a:lnTo>
                    <a:pt x="564" y="864"/>
                  </a:lnTo>
                  <a:lnTo>
                    <a:pt x="570" y="858"/>
                  </a:lnTo>
                  <a:lnTo>
                    <a:pt x="570" y="852"/>
                  </a:lnTo>
                  <a:lnTo>
                    <a:pt x="576" y="840"/>
                  </a:lnTo>
                  <a:lnTo>
                    <a:pt x="576" y="834"/>
                  </a:lnTo>
                  <a:lnTo>
                    <a:pt x="582" y="828"/>
                  </a:lnTo>
                  <a:lnTo>
                    <a:pt x="582" y="822"/>
                  </a:lnTo>
                  <a:lnTo>
                    <a:pt x="588" y="816"/>
                  </a:lnTo>
                  <a:lnTo>
                    <a:pt x="588" y="810"/>
                  </a:lnTo>
                  <a:lnTo>
                    <a:pt x="594" y="804"/>
                  </a:lnTo>
                  <a:lnTo>
                    <a:pt x="600" y="792"/>
                  </a:lnTo>
                  <a:lnTo>
                    <a:pt x="600" y="786"/>
                  </a:lnTo>
                  <a:lnTo>
                    <a:pt x="606" y="780"/>
                  </a:lnTo>
                  <a:lnTo>
                    <a:pt x="606" y="768"/>
                  </a:lnTo>
                  <a:lnTo>
                    <a:pt x="612" y="762"/>
                  </a:lnTo>
                  <a:lnTo>
                    <a:pt x="612" y="756"/>
                  </a:lnTo>
                  <a:lnTo>
                    <a:pt x="618" y="744"/>
                  </a:lnTo>
                  <a:lnTo>
                    <a:pt x="618" y="738"/>
                  </a:lnTo>
                  <a:lnTo>
                    <a:pt x="624" y="732"/>
                  </a:lnTo>
                  <a:lnTo>
                    <a:pt x="624" y="720"/>
                  </a:lnTo>
                  <a:lnTo>
                    <a:pt x="630" y="714"/>
                  </a:lnTo>
                  <a:lnTo>
                    <a:pt x="630" y="702"/>
                  </a:lnTo>
                  <a:lnTo>
                    <a:pt x="636" y="696"/>
                  </a:lnTo>
                  <a:lnTo>
                    <a:pt x="642" y="684"/>
                  </a:lnTo>
                  <a:lnTo>
                    <a:pt x="642" y="672"/>
                  </a:lnTo>
                  <a:lnTo>
                    <a:pt x="648" y="666"/>
                  </a:lnTo>
                  <a:lnTo>
                    <a:pt x="648" y="654"/>
                  </a:lnTo>
                  <a:lnTo>
                    <a:pt x="654" y="648"/>
                  </a:lnTo>
                  <a:lnTo>
                    <a:pt x="654" y="636"/>
                  </a:lnTo>
                  <a:lnTo>
                    <a:pt x="660" y="624"/>
                  </a:lnTo>
                  <a:lnTo>
                    <a:pt x="660" y="618"/>
                  </a:lnTo>
                  <a:lnTo>
                    <a:pt x="666" y="606"/>
                  </a:lnTo>
                  <a:lnTo>
                    <a:pt x="666" y="594"/>
                  </a:lnTo>
                  <a:lnTo>
                    <a:pt x="672" y="582"/>
                  </a:lnTo>
                  <a:lnTo>
                    <a:pt x="672" y="576"/>
                  </a:lnTo>
                  <a:lnTo>
                    <a:pt x="678" y="564"/>
                  </a:lnTo>
                  <a:lnTo>
                    <a:pt x="684" y="552"/>
                  </a:lnTo>
                  <a:lnTo>
                    <a:pt x="684" y="540"/>
                  </a:lnTo>
                  <a:lnTo>
                    <a:pt x="690" y="534"/>
                  </a:lnTo>
                  <a:lnTo>
                    <a:pt x="690" y="522"/>
                  </a:lnTo>
                  <a:lnTo>
                    <a:pt x="696" y="510"/>
                  </a:lnTo>
                  <a:lnTo>
                    <a:pt x="696" y="498"/>
                  </a:lnTo>
                  <a:lnTo>
                    <a:pt x="702" y="486"/>
                  </a:lnTo>
                  <a:lnTo>
                    <a:pt x="702" y="474"/>
                  </a:lnTo>
                  <a:lnTo>
                    <a:pt x="708" y="468"/>
                  </a:lnTo>
                  <a:lnTo>
                    <a:pt x="708" y="456"/>
                  </a:lnTo>
                  <a:lnTo>
                    <a:pt x="714" y="444"/>
                  </a:lnTo>
                  <a:lnTo>
                    <a:pt x="714" y="432"/>
                  </a:lnTo>
                  <a:lnTo>
                    <a:pt x="720" y="420"/>
                  </a:lnTo>
                  <a:lnTo>
                    <a:pt x="726" y="408"/>
                  </a:lnTo>
                  <a:lnTo>
                    <a:pt x="726" y="396"/>
                  </a:lnTo>
                  <a:lnTo>
                    <a:pt x="732" y="384"/>
                  </a:lnTo>
                  <a:lnTo>
                    <a:pt x="732" y="372"/>
                  </a:lnTo>
                  <a:lnTo>
                    <a:pt x="738" y="366"/>
                  </a:lnTo>
                  <a:lnTo>
                    <a:pt x="738" y="354"/>
                  </a:lnTo>
                  <a:lnTo>
                    <a:pt x="744" y="342"/>
                  </a:lnTo>
                  <a:lnTo>
                    <a:pt x="744" y="330"/>
                  </a:lnTo>
                  <a:lnTo>
                    <a:pt x="750" y="318"/>
                  </a:lnTo>
                  <a:lnTo>
                    <a:pt x="750" y="306"/>
                  </a:lnTo>
                  <a:lnTo>
                    <a:pt x="756" y="300"/>
                  </a:lnTo>
                  <a:lnTo>
                    <a:pt x="756" y="288"/>
                  </a:lnTo>
                  <a:lnTo>
                    <a:pt x="762" y="276"/>
                  </a:lnTo>
                  <a:lnTo>
                    <a:pt x="768" y="264"/>
                  </a:lnTo>
                  <a:lnTo>
                    <a:pt x="768" y="252"/>
                  </a:lnTo>
                  <a:lnTo>
                    <a:pt x="774" y="246"/>
                  </a:lnTo>
                  <a:lnTo>
                    <a:pt x="774" y="234"/>
                  </a:lnTo>
                  <a:lnTo>
                    <a:pt x="780" y="222"/>
                  </a:lnTo>
                  <a:lnTo>
                    <a:pt x="780" y="216"/>
                  </a:lnTo>
                  <a:lnTo>
                    <a:pt x="786" y="204"/>
                  </a:lnTo>
                  <a:lnTo>
                    <a:pt x="786" y="192"/>
                  </a:lnTo>
                  <a:lnTo>
                    <a:pt x="792" y="186"/>
                  </a:lnTo>
                  <a:lnTo>
                    <a:pt x="792" y="174"/>
                  </a:lnTo>
                  <a:lnTo>
                    <a:pt x="798" y="162"/>
                  </a:lnTo>
                  <a:lnTo>
                    <a:pt x="798" y="156"/>
                  </a:lnTo>
                  <a:lnTo>
                    <a:pt x="804" y="144"/>
                  </a:lnTo>
                  <a:lnTo>
                    <a:pt x="810" y="138"/>
                  </a:lnTo>
                  <a:lnTo>
                    <a:pt x="810" y="132"/>
                  </a:lnTo>
                  <a:lnTo>
                    <a:pt x="816" y="120"/>
                  </a:lnTo>
                  <a:lnTo>
                    <a:pt x="816" y="114"/>
                  </a:lnTo>
                  <a:lnTo>
                    <a:pt x="822" y="108"/>
                  </a:lnTo>
                  <a:lnTo>
                    <a:pt x="822" y="96"/>
                  </a:lnTo>
                  <a:lnTo>
                    <a:pt x="828" y="90"/>
                  </a:lnTo>
                  <a:lnTo>
                    <a:pt x="828" y="84"/>
                  </a:lnTo>
                  <a:lnTo>
                    <a:pt x="834" y="78"/>
                  </a:lnTo>
                  <a:lnTo>
                    <a:pt x="834" y="72"/>
                  </a:lnTo>
                  <a:lnTo>
                    <a:pt x="840" y="60"/>
                  </a:lnTo>
                  <a:lnTo>
                    <a:pt x="840" y="54"/>
                  </a:lnTo>
                  <a:lnTo>
                    <a:pt x="846" y="48"/>
                  </a:lnTo>
                  <a:lnTo>
                    <a:pt x="852" y="42"/>
                  </a:lnTo>
                  <a:lnTo>
                    <a:pt x="858" y="36"/>
                  </a:lnTo>
                  <a:lnTo>
                    <a:pt x="858" y="30"/>
                  </a:lnTo>
                  <a:lnTo>
                    <a:pt x="864" y="24"/>
                  </a:lnTo>
                  <a:lnTo>
                    <a:pt x="870" y="18"/>
                  </a:lnTo>
                  <a:lnTo>
                    <a:pt x="876" y="12"/>
                  </a:lnTo>
                  <a:lnTo>
                    <a:pt x="882" y="6"/>
                  </a:lnTo>
                  <a:lnTo>
                    <a:pt x="888" y="0"/>
                  </a:lnTo>
                  <a:lnTo>
                    <a:pt x="894" y="0"/>
                  </a:lnTo>
                  <a:lnTo>
                    <a:pt x="900" y="0"/>
                  </a:lnTo>
                  <a:lnTo>
                    <a:pt x="906" y="0"/>
                  </a:lnTo>
                  <a:lnTo>
                    <a:pt x="912" y="0"/>
                  </a:lnTo>
                  <a:lnTo>
                    <a:pt x="918" y="0"/>
                  </a:lnTo>
                  <a:lnTo>
                    <a:pt x="924" y="6"/>
                  </a:lnTo>
                  <a:lnTo>
                    <a:pt x="930" y="12"/>
                  </a:lnTo>
                  <a:lnTo>
                    <a:pt x="936" y="12"/>
                  </a:lnTo>
                  <a:lnTo>
                    <a:pt x="942" y="18"/>
                  </a:lnTo>
                  <a:lnTo>
                    <a:pt x="948" y="24"/>
                  </a:lnTo>
                  <a:lnTo>
                    <a:pt x="954" y="30"/>
                  </a:lnTo>
                  <a:lnTo>
                    <a:pt x="954" y="36"/>
                  </a:lnTo>
                  <a:lnTo>
                    <a:pt x="960" y="42"/>
                  </a:lnTo>
                  <a:lnTo>
                    <a:pt x="960" y="48"/>
                  </a:lnTo>
                  <a:lnTo>
                    <a:pt x="966" y="54"/>
                  </a:lnTo>
                  <a:lnTo>
                    <a:pt x="966" y="60"/>
                  </a:lnTo>
                  <a:lnTo>
                    <a:pt x="972" y="66"/>
                  </a:lnTo>
                  <a:lnTo>
                    <a:pt x="972" y="72"/>
                  </a:lnTo>
                  <a:lnTo>
                    <a:pt x="978" y="78"/>
                  </a:lnTo>
                  <a:lnTo>
                    <a:pt x="984" y="84"/>
                  </a:lnTo>
                  <a:lnTo>
                    <a:pt x="984" y="96"/>
                  </a:lnTo>
                  <a:lnTo>
                    <a:pt x="990" y="102"/>
                  </a:lnTo>
                  <a:lnTo>
                    <a:pt x="990" y="108"/>
                  </a:lnTo>
                  <a:lnTo>
                    <a:pt x="996" y="114"/>
                  </a:lnTo>
                  <a:lnTo>
                    <a:pt x="996" y="126"/>
                  </a:lnTo>
                  <a:lnTo>
                    <a:pt x="1002" y="132"/>
                  </a:lnTo>
                  <a:lnTo>
                    <a:pt x="1002" y="144"/>
                  </a:lnTo>
                  <a:lnTo>
                    <a:pt x="1008" y="150"/>
                  </a:lnTo>
                  <a:lnTo>
                    <a:pt x="1008" y="162"/>
                  </a:lnTo>
                  <a:lnTo>
                    <a:pt x="1014" y="168"/>
                  </a:lnTo>
                  <a:lnTo>
                    <a:pt x="1014" y="180"/>
                  </a:lnTo>
                  <a:lnTo>
                    <a:pt x="1020" y="186"/>
                  </a:lnTo>
                  <a:lnTo>
                    <a:pt x="1026" y="198"/>
                  </a:lnTo>
                  <a:lnTo>
                    <a:pt x="1026" y="210"/>
                  </a:lnTo>
                  <a:lnTo>
                    <a:pt x="1032" y="216"/>
                  </a:lnTo>
                  <a:lnTo>
                    <a:pt x="1032" y="228"/>
                  </a:lnTo>
                  <a:lnTo>
                    <a:pt x="1038" y="240"/>
                  </a:lnTo>
                  <a:lnTo>
                    <a:pt x="1038" y="246"/>
                  </a:lnTo>
                  <a:lnTo>
                    <a:pt x="1044" y="258"/>
                  </a:lnTo>
                  <a:lnTo>
                    <a:pt x="1044" y="270"/>
                  </a:lnTo>
                  <a:lnTo>
                    <a:pt x="1050" y="282"/>
                  </a:lnTo>
                  <a:lnTo>
                    <a:pt x="1050" y="294"/>
                  </a:lnTo>
                  <a:lnTo>
                    <a:pt x="1056" y="300"/>
                  </a:lnTo>
                  <a:lnTo>
                    <a:pt x="1056" y="312"/>
                  </a:lnTo>
                  <a:lnTo>
                    <a:pt x="1062" y="324"/>
                  </a:lnTo>
                  <a:lnTo>
                    <a:pt x="1068" y="336"/>
                  </a:lnTo>
                  <a:lnTo>
                    <a:pt x="1068" y="348"/>
                  </a:lnTo>
                  <a:lnTo>
                    <a:pt x="1074" y="360"/>
                  </a:lnTo>
                  <a:lnTo>
                    <a:pt x="1074" y="366"/>
                  </a:lnTo>
                  <a:lnTo>
                    <a:pt x="1080" y="378"/>
                  </a:lnTo>
                  <a:lnTo>
                    <a:pt x="1080" y="390"/>
                  </a:lnTo>
                  <a:lnTo>
                    <a:pt x="1086" y="402"/>
                  </a:lnTo>
                  <a:lnTo>
                    <a:pt x="1086" y="414"/>
                  </a:lnTo>
                  <a:lnTo>
                    <a:pt x="1092" y="426"/>
                  </a:lnTo>
                  <a:lnTo>
                    <a:pt x="1092" y="438"/>
                  </a:lnTo>
                  <a:lnTo>
                    <a:pt x="1098" y="450"/>
                  </a:lnTo>
                  <a:lnTo>
                    <a:pt x="1098" y="456"/>
                  </a:lnTo>
                  <a:lnTo>
                    <a:pt x="1104" y="468"/>
                  </a:lnTo>
                  <a:lnTo>
                    <a:pt x="1110" y="480"/>
                  </a:lnTo>
                  <a:lnTo>
                    <a:pt x="1110" y="492"/>
                  </a:lnTo>
                  <a:lnTo>
                    <a:pt x="1116" y="504"/>
                  </a:lnTo>
                  <a:lnTo>
                    <a:pt x="1116" y="516"/>
                  </a:lnTo>
                  <a:lnTo>
                    <a:pt x="1122" y="528"/>
                  </a:lnTo>
                  <a:lnTo>
                    <a:pt x="1122" y="534"/>
                  </a:lnTo>
                  <a:lnTo>
                    <a:pt x="1128" y="546"/>
                  </a:lnTo>
                  <a:lnTo>
                    <a:pt x="1128" y="558"/>
                  </a:lnTo>
                  <a:lnTo>
                    <a:pt x="1134" y="570"/>
                  </a:lnTo>
                  <a:lnTo>
                    <a:pt x="1134" y="576"/>
                  </a:lnTo>
                  <a:lnTo>
                    <a:pt x="1140" y="588"/>
                  </a:lnTo>
                  <a:lnTo>
                    <a:pt x="1140" y="600"/>
                  </a:lnTo>
                  <a:lnTo>
                    <a:pt x="1146" y="612"/>
                  </a:lnTo>
                  <a:lnTo>
                    <a:pt x="1152" y="618"/>
                  </a:lnTo>
                  <a:lnTo>
                    <a:pt x="1152" y="630"/>
                  </a:lnTo>
                  <a:lnTo>
                    <a:pt x="1158" y="642"/>
                  </a:lnTo>
                  <a:lnTo>
                    <a:pt x="1158" y="648"/>
                  </a:lnTo>
                  <a:lnTo>
                    <a:pt x="1164" y="660"/>
                  </a:lnTo>
                  <a:lnTo>
                    <a:pt x="1164" y="672"/>
                  </a:lnTo>
                  <a:lnTo>
                    <a:pt x="1170" y="678"/>
                  </a:lnTo>
                  <a:lnTo>
                    <a:pt x="1170" y="690"/>
                  </a:lnTo>
                  <a:lnTo>
                    <a:pt x="1176" y="696"/>
                  </a:lnTo>
                  <a:lnTo>
                    <a:pt x="1176" y="708"/>
                  </a:lnTo>
                  <a:lnTo>
                    <a:pt x="1182" y="714"/>
                  </a:lnTo>
                  <a:lnTo>
                    <a:pt x="1182" y="726"/>
                  </a:lnTo>
                  <a:lnTo>
                    <a:pt x="1188" y="732"/>
                  </a:lnTo>
                  <a:lnTo>
                    <a:pt x="1194" y="744"/>
                  </a:lnTo>
                  <a:lnTo>
                    <a:pt x="1194" y="750"/>
                  </a:lnTo>
                  <a:lnTo>
                    <a:pt x="1200" y="756"/>
                  </a:lnTo>
                  <a:lnTo>
                    <a:pt x="1200" y="768"/>
                  </a:lnTo>
                  <a:lnTo>
                    <a:pt x="1206" y="774"/>
                  </a:lnTo>
                  <a:lnTo>
                    <a:pt x="1206" y="780"/>
                  </a:lnTo>
                  <a:lnTo>
                    <a:pt x="1212" y="792"/>
                  </a:lnTo>
                  <a:lnTo>
                    <a:pt x="1212" y="798"/>
                  </a:lnTo>
                  <a:lnTo>
                    <a:pt x="1218" y="804"/>
                  </a:lnTo>
                  <a:lnTo>
                    <a:pt x="1218" y="810"/>
                  </a:lnTo>
                  <a:lnTo>
                    <a:pt x="1224" y="816"/>
                  </a:lnTo>
                  <a:lnTo>
                    <a:pt x="1224" y="828"/>
                  </a:lnTo>
                  <a:lnTo>
                    <a:pt x="1230" y="834"/>
                  </a:lnTo>
                  <a:lnTo>
                    <a:pt x="1236" y="840"/>
                  </a:lnTo>
                  <a:lnTo>
                    <a:pt x="1236" y="846"/>
                  </a:lnTo>
                  <a:lnTo>
                    <a:pt x="1242" y="852"/>
                  </a:lnTo>
                  <a:lnTo>
                    <a:pt x="1242" y="858"/>
                  </a:lnTo>
                  <a:lnTo>
                    <a:pt x="1248" y="864"/>
                  </a:lnTo>
                  <a:lnTo>
                    <a:pt x="1248" y="870"/>
                  </a:lnTo>
                  <a:lnTo>
                    <a:pt x="1254" y="876"/>
                  </a:lnTo>
                  <a:lnTo>
                    <a:pt x="1254" y="882"/>
                  </a:lnTo>
                  <a:lnTo>
                    <a:pt x="1260" y="888"/>
                  </a:lnTo>
                  <a:lnTo>
                    <a:pt x="1260" y="894"/>
                  </a:lnTo>
                  <a:lnTo>
                    <a:pt x="1266" y="900"/>
                  </a:lnTo>
                  <a:lnTo>
                    <a:pt x="1272" y="906"/>
                  </a:lnTo>
                  <a:lnTo>
                    <a:pt x="1278" y="912"/>
                  </a:lnTo>
                  <a:lnTo>
                    <a:pt x="1278" y="918"/>
                  </a:lnTo>
                  <a:lnTo>
                    <a:pt x="1284" y="924"/>
                  </a:lnTo>
                  <a:lnTo>
                    <a:pt x="1290" y="930"/>
                  </a:lnTo>
                  <a:lnTo>
                    <a:pt x="1296" y="936"/>
                  </a:lnTo>
                  <a:lnTo>
                    <a:pt x="1296" y="942"/>
                  </a:lnTo>
                  <a:lnTo>
                    <a:pt x="1302" y="948"/>
                  </a:lnTo>
                  <a:lnTo>
                    <a:pt x="1308" y="954"/>
                  </a:lnTo>
                  <a:lnTo>
                    <a:pt x="1314" y="960"/>
                  </a:lnTo>
                  <a:lnTo>
                    <a:pt x="1320" y="966"/>
                  </a:lnTo>
                  <a:lnTo>
                    <a:pt x="1326" y="972"/>
                  </a:lnTo>
                  <a:lnTo>
                    <a:pt x="1332" y="978"/>
                  </a:lnTo>
                  <a:lnTo>
                    <a:pt x="1338" y="984"/>
                  </a:lnTo>
                  <a:lnTo>
                    <a:pt x="1344" y="990"/>
                  </a:lnTo>
                  <a:lnTo>
                    <a:pt x="1350" y="996"/>
                  </a:lnTo>
                  <a:lnTo>
                    <a:pt x="1356" y="996"/>
                  </a:lnTo>
                  <a:lnTo>
                    <a:pt x="1362" y="1002"/>
                  </a:lnTo>
                  <a:lnTo>
                    <a:pt x="1368" y="1002"/>
                  </a:lnTo>
                  <a:lnTo>
                    <a:pt x="1374" y="1008"/>
                  </a:lnTo>
                  <a:lnTo>
                    <a:pt x="1380" y="1008"/>
                  </a:lnTo>
                  <a:lnTo>
                    <a:pt x="1386" y="1014"/>
                  </a:lnTo>
                  <a:lnTo>
                    <a:pt x="1392" y="1014"/>
                  </a:lnTo>
                  <a:lnTo>
                    <a:pt x="1398" y="1020"/>
                  </a:lnTo>
                  <a:lnTo>
                    <a:pt x="1404" y="1020"/>
                  </a:lnTo>
                  <a:lnTo>
                    <a:pt x="1410" y="1020"/>
                  </a:lnTo>
                  <a:lnTo>
                    <a:pt x="1417" y="1026"/>
                  </a:lnTo>
                  <a:lnTo>
                    <a:pt x="1423" y="1026"/>
                  </a:lnTo>
                  <a:lnTo>
                    <a:pt x="1429" y="1026"/>
                  </a:lnTo>
                  <a:lnTo>
                    <a:pt x="1435" y="1032"/>
                  </a:lnTo>
                  <a:lnTo>
                    <a:pt x="1441" y="1032"/>
                  </a:lnTo>
                  <a:lnTo>
                    <a:pt x="1447" y="1032"/>
                  </a:lnTo>
                  <a:lnTo>
                    <a:pt x="1453" y="1032"/>
                  </a:lnTo>
                  <a:lnTo>
                    <a:pt x="1459" y="1032"/>
                  </a:lnTo>
                  <a:lnTo>
                    <a:pt x="1465" y="1038"/>
                  </a:lnTo>
                  <a:lnTo>
                    <a:pt x="1471" y="1038"/>
                  </a:lnTo>
                  <a:lnTo>
                    <a:pt x="1477" y="1038"/>
                  </a:lnTo>
                  <a:lnTo>
                    <a:pt x="1483" y="1038"/>
                  </a:lnTo>
                  <a:lnTo>
                    <a:pt x="1489" y="1038"/>
                  </a:lnTo>
                  <a:lnTo>
                    <a:pt x="1495" y="1038"/>
                  </a:lnTo>
                  <a:lnTo>
                    <a:pt x="1501" y="1038"/>
                  </a:lnTo>
                  <a:lnTo>
                    <a:pt x="1507" y="1038"/>
                  </a:lnTo>
                  <a:lnTo>
                    <a:pt x="1513" y="1038"/>
                  </a:lnTo>
                  <a:lnTo>
                    <a:pt x="1519" y="1038"/>
                  </a:lnTo>
                  <a:lnTo>
                    <a:pt x="1525" y="1044"/>
                  </a:lnTo>
                  <a:lnTo>
                    <a:pt x="1531" y="1044"/>
                  </a:lnTo>
                  <a:lnTo>
                    <a:pt x="1537" y="1044"/>
                  </a:lnTo>
                  <a:lnTo>
                    <a:pt x="1543" y="1044"/>
                  </a:lnTo>
                  <a:lnTo>
                    <a:pt x="1549" y="1044"/>
                  </a:lnTo>
                  <a:lnTo>
                    <a:pt x="1555" y="1044"/>
                  </a:lnTo>
                  <a:lnTo>
                    <a:pt x="1561" y="1044"/>
                  </a:lnTo>
                  <a:lnTo>
                    <a:pt x="1567" y="1044"/>
                  </a:lnTo>
                  <a:lnTo>
                    <a:pt x="1573" y="1044"/>
                  </a:lnTo>
                  <a:lnTo>
                    <a:pt x="1579" y="1044"/>
                  </a:lnTo>
                  <a:lnTo>
                    <a:pt x="1585" y="1044"/>
                  </a:lnTo>
                  <a:lnTo>
                    <a:pt x="1591" y="1044"/>
                  </a:lnTo>
                  <a:lnTo>
                    <a:pt x="1597" y="1044"/>
                  </a:lnTo>
                  <a:lnTo>
                    <a:pt x="1603" y="1044"/>
                  </a:lnTo>
                  <a:lnTo>
                    <a:pt x="1609" y="1044"/>
                  </a:lnTo>
                  <a:lnTo>
                    <a:pt x="1615" y="1044"/>
                  </a:lnTo>
                  <a:lnTo>
                    <a:pt x="1621" y="1044"/>
                  </a:lnTo>
                  <a:lnTo>
                    <a:pt x="1627" y="1044"/>
                  </a:lnTo>
                  <a:lnTo>
                    <a:pt x="1633" y="1044"/>
                  </a:lnTo>
                  <a:lnTo>
                    <a:pt x="1639" y="1044"/>
                  </a:lnTo>
                  <a:lnTo>
                    <a:pt x="1645" y="1044"/>
                  </a:lnTo>
                  <a:lnTo>
                    <a:pt x="1651" y="1044"/>
                  </a:lnTo>
                  <a:lnTo>
                    <a:pt x="1657" y="1044"/>
                  </a:lnTo>
                  <a:lnTo>
                    <a:pt x="1663" y="1044"/>
                  </a:lnTo>
                  <a:lnTo>
                    <a:pt x="1669" y="1044"/>
                  </a:lnTo>
                  <a:lnTo>
                    <a:pt x="1675" y="1044"/>
                  </a:lnTo>
                  <a:lnTo>
                    <a:pt x="1681" y="1044"/>
                  </a:lnTo>
                  <a:lnTo>
                    <a:pt x="1687" y="1044"/>
                  </a:lnTo>
                  <a:lnTo>
                    <a:pt x="1693" y="1044"/>
                  </a:lnTo>
                  <a:lnTo>
                    <a:pt x="1699" y="1044"/>
                  </a:lnTo>
                  <a:lnTo>
                    <a:pt x="1705" y="1044"/>
                  </a:lnTo>
                  <a:lnTo>
                    <a:pt x="1711" y="1044"/>
                  </a:lnTo>
                  <a:lnTo>
                    <a:pt x="1717" y="1044"/>
                  </a:lnTo>
                  <a:lnTo>
                    <a:pt x="1723" y="1044"/>
                  </a:lnTo>
                  <a:lnTo>
                    <a:pt x="1729" y="1044"/>
                  </a:lnTo>
                  <a:lnTo>
                    <a:pt x="1735" y="1044"/>
                  </a:lnTo>
                  <a:lnTo>
                    <a:pt x="1741" y="1044"/>
                  </a:lnTo>
                  <a:lnTo>
                    <a:pt x="1747" y="1044"/>
                  </a:lnTo>
                  <a:lnTo>
                    <a:pt x="1753" y="1044"/>
                  </a:lnTo>
                  <a:lnTo>
                    <a:pt x="1759" y="1044"/>
                  </a:lnTo>
                  <a:lnTo>
                    <a:pt x="1765" y="1044"/>
                  </a:lnTo>
                  <a:lnTo>
                    <a:pt x="1771" y="1044"/>
                  </a:lnTo>
                  <a:lnTo>
                    <a:pt x="1777" y="1044"/>
                  </a:lnTo>
                  <a:lnTo>
                    <a:pt x="1783" y="1044"/>
                  </a:lnTo>
                  <a:lnTo>
                    <a:pt x="1789" y="1044"/>
                  </a:lnTo>
                  <a:lnTo>
                    <a:pt x="1795" y="1044"/>
                  </a:lnTo>
                  <a:lnTo>
                    <a:pt x="1801" y="1044"/>
                  </a:lnTo>
                  <a:lnTo>
                    <a:pt x="1807" y="1044"/>
                  </a:lnTo>
                  <a:lnTo>
                    <a:pt x="1813" y="1044"/>
                  </a:lnTo>
                  <a:lnTo>
                    <a:pt x="1819" y="1044"/>
                  </a:lnTo>
                  <a:lnTo>
                    <a:pt x="1825" y="1044"/>
                  </a:lnTo>
                  <a:lnTo>
                    <a:pt x="1831" y="1044"/>
                  </a:lnTo>
                  <a:lnTo>
                    <a:pt x="1837" y="1044"/>
                  </a:lnTo>
                  <a:lnTo>
                    <a:pt x="1843" y="1044"/>
                  </a:lnTo>
                  <a:lnTo>
                    <a:pt x="1849" y="1044"/>
                  </a:lnTo>
                  <a:lnTo>
                    <a:pt x="1855" y="1044"/>
                  </a:lnTo>
                  <a:lnTo>
                    <a:pt x="1861" y="1044"/>
                  </a:lnTo>
                  <a:lnTo>
                    <a:pt x="1867" y="1044"/>
                  </a:lnTo>
                  <a:lnTo>
                    <a:pt x="1873" y="1044"/>
                  </a:lnTo>
                  <a:lnTo>
                    <a:pt x="1879" y="1044"/>
                  </a:lnTo>
                  <a:lnTo>
                    <a:pt x="1885" y="1044"/>
                  </a:lnTo>
                  <a:lnTo>
                    <a:pt x="1891" y="1044"/>
                  </a:lnTo>
                  <a:lnTo>
                    <a:pt x="1897" y="1044"/>
                  </a:lnTo>
                  <a:lnTo>
                    <a:pt x="1903" y="1044"/>
                  </a:lnTo>
                  <a:lnTo>
                    <a:pt x="1909" y="1044"/>
                  </a:lnTo>
                  <a:lnTo>
                    <a:pt x="1915" y="1044"/>
                  </a:lnTo>
                  <a:lnTo>
                    <a:pt x="1921" y="1044"/>
                  </a:lnTo>
                  <a:lnTo>
                    <a:pt x="1927" y="1044"/>
                  </a:lnTo>
                  <a:lnTo>
                    <a:pt x="1933" y="1044"/>
                  </a:lnTo>
                  <a:lnTo>
                    <a:pt x="1939" y="1044"/>
                  </a:lnTo>
                  <a:lnTo>
                    <a:pt x="1945" y="1044"/>
                  </a:lnTo>
                  <a:lnTo>
                    <a:pt x="1951" y="1044"/>
                  </a:lnTo>
                  <a:lnTo>
                    <a:pt x="1957" y="1044"/>
                  </a:lnTo>
                  <a:lnTo>
                    <a:pt x="1963" y="1044"/>
                  </a:lnTo>
                  <a:lnTo>
                    <a:pt x="1969" y="1044"/>
                  </a:lnTo>
                  <a:lnTo>
                    <a:pt x="1975" y="1044"/>
                  </a:lnTo>
                  <a:lnTo>
                    <a:pt x="1981" y="1044"/>
                  </a:lnTo>
                  <a:lnTo>
                    <a:pt x="1987" y="1044"/>
                  </a:lnTo>
                  <a:lnTo>
                    <a:pt x="1993" y="1044"/>
                  </a:lnTo>
                  <a:lnTo>
                    <a:pt x="1999" y="1044"/>
                  </a:lnTo>
                  <a:lnTo>
                    <a:pt x="2005" y="1044"/>
                  </a:lnTo>
                  <a:lnTo>
                    <a:pt x="2011" y="1044"/>
                  </a:lnTo>
                  <a:lnTo>
                    <a:pt x="2017" y="1044"/>
                  </a:lnTo>
                  <a:lnTo>
                    <a:pt x="2023" y="1044"/>
                  </a:lnTo>
                  <a:lnTo>
                    <a:pt x="2029" y="1044"/>
                  </a:lnTo>
                  <a:lnTo>
                    <a:pt x="2035" y="1044"/>
                  </a:lnTo>
                  <a:lnTo>
                    <a:pt x="2041" y="1044"/>
                  </a:lnTo>
                  <a:lnTo>
                    <a:pt x="2047" y="1044"/>
                  </a:lnTo>
                  <a:lnTo>
                    <a:pt x="2053" y="1044"/>
                  </a:lnTo>
                  <a:lnTo>
                    <a:pt x="2059" y="1044"/>
                  </a:lnTo>
                  <a:lnTo>
                    <a:pt x="2065" y="1044"/>
                  </a:lnTo>
                  <a:lnTo>
                    <a:pt x="2071" y="1044"/>
                  </a:lnTo>
                  <a:lnTo>
                    <a:pt x="2077" y="1044"/>
                  </a:lnTo>
                  <a:lnTo>
                    <a:pt x="2083" y="1044"/>
                  </a:lnTo>
                  <a:lnTo>
                    <a:pt x="2089" y="1044"/>
                  </a:lnTo>
                  <a:lnTo>
                    <a:pt x="2095" y="1044"/>
                  </a:lnTo>
                  <a:lnTo>
                    <a:pt x="2101" y="1044"/>
                  </a:lnTo>
                  <a:lnTo>
                    <a:pt x="2107" y="1044"/>
                  </a:lnTo>
                  <a:lnTo>
                    <a:pt x="2113" y="1044"/>
                  </a:lnTo>
                  <a:lnTo>
                    <a:pt x="2119" y="1044"/>
                  </a:lnTo>
                  <a:lnTo>
                    <a:pt x="2125" y="1044"/>
                  </a:lnTo>
                  <a:lnTo>
                    <a:pt x="2131" y="1044"/>
                  </a:lnTo>
                  <a:lnTo>
                    <a:pt x="2137" y="1044"/>
                  </a:lnTo>
                  <a:lnTo>
                    <a:pt x="2143" y="1044"/>
                  </a:lnTo>
                  <a:lnTo>
                    <a:pt x="2149" y="1044"/>
                  </a:lnTo>
                  <a:lnTo>
                    <a:pt x="2155" y="1044"/>
                  </a:lnTo>
                  <a:lnTo>
                    <a:pt x="2161" y="1044"/>
                  </a:lnTo>
                  <a:lnTo>
                    <a:pt x="2167" y="1044"/>
                  </a:lnTo>
                  <a:lnTo>
                    <a:pt x="2173" y="1044"/>
                  </a:lnTo>
                  <a:lnTo>
                    <a:pt x="2179" y="1044"/>
                  </a:lnTo>
                  <a:lnTo>
                    <a:pt x="2185" y="1044"/>
                  </a:lnTo>
                  <a:lnTo>
                    <a:pt x="2191" y="1044"/>
                  </a:lnTo>
                  <a:lnTo>
                    <a:pt x="2197" y="1044"/>
                  </a:lnTo>
                  <a:lnTo>
                    <a:pt x="2203" y="1044"/>
                  </a:lnTo>
                  <a:lnTo>
                    <a:pt x="2209" y="1044"/>
                  </a:lnTo>
                  <a:lnTo>
                    <a:pt x="2215" y="1044"/>
                  </a:lnTo>
                  <a:lnTo>
                    <a:pt x="2221" y="1044"/>
                  </a:lnTo>
                  <a:lnTo>
                    <a:pt x="2227" y="1044"/>
                  </a:lnTo>
                  <a:lnTo>
                    <a:pt x="2233" y="1044"/>
                  </a:lnTo>
                  <a:lnTo>
                    <a:pt x="2239" y="1044"/>
                  </a:lnTo>
                  <a:lnTo>
                    <a:pt x="2245" y="1044"/>
                  </a:lnTo>
                  <a:lnTo>
                    <a:pt x="2251" y="1044"/>
                  </a:lnTo>
                  <a:lnTo>
                    <a:pt x="2257" y="1044"/>
                  </a:lnTo>
                  <a:lnTo>
                    <a:pt x="2263" y="1044"/>
                  </a:lnTo>
                  <a:lnTo>
                    <a:pt x="2269" y="1044"/>
                  </a:lnTo>
                  <a:lnTo>
                    <a:pt x="2275" y="1044"/>
                  </a:lnTo>
                  <a:lnTo>
                    <a:pt x="2281" y="1044"/>
                  </a:lnTo>
                  <a:lnTo>
                    <a:pt x="2287" y="1044"/>
                  </a:lnTo>
                  <a:lnTo>
                    <a:pt x="2293" y="1044"/>
                  </a:lnTo>
                  <a:lnTo>
                    <a:pt x="2299" y="1044"/>
                  </a:lnTo>
                  <a:lnTo>
                    <a:pt x="2305" y="1044"/>
                  </a:lnTo>
                  <a:lnTo>
                    <a:pt x="2311" y="1044"/>
                  </a:lnTo>
                  <a:lnTo>
                    <a:pt x="2317" y="1044"/>
                  </a:lnTo>
                  <a:lnTo>
                    <a:pt x="2323" y="1044"/>
                  </a:lnTo>
                  <a:lnTo>
                    <a:pt x="2329" y="1044"/>
                  </a:lnTo>
                  <a:lnTo>
                    <a:pt x="2335" y="1044"/>
                  </a:lnTo>
                  <a:lnTo>
                    <a:pt x="2341" y="1044"/>
                  </a:lnTo>
                  <a:lnTo>
                    <a:pt x="2347" y="1044"/>
                  </a:lnTo>
                  <a:lnTo>
                    <a:pt x="2353" y="1044"/>
                  </a:lnTo>
                  <a:lnTo>
                    <a:pt x="2359" y="1044"/>
                  </a:lnTo>
                  <a:lnTo>
                    <a:pt x="2365" y="1044"/>
                  </a:lnTo>
                  <a:lnTo>
                    <a:pt x="2371" y="1044"/>
                  </a:lnTo>
                  <a:lnTo>
                    <a:pt x="2377" y="1044"/>
                  </a:lnTo>
                  <a:lnTo>
                    <a:pt x="2383" y="1044"/>
                  </a:lnTo>
                  <a:lnTo>
                    <a:pt x="2389" y="1044"/>
                  </a:lnTo>
                  <a:lnTo>
                    <a:pt x="2395" y="1044"/>
                  </a:lnTo>
                  <a:lnTo>
                    <a:pt x="2401" y="1044"/>
                  </a:lnTo>
                  <a:lnTo>
                    <a:pt x="2407" y="1044"/>
                  </a:lnTo>
                  <a:lnTo>
                    <a:pt x="2413" y="1044"/>
                  </a:lnTo>
                  <a:lnTo>
                    <a:pt x="2419" y="1044"/>
                  </a:lnTo>
                  <a:lnTo>
                    <a:pt x="2425" y="1044"/>
                  </a:lnTo>
                  <a:lnTo>
                    <a:pt x="2431" y="1044"/>
                  </a:lnTo>
                  <a:lnTo>
                    <a:pt x="2437" y="1044"/>
                  </a:lnTo>
                  <a:lnTo>
                    <a:pt x="2443" y="1044"/>
                  </a:lnTo>
                  <a:lnTo>
                    <a:pt x="2449" y="1044"/>
                  </a:lnTo>
                  <a:lnTo>
                    <a:pt x="2455" y="1044"/>
                  </a:lnTo>
                  <a:lnTo>
                    <a:pt x="2461" y="1044"/>
                  </a:lnTo>
                  <a:lnTo>
                    <a:pt x="2467" y="1044"/>
                  </a:lnTo>
                  <a:lnTo>
                    <a:pt x="2473" y="1044"/>
                  </a:lnTo>
                  <a:lnTo>
                    <a:pt x="2479" y="1044"/>
                  </a:lnTo>
                  <a:lnTo>
                    <a:pt x="2485" y="1044"/>
                  </a:lnTo>
                  <a:lnTo>
                    <a:pt x="2491" y="1044"/>
                  </a:lnTo>
                  <a:lnTo>
                    <a:pt x="2497" y="1044"/>
                  </a:lnTo>
                  <a:lnTo>
                    <a:pt x="2503" y="1044"/>
                  </a:lnTo>
                  <a:lnTo>
                    <a:pt x="2509" y="1044"/>
                  </a:lnTo>
                  <a:lnTo>
                    <a:pt x="2515" y="1044"/>
                  </a:lnTo>
                  <a:lnTo>
                    <a:pt x="2521" y="1044"/>
                  </a:lnTo>
                  <a:lnTo>
                    <a:pt x="2527" y="1044"/>
                  </a:lnTo>
                  <a:lnTo>
                    <a:pt x="2533" y="1044"/>
                  </a:lnTo>
                  <a:lnTo>
                    <a:pt x="2539" y="1044"/>
                  </a:lnTo>
                  <a:lnTo>
                    <a:pt x="2545" y="1044"/>
                  </a:lnTo>
                  <a:lnTo>
                    <a:pt x="2551" y="1044"/>
                  </a:lnTo>
                  <a:lnTo>
                    <a:pt x="2557" y="1044"/>
                  </a:lnTo>
                  <a:lnTo>
                    <a:pt x="2563" y="1044"/>
                  </a:lnTo>
                  <a:lnTo>
                    <a:pt x="2569" y="1044"/>
                  </a:lnTo>
                  <a:lnTo>
                    <a:pt x="2575" y="1044"/>
                  </a:lnTo>
                  <a:lnTo>
                    <a:pt x="2581" y="1044"/>
                  </a:lnTo>
                  <a:lnTo>
                    <a:pt x="2587" y="1044"/>
                  </a:lnTo>
                  <a:lnTo>
                    <a:pt x="2593" y="1044"/>
                  </a:lnTo>
                  <a:lnTo>
                    <a:pt x="2599" y="1044"/>
                  </a:lnTo>
                  <a:lnTo>
                    <a:pt x="2605" y="1044"/>
                  </a:lnTo>
                  <a:lnTo>
                    <a:pt x="2611" y="1044"/>
                  </a:lnTo>
                  <a:lnTo>
                    <a:pt x="2617" y="1044"/>
                  </a:lnTo>
                  <a:lnTo>
                    <a:pt x="2623" y="1044"/>
                  </a:lnTo>
                  <a:lnTo>
                    <a:pt x="2629" y="1044"/>
                  </a:lnTo>
                  <a:lnTo>
                    <a:pt x="2635" y="1044"/>
                  </a:lnTo>
                  <a:lnTo>
                    <a:pt x="2641" y="1044"/>
                  </a:lnTo>
                  <a:lnTo>
                    <a:pt x="2647" y="1044"/>
                  </a:lnTo>
                  <a:lnTo>
                    <a:pt x="2653" y="1044"/>
                  </a:lnTo>
                  <a:lnTo>
                    <a:pt x="2659" y="1044"/>
                  </a:lnTo>
                  <a:lnTo>
                    <a:pt x="2665" y="1044"/>
                  </a:lnTo>
                  <a:lnTo>
                    <a:pt x="2671" y="1044"/>
                  </a:lnTo>
                  <a:lnTo>
                    <a:pt x="2677" y="1044"/>
                  </a:lnTo>
                  <a:lnTo>
                    <a:pt x="2683" y="1044"/>
                  </a:lnTo>
                  <a:lnTo>
                    <a:pt x="2689" y="1044"/>
                  </a:lnTo>
                  <a:lnTo>
                    <a:pt x="2695" y="1044"/>
                  </a:lnTo>
                  <a:lnTo>
                    <a:pt x="2701" y="1044"/>
                  </a:lnTo>
                  <a:lnTo>
                    <a:pt x="2707" y="1044"/>
                  </a:lnTo>
                  <a:lnTo>
                    <a:pt x="2713" y="1044"/>
                  </a:lnTo>
                  <a:lnTo>
                    <a:pt x="2719" y="1044"/>
                  </a:lnTo>
                  <a:lnTo>
                    <a:pt x="2725" y="1044"/>
                  </a:lnTo>
                  <a:lnTo>
                    <a:pt x="2731" y="1044"/>
                  </a:lnTo>
                  <a:lnTo>
                    <a:pt x="2737" y="1044"/>
                  </a:lnTo>
                  <a:lnTo>
                    <a:pt x="2743" y="1044"/>
                  </a:lnTo>
                  <a:lnTo>
                    <a:pt x="2749" y="1044"/>
                  </a:lnTo>
                  <a:lnTo>
                    <a:pt x="2755" y="1044"/>
                  </a:lnTo>
                  <a:lnTo>
                    <a:pt x="2761" y="1044"/>
                  </a:lnTo>
                  <a:lnTo>
                    <a:pt x="2767" y="1044"/>
                  </a:lnTo>
                  <a:lnTo>
                    <a:pt x="2773" y="1044"/>
                  </a:lnTo>
                  <a:lnTo>
                    <a:pt x="2779" y="1044"/>
                  </a:lnTo>
                  <a:lnTo>
                    <a:pt x="2785" y="1044"/>
                  </a:lnTo>
                  <a:lnTo>
                    <a:pt x="2791" y="1044"/>
                  </a:lnTo>
                  <a:lnTo>
                    <a:pt x="2797" y="1044"/>
                  </a:lnTo>
                  <a:lnTo>
                    <a:pt x="2803" y="1044"/>
                  </a:lnTo>
                  <a:lnTo>
                    <a:pt x="2809" y="1044"/>
                  </a:lnTo>
                  <a:lnTo>
                    <a:pt x="2815" y="1044"/>
                  </a:lnTo>
                  <a:lnTo>
                    <a:pt x="2821" y="1044"/>
                  </a:lnTo>
                  <a:lnTo>
                    <a:pt x="2827" y="1044"/>
                  </a:lnTo>
                  <a:lnTo>
                    <a:pt x="2833" y="1044"/>
                  </a:lnTo>
                  <a:lnTo>
                    <a:pt x="2839" y="1044"/>
                  </a:lnTo>
                  <a:lnTo>
                    <a:pt x="2845" y="1044"/>
                  </a:lnTo>
                  <a:lnTo>
                    <a:pt x="2851" y="1044"/>
                  </a:lnTo>
                  <a:lnTo>
                    <a:pt x="2857" y="1044"/>
                  </a:lnTo>
                  <a:lnTo>
                    <a:pt x="2863" y="1044"/>
                  </a:lnTo>
                  <a:lnTo>
                    <a:pt x="2869" y="1044"/>
                  </a:lnTo>
                  <a:lnTo>
                    <a:pt x="2875" y="1044"/>
                  </a:lnTo>
                  <a:lnTo>
                    <a:pt x="2881" y="1044"/>
                  </a:lnTo>
                  <a:lnTo>
                    <a:pt x="2887" y="1044"/>
                  </a:lnTo>
                  <a:lnTo>
                    <a:pt x="2893" y="1044"/>
                  </a:lnTo>
                  <a:lnTo>
                    <a:pt x="2899" y="1044"/>
                  </a:lnTo>
                  <a:lnTo>
                    <a:pt x="2905" y="1044"/>
                  </a:lnTo>
                  <a:lnTo>
                    <a:pt x="2911" y="1044"/>
                  </a:lnTo>
                  <a:lnTo>
                    <a:pt x="2917" y="1044"/>
                  </a:lnTo>
                  <a:lnTo>
                    <a:pt x="2923" y="1044"/>
                  </a:lnTo>
                  <a:lnTo>
                    <a:pt x="2929" y="1044"/>
                  </a:lnTo>
                  <a:lnTo>
                    <a:pt x="2935" y="1044"/>
                  </a:lnTo>
                  <a:lnTo>
                    <a:pt x="2941" y="1044"/>
                  </a:lnTo>
                  <a:lnTo>
                    <a:pt x="2947" y="1044"/>
                  </a:lnTo>
                  <a:lnTo>
                    <a:pt x="2953" y="1044"/>
                  </a:lnTo>
                  <a:lnTo>
                    <a:pt x="2959" y="1044"/>
                  </a:lnTo>
                  <a:lnTo>
                    <a:pt x="2965" y="1044"/>
                  </a:lnTo>
                  <a:lnTo>
                    <a:pt x="2971" y="1044"/>
                  </a:lnTo>
                  <a:lnTo>
                    <a:pt x="2977" y="1044"/>
                  </a:lnTo>
                  <a:lnTo>
                    <a:pt x="2983" y="1044"/>
                  </a:lnTo>
                  <a:lnTo>
                    <a:pt x="2989" y="1044"/>
                  </a:lnTo>
                  <a:lnTo>
                    <a:pt x="2995" y="1044"/>
                  </a:lnTo>
                  <a:lnTo>
                    <a:pt x="3001" y="1044"/>
                  </a:lnTo>
                  <a:lnTo>
                    <a:pt x="3007" y="1044"/>
                  </a:lnTo>
                  <a:lnTo>
                    <a:pt x="3013" y="1044"/>
                  </a:lnTo>
                  <a:lnTo>
                    <a:pt x="3019" y="1044"/>
                  </a:lnTo>
                  <a:lnTo>
                    <a:pt x="3025" y="1044"/>
                  </a:lnTo>
                  <a:lnTo>
                    <a:pt x="3031" y="1044"/>
                  </a:lnTo>
                  <a:lnTo>
                    <a:pt x="3037" y="1044"/>
                  </a:lnTo>
                  <a:lnTo>
                    <a:pt x="3043" y="1044"/>
                  </a:lnTo>
                  <a:lnTo>
                    <a:pt x="3049" y="1044"/>
                  </a:lnTo>
                  <a:lnTo>
                    <a:pt x="3055" y="1044"/>
                  </a:lnTo>
                  <a:lnTo>
                    <a:pt x="3061" y="1044"/>
                  </a:lnTo>
                  <a:lnTo>
                    <a:pt x="3067" y="1044"/>
                  </a:lnTo>
                  <a:lnTo>
                    <a:pt x="3073" y="1044"/>
                  </a:lnTo>
                  <a:lnTo>
                    <a:pt x="3079" y="1044"/>
                  </a:lnTo>
                  <a:lnTo>
                    <a:pt x="3085" y="1044"/>
                  </a:lnTo>
                  <a:lnTo>
                    <a:pt x="3091" y="1044"/>
                  </a:lnTo>
                  <a:lnTo>
                    <a:pt x="3097" y="1044"/>
                  </a:lnTo>
                  <a:lnTo>
                    <a:pt x="3103" y="1044"/>
                  </a:lnTo>
                  <a:lnTo>
                    <a:pt x="3109" y="1044"/>
                  </a:lnTo>
                  <a:lnTo>
                    <a:pt x="3115" y="1044"/>
                  </a:lnTo>
                  <a:lnTo>
                    <a:pt x="3121" y="1044"/>
                  </a:lnTo>
                  <a:lnTo>
                    <a:pt x="3127" y="1044"/>
                  </a:lnTo>
                  <a:lnTo>
                    <a:pt x="3133" y="1044"/>
                  </a:lnTo>
                  <a:lnTo>
                    <a:pt x="3139" y="1044"/>
                  </a:lnTo>
                  <a:lnTo>
                    <a:pt x="3145" y="1044"/>
                  </a:lnTo>
                  <a:lnTo>
                    <a:pt x="3151" y="1044"/>
                  </a:lnTo>
                  <a:lnTo>
                    <a:pt x="3157" y="1044"/>
                  </a:lnTo>
                  <a:lnTo>
                    <a:pt x="3163" y="1044"/>
                  </a:lnTo>
                  <a:lnTo>
                    <a:pt x="3169" y="1044"/>
                  </a:lnTo>
                  <a:lnTo>
                    <a:pt x="3175" y="1044"/>
                  </a:lnTo>
                  <a:lnTo>
                    <a:pt x="3181" y="1044"/>
                  </a:lnTo>
                  <a:lnTo>
                    <a:pt x="3187" y="1044"/>
                  </a:lnTo>
                  <a:lnTo>
                    <a:pt x="3193" y="1044"/>
                  </a:lnTo>
                  <a:lnTo>
                    <a:pt x="3199" y="1044"/>
                  </a:lnTo>
                  <a:lnTo>
                    <a:pt x="3205" y="1044"/>
                  </a:lnTo>
                  <a:lnTo>
                    <a:pt x="3211" y="1044"/>
                  </a:lnTo>
                  <a:lnTo>
                    <a:pt x="3217" y="1044"/>
                  </a:lnTo>
                  <a:lnTo>
                    <a:pt x="3223" y="1044"/>
                  </a:lnTo>
                  <a:lnTo>
                    <a:pt x="3229" y="1044"/>
                  </a:lnTo>
                  <a:lnTo>
                    <a:pt x="3229" y="1044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6200000">
              <a:off x="1216080" y="3524760"/>
              <a:ext cx="84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Times New Roman"/>
                </a:rPr>
                <a:t></a:t>
              </a:r>
              <a:r>
                <a:rPr b="0" lang="en-US" sz="1400" spc="-1" strike="noStrike" baseline="-25000">
                  <a:solidFill>
                    <a:srgbClr val="ff3300"/>
                  </a:solidFill>
                  <a:latin typeface="Times New Roman"/>
                </a:rPr>
                <a:t>v</a:t>
              </a:r>
              <a:r>
                <a:rPr b="0" lang="en-US" sz="1400" spc="-1" strike="noStrike">
                  <a:solidFill>
                    <a:srgbClr val="ff3300"/>
                  </a:solidFill>
                  <a:latin typeface="Times New Roman"/>
                </a:rPr>
                <a:t> = -0.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74556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5524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55844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7280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431800" y="4343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0620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1120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1908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02876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3196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7800" y="3225960"/>
            <a:ext cx="4060800" cy="11174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98840" y="221940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85720" y="4334040"/>
            <a:ext cx="406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7680" y="170352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1680" y="1484280"/>
            <a:ext cx="412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981000" y="1446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02880" y="1522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80972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31600" y="1522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2639880" y="1446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638080" y="1522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45924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17480" y="1522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28796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246200" y="1522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2360" y="145260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22360" y="145260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112860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  <a:lnTo>
                  <a:pt x="1296" y="20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112860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</a:path>
            </a:pathLst>
          </a:custGeom>
          <a:solidFill>
            <a:srgbClr val="00cc99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387160" y="515880"/>
            <a:ext cx="274320" cy="1865520"/>
            <a:chOff x="2387160" y="515880"/>
            <a:chExt cx="274320" cy="1865520"/>
          </a:xfrm>
        </p:grpSpPr>
        <p:sp>
          <p:nvSpPr>
            <p:cNvPr id="444" name=""/>
            <p:cNvSpPr/>
            <p:nvPr/>
          </p:nvSpPr>
          <p:spPr>
            <a:xfrm>
              <a:off x="2552760" y="96336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06240" y="860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52760" y="6537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06240" y="550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2570400" y="234756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592720" y="149868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560" y="16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70400" y="2169720"/>
              <a:ext cx="381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87160" y="2063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70400" y="185400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87160" y="17496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70400" y="15516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92280" y="144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70400" y="123552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23880" y="1130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70400" y="919440"/>
              <a:ext cx="381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94160" y="515880"/>
              <a:ext cx="0" cy="186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1332000" y="2995560"/>
            <a:ext cx="14810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20960" y="2604960"/>
            <a:ext cx="1262160" cy="733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 0 shift with negative chromati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809720" y="293760"/>
            <a:ext cx="1440" cy="47624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85720" y="3225960"/>
            <a:ext cx="3979800" cy="1117440"/>
            <a:chOff x="585720" y="3225960"/>
            <a:chExt cx="3979800" cy="1117440"/>
          </a:xfrm>
        </p:grpSpPr>
        <p:sp>
          <p:nvSpPr>
            <p:cNvPr id="465" name=""/>
            <p:cNvSpPr/>
            <p:nvPr/>
          </p:nvSpPr>
          <p:spPr>
            <a:xfrm>
              <a:off x="585720" y="3225960"/>
              <a:ext cx="3979800" cy="1117440"/>
            </a:xfrm>
            <a:custGeom>
              <a:avLst/>
              <a:gdLst/>
              <a:ahLst/>
              <a:rect l="l" t="t" r="r" b="b"/>
              <a:pathLst>
                <a:path w="3547" h="1212">
                  <a:moveTo>
                    <a:pt x="0" y="1212"/>
                  </a:moveTo>
                  <a:lnTo>
                    <a:pt x="0" y="1212"/>
                  </a:lnTo>
                  <a:lnTo>
                    <a:pt x="6" y="1212"/>
                  </a:lnTo>
                  <a:lnTo>
                    <a:pt x="12" y="1212"/>
                  </a:lnTo>
                  <a:lnTo>
                    <a:pt x="18" y="1212"/>
                  </a:lnTo>
                  <a:lnTo>
                    <a:pt x="24" y="1212"/>
                  </a:lnTo>
                  <a:lnTo>
                    <a:pt x="30" y="1212"/>
                  </a:lnTo>
                  <a:lnTo>
                    <a:pt x="36" y="1212"/>
                  </a:lnTo>
                  <a:lnTo>
                    <a:pt x="42" y="1212"/>
                  </a:lnTo>
                  <a:lnTo>
                    <a:pt x="48" y="1212"/>
                  </a:lnTo>
                  <a:lnTo>
                    <a:pt x="54" y="1212"/>
                  </a:lnTo>
                  <a:lnTo>
                    <a:pt x="60" y="1212"/>
                  </a:lnTo>
                  <a:lnTo>
                    <a:pt x="66" y="1212"/>
                  </a:lnTo>
                  <a:lnTo>
                    <a:pt x="72" y="1212"/>
                  </a:lnTo>
                  <a:lnTo>
                    <a:pt x="78" y="1212"/>
                  </a:lnTo>
                  <a:lnTo>
                    <a:pt x="84" y="1212"/>
                  </a:lnTo>
                  <a:lnTo>
                    <a:pt x="90" y="1212"/>
                  </a:lnTo>
                  <a:lnTo>
                    <a:pt x="96" y="1212"/>
                  </a:lnTo>
                  <a:lnTo>
                    <a:pt x="102" y="1212"/>
                  </a:lnTo>
                  <a:lnTo>
                    <a:pt x="108" y="1212"/>
                  </a:lnTo>
                  <a:lnTo>
                    <a:pt x="114" y="1212"/>
                  </a:lnTo>
                  <a:lnTo>
                    <a:pt x="120" y="1212"/>
                  </a:lnTo>
                  <a:lnTo>
                    <a:pt x="126" y="1212"/>
                  </a:lnTo>
                  <a:lnTo>
                    <a:pt x="132" y="1212"/>
                  </a:lnTo>
                  <a:lnTo>
                    <a:pt x="138" y="1212"/>
                  </a:lnTo>
                  <a:lnTo>
                    <a:pt x="144" y="1212"/>
                  </a:lnTo>
                  <a:lnTo>
                    <a:pt x="150" y="1212"/>
                  </a:lnTo>
                  <a:lnTo>
                    <a:pt x="156" y="1212"/>
                  </a:lnTo>
                  <a:lnTo>
                    <a:pt x="162" y="1212"/>
                  </a:lnTo>
                  <a:lnTo>
                    <a:pt x="168" y="1212"/>
                  </a:lnTo>
                  <a:lnTo>
                    <a:pt x="174" y="1212"/>
                  </a:lnTo>
                  <a:lnTo>
                    <a:pt x="180" y="1212"/>
                  </a:lnTo>
                  <a:lnTo>
                    <a:pt x="186" y="1212"/>
                  </a:lnTo>
                  <a:lnTo>
                    <a:pt x="192" y="1212"/>
                  </a:lnTo>
                  <a:lnTo>
                    <a:pt x="198" y="1212"/>
                  </a:lnTo>
                  <a:lnTo>
                    <a:pt x="204" y="1212"/>
                  </a:lnTo>
                  <a:lnTo>
                    <a:pt x="210" y="1212"/>
                  </a:lnTo>
                  <a:lnTo>
                    <a:pt x="216" y="1212"/>
                  </a:lnTo>
                  <a:lnTo>
                    <a:pt x="222" y="1212"/>
                  </a:lnTo>
                  <a:lnTo>
                    <a:pt x="228" y="1212"/>
                  </a:lnTo>
                  <a:lnTo>
                    <a:pt x="234" y="1212"/>
                  </a:lnTo>
                  <a:lnTo>
                    <a:pt x="240" y="1212"/>
                  </a:lnTo>
                  <a:lnTo>
                    <a:pt x="246" y="1212"/>
                  </a:lnTo>
                  <a:lnTo>
                    <a:pt x="252" y="1212"/>
                  </a:lnTo>
                  <a:lnTo>
                    <a:pt x="258" y="1212"/>
                  </a:lnTo>
                  <a:lnTo>
                    <a:pt x="264" y="1212"/>
                  </a:lnTo>
                  <a:lnTo>
                    <a:pt x="270" y="1212"/>
                  </a:lnTo>
                  <a:lnTo>
                    <a:pt x="276" y="1212"/>
                  </a:lnTo>
                  <a:lnTo>
                    <a:pt x="282" y="1212"/>
                  </a:lnTo>
                  <a:lnTo>
                    <a:pt x="288" y="1212"/>
                  </a:lnTo>
                  <a:lnTo>
                    <a:pt x="294" y="1212"/>
                  </a:lnTo>
                  <a:lnTo>
                    <a:pt x="300" y="1212"/>
                  </a:lnTo>
                  <a:lnTo>
                    <a:pt x="306" y="1212"/>
                  </a:lnTo>
                  <a:lnTo>
                    <a:pt x="312" y="1212"/>
                  </a:lnTo>
                  <a:lnTo>
                    <a:pt x="318" y="1212"/>
                  </a:lnTo>
                  <a:lnTo>
                    <a:pt x="324" y="1212"/>
                  </a:lnTo>
                  <a:lnTo>
                    <a:pt x="330" y="1212"/>
                  </a:lnTo>
                  <a:lnTo>
                    <a:pt x="336" y="1212"/>
                  </a:lnTo>
                  <a:lnTo>
                    <a:pt x="342" y="1212"/>
                  </a:lnTo>
                  <a:lnTo>
                    <a:pt x="348" y="1212"/>
                  </a:lnTo>
                  <a:lnTo>
                    <a:pt x="354" y="1212"/>
                  </a:lnTo>
                  <a:lnTo>
                    <a:pt x="360" y="1212"/>
                  </a:lnTo>
                  <a:lnTo>
                    <a:pt x="366" y="1212"/>
                  </a:lnTo>
                  <a:lnTo>
                    <a:pt x="372" y="1212"/>
                  </a:lnTo>
                  <a:lnTo>
                    <a:pt x="378" y="1212"/>
                  </a:lnTo>
                  <a:lnTo>
                    <a:pt x="384" y="1212"/>
                  </a:lnTo>
                  <a:lnTo>
                    <a:pt x="390" y="1212"/>
                  </a:lnTo>
                  <a:lnTo>
                    <a:pt x="396" y="1212"/>
                  </a:lnTo>
                  <a:lnTo>
                    <a:pt x="402" y="1212"/>
                  </a:lnTo>
                  <a:lnTo>
                    <a:pt x="408" y="1212"/>
                  </a:lnTo>
                  <a:lnTo>
                    <a:pt x="414" y="1212"/>
                  </a:lnTo>
                  <a:lnTo>
                    <a:pt x="420" y="1212"/>
                  </a:lnTo>
                  <a:lnTo>
                    <a:pt x="426" y="1212"/>
                  </a:lnTo>
                  <a:lnTo>
                    <a:pt x="432" y="1212"/>
                  </a:lnTo>
                  <a:lnTo>
                    <a:pt x="438" y="1212"/>
                  </a:lnTo>
                  <a:lnTo>
                    <a:pt x="444" y="1212"/>
                  </a:lnTo>
                  <a:lnTo>
                    <a:pt x="450" y="1212"/>
                  </a:lnTo>
                  <a:lnTo>
                    <a:pt x="456" y="1212"/>
                  </a:lnTo>
                  <a:lnTo>
                    <a:pt x="462" y="1212"/>
                  </a:lnTo>
                  <a:lnTo>
                    <a:pt x="468" y="1212"/>
                  </a:lnTo>
                  <a:lnTo>
                    <a:pt x="474" y="1212"/>
                  </a:lnTo>
                  <a:lnTo>
                    <a:pt x="480" y="1212"/>
                  </a:lnTo>
                  <a:lnTo>
                    <a:pt x="486" y="1212"/>
                  </a:lnTo>
                  <a:lnTo>
                    <a:pt x="492" y="1212"/>
                  </a:lnTo>
                  <a:lnTo>
                    <a:pt x="498" y="1212"/>
                  </a:lnTo>
                  <a:lnTo>
                    <a:pt x="504" y="1212"/>
                  </a:lnTo>
                  <a:lnTo>
                    <a:pt x="510" y="1212"/>
                  </a:lnTo>
                  <a:lnTo>
                    <a:pt x="516" y="1212"/>
                  </a:lnTo>
                  <a:lnTo>
                    <a:pt x="522" y="1212"/>
                  </a:lnTo>
                  <a:lnTo>
                    <a:pt x="528" y="1212"/>
                  </a:lnTo>
                  <a:lnTo>
                    <a:pt x="534" y="1212"/>
                  </a:lnTo>
                  <a:lnTo>
                    <a:pt x="540" y="1212"/>
                  </a:lnTo>
                  <a:lnTo>
                    <a:pt x="546" y="1212"/>
                  </a:lnTo>
                  <a:lnTo>
                    <a:pt x="552" y="1212"/>
                  </a:lnTo>
                  <a:lnTo>
                    <a:pt x="558" y="1212"/>
                  </a:lnTo>
                  <a:lnTo>
                    <a:pt x="564" y="1212"/>
                  </a:lnTo>
                  <a:lnTo>
                    <a:pt x="570" y="1212"/>
                  </a:lnTo>
                  <a:lnTo>
                    <a:pt x="576" y="1212"/>
                  </a:lnTo>
                  <a:lnTo>
                    <a:pt x="582" y="1212"/>
                  </a:lnTo>
                  <a:lnTo>
                    <a:pt x="588" y="1212"/>
                  </a:lnTo>
                  <a:lnTo>
                    <a:pt x="594" y="1206"/>
                  </a:lnTo>
                  <a:lnTo>
                    <a:pt x="600" y="1206"/>
                  </a:lnTo>
                  <a:lnTo>
                    <a:pt x="606" y="1206"/>
                  </a:lnTo>
                  <a:lnTo>
                    <a:pt x="612" y="1206"/>
                  </a:lnTo>
                  <a:lnTo>
                    <a:pt x="618" y="1206"/>
                  </a:lnTo>
                  <a:lnTo>
                    <a:pt x="624" y="1206"/>
                  </a:lnTo>
                  <a:lnTo>
                    <a:pt x="630" y="1206"/>
                  </a:lnTo>
                  <a:lnTo>
                    <a:pt x="636" y="1206"/>
                  </a:lnTo>
                  <a:lnTo>
                    <a:pt x="642" y="1206"/>
                  </a:lnTo>
                  <a:lnTo>
                    <a:pt x="648" y="1206"/>
                  </a:lnTo>
                  <a:lnTo>
                    <a:pt x="654" y="1206"/>
                  </a:lnTo>
                  <a:lnTo>
                    <a:pt x="660" y="1206"/>
                  </a:lnTo>
                  <a:lnTo>
                    <a:pt x="666" y="1200"/>
                  </a:lnTo>
                  <a:lnTo>
                    <a:pt x="672" y="1200"/>
                  </a:lnTo>
                  <a:lnTo>
                    <a:pt x="678" y="1200"/>
                  </a:lnTo>
                  <a:lnTo>
                    <a:pt x="684" y="1200"/>
                  </a:lnTo>
                  <a:lnTo>
                    <a:pt x="690" y="1200"/>
                  </a:lnTo>
                  <a:lnTo>
                    <a:pt x="696" y="1194"/>
                  </a:lnTo>
                  <a:lnTo>
                    <a:pt x="702" y="1194"/>
                  </a:lnTo>
                  <a:lnTo>
                    <a:pt x="708" y="1194"/>
                  </a:lnTo>
                  <a:lnTo>
                    <a:pt x="714" y="1194"/>
                  </a:lnTo>
                  <a:lnTo>
                    <a:pt x="720" y="1188"/>
                  </a:lnTo>
                  <a:lnTo>
                    <a:pt x="726" y="1188"/>
                  </a:lnTo>
                  <a:lnTo>
                    <a:pt x="732" y="1188"/>
                  </a:lnTo>
                  <a:lnTo>
                    <a:pt x="738" y="1182"/>
                  </a:lnTo>
                  <a:lnTo>
                    <a:pt x="744" y="1182"/>
                  </a:lnTo>
                  <a:lnTo>
                    <a:pt x="750" y="1176"/>
                  </a:lnTo>
                  <a:lnTo>
                    <a:pt x="756" y="1176"/>
                  </a:lnTo>
                  <a:lnTo>
                    <a:pt x="762" y="1176"/>
                  </a:lnTo>
                  <a:lnTo>
                    <a:pt x="768" y="1170"/>
                  </a:lnTo>
                  <a:lnTo>
                    <a:pt x="774" y="1164"/>
                  </a:lnTo>
                  <a:lnTo>
                    <a:pt x="780" y="1164"/>
                  </a:lnTo>
                  <a:lnTo>
                    <a:pt x="786" y="1158"/>
                  </a:lnTo>
                  <a:lnTo>
                    <a:pt x="792" y="1152"/>
                  </a:lnTo>
                  <a:lnTo>
                    <a:pt x="798" y="1152"/>
                  </a:lnTo>
                  <a:lnTo>
                    <a:pt x="804" y="1146"/>
                  </a:lnTo>
                  <a:lnTo>
                    <a:pt x="810" y="1140"/>
                  </a:lnTo>
                  <a:lnTo>
                    <a:pt x="816" y="1134"/>
                  </a:lnTo>
                  <a:lnTo>
                    <a:pt x="822" y="1128"/>
                  </a:lnTo>
                  <a:lnTo>
                    <a:pt x="828" y="1122"/>
                  </a:lnTo>
                  <a:lnTo>
                    <a:pt x="834" y="1116"/>
                  </a:lnTo>
                  <a:lnTo>
                    <a:pt x="840" y="1110"/>
                  </a:lnTo>
                  <a:lnTo>
                    <a:pt x="846" y="1104"/>
                  </a:lnTo>
                  <a:lnTo>
                    <a:pt x="852" y="1098"/>
                  </a:lnTo>
                  <a:lnTo>
                    <a:pt x="858" y="1092"/>
                  </a:lnTo>
                  <a:lnTo>
                    <a:pt x="864" y="1086"/>
                  </a:lnTo>
                  <a:lnTo>
                    <a:pt x="864" y="1080"/>
                  </a:lnTo>
                  <a:lnTo>
                    <a:pt x="870" y="1074"/>
                  </a:lnTo>
                  <a:lnTo>
                    <a:pt x="876" y="1068"/>
                  </a:lnTo>
                  <a:lnTo>
                    <a:pt x="882" y="1062"/>
                  </a:lnTo>
                  <a:lnTo>
                    <a:pt x="882" y="1056"/>
                  </a:lnTo>
                  <a:lnTo>
                    <a:pt x="888" y="1050"/>
                  </a:lnTo>
                  <a:lnTo>
                    <a:pt x="888" y="1044"/>
                  </a:lnTo>
                  <a:lnTo>
                    <a:pt x="894" y="1038"/>
                  </a:lnTo>
                  <a:lnTo>
                    <a:pt x="900" y="1032"/>
                  </a:lnTo>
                  <a:lnTo>
                    <a:pt x="900" y="1026"/>
                  </a:lnTo>
                  <a:lnTo>
                    <a:pt x="906" y="1020"/>
                  </a:lnTo>
                  <a:lnTo>
                    <a:pt x="906" y="1008"/>
                  </a:lnTo>
                  <a:lnTo>
                    <a:pt x="912" y="1002"/>
                  </a:lnTo>
                  <a:lnTo>
                    <a:pt x="912" y="996"/>
                  </a:lnTo>
                  <a:lnTo>
                    <a:pt x="918" y="990"/>
                  </a:lnTo>
                  <a:lnTo>
                    <a:pt x="924" y="984"/>
                  </a:lnTo>
                  <a:lnTo>
                    <a:pt x="924" y="972"/>
                  </a:lnTo>
                  <a:lnTo>
                    <a:pt x="930" y="966"/>
                  </a:lnTo>
                  <a:lnTo>
                    <a:pt x="930" y="960"/>
                  </a:lnTo>
                  <a:lnTo>
                    <a:pt x="936" y="954"/>
                  </a:lnTo>
                  <a:lnTo>
                    <a:pt x="942" y="942"/>
                  </a:lnTo>
                  <a:lnTo>
                    <a:pt x="942" y="936"/>
                  </a:lnTo>
                  <a:lnTo>
                    <a:pt x="948" y="924"/>
                  </a:lnTo>
                  <a:lnTo>
                    <a:pt x="948" y="918"/>
                  </a:lnTo>
                  <a:lnTo>
                    <a:pt x="954" y="906"/>
                  </a:lnTo>
                  <a:lnTo>
                    <a:pt x="960" y="900"/>
                  </a:lnTo>
                  <a:lnTo>
                    <a:pt x="960" y="888"/>
                  </a:lnTo>
                  <a:lnTo>
                    <a:pt x="966" y="882"/>
                  </a:lnTo>
                  <a:lnTo>
                    <a:pt x="966" y="870"/>
                  </a:lnTo>
                  <a:lnTo>
                    <a:pt x="972" y="864"/>
                  </a:lnTo>
                  <a:lnTo>
                    <a:pt x="978" y="852"/>
                  </a:lnTo>
                  <a:lnTo>
                    <a:pt x="978" y="840"/>
                  </a:lnTo>
                  <a:lnTo>
                    <a:pt x="984" y="834"/>
                  </a:lnTo>
                  <a:lnTo>
                    <a:pt x="984" y="822"/>
                  </a:lnTo>
                  <a:lnTo>
                    <a:pt x="990" y="810"/>
                  </a:lnTo>
                  <a:lnTo>
                    <a:pt x="990" y="798"/>
                  </a:lnTo>
                  <a:lnTo>
                    <a:pt x="996" y="786"/>
                  </a:lnTo>
                  <a:lnTo>
                    <a:pt x="1002" y="780"/>
                  </a:lnTo>
                  <a:lnTo>
                    <a:pt x="1002" y="768"/>
                  </a:lnTo>
                  <a:lnTo>
                    <a:pt x="1008" y="756"/>
                  </a:lnTo>
                  <a:lnTo>
                    <a:pt x="1008" y="744"/>
                  </a:lnTo>
                  <a:lnTo>
                    <a:pt x="1014" y="732"/>
                  </a:lnTo>
                  <a:lnTo>
                    <a:pt x="1020" y="720"/>
                  </a:lnTo>
                  <a:lnTo>
                    <a:pt x="1020" y="708"/>
                  </a:lnTo>
                  <a:lnTo>
                    <a:pt x="1026" y="696"/>
                  </a:lnTo>
                  <a:lnTo>
                    <a:pt x="1026" y="684"/>
                  </a:lnTo>
                  <a:lnTo>
                    <a:pt x="1032" y="672"/>
                  </a:lnTo>
                  <a:lnTo>
                    <a:pt x="1038" y="660"/>
                  </a:lnTo>
                  <a:lnTo>
                    <a:pt x="1038" y="648"/>
                  </a:lnTo>
                  <a:lnTo>
                    <a:pt x="1044" y="636"/>
                  </a:lnTo>
                  <a:lnTo>
                    <a:pt x="1044" y="624"/>
                  </a:lnTo>
                  <a:lnTo>
                    <a:pt x="1050" y="612"/>
                  </a:lnTo>
                  <a:lnTo>
                    <a:pt x="1056" y="600"/>
                  </a:lnTo>
                  <a:lnTo>
                    <a:pt x="1056" y="588"/>
                  </a:lnTo>
                  <a:lnTo>
                    <a:pt x="1062" y="570"/>
                  </a:lnTo>
                  <a:lnTo>
                    <a:pt x="1062" y="558"/>
                  </a:lnTo>
                  <a:lnTo>
                    <a:pt x="1068" y="546"/>
                  </a:lnTo>
                  <a:lnTo>
                    <a:pt x="1068" y="534"/>
                  </a:lnTo>
                  <a:lnTo>
                    <a:pt x="1074" y="522"/>
                  </a:lnTo>
                  <a:lnTo>
                    <a:pt x="1080" y="510"/>
                  </a:lnTo>
                  <a:lnTo>
                    <a:pt x="1080" y="498"/>
                  </a:lnTo>
                  <a:lnTo>
                    <a:pt x="1086" y="480"/>
                  </a:lnTo>
                  <a:lnTo>
                    <a:pt x="1086" y="468"/>
                  </a:lnTo>
                  <a:lnTo>
                    <a:pt x="1092" y="456"/>
                  </a:lnTo>
                  <a:lnTo>
                    <a:pt x="1098" y="444"/>
                  </a:lnTo>
                  <a:lnTo>
                    <a:pt x="1098" y="432"/>
                  </a:lnTo>
                  <a:lnTo>
                    <a:pt x="1104" y="414"/>
                  </a:lnTo>
                  <a:lnTo>
                    <a:pt x="1104" y="402"/>
                  </a:lnTo>
                  <a:lnTo>
                    <a:pt x="1110" y="390"/>
                  </a:lnTo>
                  <a:lnTo>
                    <a:pt x="1116" y="378"/>
                  </a:lnTo>
                  <a:lnTo>
                    <a:pt x="1116" y="366"/>
                  </a:lnTo>
                  <a:lnTo>
                    <a:pt x="1122" y="354"/>
                  </a:lnTo>
                  <a:lnTo>
                    <a:pt x="1122" y="342"/>
                  </a:lnTo>
                  <a:lnTo>
                    <a:pt x="1128" y="330"/>
                  </a:lnTo>
                  <a:lnTo>
                    <a:pt x="1134" y="318"/>
                  </a:lnTo>
                  <a:lnTo>
                    <a:pt x="1134" y="300"/>
                  </a:lnTo>
                  <a:lnTo>
                    <a:pt x="1140" y="288"/>
                  </a:lnTo>
                  <a:lnTo>
                    <a:pt x="1140" y="276"/>
                  </a:lnTo>
                  <a:lnTo>
                    <a:pt x="1146" y="264"/>
                  </a:lnTo>
                  <a:lnTo>
                    <a:pt x="1146" y="252"/>
                  </a:lnTo>
                  <a:lnTo>
                    <a:pt x="1152" y="246"/>
                  </a:lnTo>
                  <a:lnTo>
                    <a:pt x="1158" y="234"/>
                  </a:lnTo>
                  <a:lnTo>
                    <a:pt x="1158" y="222"/>
                  </a:lnTo>
                  <a:lnTo>
                    <a:pt x="1164" y="210"/>
                  </a:lnTo>
                  <a:lnTo>
                    <a:pt x="1164" y="198"/>
                  </a:lnTo>
                  <a:lnTo>
                    <a:pt x="1170" y="186"/>
                  </a:lnTo>
                  <a:lnTo>
                    <a:pt x="1176" y="180"/>
                  </a:lnTo>
                  <a:lnTo>
                    <a:pt x="1176" y="168"/>
                  </a:lnTo>
                  <a:lnTo>
                    <a:pt x="1182" y="156"/>
                  </a:lnTo>
                  <a:lnTo>
                    <a:pt x="1182" y="150"/>
                  </a:lnTo>
                  <a:lnTo>
                    <a:pt x="1188" y="138"/>
                  </a:lnTo>
                  <a:lnTo>
                    <a:pt x="1194" y="126"/>
                  </a:lnTo>
                  <a:lnTo>
                    <a:pt x="1194" y="120"/>
                  </a:lnTo>
                  <a:lnTo>
                    <a:pt x="1200" y="114"/>
                  </a:lnTo>
                  <a:lnTo>
                    <a:pt x="1200" y="102"/>
                  </a:lnTo>
                  <a:lnTo>
                    <a:pt x="1206" y="96"/>
                  </a:lnTo>
                  <a:lnTo>
                    <a:pt x="1212" y="84"/>
                  </a:lnTo>
                  <a:lnTo>
                    <a:pt x="1212" y="78"/>
                  </a:lnTo>
                  <a:lnTo>
                    <a:pt x="1218" y="72"/>
                  </a:lnTo>
                  <a:lnTo>
                    <a:pt x="1218" y="66"/>
                  </a:lnTo>
                  <a:lnTo>
                    <a:pt x="1224" y="60"/>
                  </a:lnTo>
                  <a:lnTo>
                    <a:pt x="1224" y="54"/>
                  </a:lnTo>
                  <a:lnTo>
                    <a:pt x="1230" y="48"/>
                  </a:lnTo>
                  <a:lnTo>
                    <a:pt x="1236" y="42"/>
                  </a:lnTo>
                  <a:lnTo>
                    <a:pt x="1236" y="36"/>
                  </a:lnTo>
                  <a:lnTo>
                    <a:pt x="1242" y="30"/>
                  </a:lnTo>
                  <a:lnTo>
                    <a:pt x="1248" y="24"/>
                  </a:lnTo>
                  <a:lnTo>
                    <a:pt x="1254" y="18"/>
                  </a:lnTo>
                  <a:lnTo>
                    <a:pt x="1260" y="12"/>
                  </a:lnTo>
                  <a:lnTo>
                    <a:pt x="1266" y="6"/>
                  </a:lnTo>
                  <a:lnTo>
                    <a:pt x="1272" y="0"/>
                  </a:lnTo>
                  <a:lnTo>
                    <a:pt x="1278" y="0"/>
                  </a:lnTo>
                  <a:lnTo>
                    <a:pt x="1284" y="0"/>
                  </a:lnTo>
                  <a:lnTo>
                    <a:pt x="1290" y="0"/>
                  </a:lnTo>
                  <a:lnTo>
                    <a:pt x="1296" y="0"/>
                  </a:lnTo>
                  <a:lnTo>
                    <a:pt x="1302" y="6"/>
                  </a:lnTo>
                  <a:lnTo>
                    <a:pt x="1308" y="6"/>
                  </a:lnTo>
                  <a:lnTo>
                    <a:pt x="1314" y="12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32" y="30"/>
                  </a:lnTo>
                  <a:lnTo>
                    <a:pt x="1338" y="36"/>
                  </a:lnTo>
                  <a:lnTo>
                    <a:pt x="1338" y="42"/>
                  </a:lnTo>
                  <a:lnTo>
                    <a:pt x="1344" y="48"/>
                  </a:lnTo>
                  <a:lnTo>
                    <a:pt x="1350" y="54"/>
                  </a:lnTo>
                  <a:lnTo>
                    <a:pt x="1350" y="60"/>
                  </a:lnTo>
                  <a:lnTo>
                    <a:pt x="1356" y="72"/>
                  </a:lnTo>
                  <a:lnTo>
                    <a:pt x="1356" y="78"/>
                  </a:lnTo>
                  <a:lnTo>
                    <a:pt x="1362" y="84"/>
                  </a:lnTo>
                  <a:lnTo>
                    <a:pt x="1368" y="90"/>
                  </a:lnTo>
                  <a:lnTo>
                    <a:pt x="1368" y="102"/>
                  </a:lnTo>
                  <a:lnTo>
                    <a:pt x="1374" y="108"/>
                  </a:lnTo>
                  <a:lnTo>
                    <a:pt x="1374" y="114"/>
                  </a:lnTo>
                  <a:lnTo>
                    <a:pt x="1380" y="126"/>
                  </a:lnTo>
                  <a:lnTo>
                    <a:pt x="1380" y="132"/>
                  </a:lnTo>
                  <a:lnTo>
                    <a:pt x="1386" y="144"/>
                  </a:lnTo>
                  <a:lnTo>
                    <a:pt x="1392" y="156"/>
                  </a:lnTo>
                  <a:lnTo>
                    <a:pt x="1392" y="162"/>
                  </a:lnTo>
                  <a:lnTo>
                    <a:pt x="1398" y="174"/>
                  </a:lnTo>
                  <a:lnTo>
                    <a:pt x="1398" y="186"/>
                  </a:lnTo>
                  <a:lnTo>
                    <a:pt x="1404" y="192"/>
                  </a:lnTo>
                  <a:lnTo>
                    <a:pt x="1410" y="204"/>
                  </a:lnTo>
                  <a:lnTo>
                    <a:pt x="1410" y="216"/>
                  </a:lnTo>
                  <a:lnTo>
                    <a:pt x="1416" y="228"/>
                  </a:lnTo>
                  <a:lnTo>
                    <a:pt x="1416" y="240"/>
                  </a:lnTo>
                  <a:lnTo>
                    <a:pt x="1422" y="252"/>
                  </a:lnTo>
                  <a:lnTo>
                    <a:pt x="1428" y="264"/>
                  </a:lnTo>
                  <a:lnTo>
                    <a:pt x="1428" y="276"/>
                  </a:lnTo>
                  <a:lnTo>
                    <a:pt x="1434" y="288"/>
                  </a:lnTo>
                  <a:lnTo>
                    <a:pt x="1434" y="300"/>
                  </a:lnTo>
                  <a:lnTo>
                    <a:pt x="1440" y="312"/>
                  </a:lnTo>
                  <a:lnTo>
                    <a:pt x="1446" y="324"/>
                  </a:lnTo>
                  <a:lnTo>
                    <a:pt x="1446" y="336"/>
                  </a:lnTo>
                  <a:lnTo>
                    <a:pt x="1452" y="348"/>
                  </a:lnTo>
                  <a:lnTo>
                    <a:pt x="1452" y="360"/>
                  </a:lnTo>
                  <a:lnTo>
                    <a:pt x="1458" y="372"/>
                  </a:lnTo>
                  <a:lnTo>
                    <a:pt x="1458" y="384"/>
                  </a:lnTo>
                  <a:lnTo>
                    <a:pt x="1464" y="402"/>
                  </a:lnTo>
                  <a:lnTo>
                    <a:pt x="1470" y="414"/>
                  </a:lnTo>
                  <a:lnTo>
                    <a:pt x="1470" y="426"/>
                  </a:lnTo>
                  <a:lnTo>
                    <a:pt x="1476" y="438"/>
                  </a:lnTo>
                  <a:lnTo>
                    <a:pt x="1476" y="450"/>
                  </a:lnTo>
                  <a:lnTo>
                    <a:pt x="1482" y="462"/>
                  </a:lnTo>
                  <a:lnTo>
                    <a:pt x="1488" y="480"/>
                  </a:lnTo>
                  <a:lnTo>
                    <a:pt x="1488" y="492"/>
                  </a:lnTo>
                  <a:lnTo>
                    <a:pt x="1494" y="504"/>
                  </a:lnTo>
                  <a:lnTo>
                    <a:pt x="1494" y="516"/>
                  </a:lnTo>
                  <a:lnTo>
                    <a:pt x="1500" y="528"/>
                  </a:lnTo>
                  <a:lnTo>
                    <a:pt x="1506" y="540"/>
                  </a:lnTo>
                  <a:lnTo>
                    <a:pt x="1506" y="558"/>
                  </a:lnTo>
                  <a:lnTo>
                    <a:pt x="1512" y="570"/>
                  </a:lnTo>
                  <a:lnTo>
                    <a:pt x="1512" y="582"/>
                  </a:lnTo>
                  <a:lnTo>
                    <a:pt x="1518" y="594"/>
                  </a:lnTo>
                  <a:lnTo>
                    <a:pt x="1524" y="606"/>
                  </a:lnTo>
                  <a:lnTo>
                    <a:pt x="1524" y="618"/>
                  </a:lnTo>
                  <a:lnTo>
                    <a:pt x="1530" y="630"/>
                  </a:lnTo>
                  <a:lnTo>
                    <a:pt x="1530" y="642"/>
                  </a:lnTo>
                  <a:lnTo>
                    <a:pt x="1536" y="654"/>
                  </a:lnTo>
                  <a:lnTo>
                    <a:pt x="1536" y="666"/>
                  </a:lnTo>
                  <a:lnTo>
                    <a:pt x="1542" y="684"/>
                  </a:lnTo>
                  <a:lnTo>
                    <a:pt x="1548" y="696"/>
                  </a:lnTo>
                  <a:lnTo>
                    <a:pt x="1548" y="708"/>
                  </a:lnTo>
                  <a:lnTo>
                    <a:pt x="1555" y="714"/>
                  </a:lnTo>
                  <a:lnTo>
                    <a:pt x="1555" y="726"/>
                  </a:lnTo>
                  <a:lnTo>
                    <a:pt x="1561" y="738"/>
                  </a:lnTo>
                  <a:lnTo>
                    <a:pt x="1567" y="750"/>
                  </a:lnTo>
                  <a:lnTo>
                    <a:pt x="1567" y="762"/>
                  </a:lnTo>
                  <a:lnTo>
                    <a:pt x="1573" y="774"/>
                  </a:lnTo>
                  <a:lnTo>
                    <a:pt x="1573" y="786"/>
                  </a:lnTo>
                  <a:lnTo>
                    <a:pt x="1579" y="798"/>
                  </a:lnTo>
                  <a:lnTo>
                    <a:pt x="1585" y="804"/>
                  </a:lnTo>
                  <a:lnTo>
                    <a:pt x="1585" y="816"/>
                  </a:lnTo>
                  <a:lnTo>
                    <a:pt x="1591" y="828"/>
                  </a:lnTo>
                  <a:lnTo>
                    <a:pt x="1591" y="840"/>
                  </a:lnTo>
                  <a:lnTo>
                    <a:pt x="1597" y="846"/>
                  </a:lnTo>
                  <a:lnTo>
                    <a:pt x="1603" y="858"/>
                  </a:lnTo>
                  <a:lnTo>
                    <a:pt x="1603" y="870"/>
                  </a:lnTo>
                  <a:lnTo>
                    <a:pt x="1609" y="876"/>
                  </a:lnTo>
                  <a:lnTo>
                    <a:pt x="1609" y="888"/>
                  </a:lnTo>
                  <a:lnTo>
                    <a:pt x="1615" y="894"/>
                  </a:lnTo>
                  <a:lnTo>
                    <a:pt x="1615" y="906"/>
                  </a:lnTo>
                  <a:lnTo>
                    <a:pt x="1621" y="912"/>
                  </a:lnTo>
                  <a:lnTo>
                    <a:pt x="1627" y="924"/>
                  </a:lnTo>
                  <a:lnTo>
                    <a:pt x="1627" y="930"/>
                  </a:lnTo>
                  <a:lnTo>
                    <a:pt x="1633" y="942"/>
                  </a:lnTo>
                  <a:lnTo>
                    <a:pt x="1633" y="948"/>
                  </a:lnTo>
                  <a:lnTo>
                    <a:pt x="1639" y="954"/>
                  </a:lnTo>
                  <a:lnTo>
                    <a:pt x="1645" y="966"/>
                  </a:lnTo>
                  <a:lnTo>
                    <a:pt x="1645" y="972"/>
                  </a:lnTo>
                  <a:lnTo>
                    <a:pt x="1651" y="978"/>
                  </a:lnTo>
                  <a:lnTo>
                    <a:pt x="1651" y="990"/>
                  </a:lnTo>
                  <a:lnTo>
                    <a:pt x="1657" y="996"/>
                  </a:lnTo>
                  <a:lnTo>
                    <a:pt x="1663" y="1002"/>
                  </a:lnTo>
                  <a:lnTo>
                    <a:pt x="1663" y="1008"/>
                  </a:lnTo>
                  <a:lnTo>
                    <a:pt x="1669" y="1014"/>
                  </a:lnTo>
                  <a:lnTo>
                    <a:pt x="1669" y="1020"/>
                  </a:lnTo>
                  <a:lnTo>
                    <a:pt x="1675" y="1026"/>
                  </a:lnTo>
                  <a:lnTo>
                    <a:pt x="1681" y="1032"/>
                  </a:lnTo>
                  <a:lnTo>
                    <a:pt x="1681" y="1038"/>
                  </a:lnTo>
                  <a:lnTo>
                    <a:pt x="1687" y="1044"/>
                  </a:lnTo>
                  <a:lnTo>
                    <a:pt x="1687" y="1050"/>
                  </a:lnTo>
                  <a:lnTo>
                    <a:pt x="1693" y="1056"/>
                  </a:lnTo>
                  <a:lnTo>
                    <a:pt x="1693" y="1062"/>
                  </a:lnTo>
                  <a:lnTo>
                    <a:pt x="1699" y="1068"/>
                  </a:lnTo>
                  <a:lnTo>
                    <a:pt x="1705" y="1074"/>
                  </a:lnTo>
                  <a:lnTo>
                    <a:pt x="1705" y="1080"/>
                  </a:lnTo>
                  <a:lnTo>
                    <a:pt x="1711" y="1086"/>
                  </a:lnTo>
                  <a:lnTo>
                    <a:pt x="1717" y="1092"/>
                  </a:lnTo>
                  <a:lnTo>
                    <a:pt x="1723" y="1098"/>
                  </a:lnTo>
                  <a:lnTo>
                    <a:pt x="1729" y="1104"/>
                  </a:lnTo>
                  <a:lnTo>
                    <a:pt x="1729" y="1110"/>
                  </a:lnTo>
                  <a:lnTo>
                    <a:pt x="1735" y="1116"/>
                  </a:lnTo>
                  <a:lnTo>
                    <a:pt x="1741" y="1122"/>
                  </a:lnTo>
                  <a:lnTo>
                    <a:pt x="1747" y="1128"/>
                  </a:lnTo>
                  <a:lnTo>
                    <a:pt x="1753" y="1134"/>
                  </a:lnTo>
                  <a:lnTo>
                    <a:pt x="1759" y="1140"/>
                  </a:lnTo>
                  <a:lnTo>
                    <a:pt x="1765" y="1146"/>
                  </a:lnTo>
                  <a:lnTo>
                    <a:pt x="1771" y="1146"/>
                  </a:lnTo>
                  <a:lnTo>
                    <a:pt x="1777" y="1152"/>
                  </a:lnTo>
                  <a:lnTo>
                    <a:pt x="1783" y="1158"/>
                  </a:lnTo>
                  <a:lnTo>
                    <a:pt x="1789" y="1164"/>
                  </a:lnTo>
                  <a:lnTo>
                    <a:pt x="1795" y="1164"/>
                  </a:lnTo>
                  <a:lnTo>
                    <a:pt x="1801" y="1170"/>
                  </a:lnTo>
                  <a:lnTo>
                    <a:pt x="1807" y="1170"/>
                  </a:lnTo>
                  <a:lnTo>
                    <a:pt x="1813" y="1176"/>
                  </a:lnTo>
                  <a:lnTo>
                    <a:pt x="1819" y="1176"/>
                  </a:lnTo>
                  <a:lnTo>
                    <a:pt x="1825" y="1182"/>
                  </a:lnTo>
                  <a:lnTo>
                    <a:pt x="1831" y="1182"/>
                  </a:lnTo>
                  <a:lnTo>
                    <a:pt x="1837" y="1188"/>
                  </a:lnTo>
                  <a:lnTo>
                    <a:pt x="1843" y="1188"/>
                  </a:lnTo>
                  <a:lnTo>
                    <a:pt x="1849" y="1188"/>
                  </a:lnTo>
                  <a:lnTo>
                    <a:pt x="1855" y="1188"/>
                  </a:lnTo>
                  <a:lnTo>
                    <a:pt x="1861" y="1194"/>
                  </a:lnTo>
                  <a:lnTo>
                    <a:pt x="1867" y="1194"/>
                  </a:lnTo>
                  <a:lnTo>
                    <a:pt x="1873" y="1194"/>
                  </a:lnTo>
                  <a:lnTo>
                    <a:pt x="1879" y="1200"/>
                  </a:lnTo>
                  <a:lnTo>
                    <a:pt x="1885" y="1200"/>
                  </a:lnTo>
                  <a:lnTo>
                    <a:pt x="1891" y="1200"/>
                  </a:lnTo>
                  <a:lnTo>
                    <a:pt x="1897" y="1200"/>
                  </a:lnTo>
                  <a:lnTo>
                    <a:pt x="1903" y="1200"/>
                  </a:lnTo>
                  <a:lnTo>
                    <a:pt x="1909" y="1200"/>
                  </a:lnTo>
                  <a:lnTo>
                    <a:pt x="1915" y="1206"/>
                  </a:lnTo>
                  <a:lnTo>
                    <a:pt x="1921" y="1206"/>
                  </a:lnTo>
                  <a:lnTo>
                    <a:pt x="1927" y="1206"/>
                  </a:lnTo>
                  <a:lnTo>
                    <a:pt x="1933" y="1206"/>
                  </a:lnTo>
                  <a:lnTo>
                    <a:pt x="1939" y="1206"/>
                  </a:lnTo>
                  <a:lnTo>
                    <a:pt x="1945" y="1206"/>
                  </a:lnTo>
                  <a:lnTo>
                    <a:pt x="1951" y="1206"/>
                  </a:lnTo>
                  <a:lnTo>
                    <a:pt x="1957" y="1206"/>
                  </a:lnTo>
                  <a:lnTo>
                    <a:pt x="1963" y="1206"/>
                  </a:lnTo>
                  <a:lnTo>
                    <a:pt x="1969" y="1206"/>
                  </a:lnTo>
                  <a:lnTo>
                    <a:pt x="1975" y="1206"/>
                  </a:lnTo>
                  <a:lnTo>
                    <a:pt x="1981" y="1212"/>
                  </a:lnTo>
                  <a:lnTo>
                    <a:pt x="1987" y="1212"/>
                  </a:lnTo>
                  <a:lnTo>
                    <a:pt x="1993" y="1212"/>
                  </a:lnTo>
                  <a:lnTo>
                    <a:pt x="1999" y="1212"/>
                  </a:lnTo>
                  <a:lnTo>
                    <a:pt x="2005" y="1212"/>
                  </a:lnTo>
                  <a:lnTo>
                    <a:pt x="2011" y="1212"/>
                  </a:lnTo>
                  <a:lnTo>
                    <a:pt x="2017" y="1212"/>
                  </a:lnTo>
                  <a:lnTo>
                    <a:pt x="2023" y="1212"/>
                  </a:lnTo>
                  <a:lnTo>
                    <a:pt x="2029" y="1212"/>
                  </a:lnTo>
                  <a:lnTo>
                    <a:pt x="2035" y="1212"/>
                  </a:lnTo>
                  <a:lnTo>
                    <a:pt x="2041" y="1212"/>
                  </a:lnTo>
                  <a:lnTo>
                    <a:pt x="2047" y="1212"/>
                  </a:lnTo>
                  <a:lnTo>
                    <a:pt x="2053" y="1212"/>
                  </a:lnTo>
                  <a:lnTo>
                    <a:pt x="2059" y="1212"/>
                  </a:lnTo>
                  <a:lnTo>
                    <a:pt x="2065" y="1212"/>
                  </a:lnTo>
                  <a:lnTo>
                    <a:pt x="2071" y="1212"/>
                  </a:lnTo>
                  <a:lnTo>
                    <a:pt x="2077" y="1212"/>
                  </a:lnTo>
                  <a:lnTo>
                    <a:pt x="2083" y="1212"/>
                  </a:lnTo>
                  <a:lnTo>
                    <a:pt x="2089" y="1212"/>
                  </a:lnTo>
                  <a:lnTo>
                    <a:pt x="2095" y="1212"/>
                  </a:lnTo>
                  <a:lnTo>
                    <a:pt x="2101" y="1212"/>
                  </a:lnTo>
                  <a:lnTo>
                    <a:pt x="2107" y="1212"/>
                  </a:lnTo>
                  <a:lnTo>
                    <a:pt x="2113" y="1212"/>
                  </a:lnTo>
                  <a:lnTo>
                    <a:pt x="2119" y="1212"/>
                  </a:lnTo>
                  <a:lnTo>
                    <a:pt x="2125" y="1212"/>
                  </a:lnTo>
                  <a:lnTo>
                    <a:pt x="2131" y="1212"/>
                  </a:lnTo>
                  <a:lnTo>
                    <a:pt x="2137" y="1212"/>
                  </a:lnTo>
                  <a:lnTo>
                    <a:pt x="2143" y="1212"/>
                  </a:lnTo>
                  <a:lnTo>
                    <a:pt x="2149" y="1212"/>
                  </a:lnTo>
                  <a:lnTo>
                    <a:pt x="2155" y="1212"/>
                  </a:lnTo>
                  <a:lnTo>
                    <a:pt x="2161" y="1212"/>
                  </a:lnTo>
                  <a:lnTo>
                    <a:pt x="2167" y="1212"/>
                  </a:lnTo>
                  <a:lnTo>
                    <a:pt x="2173" y="1212"/>
                  </a:lnTo>
                  <a:lnTo>
                    <a:pt x="2179" y="1212"/>
                  </a:lnTo>
                  <a:lnTo>
                    <a:pt x="2185" y="1212"/>
                  </a:lnTo>
                  <a:lnTo>
                    <a:pt x="2191" y="1212"/>
                  </a:lnTo>
                  <a:lnTo>
                    <a:pt x="2197" y="1212"/>
                  </a:lnTo>
                  <a:lnTo>
                    <a:pt x="2203" y="1212"/>
                  </a:lnTo>
                  <a:lnTo>
                    <a:pt x="2209" y="1212"/>
                  </a:lnTo>
                  <a:lnTo>
                    <a:pt x="2215" y="1212"/>
                  </a:lnTo>
                  <a:lnTo>
                    <a:pt x="2221" y="1212"/>
                  </a:lnTo>
                  <a:lnTo>
                    <a:pt x="2227" y="1212"/>
                  </a:lnTo>
                  <a:lnTo>
                    <a:pt x="2233" y="1212"/>
                  </a:lnTo>
                  <a:lnTo>
                    <a:pt x="2239" y="1212"/>
                  </a:lnTo>
                  <a:lnTo>
                    <a:pt x="2245" y="1212"/>
                  </a:lnTo>
                  <a:lnTo>
                    <a:pt x="2251" y="1212"/>
                  </a:lnTo>
                  <a:lnTo>
                    <a:pt x="2257" y="1212"/>
                  </a:lnTo>
                  <a:lnTo>
                    <a:pt x="2263" y="1212"/>
                  </a:lnTo>
                  <a:lnTo>
                    <a:pt x="2269" y="1212"/>
                  </a:lnTo>
                  <a:lnTo>
                    <a:pt x="2275" y="1212"/>
                  </a:lnTo>
                  <a:lnTo>
                    <a:pt x="2281" y="1212"/>
                  </a:lnTo>
                  <a:lnTo>
                    <a:pt x="2287" y="1212"/>
                  </a:lnTo>
                  <a:lnTo>
                    <a:pt x="2293" y="1212"/>
                  </a:lnTo>
                  <a:lnTo>
                    <a:pt x="2299" y="1212"/>
                  </a:lnTo>
                  <a:lnTo>
                    <a:pt x="2305" y="1212"/>
                  </a:lnTo>
                  <a:lnTo>
                    <a:pt x="2311" y="1212"/>
                  </a:lnTo>
                  <a:lnTo>
                    <a:pt x="2317" y="1212"/>
                  </a:lnTo>
                  <a:lnTo>
                    <a:pt x="2323" y="1212"/>
                  </a:lnTo>
                  <a:lnTo>
                    <a:pt x="2329" y="1212"/>
                  </a:lnTo>
                  <a:lnTo>
                    <a:pt x="2335" y="1212"/>
                  </a:lnTo>
                  <a:lnTo>
                    <a:pt x="2341" y="1212"/>
                  </a:lnTo>
                  <a:lnTo>
                    <a:pt x="2347" y="1212"/>
                  </a:lnTo>
                  <a:lnTo>
                    <a:pt x="2353" y="1212"/>
                  </a:lnTo>
                  <a:lnTo>
                    <a:pt x="2359" y="1212"/>
                  </a:lnTo>
                  <a:lnTo>
                    <a:pt x="2365" y="1212"/>
                  </a:lnTo>
                  <a:lnTo>
                    <a:pt x="2371" y="1212"/>
                  </a:lnTo>
                  <a:lnTo>
                    <a:pt x="2377" y="1212"/>
                  </a:lnTo>
                  <a:lnTo>
                    <a:pt x="2383" y="1212"/>
                  </a:lnTo>
                  <a:lnTo>
                    <a:pt x="2389" y="1212"/>
                  </a:lnTo>
                  <a:lnTo>
                    <a:pt x="2395" y="1212"/>
                  </a:lnTo>
                  <a:lnTo>
                    <a:pt x="2401" y="1212"/>
                  </a:lnTo>
                  <a:lnTo>
                    <a:pt x="2407" y="1212"/>
                  </a:lnTo>
                  <a:lnTo>
                    <a:pt x="2413" y="1212"/>
                  </a:lnTo>
                  <a:lnTo>
                    <a:pt x="2419" y="1212"/>
                  </a:lnTo>
                  <a:lnTo>
                    <a:pt x="2425" y="1212"/>
                  </a:lnTo>
                  <a:lnTo>
                    <a:pt x="2431" y="1212"/>
                  </a:lnTo>
                  <a:lnTo>
                    <a:pt x="2437" y="1212"/>
                  </a:lnTo>
                  <a:lnTo>
                    <a:pt x="2443" y="1212"/>
                  </a:lnTo>
                  <a:lnTo>
                    <a:pt x="2449" y="1212"/>
                  </a:lnTo>
                  <a:lnTo>
                    <a:pt x="2455" y="1212"/>
                  </a:lnTo>
                  <a:lnTo>
                    <a:pt x="2461" y="1212"/>
                  </a:lnTo>
                  <a:lnTo>
                    <a:pt x="2467" y="1212"/>
                  </a:lnTo>
                  <a:lnTo>
                    <a:pt x="2473" y="1212"/>
                  </a:lnTo>
                  <a:lnTo>
                    <a:pt x="2479" y="1212"/>
                  </a:lnTo>
                  <a:lnTo>
                    <a:pt x="2485" y="1212"/>
                  </a:lnTo>
                  <a:lnTo>
                    <a:pt x="2491" y="1212"/>
                  </a:lnTo>
                  <a:lnTo>
                    <a:pt x="2497" y="1212"/>
                  </a:lnTo>
                  <a:lnTo>
                    <a:pt x="2503" y="1212"/>
                  </a:lnTo>
                  <a:lnTo>
                    <a:pt x="2509" y="1212"/>
                  </a:lnTo>
                  <a:lnTo>
                    <a:pt x="2515" y="1212"/>
                  </a:lnTo>
                  <a:lnTo>
                    <a:pt x="2521" y="1212"/>
                  </a:lnTo>
                  <a:lnTo>
                    <a:pt x="2527" y="1212"/>
                  </a:lnTo>
                  <a:lnTo>
                    <a:pt x="2533" y="1212"/>
                  </a:lnTo>
                  <a:lnTo>
                    <a:pt x="2539" y="1212"/>
                  </a:lnTo>
                  <a:lnTo>
                    <a:pt x="2545" y="1212"/>
                  </a:lnTo>
                  <a:lnTo>
                    <a:pt x="2551" y="1212"/>
                  </a:lnTo>
                  <a:lnTo>
                    <a:pt x="2557" y="1212"/>
                  </a:lnTo>
                  <a:lnTo>
                    <a:pt x="2563" y="1212"/>
                  </a:lnTo>
                  <a:lnTo>
                    <a:pt x="2569" y="1212"/>
                  </a:lnTo>
                  <a:lnTo>
                    <a:pt x="2575" y="1212"/>
                  </a:lnTo>
                  <a:lnTo>
                    <a:pt x="2581" y="1212"/>
                  </a:lnTo>
                  <a:lnTo>
                    <a:pt x="2587" y="1212"/>
                  </a:lnTo>
                  <a:lnTo>
                    <a:pt x="2593" y="1212"/>
                  </a:lnTo>
                  <a:lnTo>
                    <a:pt x="2599" y="1212"/>
                  </a:lnTo>
                  <a:lnTo>
                    <a:pt x="2605" y="1212"/>
                  </a:lnTo>
                  <a:lnTo>
                    <a:pt x="2611" y="1212"/>
                  </a:lnTo>
                  <a:lnTo>
                    <a:pt x="2617" y="1212"/>
                  </a:lnTo>
                  <a:lnTo>
                    <a:pt x="2623" y="1212"/>
                  </a:lnTo>
                  <a:lnTo>
                    <a:pt x="2629" y="1212"/>
                  </a:lnTo>
                  <a:lnTo>
                    <a:pt x="2635" y="1212"/>
                  </a:lnTo>
                  <a:lnTo>
                    <a:pt x="2641" y="1212"/>
                  </a:lnTo>
                  <a:lnTo>
                    <a:pt x="2647" y="1212"/>
                  </a:lnTo>
                  <a:lnTo>
                    <a:pt x="2653" y="1212"/>
                  </a:lnTo>
                  <a:lnTo>
                    <a:pt x="2659" y="1212"/>
                  </a:lnTo>
                  <a:lnTo>
                    <a:pt x="2665" y="1212"/>
                  </a:lnTo>
                  <a:lnTo>
                    <a:pt x="2671" y="1212"/>
                  </a:lnTo>
                  <a:lnTo>
                    <a:pt x="2677" y="1212"/>
                  </a:lnTo>
                  <a:lnTo>
                    <a:pt x="2683" y="1212"/>
                  </a:lnTo>
                  <a:lnTo>
                    <a:pt x="2689" y="1212"/>
                  </a:lnTo>
                  <a:lnTo>
                    <a:pt x="2695" y="1212"/>
                  </a:lnTo>
                  <a:lnTo>
                    <a:pt x="2701" y="1212"/>
                  </a:lnTo>
                  <a:lnTo>
                    <a:pt x="2707" y="1212"/>
                  </a:lnTo>
                  <a:lnTo>
                    <a:pt x="2713" y="1212"/>
                  </a:lnTo>
                  <a:lnTo>
                    <a:pt x="2719" y="1212"/>
                  </a:lnTo>
                  <a:lnTo>
                    <a:pt x="2725" y="1212"/>
                  </a:lnTo>
                  <a:lnTo>
                    <a:pt x="2731" y="1212"/>
                  </a:lnTo>
                  <a:lnTo>
                    <a:pt x="2737" y="1212"/>
                  </a:lnTo>
                  <a:lnTo>
                    <a:pt x="2743" y="1212"/>
                  </a:lnTo>
                  <a:lnTo>
                    <a:pt x="2749" y="1212"/>
                  </a:lnTo>
                  <a:lnTo>
                    <a:pt x="2755" y="1212"/>
                  </a:lnTo>
                  <a:lnTo>
                    <a:pt x="2761" y="1212"/>
                  </a:lnTo>
                  <a:lnTo>
                    <a:pt x="2767" y="1212"/>
                  </a:lnTo>
                  <a:lnTo>
                    <a:pt x="2773" y="1212"/>
                  </a:lnTo>
                  <a:lnTo>
                    <a:pt x="2779" y="1212"/>
                  </a:lnTo>
                  <a:lnTo>
                    <a:pt x="2785" y="1212"/>
                  </a:lnTo>
                  <a:lnTo>
                    <a:pt x="2791" y="1212"/>
                  </a:lnTo>
                  <a:lnTo>
                    <a:pt x="2797" y="1212"/>
                  </a:lnTo>
                  <a:lnTo>
                    <a:pt x="2803" y="1212"/>
                  </a:lnTo>
                  <a:lnTo>
                    <a:pt x="2809" y="1212"/>
                  </a:lnTo>
                  <a:lnTo>
                    <a:pt x="2815" y="1212"/>
                  </a:lnTo>
                  <a:lnTo>
                    <a:pt x="2821" y="1212"/>
                  </a:lnTo>
                  <a:lnTo>
                    <a:pt x="2827" y="1212"/>
                  </a:lnTo>
                  <a:lnTo>
                    <a:pt x="2833" y="1212"/>
                  </a:lnTo>
                  <a:lnTo>
                    <a:pt x="2839" y="1212"/>
                  </a:lnTo>
                  <a:lnTo>
                    <a:pt x="2845" y="1212"/>
                  </a:lnTo>
                  <a:lnTo>
                    <a:pt x="2851" y="1212"/>
                  </a:lnTo>
                  <a:lnTo>
                    <a:pt x="2857" y="1212"/>
                  </a:lnTo>
                  <a:lnTo>
                    <a:pt x="2863" y="1212"/>
                  </a:lnTo>
                  <a:lnTo>
                    <a:pt x="2869" y="1212"/>
                  </a:lnTo>
                  <a:lnTo>
                    <a:pt x="2875" y="1212"/>
                  </a:lnTo>
                  <a:lnTo>
                    <a:pt x="2881" y="1212"/>
                  </a:lnTo>
                  <a:lnTo>
                    <a:pt x="2887" y="1212"/>
                  </a:lnTo>
                  <a:lnTo>
                    <a:pt x="2893" y="1212"/>
                  </a:lnTo>
                  <a:lnTo>
                    <a:pt x="2899" y="1212"/>
                  </a:lnTo>
                  <a:lnTo>
                    <a:pt x="2905" y="1212"/>
                  </a:lnTo>
                  <a:lnTo>
                    <a:pt x="2911" y="1212"/>
                  </a:lnTo>
                  <a:lnTo>
                    <a:pt x="2917" y="1212"/>
                  </a:lnTo>
                  <a:lnTo>
                    <a:pt x="2923" y="1212"/>
                  </a:lnTo>
                  <a:lnTo>
                    <a:pt x="2929" y="1212"/>
                  </a:lnTo>
                  <a:lnTo>
                    <a:pt x="2935" y="1212"/>
                  </a:lnTo>
                  <a:lnTo>
                    <a:pt x="2941" y="1212"/>
                  </a:lnTo>
                  <a:lnTo>
                    <a:pt x="2947" y="1212"/>
                  </a:lnTo>
                  <a:lnTo>
                    <a:pt x="2953" y="1212"/>
                  </a:lnTo>
                  <a:lnTo>
                    <a:pt x="2959" y="1212"/>
                  </a:lnTo>
                  <a:lnTo>
                    <a:pt x="2965" y="1212"/>
                  </a:lnTo>
                  <a:lnTo>
                    <a:pt x="2971" y="1212"/>
                  </a:lnTo>
                  <a:lnTo>
                    <a:pt x="2977" y="1212"/>
                  </a:lnTo>
                  <a:lnTo>
                    <a:pt x="2983" y="1212"/>
                  </a:lnTo>
                  <a:lnTo>
                    <a:pt x="2989" y="1212"/>
                  </a:lnTo>
                  <a:lnTo>
                    <a:pt x="2995" y="1212"/>
                  </a:lnTo>
                  <a:lnTo>
                    <a:pt x="3001" y="1212"/>
                  </a:lnTo>
                  <a:lnTo>
                    <a:pt x="3007" y="1212"/>
                  </a:lnTo>
                  <a:lnTo>
                    <a:pt x="3013" y="1212"/>
                  </a:lnTo>
                  <a:lnTo>
                    <a:pt x="3019" y="1212"/>
                  </a:lnTo>
                  <a:lnTo>
                    <a:pt x="3025" y="1212"/>
                  </a:lnTo>
                  <a:lnTo>
                    <a:pt x="3031" y="1212"/>
                  </a:lnTo>
                  <a:lnTo>
                    <a:pt x="3037" y="1212"/>
                  </a:lnTo>
                  <a:lnTo>
                    <a:pt x="3043" y="1212"/>
                  </a:lnTo>
                  <a:lnTo>
                    <a:pt x="3049" y="1212"/>
                  </a:lnTo>
                  <a:lnTo>
                    <a:pt x="3055" y="1212"/>
                  </a:lnTo>
                  <a:lnTo>
                    <a:pt x="3061" y="1212"/>
                  </a:lnTo>
                  <a:lnTo>
                    <a:pt x="3067" y="1212"/>
                  </a:lnTo>
                  <a:lnTo>
                    <a:pt x="3073" y="1212"/>
                  </a:lnTo>
                  <a:lnTo>
                    <a:pt x="3079" y="1212"/>
                  </a:lnTo>
                  <a:lnTo>
                    <a:pt x="3085" y="1212"/>
                  </a:lnTo>
                  <a:lnTo>
                    <a:pt x="3091" y="1212"/>
                  </a:lnTo>
                  <a:lnTo>
                    <a:pt x="3097" y="1212"/>
                  </a:lnTo>
                  <a:lnTo>
                    <a:pt x="3103" y="1212"/>
                  </a:lnTo>
                  <a:lnTo>
                    <a:pt x="3109" y="1212"/>
                  </a:lnTo>
                  <a:lnTo>
                    <a:pt x="3115" y="1212"/>
                  </a:lnTo>
                  <a:lnTo>
                    <a:pt x="3121" y="1212"/>
                  </a:lnTo>
                  <a:lnTo>
                    <a:pt x="3127" y="1212"/>
                  </a:lnTo>
                  <a:lnTo>
                    <a:pt x="3133" y="1212"/>
                  </a:lnTo>
                  <a:lnTo>
                    <a:pt x="3139" y="1212"/>
                  </a:lnTo>
                  <a:lnTo>
                    <a:pt x="3145" y="1212"/>
                  </a:lnTo>
                  <a:lnTo>
                    <a:pt x="3151" y="1212"/>
                  </a:lnTo>
                  <a:lnTo>
                    <a:pt x="3157" y="1212"/>
                  </a:lnTo>
                  <a:lnTo>
                    <a:pt x="3163" y="1212"/>
                  </a:lnTo>
                  <a:lnTo>
                    <a:pt x="3169" y="1212"/>
                  </a:lnTo>
                  <a:lnTo>
                    <a:pt x="3175" y="1212"/>
                  </a:lnTo>
                  <a:lnTo>
                    <a:pt x="3181" y="1212"/>
                  </a:lnTo>
                  <a:lnTo>
                    <a:pt x="3187" y="1212"/>
                  </a:lnTo>
                  <a:lnTo>
                    <a:pt x="3193" y="1212"/>
                  </a:lnTo>
                  <a:lnTo>
                    <a:pt x="3199" y="1212"/>
                  </a:lnTo>
                  <a:lnTo>
                    <a:pt x="3205" y="1212"/>
                  </a:lnTo>
                  <a:lnTo>
                    <a:pt x="3211" y="1212"/>
                  </a:lnTo>
                  <a:lnTo>
                    <a:pt x="3217" y="1212"/>
                  </a:lnTo>
                  <a:lnTo>
                    <a:pt x="3223" y="1212"/>
                  </a:lnTo>
                  <a:lnTo>
                    <a:pt x="3229" y="1212"/>
                  </a:lnTo>
                  <a:lnTo>
                    <a:pt x="3235" y="1212"/>
                  </a:lnTo>
                  <a:lnTo>
                    <a:pt x="3241" y="1212"/>
                  </a:lnTo>
                  <a:lnTo>
                    <a:pt x="3247" y="1212"/>
                  </a:lnTo>
                  <a:lnTo>
                    <a:pt x="3253" y="1212"/>
                  </a:lnTo>
                  <a:lnTo>
                    <a:pt x="3259" y="1212"/>
                  </a:lnTo>
                  <a:lnTo>
                    <a:pt x="3265" y="1212"/>
                  </a:lnTo>
                  <a:lnTo>
                    <a:pt x="3271" y="1212"/>
                  </a:lnTo>
                  <a:lnTo>
                    <a:pt x="3277" y="1212"/>
                  </a:lnTo>
                  <a:lnTo>
                    <a:pt x="3283" y="1212"/>
                  </a:lnTo>
                  <a:lnTo>
                    <a:pt x="3289" y="1212"/>
                  </a:lnTo>
                  <a:lnTo>
                    <a:pt x="3295" y="1212"/>
                  </a:lnTo>
                  <a:lnTo>
                    <a:pt x="3301" y="1212"/>
                  </a:lnTo>
                  <a:lnTo>
                    <a:pt x="3307" y="1212"/>
                  </a:lnTo>
                  <a:lnTo>
                    <a:pt x="3313" y="1212"/>
                  </a:lnTo>
                  <a:lnTo>
                    <a:pt x="3319" y="1212"/>
                  </a:lnTo>
                  <a:lnTo>
                    <a:pt x="3325" y="1212"/>
                  </a:lnTo>
                  <a:lnTo>
                    <a:pt x="3331" y="1212"/>
                  </a:lnTo>
                  <a:lnTo>
                    <a:pt x="3337" y="1212"/>
                  </a:lnTo>
                  <a:lnTo>
                    <a:pt x="3343" y="1212"/>
                  </a:lnTo>
                  <a:lnTo>
                    <a:pt x="3349" y="1212"/>
                  </a:lnTo>
                  <a:lnTo>
                    <a:pt x="3355" y="1212"/>
                  </a:lnTo>
                  <a:lnTo>
                    <a:pt x="3361" y="1212"/>
                  </a:lnTo>
                  <a:lnTo>
                    <a:pt x="3367" y="1212"/>
                  </a:lnTo>
                  <a:lnTo>
                    <a:pt x="3373" y="1212"/>
                  </a:lnTo>
                  <a:lnTo>
                    <a:pt x="3379" y="1212"/>
                  </a:lnTo>
                  <a:lnTo>
                    <a:pt x="3385" y="1212"/>
                  </a:lnTo>
                  <a:lnTo>
                    <a:pt x="3391" y="1212"/>
                  </a:lnTo>
                  <a:lnTo>
                    <a:pt x="3397" y="1212"/>
                  </a:lnTo>
                  <a:lnTo>
                    <a:pt x="3403" y="1212"/>
                  </a:lnTo>
                  <a:lnTo>
                    <a:pt x="3409" y="1212"/>
                  </a:lnTo>
                  <a:lnTo>
                    <a:pt x="3415" y="1212"/>
                  </a:lnTo>
                  <a:lnTo>
                    <a:pt x="3421" y="1212"/>
                  </a:lnTo>
                  <a:lnTo>
                    <a:pt x="3427" y="1212"/>
                  </a:lnTo>
                  <a:lnTo>
                    <a:pt x="3433" y="1212"/>
                  </a:lnTo>
                  <a:lnTo>
                    <a:pt x="3439" y="1212"/>
                  </a:lnTo>
                  <a:lnTo>
                    <a:pt x="3445" y="1212"/>
                  </a:lnTo>
                  <a:lnTo>
                    <a:pt x="3451" y="1212"/>
                  </a:lnTo>
                  <a:lnTo>
                    <a:pt x="3457" y="1212"/>
                  </a:lnTo>
                  <a:lnTo>
                    <a:pt x="3463" y="1212"/>
                  </a:lnTo>
                  <a:lnTo>
                    <a:pt x="3469" y="1212"/>
                  </a:lnTo>
                  <a:lnTo>
                    <a:pt x="3475" y="1212"/>
                  </a:lnTo>
                  <a:lnTo>
                    <a:pt x="3481" y="1212"/>
                  </a:lnTo>
                  <a:lnTo>
                    <a:pt x="3487" y="1212"/>
                  </a:lnTo>
                  <a:lnTo>
                    <a:pt x="3493" y="1212"/>
                  </a:lnTo>
                  <a:lnTo>
                    <a:pt x="3499" y="1212"/>
                  </a:lnTo>
                  <a:lnTo>
                    <a:pt x="3505" y="1212"/>
                  </a:lnTo>
                  <a:lnTo>
                    <a:pt x="3511" y="1212"/>
                  </a:lnTo>
                  <a:lnTo>
                    <a:pt x="3517" y="1212"/>
                  </a:lnTo>
                  <a:lnTo>
                    <a:pt x="3523" y="1212"/>
                  </a:lnTo>
                  <a:lnTo>
                    <a:pt x="3529" y="1212"/>
                  </a:lnTo>
                  <a:lnTo>
                    <a:pt x="3535" y="1212"/>
                  </a:lnTo>
                  <a:lnTo>
                    <a:pt x="3541" y="1212"/>
                  </a:lnTo>
                  <a:lnTo>
                    <a:pt x="3547" y="1212"/>
                  </a:lnTo>
                  <a:lnTo>
                    <a:pt x="3547" y="12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1611360" y="3530880"/>
              <a:ext cx="84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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= -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rot="16200000">
            <a:off x="2276640" y="3516480"/>
            <a:ext cx="65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82520" y="5024520"/>
            <a:ext cx="15764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aximum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at 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= -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9360" y="1481040"/>
            <a:ext cx="2058840" cy="476280"/>
          </a:xfrm>
          <a:custGeom>
            <a:avLst/>
            <a:gdLst/>
            <a:ahLst/>
            <a:rect l="l" t="t" r="r" b="b"/>
            <a:pathLst>
              <a:path w="1297" h="300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16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24"/>
                </a:lnTo>
                <a:lnTo>
                  <a:pt x="546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76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06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36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66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0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0" y="24"/>
                </a:lnTo>
                <a:lnTo>
                  <a:pt x="726" y="24"/>
                </a:lnTo>
                <a:lnTo>
                  <a:pt x="732" y="24"/>
                </a:lnTo>
                <a:lnTo>
                  <a:pt x="738" y="24"/>
                </a:lnTo>
                <a:lnTo>
                  <a:pt x="744" y="24"/>
                </a:lnTo>
                <a:lnTo>
                  <a:pt x="750" y="24"/>
                </a:lnTo>
                <a:lnTo>
                  <a:pt x="756" y="24"/>
                </a:lnTo>
                <a:lnTo>
                  <a:pt x="762" y="24"/>
                </a:lnTo>
                <a:lnTo>
                  <a:pt x="768" y="24"/>
                </a:lnTo>
                <a:lnTo>
                  <a:pt x="774" y="30"/>
                </a:lnTo>
                <a:lnTo>
                  <a:pt x="780" y="30"/>
                </a:lnTo>
                <a:lnTo>
                  <a:pt x="786" y="30"/>
                </a:lnTo>
                <a:lnTo>
                  <a:pt x="792" y="30"/>
                </a:lnTo>
                <a:lnTo>
                  <a:pt x="798" y="30"/>
                </a:lnTo>
                <a:lnTo>
                  <a:pt x="804" y="30"/>
                </a:lnTo>
                <a:lnTo>
                  <a:pt x="810" y="30"/>
                </a:lnTo>
                <a:lnTo>
                  <a:pt x="816" y="30"/>
                </a:lnTo>
                <a:lnTo>
                  <a:pt x="822" y="30"/>
                </a:lnTo>
                <a:lnTo>
                  <a:pt x="828" y="30"/>
                </a:lnTo>
                <a:lnTo>
                  <a:pt x="834" y="30"/>
                </a:lnTo>
                <a:lnTo>
                  <a:pt x="840" y="30"/>
                </a:lnTo>
                <a:lnTo>
                  <a:pt x="846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30"/>
                </a:lnTo>
                <a:lnTo>
                  <a:pt x="876" y="30"/>
                </a:lnTo>
                <a:lnTo>
                  <a:pt x="882" y="30"/>
                </a:lnTo>
                <a:lnTo>
                  <a:pt x="888" y="30"/>
                </a:lnTo>
                <a:lnTo>
                  <a:pt x="894" y="30"/>
                </a:lnTo>
                <a:lnTo>
                  <a:pt x="900" y="30"/>
                </a:lnTo>
                <a:lnTo>
                  <a:pt x="906" y="30"/>
                </a:lnTo>
                <a:lnTo>
                  <a:pt x="912" y="30"/>
                </a:lnTo>
                <a:lnTo>
                  <a:pt x="918" y="30"/>
                </a:lnTo>
                <a:lnTo>
                  <a:pt x="924" y="30"/>
                </a:lnTo>
                <a:lnTo>
                  <a:pt x="930" y="36"/>
                </a:lnTo>
                <a:lnTo>
                  <a:pt x="936" y="36"/>
                </a:lnTo>
                <a:lnTo>
                  <a:pt x="942" y="36"/>
                </a:lnTo>
                <a:lnTo>
                  <a:pt x="948" y="36"/>
                </a:lnTo>
                <a:lnTo>
                  <a:pt x="954" y="36"/>
                </a:lnTo>
                <a:lnTo>
                  <a:pt x="960" y="36"/>
                </a:lnTo>
                <a:lnTo>
                  <a:pt x="966" y="36"/>
                </a:lnTo>
                <a:lnTo>
                  <a:pt x="972" y="36"/>
                </a:lnTo>
                <a:lnTo>
                  <a:pt x="978" y="36"/>
                </a:lnTo>
                <a:lnTo>
                  <a:pt x="984" y="36"/>
                </a:lnTo>
                <a:lnTo>
                  <a:pt x="990" y="36"/>
                </a:lnTo>
                <a:lnTo>
                  <a:pt x="996" y="36"/>
                </a:lnTo>
                <a:lnTo>
                  <a:pt x="1002" y="36"/>
                </a:lnTo>
                <a:lnTo>
                  <a:pt x="1008" y="36"/>
                </a:lnTo>
                <a:lnTo>
                  <a:pt x="1014" y="36"/>
                </a:lnTo>
                <a:lnTo>
                  <a:pt x="1020" y="36"/>
                </a:lnTo>
                <a:lnTo>
                  <a:pt x="1026" y="36"/>
                </a:lnTo>
                <a:lnTo>
                  <a:pt x="1032" y="42"/>
                </a:lnTo>
                <a:lnTo>
                  <a:pt x="1038" y="42"/>
                </a:lnTo>
                <a:lnTo>
                  <a:pt x="1044" y="42"/>
                </a:lnTo>
                <a:lnTo>
                  <a:pt x="1050" y="42"/>
                </a:lnTo>
                <a:lnTo>
                  <a:pt x="1056" y="42"/>
                </a:lnTo>
                <a:lnTo>
                  <a:pt x="1062" y="42"/>
                </a:lnTo>
                <a:lnTo>
                  <a:pt x="1068" y="42"/>
                </a:lnTo>
                <a:lnTo>
                  <a:pt x="1074" y="42"/>
                </a:lnTo>
                <a:lnTo>
                  <a:pt x="1080" y="42"/>
                </a:lnTo>
                <a:lnTo>
                  <a:pt x="1086" y="42"/>
                </a:lnTo>
                <a:lnTo>
                  <a:pt x="1092" y="48"/>
                </a:lnTo>
                <a:lnTo>
                  <a:pt x="1098" y="48"/>
                </a:lnTo>
                <a:lnTo>
                  <a:pt x="1104" y="48"/>
                </a:lnTo>
                <a:lnTo>
                  <a:pt x="1110" y="48"/>
                </a:lnTo>
                <a:lnTo>
                  <a:pt x="1116" y="48"/>
                </a:lnTo>
                <a:lnTo>
                  <a:pt x="1122" y="48"/>
                </a:lnTo>
                <a:lnTo>
                  <a:pt x="1128" y="48"/>
                </a:lnTo>
                <a:lnTo>
                  <a:pt x="1134" y="48"/>
                </a:lnTo>
                <a:lnTo>
                  <a:pt x="1141" y="54"/>
                </a:lnTo>
                <a:lnTo>
                  <a:pt x="1147" y="54"/>
                </a:lnTo>
                <a:lnTo>
                  <a:pt x="1153" y="54"/>
                </a:lnTo>
                <a:lnTo>
                  <a:pt x="1159" y="54"/>
                </a:lnTo>
                <a:lnTo>
                  <a:pt x="1165" y="54"/>
                </a:lnTo>
                <a:lnTo>
                  <a:pt x="1171" y="60"/>
                </a:lnTo>
                <a:lnTo>
                  <a:pt x="1177" y="60"/>
                </a:lnTo>
                <a:lnTo>
                  <a:pt x="1183" y="60"/>
                </a:lnTo>
                <a:lnTo>
                  <a:pt x="1189" y="66"/>
                </a:lnTo>
                <a:lnTo>
                  <a:pt x="1195" y="66"/>
                </a:lnTo>
                <a:lnTo>
                  <a:pt x="1201" y="66"/>
                </a:lnTo>
                <a:lnTo>
                  <a:pt x="1207" y="72"/>
                </a:lnTo>
                <a:lnTo>
                  <a:pt x="1213" y="72"/>
                </a:lnTo>
                <a:lnTo>
                  <a:pt x="1219" y="72"/>
                </a:lnTo>
                <a:lnTo>
                  <a:pt x="1225" y="78"/>
                </a:lnTo>
                <a:lnTo>
                  <a:pt x="1231" y="78"/>
                </a:lnTo>
                <a:lnTo>
                  <a:pt x="1237" y="84"/>
                </a:lnTo>
                <a:lnTo>
                  <a:pt x="1243" y="90"/>
                </a:lnTo>
                <a:lnTo>
                  <a:pt x="1249" y="96"/>
                </a:lnTo>
                <a:lnTo>
                  <a:pt x="1255" y="102"/>
                </a:lnTo>
                <a:lnTo>
                  <a:pt x="1261" y="108"/>
                </a:lnTo>
                <a:lnTo>
                  <a:pt x="1267" y="114"/>
                </a:lnTo>
                <a:lnTo>
                  <a:pt x="1267" y="120"/>
                </a:lnTo>
                <a:lnTo>
                  <a:pt x="1273" y="126"/>
                </a:lnTo>
                <a:lnTo>
                  <a:pt x="1273" y="132"/>
                </a:lnTo>
                <a:lnTo>
                  <a:pt x="1279" y="138"/>
                </a:lnTo>
                <a:lnTo>
                  <a:pt x="1279" y="150"/>
                </a:lnTo>
                <a:lnTo>
                  <a:pt x="1279" y="156"/>
                </a:lnTo>
                <a:lnTo>
                  <a:pt x="1285" y="174"/>
                </a:lnTo>
                <a:lnTo>
                  <a:pt x="1285" y="186"/>
                </a:lnTo>
                <a:lnTo>
                  <a:pt x="1291" y="210"/>
                </a:lnTo>
                <a:lnTo>
                  <a:pt x="1291" y="246"/>
                </a:lnTo>
                <a:lnTo>
                  <a:pt x="1297" y="300"/>
                </a:lnTo>
                <a:lnTo>
                  <a:pt x="1297" y="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93800" y="995400"/>
            <a:ext cx="2057400" cy="485640"/>
          </a:xfrm>
          <a:custGeom>
            <a:avLst/>
            <a:gdLst/>
            <a:ahLst/>
            <a:rect l="l" t="t" r="r" b="b"/>
            <a:pathLst>
              <a:path w="1296" h="306">
                <a:moveTo>
                  <a:pt x="0" y="306"/>
                </a:moveTo>
                <a:lnTo>
                  <a:pt x="0" y="0"/>
                </a:lnTo>
                <a:lnTo>
                  <a:pt x="6" y="54"/>
                </a:lnTo>
                <a:lnTo>
                  <a:pt x="6" y="90"/>
                </a:lnTo>
                <a:lnTo>
                  <a:pt x="12" y="114"/>
                </a:lnTo>
                <a:lnTo>
                  <a:pt x="12" y="126"/>
                </a:lnTo>
                <a:lnTo>
                  <a:pt x="18" y="144"/>
                </a:lnTo>
                <a:lnTo>
                  <a:pt x="18" y="150"/>
                </a:lnTo>
                <a:lnTo>
                  <a:pt x="18" y="162"/>
                </a:lnTo>
                <a:lnTo>
                  <a:pt x="24" y="168"/>
                </a:lnTo>
                <a:lnTo>
                  <a:pt x="24" y="174"/>
                </a:lnTo>
                <a:lnTo>
                  <a:pt x="30" y="180"/>
                </a:lnTo>
                <a:lnTo>
                  <a:pt x="36" y="186"/>
                </a:lnTo>
                <a:lnTo>
                  <a:pt x="36" y="192"/>
                </a:lnTo>
                <a:lnTo>
                  <a:pt x="42" y="198"/>
                </a:lnTo>
                <a:lnTo>
                  <a:pt x="48" y="204"/>
                </a:lnTo>
                <a:lnTo>
                  <a:pt x="54" y="210"/>
                </a:lnTo>
                <a:lnTo>
                  <a:pt x="60" y="216"/>
                </a:lnTo>
                <a:lnTo>
                  <a:pt x="66" y="222"/>
                </a:lnTo>
                <a:lnTo>
                  <a:pt x="72" y="222"/>
                </a:lnTo>
                <a:lnTo>
                  <a:pt x="78" y="228"/>
                </a:lnTo>
                <a:lnTo>
                  <a:pt x="84" y="228"/>
                </a:lnTo>
                <a:lnTo>
                  <a:pt x="90" y="234"/>
                </a:lnTo>
                <a:lnTo>
                  <a:pt x="96" y="234"/>
                </a:lnTo>
                <a:lnTo>
                  <a:pt x="102" y="234"/>
                </a:lnTo>
                <a:lnTo>
                  <a:pt x="108" y="240"/>
                </a:lnTo>
                <a:lnTo>
                  <a:pt x="114" y="240"/>
                </a:lnTo>
                <a:lnTo>
                  <a:pt x="120" y="240"/>
                </a:lnTo>
                <a:lnTo>
                  <a:pt x="126" y="240"/>
                </a:lnTo>
                <a:lnTo>
                  <a:pt x="132" y="246"/>
                </a:lnTo>
                <a:lnTo>
                  <a:pt x="138" y="246"/>
                </a:lnTo>
                <a:lnTo>
                  <a:pt x="144" y="246"/>
                </a:lnTo>
                <a:lnTo>
                  <a:pt x="150" y="246"/>
                </a:lnTo>
                <a:lnTo>
                  <a:pt x="156" y="246"/>
                </a:lnTo>
                <a:lnTo>
                  <a:pt x="162" y="252"/>
                </a:lnTo>
                <a:lnTo>
                  <a:pt x="168" y="252"/>
                </a:lnTo>
                <a:lnTo>
                  <a:pt x="174" y="252"/>
                </a:lnTo>
                <a:lnTo>
                  <a:pt x="180" y="252"/>
                </a:lnTo>
                <a:lnTo>
                  <a:pt x="186" y="252"/>
                </a:lnTo>
                <a:lnTo>
                  <a:pt x="192" y="252"/>
                </a:lnTo>
                <a:lnTo>
                  <a:pt x="198" y="252"/>
                </a:lnTo>
                <a:lnTo>
                  <a:pt x="204" y="258"/>
                </a:lnTo>
                <a:lnTo>
                  <a:pt x="210" y="258"/>
                </a:lnTo>
                <a:lnTo>
                  <a:pt x="216" y="258"/>
                </a:lnTo>
                <a:lnTo>
                  <a:pt x="222" y="258"/>
                </a:lnTo>
                <a:lnTo>
                  <a:pt x="228" y="258"/>
                </a:lnTo>
                <a:lnTo>
                  <a:pt x="234" y="258"/>
                </a:lnTo>
                <a:lnTo>
                  <a:pt x="240" y="258"/>
                </a:lnTo>
                <a:lnTo>
                  <a:pt x="246" y="258"/>
                </a:lnTo>
                <a:lnTo>
                  <a:pt x="252" y="258"/>
                </a:lnTo>
                <a:lnTo>
                  <a:pt x="258" y="258"/>
                </a:lnTo>
                <a:lnTo>
                  <a:pt x="264" y="258"/>
                </a:lnTo>
                <a:lnTo>
                  <a:pt x="270" y="264"/>
                </a:lnTo>
                <a:lnTo>
                  <a:pt x="276" y="264"/>
                </a:lnTo>
                <a:lnTo>
                  <a:pt x="282" y="264"/>
                </a:lnTo>
                <a:lnTo>
                  <a:pt x="288" y="264"/>
                </a:lnTo>
                <a:lnTo>
                  <a:pt x="294" y="264"/>
                </a:lnTo>
                <a:lnTo>
                  <a:pt x="300" y="264"/>
                </a:lnTo>
                <a:lnTo>
                  <a:pt x="306" y="264"/>
                </a:lnTo>
                <a:lnTo>
                  <a:pt x="312" y="264"/>
                </a:lnTo>
                <a:lnTo>
                  <a:pt x="318" y="264"/>
                </a:lnTo>
                <a:lnTo>
                  <a:pt x="324" y="264"/>
                </a:lnTo>
                <a:lnTo>
                  <a:pt x="330" y="264"/>
                </a:lnTo>
                <a:lnTo>
                  <a:pt x="336" y="264"/>
                </a:lnTo>
                <a:lnTo>
                  <a:pt x="342" y="264"/>
                </a:lnTo>
                <a:lnTo>
                  <a:pt x="348" y="264"/>
                </a:lnTo>
                <a:lnTo>
                  <a:pt x="354" y="264"/>
                </a:lnTo>
                <a:lnTo>
                  <a:pt x="360" y="264"/>
                </a:lnTo>
                <a:lnTo>
                  <a:pt x="366" y="270"/>
                </a:lnTo>
                <a:lnTo>
                  <a:pt x="372" y="270"/>
                </a:lnTo>
                <a:lnTo>
                  <a:pt x="378" y="270"/>
                </a:lnTo>
                <a:lnTo>
                  <a:pt x="384" y="270"/>
                </a:lnTo>
                <a:lnTo>
                  <a:pt x="390" y="270"/>
                </a:lnTo>
                <a:lnTo>
                  <a:pt x="396" y="270"/>
                </a:lnTo>
                <a:lnTo>
                  <a:pt x="402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70"/>
                </a:lnTo>
                <a:lnTo>
                  <a:pt x="426" y="270"/>
                </a:lnTo>
                <a:lnTo>
                  <a:pt x="432" y="270"/>
                </a:lnTo>
                <a:lnTo>
                  <a:pt x="438" y="270"/>
                </a:lnTo>
                <a:lnTo>
                  <a:pt x="444" y="270"/>
                </a:lnTo>
                <a:lnTo>
                  <a:pt x="450" y="270"/>
                </a:lnTo>
                <a:lnTo>
                  <a:pt x="456" y="270"/>
                </a:lnTo>
                <a:lnTo>
                  <a:pt x="462" y="270"/>
                </a:lnTo>
                <a:lnTo>
                  <a:pt x="468" y="270"/>
                </a:lnTo>
                <a:lnTo>
                  <a:pt x="474" y="270"/>
                </a:lnTo>
                <a:lnTo>
                  <a:pt x="480" y="270"/>
                </a:lnTo>
                <a:lnTo>
                  <a:pt x="486" y="270"/>
                </a:lnTo>
                <a:lnTo>
                  <a:pt x="492" y="270"/>
                </a:lnTo>
                <a:lnTo>
                  <a:pt x="498" y="270"/>
                </a:lnTo>
                <a:lnTo>
                  <a:pt x="504" y="270"/>
                </a:lnTo>
                <a:lnTo>
                  <a:pt x="510" y="270"/>
                </a:lnTo>
                <a:lnTo>
                  <a:pt x="516" y="270"/>
                </a:lnTo>
                <a:lnTo>
                  <a:pt x="522" y="270"/>
                </a:lnTo>
                <a:lnTo>
                  <a:pt x="528" y="276"/>
                </a:lnTo>
                <a:lnTo>
                  <a:pt x="534" y="276"/>
                </a:lnTo>
                <a:lnTo>
                  <a:pt x="540" y="276"/>
                </a:lnTo>
                <a:lnTo>
                  <a:pt x="546" y="276"/>
                </a:lnTo>
                <a:lnTo>
                  <a:pt x="552" y="276"/>
                </a:lnTo>
                <a:lnTo>
                  <a:pt x="558" y="276"/>
                </a:lnTo>
                <a:lnTo>
                  <a:pt x="564" y="276"/>
                </a:lnTo>
                <a:lnTo>
                  <a:pt x="570" y="276"/>
                </a:lnTo>
                <a:lnTo>
                  <a:pt x="576" y="276"/>
                </a:lnTo>
                <a:lnTo>
                  <a:pt x="582" y="276"/>
                </a:lnTo>
                <a:lnTo>
                  <a:pt x="588" y="276"/>
                </a:lnTo>
                <a:lnTo>
                  <a:pt x="594" y="276"/>
                </a:lnTo>
                <a:lnTo>
                  <a:pt x="600" y="276"/>
                </a:lnTo>
                <a:lnTo>
                  <a:pt x="606" y="276"/>
                </a:lnTo>
                <a:lnTo>
                  <a:pt x="612" y="276"/>
                </a:lnTo>
                <a:lnTo>
                  <a:pt x="618" y="276"/>
                </a:lnTo>
                <a:lnTo>
                  <a:pt x="624" y="276"/>
                </a:lnTo>
                <a:lnTo>
                  <a:pt x="630" y="276"/>
                </a:lnTo>
                <a:lnTo>
                  <a:pt x="636" y="276"/>
                </a:lnTo>
                <a:lnTo>
                  <a:pt x="642" y="276"/>
                </a:lnTo>
                <a:lnTo>
                  <a:pt x="648" y="276"/>
                </a:lnTo>
                <a:lnTo>
                  <a:pt x="654" y="276"/>
                </a:lnTo>
                <a:lnTo>
                  <a:pt x="660" y="276"/>
                </a:lnTo>
                <a:lnTo>
                  <a:pt x="666" y="276"/>
                </a:lnTo>
                <a:lnTo>
                  <a:pt x="672" y="276"/>
                </a:lnTo>
                <a:lnTo>
                  <a:pt x="678" y="276"/>
                </a:lnTo>
                <a:lnTo>
                  <a:pt x="684" y="276"/>
                </a:lnTo>
                <a:lnTo>
                  <a:pt x="690" y="276"/>
                </a:lnTo>
                <a:lnTo>
                  <a:pt x="696" y="276"/>
                </a:lnTo>
                <a:lnTo>
                  <a:pt x="702" y="276"/>
                </a:lnTo>
                <a:lnTo>
                  <a:pt x="708" y="276"/>
                </a:lnTo>
                <a:lnTo>
                  <a:pt x="714" y="276"/>
                </a:lnTo>
                <a:lnTo>
                  <a:pt x="720" y="276"/>
                </a:lnTo>
                <a:lnTo>
                  <a:pt x="726" y="276"/>
                </a:lnTo>
                <a:lnTo>
                  <a:pt x="732" y="276"/>
                </a:lnTo>
                <a:lnTo>
                  <a:pt x="738" y="276"/>
                </a:lnTo>
                <a:lnTo>
                  <a:pt x="744" y="276"/>
                </a:lnTo>
                <a:lnTo>
                  <a:pt x="750" y="276"/>
                </a:lnTo>
                <a:lnTo>
                  <a:pt x="756" y="276"/>
                </a:lnTo>
                <a:lnTo>
                  <a:pt x="762" y="276"/>
                </a:lnTo>
                <a:lnTo>
                  <a:pt x="768" y="276"/>
                </a:lnTo>
                <a:lnTo>
                  <a:pt x="774" y="276"/>
                </a:lnTo>
                <a:lnTo>
                  <a:pt x="780" y="276"/>
                </a:lnTo>
                <a:lnTo>
                  <a:pt x="786" y="276"/>
                </a:lnTo>
                <a:lnTo>
                  <a:pt x="792" y="276"/>
                </a:lnTo>
                <a:lnTo>
                  <a:pt x="798" y="276"/>
                </a:lnTo>
                <a:lnTo>
                  <a:pt x="804" y="276"/>
                </a:lnTo>
                <a:lnTo>
                  <a:pt x="810" y="276"/>
                </a:lnTo>
                <a:lnTo>
                  <a:pt x="816" y="276"/>
                </a:lnTo>
                <a:lnTo>
                  <a:pt x="822" y="276"/>
                </a:lnTo>
                <a:lnTo>
                  <a:pt x="828" y="282"/>
                </a:lnTo>
                <a:lnTo>
                  <a:pt x="834" y="282"/>
                </a:lnTo>
                <a:lnTo>
                  <a:pt x="840" y="282"/>
                </a:lnTo>
                <a:lnTo>
                  <a:pt x="846" y="282"/>
                </a:lnTo>
                <a:lnTo>
                  <a:pt x="852" y="282"/>
                </a:lnTo>
                <a:lnTo>
                  <a:pt x="858" y="282"/>
                </a:lnTo>
                <a:lnTo>
                  <a:pt x="864" y="282"/>
                </a:lnTo>
                <a:lnTo>
                  <a:pt x="870" y="282"/>
                </a:lnTo>
                <a:lnTo>
                  <a:pt x="876" y="282"/>
                </a:lnTo>
                <a:lnTo>
                  <a:pt x="882" y="282"/>
                </a:lnTo>
                <a:lnTo>
                  <a:pt x="888" y="282"/>
                </a:lnTo>
                <a:lnTo>
                  <a:pt x="894" y="282"/>
                </a:lnTo>
                <a:lnTo>
                  <a:pt x="900" y="282"/>
                </a:lnTo>
                <a:lnTo>
                  <a:pt x="906" y="282"/>
                </a:lnTo>
                <a:lnTo>
                  <a:pt x="912" y="282"/>
                </a:lnTo>
                <a:lnTo>
                  <a:pt x="918" y="282"/>
                </a:lnTo>
                <a:lnTo>
                  <a:pt x="924" y="282"/>
                </a:lnTo>
                <a:lnTo>
                  <a:pt x="930" y="282"/>
                </a:lnTo>
                <a:lnTo>
                  <a:pt x="936" y="282"/>
                </a:lnTo>
                <a:lnTo>
                  <a:pt x="942" y="282"/>
                </a:lnTo>
                <a:lnTo>
                  <a:pt x="948" y="282"/>
                </a:lnTo>
                <a:lnTo>
                  <a:pt x="954" y="282"/>
                </a:lnTo>
                <a:lnTo>
                  <a:pt x="960" y="282"/>
                </a:lnTo>
                <a:lnTo>
                  <a:pt x="966" y="282"/>
                </a:lnTo>
                <a:lnTo>
                  <a:pt x="972" y="282"/>
                </a:lnTo>
                <a:lnTo>
                  <a:pt x="978" y="282"/>
                </a:lnTo>
                <a:lnTo>
                  <a:pt x="984" y="282"/>
                </a:lnTo>
                <a:lnTo>
                  <a:pt x="990" y="282"/>
                </a:lnTo>
                <a:lnTo>
                  <a:pt x="996" y="282"/>
                </a:lnTo>
                <a:lnTo>
                  <a:pt x="1002" y="282"/>
                </a:lnTo>
                <a:lnTo>
                  <a:pt x="1008" y="282"/>
                </a:lnTo>
                <a:lnTo>
                  <a:pt x="1014" y="282"/>
                </a:lnTo>
                <a:lnTo>
                  <a:pt x="1020" y="282"/>
                </a:lnTo>
                <a:lnTo>
                  <a:pt x="1026" y="282"/>
                </a:lnTo>
                <a:lnTo>
                  <a:pt x="1032" y="282"/>
                </a:lnTo>
                <a:lnTo>
                  <a:pt x="1038" y="282"/>
                </a:lnTo>
                <a:lnTo>
                  <a:pt x="1044" y="282"/>
                </a:lnTo>
                <a:lnTo>
                  <a:pt x="1050" y="282"/>
                </a:lnTo>
                <a:lnTo>
                  <a:pt x="1056" y="282"/>
                </a:lnTo>
                <a:lnTo>
                  <a:pt x="1062" y="282"/>
                </a:lnTo>
                <a:lnTo>
                  <a:pt x="1068" y="282"/>
                </a:lnTo>
                <a:lnTo>
                  <a:pt x="1074" y="282"/>
                </a:lnTo>
                <a:lnTo>
                  <a:pt x="1080" y="282"/>
                </a:lnTo>
                <a:lnTo>
                  <a:pt x="1086" y="282"/>
                </a:lnTo>
                <a:lnTo>
                  <a:pt x="1092" y="282"/>
                </a:lnTo>
                <a:lnTo>
                  <a:pt x="1098" y="282"/>
                </a:lnTo>
                <a:lnTo>
                  <a:pt x="1104" y="282"/>
                </a:lnTo>
                <a:lnTo>
                  <a:pt x="1110" y="282"/>
                </a:lnTo>
                <a:lnTo>
                  <a:pt x="1116" y="282"/>
                </a:lnTo>
                <a:lnTo>
                  <a:pt x="1122" y="282"/>
                </a:lnTo>
                <a:lnTo>
                  <a:pt x="1128" y="282"/>
                </a:lnTo>
                <a:lnTo>
                  <a:pt x="1134" y="282"/>
                </a:lnTo>
                <a:lnTo>
                  <a:pt x="1140" y="282"/>
                </a:lnTo>
                <a:lnTo>
                  <a:pt x="1146" y="282"/>
                </a:lnTo>
                <a:lnTo>
                  <a:pt x="1152" y="282"/>
                </a:lnTo>
                <a:lnTo>
                  <a:pt x="1158" y="282"/>
                </a:lnTo>
                <a:lnTo>
                  <a:pt x="1164" y="282"/>
                </a:lnTo>
                <a:lnTo>
                  <a:pt x="1170" y="282"/>
                </a:lnTo>
                <a:lnTo>
                  <a:pt x="1176" y="282"/>
                </a:lnTo>
                <a:lnTo>
                  <a:pt x="1182" y="282"/>
                </a:lnTo>
                <a:lnTo>
                  <a:pt x="1188" y="282"/>
                </a:lnTo>
                <a:lnTo>
                  <a:pt x="1194" y="282"/>
                </a:lnTo>
                <a:lnTo>
                  <a:pt x="1200" y="282"/>
                </a:lnTo>
                <a:lnTo>
                  <a:pt x="1206" y="282"/>
                </a:lnTo>
                <a:lnTo>
                  <a:pt x="1212" y="282"/>
                </a:lnTo>
                <a:lnTo>
                  <a:pt x="1218" y="282"/>
                </a:lnTo>
                <a:lnTo>
                  <a:pt x="1224" y="282"/>
                </a:lnTo>
                <a:lnTo>
                  <a:pt x="1230" y="282"/>
                </a:lnTo>
                <a:lnTo>
                  <a:pt x="1236" y="282"/>
                </a:lnTo>
                <a:lnTo>
                  <a:pt x="1242" y="282"/>
                </a:lnTo>
                <a:lnTo>
                  <a:pt x="1248" y="282"/>
                </a:lnTo>
                <a:lnTo>
                  <a:pt x="1254" y="282"/>
                </a:lnTo>
                <a:lnTo>
                  <a:pt x="1260" y="282"/>
                </a:lnTo>
                <a:lnTo>
                  <a:pt x="1266" y="282"/>
                </a:lnTo>
                <a:lnTo>
                  <a:pt x="1272" y="282"/>
                </a:lnTo>
                <a:lnTo>
                  <a:pt x="1278" y="282"/>
                </a:lnTo>
                <a:lnTo>
                  <a:pt x="1284" y="282"/>
                </a:lnTo>
                <a:lnTo>
                  <a:pt x="1290" y="282"/>
                </a:lnTo>
                <a:lnTo>
                  <a:pt x="1296" y="282"/>
                </a:lnTo>
                <a:lnTo>
                  <a:pt x="1296" y="306"/>
                </a:lnTo>
              </a:path>
            </a:pathLst>
          </a:custGeom>
          <a:solidFill>
            <a:srgbClr val="00cc99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981680" y="219240"/>
            <a:ext cx="3762360" cy="266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Singl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581800" y="1486080"/>
            <a:ext cx="287640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ith the negative chromati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ode 0 is strongly uns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hanks to the amplitude dependant tune spre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0.8 mA can be stored independently of the chromati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772240" y="4457880"/>
            <a:ext cx="2562120" cy="824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SRF reduced chromaticity should be multiplied by 14.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9EE-AFFE-4E16-A37B-02B5470F246E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C2D69-E22F-4539-9B7D-EF8FF5280D09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13:26:54Z</dcterms:created>
  <dc:creator>ESRF</dc:creator>
  <dc:description/>
  <dc:language>en-US</dc:language>
  <cp:lastModifiedBy>ESRF</cp:lastModifiedBy>
  <cp:lastPrinted>2000-03-12T15:39:23Z</cp:lastPrinted>
  <dcterms:modified xsi:type="dcterms:W3CDTF">2000-03-12T20:56:04Z</dcterms:modified>
  <cp:revision>335</cp:revision>
  <dc:subject/>
  <dc:title>A troublemaker RF Group</dc:title>
</cp:coreProperties>
</file>