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B6A-719E-43FD-BAE8-07E71E30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DE6-EA36-45C0-8893-799A48C3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4F2-97A6-4BEB-843F-FDB4E046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FCD-47A5-4C26-B6D4-AE2DC641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CAB-5E33-4E1F-89CA-8377CEF2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CC4-3E4D-45C0-A204-FD020A5C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87C-6490-44CA-9A97-E78B4E9F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ED2-10AB-41FC-9AE9-56256FFD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6A3-A8C3-4441-81A2-777055C4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A98-3BEA-49AA-BD02-74856D5E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16A-7DC7-489A-9101-1E2EEA84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3F4-ACD7-4FA6-8B85-C9A00346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26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eam Instability Workshop, ESRF, 13th - 15th 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Jacob / </a:t>
            </a:r>
            <a:fld id="{A971FB1C-55AE-4676-9353-CB0FC70606A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85800" y="6248520"/>
          <a:ext cx="3697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248520"/>
                    <a:ext cx="369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352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armonic Cavities:the Pros &amp; Cons</a:t>
            </a:r>
            <a:br>
              <a:rPr sz="4000"/>
            </a:b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Jörn Jac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4640" y="1142640"/>
            <a:ext cx="2895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09480" y="457200"/>
          <a:ext cx="403884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403884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324480" y="762120"/>
          <a:ext cx="13557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762120"/>
                    <a:ext cx="13557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805-6290-4DD7-8066-14040BFA03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705720" y="4648320"/>
            <a:ext cx="160020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748040" y="635040"/>
            <a:ext cx="2736720" cy="1371600"/>
            <a:chOff x="4748040" y="635040"/>
            <a:chExt cx="2736720" cy="1371600"/>
          </a:xfrm>
        </p:grpSpPr>
        <p:sp>
          <p:nvSpPr>
            <p:cNvPr id="135" name=""/>
            <p:cNvSpPr/>
            <p:nvPr/>
          </p:nvSpPr>
          <p:spPr>
            <a:xfrm>
              <a:off x="6037200" y="63504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48040" y="132876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3000" y="101628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98960" y="11685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108320" y="475452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A71-7A63-4E33-AB31-24A41644FC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705720" y="4648320"/>
            <a:ext cx="152388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38680" y="642960"/>
            <a:ext cx="2736720" cy="1371600"/>
            <a:chOff x="4738680" y="642960"/>
            <a:chExt cx="2736720" cy="1371600"/>
          </a:xfrm>
        </p:grpSpPr>
        <p:sp>
          <p:nvSpPr>
            <p:cNvPr id="145" name=""/>
            <p:cNvSpPr/>
            <p:nvPr/>
          </p:nvSpPr>
          <p:spPr>
            <a:xfrm>
              <a:off x="6027840" y="64296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8680" y="133668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3640" y="102420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9600" y="11764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657600" y="495288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63C-1F54-4663-B001-70580986EC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705720" y="4648320"/>
            <a:ext cx="129852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740120" y="650880"/>
            <a:ext cx="2736720" cy="1371600"/>
            <a:chOff x="4740120" y="650880"/>
            <a:chExt cx="2736720" cy="1371600"/>
          </a:xfrm>
        </p:grpSpPr>
        <p:sp>
          <p:nvSpPr>
            <p:cNvPr id="155" name=""/>
            <p:cNvSpPr/>
            <p:nvPr/>
          </p:nvSpPr>
          <p:spPr>
            <a:xfrm>
              <a:off x="6029280" y="6508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40120" y="134460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5080" y="103212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91040" y="11844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276720" y="510552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5486400"/>
            <a:ext cx="1371600" cy="58068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A. Hofmann &amp; S. Myer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546-808A-4E60-AD00-EBBF35B7F7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730760" y="660240"/>
            <a:ext cx="2736720" cy="1371600"/>
            <a:chOff x="4730760" y="660240"/>
            <a:chExt cx="2736720" cy="1371600"/>
          </a:xfrm>
        </p:grpSpPr>
        <p:sp>
          <p:nvSpPr>
            <p:cNvPr id="162" name=""/>
            <p:cNvSpPr/>
            <p:nvPr/>
          </p:nvSpPr>
          <p:spPr>
            <a:xfrm>
              <a:off x="6019920" y="66024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30760" y="135396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65720" y="104148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11937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685800"/>
            <a:ext cx="167652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1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stretching =&gt; formation of two bu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E11-BEE4-4DD0-B7F1-61D2E0EA85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09680" y="281952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54960" y="27687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86560" y="2727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7600" y="1244520"/>
            <a:ext cx="502920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438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typ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3D9-A546-4CB5-A6A3-B04876B8C7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am dr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multibunch oper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&gt;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inimu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rolled by Cavity tu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yp.: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 possible at one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80880" y="2743200"/>
            <a:ext cx="8534520" cy="5410080"/>
            <a:chOff x="380880" y="2743200"/>
            <a:chExt cx="8534520" cy="5410080"/>
          </a:xfrm>
        </p:grpSpPr>
        <p:sp>
          <p:nvSpPr>
            <p:cNvPr id="180" name=""/>
            <p:cNvSpPr/>
            <p:nvPr/>
          </p:nvSpPr>
          <p:spPr>
            <a:xfrm>
              <a:off x="5715000" y="5867280"/>
              <a:ext cx="3200400" cy="337320"/>
            </a:xfrm>
            <a:prstGeom prst="rect">
              <a:avLst/>
            </a:pr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6600"/>
                  </a:solidFill>
                  <a:latin typeface="Times New Roman"/>
                </a:rPr>
                <a:t>[Å. Andersson, M. Georgsson et al.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2743200"/>
              <a:ext cx="807732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AX II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1.5 GeV, 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a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250 mA -&gt;100 … 70 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RF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= 500 MHz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  copper pillbox HC’s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har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= 3 f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F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un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hievements: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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if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ubl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(I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if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 3 A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5…6 A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Math1"/>
                  <a:ea typeface="Math1"/>
                </a:rPr>
                <a:t>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andau damping of  multibunch instabiliti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not fully stable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nergy spread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0.7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o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a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4…5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nominal Ibeam fo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har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1.1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0" i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-3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with Landau damping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F81-2CAD-447E-B025-3240E49A37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1.9 GeV,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400 m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00 mA, LFB &amp; T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3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Cu reentrant HC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3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2 tuners, HOM absor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hievements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xperiment: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rease by fact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4 h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10 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55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120 ps,  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11.5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5 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F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ter (now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 kH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ength-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peration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50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6 h (2 cavities tuned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nergy spread =&gt;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tuning of HC-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M011 at 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blem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require 20 %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filling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ransient beam load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beam and Voltag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average bunch length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FB: </a:t>
            </a:r>
            <a:r>
              <a:rPr b="0" lang="en-US" sz="2000" spc="-1" strike="noStrike">
                <a:solidFill>
                  <a:srgbClr val="539e20"/>
                </a:solidFill>
                <a:latin typeface="Times New Roman"/>
              </a:rPr>
              <a:t>heterodyne </a:t>
            </a:r>
            <a:r>
              <a:rPr b="0" lang="en-US" sz="2000" spc="-1" strike="noStrike">
                <a:solidFill>
                  <a:srgbClr val="539e2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39e20"/>
                </a:solidFill>
                <a:latin typeface="Times New Roman"/>
              </a:rPr>
              <a:t> homodyne recei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olved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FB: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ulatio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ctor 6 at 3 GHz detectio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eedback saturates if |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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| &gt;1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5943600"/>
            <a:ext cx="144792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J. Byrd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0666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8DD-4FC8-4FE3-AB12-340A5C1936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SY I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1.9 GeV,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220 mA, LFB &amp; T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3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 Cu Pillbox HC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3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2 tu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hievement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still in commissioning)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3.2 h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5.2 h at 20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by fact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.5 to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867280"/>
            <a:ext cx="167652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W. Anders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3047760" cy="2438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438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19320" y="518148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22 mA, LFB on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518148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200 mA, LFB off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140 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038480" y="4419720"/>
            <a:ext cx="11430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9528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1720" y="5715000"/>
            <a:ext cx="4779000" cy="44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ak Camera: same time scale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ac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1 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21932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BFD-427C-4E17-A303-CA33F31954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S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FB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FB: not yet compatible (filter band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ase trans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ax 5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OM prob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ill pres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5943600"/>
            <a:ext cx="167652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W. Anders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2120" y="2765520"/>
            <a:ext cx="3352680" cy="3383280"/>
            <a:chOff x="762120" y="2765520"/>
            <a:chExt cx="3352680" cy="338328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762120" y="2819520"/>
              <a:ext cx="335268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990720" y="5029200"/>
              <a:ext cx="2743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200 mA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har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= 140 k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12840" y="2765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200 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19520" y="2971800"/>
              <a:ext cx="12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62120" y="297180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120" y="5562720"/>
              <a:ext cx="3352680" cy="58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oupled bunch mo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with some bunch shape osci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952880" y="2765520"/>
            <a:ext cx="3353040" cy="3134520"/>
            <a:chOff x="4952880" y="2765520"/>
            <a:chExt cx="3353040" cy="3134520"/>
          </a:xfrm>
        </p:grpSpPr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4952880" y="2819520"/>
              <a:ext cx="335304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303960" y="2765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10 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10280" y="2971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952880" y="297180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5105520"/>
              <a:ext cx="320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200 mA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harm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= 140 k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5562720"/>
              <a:ext cx="3353040" cy="3373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laxation effect, Period =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6 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40F-C6AD-49CC-A819-9FFB5309BC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LS VUV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= 0.8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alternatively in bunc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hort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w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vities allow operation nea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op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op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 any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Beam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5486400"/>
            <a:ext cx="1600200" cy="56160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S. L. Kram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N. Towne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8380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2.9 MHz,  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33cc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= 4 f</a:t>
            </a:r>
            <a:r>
              <a:rPr b="0" i="1" lang="en-US" sz="2000" spc="-1" strike="noStrike" baseline="-25000">
                <a:solidFill>
                  <a:srgbClr val="0033cc"/>
                </a:solidFill>
                <a:latin typeface="Times New Roman"/>
              </a:rPr>
              <a:t>R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590920"/>
            <a:ext cx="5029200" cy="3580560"/>
            <a:chOff x="457200" y="2590920"/>
            <a:chExt cx="5029200" cy="3580560"/>
          </a:xfrm>
        </p:grpSpPr>
        <p:grpSp>
          <p:nvGrpSpPr>
            <p:cNvPr id="219" name=""/>
            <p:cNvGrpSpPr/>
            <p:nvPr/>
          </p:nvGrpSpPr>
          <p:grpSpPr>
            <a:xfrm>
              <a:off x="457200" y="2590920"/>
              <a:ext cx="5029200" cy="3580560"/>
              <a:chOff x="457200" y="2590920"/>
              <a:chExt cx="5029200" cy="35805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457200" y="2590920"/>
                <a:ext cx="5029200" cy="3580560"/>
                <a:chOff x="457200" y="2590920"/>
                <a:chExt cx="5029200" cy="358056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457200" y="2590920"/>
                  <a:ext cx="5029200" cy="3580560"/>
                  <a:chOff x="457200" y="2590920"/>
                  <a:chExt cx="5029200" cy="3580560"/>
                </a:xfrm>
              </p:grpSpPr>
              <p:pic>
                <p:nvPicPr>
                  <p:cNvPr id="222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57200" y="2590920"/>
                    <a:ext cx="5029200" cy="35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3" name=""/>
                  <p:cNvSpPr/>
                  <p:nvPr/>
                </p:nvSpPr>
                <p:spPr>
                  <a:xfrm>
                    <a:off x="1485720" y="2916720"/>
                    <a:ext cx="1570680" cy="21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9" h="2190">
                        <a:moveTo>
                          <a:pt x="0" y="0"/>
                        </a:moveTo>
                        <a:cubicBezTo>
                          <a:pt x="5" y="35"/>
                          <a:pt x="11" y="70"/>
                          <a:pt x="30" y="132"/>
                        </a:cubicBezTo>
                        <a:cubicBezTo>
                          <a:pt x="49" y="194"/>
                          <a:pt x="79" y="286"/>
                          <a:pt x="113" y="374"/>
                        </a:cubicBezTo>
                        <a:cubicBezTo>
                          <a:pt x="147" y="462"/>
                          <a:pt x="206" y="595"/>
                          <a:pt x="234" y="660"/>
                        </a:cubicBezTo>
                        <a:cubicBezTo>
                          <a:pt x="262" y="725"/>
                          <a:pt x="263" y="722"/>
                          <a:pt x="284" y="765"/>
                        </a:cubicBezTo>
                        <a:cubicBezTo>
                          <a:pt x="305" y="808"/>
                          <a:pt x="330" y="868"/>
                          <a:pt x="361" y="919"/>
                        </a:cubicBezTo>
                        <a:cubicBezTo>
                          <a:pt x="392" y="970"/>
                          <a:pt x="434" y="1021"/>
                          <a:pt x="471" y="1073"/>
                        </a:cubicBezTo>
                        <a:cubicBezTo>
                          <a:pt x="508" y="1125"/>
                          <a:pt x="547" y="1180"/>
                          <a:pt x="586" y="1233"/>
                        </a:cubicBezTo>
                        <a:cubicBezTo>
                          <a:pt x="625" y="1286"/>
                          <a:pt x="664" y="1341"/>
                          <a:pt x="707" y="1392"/>
                        </a:cubicBezTo>
                        <a:cubicBezTo>
                          <a:pt x="750" y="1443"/>
                          <a:pt x="792" y="1489"/>
                          <a:pt x="845" y="1541"/>
                        </a:cubicBezTo>
                        <a:cubicBezTo>
                          <a:pt x="898" y="1593"/>
                          <a:pt x="964" y="1655"/>
                          <a:pt x="1027" y="1706"/>
                        </a:cubicBezTo>
                        <a:cubicBezTo>
                          <a:pt x="1090" y="1757"/>
                          <a:pt x="1164" y="1810"/>
                          <a:pt x="1225" y="1849"/>
                        </a:cubicBezTo>
                        <a:cubicBezTo>
                          <a:pt x="1286" y="1888"/>
                          <a:pt x="1339" y="1914"/>
                          <a:pt x="1390" y="1943"/>
                        </a:cubicBezTo>
                        <a:cubicBezTo>
                          <a:pt x="1441" y="1972"/>
                          <a:pt x="1475" y="1995"/>
                          <a:pt x="1528" y="2020"/>
                        </a:cubicBezTo>
                        <a:cubicBezTo>
                          <a:pt x="1581" y="2045"/>
                          <a:pt x="1664" y="2073"/>
                          <a:pt x="1709" y="2091"/>
                        </a:cubicBezTo>
                        <a:cubicBezTo>
                          <a:pt x="1754" y="2109"/>
                          <a:pt x="1752" y="2114"/>
                          <a:pt x="1797" y="2130"/>
                        </a:cubicBezTo>
                        <a:cubicBezTo>
                          <a:pt x="1842" y="2146"/>
                          <a:pt x="1947" y="2180"/>
                          <a:pt x="1979" y="219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485720" y="2916720"/>
                    <a:ext cx="2488320" cy="20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35" h="2108">
                        <a:moveTo>
                          <a:pt x="0" y="0"/>
                        </a:moveTo>
                        <a:cubicBezTo>
                          <a:pt x="25" y="41"/>
                          <a:pt x="50" y="82"/>
                          <a:pt x="96" y="144"/>
                        </a:cubicBezTo>
                        <a:cubicBezTo>
                          <a:pt x="142" y="206"/>
                          <a:pt x="211" y="293"/>
                          <a:pt x="278" y="369"/>
                        </a:cubicBezTo>
                        <a:cubicBezTo>
                          <a:pt x="345" y="445"/>
                          <a:pt x="426" y="527"/>
                          <a:pt x="498" y="600"/>
                        </a:cubicBezTo>
                        <a:cubicBezTo>
                          <a:pt x="570" y="673"/>
                          <a:pt x="650" y="751"/>
                          <a:pt x="713" y="809"/>
                        </a:cubicBezTo>
                        <a:cubicBezTo>
                          <a:pt x="776" y="867"/>
                          <a:pt x="820" y="900"/>
                          <a:pt x="878" y="947"/>
                        </a:cubicBezTo>
                        <a:cubicBezTo>
                          <a:pt x="936" y="994"/>
                          <a:pt x="984" y="1034"/>
                          <a:pt x="1060" y="1090"/>
                        </a:cubicBezTo>
                        <a:cubicBezTo>
                          <a:pt x="1136" y="1146"/>
                          <a:pt x="1238" y="1217"/>
                          <a:pt x="1335" y="1282"/>
                        </a:cubicBezTo>
                        <a:cubicBezTo>
                          <a:pt x="1432" y="1347"/>
                          <a:pt x="1525" y="1410"/>
                          <a:pt x="1643" y="1480"/>
                        </a:cubicBezTo>
                        <a:cubicBezTo>
                          <a:pt x="1761" y="1550"/>
                          <a:pt x="1926" y="1641"/>
                          <a:pt x="2040" y="1701"/>
                        </a:cubicBezTo>
                        <a:cubicBezTo>
                          <a:pt x="2154" y="1761"/>
                          <a:pt x="2225" y="1794"/>
                          <a:pt x="2326" y="1838"/>
                        </a:cubicBezTo>
                        <a:cubicBezTo>
                          <a:pt x="2427" y="1882"/>
                          <a:pt x="2510" y="1920"/>
                          <a:pt x="2645" y="1965"/>
                        </a:cubicBezTo>
                        <a:cubicBezTo>
                          <a:pt x="2780" y="2010"/>
                          <a:pt x="3054" y="2084"/>
                          <a:pt x="3135" y="2108"/>
                        </a:cubicBezTo>
                      </a:path>
                    </a:pathLst>
                  </a:custGeom>
                  <a:noFill/>
                  <a:ln w="28440">
                    <a:solidFill>
                      <a:srgbClr val="65c12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1485720" y="2916720"/>
                    <a:ext cx="2970720" cy="2113200"/>
                    <a:chOff x="1485720" y="2916720"/>
                    <a:chExt cx="2970720" cy="211320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1485720" y="2916720"/>
                      <a:ext cx="2917080" cy="19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5" h="2014">
                          <a:moveTo>
                            <a:pt x="0" y="0"/>
                          </a:moveTo>
                          <a:cubicBezTo>
                            <a:pt x="68" y="88"/>
                            <a:pt x="137" y="176"/>
                            <a:pt x="201" y="253"/>
                          </a:cubicBezTo>
                          <a:cubicBezTo>
                            <a:pt x="265" y="330"/>
                            <a:pt x="319" y="391"/>
                            <a:pt x="383" y="462"/>
                          </a:cubicBezTo>
                          <a:cubicBezTo>
                            <a:pt x="447" y="533"/>
                            <a:pt x="516" y="613"/>
                            <a:pt x="586" y="682"/>
                          </a:cubicBezTo>
                          <a:cubicBezTo>
                            <a:pt x="656" y="751"/>
                            <a:pt x="743" y="822"/>
                            <a:pt x="806" y="875"/>
                          </a:cubicBezTo>
                          <a:cubicBezTo>
                            <a:pt x="869" y="928"/>
                            <a:pt x="901" y="955"/>
                            <a:pt x="966" y="1002"/>
                          </a:cubicBezTo>
                          <a:cubicBezTo>
                            <a:pt x="1031" y="1049"/>
                            <a:pt x="1111" y="1105"/>
                            <a:pt x="1197" y="1156"/>
                          </a:cubicBezTo>
                          <a:cubicBezTo>
                            <a:pt x="1283" y="1207"/>
                            <a:pt x="1378" y="1257"/>
                            <a:pt x="1484" y="1310"/>
                          </a:cubicBezTo>
                          <a:cubicBezTo>
                            <a:pt x="1590" y="1363"/>
                            <a:pt x="1704" y="1421"/>
                            <a:pt x="1830" y="1475"/>
                          </a:cubicBezTo>
                          <a:cubicBezTo>
                            <a:pt x="1956" y="1529"/>
                            <a:pt x="2101" y="1586"/>
                            <a:pt x="2243" y="1635"/>
                          </a:cubicBezTo>
                          <a:cubicBezTo>
                            <a:pt x="2385" y="1684"/>
                            <a:pt x="2562" y="1735"/>
                            <a:pt x="2684" y="1772"/>
                          </a:cubicBezTo>
                          <a:cubicBezTo>
                            <a:pt x="2806" y="1809"/>
                            <a:pt x="2857" y="1825"/>
                            <a:pt x="2975" y="1855"/>
                          </a:cubicBezTo>
                          <a:cubicBezTo>
                            <a:pt x="3093" y="1885"/>
                            <a:pt x="3277" y="1928"/>
                            <a:pt x="3394" y="1954"/>
                          </a:cubicBezTo>
                          <a:cubicBezTo>
                            <a:pt x="3511" y="1980"/>
                            <a:pt x="3629" y="2006"/>
                            <a:pt x="3675" y="2014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402080" y="4871160"/>
                      <a:ext cx="1440" cy="1422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419360" y="5010840"/>
                      <a:ext cx="37080" cy="190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9" name=""/>
                <p:cNvSpPr/>
                <p:nvPr/>
              </p:nvSpPr>
              <p:spPr>
                <a:xfrm>
                  <a:off x="3925080" y="4428720"/>
                  <a:ext cx="43092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84160" y="5140800"/>
                  <a:ext cx="43092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31080" y="5113440"/>
                  <a:ext cx="430920" cy="22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3697560" y="4374720"/>
                <a:ext cx="93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A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31080" y="4869720"/>
                <a:ext cx="100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5c127"/>
                    </a:solidFill>
                    <a:latin typeface="Times New Roman"/>
                  </a:rPr>
                  <a:t>PASS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79200" y="4961160"/>
                <a:ext cx="136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52 MHz a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886200" y="5715000"/>
              <a:ext cx="150840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Data from 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952880" y="2209680"/>
            <a:ext cx="3797280" cy="297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test Fig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HC detuned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700 mA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0.9 ns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2.5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lengthened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700 mA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1.7 …2 ns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4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unstable above 700 mA </a:t>
            </a:r>
            <a:r>
              <a:rPr b="0" i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 nominal 1 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shortened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600 mA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0.48 ns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2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(constant leng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4F0-F7BD-4297-AE8B-3B5E5F718B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in motivation for harmonic cavities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ousch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rmonic cavities on existing light sources / achievements,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C passive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C active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jects for SC harmonic ca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rmonic cavities for the E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s &amp; 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B10-1EA4-4C51-B694-1CEFE4AD18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-123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LS VUV 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tuning, amplitude and phase feed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le using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lex Phasor Modula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error signa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539e20"/>
                </a:solidFill>
                <a:latin typeface="Times New Roman"/>
              </a:rPr>
              <a:t>real part a</a:t>
            </a:r>
            <a:r>
              <a:rPr b="0" i="1" lang="en-US" sz="2000" spc="-1" strike="noStrike" baseline="-25000">
                <a:solidFill>
                  <a:srgbClr val="539e2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egulated to “zero” by 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-90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and no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93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ening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error signal from beam P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539e20"/>
                </a:solidFill>
                <a:latin typeface="Times New Roman"/>
              </a:rPr>
              <a:t>imaginary part a</a:t>
            </a:r>
            <a:r>
              <a:rPr b="0" i="1" lang="en-US" sz="2000" spc="-1" strike="noStrike" baseline="-25000">
                <a:solidFill>
                  <a:srgbClr val="539e2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due to flat RF potential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GAI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cav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4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rtening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hase error signal from cavit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539e20"/>
                </a:solidFill>
                <a:latin typeface="Times New Roman"/>
              </a:rPr>
              <a:t>imaginary part a</a:t>
            </a:r>
            <a:r>
              <a:rPr b="0" i="1" lang="en-US" sz="2000" spc="-1" strike="noStrike" baseline="-25000">
                <a:solidFill>
                  <a:srgbClr val="539e2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can be switched to standard tun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 ope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rte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 difficult (high beam loadi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 bunch length, but limited to 60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5943600"/>
            <a:ext cx="274320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S. L. Kramer, N. Towne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4114800"/>
            <a:ext cx="41911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j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mplified and fed to the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6AC-2994-4D81-94EB-11EEFBB8C9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LS VUV 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related instabiliti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andau Dam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oupled bunch inst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jection: partially stretched mode =&gt; needs L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rence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on-rigi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unch instabil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particular i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ver-stretch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otic appearance of broad, strong sideb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am lost if high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near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mum 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eak beam respons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1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4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ensitive to Ibeam, Cavity 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nsitive to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19920" y="5715000"/>
            <a:ext cx="289548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S. L. Kramer, N. Towne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3EC-DED9-4DD7-B16E-8DBFBCDFD8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809880" y="1523880"/>
            <a:ext cx="5181840" cy="4216320"/>
            <a:chOff x="3809880" y="1523880"/>
            <a:chExt cx="5181840" cy="421632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3809880" y="1891800"/>
              <a:ext cx="5171040" cy="38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033160" y="1891800"/>
              <a:ext cx="194292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09880" y="1523880"/>
              <a:ext cx="51818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7 / 9 bunches filled, 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a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1000 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76440" y="505368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Times New Roman"/>
                </a:rPr>
                <a:t>Leading b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20440" y="2996280"/>
              <a:ext cx="12232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ast b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1880" y="2185560"/>
              <a:ext cx="431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25520" y="2038680"/>
              <a:ext cx="431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97520" y="520128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4800" y="5421600"/>
              <a:ext cx="6476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87720" y="54216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13520" y="54216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838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LS VUV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tched bunch shap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f(small variations of RF potent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867280"/>
            <a:ext cx="114300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N. Town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600200"/>
            <a:ext cx="3505320" cy="392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 very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ensitive to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opt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o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Ga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filling against ion trappi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Phase transi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Ga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fill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revolution harm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ite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fferent potential distortion for different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203-42EC-4E20-B6DB-FAAC261BAD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 ACO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= 0.8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unch short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L operation and time resolved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ening by a fact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p to 3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hiev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: 14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40 k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 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f instabil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serv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 single bunch instability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0 mA/bunch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 sensitivity to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 TMCI starting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0 mA, m=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des merging at 40 mA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cured by hig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+2.5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erence between 2 longitudinal single bunch oscil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frequency sawtooth oscillations (&lt; 300 Hz), at any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frequency oscillations at mainl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2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, only between 2 and 8 mA/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unch 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dau damping of LC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 Robinso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stability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4724280"/>
            <a:ext cx="167652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G. Flynn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838080"/>
            <a:ext cx="3810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100 MHz,    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334120"/>
            <a:ext cx="312444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M.P. Level, M. Georgsson,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D63-23F1-44AC-8AB1-1CAA229633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ttra, SL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collaboration project with CEA-Sac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OM f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rmonic cavities = scaling of 352.2 MHz SOLEIL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air of cavities within a single cryo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ing a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s for NSLS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90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mplitude control b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tuning such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unch lengthe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actor 4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 operation down to ver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ow current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possibl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obinson inst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 f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w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low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ase trans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so expected with SC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RC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bandon N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d space, HOMs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sibility study f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C harmonic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867280"/>
            <a:ext cx="114300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K.T. Hsu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143000"/>
            <a:ext cx="670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2 GeV)  (2.4 GeV)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00 MHz,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15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3200400"/>
            <a:ext cx="3353040" cy="440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/Q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3581280"/>
            <a:ext cx="1752840" cy="82404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</a:t>
            </a: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P. Marchand,   M. Svandrlik,     A. Mosnier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876920"/>
            <a:ext cx="129564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J. Byrd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B68-3DF1-4F27-B557-B305E72CD1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y for the ESRF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m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bunch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00 m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0.4 to 0.5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= 60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..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70 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&gt;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bunch at 90 mA (5.5 mA/b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0.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= 12 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&gt; 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bunch at 15 m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0.9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= 4 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&gt; 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stic assump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ctor 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68580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352.2 MHz,   Example: 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3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3520" y="3276720"/>
          <a:ext cx="6324480" cy="28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632448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7620120" y="914400"/>
            <a:ext cx="15238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ason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 HC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57640" y="3276720"/>
            <a:ext cx="2134080" cy="2915280"/>
            <a:chOff x="6857640" y="3276720"/>
            <a:chExt cx="2134080" cy="2915280"/>
          </a:xfrm>
        </p:grpSpPr>
        <p:sp>
          <p:nvSpPr>
            <p:cNvPr id="279" name=""/>
            <p:cNvSpPr/>
            <p:nvPr/>
          </p:nvSpPr>
          <p:spPr>
            <a:xfrm>
              <a:off x="7086600" y="3276720"/>
              <a:ext cx="1905120" cy="291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nger bunch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wer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Times New Roman"/>
                </a:rPr>
                <a:t>more gai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if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an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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857640" y="57150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01000" y="38098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1000" y="46483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A6E-7B22-40A9-826C-B85F05A574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y for the ESRF ?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simulations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changed energy sp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ave in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ore sensitive to HOM driven Longitudinal Coupled Bunch Instabilities: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952880" y="2743200"/>
            <a:ext cx="4038120" cy="2971080"/>
            <a:chOff x="4952880" y="2743200"/>
            <a:chExt cx="4038120" cy="2971080"/>
          </a:xfrm>
        </p:grpSpPr>
        <p:grpSp>
          <p:nvGrpSpPr>
            <p:cNvPr id="287" name=""/>
            <p:cNvGrpSpPr/>
            <p:nvPr/>
          </p:nvGrpSpPr>
          <p:grpSpPr>
            <a:xfrm>
              <a:off x="4952880" y="2743200"/>
              <a:ext cx="4038120" cy="2971080"/>
              <a:chOff x="4952880" y="2743200"/>
              <a:chExt cx="4038120" cy="297108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52880" y="2743200"/>
                <a:ext cx="4038120" cy="297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 rot="19660200">
                <a:off x="5611680" y="3707640"/>
                <a:ext cx="3112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creasing harmonic volt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457600" y="2830320"/>
              <a:ext cx="1429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nchrotron frequency den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541480" y="291780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80880" y="2438280"/>
            <a:ext cx="4342680" cy="3504960"/>
            <a:chOff x="380880" y="2438280"/>
            <a:chExt cx="4342680" cy="3504960"/>
          </a:xfrm>
        </p:grpSpPr>
        <p:grpSp>
          <p:nvGrpSpPr>
            <p:cNvPr id="293" name=""/>
            <p:cNvGrpSpPr/>
            <p:nvPr/>
          </p:nvGrpSpPr>
          <p:grpSpPr>
            <a:xfrm>
              <a:off x="380880" y="2438280"/>
              <a:ext cx="4342680" cy="3504960"/>
              <a:chOff x="380880" y="2438280"/>
              <a:chExt cx="4342680" cy="35049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380880" y="2438280"/>
                <a:ext cx="4342680" cy="3504960"/>
                <a:chOff x="380880" y="2438280"/>
                <a:chExt cx="4342680" cy="35049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380880" y="2438280"/>
                  <a:ext cx="4342680" cy="3504960"/>
                  <a:chOff x="380880" y="2438280"/>
                  <a:chExt cx="4342680" cy="350496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380880" y="2438280"/>
                    <a:ext cx="4342680" cy="2863800"/>
                    <a:chOff x="380880" y="2438280"/>
                    <a:chExt cx="4342680" cy="286380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380880" y="2438280"/>
                      <a:ext cx="4333680" cy="2863800"/>
                      <a:chOff x="380880" y="2438280"/>
                      <a:chExt cx="4333680" cy="2863800"/>
                    </a:xfrm>
                  </p:grpSpPr>
                  <p:grpSp>
                    <p:nvGrpSpPr>
                      <p:cNvPr id="298" name=""/>
                      <p:cNvGrpSpPr/>
                      <p:nvPr/>
                    </p:nvGrpSpPr>
                    <p:grpSpPr>
                      <a:xfrm>
                        <a:off x="380880" y="2438280"/>
                        <a:ext cx="4333680" cy="2863800"/>
                        <a:chOff x="380880" y="2438280"/>
                        <a:chExt cx="4333680" cy="2863800"/>
                      </a:xfrm>
                    </p:grpSpPr>
                    <p:graphicFrame>
                      <p:nvGraphicFramePr>
                        <p:cNvPr id="299" name=""/>
                        <p:cNvGraphicFramePr/>
                        <p:nvPr/>
                      </p:nvGraphicFramePr>
                      <p:xfrm>
                        <a:off x="380880" y="2438280"/>
                        <a:ext cx="4333680" cy="2863800"/>
                      </p:xfrm>
                      <a:graphic>
                        <a:graphicData uri="http://schemas.openxmlformats.org/presentationml/2006/ole">
                          <p:oleObj r:id="rId2" spid="">
                            <p:embed/>
                            <p:pic>
                              <p:nvPicPr>
                                <p:cNvPr id="300" name="" descr=""/>
                                <p:cNvPicPr/>
                                <p:nvPr/>
                              </p:nvPicPr>
                              <p:blipFill>
                                <a:blip r:embed="rId3"/>
                                <a:stretch/>
                              </p:blipFill>
                              <p:spPr>
                                <a:xfrm>
                                  <a:off x="380880" y="2438280"/>
                                  <a:ext cx="4333680" cy="28638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oleObj>
                        </a:graphicData>
                      </a:graphic>
                    </p:graphicFrame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055600" y="4117320"/>
                          <a:ext cx="2256840" cy="32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75" h="399">
                              <a:moveTo>
                                <a:pt x="0" y="326"/>
                              </a:moveTo>
                              <a:cubicBezTo>
                                <a:pt x="169" y="341"/>
                                <a:pt x="338" y="357"/>
                                <a:pt x="525" y="369"/>
                              </a:cubicBezTo>
                              <a:cubicBezTo>
                                <a:pt x="712" y="381"/>
                                <a:pt x="958" y="395"/>
                                <a:pt x="1125" y="397"/>
                              </a:cubicBezTo>
                              <a:cubicBezTo>
                                <a:pt x="1292" y="399"/>
                                <a:pt x="1400" y="390"/>
                                <a:pt x="1527" y="380"/>
                              </a:cubicBezTo>
                              <a:cubicBezTo>
                                <a:pt x="1654" y="370"/>
                                <a:pt x="1741" y="363"/>
                                <a:pt x="1885" y="336"/>
                              </a:cubicBezTo>
                              <a:cubicBezTo>
                                <a:pt x="2029" y="309"/>
                                <a:pt x="2209" y="271"/>
                                <a:pt x="2391" y="215"/>
                              </a:cubicBezTo>
                              <a:cubicBezTo>
                                <a:pt x="2573" y="159"/>
                                <a:pt x="2878" y="32"/>
                                <a:pt x="2975" y="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cc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1364040" y="3652920"/>
                          <a:ext cx="2948760" cy="65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87" h="815">
                              <a:moveTo>
                                <a:pt x="0" y="808"/>
                              </a:moveTo>
                              <a:cubicBezTo>
                                <a:pt x="324" y="808"/>
                                <a:pt x="648" y="808"/>
                                <a:pt x="864" y="808"/>
                              </a:cubicBezTo>
                              <a:cubicBezTo>
                                <a:pt x="1080" y="808"/>
                                <a:pt x="1157" y="815"/>
                                <a:pt x="1296" y="808"/>
                              </a:cubicBezTo>
                              <a:cubicBezTo>
                                <a:pt x="1435" y="801"/>
                                <a:pt x="1571" y="785"/>
                                <a:pt x="1701" y="765"/>
                              </a:cubicBezTo>
                              <a:cubicBezTo>
                                <a:pt x="1831" y="745"/>
                                <a:pt x="1938" y="721"/>
                                <a:pt x="2075" y="688"/>
                              </a:cubicBezTo>
                              <a:cubicBezTo>
                                <a:pt x="2212" y="655"/>
                                <a:pt x="2354" y="621"/>
                                <a:pt x="2521" y="567"/>
                              </a:cubicBezTo>
                              <a:cubicBezTo>
                                <a:pt x="2688" y="513"/>
                                <a:pt x="2911" y="431"/>
                                <a:pt x="3077" y="364"/>
                              </a:cubicBezTo>
                              <a:cubicBezTo>
                                <a:pt x="3243" y="297"/>
                                <a:pt x="3383" y="226"/>
                                <a:pt x="3518" y="165"/>
                              </a:cubicBezTo>
                              <a:cubicBezTo>
                                <a:pt x="3653" y="104"/>
                                <a:pt x="3833" y="13"/>
                                <a:pt x="3887" y="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941760" y="2831040"/>
                          <a:ext cx="3366000" cy="1412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57" h="1745">
                              <a:moveTo>
                                <a:pt x="0" y="1730"/>
                              </a:moveTo>
                              <a:cubicBezTo>
                                <a:pt x="75" y="1737"/>
                                <a:pt x="150" y="1745"/>
                                <a:pt x="251" y="1745"/>
                              </a:cubicBezTo>
                              <a:cubicBezTo>
                                <a:pt x="352" y="1745"/>
                                <a:pt x="468" y="1745"/>
                                <a:pt x="604" y="1728"/>
                              </a:cubicBezTo>
                              <a:cubicBezTo>
                                <a:pt x="740" y="1711"/>
                                <a:pt x="916" y="1677"/>
                                <a:pt x="1066" y="1640"/>
                              </a:cubicBezTo>
                              <a:cubicBezTo>
                                <a:pt x="1216" y="1603"/>
                                <a:pt x="1324" y="1567"/>
                                <a:pt x="1506" y="1503"/>
                              </a:cubicBezTo>
                              <a:cubicBezTo>
                                <a:pt x="1688" y="1439"/>
                                <a:pt x="1900" y="1375"/>
                                <a:pt x="2161" y="1255"/>
                              </a:cubicBezTo>
                              <a:cubicBezTo>
                                <a:pt x="2422" y="1135"/>
                                <a:pt x="2791" y="937"/>
                                <a:pt x="3070" y="782"/>
                              </a:cubicBezTo>
                              <a:cubicBezTo>
                                <a:pt x="3349" y="627"/>
                                <a:pt x="3656" y="430"/>
                                <a:pt x="3835" y="325"/>
                              </a:cubicBezTo>
                              <a:cubicBezTo>
                                <a:pt x="4014" y="220"/>
                                <a:pt x="4040" y="208"/>
                                <a:pt x="4143" y="154"/>
                              </a:cubicBezTo>
                              <a:cubicBezTo>
                                <a:pt x="4246" y="100"/>
                                <a:pt x="4412" y="17"/>
                                <a:pt x="4457" y="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ff99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671760" y="4225320"/>
                          <a:ext cx="3648960" cy="46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10" h="577">
                              <a:moveTo>
                                <a:pt x="0" y="0"/>
                              </a:moveTo>
                              <a:cubicBezTo>
                                <a:pt x="161" y="6"/>
                                <a:pt x="323" y="12"/>
                                <a:pt x="472" y="26"/>
                              </a:cubicBezTo>
                              <a:cubicBezTo>
                                <a:pt x="621" y="40"/>
                                <a:pt x="725" y="63"/>
                                <a:pt x="896" y="86"/>
                              </a:cubicBezTo>
                              <a:cubicBezTo>
                                <a:pt x="1067" y="109"/>
                                <a:pt x="1269" y="133"/>
                                <a:pt x="1501" y="163"/>
                              </a:cubicBezTo>
                              <a:cubicBezTo>
                                <a:pt x="1733" y="193"/>
                                <a:pt x="2063" y="236"/>
                                <a:pt x="2288" y="268"/>
                              </a:cubicBezTo>
                              <a:cubicBezTo>
                                <a:pt x="2513" y="300"/>
                                <a:pt x="2686" y="328"/>
                                <a:pt x="2850" y="356"/>
                              </a:cubicBezTo>
                              <a:cubicBezTo>
                                <a:pt x="3014" y="384"/>
                                <a:pt x="3107" y="404"/>
                                <a:pt x="3274" y="433"/>
                              </a:cubicBezTo>
                              <a:cubicBezTo>
                                <a:pt x="3441" y="462"/>
                                <a:pt x="3716" y="505"/>
                                <a:pt x="3852" y="527"/>
                              </a:cubicBezTo>
                              <a:cubicBezTo>
                                <a:pt x="3988" y="549"/>
                                <a:pt x="4011" y="557"/>
                                <a:pt x="4088" y="565"/>
                              </a:cubicBezTo>
                              <a:cubicBezTo>
                                <a:pt x="4165" y="573"/>
                                <a:pt x="4233" y="577"/>
                                <a:pt x="4314" y="576"/>
                              </a:cubicBezTo>
                              <a:cubicBezTo>
                                <a:pt x="4395" y="575"/>
                                <a:pt x="4490" y="575"/>
                                <a:pt x="4573" y="560"/>
                              </a:cubicBezTo>
                              <a:cubicBezTo>
                                <a:pt x="4656" y="545"/>
                                <a:pt x="4773" y="499"/>
                                <a:pt x="4810" y="488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684360" y="2547720"/>
                        <a:ext cx="3632400" cy="249876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684360" y="3403800"/>
                        <a:ext cx="3632400" cy="8211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223440" y="4590360"/>
                      <a:ext cx="1167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3556800" y="3873600"/>
                      <a:ext cx="1166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n =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3306600" y="3475440"/>
                      <a:ext cx="1166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 =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3056760" y="2758320"/>
                      <a:ext cx="1166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n =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380880" y="5306040"/>
                    <a:ext cx="4334400" cy="63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" name=""/>
                <p:cNvSpPr/>
                <p:nvPr/>
              </p:nvSpPr>
              <p:spPr>
                <a:xfrm>
                  <a:off x="2531880" y="5216400"/>
                  <a:ext cx="1143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harm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/V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p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57200" y="556272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LCBI threshold with a harmonic cav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685440" y="2666520"/>
                <a:ext cx="761760" cy="634680"/>
                <a:chOff x="685440" y="2666520"/>
                <a:chExt cx="761760" cy="6346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85440" y="2895480"/>
                  <a:ext cx="7617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th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/I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th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990000" y="266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35812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DB7-73F6-4BB0-8251-CC076DE7F6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: Pros &amp; c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ints of debate for the subsequent working group discu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447920"/>
            <a:ext cx="358128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er bunches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2133720"/>
            <a:ext cx="35812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spectral width of beam sign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3581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ffects in bunch lengthe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4419720"/>
            <a:ext cx="358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 slope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zero: Phase 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1447920"/>
            <a:ext cx="3504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ly low energy machines or high I/bunch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ain in Life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48720" y="1600200"/>
            <a:ext cx="6858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2520" y="990720"/>
            <a:ext cx="35049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0120" y="990720"/>
            <a:ext cx="13716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Pros / Cons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2133720"/>
            <a:ext cx="3504960" cy="105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ing less of the BB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pron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to transverse single bunch head tail instability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3276720"/>
            <a:ext cx="3504960" cy="105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HOM loss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duced heating in few bunch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2438280"/>
            <a:ext cx="68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48720" y="3505320"/>
            <a:ext cx="68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4419720"/>
            <a:ext cx="35049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p induced Phase transients NC &amp; SC (increased by HOMs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Reduced gain in Life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5410080"/>
            <a:ext cx="3504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FB must be ada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5867280"/>
            <a:ext cx="3504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FB 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4648320"/>
            <a:ext cx="685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5410080"/>
            <a:ext cx="685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48720" y="5867280"/>
            <a:ext cx="6858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003-DECB-4713-8C4B-7A3EF9FE29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: Pros &amp; c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2209680"/>
            <a:ext cx="35812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 slope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zero: Small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4343400"/>
            <a:ext cx="3581280" cy="405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orted RF potential: Spread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066680"/>
            <a:ext cx="358128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 to contro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1066680"/>
            <a:ext cx="35049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mited bunch length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1523880"/>
            <a:ext cx="35049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-stretching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n rigid bunch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inst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NS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24680" y="1066680"/>
            <a:ext cx="68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4680" y="1676520"/>
            <a:ext cx="68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3200400"/>
            <a:ext cx="3504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CBI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wer thres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24680" y="2514600"/>
            <a:ext cx="6858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209680"/>
            <a:ext cx="35049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bunch fast head tail (TMCI) 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wer threshold ?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.Myers, Y.C. Chin, CERN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4680" y="3200400"/>
            <a:ext cx="6858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3657600"/>
            <a:ext cx="35049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sensitivity to low frequency noise / power supp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4680" y="3809880"/>
            <a:ext cx="6858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4343400"/>
            <a:ext cx="350496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andau damp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: LCBI, TMCI ?, transverse instabilities with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24680" y="4572000"/>
            <a:ext cx="6858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5334120"/>
            <a:ext cx="358128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impedance (BBR, H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5334120"/>
            <a:ext cx="350496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d for all kind of inst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24680" y="5334120"/>
            <a:ext cx="68580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609480"/>
            <a:ext cx="3581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ffects in bunch lengthe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609480"/>
            <a:ext cx="35049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609480"/>
            <a:ext cx="13716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ro /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5791320"/>
            <a:ext cx="350496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inson stability to be che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24680" y="5791320"/>
            <a:ext cx="68580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B88-C788-4FDD-AD86-AE984BC221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: Pros &amp; c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990720"/>
            <a:ext cx="8458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sistive wall instabil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r spectral width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ss chromaticity nee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hift the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overlap with BB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less damping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3505320"/>
            <a:ext cx="8458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nch shorten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LS: current limited by slow RF feedback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 ACO: new types of instabiliti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erve further invest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xperience from low emittanc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29600" y="1523880"/>
            <a:ext cx="457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29600" y="2362320"/>
            <a:ext cx="457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967-4DC5-44FB-B899-C493137FE6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 for harmonic ca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62120" y="1752480"/>
                <a:ext cx="42577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uschek</m:t>
                            </m:r>
                          </m:sub>
                        </m:sSub>
                      </m:den>
                    </m:f>
                    <m:r>
                      <m:t xml:space="preserve">∝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unch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E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3" name=""/>
          <p:cNvGrpSpPr/>
          <p:nvPr/>
        </p:nvGrpSpPr>
        <p:grpSpPr>
          <a:xfrm>
            <a:off x="0" y="2743200"/>
            <a:ext cx="3276720" cy="2077920"/>
            <a:chOff x="0" y="2743200"/>
            <a:chExt cx="3276720" cy="2077920"/>
          </a:xfrm>
        </p:grpSpPr>
        <p:sp>
          <p:nvSpPr>
            <p:cNvPr id="54" name=""/>
            <p:cNvSpPr/>
            <p:nvPr/>
          </p:nvSpPr>
          <p:spPr>
            <a:xfrm rot="5400000">
              <a:off x="2514240" y="2514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209320" y="2971800"/>
              <a:ext cx="38124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809880"/>
              <a:ext cx="32767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timized brilliance for 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generation sources: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&gt; lower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ousch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429000" y="2590920"/>
            <a:ext cx="5715000" cy="3603960"/>
            <a:chOff x="3429000" y="2590920"/>
            <a:chExt cx="5715000" cy="3603960"/>
          </a:xfrm>
        </p:grpSpPr>
        <p:sp>
          <p:nvSpPr>
            <p:cNvPr id="58" name=""/>
            <p:cNvSpPr/>
            <p:nvPr/>
          </p:nvSpPr>
          <p:spPr>
            <a:xfrm>
              <a:off x="3429000" y="2590920"/>
              <a:ext cx="2514600" cy="297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67280" y="5410080"/>
              <a:ext cx="3276720" cy="7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energy machin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&gt; lower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ousch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2666880"/>
            <a:ext cx="4876920" cy="2353320"/>
            <a:chOff x="4267080" y="2666880"/>
            <a:chExt cx="4876920" cy="2353320"/>
          </a:xfrm>
        </p:grpSpPr>
        <p:sp>
          <p:nvSpPr>
            <p:cNvPr id="61" name=""/>
            <p:cNvSpPr/>
            <p:nvPr/>
          </p:nvSpPr>
          <p:spPr>
            <a:xfrm>
              <a:off x="4267080" y="2666880"/>
              <a:ext cx="137160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2720" y="4267080"/>
              <a:ext cx="3581280" cy="7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F or dynamic acceptanc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&gt; limits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ousch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76520" y="2666880"/>
            <a:ext cx="3504960" cy="3619080"/>
            <a:chOff x="1676520" y="2666880"/>
            <a:chExt cx="3504960" cy="3619080"/>
          </a:xfrm>
        </p:grpSpPr>
        <p:sp>
          <p:nvSpPr>
            <p:cNvPr id="64" name=""/>
            <p:cNvSpPr/>
            <p:nvPr/>
          </p:nvSpPr>
          <p:spPr>
            <a:xfrm>
              <a:off x="3124080" y="2666880"/>
              <a:ext cx="38124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5029200"/>
              <a:ext cx="3504960" cy="1256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nch lengthening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increas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Tousch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33520" y="1066680"/>
            <a:ext cx="4038480" cy="838440"/>
            <a:chOff x="533520" y="1066680"/>
            <a:chExt cx="4038480" cy="838440"/>
          </a:xfrm>
        </p:grpSpPr>
        <p:sp>
          <p:nvSpPr>
            <p:cNvPr id="67" name=""/>
            <p:cNvSpPr/>
            <p:nvPr/>
          </p:nvSpPr>
          <p:spPr>
            <a:xfrm flipH="1" flipV="1">
              <a:off x="2438280" y="1447920"/>
              <a:ext cx="5335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520" y="10666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nalizes few bunch op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00600" y="1676520"/>
            <a:ext cx="4191120" cy="2068560"/>
            <a:chOff x="4800600" y="1676520"/>
            <a:chExt cx="4191120" cy="2068560"/>
          </a:xfrm>
        </p:grpSpPr>
        <p:grpSp>
          <p:nvGrpSpPr>
            <p:cNvPr id="70" name=""/>
            <p:cNvGrpSpPr/>
            <p:nvPr/>
          </p:nvGrpSpPr>
          <p:grpSpPr>
            <a:xfrm>
              <a:off x="4800600" y="1676520"/>
              <a:ext cx="4191120" cy="2068560"/>
              <a:chOff x="4800600" y="1676520"/>
              <a:chExt cx="4191120" cy="2068560"/>
            </a:xfrm>
          </p:grpSpPr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6477120" y="1676520"/>
                    <a:ext cx="2286000" cy="99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" name=""/>
                  <p:cNvSpPr txBox="1"/>
                  <p:nvPr/>
                </p:nvSpPr>
                <p:spPr>
                  <a:xfrm>
                    <a:off x="5029200" y="1981080"/>
                    <a:ext cx="990720" cy="45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" name=""/>
              <p:cNvSpPr/>
              <p:nvPr/>
            </p:nvSpPr>
            <p:spPr>
              <a:xfrm>
                <a:off x="4800600" y="2819520"/>
                <a:ext cx="4191120" cy="925560"/>
              </a:xfrm>
              <a:prstGeom prst="rect">
                <a:avLst/>
              </a:pr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00"/>
                    </a:solidFill>
                    <a:latin typeface="Times New Roman"/>
                  </a:rPr>
                  <a:t>Exponential increase of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2000" spc="-1" strike="noStrike" baseline="-25000">
                    <a:solidFill>
                      <a:srgbClr val="ff0000"/>
                    </a:solidFill>
                    <a:latin typeface="Times New Roman"/>
                  </a:rPr>
                  <a:t>Touschek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Times New Roman"/>
                  </a:rPr>
                  <a:t> with 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Times New Roman"/>
                  </a:rPr>
                  <a:t> if 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000" spc="-1" strike="noStrike" baseline="-25000">
                    <a:solidFill>
                      <a:srgbClr val="336600"/>
                    </a:solidFill>
                    <a:latin typeface="Times New Roman"/>
                  </a:rPr>
                  <a:t>x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Times New Roman"/>
                  </a:rPr>
                  <a:t> very small:         future sources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6629400" y="346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077-6909-4E95-9C18-B48B4C564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rmonic caviti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voltage for low or medium energy machines /multibunch opera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ning not easy to handle for simultaneou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e mostl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e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ain in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Lifetim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y typically a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factor 2 to 2.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=&gt; good for these machines !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C 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rmonic caviti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 operation at low current (e.g. single bunch ope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 in bunch shortening demons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 HOM f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c caviti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way for high energy machines , where interest is mainly for high I/b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major problems with HC HOMs, Robinson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ning should be ea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needs R&amp;D to check performance, reliability and operational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410080"/>
            <a:ext cx="82296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ransient beam load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Beam inst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sue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rmonic cavities: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ood candidates for extensive discussions in this work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76D-6214-4AE3-9261-C1E908D5E3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rmonic Cavities for bunch length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vity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n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F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ft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/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/Super-conducting (NC/S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bunchlength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har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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har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45720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ABB-27EE-457B-A7B8-B5E6716BB2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071800" y="3598920"/>
            <a:ext cx="4519440" cy="251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705720" y="4648320"/>
            <a:ext cx="129852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75280" y="63504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95920" y="1324080"/>
            <a:ext cx="1865160" cy="111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21440" y="1015920"/>
            <a:ext cx="0" cy="9907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11430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609480"/>
            <a:ext cx="17524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SRF parame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53352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4.8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3962520"/>
            <a:ext cx="2514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tron frequency distributio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2 k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46920" y="362592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C39-7FD0-480F-B028-F3E2DC0792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3778200" cy="288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05720" y="4648320"/>
            <a:ext cx="160020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730760" y="609480"/>
            <a:ext cx="2736720" cy="1371600"/>
            <a:chOff x="4730760" y="609480"/>
            <a:chExt cx="2736720" cy="1371600"/>
          </a:xfrm>
        </p:grpSpPr>
        <p:sp>
          <p:nvSpPr>
            <p:cNvPr id="95" name=""/>
            <p:cNvSpPr/>
            <p:nvPr/>
          </p:nvSpPr>
          <p:spPr>
            <a:xfrm>
              <a:off x="6019920" y="6094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30760" y="130320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65720" y="99072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11430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549760" y="397980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A4C-ED66-4AF0-B1F2-8FC3DDE6D9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705720" y="4648320"/>
            <a:ext cx="152388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30760" y="609480"/>
            <a:ext cx="2736720" cy="1371600"/>
            <a:chOff x="4730760" y="609480"/>
            <a:chExt cx="2736720" cy="1371600"/>
          </a:xfrm>
        </p:grpSpPr>
        <p:sp>
          <p:nvSpPr>
            <p:cNvPr id="105" name=""/>
            <p:cNvSpPr/>
            <p:nvPr/>
          </p:nvSpPr>
          <p:spPr>
            <a:xfrm>
              <a:off x="6019920" y="6094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0760" y="130320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65720" y="99072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11430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010120" y="426708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BC7-906B-446A-B302-457D9409B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705720" y="4648320"/>
            <a:ext cx="160020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730760" y="609480"/>
            <a:ext cx="2736720" cy="1371600"/>
            <a:chOff x="4730760" y="609480"/>
            <a:chExt cx="2736720" cy="1371600"/>
          </a:xfrm>
        </p:grpSpPr>
        <p:sp>
          <p:nvSpPr>
            <p:cNvPr id="115" name=""/>
            <p:cNvSpPr/>
            <p:nvPr/>
          </p:nvSpPr>
          <p:spPr>
            <a:xfrm>
              <a:off x="6019920" y="6094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30760" y="130320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5720" y="99072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11430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749840" y="440064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C91-5063-423D-B9FE-6A757A89C6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705720" y="4648320"/>
            <a:ext cx="152388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38680" y="627120"/>
            <a:ext cx="2736720" cy="1371600"/>
            <a:chOff x="4738680" y="627120"/>
            <a:chExt cx="2736720" cy="1371600"/>
          </a:xfrm>
        </p:grpSpPr>
        <p:sp>
          <p:nvSpPr>
            <p:cNvPr id="125" name=""/>
            <p:cNvSpPr/>
            <p:nvPr/>
          </p:nvSpPr>
          <p:spPr>
            <a:xfrm>
              <a:off x="6027840" y="62712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38680" y="132084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3640" y="100836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89600" y="116064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462560" y="456264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93D-F59B-4796-BA23-012166AFF1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4:45:46Z</dcterms:created>
  <dc:creator>ESRF</dc:creator>
  <dc:description/>
  <dc:language>en-US</dc:language>
  <cp:lastModifiedBy>Marie ROBICHON</cp:lastModifiedBy>
  <cp:lastPrinted>2000-03-15T13:53:51Z</cp:lastPrinted>
  <dcterms:modified xsi:type="dcterms:W3CDTF">2008-01-07T09:46:55Z</dcterms:modified>
  <cp:revision>121</cp:revision>
  <dc:subject/>
  <dc:title>No Slide Title</dc:title>
</cp:coreProperties>
</file>