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5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37.png" ContentType="image/png"/>
  <Override PartName="/ppt/media/image35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B18-100D-47BB-9D29-CBBCB84E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9AE-CEDF-47BB-A8F7-13511B30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ECC-C4D8-4EAE-8AC7-09681476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CEEE-EA30-4175-9AD7-4B0F39E7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1097-4736-4D73-BC0A-B07ACAAD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CAD-186B-4B79-92FA-F446EB89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896-A07F-4504-8838-4F42CE5B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1A51-FF46-408E-8437-3DDBA386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F2F-68B3-46BE-9F7A-F5DFBB21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4B9E-1C11-40C8-B63A-C8649F6F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EEE0-864C-4038-8724-96332B64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B7E8-F9C1-417D-8AC7-B9B24A80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426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eam Instability Workshop, ESRF, 13th - 15th March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. Jacob / </a:t>
            </a:r>
            <a:fld id="{89FC61F1-498C-4936-A113-62BE8321419A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685800" y="6248520"/>
          <a:ext cx="36972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6248520"/>
                    <a:ext cx="369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352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Harmonic Cavities:the Pros &amp; Cons</a:t>
            </a:r>
            <a:br>
              <a:rPr sz="4000"/>
            </a:b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Jörn Jac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714640" y="1142640"/>
            <a:ext cx="2895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09480" y="457200"/>
          <a:ext cx="403884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7200"/>
                    <a:ext cx="403884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324480" y="762120"/>
          <a:ext cx="135576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762120"/>
                    <a:ext cx="13557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75B-BF88-4F66-B511-0D121F2791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49748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5892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057400" y="3598920"/>
            <a:ext cx="4519440" cy="2519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705720" y="4648320"/>
            <a:ext cx="160020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p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748040" y="635040"/>
            <a:ext cx="2736720" cy="1371600"/>
            <a:chOff x="4748040" y="635040"/>
            <a:chExt cx="2736720" cy="1371600"/>
          </a:xfrm>
        </p:grpSpPr>
        <p:sp>
          <p:nvSpPr>
            <p:cNvPr id="135" name=""/>
            <p:cNvSpPr/>
            <p:nvPr/>
          </p:nvSpPr>
          <p:spPr>
            <a:xfrm>
              <a:off x="6037200" y="63504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</a:t>
              </a:r>
              <a:r>
                <a:rPr b="0" i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48040" y="1328760"/>
              <a:ext cx="1974960" cy="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83000" y="1016280"/>
              <a:ext cx="0" cy="990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98960" y="116856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108320" y="475452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4488-6379-4F32-8135-69AA498D81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49748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5892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057400" y="3598920"/>
            <a:ext cx="4519440" cy="2519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705720" y="4648320"/>
            <a:ext cx="152388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p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738680" y="642960"/>
            <a:ext cx="2736720" cy="1371600"/>
            <a:chOff x="4738680" y="642960"/>
            <a:chExt cx="2736720" cy="1371600"/>
          </a:xfrm>
        </p:grpSpPr>
        <p:sp>
          <p:nvSpPr>
            <p:cNvPr id="145" name=""/>
            <p:cNvSpPr/>
            <p:nvPr/>
          </p:nvSpPr>
          <p:spPr>
            <a:xfrm>
              <a:off x="6027840" y="64296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</a:t>
              </a:r>
              <a:r>
                <a:rPr b="0" i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38680" y="1336680"/>
              <a:ext cx="1974960" cy="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73640" y="1024200"/>
              <a:ext cx="0" cy="990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9600" y="117648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657600" y="495288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CD37-E7D7-4083-8B90-98B80F9CB7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49748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5892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057400" y="3598920"/>
            <a:ext cx="4519440" cy="2519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705720" y="4648320"/>
            <a:ext cx="129852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p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740120" y="650880"/>
            <a:ext cx="2736720" cy="1371600"/>
            <a:chOff x="4740120" y="650880"/>
            <a:chExt cx="2736720" cy="1371600"/>
          </a:xfrm>
        </p:grpSpPr>
        <p:sp>
          <p:nvSpPr>
            <p:cNvPr id="155" name=""/>
            <p:cNvSpPr/>
            <p:nvPr/>
          </p:nvSpPr>
          <p:spPr>
            <a:xfrm>
              <a:off x="6029280" y="65088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</a:t>
              </a:r>
              <a:r>
                <a:rPr b="0" i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40120" y="1344600"/>
              <a:ext cx="1974960" cy="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75080" y="1032120"/>
              <a:ext cx="0" cy="990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91040" y="118440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276720" y="510552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5486400"/>
            <a:ext cx="1371600" cy="58068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A. Hofmann &amp; S. Myer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6E48-F1B8-4CD2-BEC4-27181984E3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4730760" y="660240"/>
            <a:ext cx="2736720" cy="1371600"/>
            <a:chOff x="4730760" y="660240"/>
            <a:chExt cx="2736720" cy="1371600"/>
          </a:xfrm>
        </p:grpSpPr>
        <p:sp>
          <p:nvSpPr>
            <p:cNvPr id="162" name=""/>
            <p:cNvSpPr/>
            <p:nvPr/>
          </p:nvSpPr>
          <p:spPr>
            <a:xfrm>
              <a:off x="6019920" y="66024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</a:t>
              </a:r>
              <a:r>
                <a:rPr b="0" i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30760" y="1353960"/>
              <a:ext cx="1974960" cy="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65720" y="1041480"/>
              <a:ext cx="0" cy="990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119376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49748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58920" y="358920"/>
            <a:ext cx="3778200" cy="28796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0" y="685800"/>
            <a:ext cx="167652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p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1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4191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stretching =&gt; formation of two bu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78A1-5676-4779-9A48-E51783E55F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6705720" cy="457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09680" y="2819520"/>
            <a:ext cx="44960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54960" y="276876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86560" y="27273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17600" y="1244520"/>
            <a:ext cx="5029200" cy="0"/>
          </a:xfrm>
          <a:prstGeom prst="line">
            <a:avLst/>
          </a:prstGeom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914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max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2438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typ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F20-4C7E-4824-8EF5-7714A90C75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C pas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rmonic ca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am driv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multibunch opera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&gt; 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inimu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rolled by Cavity tun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typ.: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n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 possible at one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80880" y="2743200"/>
            <a:ext cx="8534520" cy="5410080"/>
            <a:chOff x="380880" y="2743200"/>
            <a:chExt cx="8534520" cy="5410080"/>
          </a:xfrm>
        </p:grpSpPr>
        <p:sp>
          <p:nvSpPr>
            <p:cNvPr id="180" name=""/>
            <p:cNvSpPr/>
            <p:nvPr/>
          </p:nvSpPr>
          <p:spPr>
            <a:xfrm>
              <a:off x="5715000" y="5867280"/>
              <a:ext cx="3200400" cy="337320"/>
            </a:xfrm>
            <a:prstGeom prst="rect">
              <a:avLst/>
            </a:prstGeom>
            <a:solidFill>
              <a:srgbClr val="f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6600"/>
                  </a:solidFill>
                  <a:latin typeface="Times New Roman"/>
                </a:rPr>
                <a:t>[Å. Andersson, M. Georgsson et al.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880" y="2743200"/>
              <a:ext cx="8077320" cy="54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AX II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= 1.5 GeV, 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am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= 250 mA -&gt;100 … 70 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en-US" sz="2000" spc="-1" strike="noStrike" baseline="-25000">
                  <a:solidFill>
                    <a:srgbClr val="3333cc"/>
                  </a:solidFill>
                  <a:latin typeface="Times New Roman"/>
                </a:rPr>
                <a:t>RF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Times New Roman"/>
                </a:rPr>
                <a:t>= 500 MHz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  copper pillbox HC’s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harm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= 3 f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RF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un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chievements: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ath1"/>
                  <a:ea typeface="Math1"/>
                </a:rPr>
                <a:t>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ife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ubled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(I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ife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: 3 Ah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5…6 A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ff0000"/>
                  </a:solidFill>
                  <a:latin typeface="Math1"/>
                  <a:ea typeface="Math1"/>
                </a:rPr>
                <a:t>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Landau damping of  multibunch instabilities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not fully stable)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Math1"/>
                  <a:ea typeface="Math1"/>
                </a:rPr>
                <a:t>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Energy spread: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0.7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i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-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fo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am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4…5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10</a:t>
              </a:r>
              <a:r>
                <a:rPr b="0" i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-3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t nominal Ibeam for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harm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1.1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x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r>
                <a:rPr b="0" i="1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-3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 with Landau damping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D69-2BAC-429C-9D4A-AFCC1390DE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C pas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rmonic cavit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1.9 GeV, 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400 mA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200 mA, LFB &amp; TF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3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 Cu reentrant HC’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 3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2 tuners, HOM absor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hievements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experiment: 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if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crease by facto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2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if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4 h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10 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55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120 ps,  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11.5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5 k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FB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lter (now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4 kHz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ength-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peration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50%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ife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6 h (2 cavities tuned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nergy spread =&gt;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etuning of HC-H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TM011 at A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blem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 require 20 %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filling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transient beam loadin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ong beam and Voltag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average bunch length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FB: </a:t>
            </a:r>
            <a:r>
              <a:rPr b="0" lang="en-US" sz="2000" spc="-1" strike="noStrike">
                <a:solidFill>
                  <a:srgbClr val="539e20"/>
                </a:solidFill>
                <a:latin typeface="Times New Roman"/>
              </a:rPr>
              <a:t>heterodyne </a:t>
            </a:r>
            <a:r>
              <a:rPr b="0" lang="en-US" sz="2000" spc="-1" strike="noStrike">
                <a:solidFill>
                  <a:srgbClr val="539e2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539e20"/>
                </a:solidFill>
                <a:latin typeface="Times New Roman"/>
              </a:rPr>
              <a:t> homodyne recei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olved 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FB: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ulatio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actor 6 at 3 GHz detectio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eedback saturates if |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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| &gt;15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43800" y="5943600"/>
            <a:ext cx="1447920" cy="33732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J. Byrd et al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066680"/>
            <a:ext cx="167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R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5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056-C3BC-4278-B6D0-6913953830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C pas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rmonic cavit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761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SY I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1.9 GeV, 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220 mA, LFB &amp; TF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3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 Cu Pillbox HC’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 3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2 tu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hievement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still in commissioning)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if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3.2 h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5.2 h at 20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by facto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2.5 to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867280"/>
            <a:ext cx="1676520" cy="33732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W. Anders et al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3047760" cy="2438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048120" cy="2438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219320" y="5181480"/>
            <a:ext cx="274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122 mA, LFB on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harm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5181480"/>
            <a:ext cx="320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200 mA, LFB off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harm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= 140 k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038480" y="4419720"/>
            <a:ext cx="11430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4952880"/>
            <a:ext cx="11430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61720" y="5715000"/>
            <a:ext cx="4779000" cy="44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eak Camera: same time scale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imes New Roman"/>
              </a:rPr>
              <a:t>acc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= 1 M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219320"/>
            <a:ext cx="167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R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5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A1B3-4D50-499A-AAE6-B2F990E7BB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C pas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rmonic cavit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2120" y="761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S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FB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FB: not yet compatible (filter bandwi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hase transi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ax 5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OM proble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ill presen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15200" y="5943600"/>
            <a:ext cx="1676520" cy="33732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W. Anders et al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62120" y="2765520"/>
            <a:ext cx="3352680" cy="3383280"/>
            <a:chOff x="762120" y="2765520"/>
            <a:chExt cx="3352680" cy="338328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762120" y="2819520"/>
              <a:ext cx="3352680" cy="26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990720" y="5029200"/>
              <a:ext cx="2743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200 mA,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harm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 = 140 k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12840" y="27655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200 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19520" y="2971800"/>
              <a:ext cx="129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62120" y="2971800"/>
              <a:ext cx="137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2120" y="5562720"/>
              <a:ext cx="3352680" cy="586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oupled bunch mo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with some bunch shape oscil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952880" y="2765520"/>
            <a:ext cx="3353040" cy="3134520"/>
            <a:chOff x="4952880" y="2765520"/>
            <a:chExt cx="3353040" cy="3134520"/>
          </a:xfrm>
        </p:grpSpPr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4952880" y="2819520"/>
              <a:ext cx="3353040" cy="26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6303960" y="27655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10 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10280" y="29718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952880" y="2971800"/>
              <a:ext cx="137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9200" y="5105520"/>
              <a:ext cx="3200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200 mA,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i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harm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= 140 k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5562720"/>
              <a:ext cx="3353040" cy="3373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elaxation effect, Period =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6 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EAE7-1F5C-4EA9-82A0-1F1179D43C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rmonic ca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761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LS VUV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 = 0.8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 alternatively in bunch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lengthe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shorte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we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vities allow operation near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opt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op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r any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Beam po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5486400"/>
            <a:ext cx="1600200" cy="56160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S. L. Kram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N. Towne et al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838080"/>
            <a:ext cx="34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R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52.9 MHz,   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33cc"/>
                </a:solidFill>
                <a:latin typeface="Times New Roman"/>
              </a:rPr>
              <a:t>harm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</a:rPr>
              <a:t>= 4 f</a:t>
            </a:r>
            <a:r>
              <a:rPr b="0" i="1" lang="en-US" sz="2000" spc="-1" strike="noStrike" baseline="-25000">
                <a:solidFill>
                  <a:srgbClr val="0033cc"/>
                </a:solidFill>
                <a:latin typeface="Times New Roman"/>
              </a:rPr>
              <a:t>R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57200" y="2590920"/>
            <a:ext cx="5029200" cy="3580560"/>
            <a:chOff x="457200" y="2590920"/>
            <a:chExt cx="5029200" cy="3580560"/>
          </a:xfrm>
        </p:grpSpPr>
        <p:grpSp>
          <p:nvGrpSpPr>
            <p:cNvPr id="219" name=""/>
            <p:cNvGrpSpPr/>
            <p:nvPr/>
          </p:nvGrpSpPr>
          <p:grpSpPr>
            <a:xfrm>
              <a:off x="457200" y="2590920"/>
              <a:ext cx="5029200" cy="3580560"/>
              <a:chOff x="457200" y="2590920"/>
              <a:chExt cx="5029200" cy="358056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457200" y="2590920"/>
                <a:ext cx="5029200" cy="3580560"/>
                <a:chOff x="457200" y="2590920"/>
                <a:chExt cx="5029200" cy="358056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457200" y="2590920"/>
                  <a:ext cx="5029200" cy="3580560"/>
                  <a:chOff x="457200" y="2590920"/>
                  <a:chExt cx="5029200" cy="3580560"/>
                </a:xfrm>
              </p:grpSpPr>
              <p:pic>
                <p:nvPicPr>
                  <p:cNvPr id="222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57200" y="2590920"/>
                    <a:ext cx="5029200" cy="358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3" name=""/>
                  <p:cNvSpPr/>
                  <p:nvPr/>
                </p:nvSpPr>
                <p:spPr>
                  <a:xfrm>
                    <a:off x="1485720" y="2916720"/>
                    <a:ext cx="1570680" cy="212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79" h="2190">
                        <a:moveTo>
                          <a:pt x="0" y="0"/>
                        </a:moveTo>
                        <a:cubicBezTo>
                          <a:pt x="5" y="35"/>
                          <a:pt x="11" y="70"/>
                          <a:pt x="30" y="132"/>
                        </a:cubicBezTo>
                        <a:cubicBezTo>
                          <a:pt x="49" y="194"/>
                          <a:pt x="79" y="286"/>
                          <a:pt x="113" y="374"/>
                        </a:cubicBezTo>
                        <a:cubicBezTo>
                          <a:pt x="147" y="462"/>
                          <a:pt x="206" y="595"/>
                          <a:pt x="234" y="660"/>
                        </a:cubicBezTo>
                        <a:cubicBezTo>
                          <a:pt x="262" y="725"/>
                          <a:pt x="263" y="722"/>
                          <a:pt x="284" y="765"/>
                        </a:cubicBezTo>
                        <a:cubicBezTo>
                          <a:pt x="305" y="808"/>
                          <a:pt x="330" y="868"/>
                          <a:pt x="361" y="919"/>
                        </a:cubicBezTo>
                        <a:cubicBezTo>
                          <a:pt x="392" y="970"/>
                          <a:pt x="434" y="1021"/>
                          <a:pt x="471" y="1073"/>
                        </a:cubicBezTo>
                        <a:cubicBezTo>
                          <a:pt x="508" y="1125"/>
                          <a:pt x="547" y="1180"/>
                          <a:pt x="586" y="1233"/>
                        </a:cubicBezTo>
                        <a:cubicBezTo>
                          <a:pt x="625" y="1286"/>
                          <a:pt x="664" y="1341"/>
                          <a:pt x="707" y="1392"/>
                        </a:cubicBezTo>
                        <a:cubicBezTo>
                          <a:pt x="750" y="1443"/>
                          <a:pt x="792" y="1489"/>
                          <a:pt x="845" y="1541"/>
                        </a:cubicBezTo>
                        <a:cubicBezTo>
                          <a:pt x="898" y="1593"/>
                          <a:pt x="964" y="1655"/>
                          <a:pt x="1027" y="1706"/>
                        </a:cubicBezTo>
                        <a:cubicBezTo>
                          <a:pt x="1090" y="1757"/>
                          <a:pt x="1164" y="1810"/>
                          <a:pt x="1225" y="1849"/>
                        </a:cubicBezTo>
                        <a:cubicBezTo>
                          <a:pt x="1286" y="1888"/>
                          <a:pt x="1339" y="1914"/>
                          <a:pt x="1390" y="1943"/>
                        </a:cubicBezTo>
                        <a:cubicBezTo>
                          <a:pt x="1441" y="1972"/>
                          <a:pt x="1475" y="1995"/>
                          <a:pt x="1528" y="2020"/>
                        </a:cubicBezTo>
                        <a:cubicBezTo>
                          <a:pt x="1581" y="2045"/>
                          <a:pt x="1664" y="2073"/>
                          <a:pt x="1709" y="2091"/>
                        </a:cubicBezTo>
                        <a:cubicBezTo>
                          <a:pt x="1754" y="2109"/>
                          <a:pt x="1752" y="2114"/>
                          <a:pt x="1797" y="2130"/>
                        </a:cubicBezTo>
                        <a:cubicBezTo>
                          <a:pt x="1842" y="2146"/>
                          <a:pt x="1947" y="2180"/>
                          <a:pt x="1979" y="219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33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1485720" y="2916720"/>
                    <a:ext cx="2488320" cy="2043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35" h="2108">
                        <a:moveTo>
                          <a:pt x="0" y="0"/>
                        </a:moveTo>
                        <a:cubicBezTo>
                          <a:pt x="25" y="41"/>
                          <a:pt x="50" y="82"/>
                          <a:pt x="96" y="144"/>
                        </a:cubicBezTo>
                        <a:cubicBezTo>
                          <a:pt x="142" y="206"/>
                          <a:pt x="211" y="293"/>
                          <a:pt x="278" y="369"/>
                        </a:cubicBezTo>
                        <a:cubicBezTo>
                          <a:pt x="345" y="445"/>
                          <a:pt x="426" y="527"/>
                          <a:pt x="498" y="600"/>
                        </a:cubicBezTo>
                        <a:cubicBezTo>
                          <a:pt x="570" y="673"/>
                          <a:pt x="650" y="751"/>
                          <a:pt x="713" y="809"/>
                        </a:cubicBezTo>
                        <a:cubicBezTo>
                          <a:pt x="776" y="867"/>
                          <a:pt x="820" y="900"/>
                          <a:pt x="878" y="947"/>
                        </a:cubicBezTo>
                        <a:cubicBezTo>
                          <a:pt x="936" y="994"/>
                          <a:pt x="984" y="1034"/>
                          <a:pt x="1060" y="1090"/>
                        </a:cubicBezTo>
                        <a:cubicBezTo>
                          <a:pt x="1136" y="1146"/>
                          <a:pt x="1238" y="1217"/>
                          <a:pt x="1335" y="1282"/>
                        </a:cubicBezTo>
                        <a:cubicBezTo>
                          <a:pt x="1432" y="1347"/>
                          <a:pt x="1525" y="1410"/>
                          <a:pt x="1643" y="1480"/>
                        </a:cubicBezTo>
                        <a:cubicBezTo>
                          <a:pt x="1761" y="1550"/>
                          <a:pt x="1926" y="1641"/>
                          <a:pt x="2040" y="1701"/>
                        </a:cubicBezTo>
                        <a:cubicBezTo>
                          <a:pt x="2154" y="1761"/>
                          <a:pt x="2225" y="1794"/>
                          <a:pt x="2326" y="1838"/>
                        </a:cubicBezTo>
                        <a:cubicBezTo>
                          <a:pt x="2427" y="1882"/>
                          <a:pt x="2510" y="1920"/>
                          <a:pt x="2645" y="1965"/>
                        </a:cubicBezTo>
                        <a:cubicBezTo>
                          <a:pt x="2780" y="2010"/>
                          <a:pt x="3054" y="2084"/>
                          <a:pt x="3135" y="2108"/>
                        </a:cubicBezTo>
                      </a:path>
                    </a:pathLst>
                  </a:custGeom>
                  <a:noFill/>
                  <a:ln w="28440">
                    <a:solidFill>
                      <a:srgbClr val="65c12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1485720" y="2916720"/>
                    <a:ext cx="2970720" cy="2113200"/>
                    <a:chOff x="1485720" y="2916720"/>
                    <a:chExt cx="2970720" cy="211320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1485720" y="2916720"/>
                      <a:ext cx="2917080" cy="19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75" h="2014">
                          <a:moveTo>
                            <a:pt x="0" y="0"/>
                          </a:moveTo>
                          <a:cubicBezTo>
                            <a:pt x="68" y="88"/>
                            <a:pt x="137" y="176"/>
                            <a:pt x="201" y="253"/>
                          </a:cubicBezTo>
                          <a:cubicBezTo>
                            <a:pt x="265" y="330"/>
                            <a:pt x="319" y="391"/>
                            <a:pt x="383" y="462"/>
                          </a:cubicBezTo>
                          <a:cubicBezTo>
                            <a:pt x="447" y="533"/>
                            <a:pt x="516" y="613"/>
                            <a:pt x="586" y="682"/>
                          </a:cubicBezTo>
                          <a:cubicBezTo>
                            <a:pt x="656" y="751"/>
                            <a:pt x="743" y="822"/>
                            <a:pt x="806" y="875"/>
                          </a:cubicBezTo>
                          <a:cubicBezTo>
                            <a:pt x="869" y="928"/>
                            <a:pt x="901" y="955"/>
                            <a:pt x="966" y="1002"/>
                          </a:cubicBezTo>
                          <a:cubicBezTo>
                            <a:pt x="1031" y="1049"/>
                            <a:pt x="1111" y="1105"/>
                            <a:pt x="1197" y="1156"/>
                          </a:cubicBezTo>
                          <a:cubicBezTo>
                            <a:pt x="1283" y="1207"/>
                            <a:pt x="1378" y="1257"/>
                            <a:pt x="1484" y="1310"/>
                          </a:cubicBezTo>
                          <a:cubicBezTo>
                            <a:pt x="1590" y="1363"/>
                            <a:pt x="1704" y="1421"/>
                            <a:pt x="1830" y="1475"/>
                          </a:cubicBezTo>
                          <a:cubicBezTo>
                            <a:pt x="1956" y="1529"/>
                            <a:pt x="2101" y="1586"/>
                            <a:pt x="2243" y="1635"/>
                          </a:cubicBezTo>
                          <a:cubicBezTo>
                            <a:pt x="2385" y="1684"/>
                            <a:pt x="2562" y="1735"/>
                            <a:pt x="2684" y="1772"/>
                          </a:cubicBezTo>
                          <a:cubicBezTo>
                            <a:pt x="2806" y="1809"/>
                            <a:pt x="2857" y="1825"/>
                            <a:pt x="2975" y="1855"/>
                          </a:cubicBezTo>
                          <a:cubicBezTo>
                            <a:pt x="3093" y="1885"/>
                            <a:pt x="3277" y="1928"/>
                            <a:pt x="3394" y="1954"/>
                          </a:cubicBezTo>
                          <a:cubicBezTo>
                            <a:pt x="3511" y="1980"/>
                            <a:pt x="3629" y="2006"/>
                            <a:pt x="3675" y="2014"/>
                          </a:cubicBezTo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402080" y="4871160"/>
                      <a:ext cx="1440" cy="14220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4419360" y="5010840"/>
                      <a:ext cx="37080" cy="19080"/>
                    </a:xfrm>
                    <a:prstGeom prst="line">
                      <a:avLst/>
                    </a:prstGeom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29" name=""/>
                <p:cNvSpPr/>
                <p:nvPr/>
              </p:nvSpPr>
              <p:spPr>
                <a:xfrm>
                  <a:off x="3925080" y="4428720"/>
                  <a:ext cx="430920" cy="228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684160" y="5140800"/>
                  <a:ext cx="430920" cy="228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331080" y="5113440"/>
                  <a:ext cx="430920" cy="22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3697560" y="4374720"/>
                <a:ext cx="93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</a:rPr>
                  <a:t>A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31080" y="4869720"/>
                <a:ext cx="100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5c127"/>
                    </a:solidFill>
                    <a:latin typeface="Times New Roman"/>
                  </a:rPr>
                  <a:t>PASS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79200" y="4961160"/>
                <a:ext cx="136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cc"/>
                    </a:solidFill>
                    <a:latin typeface="Times New Roman"/>
                  </a:rPr>
                  <a:t>52 MHz al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886200" y="5715000"/>
              <a:ext cx="150840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Data from 199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4952880" y="2209680"/>
            <a:ext cx="3797280" cy="297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ctr" pos="1521000"/>
                <a:tab algn="ctr" pos="2473200"/>
                <a:tab algn="ctr" pos="333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test Fig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ctr" pos="1521000"/>
                <a:tab algn="ctr" pos="2473200"/>
                <a:tab algn="ctr" pos="333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eng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ctr" pos="1521000"/>
                <a:tab algn="ctr" pos="2473200"/>
                <a:tab algn="ctr" pos="333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HC detuned</a:t>
            </a: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700 mA</a:t>
            </a: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0.9 ns</a:t>
            </a: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Times New Roman"/>
              </a:rPr>
              <a:t>2.5 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ctr" pos="1521000"/>
                <a:tab algn="ctr" pos="2473200"/>
                <a:tab algn="ctr" pos="333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lengthened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700 mA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1.7 …2 ns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4 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ctr" pos="1521000"/>
                <a:tab algn="ctr" pos="2473200"/>
                <a:tab algn="ctr" pos="333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(unstable above 700 mA </a:t>
            </a:r>
            <a:r>
              <a:rPr b="0" i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 nominal 1 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001"/>
              </a:spcBef>
              <a:tabLst>
                <a:tab algn="l" pos="0"/>
                <a:tab algn="ctr" pos="1521000"/>
                <a:tab algn="ctr" pos="2473200"/>
                <a:tab algn="ctr" pos="333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ctr" pos="1521000"/>
                <a:tab algn="ctr" pos="2473200"/>
                <a:tab algn="ctr" pos="333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00"/>
                </a:solidFill>
                <a:latin typeface="Times New Roman"/>
              </a:rPr>
              <a:t>shortened</a:t>
            </a:r>
            <a:r>
              <a:rPr b="0" i="1" lang="en-US" sz="16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9900"/>
                </a:solidFill>
                <a:latin typeface="Times New Roman"/>
              </a:rPr>
              <a:t>600 mA</a:t>
            </a:r>
            <a:r>
              <a:rPr b="0" i="1" lang="en-US" sz="16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9900"/>
                </a:solidFill>
                <a:latin typeface="Times New Roman"/>
              </a:rPr>
              <a:t>0.48 ns</a:t>
            </a:r>
            <a:r>
              <a:rPr b="0" i="1" lang="en-US" sz="16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9900"/>
                </a:solidFill>
                <a:latin typeface="Times New Roman"/>
              </a:rPr>
              <a:t>2 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ctr" pos="1521000"/>
                <a:tab algn="ctr" pos="2473200"/>
                <a:tab algn="ctr" pos="333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00"/>
                </a:solidFill>
                <a:latin typeface="Times New Roman"/>
              </a:rPr>
              <a:t>(constant leng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ctr" pos="1521000"/>
                <a:tab algn="ctr" pos="2473200"/>
                <a:tab algn="ctr" pos="3338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73C-2E70-4190-AD79-EA0BC5EDAB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in motivation for harmonic cavities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ousch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rmonic cavities on existing light sources / achievements,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C passive ca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C active ca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jects for SC harmonic ca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rmonic cavities for the ESRF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s &amp; 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6323-E4FA-4FE6-BBD5-6996EBEAB8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c cavit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-123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LS VUV /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 tuning, amplitude and phase feedb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ciple using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plex Phasor Modulat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tage error signa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539e20"/>
                </a:solidFill>
                <a:latin typeface="Times New Roman"/>
              </a:rPr>
              <a:t>real part a</a:t>
            </a:r>
            <a:r>
              <a:rPr b="0" i="1" lang="en-US" sz="2000" spc="-1" strike="noStrike" baseline="-25000">
                <a:solidFill>
                  <a:srgbClr val="539e2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regulated to “zero” by tu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-90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 and not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93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ngthening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error signal from beam PU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539e20"/>
                </a:solidFill>
                <a:latin typeface="Times New Roman"/>
              </a:rPr>
              <a:t>imaginary part a</a:t>
            </a:r>
            <a:r>
              <a:rPr b="0" i="1" lang="en-US" sz="2000" spc="-1" strike="noStrike" baseline="-25000">
                <a:solidFill>
                  <a:srgbClr val="539e2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at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, due to flat RF potential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GAI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Vcav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-4.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hortening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hase error signal from cavit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539e20"/>
                </a:solidFill>
                <a:latin typeface="Times New Roman"/>
              </a:rPr>
              <a:t>imaginary part a</a:t>
            </a:r>
            <a:r>
              <a:rPr b="0" i="1" lang="en-US" sz="2000" spc="-1" strike="noStrike" baseline="-25000">
                <a:solidFill>
                  <a:srgbClr val="539e2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can be switched to standard tun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ss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le operation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horten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 difficult (high beam loadin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ant bunch length, but limited to 60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5943600"/>
            <a:ext cx="2743200" cy="33732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S. L. Kramer, N. Towne et al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66880" y="4114800"/>
            <a:ext cx="41911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+ j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mplified and fed to the ca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C5E-719B-4AB1-B0CE-F0CC1844E6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c cavit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LS VUV /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related instabiliti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ngthe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andau Damp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oupled bunch inst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jection: partially stretched mode =&gt; needs LF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rrence of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non-rigid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bunch instabili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particular if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ver-stretch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haotic appearance of broad, strong sideba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am lost if high 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near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timum lengthe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peak beam response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.1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.4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ensitive to Ibeam, Cavity tu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nsitive to 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19920" y="5715000"/>
            <a:ext cx="2895480" cy="33732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S. L. Kramer, N. Towne et al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F08-EF73-450C-972A-AD01201B92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3809880" y="1523880"/>
            <a:ext cx="5181840" cy="4216320"/>
            <a:chOff x="3809880" y="1523880"/>
            <a:chExt cx="5181840" cy="421632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3809880" y="1891800"/>
              <a:ext cx="5171040" cy="384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033160" y="1891800"/>
              <a:ext cx="1942920" cy="14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09880" y="1523880"/>
              <a:ext cx="518184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7 / 9 bunches filled, I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eam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= 1000 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76440" y="505368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Times New Roman"/>
                </a:rPr>
                <a:t>Leading bun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120440" y="2996280"/>
              <a:ext cx="122328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Last bun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81880" y="2185560"/>
              <a:ext cx="431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25520" y="2038680"/>
              <a:ext cx="431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97520" y="5201280"/>
              <a:ext cx="431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84800" y="5421600"/>
              <a:ext cx="647640" cy="29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487720" y="5421600"/>
              <a:ext cx="431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 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13520" y="5421600"/>
              <a:ext cx="431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rmonic cavit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8380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LS VUV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tched bunch shape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f(small variations of RF potent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5867280"/>
            <a:ext cx="1143000" cy="33732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N. Town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600200"/>
            <a:ext cx="3505320" cy="3924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Reas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pe very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ensitive to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Times New Roman"/>
              </a:rPr>
              <a:t>ha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opt 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op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Ga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 filling against ion trapping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Phase transien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Ga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 fill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 revolution harm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ite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HO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0960" indent="-480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ifferent potential distortion for different bun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A1C-B0D6-42A3-820C-7643423B87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rmonic cavit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 ACO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 = 0.8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Bunch shorten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EL operation and time resolved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periment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ening by a fact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p to 3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chiev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: 14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40 k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 ty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f instabili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serv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tical single bunch instability 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0 mA/bunch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o sensitivity to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tical TMCI starting 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30 mA, m=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odes merging at 40 mA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cured by high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+2.5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erence between 2 longitudinal single bunch oscil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 frequency sawtooth oscillations (&lt; 300 Hz), at any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frequency oscillations at mainly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2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, only between 2 and 8 mA/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Bunch lengthe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dau damping of LCB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ed Robinso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stability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15200" y="4724280"/>
            <a:ext cx="1676520" cy="33732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G. Flynn et al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480" y="838080"/>
            <a:ext cx="3810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R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100 MHz,     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harm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5 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R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5334120"/>
            <a:ext cx="3124440" cy="33732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M.P. Level, M. Georgsson, et al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3105-1F4F-4934-86E0-FAD0A08338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C pas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ttra, SLS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... collaboration project with CEA-Sac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OM fr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rmonic cavities = scaling of 352.2 MHz SOLEIL ca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air of cavities within a single cryost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ning ang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90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&gt;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beam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as for NSLS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harm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90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mplitude control b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tuning such 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Bunch lengthen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factor 4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 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p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ive operation down to very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ow currents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possibl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obinson inst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m f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low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low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hase transi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so expected with SC ca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RC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bandon N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rmonic cavities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quired space, HOMs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sibility study f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C harmonic ca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5867280"/>
            <a:ext cx="1143000" cy="33732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K.T. Hsu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143000"/>
            <a:ext cx="670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2 GeV)  (2.4 GeV)       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R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500 MHz, 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harm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15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66880" y="3200400"/>
            <a:ext cx="3353040" cy="440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ea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/Q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8880" y="3581280"/>
            <a:ext cx="1752840" cy="82404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</a:t>
            </a: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P. Marchand,   M. Svandrlik,     A. Mosnier et al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4876920"/>
            <a:ext cx="1295640" cy="337320"/>
          </a:xfrm>
          <a:prstGeom prst="rect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6600"/>
                </a:solidFill>
                <a:latin typeface="Times New Roman"/>
              </a:rPr>
              <a:t>[J. Byrd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4FE-0CE8-4C49-9F7B-63C86777C2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c Cavity for the ESRF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m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bunch 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00 mA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0.4 to 0.5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Life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= 60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..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70 h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&gt; 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 bunch at 90 mA (5.5 mA/b)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0.6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Life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= 12 h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&gt; 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bunch at 15 m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0.9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</a:rPr>
              <a:t>Life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= 4 h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&gt; 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stic assump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ngthe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actor 6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685800"/>
            <a:ext cx="480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R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352.2 MHz,   Example:  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harm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= 3 f</a:t>
            </a:r>
            <a:r>
              <a:rPr b="0" i="1" lang="en-US" sz="2000" spc="-1" strike="noStrike" baseline="-25000">
                <a:solidFill>
                  <a:srgbClr val="3333cc"/>
                </a:solidFill>
                <a:latin typeface="Times New Roman"/>
              </a:rPr>
              <a:t>RF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533520" y="3276720"/>
          <a:ext cx="6324480" cy="286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76720"/>
                    <a:ext cx="6324480" cy="28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7620120" y="914400"/>
            <a:ext cx="15238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eason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 HC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857640" y="3276720"/>
            <a:ext cx="2134080" cy="2915280"/>
            <a:chOff x="6857640" y="3276720"/>
            <a:chExt cx="2134080" cy="2915280"/>
          </a:xfrm>
        </p:grpSpPr>
        <p:sp>
          <p:nvSpPr>
            <p:cNvPr id="279" name=""/>
            <p:cNvSpPr/>
            <p:nvPr/>
          </p:nvSpPr>
          <p:spPr>
            <a:xfrm>
              <a:off x="7086600" y="3276720"/>
              <a:ext cx="1905120" cy="291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nger bunch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wer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cc"/>
                  </a:solidFill>
                  <a:latin typeface="Times New Roman"/>
                </a:rPr>
                <a:t>more gain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if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han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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857640" y="571500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001000" y="38098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01000" y="464832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07C6-9E92-4C26-9650-BCEB9C7811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c Cavity for the ESRF ?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simulations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unchanged energy spre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HC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ave in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ore sensitive to HOM driven Longitudinal Coupled Bunch Instabilities: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952880" y="2743200"/>
            <a:ext cx="4038120" cy="2971080"/>
            <a:chOff x="4952880" y="2743200"/>
            <a:chExt cx="4038120" cy="2971080"/>
          </a:xfrm>
        </p:grpSpPr>
        <p:grpSp>
          <p:nvGrpSpPr>
            <p:cNvPr id="287" name=""/>
            <p:cNvGrpSpPr/>
            <p:nvPr/>
          </p:nvGrpSpPr>
          <p:grpSpPr>
            <a:xfrm>
              <a:off x="4952880" y="2743200"/>
              <a:ext cx="4038120" cy="2971080"/>
              <a:chOff x="4952880" y="2743200"/>
              <a:chExt cx="4038120" cy="2971080"/>
            </a:xfrm>
          </p:grpSpPr>
          <p:pic>
            <p:nvPicPr>
              <p:cNvPr id="28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952880" y="2743200"/>
                <a:ext cx="4038120" cy="297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9" name=""/>
              <p:cNvSpPr/>
              <p:nvPr/>
            </p:nvSpPr>
            <p:spPr>
              <a:xfrm rot="19660200">
                <a:off x="5611680" y="3707640"/>
                <a:ext cx="3112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creasing harmonic volta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5457600" y="2830320"/>
              <a:ext cx="1429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ynchrotron frequency den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541480" y="2917800"/>
              <a:ext cx="0" cy="6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80880" y="2438280"/>
            <a:ext cx="4342680" cy="3504960"/>
            <a:chOff x="380880" y="2438280"/>
            <a:chExt cx="4342680" cy="3504960"/>
          </a:xfrm>
        </p:grpSpPr>
        <p:grpSp>
          <p:nvGrpSpPr>
            <p:cNvPr id="293" name=""/>
            <p:cNvGrpSpPr/>
            <p:nvPr/>
          </p:nvGrpSpPr>
          <p:grpSpPr>
            <a:xfrm>
              <a:off x="380880" y="2438280"/>
              <a:ext cx="4342680" cy="3504960"/>
              <a:chOff x="380880" y="2438280"/>
              <a:chExt cx="4342680" cy="350496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380880" y="2438280"/>
                <a:ext cx="4342680" cy="3504960"/>
                <a:chOff x="380880" y="2438280"/>
                <a:chExt cx="4342680" cy="350496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380880" y="2438280"/>
                  <a:ext cx="4342680" cy="3504960"/>
                  <a:chOff x="380880" y="2438280"/>
                  <a:chExt cx="4342680" cy="3504960"/>
                </a:xfrm>
              </p:grpSpPr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380880" y="2438280"/>
                    <a:ext cx="4342680" cy="2863800"/>
                    <a:chOff x="380880" y="2438280"/>
                    <a:chExt cx="4342680" cy="2863800"/>
                  </a:xfrm>
                </p:grpSpPr>
                <p:grpSp>
                  <p:nvGrpSpPr>
                    <p:cNvPr id="297" name=""/>
                    <p:cNvGrpSpPr/>
                    <p:nvPr/>
                  </p:nvGrpSpPr>
                  <p:grpSpPr>
                    <a:xfrm>
                      <a:off x="380880" y="2438280"/>
                      <a:ext cx="4333680" cy="2863800"/>
                      <a:chOff x="380880" y="2438280"/>
                      <a:chExt cx="4333680" cy="2863800"/>
                    </a:xfrm>
                  </p:grpSpPr>
                  <p:grpSp>
                    <p:nvGrpSpPr>
                      <p:cNvPr id="298" name=""/>
                      <p:cNvGrpSpPr/>
                      <p:nvPr/>
                    </p:nvGrpSpPr>
                    <p:grpSpPr>
                      <a:xfrm>
                        <a:off x="380880" y="2438280"/>
                        <a:ext cx="4333680" cy="2863800"/>
                        <a:chOff x="380880" y="2438280"/>
                        <a:chExt cx="4333680" cy="2863800"/>
                      </a:xfrm>
                    </p:grpSpPr>
                    <p:graphicFrame>
                      <p:nvGraphicFramePr>
                        <p:cNvPr id="299" name=""/>
                        <p:cNvGraphicFramePr/>
                        <p:nvPr/>
                      </p:nvGraphicFramePr>
                      <p:xfrm>
                        <a:off x="380880" y="2438280"/>
                        <a:ext cx="4333680" cy="2863800"/>
                      </p:xfrm>
                      <a:graphic>
                        <a:graphicData uri="http://schemas.openxmlformats.org/presentationml/2006/ole">
                          <p:oleObj r:id="rId2" spid="">
                            <p:embed/>
                            <p:pic>
                              <p:nvPicPr>
                                <p:cNvPr id="300" name="" descr=""/>
                                <p:cNvPicPr/>
                                <p:nvPr/>
                              </p:nvPicPr>
                              <p:blipFill>
                                <a:blip r:embed="rId3"/>
                                <a:stretch/>
                              </p:blipFill>
                              <p:spPr>
                                <a:xfrm>
                                  <a:off x="380880" y="2438280"/>
                                  <a:ext cx="4333680" cy="286380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</p:oleObj>
                        </a:graphicData>
                      </a:graphic>
                    </p:graphicFrame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2055600" y="4117320"/>
                          <a:ext cx="2256840" cy="320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75" h="399">
                              <a:moveTo>
                                <a:pt x="0" y="326"/>
                              </a:moveTo>
                              <a:cubicBezTo>
                                <a:pt x="169" y="341"/>
                                <a:pt x="338" y="357"/>
                                <a:pt x="525" y="369"/>
                              </a:cubicBezTo>
                              <a:cubicBezTo>
                                <a:pt x="712" y="381"/>
                                <a:pt x="958" y="395"/>
                                <a:pt x="1125" y="397"/>
                              </a:cubicBezTo>
                              <a:cubicBezTo>
                                <a:pt x="1292" y="399"/>
                                <a:pt x="1400" y="390"/>
                                <a:pt x="1527" y="380"/>
                              </a:cubicBezTo>
                              <a:cubicBezTo>
                                <a:pt x="1654" y="370"/>
                                <a:pt x="1741" y="363"/>
                                <a:pt x="1885" y="336"/>
                              </a:cubicBezTo>
                              <a:cubicBezTo>
                                <a:pt x="2029" y="309"/>
                                <a:pt x="2209" y="271"/>
                                <a:pt x="2391" y="215"/>
                              </a:cubicBezTo>
                              <a:cubicBezTo>
                                <a:pt x="2573" y="159"/>
                                <a:pt x="2878" y="32"/>
                                <a:pt x="2975" y="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cc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>
                          <a:off x="1364040" y="3652920"/>
                          <a:ext cx="2948760" cy="65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87" h="815">
                              <a:moveTo>
                                <a:pt x="0" y="808"/>
                              </a:moveTo>
                              <a:cubicBezTo>
                                <a:pt x="324" y="808"/>
                                <a:pt x="648" y="808"/>
                                <a:pt x="864" y="808"/>
                              </a:cubicBezTo>
                              <a:cubicBezTo>
                                <a:pt x="1080" y="808"/>
                                <a:pt x="1157" y="815"/>
                                <a:pt x="1296" y="808"/>
                              </a:cubicBezTo>
                              <a:cubicBezTo>
                                <a:pt x="1435" y="801"/>
                                <a:pt x="1571" y="785"/>
                                <a:pt x="1701" y="765"/>
                              </a:cubicBezTo>
                              <a:cubicBezTo>
                                <a:pt x="1831" y="745"/>
                                <a:pt x="1938" y="721"/>
                                <a:pt x="2075" y="688"/>
                              </a:cubicBezTo>
                              <a:cubicBezTo>
                                <a:pt x="2212" y="655"/>
                                <a:pt x="2354" y="621"/>
                                <a:pt x="2521" y="567"/>
                              </a:cubicBezTo>
                              <a:cubicBezTo>
                                <a:pt x="2688" y="513"/>
                                <a:pt x="2911" y="431"/>
                                <a:pt x="3077" y="364"/>
                              </a:cubicBezTo>
                              <a:cubicBezTo>
                                <a:pt x="3243" y="297"/>
                                <a:pt x="3383" y="226"/>
                                <a:pt x="3518" y="165"/>
                              </a:cubicBezTo>
                              <a:cubicBezTo>
                                <a:pt x="3653" y="104"/>
                                <a:pt x="3833" y="13"/>
                                <a:pt x="3887" y="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0033cc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>
                          <a:off x="941760" y="2831040"/>
                          <a:ext cx="3366000" cy="1412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57" h="1745">
                              <a:moveTo>
                                <a:pt x="0" y="1730"/>
                              </a:moveTo>
                              <a:cubicBezTo>
                                <a:pt x="75" y="1737"/>
                                <a:pt x="150" y="1745"/>
                                <a:pt x="251" y="1745"/>
                              </a:cubicBezTo>
                              <a:cubicBezTo>
                                <a:pt x="352" y="1745"/>
                                <a:pt x="468" y="1745"/>
                                <a:pt x="604" y="1728"/>
                              </a:cubicBezTo>
                              <a:cubicBezTo>
                                <a:pt x="740" y="1711"/>
                                <a:pt x="916" y="1677"/>
                                <a:pt x="1066" y="1640"/>
                              </a:cubicBezTo>
                              <a:cubicBezTo>
                                <a:pt x="1216" y="1603"/>
                                <a:pt x="1324" y="1567"/>
                                <a:pt x="1506" y="1503"/>
                              </a:cubicBezTo>
                              <a:cubicBezTo>
                                <a:pt x="1688" y="1439"/>
                                <a:pt x="1900" y="1375"/>
                                <a:pt x="2161" y="1255"/>
                              </a:cubicBezTo>
                              <a:cubicBezTo>
                                <a:pt x="2422" y="1135"/>
                                <a:pt x="2791" y="937"/>
                                <a:pt x="3070" y="782"/>
                              </a:cubicBezTo>
                              <a:cubicBezTo>
                                <a:pt x="3349" y="627"/>
                                <a:pt x="3656" y="430"/>
                                <a:pt x="3835" y="325"/>
                              </a:cubicBezTo>
                              <a:cubicBezTo>
                                <a:pt x="4014" y="220"/>
                                <a:pt x="4040" y="208"/>
                                <a:pt x="4143" y="154"/>
                              </a:cubicBezTo>
                              <a:cubicBezTo>
                                <a:pt x="4246" y="100"/>
                                <a:pt x="4412" y="17"/>
                                <a:pt x="4457" y="0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ff99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671760" y="4225320"/>
                          <a:ext cx="3648960" cy="46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10" h="577">
                              <a:moveTo>
                                <a:pt x="0" y="0"/>
                              </a:moveTo>
                              <a:cubicBezTo>
                                <a:pt x="161" y="6"/>
                                <a:pt x="323" y="12"/>
                                <a:pt x="472" y="26"/>
                              </a:cubicBezTo>
                              <a:cubicBezTo>
                                <a:pt x="621" y="40"/>
                                <a:pt x="725" y="63"/>
                                <a:pt x="896" y="86"/>
                              </a:cubicBezTo>
                              <a:cubicBezTo>
                                <a:pt x="1067" y="109"/>
                                <a:pt x="1269" y="133"/>
                                <a:pt x="1501" y="163"/>
                              </a:cubicBezTo>
                              <a:cubicBezTo>
                                <a:pt x="1733" y="193"/>
                                <a:pt x="2063" y="236"/>
                                <a:pt x="2288" y="268"/>
                              </a:cubicBezTo>
                              <a:cubicBezTo>
                                <a:pt x="2513" y="300"/>
                                <a:pt x="2686" y="328"/>
                                <a:pt x="2850" y="356"/>
                              </a:cubicBezTo>
                              <a:cubicBezTo>
                                <a:pt x="3014" y="384"/>
                                <a:pt x="3107" y="404"/>
                                <a:pt x="3274" y="433"/>
                              </a:cubicBezTo>
                              <a:cubicBezTo>
                                <a:pt x="3441" y="462"/>
                                <a:pt x="3716" y="505"/>
                                <a:pt x="3852" y="527"/>
                              </a:cubicBezTo>
                              <a:cubicBezTo>
                                <a:pt x="3988" y="549"/>
                                <a:pt x="4011" y="557"/>
                                <a:pt x="4088" y="565"/>
                              </a:cubicBezTo>
                              <a:cubicBezTo>
                                <a:pt x="4165" y="573"/>
                                <a:pt x="4233" y="577"/>
                                <a:pt x="4314" y="576"/>
                              </a:cubicBezTo>
                              <a:cubicBezTo>
                                <a:pt x="4395" y="575"/>
                                <a:pt x="4490" y="575"/>
                                <a:pt x="4573" y="560"/>
                              </a:cubicBezTo>
                              <a:cubicBezTo>
                                <a:pt x="4656" y="545"/>
                                <a:pt x="4773" y="499"/>
                                <a:pt x="4810" y="488"/>
                              </a:cubicBezTo>
                            </a:path>
                          </a:pathLst>
                        </a:custGeom>
                        <a:noFill/>
                        <a:ln w="28440">
                          <a:solidFill>
                            <a:srgbClr val="ff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684360" y="2547720"/>
                        <a:ext cx="3632400" cy="249876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684360" y="3403800"/>
                        <a:ext cx="3632400" cy="82116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3223440" y="4590360"/>
                      <a:ext cx="11671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 =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3556800" y="3873600"/>
                      <a:ext cx="1166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n =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3306600" y="3475440"/>
                      <a:ext cx="1166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 =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3056760" y="2758320"/>
                      <a:ext cx="1166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n = 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1" name=""/>
                  <p:cNvSpPr/>
                  <p:nvPr/>
                </p:nvSpPr>
                <p:spPr>
                  <a:xfrm>
                    <a:off x="380880" y="5306040"/>
                    <a:ext cx="4334400" cy="63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2" name=""/>
                <p:cNvSpPr/>
                <p:nvPr/>
              </p:nvSpPr>
              <p:spPr>
                <a:xfrm>
                  <a:off x="2531880" y="5216400"/>
                  <a:ext cx="11430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i="1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harm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/V</a:t>
                  </a:r>
                  <a:r>
                    <a:rPr b="0" i="1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op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57200" y="5562720"/>
                  <a:ext cx="4038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LCBI threshold with a harmonic cav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685440" y="2666520"/>
                <a:ext cx="761760" cy="634680"/>
                <a:chOff x="685440" y="2666520"/>
                <a:chExt cx="761760" cy="6346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685440" y="2895480"/>
                  <a:ext cx="7617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r>
                    <a:rPr b="0" i="1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th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/I</a:t>
                  </a:r>
                  <a:r>
                    <a:rPr b="0" i="1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th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990000" y="266652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7" name=""/>
            <p:cNvSpPr/>
            <p:nvPr/>
          </p:nvSpPr>
          <p:spPr>
            <a:xfrm>
              <a:off x="3581280" y="5410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44F3-B76F-448E-9A8A-19051B8E1F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c cavities: Pros &amp; c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ints of debate for the subsequent working group discu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1447920"/>
            <a:ext cx="358128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er bunches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2133720"/>
            <a:ext cx="35812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spectral width of beam sign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990720"/>
            <a:ext cx="35812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Effects in bunch lengthen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4419720"/>
            <a:ext cx="35812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F slope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zero: Phase sensi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1447920"/>
            <a:ext cx="3504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pecially low energy machines or high I/bunch: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gain in Life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848720" y="1600200"/>
            <a:ext cx="6858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62520" y="990720"/>
            <a:ext cx="35049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onseque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0120" y="990720"/>
            <a:ext cx="13716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Pros / Cons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62520" y="2133720"/>
            <a:ext cx="3504960" cy="105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ing less of the BB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prone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to transverse single bunch head tail instability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62520" y="3276720"/>
            <a:ext cx="3504960" cy="105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HOM loss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Reduced heating in few bunch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2438280"/>
            <a:ext cx="685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48720" y="3505320"/>
            <a:ext cx="685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2520" y="4419720"/>
            <a:ext cx="350496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p induced Phase transients NC &amp; SC (increased by HOMs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Reduced gain in Lifeti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62520" y="5410080"/>
            <a:ext cx="35049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FB must be ada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5867280"/>
            <a:ext cx="35049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FB sat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48720" y="4648320"/>
            <a:ext cx="6858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848720" y="5410080"/>
            <a:ext cx="6858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848720" y="5867280"/>
            <a:ext cx="6858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25B-A736-45B6-83FF-B9F699123D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c cavities: Pros &amp; c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2209680"/>
            <a:ext cx="3581280" cy="40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F slope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zero: Small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4343400"/>
            <a:ext cx="3581280" cy="405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orted RF potential: Spread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066680"/>
            <a:ext cx="358128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icult to contro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1066680"/>
            <a:ext cx="35049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imited bunch length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62520" y="1523880"/>
            <a:ext cx="350496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-stretching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on rigid bunch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insta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NS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924680" y="1066680"/>
            <a:ext cx="685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24680" y="1676520"/>
            <a:ext cx="6858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3200400"/>
            <a:ext cx="350496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CBI: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ower thresho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924680" y="2514600"/>
            <a:ext cx="6858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2209680"/>
            <a:ext cx="350496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gle bunch fast head tail (TMCI) :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ower threshold ?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.Myers, Y.C. Chin, CERN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924680" y="3200400"/>
            <a:ext cx="6858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62520" y="3657600"/>
            <a:ext cx="350496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sensitivity to low frequency noise / power supp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24680" y="3809880"/>
            <a:ext cx="6858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4343400"/>
            <a:ext cx="350496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andau damp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: LCBI, TMCI ?, transverse instabilities with 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0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924680" y="4572000"/>
            <a:ext cx="6858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5334120"/>
            <a:ext cx="3581280" cy="368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impedance (BBR, HO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62520" y="5334120"/>
            <a:ext cx="3504960" cy="368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d for all kind of inst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24680" y="5334120"/>
            <a:ext cx="685800" cy="368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" y="609480"/>
            <a:ext cx="35812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Effects in bunch lengthen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62520" y="609480"/>
            <a:ext cx="35049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onseque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609480"/>
            <a:ext cx="13716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Pro / C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5791320"/>
            <a:ext cx="3504960" cy="368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binson stability to be che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924680" y="5791320"/>
            <a:ext cx="685800" cy="368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AABF-C631-4DE0-8867-F13069DB99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monic cavities: Pros &amp; con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990720"/>
            <a:ext cx="8458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esistive wall instabil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er spectral width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ess chromaticity need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hift the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overlap with BB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less damping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3505320"/>
            <a:ext cx="8458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 indent="-96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 i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unch shorten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SLS: current limited by slow RF feedback 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 ACO: new types of instabilities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erve further invest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xperience from low emittance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229600" y="1523880"/>
            <a:ext cx="457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229600" y="2362320"/>
            <a:ext cx="457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D75C-A479-48C6-8433-6FE80A44E7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vation for harmonic ca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62120" y="1752480"/>
                <a:ext cx="42577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uschek</m:t>
                            </m:r>
                          </m:sub>
                        </m:sSub>
                      </m:den>
                    </m:f>
                    <m:r>
                      <m:t xml:space="preserve">∝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unch</m:t>
                            </m:r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ΔE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3" name=""/>
          <p:cNvGrpSpPr/>
          <p:nvPr/>
        </p:nvGrpSpPr>
        <p:grpSpPr>
          <a:xfrm>
            <a:off x="0" y="2743200"/>
            <a:ext cx="3276720" cy="2077920"/>
            <a:chOff x="0" y="2743200"/>
            <a:chExt cx="3276720" cy="2077920"/>
          </a:xfrm>
        </p:grpSpPr>
        <p:sp>
          <p:nvSpPr>
            <p:cNvPr id="54" name=""/>
            <p:cNvSpPr/>
            <p:nvPr/>
          </p:nvSpPr>
          <p:spPr>
            <a:xfrm rot="5400000">
              <a:off x="2514240" y="251460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209320" y="2971800"/>
              <a:ext cx="38124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3809880"/>
              <a:ext cx="32767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ptimized brilliance for 3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generation sources: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&gt; lower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Tousche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429000" y="2590920"/>
            <a:ext cx="5715000" cy="3603960"/>
            <a:chOff x="3429000" y="2590920"/>
            <a:chExt cx="5715000" cy="3603960"/>
          </a:xfrm>
        </p:grpSpPr>
        <p:sp>
          <p:nvSpPr>
            <p:cNvPr id="58" name=""/>
            <p:cNvSpPr/>
            <p:nvPr/>
          </p:nvSpPr>
          <p:spPr>
            <a:xfrm>
              <a:off x="3429000" y="2590920"/>
              <a:ext cx="2514600" cy="297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867280" y="5410080"/>
              <a:ext cx="3276720" cy="7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w energy machin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&gt; lower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Tousche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2666880"/>
            <a:ext cx="4876920" cy="2353320"/>
            <a:chOff x="4267080" y="2666880"/>
            <a:chExt cx="4876920" cy="2353320"/>
          </a:xfrm>
        </p:grpSpPr>
        <p:sp>
          <p:nvSpPr>
            <p:cNvPr id="61" name=""/>
            <p:cNvSpPr/>
            <p:nvPr/>
          </p:nvSpPr>
          <p:spPr>
            <a:xfrm>
              <a:off x="4267080" y="2666880"/>
              <a:ext cx="1371600" cy="167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62720" y="4267080"/>
              <a:ext cx="3581280" cy="75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F or dynamic acceptanc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&gt; limits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Tousche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676520" y="2666880"/>
            <a:ext cx="3504960" cy="3619080"/>
            <a:chOff x="1676520" y="2666880"/>
            <a:chExt cx="3504960" cy="3619080"/>
          </a:xfrm>
        </p:grpSpPr>
        <p:sp>
          <p:nvSpPr>
            <p:cNvPr id="64" name=""/>
            <p:cNvSpPr/>
            <p:nvPr/>
          </p:nvSpPr>
          <p:spPr>
            <a:xfrm>
              <a:off x="3124080" y="2666880"/>
              <a:ext cx="381240" cy="236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5029200"/>
              <a:ext cx="3504960" cy="1256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unch lengthening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=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cc99"/>
                  </a:solidFill>
                  <a:latin typeface="Times New Roman"/>
                </a:rPr>
                <a:t>increas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 baseline="-25000">
                  <a:solidFill>
                    <a:srgbClr val="00cc99"/>
                  </a:solidFill>
                  <a:latin typeface="Times New Roman"/>
                </a:rPr>
                <a:t>Tousche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33520" y="1066680"/>
            <a:ext cx="4038480" cy="838440"/>
            <a:chOff x="533520" y="1066680"/>
            <a:chExt cx="4038480" cy="838440"/>
          </a:xfrm>
        </p:grpSpPr>
        <p:sp>
          <p:nvSpPr>
            <p:cNvPr id="67" name=""/>
            <p:cNvSpPr/>
            <p:nvPr/>
          </p:nvSpPr>
          <p:spPr>
            <a:xfrm flipH="1" flipV="1">
              <a:off x="2438280" y="1447920"/>
              <a:ext cx="53352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3520" y="106668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nalizes few bunch ope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800600" y="1676520"/>
            <a:ext cx="4191120" cy="2068560"/>
            <a:chOff x="4800600" y="1676520"/>
            <a:chExt cx="4191120" cy="2068560"/>
          </a:xfrm>
        </p:grpSpPr>
        <p:grpSp>
          <p:nvGrpSpPr>
            <p:cNvPr id="70" name=""/>
            <p:cNvGrpSpPr/>
            <p:nvPr/>
          </p:nvGrpSpPr>
          <p:grpSpPr>
            <a:xfrm>
              <a:off x="4800600" y="1676520"/>
              <a:ext cx="4191120" cy="2068560"/>
              <a:chOff x="4800600" y="1676520"/>
              <a:chExt cx="4191120" cy="2068560"/>
            </a:xfrm>
          </p:grpSpPr>
          <mc:AlternateContent>
            <mc:Choice xmlns:a14="http://schemas.microsoft.com/office/drawing/2010/main" Requires="a14">
              <p:sp>
                <p:nvSpPr>
                  <p:cNvPr id="71" name=""/>
                  <p:cNvSpPr txBox="1"/>
                  <p:nvPr/>
                </p:nvSpPr>
                <p:spPr>
                  <a:xfrm>
                    <a:off x="6477120" y="1676520"/>
                    <a:ext cx="2286000" cy="992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ΔE</m:t>
                                </m:r>
                              </m:num>
                              <m:den>
                                <m:r>
                                  <m:t xml:space="preserve">E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p>
                              <m:e>
                                <m:r>
                                  <m:t xml:space="preserve">γ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2" name=""/>
                  <p:cNvSpPr txBox="1"/>
                  <p:nvPr/>
                </p:nvSpPr>
                <p:spPr>
                  <a:xfrm>
                    <a:off x="5029200" y="1981080"/>
                    <a:ext cx="990720" cy="45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3" name=""/>
              <p:cNvSpPr/>
              <p:nvPr/>
            </p:nvSpPr>
            <p:spPr>
              <a:xfrm>
                <a:off x="4800600" y="2819520"/>
                <a:ext cx="4191120" cy="925560"/>
              </a:xfrm>
              <a:prstGeom prst="rect">
                <a:avLst/>
              </a:prstGeom>
              <a:solidFill>
                <a:srgbClr val="f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00"/>
                    </a:solidFill>
                    <a:latin typeface="Times New Roman"/>
                  </a:rPr>
                  <a:t>Exponential increase of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</a:t>
                </a:r>
                <a:r>
                  <a:rPr b="0" lang="en-US" sz="2000" spc="-1" strike="noStrike" baseline="-25000">
                    <a:solidFill>
                      <a:srgbClr val="ff0000"/>
                    </a:solidFill>
                    <a:latin typeface="Times New Roman"/>
                  </a:rPr>
                  <a:t>Touschek</a:t>
                </a:r>
                <a:r>
                  <a:rPr b="0" lang="en-US" sz="2000" spc="-1" strike="noStrike">
                    <a:solidFill>
                      <a:srgbClr val="336600"/>
                    </a:solidFill>
                    <a:latin typeface="Times New Roman"/>
                  </a:rPr>
                  <a:t> with </a:t>
                </a:r>
                <a:r>
                  <a:rPr b="0" lang="en-US" sz="2000" spc="-1" strike="noStrike">
                    <a:solidFill>
                      <a:srgbClr val="3366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000" spc="-1" strike="noStrike">
                    <a:solidFill>
                      <a:srgbClr val="336600"/>
                    </a:solidFill>
                    <a:latin typeface="Times New Roman"/>
                  </a:rPr>
                  <a:t> if </a:t>
                </a:r>
                <a:r>
                  <a:rPr b="0" lang="en-US" sz="2000" spc="-1" strike="noStrike">
                    <a:solidFill>
                      <a:srgbClr val="3366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000" spc="-1" strike="noStrike" baseline="-25000">
                    <a:solidFill>
                      <a:srgbClr val="336600"/>
                    </a:solidFill>
                    <a:latin typeface="Times New Roman"/>
                  </a:rPr>
                  <a:t>x</a:t>
                </a:r>
                <a:r>
                  <a:rPr b="0" lang="en-US" sz="2000" spc="-1" strike="noStrike">
                    <a:solidFill>
                      <a:srgbClr val="336600"/>
                    </a:solidFill>
                    <a:latin typeface="Times New Roman"/>
                  </a:rPr>
                  <a:t> very small:         future sources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6629400" y="346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7317-9875-4827-9904-79BE1DAD7E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C pass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rmonic caviti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fficient voltage for low or medium energy machines /multibunch operati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ning not easy to handle for simultaneou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e mostl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e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Math1"/>
                <a:ea typeface="Math1"/>
              </a:rPr>
              <a:t>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Gain in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Lifetim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y typically a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factor 2 to 2.5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=&gt; good for these machines !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C a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rmonic caviti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 operation at low current (e.g. single bunch oper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on in bunch shortening demonst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 HOM fr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monic caviti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ly way for high energy machines , where interest is mainly for high I/b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major problems with HC HOMs, Robinson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ning should be eas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ath1"/>
                <a:ea typeface="Math1"/>
              </a:rPr>
              <a:t>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 needs R&amp;D to check performance, reliability and operational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20000"/>
              </a:lnSpc>
              <a:spcBef>
                <a:spcPts val="4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5410080"/>
            <a:ext cx="82296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ransient beam load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Beam instab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sue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rmonic cavities:   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ood candidates for extensive discussions in this works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4201-82C8-4B6E-ADB7-6505E72ABC3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rmonic Cavities for bunch length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vity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n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F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ft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=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/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/Super-conducting (NC/S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bunchlength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harm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= 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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harm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38280" y="45720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DCC5-34C5-4B4B-B4B9-811305CAB5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9748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071800" y="3598920"/>
            <a:ext cx="4519440" cy="2519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58920" y="358920"/>
            <a:ext cx="3778200" cy="2879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705720" y="4648320"/>
            <a:ext cx="129852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p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75280" y="635040"/>
            <a:ext cx="381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95920" y="1324080"/>
            <a:ext cx="1865160" cy="111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21440" y="1015920"/>
            <a:ext cx="0" cy="9907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114300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U</a:t>
            </a:r>
            <a:r>
              <a:rPr b="0" i="1" lang="en-US" sz="16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/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609480"/>
            <a:ext cx="17524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SRF paramet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533520"/>
            <a:ext cx="160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Lo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= 4.8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3962520"/>
            <a:ext cx="2514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nchrotron frequency distribution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s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= 2 k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46920" y="362592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C0D5-F027-4ECE-9E1A-494B69B599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3778200" cy="288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057400" y="3598920"/>
            <a:ext cx="4519440" cy="2519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58920" y="358920"/>
            <a:ext cx="3778200" cy="2879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705720" y="4648320"/>
            <a:ext cx="160020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p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0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730760" y="609480"/>
            <a:ext cx="2736720" cy="1371600"/>
            <a:chOff x="4730760" y="609480"/>
            <a:chExt cx="2736720" cy="1371600"/>
          </a:xfrm>
        </p:grpSpPr>
        <p:sp>
          <p:nvSpPr>
            <p:cNvPr id="95" name=""/>
            <p:cNvSpPr/>
            <p:nvPr/>
          </p:nvSpPr>
          <p:spPr>
            <a:xfrm>
              <a:off x="6019920" y="60948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</a:t>
              </a:r>
              <a:r>
                <a:rPr b="0" i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30760" y="1303200"/>
              <a:ext cx="1974960" cy="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65720" y="990720"/>
              <a:ext cx="0" cy="990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81680" y="114300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549760" y="397980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7352-20D4-4F62-BCF3-5925805207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7400" y="3598920"/>
            <a:ext cx="4519440" cy="2519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9748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58920" y="358920"/>
            <a:ext cx="3778200" cy="2879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705720" y="4648320"/>
            <a:ext cx="152388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p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30760" y="609480"/>
            <a:ext cx="2736720" cy="1371600"/>
            <a:chOff x="4730760" y="609480"/>
            <a:chExt cx="2736720" cy="1371600"/>
          </a:xfrm>
        </p:grpSpPr>
        <p:sp>
          <p:nvSpPr>
            <p:cNvPr id="105" name=""/>
            <p:cNvSpPr/>
            <p:nvPr/>
          </p:nvSpPr>
          <p:spPr>
            <a:xfrm>
              <a:off x="6019920" y="60948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</a:t>
              </a:r>
              <a:r>
                <a:rPr b="0" i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30760" y="1303200"/>
              <a:ext cx="1974960" cy="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65720" y="990720"/>
              <a:ext cx="0" cy="990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1680" y="114300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010120" y="426708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DDA-C0E6-4D20-A745-1FA0929F15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748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5892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057400" y="3598920"/>
            <a:ext cx="4519440" cy="251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705720" y="4648320"/>
            <a:ext cx="160020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p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730760" y="609480"/>
            <a:ext cx="2736720" cy="1371600"/>
            <a:chOff x="4730760" y="609480"/>
            <a:chExt cx="2736720" cy="1371600"/>
          </a:xfrm>
        </p:grpSpPr>
        <p:sp>
          <p:nvSpPr>
            <p:cNvPr id="115" name=""/>
            <p:cNvSpPr/>
            <p:nvPr/>
          </p:nvSpPr>
          <p:spPr>
            <a:xfrm>
              <a:off x="6019920" y="60948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</a:t>
              </a:r>
              <a:r>
                <a:rPr b="0" i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30760" y="1303200"/>
              <a:ext cx="1974960" cy="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65720" y="990720"/>
              <a:ext cx="0" cy="990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81680" y="114300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749840" y="440064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EF5F-15E6-4269-A9D8-D2B3E4EC7C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a3ff"/>
            </a:gs>
            <a:gs pos="100000">
              <a:srgbClr val="ffc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9748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58920" y="358920"/>
            <a:ext cx="3778200" cy="2879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057400" y="3598920"/>
            <a:ext cx="4519440" cy="2519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705720" y="4648320"/>
            <a:ext cx="1523880" cy="37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ha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p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738680" y="627120"/>
            <a:ext cx="2736720" cy="1371600"/>
            <a:chOff x="4738680" y="627120"/>
            <a:chExt cx="2736720" cy="1371600"/>
          </a:xfrm>
        </p:grpSpPr>
        <p:sp>
          <p:nvSpPr>
            <p:cNvPr id="125" name=""/>
            <p:cNvSpPr/>
            <p:nvPr/>
          </p:nvSpPr>
          <p:spPr>
            <a:xfrm>
              <a:off x="6027840" y="62712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</a:t>
              </a:r>
              <a:r>
                <a:rPr b="0" i="1" lang="en-US" sz="1800" spc="-1" strike="noStrike" baseline="-25000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38680" y="1320840"/>
              <a:ext cx="1974960" cy="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73640" y="1008360"/>
              <a:ext cx="0" cy="9903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89600" y="116064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0" i="1" lang="en-US" sz="16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imes New Roman"/>
                </a:rPr>
                <a:t>/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462560" y="456264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EB06-5A10-48B6-9E55-F3ACF2DBFA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14:45:46Z</dcterms:created>
  <dc:creator>ESRF</dc:creator>
  <dc:description/>
  <dc:language>en-US</dc:language>
  <cp:lastModifiedBy>Marie ROBICHON</cp:lastModifiedBy>
  <cp:lastPrinted>2000-03-15T13:53:51Z</cp:lastPrinted>
  <dcterms:modified xsi:type="dcterms:W3CDTF">2008-01-07T09:46:55Z</dcterms:modified>
  <cp:revision>121</cp:revision>
  <dc:subject/>
  <dc:title>No Slide Title</dc:title>
</cp:coreProperties>
</file>