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71360"/>
            <a:ext cx="8839440" cy="6515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05880" y="17640"/>
            <a:ext cx="239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. Mosnier, Microwave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3520" y="533520"/>
            <a:ext cx="79246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Microwave Instability :</a:t>
            </a:r>
            <a:br>
              <a:rPr sz="2800"/>
            </a:b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Importance of impedance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ban Mosnier, CEA/DAPNIA - Sac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1905120"/>
            <a:ext cx="883908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modern rings,lot of precautions are tak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 join + rf contact used for fl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reening of vacuum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elding of bel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mooth taper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vacuum chamber impedance tends to be 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more inductive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Z/n &lt;&lt; 1 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 frequency tail of rf cavity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pped modes produced by slots, BPMs … (enlargements of beam pi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so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5105520" cy="56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aw-tooth instabili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a possible 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outbreak at 6 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increase of both energy sp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unch lengt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by a slower decrea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ecurrence of about 150 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-pl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most unstable m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from Vlasov-Sacherer (6 mA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muthal pattern : reveals a p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ole mode inside the tail bunch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unstable dipole mode widens so f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o reach the separatrix of the tail is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s can diffuse through the uns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xed point and populate the head bunchle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ding to relaxation 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2760" y="457200"/>
          <a:ext cx="486756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2760" y="457200"/>
                    <a:ext cx="48675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86480" y="3657600"/>
          <a:ext cx="2871720" cy="287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3657600"/>
                    <a:ext cx="2871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228600"/>
            <a:ext cx="8534160" cy="62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Harmonic 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imary 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n harmonic cavity = to increase beam lifetime in S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erating in the bunchlengthening m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ide-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push up the microwave inst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gai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d voltag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dle ca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example, effect of an harmonic cavity on the microwave instability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riven a broadband resonator of center frequency 20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undamental cavity +  additional harmonic cavity  only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= 0.3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rnal focusing nearly zero around bunch center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increased by a facto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2000" y="2044800"/>
          <a:ext cx="36702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2044800"/>
                    <a:ext cx="36702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362320" y="2490840"/>
          <a:ext cx="175248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490840"/>
                    <a:ext cx="1752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14400" y="3557520"/>
          <a:ext cx="2843280" cy="2157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557520"/>
                    <a:ext cx="284328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34120" y="3557520"/>
          <a:ext cx="2819160" cy="2157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557520"/>
                    <a:ext cx="281916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382680"/>
            <a:ext cx="876312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reduction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 cur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reduction of the instability is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es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bunchlets are suppres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l voltage, including wake potential smoothed 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ow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particle density divided by a factor of about 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bility threshold multiplied by a factor 2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fficiency loss expla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nchrotron frequency sp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ue to lower potential well dist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short bunches, the non-linearity (even operating at 3rd harmoni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the Landau damping effect much smaller than w/o harmonic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2211480"/>
          <a:ext cx="4648320" cy="28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11480"/>
                    <a:ext cx="464832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419720" y="2211480"/>
          <a:ext cx="4647960" cy="281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11480"/>
                    <a:ext cx="464796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28600" y="396720"/>
          <a:ext cx="4653000" cy="27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6720"/>
                    <a:ext cx="465300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396720"/>
          <a:ext cx="4267080" cy="278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96720"/>
                    <a:ext cx="42670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4920" y="3124080"/>
            <a:ext cx="883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lasov-Sacherer metho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ack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ches much longer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odes of higher azimuthal periodicity easily excited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erent modes (quad., sext., …) at center and at periphery of the 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nsity-plots of the distributions of the most unstable three modes  - 15 mA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4343400"/>
          <a:ext cx="1828800" cy="1828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3434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657600" y="4343400"/>
          <a:ext cx="1828800" cy="1828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3434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400800" y="4343400"/>
          <a:ext cx="1828800" cy="18288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3434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2200" y="22860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. Effects of the tapered transitions of the SOLEIL 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4044960" cy="28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3000" y="779400"/>
            <a:ext cx="84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kes induced by a 4 mm long bunch    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large broadband resonance ≈ 11 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6033" r="0" b="6214"/>
          <a:stretch/>
        </p:blipFill>
        <p:spPr>
          <a:xfrm>
            <a:off x="2666880" y="2762280"/>
            <a:ext cx="1676520" cy="78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044960" cy="283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962520"/>
            <a:ext cx="8686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Tracking codes require the knowledge of the point-like wake at very short distance s (≈ 1 order of magnitude smaller than bunchlength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 few tenths of mm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ile time-domain wakefield codes provide bunch wakes for finite bunchlength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. unreasonable to consider 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 1 mm for SOLEIL structure of total length 5 m !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Point-like wake can be inferred from a fit of lossfactors computed for ≠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4880" y="5638680"/>
          <a:ext cx="593244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4880" y="5638680"/>
                    <a:ext cx="5932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905120" y="6172200"/>
          <a:ext cx="518292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6172200"/>
                    <a:ext cx="51829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52920" cy="319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7113" t="0" r="-352" b="0"/>
          <a:stretch/>
        </p:blipFill>
        <p:spPr>
          <a:xfrm>
            <a:off x="4819680" y="3429000"/>
            <a:ext cx="4245120" cy="319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220968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olution of the relative rms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bunchleng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energ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urrent linearly increased from 0 to 50 mA flat-top at 10000 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ults of tracking simula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mber impedance modelled by cavities + taper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≈ 4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ilar result by using a 11 GHz broadband reso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209680"/>
            <a:ext cx="4191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Initi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Gaussian) and</a:t>
            </a:r>
            <a:br>
              <a:rPr sz="1800"/>
            </a:b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fin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harge den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nch more populated at head due to resistive character of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457200"/>
            <a:ext cx="84582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5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aim to investigate the effect of BB impedance center-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5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asov-Sacherer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bined with the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function tech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expansion of the radial function, as proposed by Oide &amp; Yokoya ('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5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better insight into the involved instability mechanis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racking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kes into account the spread in synchrotron frequency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ich plays a primary role in the instability onse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due to potential well distortion by wakefields and eventual harmonic cav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eeps all terms of the Vlasov equation (no “fast growth” approxim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ts a handle on the existence of several bunchlet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eated by the stationnary wakefield (case of low frequency reson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ives threshold prediction in good agreement with time-domain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0800" y="436680"/>
            <a:ext cx="82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llustration: SOLEIL storage ring + broadband reso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High Resonant Frequency (30 GHz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tential well distor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457200" y="2044800"/>
          <a:ext cx="576756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044800"/>
                    <a:ext cx="57675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2044800"/>
          <a:ext cx="5767560" cy="306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044800"/>
                    <a:ext cx="57675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5800" y="5181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 distributions for ≠ currents         synchrotron frequency vs action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380880"/>
          <a:ext cx="468792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6879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3492360"/>
          <a:ext cx="4687920" cy="306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92360"/>
                    <a:ext cx="46879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81480" y="2133720"/>
          <a:ext cx="2872080" cy="2146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133720"/>
                    <a:ext cx="28720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181480" y="4330800"/>
          <a:ext cx="2872080" cy="2146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330800"/>
                    <a:ext cx="287208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966120" y="299880"/>
            <a:ext cx="4973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ow Resonant Frequency (11 GHz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tential well distor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143000"/>
            <a:ext cx="5181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ch more distorted than before with 2 peaks above 3.5 mA, as soon as there are two or more stable fixed points, forming distinct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30600" y="828720"/>
          <a:ext cx="4461120" cy="27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828720"/>
                    <a:ext cx="44611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32400" y="3724200"/>
          <a:ext cx="4459320" cy="2752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2400" y="3724200"/>
                    <a:ext cx="445932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914400"/>
            <a:ext cx="44197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 &amp; Im coherent frequency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mixing at relatively low current after a rapid 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rate increases dramatical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 5 mA (= onset of the inst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types of instability (identified by solid circles) develope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e of the most unstable modes changes with the intensit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hreshold (5 mA) microwave instability mainly driven by coupling of dipole and quadrupole mo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bilities finally overtaken by the radi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 mode coupling above 8 mA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High frequenc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Stability of the stationnary distribu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32400" y="914400"/>
          <a:ext cx="4383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2400" y="914400"/>
                    <a:ext cx="4383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32400" y="3720960"/>
          <a:ext cx="4383000" cy="275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2400" y="3720960"/>
                    <a:ext cx="438300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28600" y="762120"/>
            <a:ext cx="4495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rate looks more chaotic than before, because of the rapid change of the topology of the phase space, (emergence of two or more bunchl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instabilities below 4 mA ( growth rate close to radiation damping rat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4 mA (which can be considered as a threshold) two mode families with regular increase of the growth rate (identified by solid circl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change of behaviour at 6 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280" y="4191120"/>
          <a:ext cx="4322880" cy="2295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191120"/>
                    <a:ext cx="4322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ow frequenc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Stability of the stationnary distribu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80880"/>
            <a:ext cx="8458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In sh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ever the nature of the instability (radial or azimuthal mode coupling)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despite a large azimuthal mode number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 or 2 at low frequenc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 or 6 at high frequenc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set of the instability doesn't depend a lot on the resonato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651040"/>
            <a:ext cx="396252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 is not the only criter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lower frequency resonators are more harmful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 dipole or quadrupole oscillations of large ampl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sawtooth type instabilities can develop, owing to the formation of micro-bun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2730600"/>
          <a:ext cx="468792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30600"/>
                    <a:ext cx="468792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09480" y="5958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 current vs norm. frequency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16:11:16Z</dcterms:created>
  <dc:creator>mosnier</dc:creator>
  <dc:description/>
  <dc:language>en-US</dc:language>
  <cp:lastModifiedBy>Debbie GOODHEW</cp:lastModifiedBy>
  <cp:lastPrinted>1999-03-26T11:23:55Z</cp:lastPrinted>
  <dcterms:modified xsi:type="dcterms:W3CDTF">2000-03-27T10:31:40Z</dcterms:modified>
  <cp:revision>67</cp:revision>
  <dc:subject/>
  <dc:title>Aucun titre de diapositive</dc:title>
</cp:coreProperties>
</file>