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135-DC98-4152-BF4E-D5D34DC0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6AF-F967-4190-B1F3-D780F81B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D19-873D-4475-923F-5DDC17C6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104-F42E-41D3-A1E9-AA7E18D6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E86-8AFC-4DA9-91E1-E11D3082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6929-1DB1-439D-A93D-95E2C5A6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0530-896B-4D75-9971-D5B3967B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131A-70C2-4330-9F3B-972FD414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401F-C5D7-466C-B11C-F7792446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3A4B-37F9-43A9-A358-A3DC9F36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23E8-F7BB-4973-B389-B1C3DC2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9B5-7995-4957-A685-C49A7D2A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FA3E-095C-4F96-A027-B766F33A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FDE7-6610-46F2-A98A-9539E4A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A56A-82B5-45BB-947D-FC4457B7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5A6-3BDC-4230-89D0-489741A1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B2A1-2C04-4E98-8E6D-8184CA24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F9C-EE0D-436D-8E6D-83AEB35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FA8-BD17-44E3-A71A-E7D4B860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6EF-103A-40C1-9B30-B67A5ABF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ACF-7E23-4CB5-AE3D-1545C906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C63-20F5-493B-AE0B-EE32E80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AA5-821C-4A09-A179-10116A0D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965-077B-40D2-A22A-7FAD9DE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9d"/>
              </a:gs>
              <a:gs pos="50000">
                <a:srgbClr val="ffffff">
                  <a:alpha val="50196"/>
                </a:srgbClr>
              </a:gs>
              <a:gs pos="100000">
                <a:srgbClr val="9d9d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2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WE BUILD A SINGLE BUNCH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ic Plouvie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nostic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bunch transverse instability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lowSBinstab" descr=""/>
          <p:cNvPicPr/>
          <p:nvPr/>
        </p:nvPicPr>
        <p:blipFill>
          <a:blip r:embed="rId1"/>
          <a:stretch/>
        </p:blipFill>
        <p:spPr>
          <a:xfrm>
            <a:off x="1219320" y="3352680"/>
            <a:ext cx="6362640" cy="3171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9072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high frequency signals due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~ 1/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10.GHz for a 50ps long bun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of an effective feedb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 damping time t is shorter than 1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=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r time pattern =&gt; lower frequenci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“samples” / bunch length could do?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fastSBinstab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65534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nch motion “sampling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ample = center of mass detection and cor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6386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amples  = additional detection and correction of the head to tail differential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astSBinstab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5530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 to tail motion mani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3733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monic mixing of the beam signal with a manageable frequency (~1GH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5943600"/>
            <a:ext cx="32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scale:10ps /d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singleshaker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M: some synchronous detection of pickups signals with the detection oscillator zero crossing at the bunch cen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cker: A stripline fed with a 1GHz signal, modulated by the correction signal =&gt;sampling by the beam of the 1GHz carrier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it that simpl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modes with higher frequencies signals build up without being sensitive to the feedb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wave pick 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hfbpm002" descr=""/>
          <p:cNvPicPr/>
          <p:nvPr/>
        </p:nvPicPr>
        <p:blipFill>
          <a:blip r:embed="rId1"/>
          <a:stretch/>
        </p:blipFill>
        <p:spPr>
          <a:xfrm>
            <a:off x="3024360" y="1924200"/>
            <a:ext cx="3095280" cy="3009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541008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GHz pill box cavities coupled to the beam by a ceramic i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8T14:05:51Z</dcterms:created>
  <dc:creator>Plouviez</dc:creator>
  <dc:description/>
  <dc:language>en-US</dc:language>
  <cp:lastModifiedBy>Plouviez</cp:lastModifiedBy>
  <cp:lastPrinted>2000-03-10T15:19:42Z</cp:lastPrinted>
  <dcterms:modified xsi:type="dcterms:W3CDTF">2000-03-15T14:30:44Z</dcterms:modified>
  <cp:revision>44</cp:revision>
  <dc:subject/>
  <dc:title>GLOBAL FEEDBACK</dc:title>
</cp:coreProperties>
</file>