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C56-0BE7-4C9E-88F6-E4B3E680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CB7-1B1E-4D35-80D8-7A5592AB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7B0-83D6-4FEC-B26C-C1FD8B76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438-0C16-4279-80EA-E6C943DE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44C5-E8E0-4BAB-846F-0A065788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3EFD-35F3-47C1-B444-0AEA983A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D30C-CA95-4E16-B7FC-F18AADB4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4B06-AE8D-4BF8-AC47-994DB62C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6029-0143-4A03-A604-EEC3F04C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64A9-9BE1-4933-B6C5-6765356C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DEEB-45DE-43AD-AD47-10F69463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FC5-49D7-480B-83F2-62E34B80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0D16-1089-442E-B372-907BC82F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BABA-EC39-4E24-B302-1DB3DC8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320C-64CD-48AA-B16B-53A62298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8136-FC13-4077-9DC2-0646FBDF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3542-5B33-49BA-97D0-44D7DF1C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F84-AB05-4B2B-80D4-938DAEC1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1FB-74A7-45C0-A22E-57A8678F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D17-290B-4046-B735-138CDDAA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7F7-03B8-4170-B150-1F6D7B01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52D-CACE-4F26-9801-6FF6B257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BFA-2163-44A6-AFEC-BFBB3C54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20C-5C00-45E0-87E9-AC616C7D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9d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d9d9d"/>
              </a:gs>
              <a:gs pos="50000">
                <a:srgbClr val="ffffff">
                  <a:alpha val="50196"/>
                </a:srgbClr>
              </a:gs>
              <a:gs pos="100000">
                <a:srgbClr val="9d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BUILD A SINGLE BUNCH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ic Plouviez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tic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bunch transverse instability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lowSBinstab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6362640" cy="3171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90720" y="1905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high frequency signals due 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~ 1/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10.GHz for a 50ps long bun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of an effectiv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 damping time t is shorter than 1/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r time pattern =&gt; lower frequenci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“samples” / bunch length could do?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fastSBinstab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65534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nch motion “sampling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ample = center of mass detection and corr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56386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amples  = additional detection and correction of the head to tail differential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fastSBinstab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5530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 to tail motion mani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37335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monic mixing of the beam signal with a manageable frequency (~1GH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5943600"/>
            <a:ext cx="32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scale:10ps /d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ingleshaker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4197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PM: some synchronous detection of pickups signals with the detection oscillator zero crossing at the bunch cent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cker: A stripline fed with a 1GHz signal, modulated by the correction signal =&gt;sampling by the beam of the 1GHz carrier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it that simpl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modes with higher frequencies signals build up without being sensitive to the feedb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wave pick 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hfbpm002" descr=""/>
          <p:cNvPicPr/>
          <p:nvPr/>
        </p:nvPicPr>
        <p:blipFill>
          <a:blip r:embed="rId1"/>
          <a:stretch/>
        </p:blipFill>
        <p:spPr>
          <a:xfrm>
            <a:off x="3024360" y="1924200"/>
            <a:ext cx="3095280" cy="3009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81080" y="541008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GHz pill box cavities coupled to the beam by a ceramic i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8T14:05:51Z</dcterms:created>
  <dc:creator>Plouviez</dc:creator>
  <dc:description/>
  <dc:language>en-US</dc:language>
  <cp:lastModifiedBy>Plouviez</cp:lastModifiedBy>
  <cp:lastPrinted>2000-03-10T15:19:42Z</cp:lastPrinted>
  <dcterms:modified xsi:type="dcterms:W3CDTF">2000-03-15T14:30:44Z</dcterms:modified>
  <cp:revision>44</cp:revision>
  <dc:subject/>
  <dc:title>GLOBAL FEEDBACK</dc:title>
</cp:coreProperties>
</file>