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50920" y="4210920"/>
            <a:ext cx="8642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9280" y="19951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5092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9280" y="4210920"/>
            <a:ext cx="42170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7304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0" y="19951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5092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7304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94800" y="4210920"/>
            <a:ext cx="278244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E537D0FE-DCC9-42B2-97B7-E68506AED045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68D2513B-1151-4DAA-B299-8AEED16C30BD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0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920" y="880560"/>
            <a:ext cx="86421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920" y="1993680"/>
            <a:ext cx="86421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DE250396-481E-4F03-B1B5-9AA2842FB210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87624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50920" y="1985760"/>
            <a:ext cx="8642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Sans Unicode"/>
              </a:rPr>
              <a:t>Slide: </a:t>
            </a:r>
            <a:fld id="{D9C7E2F8-0480-423A-9E92-77E3ADD77B06}" type="slidenum">
              <a:rPr b="0" lang="en-US" sz="800" spc="-1" strike="noStrike">
                <a:solidFill>
                  <a:srgbClr val="1b5092"/>
                </a:solidFill>
                <a:latin typeface="Lucida Sans Unicod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3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67547BD3-054D-4CC0-990B-69EE518CD256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4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A381A749-E7F0-4D1E-AB2A-F18AD4F8A57C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5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0FBD5BEB-7B01-45C4-A183-823AE791EB92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50920" y="1995120"/>
            <a:ext cx="8642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6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A88101B7-2B2D-4069-802F-339FDC2714AA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880560"/>
            <a:ext cx="864216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250920" y="1993680"/>
            <a:ext cx="86421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7da9da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7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Slide: </a:t>
            </a:r>
            <a:fld id="{B849E850-CAFF-44C5-ADDE-9DD1EF490250}" type="slidenum">
              <a:rPr b="0" lang="en-US" sz="800" spc="-1" strike="noStrike">
                <a:solidFill>
                  <a:srgbClr val="1b5092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50920" y="87624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50920" y="1985760"/>
            <a:ext cx="8642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add605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ffffff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8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1b5092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b5092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D711A780-C452-4BA5-96B5-2D88EABDA70E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50920" y="1974960"/>
            <a:ext cx="8642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8a8b8e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1b5092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9"/>
          </p:nvPr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Lucida Conso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2009 ASD workshop/26th of January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30120" y="2141280"/>
            <a:ext cx="8639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 rd Libera Users Meeting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1" lang="en-GB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June 200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09600" y="4624560"/>
            <a:ext cx="864216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Sans Unicode"/>
              </a:rPr>
              <a:t>Libera Software status at the ESRF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Sans Unicode"/>
              </a:rPr>
              <a:t>F.Epaud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2023920" y="6585120"/>
            <a:ext cx="592956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9760" y="649440"/>
            <a:ext cx="86421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ast Orbit Feedback  (FOF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240" y="1158840"/>
            <a:ext cx="80802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he CC (Communication Controller) developed by DLS and now integrated as an option within the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he ESRF’s network infrastructure  (4 pairs out of 12 coming from the 32 cells to the Electronics room behind the control roo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3 cells out of the 32 (Cells 1,2,3) are wired and communicates together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niffer: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Same FPGA card as Soleil  (vmetro) [PMC + PCI carrier]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Actually uses the FPGA code developed by Soleil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Soleil’s Sniffer device server installed on Windows XP (not Vista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Vmetro Linux driver debugged and ported to Linux/redhate4 (but with kernel regeneration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Connected to Cell 1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Positions from the 3 wired cells can be acquired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ynchronization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 Very difficult at the moment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No control of the trigger (uses a generator to manually send single pulse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Uses ‘ssh’ to all (21 at the moments) Libera to set the time and start the CC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 Needs to stop the TANGO devices servers before doing the ‘ssh’ otherwise an error is                    returned from the CSPI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New trigger electronics in development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new device server to writ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.  BPMLibera should be modified in order to start the CC (set_time is already implemented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9760" y="649440"/>
            <a:ext cx="86421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o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240" y="1158840"/>
            <a:ext cx="80802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 firmware upgrade(s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nish the upgrade of 5 Cells + 6 BPI stations from V1.82  to V2.02 (+V2.03 patch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pgrade all to V2.04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 device server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mplete the test of the ‘new’  vers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stall i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clude V2.02 feature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clude ESRF’s FOFB needs:  start CC,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All device server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etect frozen 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rigger clock management.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……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OFB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nish the wiring and commissioning of the Communication Controll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rigger  box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eerers power supplies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ertainly a device server to control the FOFB embedded control within the FPG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2000" y="62712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4 Liberas devices for Bunch by Bunch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9680" y="1227240"/>
            <a:ext cx="514368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iberaAccess TANGO device server   (Access to the FAI and DDRA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MultibunchFeedback TANGO device server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Java application for operation (on left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PGA program developed by I-TECH, F.Uberto (Transverse), G.Gautier (Longitudinal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abVIEW application for ‘Experts’  (below) [Courtesy of G.Gautier]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urrently extended to make Tune measuremen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ffc000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c000"/>
                </a:solidFill>
                <a:latin typeface="Lucida Sans Unicode"/>
              </a:rPr>
              <a:t>Problem since the upgrade with the DDRAM  buffer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4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05" name="Object 4"/>
          <p:cNvGraphicFramePr/>
          <p:nvPr/>
        </p:nvGraphicFramePr>
        <p:xfrm>
          <a:off x="5551560" y="1170000"/>
          <a:ext cx="26254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1560" y="1170000"/>
                    <a:ext cx="26254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11"/>
          <p:cNvGraphicFramePr/>
          <p:nvPr/>
        </p:nvGraphicFramePr>
        <p:xfrm>
          <a:off x="798480" y="3862440"/>
          <a:ext cx="290520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8480" y="3862440"/>
                    <a:ext cx="290520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6311880" y="473868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Ver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4"/>
          <p:cNvSpPr/>
          <p:nvPr/>
        </p:nvSpPr>
        <p:spPr>
          <a:xfrm>
            <a:off x="6189840" y="414828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5"/>
          <p:cNvSpPr/>
          <p:nvPr/>
        </p:nvSpPr>
        <p:spPr>
          <a:xfrm>
            <a:off x="6178680" y="36241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6"/>
          <p:cNvSpPr/>
          <p:nvPr/>
        </p:nvSpPr>
        <p:spPr>
          <a:xfrm>
            <a:off x="6858000" y="45385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7"/>
          <p:cNvSpPr/>
          <p:nvPr/>
        </p:nvSpPr>
        <p:spPr>
          <a:xfrm>
            <a:off x="6858000" y="40147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839000" y="474984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ongitidi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9"/>
          <p:cNvSpPr/>
          <p:nvPr/>
        </p:nvSpPr>
        <p:spPr>
          <a:xfrm>
            <a:off x="7716960" y="41590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20"/>
          <p:cNvSpPr/>
          <p:nvPr/>
        </p:nvSpPr>
        <p:spPr>
          <a:xfrm>
            <a:off x="7705800" y="36352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1"/>
          <p:cNvSpPr/>
          <p:nvPr/>
        </p:nvSpPr>
        <p:spPr>
          <a:xfrm>
            <a:off x="8385120" y="45496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2"/>
          <p:cNvSpPr/>
          <p:nvPr/>
        </p:nvSpPr>
        <p:spPr>
          <a:xfrm>
            <a:off x="8385120" y="40258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4782960" y="472752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BB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orizon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7"/>
          <p:cNvSpPr/>
          <p:nvPr/>
        </p:nvSpPr>
        <p:spPr>
          <a:xfrm>
            <a:off x="4660920" y="41371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8"/>
          <p:cNvSpPr/>
          <p:nvPr/>
        </p:nvSpPr>
        <p:spPr>
          <a:xfrm>
            <a:off x="4649760" y="361332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BunchF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9"/>
          <p:cNvSpPr/>
          <p:nvPr/>
        </p:nvSpPr>
        <p:spPr>
          <a:xfrm>
            <a:off x="5329080" y="45277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0"/>
          <p:cNvSpPr/>
          <p:nvPr/>
        </p:nvSpPr>
        <p:spPr>
          <a:xfrm>
            <a:off x="5329080" y="400356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9"/>
          <p:cNvSpPr/>
          <p:nvPr/>
        </p:nvSpPr>
        <p:spPr>
          <a:xfrm>
            <a:off x="6856560" y="2922480"/>
            <a:ext cx="0" cy="70164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0"/>
          <p:cNvSpPr/>
          <p:nvPr/>
        </p:nvSpPr>
        <p:spPr>
          <a:xfrm flipH="1">
            <a:off x="5362560" y="2933640"/>
            <a:ext cx="1293840" cy="6904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1"/>
          <p:cNvSpPr/>
          <p:nvPr/>
        </p:nvSpPr>
        <p:spPr>
          <a:xfrm>
            <a:off x="7067520" y="2911320"/>
            <a:ext cx="1349280" cy="71280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2"/>
          <p:cNvSpPr/>
          <p:nvPr/>
        </p:nvSpPr>
        <p:spPr>
          <a:xfrm>
            <a:off x="5695920" y="51181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3"/>
          <p:cNvSpPr/>
          <p:nvPr/>
        </p:nvSpPr>
        <p:spPr>
          <a:xfrm>
            <a:off x="7280280" y="512928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8807400" y="51516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45"/>
          <p:cNvSpPr/>
          <p:nvPr/>
        </p:nvSpPr>
        <p:spPr>
          <a:xfrm flipV="1">
            <a:off x="5005440" y="51181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46"/>
          <p:cNvSpPr/>
          <p:nvPr/>
        </p:nvSpPr>
        <p:spPr>
          <a:xfrm flipV="1">
            <a:off x="6488280" y="50954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7"/>
          <p:cNvSpPr/>
          <p:nvPr/>
        </p:nvSpPr>
        <p:spPr>
          <a:xfrm flipV="1">
            <a:off x="8005680" y="510660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9"/>
          <p:cNvSpPr/>
          <p:nvPr/>
        </p:nvSpPr>
        <p:spPr>
          <a:xfrm>
            <a:off x="4692600" y="531972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1"/>
          <p:cNvSpPr/>
          <p:nvPr/>
        </p:nvSpPr>
        <p:spPr>
          <a:xfrm>
            <a:off x="7736040" y="5330880"/>
            <a:ext cx="625320" cy="29052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2"/>
          <p:cNvSpPr/>
          <p:nvPr/>
        </p:nvSpPr>
        <p:spPr>
          <a:xfrm>
            <a:off x="8564400" y="535320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3"/>
          <p:cNvSpPr/>
          <p:nvPr/>
        </p:nvSpPr>
        <p:spPr>
          <a:xfrm>
            <a:off x="7002360" y="531972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4"/>
          <p:cNvSpPr/>
          <p:nvPr/>
        </p:nvSpPr>
        <p:spPr>
          <a:xfrm>
            <a:off x="5475240" y="5342040"/>
            <a:ext cx="579600" cy="268200"/>
          </a:xfrm>
          <a:prstGeom prst="rect">
            <a:avLst/>
          </a:prstGeom>
          <a:solidFill>
            <a:srgbClr val="fa5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5"/>
          <p:cNvSpPr/>
          <p:nvPr/>
        </p:nvSpPr>
        <p:spPr>
          <a:xfrm>
            <a:off x="6243480" y="528624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4240" y="893880"/>
            <a:ext cx="50576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 Libera device for Transfer Efficiencie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920" y="1906200"/>
            <a:ext cx="39988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544"/>
                </a:solidFill>
                <a:latin typeface="Lucida Sans Unicode"/>
              </a:rPr>
              <a:t>1 Libera  Electron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+  FPGA ESRF’s design (Graham Naylor) for the Transfer Efficiencies measurement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4 striplines (TL1, SY, TL2, SR) connected to the ADC inputs of the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PGA program makes measurement on 16 programmable windows delayed from T0 or Tex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LiberaAccess TANGO device server (Access to the FAI and DDRAM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XfrEffLibera  TANGO device server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et-up the syste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Acquires raw dat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alculates charge, efficiencies and SR/SY phase,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Bufferize results during injec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24880" indent="167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ore to HDB offlin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3880" indent="176760">
              <a:lnSpc>
                <a:spcPct val="8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Java applica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42" name="Object 5"/>
          <p:cNvGraphicFramePr/>
          <p:nvPr/>
        </p:nvGraphicFramePr>
        <p:xfrm>
          <a:off x="5357880" y="569880"/>
          <a:ext cx="2797200" cy="33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57880" y="569880"/>
                    <a:ext cx="279720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066000" y="5351400"/>
            <a:ext cx="121428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7"/>
          <p:cNvSpPr/>
          <p:nvPr/>
        </p:nvSpPr>
        <p:spPr>
          <a:xfrm>
            <a:off x="5910120" y="476100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8"/>
          <p:cNvSpPr/>
          <p:nvPr/>
        </p:nvSpPr>
        <p:spPr>
          <a:xfrm>
            <a:off x="5899320" y="423720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frEff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6578640" y="51516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0"/>
          <p:cNvSpPr/>
          <p:nvPr/>
        </p:nvSpPr>
        <p:spPr>
          <a:xfrm>
            <a:off x="6578640" y="46274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V="1">
            <a:off x="6611760" y="574200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6087960" y="5954760"/>
            <a:ext cx="1260720" cy="54756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L1, SY, TL2, S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7292880" y="4417920"/>
            <a:ext cx="41436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7"/>
          <p:cNvSpPr/>
          <p:nvPr/>
        </p:nvSpPr>
        <p:spPr>
          <a:xfrm>
            <a:off x="7707240" y="4249800"/>
            <a:ext cx="690480" cy="390600"/>
          </a:xfrm>
          <a:prstGeom prst="rect">
            <a:avLst/>
          </a:prstGeom>
          <a:solidFill>
            <a:srgbClr val="fac2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8"/>
          <p:cNvSpPr/>
          <p:nvPr/>
        </p:nvSpPr>
        <p:spPr>
          <a:xfrm>
            <a:off x="6600960" y="3914640"/>
            <a:ext cx="0" cy="3333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9"/>
          <p:cNvSpPr/>
          <p:nvPr/>
        </p:nvSpPr>
        <p:spPr>
          <a:xfrm flipV="1">
            <a:off x="5730840" y="5474880"/>
            <a:ext cx="345960" cy="12600"/>
          </a:xfrm>
          <a:prstGeom prst="line">
            <a:avLst/>
          </a:prstGeom>
          <a:ln w="28440">
            <a:solidFill>
              <a:srgbClr val="fa554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4932360" y="5224320"/>
            <a:ext cx="99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5544"/>
                </a:solidFill>
                <a:latin typeface="Arial"/>
              </a:rPr>
              <a:t>T0, Tex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a5544"/>
                </a:solidFill>
                <a:latin typeface="Arial"/>
              </a:rPr>
              <a:t>In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44100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3 Liberas brilliance for TL2  BP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5360" y="1665000"/>
            <a:ext cx="42451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5544"/>
                </a:solidFill>
                <a:latin typeface="Lucida Sans Unicode"/>
              </a:rPr>
              <a:t>3 Liberas Brilliance</a:t>
            </a:r>
            <a:r>
              <a:rPr b="0" lang="en-US" sz="1400" spc="-1" strike="noStrike">
                <a:solidFill>
                  <a:srgbClr val="fa5544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or TL2   BPM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BPMLibera TANGO device server from SOLEIL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PulsedBPM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Java application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459" name="Object 4"/>
          <p:cNvGraphicFramePr/>
          <p:nvPr/>
        </p:nvGraphicFramePr>
        <p:xfrm>
          <a:off x="5110200" y="936720"/>
          <a:ext cx="28987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10200" y="936720"/>
                    <a:ext cx="28987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6189840" y="5207040"/>
            <a:ext cx="112536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"/>
          <p:cNvSpPr/>
          <p:nvPr/>
        </p:nvSpPr>
        <p:spPr>
          <a:xfrm>
            <a:off x="6067440" y="461628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735600" y="50068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6735600" y="448308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7716960" y="5218200"/>
            <a:ext cx="112536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8263080" y="501804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8263080" y="449424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627440" y="5195880"/>
            <a:ext cx="1125720" cy="399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rilli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4505400" y="4605480"/>
            <a:ext cx="1427040" cy="39024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6"/>
          <p:cNvSpPr/>
          <p:nvPr/>
        </p:nvSpPr>
        <p:spPr>
          <a:xfrm>
            <a:off x="4494240" y="40813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7"/>
          <p:cNvSpPr/>
          <p:nvPr/>
        </p:nvSpPr>
        <p:spPr>
          <a:xfrm>
            <a:off x="5173560" y="49957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173560" y="447192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2"/>
          <p:cNvSpPr/>
          <p:nvPr/>
        </p:nvSpPr>
        <p:spPr>
          <a:xfrm flipV="1">
            <a:off x="5183280" y="555156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3"/>
          <p:cNvSpPr/>
          <p:nvPr/>
        </p:nvSpPr>
        <p:spPr>
          <a:xfrm flipV="1">
            <a:off x="6778800" y="5575320"/>
            <a:ext cx="0" cy="2109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4"/>
          <p:cNvSpPr/>
          <p:nvPr/>
        </p:nvSpPr>
        <p:spPr>
          <a:xfrm flipV="1">
            <a:off x="8263080" y="5563800"/>
            <a:ext cx="0" cy="21132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5"/>
          <p:cNvSpPr/>
          <p:nvPr/>
        </p:nvSpPr>
        <p:spPr>
          <a:xfrm>
            <a:off x="4883040" y="575460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6512040" y="5765760"/>
            <a:ext cx="62532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30"/>
          <p:cNvSpPr/>
          <p:nvPr/>
        </p:nvSpPr>
        <p:spPr>
          <a:xfrm>
            <a:off x="7583400" y="466092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PM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31"/>
          <p:cNvSpPr/>
          <p:nvPr/>
        </p:nvSpPr>
        <p:spPr>
          <a:xfrm>
            <a:off x="5999040" y="4081320"/>
            <a:ext cx="142740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32"/>
          <p:cNvSpPr/>
          <p:nvPr/>
        </p:nvSpPr>
        <p:spPr>
          <a:xfrm>
            <a:off x="7559640" y="4081320"/>
            <a:ext cx="1427040" cy="390600"/>
          </a:xfrm>
          <a:prstGeom prst="ellipse">
            <a:avLst/>
          </a:prstGeom>
          <a:solidFill>
            <a:srgbClr val="7da9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beraPulsed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3"/>
          <p:cNvSpPr/>
          <p:nvPr/>
        </p:nvSpPr>
        <p:spPr>
          <a:xfrm>
            <a:off x="7994520" y="5765760"/>
            <a:ext cx="625680" cy="336600"/>
          </a:xfrm>
          <a:prstGeom prst="rect">
            <a:avLst/>
          </a:prstGeom>
          <a:solidFill>
            <a:srgbClr val="e8e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34"/>
          <p:cNvSpPr/>
          <p:nvPr/>
        </p:nvSpPr>
        <p:spPr>
          <a:xfrm>
            <a:off x="6657840" y="3468600"/>
            <a:ext cx="22320" cy="6238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35"/>
          <p:cNvSpPr/>
          <p:nvPr/>
        </p:nvSpPr>
        <p:spPr>
          <a:xfrm flipH="1">
            <a:off x="5173560" y="3444840"/>
            <a:ext cx="1293840" cy="6573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6"/>
          <p:cNvSpPr/>
          <p:nvPr/>
        </p:nvSpPr>
        <p:spPr>
          <a:xfrm>
            <a:off x="6891480" y="3479760"/>
            <a:ext cx="1393560" cy="62388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04480" y="655200"/>
            <a:ext cx="5027400" cy="4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24 Liberas brilliance for SR_BP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9" descr="libera-2"/>
          <p:cNvPicPr/>
          <p:nvPr/>
        </p:nvPicPr>
        <p:blipFill>
          <a:blip r:embed="rId2"/>
          <a:stretch/>
        </p:blipFill>
        <p:spPr>
          <a:xfrm>
            <a:off x="5767560" y="1387440"/>
            <a:ext cx="3243240" cy="3962520"/>
          </a:xfrm>
          <a:prstGeom prst="rect">
            <a:avLst/>
          </a:prstGeom>
          <a:ln w="0">
            <a:noFill/>
          </a:ln>
        </p:spPr>
      </p:pic>
      <p:sp>
        <p:nvSpPr>
          <p:cNvPr id="488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68120" y="1197000"/>
            <a:ext cx="55501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541440" indent="17280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R-BPM  ( 224 devices = 32 cells with 7 BP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ESRF uses V1.82 (on ~5 Cells ) and V2.02 + V2.03 patch (on ~27 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One TANGO device server per Lib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ill using the ”old” version (1.1.6) of Soleil server with ESRF’s modific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rctan positions algorit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SAsum Thresh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X and Z Global off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coherency calc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Others small modifications 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New” version of Soleil server in t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Taken from CVS repository (CVS version 1.1.1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Re-included ESRF’s modifications mentioned ab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Port to Libera version V2.02 (+V2.03 patch) without the new functiona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dded new ESRF Modifica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X and Z Global offsets re-implemented in a better way to handle FOF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Removed memorized attributes and use a Global property for set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dded calculation of RMS on DD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Latter: Add calculation of Lif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Will make a new CVS bra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Will include soon some of the V2.02 new functionalities: PM decimation, Antispike, 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3" marL="893880" indent="182520">
              <a:lnSpc>
                <a:spcPct val="90000"/>
              </a:lnSpc>
              <a:spcBef>
                <a:spcPts val="150"/>
              </a:spcBef>
              <a:buClr>
                <a:srgbClr val="7da9da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172800">
              <a:lnSpc>
                <a:spcPct val="90000"/>
              </a:lnSpc>
              <a:spcBef>
                <a:spcPts val="1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buClr>
                <a:srgbClr val="7da9d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PMLiberaAll   TANGO device serve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240" y="1339560"/>
            <a:ext cx="808020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Run on top of the 224 BPMLibera device servers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Functionalities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nternal thread running at 2Hz to collect the X, Z positions and status from all the Libera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Uses TANGO group calls (15 mS to read one plan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Build an History buffer of 3 minutes for SA Xpos, SA ZPos and SA Su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oblem: Can not read 2D attributes (image), therefore 3 calls are necessary and we can’t assume that we read the same sample (~20 mS delay between calls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Generates events to be used by the client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rrect data according to beam current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tore data to HDB  (soon as 1D vector):  Positions, RMS, Va, Vb, Vc, Vd, Temp, Fan Speed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Read/Set Parameters to all Liberas (e.g. OffsetTune, DDEnable, DDDecimation, DDBufferSize, …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hecks incoherent setting of parameters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hecks BPM head incoherencies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ermanently reset the BPI interlocks when the SR current is below 6 mA.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Sans Unicode"/>
              </a:rPr>
              <a:t>Improvements: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etection of frozen Libera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Handling of Trigger for Turn by turn and FOFB (New hardware in development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plications (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55240" y="993600"/>
            <a:ext cx="80802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SRCO:   Slow Orbit Correction (X11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evious application modified to handle new Libera BPM syste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During the smooth upgrade from the old system, this application handled the 2 types of BPM: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First it tries to read the Libera BP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182520">
              <a:lnSpc>
                <a:spcPct val="90000"/>
              </a:lnSpc>
              <a:spcBef>
                <a:spcPts val="300"/>
              </a:spcBef>
              <a:buClr>
                <a:srgbClr val="7da9d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If no Libera was there it read the old BPM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X and Z positions MAP display (java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1728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Wait for events (@2Hz) and rebuild and display the Positions history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Users\epaud\Brilliance\X_pos_map2.jpg"/>
          <p:cNvPicPr/>
          <p:nvPr/>
        </p:nvPicPr>
        <p:blipFill>
          <a:blip r:embed="rId2"/>
          <a:stretch/>
        </p:blipFill>
        <p:spPr>
          <a:xfrm>
            <a:off x="484200" y="3116160"/>
            <a:ext cx="8477280" cy="3360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9400" y="738360"/>
            <a:ext cx="508140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plications (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600" y="1339560"/>
            <a:ext cx="38815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Post Mortem Analysis (java application)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n specification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COD:   (dumb terminal application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nalysis of beam motions during gap change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Libera system drastically speeded-up the analysi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Used only during MDT shifts only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Sans Unicode"/>
              </a:rPr>
              <a:t>Libera BPM Manager (LABView):</a:t>
            </a: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the 224 statuse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X and Z SA positions (corrected or not)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llows to access one Libera and see ADC, DD or SA data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Display the incoherencies of crucial parameter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182520">
              <a:lnSpc>
                <a:spcPct val="90000"/>
              </a:lnSpc>
              <a:spcBef>
                <a:spcPts val="249"/>
              </a:spcBef>
              <a:buClr>
                <a:srgbClr val="7da9da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Allows to display the chosen parameters on the 224 Liberas</a:t>
            </a: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179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93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C:\Users\epaud\Brilliance\BPMLiberaManager-LV.jpg"/>
          <p:cNvPicPr/>
          <p:nvPr/>
        </p:nvPicPr>
        <p:blipFill>
          <a:blip r:embed="rId2"/>
          <a:stretch/>
        </p:blipFill>
        <p:spPr>
          <a:xfrm>
            <a:off x="4092480" y="684360"/>
            <a:ext cx="4929120" cy="58226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0480" y="571680"/>
            <a:ext cx="442764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R-BPM  Computing architect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9040" y="1014480"/>
            <a:ext cx="42447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Problem to connect to the previous network architecture: Need to be in auto-negotiation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speed-up the already planned network upgrade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32 cells with 7 BPMs each (224 Liberas)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-&gt; One dedicated VLAN   (not physically dedicated network, shared with the rest of the control)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4 last generation Linux crates  (new version:  PCI Express, Pentium 4 Core Duo /2 GHz – 3MB RAM      (56 devices servers on each of them)     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1 dedicated computer to run BPMLiberaAll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spcBef>
                <a:spcPts val="3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Computing resources needed per BPMLibera TANGO device server. Measured with SRCO application @1Hz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1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Lucida Sans Unicode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93680" y="4997520"/>
          <a:ext cx="3854520" cy="1247760"/>
        </p:xfrm>
        <a:graphic>
          <a:graphicData uri="http://schemas.openxmlformats.org/drawingml/2006/table">
            <a:tbl>
              <a:tblPr/>
              <a:tblGrid>
                <a:gridCol w="1192320"/>
                <a:gridCol w="1339560"/>
                <a:gridCol w="1322640"/>
              </a:tblGrid>
              <a:tr h="40320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%  CPU (serv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%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00 M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6%   (~0.1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A + DD 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5.5K samples + Decim = 64, 1Hz trigg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 % (~0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04" name="Picture 42" descr=""/>
          <p:cNvPicPr/>
          <p:nvPr/>
        </p:nvPicPr>
        <p:blipFill>
          <a:blip r:embed="rId2"/>
          <a:stretch/>
        </p:blipFill>
        <p:spPr>
          <a:xfrm>
            <a:off x="4311720" y="758880"/>
            <a:ext cx="4682880" cy="5657760"/>
          </a:xfrm>
          <a:prstGeom prst="rect">
            <a:avLst/>
          </a:prstGeom>
          <a:ln w="0">
            <a:noFill/>
          </a:ln>
        </p:spPr>
      </p:pic>
      <p:sp>
        <p:nvSpPr>
          <p:cNvPr id="505" name="Footer Placeholder 5"/>
          <p:cNvSpPr/>
          <p:nvPr/>
        </p:nvSpPr>
        <p:spPr>
          <a:xfrm>
            <a:off x="2521080" y="6620040"/>
            <a:ext cx="5929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3</a:t>
            </a:r>
            <a:r>
              <a:rPr b="0" lang="en-US" sz="800" spc="-1" strike="noStrike" baseline="30000">
                <a:solidFill>
                  <a:srgbClr val="ffffff"/>
                </a:solidFill>
                <a:latin typeface="Lucida Console"/>
              </a:rPr>
              <a:t>rd</a:t>
            </a: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 Libera Users Meeting /22th of June 2009 /F.Epaud-Software Engineering Gro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5:39:10Z</dcterms:created>
  <dc:creator>Francis EPAUD</dc:creator>
  <dc:description/>
  <dc:language>en-US</dc:language>
  <cp:lastModifiedBy>Kees SCHEIDT</cp:lastModifiedBy>
  <dcterms:modified xsi:type="dcterms:W3CDTF">2009-06-24T11:36:00Z</dcterms:modified>
  <cp:revision>85</cp:revision>
  <dc:subject/>
  <dc:title>Slide 1</dc:title>
</cp:coreProperties>
</file>