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DB6-AD10-4DB4-9D44-8D9E46B9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C53-B2BD-43C8-B632-1751C1C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F01-118E-4A31-84C5-55406027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A1D-3DC2-4257-8539-BDC068F7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6DB-C002-4437-87B5-1085D43A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7D3-3AAB-4144-B912-F81F45A4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76B-5C5C-4B5A-8EEC-0E4456D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03B-650A-4E2A-98BD-80EEAF2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9B3-1B65-4456-9379-7A1F1B6E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9D4-B6FC-4D13-8619-809825F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EF2-1935-4E1B-A7B1-3487671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843-CAF6-42A0-B651-27F263D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C3CB-F6C8-4855-BEDC-ABB49E306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220760"/>
            <a:ext cx="6335640" cy="415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979560"/>
            <a:ext cx="5545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38400" y="765000"/>
            <a:ext cx="962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224 Liberas  ( 32 cells x 7 stations ) are now all doing Closed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and slow Orbit Cor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-b-T capability has been teste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lose to be fully commissi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 (10KHz) distribution is also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mmis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197000"/>
            <a:ext cx="288720" cy="16556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0" y="5157720"/>
            <a:ext cx="819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cells  had  been  done    BEFORE    Winter shut-down (in 3 MD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  cells   were    done      DURING     Winter shut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 more cells were done   AFTER      Winter shut-down (in 4 MD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73160"/>
            <a:ext cx="8785080" cy="3988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Black"/>
              </a:rPr>
              <a:t>the new Electron Beam Position Measurement System (B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6516360" y="1484280"/>
            <a:ext cx="865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4160" y="4292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7800" y="836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_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8800" y="4556160"/>
            <a:ext cx="812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iber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RF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ernet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otal : ~7000 interconnections for the whole upgrade .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95480" y="2708280"/>
            <a:ext cx="73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37320" y="3139920"/>
            <a:ext cx="5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29320" y="2779560"/>
            <a:ext cx="122544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57680" y="547560"/>
            <a:ext cx="1859040" cy="3529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1339920"/>
            <a:ext cx="1079280" cy="2233440"/>
          </a:xfrm>
          <a:prstGeom prst="rect">
            <a:avLst/>
          </a:prstGeom>
          <a:solidFill>
            <a:srgbClr val="f7f9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40360" y="4076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7440" y="1557360"/>
            <a:ext cx="718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2131920"/>
            <a:ext cx="718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7440" y="2851200"/>
            <a:ext cx="7189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7440" y="3281400"/>
            <a:ext cx="718920" cy="3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29320" y="2060640"/>
            <a:ext cx="9223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529320" y="3715920"/>
            <a:ext cx="2160720" cy="1764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1989000"/>
            <a:ext cx="10792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P fil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0" y="155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13372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3280" y="285264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73280" y="328464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528960" y="907920"/>
            <a:ext cx="995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10920" y="25639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9320" y="3429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50040" y="3733920"/>
            <a:ext cx="1081080" cy="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1268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ject_Tr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184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_Tr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234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34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276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708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227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20" y="256392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4560" y="227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971280" y="256392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680" y="1508040"/>
            <a:ext cx="973080" cy="839880"/>
          </a:xfrm>
          <a:custGeom>
            <a:avLst/>
            <a:gdLst/>
            <a:ahLst/>
            <a:rect l="l" t="t" r="r" b="b"/>
            <a:pathLst>
              <a:path w="613" h="529">
                <a:moveTo>
                  <a:pt x="76" y="529"/>
                </a:moveTo>
                <a:cubicBezTo>
                  <a:pt x="38" y="412"/>
                  <a:pt x="0" y="295"/>
                  <a:pt x="76" y="212"/>
                </a:cubicBezTo>
                <a:cubicBezTo>
                  <a:pt x="152" y="129"/>
                  <a:pt x="447" y="60"/>
                  <a:pt x="530" y="30"/>
                </a:cubicBezTo>
                <a:cubicBezTo>
                  <a:pt x="613" y="0"/>
                  <a:pt x="594" y="15"/>
                  <a:pt x="575" y="3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50920" y="2660760"/>
            <a:ext cx="973080" cy="839520"/>
          </a:xfrm>
          <a:custGeom>
            <a:avLst/>
            <a:gdLst/>
            <a:ahLst/>
            <a:rect l="l" t="t" r="r" b="b"/>
            <a:pathLst>
              <a:path w="613" h="529">
                <a:moveTo>
                  <a:pt x="76" y="529"/>
                </a:moveTo>
                <a:cubicBezTo>
                  <a:pt x="38" y="412"/>
                  <a:pt x="0" y="295"/>
                  <a:pt x="76" y="212"/>
                </a:cubicBezTo>
                <a:cubicBezTo>
                  <a:pt x="152" y="129"/>
                  <a:pt x="447" y="60"/>
                  <a:pt x="530" y="30"/>
                </a:cubicBezTo>
                <a:cubicBezTo>
                  <a:pt x="613" y="0"/>
                  <a:pt x="594" y="15"/>
                  <a:pt x="575" y="3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833480"/>
            <a:ext cx="730440" cy="515880"/>
          </a:xfrm>
          <a:custGeom>
            <a:avLst/>
            <a:gdLst/>
            <a:ahLst/>
            <a:rect l="l" t="t" r="r" b="b"/>
            <a:pathLst>
              <a:path w="505" h="324">
                <a:moveTo>
                  <a:pt x="188" y="324"/>
                </a:moveTo>
                <a:cubicBezTo>
                  <a:pt x="177" y="271"/>
                  <a:pt x="166" y="218"/>
                  <a:pt x="143" y="188"/>
                </a:cubicBezTo>
                <a:cubicBezTo>
                  <a:pt x="120" y="158"/>
                  <a:pt x="75" y="166"/>
                  <a:pt x="52" y="143"/>
                </a:cubicBezTo>
                <a:cubicBezTo>
                  <a:pt x="29" y="120"/>
                  <a:pt x="0" y="75"/>
                  <a:pt x="7" y="52"/>
                </a:cubicBezTo>
                <a:cubicBezTo>
                  <a:pt x="14" y="29"/>
                  <a:pt x="67" y="14"/>
                  <a:pt x="97" y="7"/>
                </a:cubicBezTo>
                <a:cubicBezTo>
                  <a:pt x="127" y="0"/>
                  <a:pt x="158" y="0"/>
                  <a:pt x="188" y="7"/>
                </a:cubicBezTo>
                <a:cubicBezTo>
                  <a:pt x="218" y="14"/>
                  <a:pt x="241" y="29"/>
                  <a:pt x="279" y="52"/>
                </a:cubicBezTo>
                <a:cubicBezTo>
                  <a:pt x="317" y="75"/>
                  <a:pt x="377" y="128"/>
                  <a:pt x="415" y="143"/>
                </a:cubicBezTo>
                <a:cubicBezTo>
                  <a:pt x="453" y="158"/>
                  <a:pt x="490" y="143"/>
                  <a:pt x="505" y="14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9640" y="2625120"/>
            <a:ext cx="719280" cy="515880"/>
          </a:xfrm>
          <a:custGeom>
            <a:avLst/>
            <a:gdLst/>
            <a:ahLst/>
            <a:rect l="l" t="t" r="r" b="b"/>
            <a:pathLst>
              <a:path w="505" h="324">
                <a:moveTo>
                  <a:pt x="188" y="324"/>
                </a:moveTo>
                <a:cubicBezTo>
                  <a:pt x="177" y="271"/>
                  <a:pt x="166" y="218"/>
                  <a:pt x="143" y="188"/>
                </a:cubicBezTo>
                <a:cubicBezTo>
                  <a:pt x="120" y="158"/>
                  <a:pt x="75" y="166"/>
                  <a:pt x="52" y="143"/>
                </a:cubicBezTo>
                <a:cubicBezTo>
                  <a:pt x="29" y="120"/>
                  <a:pt x="0" y="75"/>
                  <a:pt x="7" y="52"/>
                </a:cubicBezTo>
                <a:cubicBezTo>
                  <a:pt x="14" y="29"/>
                  <a:pt x="67" y="14"/>
                  <a:pt x="97" y="7"/>
                </a:cubicBezTo>
                <a:cubicBezTo>
                  <a:pt x="127" y="0"/>
                  <a:pt x="158" y="0"/>
                  <a:pt x="188" y="7"/>
                </a:cubicBezTo>
                <a:cubicBezTo>
                  <a:pt x="218" y="14"/>
                  <a:pt x="241" y="29"/>
                  <a:pt x="279" y="52"/>
                </a:cubicBezTo>
                <a:cubicBezTo>
                  <a:pt x="317" y="75"/>
                  <a:pt x="377" y="128"/>
                  <a:pt x="415" y="143"/>
                </a:cubicBezTo>
                <a:cubicBezTo>
                  <a:pt x="453" y="158"/>
                  <a:pt x="490" y="143"/>
                  <a:pt x="505" y="14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1413000"/>
            <a:ext cx="1368720" cy="239760"/>
          </a:xfrm>
          <a:custGeom>
            <a:avLst/>
            <a:gdLst/>
            <a:ahLst/>
            <a:rect l="l" t="t" r="r" b="b"/>
            <a:pathLst>
              <a:path w="862" h="151">
                <a:moveTo>
                  <a:pt x="0" y="90"/>
                </a:moveTo>
                <a:cubicBezTo>
                  <a:pt x="45" y="45"/>
                  <a:pt x="91" y="0"/>
                  <a:pt x="136" y="0"/>
                </a:cubicBezTo>
                <a:cubicBezTo>
                  <a:pt x="181" y="0"/>
                  <a:pt x="227" y="83"/>
                  <a:pt x="272" y="90"/>
                </a:cubicBezTo>
                <a:cubicBezTo>
                  <a:pt x="317" y="97"/>
                  <a:pt x="363" y="37"/>
                  <a:pt x="408" y="45"/>
                </a:cubicBezTo>
                <a:cubicBezTo>
                  <a:pt x="453" y="53"/>
                  <a:pt x="491" y="121"/>
                  <a:pt x="544" y="136"/>
                </a:cubicBezTo>
                <a:cubicBezTo>
                  <a:pt x="597" y="151"/>
                  <a:pt x="681" y="144"/>
                  <a:pt x="726" y="136"/>
                </a:cubicBezTo>
                <a:cubicBezTo>
                  <a:pt x="771" y="128"/>
                  <a:pt x="794" y="98"/>
                  <a:pt x="817" y="90"/>
                </a:cubicBezTo>
                <a:cubicBezTo>
                  <a:pt x="840" y="82"/>
                  <a:pt x="855" y="90"/>
                  <a:pt x="862" y="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1978200"/>
            <a:ext cx="1368360" cy="164880"/>
          </a:xfrm>
          <a:custGeom>
            <a:avLst/>
            <a:gdLst/>
            <a:ahLst/>
            <a:rect l="l" t="t" r="r" b="b"/>
            <a:pathLst>
              <a:path w="862" h="104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89" y="0"/>
                  <a:pt x="227" y="7"/>
                </a:cubicBezTo>
                <a:cubicBezTo>
                  <a:pt x="265" y="14"/>
                  <a:pt x="288" y="37"/>
                  <a:pt x="318" y="52"/>
                </a:cubicBezTo>
                <a:cubicBezTo>
                  <a:pt x="348" y="67"/>
                  <a:pt x="364" y="90"/>
                  <a:pt x="409" y="97"/>
                </a:cubicBezTo>
                <a:cubicBezTo>
                  <a:pt x="454" y="104"/>
                  <a:pt x="537" y="97"/>
                  <a:pt x="590" y="97"/>
                </a:cubicBezTo>
                <a:cubicBezTo>
                  <a:pt x="643" y="97"/>
                  <a:pt x="688" y="97"/>
                  <a:pt x="726" y="97"/>
                </a:cubicBezTo>
                <a:cubicBezTo>
                  <a:pt x="764" y="97"/>
                  <a:pt x="794" y="97"/>
                  <a:pt x="817" y="97"/>
                </a:cubicBezTo>
                <a:cubicBezTo>
                  <a:pt x="840" y="97"/>
                  <a:pt x="851" y="97"/>
                  <a:pt x="862" y="9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831400"/>
            <a:ext cx="1368360" cy="165240"/>
          </a:xfrm>
          <a:custGeom>
            <a:avLst/>
            <a:gdLst/>
            <a:ahLst/>
            <a:rect l="l" t="t" r="r" b="b"/>
            <a:pathLst>
              <a:path w="862" h="104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89" y="0"/>
                  <a:pt x="227" y="7"/>
                </a:cubicBezTo>
                <a:cubicBezTo>
                  <a:pt x="265" y="14"/>
                  <a:pt x="288" y="37"/>
                  <a:pt x="318" y="52"/>
                </a:cubicBezTo>
                <a:cubicBezTo>
                  <a:pt x="348" y="67"/>
                  <a:pt x="364" y="90"/>
                  <a:pt x="409" y="97"/>
                </a:cubicBezTo>
                <a:cubicBezTo>
                  <a:pt x="454" y="104"/>
                  <a:pt x="537" y="97"/>
                  <a:pt x="590" y="97"/>
                </a:cubicBezTo>
                <a:cubicBezTo>
                  <a:pt x="643" y="97"/>
                  <a:pt x="688" y="97"/>
                  <a:pt x="726" y="97"/>
                </a:cubicBezTo>
                <a:cubicBezTo>
                  <a:pt x="764" y="97"/>
                  <a:pt x="794" y="97"/>
                  <a:pt x="817" y="97"/>
                </a:cubicBezTo>
                <a:cubicBezTo>
                  <a:pt x="840" y="97"/>
                  <a:pt x="851" y="97"/>
                  <a:pt x="862" y="9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273480"/>
            <a:ext cx="1440000" cy="226800"/>
          </a:xfrm>
          <a:custGeom>
            <a:avLst/>
            <a:gdLst/>
            <a:ahLst/>
            <a:rect l="l" t="t" r="r" b="b"/>
            <a:pathLst>
              <a:path w="862" h="158">
                <a:moveTo>
                  <a:pt x="0" y="143"/>
                </a:moveTo>
                <a:cubicBezTo>
                  <a:pt x="49" y="150"/>
                  <a:pt x="98" y="158"/>
                  <a:pt x="136" y="143"/>
                </a:cubicBezTo>
                <a:cubicBezTo>
                  <a:pt x="174" y="128"/>
                  <a:pt x="189" y="75"/>
                  <a:pt x="227" y="52"/>
                </a:cubicBezTo>
                <a:cubicBezTo>
                  <a:pt x="265" y="29"/>
                  <a:pt x="318" y="7"/>
                  <a:pt x="363" y="7"/>
                </a:cubicBezTo>
                <a:cubicBezTo>
                  <a:pt x="408" y="7"/>
                  <a:pt x="454" y="52"/>
                  <a:pt x="499" y="52"/>
                </a:cubicBezTo>
                <a:cubicBezTo>
                  <a:pt x="544" y="52"/>
                  <a:pt x="590" y="14"/>
                  <a:pt x="635" y="7"/>
                </a:cubicBezTo>
                <a:cubicBezTo>
                  <a:pt x="680" y="0"/>
                  <a:pt x="733" y="7"/>
                  <a:pt x="771" y="7"/>
                </a:cubicBezTo>
                <a:cubicBezTo>
                  <a:pt x="809" y="7"/>
                  <a:pt x="835" y="7"/>
                  <a:pt x="862" y="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96520" y="836640"/>
            <a:ext cx="944280" cy="3988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228240" y="233280"/>
            <a:ext cx="286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400" y="3833640"/>
            <a:ext cx="36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m RF transmission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5240" y="17640"/>
            <a:ext cx="218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ort R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907920"/>
            <a:ext cx="142920" cy="648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35280" y="342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692280"/>
            <a:ext cx="28728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2421000"/>
            <a:ext cx="71280" cy="71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360" y="2492280"/>
            <a:ext cx="122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07360" y="14842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  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2849" t="29775" r="1778" b="28044"/>
          <a:stretch/>
        </p:blipFill>
        <p:spPr>
          <a:xfrm>
            <a:off x="-108000" y="3456000"/>
            <a:ext cx="9252000" cy="3286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667640" y="260280"/>
            <a:ext cx="144144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7885080" y="76464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947640" y="836640"/>
            <a:ext cx="1008360" cy="600120"/>
          </a:xfrm>
          <a:custGeom>
            <a:avLst/>
            <a:gdLst/>
            <a:ahLst/>
            <a:rect l="l" t="t" r="r" b="b"/>
            <a:pathLst>
              <a:path w="635" h="378">
                <a:moveTo>
                  <a:pt x="0" y="0"/>
                </a:moveTo>
                <a:cubicBezTo>
                  <a:pt x="105" y="129"/>
                  <a:pt x="211" y="258"/>
                  <a:pt x="317" y="318"/>
                </a:cubicBezTo>
                <a:cubicBezTo>
                  <a:pt x="423" y="378"/>
                  <a:pt x="582" y="356"/>
                  <a:pt x="635" y="363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260280"/>
            <a:ext cx="4176720" cy="2220840"/>
          </a:xfrm>
          <a:custGeom>
            <a:avLst/>
            <a:gdLst/>
            <a:ahLst/>
            <a:rect l="l" t="t" r="r" b="b"/>
            <a:pathLst>
              <a:path w="2631" h="1399">
                <a:moveTo>
                  <a:pt x="0" y="771"/>
                </a:moveTo>
                <a:cubicBezTo>
                  <a:pt x="344" y="794"/>
                  <a:pt x="688" y="817"/>
                  <a:pt x="862" y="726"/>
                </a:cubicBezTo>
                <a:cubicBezTo>
                  <a:pt x="1036" y="635"/>
                  <a:pt x="946" y="325"/>
                  <a:pt x="1044" y="227"/>
                </a:cubicBezTo>
                <a:cubicBezTo>
                  <a:pt x="1142" y="129"/>
                  <a:pt x="1392" y="0"/>
                  <a:pt x="1452" y="136"/>
                </a:cubicBezTo>
                <a:cubicBezTo>
                  <a:pt x="1512" y="272"/>
                  <a:pt x="1331" y="839"/>
                  <a:pt x="1407" y="1043"/>
                </a:cubicBezTo>
                <a:cubicBezTo>
                  <a:pt x="1483" y="1247"/>
                  <a:pt x="1770" y="1399"/>
                  <a:pt x="1906" y="1361"/>
                </a:cubicBezTo>
                <a:cubicBezTo>
                  <a:pt x="2042" y="1323"/>
                  <a:pt x="2102" y="923"/>
                  <a:pt x="2223" y="817"/>
                </a:cubicBezTo>
                <a:cubicBezTo>
                  <a:pt x="2344" y="711"/>
                  <a:pt x="2563" y="741"/>
                  <a:pt x="2631" y="72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7280" y="115920"/>
            <a:ext cx="15130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8677080" y="333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885080" y="33336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677080" y="765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01080" y="476280"/>
            <a:ext cx="14436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2360" y="1268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43440" y="1268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920" y="1268280"/>
            <a:ext cx="936720" cy="3745080"/>
          </a:xfrm>
          <a:custGeom>
            <a:avLst/>
            <a:gdLst/>
            <a:ahLst/>
            <a:rect l="l" t="t" r="r" b="b"/>
            <a:pathLst>
              <a:path w="869" h="2344">
                <a:moveTo>
                  <a:pt x="869" y="76"/>
                </a:moveTo>
                <a:cubicBezTo>
                  <a:pt x="703" y="38"/>
                  <a:pt x="537" y="0"/>
                  <a:pt x="416" y="76"/>
                </a:cubicBezTo>
                <a:cubicBezTo>
                  <a:pt x="295" y="152"/>
                  <a:pt x="151" y="296"/>
                  <a:pt x="143" y="530"/>
                </a:cubicBezTo>
                <a:cubicBezTo>
                  <a:pt x="135" y="764"/>
                  <a:pt x="385" y="1240"/>
                  <a:pt x="370" y="1482"/>
                </a:cubicBezTo>
                <a:cubicBezTo>
                  <a:pt x="355" y="1724"/>
                  <a:pt x="106" y="1837"/>
                  <a:pt x="53" y="1981"/>
                </a:cubicBezTo>
                <a:cubicBezTo>
                  <a:pt x="0" y="2125"/>
                  <a:pt x="53" y="2284"/>
                  <a:pt x="53" y="23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7672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25m RG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7dB 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9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0cm RG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148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708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12000" y="907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1640" y="126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87880" y="6188040"/>
            <a:ext cx="4644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F sig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from pick-up button to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90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604360" y="5157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58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0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620640"/>
            <a:ext cx="176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8360" y="189000"/>
            <a:ext cx="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1413000"/>
            <a:ext cx="215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5013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2492280"/>
            <a:ext cx="14436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8028000" y="1125000"/>
            <a:ext cx="2160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91280" y="2505240"/>
            <a:ext cx="19515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 offse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am - BPMbl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Amp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9 %  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45 % 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779640" y="1628280"/>
            <a:ext cx="215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9480" y="2649600"/>
            <a:ext cx="2219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fferent cable len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Ph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   mm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6 mm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4292640"/>
            <a:ext cx="417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1640" y="443700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6680" y="4594320"/>
            <a:ext cx="99756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49040" y="4521240"/>
            <a:ext cx="113472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nd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4720" y="5084640"/>
            <a:ext cx="64764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5084640"/>
            <a:ext cx="64800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52360" y="-127080"/>
            <a:ext cx="8640720" cy="6912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1280" y="-387360"/>
            <a:ext cx="896472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8000" y="6192720"/>
            <a:ext cx="903744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376360"/>
            <a:ext cx="468360" cy="38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08320" y="189000"/>
            <a:ext cx="5914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Digital Signal Conditi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implies the multiplexing &amp; de-mux. of the 4 sign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4 RF &amp; ADC chains to re-calibrate the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one at exact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 / 27 (~13K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chanism is in principle transparent and in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A (10KHz) and SA (10Hz)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8964720" cy="5732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26920" y="544500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-by-Turn data : 22KHz component of ~15um pk-p  in Vert.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spikes due to DSC Libera-switching (at 27 TbT-interva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85480" y="189000"/>
            <a:ext cx="641088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bT data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FT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ss spik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compare for each sta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-amplitude  versus  Un-balance in signal-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-amplitude  versus  Un-balance in signal-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: clear relation &amp; proportionality betwee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sired spikes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‘in-perfections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RF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the Libera has some problems with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‘real’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RF signal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owever, it offers solu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-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 removal feature (2.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ested these on 8 prototype units in early 2008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FA data (and its spectr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‘nasty’ fi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133440" y="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noi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645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44360" y="3597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0880" y="206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68360" y="14130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6697800" cy="7142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734160" y="1557360"/>
            <a:ext cx="216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rge offset-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mov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urious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2849" t="29775" r="1778" b="28044"/>
          <a:stretch/>
        </p:blipFill>
        <p:spPr>
          <a:xfrm>
            <a:off x="-108000" y="3456000"/>
            <a:ext cx="9252000" cy="3286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67640" y="260280"/>
            <a:ext cx="144144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7885080" y="76464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947640" y="836640"/>
            <a:ext cx="1008360" cy="600120"/>
          </a:xfrm>
          <a:custGeom>
            <a:avLst/>
            <a:gdLst/>
            <a:ahLst/>
            <a:rect l="l" t="t" r="r" b="b"/>
            <a:pathLst>
              <a:path w="635" h="378">
                <a:moveTo>
                  <a:pt x="0" y="0"/>
                </a:moveTo>
                <a:cubicBezTo>
                  <a:pt x="105" y="129"/>
                  <a:pt x="211" y="258"/>
                  <a:pt x="317" y="318"/>
                </a:cubicBezTo>
                <a:cubicBezTo>
                  <a:pt x="423" y="378"/>
                  <a:pt x="582" y="356"/>
                  <a:pt x="635" y="363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260280"/>
            <a:ext cx="4176720" cy="2220840"/>
          </a:xfrm>
          <a:custGeom>
            <a:avLst/>
            <a:gdLst/>
            <a:ahLst/>
            <a:rect l="l" t="t" r="r" b="b"/>
            <a:pathLst>
              <a:path w="2631" h="1399">
                <a:moveTo>
                  <a:pt x="0" y="771"/>
                </a:moveTo>
                <a:cubicBezTo>
                  <a:pt x="344" y="794"/>
                  <a:pt x="688" y="817"/>
                  <a:pt x="862" y="726"/>
                </a:cubicBezTo>
                <a:cubicBezTo>
                  <a:pt x="1036" y="635"/>
                  <a:pt x="946" y="325"/>
                  <a:pt x="1044" y="227"/>
                </a:cubicBezTo>
                <a:cubicBezTo>
                  <a:pt x="1142" y="129"/>
                  <a:pt x="1392" y="0"/>
                  <a:pt x="1452" y="136"/>
                </a:cubicBezTo>
                <a:cubicBezTo>
                  <a:pt x="1512" y="272"/>
                  <a:pt x="1331" y="839"/>
                  <a:pt x="1407" y="1043"/>
                </a:cubicBezTo>
                <a:cubicBezTo>
                  <a:pt x="1483" y="1247"/>
                  <a:pt x="1770" y="1399"/>
                  <a:pt x="1906" y="1361"/>
                </a:cubicBezTo>
                <a:cubicBezTo>
                  <a:pt x="2042" y="1323"/>
                  <a:pt x="2102" y="923"/>
                  <a:pt x="2223" y="817"/>
                </a:cubicBezTo>
                <a:cubicBezTo>
                  <a:pt x="2344" y="711"/>
                  <a:pt x="2563" y="741"/>
                  <a:pt x="2631" y="72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115920"/>
            <a:ext cx="15130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8677080" y="333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885080" y="33336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677080" y="765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01080" y="476280"/>
            <a:ext cx="14436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2360" y="1268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43440" y="1268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920" y="1268280"/>
            <a:ext cx="936720" cy="3745080"/>
          </a:xfrm>
          <a:custGeom>
            <a:avLst/>
            <a:gdLst/>
            <a:ahLst/>
            <a:rect l="l" t="t" r="r" b="b"/>
            <a:pathLst>
              <a:path w="869" h="2344">
                <a:moveTo>
                  <a:pt x="869" y="76"/>
                </a:moveTo>
                <a:cubicBezTo>
                  <a:pt x="703" y="38"/>
                  <a:pt x="537" y="0"/>
                  <a:pt x="416" y="76"/>
                </a:cubicBezTo>
                <a:cubicBezTo>
                  <a:pt x="295" y="152"/>
                  <a:pt x="151" y="296"/>
                  <a:pt x="143" y="530"/>
                </a:cubicBezTo>
                <a:cubicBezTo>
                  <a:pt x="135" y="764"/>
                  <a:pt x="385" y="1240"/>
                  <a:pt x="370" y="1482"/>
                </a:cubicBezTo>
                <a:cubicBezTo>
                  <a:pt x="355" y="1724"/>
                  <a:pt x="106" y="1837"/>
                  <a:pt x="53" y="1981"/>
                </a:cubicBezTo>
                <a:cubicBezTo>
                  <a:pt x="0" y="2125"/>
                  <a:pt x="53" y="2284"/>
                  <a:pt x="53" y="23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672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25m RG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7dB 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29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0cm RG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8800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148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7708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12000" y="907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51640" y="126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87880" y="6188040"/>
            <a:ext cx="4644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F sig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from pick-up button to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90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604360" y="5157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0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58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8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0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0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0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80360" y="620640"/>
            <a:ext cx="176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8360" y="189000"/>
            <a:ext cx="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71640" y="1413000"/>
            <a:ext cx="215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5013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2492280"/>
            <a:ext cx="14436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8028000" y="1125000"/>
            <a:ext cx="2160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91280" y="2505240"/>
            <a:ext cx="19515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 offse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am - BPMbl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Amp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9 %  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45 % 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779640" y="1628280"/>
            <a:ext cx="215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9480" y="2649600"/>
            <a:ext cx="2219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fferent cable len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Ph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   mm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6 mm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4292640"/>
            <a:ext cx="417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443700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6680" y="4594320"/>
            <a:ext cx="99756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9040" y="4521240"/>
            <a:ext cx="113472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nd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44720" y="5084640"/>
            <a:ext cx="64764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5084640"/>
            <a:ext cx="64800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042480" cy="58420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328760" y="18900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ft in 4 x 10mA : with &amp; without the filters in front of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08360" y="549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549360"/>
            <a:ext cx="1441440" cy="15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04360" y="2708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13080" y="283212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09440" y="692280"/>
            <a:ext cx="9253440" cy="5979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328760" y="18900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ft in 4 x 10mA : with &amp; without the filters in front of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08360" y="549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59280" y="549360"/>
            <a:ext cx="79236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785080" cy="257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936720"/>
            <a:ext cx="50472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1300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40" y="16351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9308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5020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37976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4019040"/>
            <a:ext cx="934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59640" y="4019040"/>
            <a:ext cx="22334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760" y="3946680"/>
            <a:ext cx="2849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Cells with LIBERA-BP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760" y="4235400"/>
            <a:ext cx="1213920" cy="52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Cell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-B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06040" y="4235400"/>
            <a:ext cx="1213920" cy="52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Cell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-B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7200" y="635040"/>
            <a:ext cx="7064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 Orbit Plot  (i.e. substraction from a reference or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7680" y="566100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: The strategy of dealing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/ old offse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ears glob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void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ifts of the X-ray beam for the beam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49880" y="115920"/>
            <a:ext cx="4034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mediate view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612720" y="-171360"/>
            <a:ext cx="9756720" cy="5668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6960" y="5373720"/>
            <a:ext cx="755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ift of a Libera with signal strengt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to &lt;1um, but true for ‘nice’ input signal (phase, 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or strongly un-balanced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6804000" cy="4349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12000" y="189000"/>
            <a:ext cx="344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modified DDC filter 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ll i.e. the MAF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705200" y="620640"/>
            <a:ext cx="4330800" cy="511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859280" y="105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tuation with standard 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93440" y="35733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‘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mear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6875640" y="2997360"/>
            <a:ext cx="792000" cy="50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940000" y="2925360"/>
            <a:ext cx="136836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16360" y="907920"/>
            <a:ext cx="71280" cy="648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720" y="5950080"/>
            <a:ext cx="85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t only one design can be installed at a time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roving the installation procedure (i.e. reducing time) would help a lot . .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42920" y="-27000"/>
            <a:ext cx="6480360" cy="4141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152000" y="3789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canning of the Filter synchronization with the 1/3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35280" y="5013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4365720"/>
            <a:ext cx="64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5013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436572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32360" y="436572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5950080"/>
            <a:ext cx="288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52720" y="5302080"/>
            <a:ext cx="64944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5950080"/>
            <a:ext cx="107928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2720" y="5302080"/>
            <a:ext cx="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00720" y="5302080"/>
            <a:ext cx="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07440" y="44388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(3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82320" y="5446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5589720"/>
            <a:ext cx="2087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64000" y="5518080"/>
            <a:ext cx="1443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899120" cy="32702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899120" cy="3270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64533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5440" y="649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7080" y="443700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1800" y="119700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19640" y="393372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losses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69080" y="55897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jection (from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979640" y="5805360"/>
            <a:ext cx="2887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612720" y="3809880"/>
            <a:ext cx="9144000" cy="2901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051760" cy="3333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25800" y="105264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33080" y="4221000"/>
            <a:ext cx="16819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with 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17440" y="4292640"/>
            <a:ext cx="1628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21528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51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031760" y="0"/>
            <a:ext cx="8077320" cy="33433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95320" y="3333600"/>
            <a:ext cx="8356680" cy="3295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08240" y="765000"/>
            <a:ext cx="9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6960" y="407664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344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75640" y="378936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5056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9600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4520" y="6453360"/>
            <a:ext cx="12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35120" y="0"/>
            <a:ext cx="8229600" cy="3406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84360" y="3430440"/>
            <a:ext cx="8280360" cy="3427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63880" y="692280"/>
            <a:ext cx="9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9080" y="4600440"/>
            <a:ext cx="13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f a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8229600" cy="3481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042920" y="-27000"/>
            <a:ext cx="7899480" cy="3270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69440" y="1125360"/>
            <a:ext cx="13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 a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4221000"/>
            <a:ext cx="12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88360" y="378936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90620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5164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30160" y="6453360"/>
            <a:ext cx="12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1852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793800" y="115920"/>
            <a:ext cx="9937800" cy="5413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826200" y="5805360"/>
            <a:ext cx="775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liability of a BPM value : survey the incoherency (or Q-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tation is discarded from Orbit control if the incoh drifts too mu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now we have to sharpen our maintenance tools to track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60360" y="270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93800" y="220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333440" y="126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77800" y="17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3800" y="3860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incohe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82000" y="7920"/>
            <a:ext cx="5585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BPM  system  is  not  only  the  Libera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24972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600280"/>
            <a:ext cx="2158920" cy="1657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2457360"/>
            <a:ext cx="1439640" cy="1079640"/>
          </a:xfrm>
          <a:prstGeom prst="rect">
            <a:avLst/>
          </a:prstGeom>
          <a:solidFill>
            <a:srgbClr val="a3fba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33228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3228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6100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36100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1440" y="3393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1440" y="15224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260208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4041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57080" y="317808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5440" y="296208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5440" y="361008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7080" y="361008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9624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9704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75444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317808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889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310500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3681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3897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6000" y="4473720"/>
            <a:ext cx="143964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7240" y="2170080"/>
            <a:ext cx="813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7600" y="3603600"/>
            <a:ext cx="915120" cy="36828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2880" y="4545000"/>
            <a:ext cx="118188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rbi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2889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36100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88936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8800" y="3006720"/>
            <a:ext cx="977760" cy="55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2889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03372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263700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339408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2000" y="2565360"/>
            <a:ext cx="835920" cy="73332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263700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4114800"/>
            <a:ext cx="1800360" cy="110484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75444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0" y="3767040"/>
            <a:ext cx="8438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1148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825720"/>
            <a:ext cx="0" cy="289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41148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825720"/>
            <a:ext cx="0" cy="289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16360" y="19540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65360"/>
            <a:ext cx="869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059280" y="1449360"/>
            <a:ext cx="57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41400" y="801720"/>
            <a:ext cx="1963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82 but soon 2.02 . .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n to 2.04.1 . .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committed to 2.2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9560" y="2349360"/>
            <a:ext cx="637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659280" y="2637000"/>
            <a:ext cx="5763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03200" y="873000"/>
            <a:ext cx="1631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ll under mod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eil’ serv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on to be repla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ructured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7093080" y="1881360"/>
            <a:ext cx="3585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7760" y="4762440"/>
            <a:ext cx="91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I-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76720" y="411444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6680" y="4978440"/>
            <a:ext cx="7081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sty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473720"/>
            <a:ext cx="43020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9720" y="4295880"/>
            <a:ext cx="1192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vol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84360" y="404136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461808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497844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5265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5481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7440" y="4618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476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74200" y="49039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72400" y="50468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70960" y="5189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69160" y="53323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75640" y="5481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7960" y="1265400"/>
            <a:ext cx="1515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1.82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ed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2.04.1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be add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596360" y="2096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25772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9760" y="5626080"/>
            <a:ext cx="1112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lock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-Mor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35280" y="4257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67280" y="4257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5481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5338800"/>
            <a:ext cx="28872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3960" y="6130800"/>
            <a:ext cx="1233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gg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0840" y="1809720"/>
            <a:ext cx="2088720" cy="8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-shooting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F interconne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nsating for un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plitudes &amp;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267336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6120" y="3284640"/>
            <a:ext cx="799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Mb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084360" y="30686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51640" y="25653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18520" y="29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7777440" cy="6494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440" y="2133720"/>
            <a:ext cx="207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SA-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 a Life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do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ising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440000" y="0"/>
            <a:ext cx="7956360" cy="6470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80" y="1700280"/>
            <a:ext cx="1946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ising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: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of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mal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dly sh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94480" y="189000"/>
            <a:ext cx="68770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degradation with partial &amp; single bunch fil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hould the Libera do its DSC switching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50920" y="1000080"/>
            <a:ext cx="8569080" cy="53164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556000" y="5950080"/>
            <a:ext cx="518472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after the 40MHz wide BPF = typical Libera RF input @single bunch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12000" y="1484280"/>
            <a:ext cx="0" cy="381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1484280"/>
            <a:ext cx="0" cy="3816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2160" y="141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e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61080" y="1916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r he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705800" cy="59072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993600" y="5734080"/>
            <a:ext cx="8055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ther Libera artefact appears in SA data with offset-tun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low 200nm pk-pk oscillation, the period is determined by the value of the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aken under 16 bunch, ‘perfect stable’ beam (Sum &amp; Spl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40160" y="2997360"/>
            <a:ext cx="1736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=10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47640" y="270828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00720" y="270828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00160" y="2997360"/>
            <a:ext cx="1736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=20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27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11280" y="-27000"/>
            <a:ext cx="7632720" cy="5851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360" y="5661000"/>
            <a:ext cx="882036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low 200nm pk-pk oscillation in SA data can be minimized (suppres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djusting the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witching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ara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aken under 16 bunch, ‘perfect stable’ beam (Sum &amp; Spl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347640" y="3789360"/>
            <a:ext cx="144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484360" y="3789360"/>
            <a:ext cx="71928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78200" y="3789360"/>
            <a:ext cx="7225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724000" y="1483920"/>
            <a:ext cx="2178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877080" y="1484280"/>
            <a:ext cx="28872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6372360" y="1557000"/>
            <a:ext cx="7128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74360" y="3213000"/>
            <a:ext cx="2483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’ switching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42360" y="2492280"/>
            <a:ext cx="2637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’ switching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937440" cy="51865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13760" y="5602320"/>
            <a:ext cx="880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canning the switching delay value &amp; measuring the spike amplitudes at each step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individual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goo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b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values can be easily determined for each Libe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60360" y="4869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97800" y="50133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971640" y="404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320" y="1733400"/>
            <a:ext cx="7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2421000"/>
            <a:ext cx="5545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-513720" y="69840"/>
            <a:ext cx="97840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of remaining task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- and software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ish installation of 2.02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stall the 2.04.1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test &amp; commission new device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test &amp; commission the ‘all’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dd functionalities available under 2.0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M functionality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-commission Interlock (incl. Post-Mor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commission Turn-by-Turn mo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th standard 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th MA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ore &amp; retrieve suitable statistics in/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-base in efficient way to detec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quickly problems (drifts, fluc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fine functionalities for 2.00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Feedback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t all FA data-streams connec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ed and analyzed, in prepar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new Orbit Stabiliz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179720" y="7920"/>
            <a:ext cx="7313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ESRF  BPM  system  has  perhaps  2  half-sisters . . 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8000" y="365760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008160"/>
            <a:ext cx="2158920" cy="1657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36000" y="2865600"/>
            <a:ext cx="1439640" cy="10792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2360" y="37306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37306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360" y="40179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2360" y="40179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41440" y="3801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440" y="19303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1440" y="30099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440" y="4449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57080" y="358596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440" y="336996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5440" y="401796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080" y="401796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4360" y="33703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43783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416232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358632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297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00360" y="3513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408924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00360" y="4305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240320" y="5637240"/>
            <a:ext cx="886320" cy="6415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or Orbi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tab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35640" y="344160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380360" y="30448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51640" y="38019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52000" y="3116160"/>
            <a:ext cx="83592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17080" y="30448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651640" y="4557600"/>
            <a:ext cx="1585800" cy="218448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35640" y="45226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44880" y="1100160"/>
            <a:ext cx="889560" cy="3988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51640" y="297324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1852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7520" y="739800"/>
            <a:ext cx="4055760" cy="576108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39440" y="1003320"/>
            <a:ext cx="1270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TRA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11640" y="812880"/>
            <a:ext cx="4056120" cy="576108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6320" y="3476520"/>
            <a:ext cx="1325160" cy="67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52480" y="1844640"/>
            <a:ext cx="2477520" cy="580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F signals impo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rcumference &amp; fil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73200" y="1844640"/>
            <a:ext cx="2283840" cy="3373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ango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59360" y="404640"/>
            <a:ext cx="8457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RF wants to keep clos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l members of the (diverging. . .) Libera commun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with its half-sisters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equally with distant nephew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opefully new . . .  childr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let’s stay in touc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1295640" cy="8654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1295640" cy="858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136692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79840" y="7920"/>
            <a:ext cx="647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BPM  system  is  3  worlds  meeting  together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339408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744640"/>
            <a:ext cx="2158920" cy="1657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2602080"/>
            <a:ext cx="1439640" cy="10792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360" y="34671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4671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75444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375444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41440" y="35380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41440" y="16668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440" y="27464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440" y="41860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7080" y="332244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5440" y="310644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5440" y="375444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375444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106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114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89880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2280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033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3249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82572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041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589720"/>
            <a:ext cx="1439640" cy="1152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02120" y="1486080"/>
            <a:ext cx="86652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9040" y="5950080"/>
            <a:ext cx="886320" cy="6415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or Orbi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tab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78200" y="303372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2560" y="37893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2560" y="303372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3520" y="3127320"/>
            <a:ext cx="1080000" cy="61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17808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360" y="2781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353844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2000" y="2852640"/>
            <a:ext cx="83592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2781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294080"/>
            <a:ext cx="1585800" cy="218448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42591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17240" y="1413000"/>
            <a:ext cx="1843560" cy="642600"/>
          </a:xfrm>
          <a:prstGeom prst="rect">
            <a:avLst/>
          </a:prstGeom>
          <a:solidFill>
            <a:srgbClr val="66ff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8360" y="602136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8360" y="623736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63817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65977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7440" y="573408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75640" y="58770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74200" y="601992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72400" y="616284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70960" y="63054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69160" y="64483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75640" y="659772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70972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1852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909720"/>
            <a:ext cx="3552840" cy="451152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0200" y="909720"/>
            <a:ext cx="3552840" cy="451152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1413000"/>
            <a:ext cx="3097080" cy="3960720"/>
          </a:xfrm>
          <a:prstGeom prst="ellipse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9080" y="1270080"/>
            <a:ext cx="133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F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93720"/>
            <a:ext cx="50328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981000"/>
            <a:ext cx="5032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765000"/>
            <a:ext cx="503280" cy="503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9080" y="71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520" y="98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3800" y="76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238680" y="0"/>
            <a:ext cx="956592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ilure rate of the Liberas sof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We did very simple Site-Acceptance-Tests, ‘in-final-situ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.e. no precise Lab measurements to verify the ultimate spe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asons :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) confidence in I-Tech’s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2) reduction of work-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) concentrate efforts on finding the real crazy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ivered unit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ota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3 shipments of 5, 7 and 3 units) needed repair at I-Tech’s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 of the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 also had some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 software crashes inside the 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could be repaired (on-site) in 3 different way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 I-Tech logged-on to the unit, diagnosed, and solved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 connect a Laptop, run some tools and get it alive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n image of the flash memory of a good unit (with a Lapto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load this into a totally blocked Libera to get it alive ag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such blockages happen during a firmware upg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4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15560" y="1197000"/>
            <a:ext cx="2869560" cy="5806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35160" y="5661000"/>
            <a:ext cx="1560240" cy="703800"/>
          </a:xfrm>
          <a:prstGeom prst="rect">
            <a:avLst/>
          </a:prstGeom>
          <a:solidFill>
            <a:srgbClr val="ff99cc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796000" y="1484280"/>
            <a:ext cx="1006560" cy="57636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084360" y="5300640"/>
            <a:ext cx="863640" cy="650880"/>
          </a:xfrm>
          <a:prstGeom prst="line">
            <a:avLst/>
          </a:prstGeom>
          <a:ln w="1332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156000" y="5373360"/>
            <a:ext cx="86364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53040" y="317520"/>
            <a:ext cx="261036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urvey mon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149800" y="72720"/>
            <a:ext cx="1222560" cy="476280"/>
          </a:xfrm>
          <a:prstGeom prst="line">
            <a:avLst/>
          </a:prstGeom>
          <a:ln w="7632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44000" y="2276640"/>
            <a:ext cx="2418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d Yoke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2637000"/>
            <a:ext cx="1224000" cy="2376360"/>
          </a:xfrm>
          <a:prstGeom prst="line">
            <a:avLst/>
          </a:prstGeom>
          <a:ln w="104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492280"/>
            <a:ext cx="1224000" cy="237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87280" y="-1324080"/>
            <a:ext cx="6589800" cy="8785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697080" y="2349360"/>
            <a:ext cx="1560240" cy="7038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7280" y="2708280"/>
            <a:ext cx="792360" cy="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72000" y="2708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78040" y="907920"/>
            <a:ext cx="1968840" cy="8240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6040" y="3716280"/>
            <a:ext cx="2825280" cy="5806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ter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 m long 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292640"/>
            <a:ext cx="718920" cy="43164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1268280"/>
            <a:ext cx="57636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7134120" cy="682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196760" y="404640"/>
            <a:ext cx="189540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o HO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3357720"/>
            <a:ext cx="1323720" cy="5205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040" y="1844640"/>
            <a:ext cx="114696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5:58:16Z</dcterms:created>
  <dc:creator>Kees SCHEIDT</dc:creator>
  <dc:description/>
  <dc:language>en-US</dc:language>
  <cp:lastModifiedBy>Kees SCHEIDT</cp:lastModifiedBy>
  <dcterms:modified xsi:type="dcterms:W3CDTF">2009-06-21T08:56:17Z</dcterms:modified>
  <cp:revision>98</cp:revision>
  <dc:subject/>
  <dc:title>Slide 1</dc:title>
</cp:coreProperties>
</file>