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451-3117-4169-A36B-CB97FB02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57B-943A-419B-8D01-4F1594A6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F8B-C0AB-4C85-B552-6A93F839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0A0-D9C4-4931-AE4F-DE5336CC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474-0B66-47C6-A17D-2F5CA265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6B6-301F-4056-9F6B-29B114A9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682-8A59-4134-838B-21C0C5E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D4B-A153-4651-B936-33AF4963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477-E169-472A-9042-4AABCD5B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687-66D4-452C-A3D9-D46C19E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686-B08C-4041-8F77-3C67470E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81A-82EF-40EB-AFBA-C4190D3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CE36-4A0D-466B-A46E-3D379AC7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720" y="65160"/>
            <a:ext cx="787680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irst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irds’ fl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nstitut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ity,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istance [Km]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cel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Yingbing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9329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SSRF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Shanghai,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Om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6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Igor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6227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NSLS-2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Brookhaven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Yuke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62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Frank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Gero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980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PETRA-3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Hamburg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Igor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Michael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 893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DLS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  <a:ea typeface="Arial"/>
              </a:rPr>
              <a:t>Didcot,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Peter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 718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DELT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  <a:ea typeface="Arial"/>
              </a:rPr>
              <a:t>Dortmund,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Stefano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 630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ELETTRA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Trieste, 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Andrej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620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Instrumentation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Solkan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Peter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620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Angel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 508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ALBA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  <a:ea typeface="Arial"/>
              </a:rPr>
              <a:t>Barcelona,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Nicolas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 484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SOLEIL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33cc"/>
                </a:solidFill>
                <a:latin typeface="Arial"/>
                <a:ea typeface="Arial"/>
              </a:rPr>
              <a:t>Paris,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____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35525 Km  !!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55840" y="2265480"/>
            <a:ext cx="452520" cy="658800"/>
          </a:xfrm>
          <a:custGeom>
            <a:avLst/>
            <a:gdLst>
              <a:gd name="textAreaLeft" fmla="*/ 0 w 452520"/>
              <a:gd name="textAreaRight" fmla="*/ 163440 w 452520"/>
              <a:gd name="textAreaTop" fmla="*/ 16920 h 658800"/>
              <a:gd name="textAreaBottom" fmla="*/ 64188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55840" y="1341360"/>
            <a:ext cx="452520" cy="658800"/>
          </a:xfrm>
          <a:custGeom>
            <a:avLst/>
            <a:gdLst>
              <a:gd name="textAreaLeft" fmla="*/ 0 w 452520"/>
              <a:gd name="textAreaRight" fmla="*/ 163440 w 452520"/>
              <a:gd name="textAreaTop" fmla="*/ 16920 h 658800"/>
              <a:gd name="textAreaBottom" fmla="*/ 64188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09840" y="4559400"/>
            <a:ext cx="452520" cy="363600"/>
          </a:xfrm>
          <a:custGeom>
            <a:avLst/>
            <a:gdLst>
              <a:gd name="textAreaLeft" fmla="*/ 0 w 452520"/>
              <a:gd name="textAreaRight" fmla="*/ 163440 w 452520"/>
              <a:gd name="textAreaTop" fmla="*/ 9360 h 363600"/>
              <a:gd name="textAreaBottom" fmla="*/ 354240 h 36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56720" y="1487520"/>
            <a:ext cx="10080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1008000" cy="67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962840" y="2403360"/>
            <a:ext cx="10018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956720" y="3340080"/>
            <a:ext cx="1001520" cy="66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50240" y="4276800"/>
            <a:ext cx="1001520" cy="66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43760" y="5211720"/>
            <a:ext cx="10018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79280" y="333360"/>
          <a:ext cx="8785440" cy="6418440"/>
        </p:xfrm>
        <a:graphic>
          <a:graphicData uri="http://schemas.openxmlformats.org/drawingml/2006/table">
            <a:tbl>
              <a:tblPr/>
              <a:tblGrid>
                <a:gridCol w="782640"/>
                <a:gridCol w="2805120"/>
                <a:gridCol w="5197680"/>
              </a:tblGrid>
              <a:tr h="103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scal Elleaume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[ESRF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lco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82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ees Scheidt      [ESRF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ort introduction to the Libera Users’ me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ero Kube         [DESY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xperience of Liberas during PETRA-3 commiss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77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ees Scheidt      [ESRF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mmissioning  experience of full n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PM system for 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rancis Epaud   [ESRF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ngo based control system for t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R Libera BP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urther questions &amp; discussions  . . . . . . .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05160" y="163440"/>
            <a:ext cx="4530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ibera Users’ meetings (~1.5 days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OLEIL,   Paris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Jul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ALBA,      Barcelona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Apri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ESRF,      Grenoble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Jun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3720" y="3457440"/>
            <a:ext cx="768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bera Workshops (2-3 days) organized by I-Tech in Sloveni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umn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440" y="4437000"/>
            <a:ext cx="3391920" cy="1678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actical sess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entations of produc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ser’ present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ome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86160"/>
            <a:ext cx="820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15920"/>
            <a:ext cx="468000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4040" y="49320"/>
            <a:ext cx="898056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eeting's main purpose is 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relevant information, experience and knowledge of mutual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actical u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Liberas for Orbit measurement and Orbit stab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rge accelerator compl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PM system serves basically 3 goals 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-   providing position data of low latency &amp; high rate (10KHz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very reliable manner, to a system for global orbit stabilization purp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bilizing the User's photon beam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-   providing detailed info on the electron beam character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can be extracted from a BPM s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by satisfying the requirements for detai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am dynamics stud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-  providing a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l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 excessive beam displa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32840" y="907920"/>
            <a:ext cx="688176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obably the first time in the history of accelerato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compon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 the BPM syste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s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 accelera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w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zed by 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ntical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the Liber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: the various users of this Libera system sh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 exchange their experienc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to think of possible improve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79360" y="115920"/>
            <a:ext cx="741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re our BPM systems really identical, or even similar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3068640"/>
            <a:ext cx="86508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419200"/>
            <a:ext cx="2158920" cy="1657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2276640"/>
            <a:ext cx="1439640" cy="1079280"/>
          </a:xfrm>
          <a:prstGeom prst="rect">
            <a:avLst/>
          </a:prstGeom>
          <a:solidFill>
            <a:srgbClr val="a3fba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14172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3141720"/>
            <a:ext cx="1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429000"/>
            <a:ext cx="1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429000"/>
            <a:ext cx="14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84360" y="3212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4360" y="1341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242100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860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00000" y="2997000"/>
            <a:ext cx="7164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68360" y="278100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3429000"/>
            <a:ext cx="3585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429000"/>
            <a:ext cx="71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278136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3789360"/>
            <a:ext cx="24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35733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299736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70828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292428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3500280"/>
            <a:ext cx="358920" cy="14472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3716280"/>
            <a:ext cx="358920" cy="144360"/>
          </a:xfrm>
          <a:prstGeom prst="rect">
            <a:avLst/>
          </a:prstGeom>
          <a:solidFill>
            <a:srgbClr val="fca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6000" y="4005360"/>
            <a:ext cx="1439640" cy="11523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7240" y="1989000"/>
            <a:ext cx="813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7600" y="1844640"/>
            <a:ext cx="915120" cy="36828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2880" y="4076640"/>
            <a:ext cx="118188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Orbi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708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342900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27082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7720" y="2840040"/>
            <a:ext cx="925920" cy="52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360" y="2708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2852640"/>
            <a:ext cx="18003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1640" y="2492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321300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3280" y="249228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08880" y="2565360"/>
            <a:ext cx="735480" cy="520200"/>
          </a:xfrm>
          <a:prstGeom prst="rect">
            <a:avLst/>
          </a:prstGeom>
          <a:solidFill>
            <a:srgbClr val="a3f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2492280"/>
            <a:ext cx="0" cy="720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3933720"/>
            <a:ext cx="1800360" cy="1104840"/>
          </a:xfrm>
          <a:custGeom>
            <a:avLst/>
            <a:gdLst/>
            <a:ahLst/>
            <a:rect l="l" t="t" r="r" b="b"/>
            <a:pathLst>
              <a:path w="1088" h="696">
                <a:moveTo>
                  <a:pt x="0" y="0"/>
                </a:moveTo>
                <a:cubicBezTo>
                  <a:pt x="159" y="0"/>
                  <a:pt x="318" y="0"/>
                  <a:pt x="363" y="91"/>
                </a:cubicBezTo>
                <a:cubicBezTo>
                  <a:pt x="408" y="182"/>
                  <a:pt x="234" y="447"/>
                  <a:pt x="272" y="545"/>
                </a:cubicBezTo>
                <a:cubicBezTo>
                  <a:pt x="310" y="643"/>
                  <a:pt x="498" y="696"/>
                  <a:pt x="589" y="681"/>
                </a:cubicBezTo>
                <a:cubicBezTo>
                  <a:pt x="680" y="666"/>
                  <a:pt x="733" y="492"/>
                  <a:pt x="816" y="454"/>
                </a:cubicBezTo>
                <a:cubicBezTo>
                  <a:pt x="899" y="416"/>
                  <a:pt x="993" y="435"/>
                  <a:pt x="1088" y="45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357336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8000" y="3586320"/>
            <a:ext cx="84384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3933720"/>
            <a:ext cx="79200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3645000"/>
            <a:ext cx="0" cy="288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3933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645000"/>
            <a:ext cx="0" cy="2887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716360" y="1557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81760" y="1090440"/>
            <a:ext cx="8694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i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987640" y="184428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73040" y="1197000"/>
            <a:ext cx="7354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, 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8, 2.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1920" y="1844640"/>
            <a:ext cx="637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588000" y="249192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63960" y="1268280"/>
            <a:ext cx="810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7164360" y="1773000"/>
            <a:ext cx="287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95560" y="4581360"/>
            <a:ext cx="612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-E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48360" y="393336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9040" y="4724280"/>
            <a:ext cx="12006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tle’ (C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sty’ fil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365720"/>
            <a:ext cx="4316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19720" y="4114800"/>
            <a:ext cx="11926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on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k vol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484360" y="3860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48360" y="4149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365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48360" y="47973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50133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77440" y="4149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5640" y="4292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74200" y="44355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72400" y="457848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670960" y="472140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669160" y="486396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5013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920" y="2131920"/>
          <a:ext cx="9036000" cy="1584360"/>
        </p:xfrm>
        <a:graphic>
          <a:graphicData uri="http://schemas.openxmlformats.org/drawingml/2006/table">
            <a:tbl>
              <a:tblPr/>
              <a:tblGrid>
                <a:gridCol w="1238040"/>
                <a:gridCol w="849600"/>
                <a:gridCol w="1296720"/>
                <a:gridCol w="1295640"/>
                <a:gridCol w="936360"/>
                <a:gridCol w="1079640"/>
                <a:gridCol w="1368360"/>
                <a:gridCol w="971640"/>
              </a:tblGrid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D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LET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ES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PETRA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LE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e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ly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.46 + 1.82-FP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2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82 + mod. FP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  <a:ea typeface="Arial"/>
                        </a:rPr>
                        <a:t>1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036080" y="4292640"/>
            <a:ext cx="747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bera Users are a ‘diverging’ community 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future versions . . .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1480" y="62064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questionnaire on firmware version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874880"/>
            <a:ext cx="9144000" cy="360"/>
          </a:xfrm>
          <a:prstGeom prst="rect">
            <a:avLst/>
          </a:prstGeom>
          <a:solidFill>
            <a:srgbClr val="8db3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404640"/>
          <a:ext cx="8856720" cy="5904000"/>
        </p:xfrm>
        <a:graphic>
          <a:graphicData uri="http://schemas.openxmlformats.org/drawingml/2006/table">
            <a:tbl>
              <a:tblPr/>
              <a:tblGrid>
                <a:gridCol w="789120"/>
                <a:gridCol w="2666880"/>
                <a:gridCol w="5400720"/>
              </a:tblGrid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ff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Discussions 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specific subject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terfacing to control &amp; computer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ssible detailed beam stud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th the Lib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: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sues surrounding feedback &am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biliza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urther improvements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pgrading to new rele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: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liability &amp; fail-proof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End of first day of tal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nner at 'Le Moderne' restaurant, Greno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16520" y="189000"/>
            <a:ext cx="819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omorrow’s program (9-12am)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our Storage Ring and the 224 Libera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measuring &amp; demonstrating certain features, beam behaviou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9880" y="1371600"/>
            <a:ext cx="89481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 c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ll the machine with 2 extremely different fill patter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.g.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ure single bunc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&amp;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uniform fill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all 992 bunches fi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ok at ADC, DD and SA data,  at both Sum and Position val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witching on-off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our present fast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eedback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cay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/or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amping-up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kick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the beam,  </a:t>
            </a:r>
            <a:r>
              <a:rPr b="1" i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shak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the bea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le changing Libera setting &amp; parame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DSC, gain, offset-tune, switching-delay, trigger-delays, time-phas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e can even intervene on the hardware if requested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lease give you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44280"/>
            <a:ext cx="8640720" cy="1295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6960" y="49320"/>
            <a:ext cx="80553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 can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ill (filling pattern 7/8 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SA data all BPM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fast feedback is ON   : change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fast feedback is OFF   : change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effect of our feedback, also its limitation (due to limited N steer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SA data all BPM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then fix all Liberas to an attenuator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change that attenuator setting (drastical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e the effect on position measurement (look at some good &amp; bad 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o shot-by-shot filling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DD data, sum &amp;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ill 16 bunch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 change the switching delay 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DD data : Spike ampli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ook at SA data : position measurement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04640"/>
            <a:ext cx="8317080" cy="2087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708280"/>
            <a:ext cx="8353440" cy="1584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4437000"/>
            <a:ext cx="8353440" cy="792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373720"/>
            <a:ext cx="8353440" cy="148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09:20:22Z</dcterms:created>
  <dc:creator>Kees SCHEIDT</dc:creator>
  <dc:description/>
  <dc:language>en-US</dc:language>
  <cp:lastModifiedBy>SCHEIDT</cp:lastModifiedBy>
  <dcterms:modified xsi:type="dcterms:W3CDTF">2009-06-23T06:42:43Z</dcterms:modified>
  <cp:revision>16</cp:revision>
  <dc:subject/>
  <dc:title>Slide 1</dc:title>
</cp:coreProperties>
</file>