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1B6-8770-474C-BA8A-2DFD9AB2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D1A-6E18-4B3C-ACC0-AC3FF9E2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A11-20E2-4710-8EA7-AED7EE16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E941-C1B5-4E6B-B99C-BEE5427B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33C-A077-41AC-AAEB-F5B19006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6E5-1052-44B1-BC18-B50D97C1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A8D-72F5-4561-9BAF-13567C3D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2D6-E76B-4735-88E5-29DB3463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ADE-DA06-46BE-90CE-EDA73147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7E47-5376-4743-97FB-DD870E4F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990-D5A1-42C4-BB3B-F57D04F8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209-0BA1-410F-BDB9-9D8C0D92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980B-E6D2-4DA5-B7D5-D806AEF6C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720" y="65160"/>
            <a:ext cx="787680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First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irds’ fl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stitut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ity,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istance [Km]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ccel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Yingbing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9329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SSRF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Shanghai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Om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62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Igor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6227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NSLS-2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Brookhaven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Yuke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62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Frank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 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Gero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 980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PETRA-3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Hamburg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Igor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 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Michael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 893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DLS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Didcot,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Peter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 718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DELTA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Dortmund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Stefano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 630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ELETTRA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Trieste, 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Andrej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 620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Instrumentation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Solkan, Slov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Peter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 620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Angel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 508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ALBA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Barcelona,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Nicolas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 484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SOLEIL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Paris,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____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35525 Km  !!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55840" y="2265480"/>
            <a:ext cx="452520" cy="658800"/>
          </a:xfrm>
          <a:custGeom>
            <a:avLst/>
            <a:gdLst>
              <a:gd name="textAreaLeft" fmla="*/ 0 w 452520"/>
              <a:gd name="textAreaRight" fmla="*/ 163440 w 452520"/>
              <a:gd name="textAreaTop" fmla="*/ 16920 h 658800"/>
              <a:gd name="textAreaBottom" fmla="*/ 641880 h 65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55840" y="1341360"/>
            <a:ext cx="452520" cy="658800"/>
          </a:xfrm>
          <a:custGeom>
            <a:avLst/>
            <a:gdLst>
              <a:gd name="textAreaLeft" fmla="*/ 0 w 452520"/>
              <a:gd name="textAreaRight" fmla="*/ 163440 w 452520"/>
              <a:gd name="textAreaTop" fmla="*/ 16920 h 658800"/>
              <a:gd name="textAreaBottom" fmla="*/ 641880 h 65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09840" y="4559400"/>
            <a:ext cx="452520" cy="363600"/>
          </a:xfrm>
          <a:custGeom>
            <a:avLst/>
            <a:gdLst>
              <a:gd name="textAreaLeft" fmla="*/ 0 w 452520"/>
              <a:gd name="textAreaRight" fmla="*/ 163440 w 452520"/>
              <a:gd name="textAreaTop" fmla="*/ 9360 h 363600"/>
              <a:gd name="textAreaBottom" fmla="*/ 35424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956720" y="1487520"/>
            <a:ext cx="10080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56720" y="549360"/>
            <a:ext cx="1008000" cy="672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962840" y="2403360"/>
            <a:ext cx="1001880" cy="66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956720" y="3340080"/>
            <a:ext cx="1001520" cy="66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950240" y="4276800"/>
            <a:ext cx="1001520" cy="66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943760" y="5211720"/>
            <a:ext cx="100188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79280" y="333360"/>
          <a:ext cx="8785440" cy="6418440"/>
        </p:xfrm>
        <a:graphic>
          <a:graphicData uri="http://schemas.openxmlformats.org/drawingml/2006/table">
            <a:tbl>
              <a:tblPr/>
              <a:tblGrid>
                <a:gridCol w="782640"/>
                <a:gridCol w="2805120"/>
                <a:gridCol w="5197680"/>
              </a:tblGrid>
              <a:tr h="103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ascal Elleaume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[ESRF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elco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2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: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ees Scheidt      [ESRF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hort introduction to the Libera Users’ me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ero Kube         [DESY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xperience of Liberas during PETRA-3 commiss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77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: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ees Scheidt      [ESRF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mmissioning  experience of full ne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PM system for 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: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rancis Epaud   [ESRF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ango based control system for t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R Libera BP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93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urther questions &amp; discussions  . . . . . 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: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ff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05160" y="163440"/>
            <a:ext cx="4530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ibera Users’ meetings (~1.5 days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SOLEIL,   Paris,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Jul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ALBA,      Barcelona,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Apri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ESRF,      Grenoble,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Jun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3720" y="3457440"/>
            <a:ext cx="768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bera Workshops (2-3 days) organized by I-Tech in Sloveni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utum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utum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utum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utum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440" y="4437000"/>
            <a:ext cx="3391920" cy="16786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actical sess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esentations of produc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ser’ presenta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ome 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86160"/>
            <a:ext cx="820908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115920"/>
            <a:ext cx="4680000" cy="57636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4040" y="49320"/>
            <a:ext cx="898056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eeting's main purpose is t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relevant information, experience and knowledge of mutual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actical 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Liberas for Orbit measurement and Orbit stab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rge accelerator 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PM system serves basically 3 goals 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-   providing position data of low latency &amp; high rate (10KHz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very reliable manner, to a system for global orbit stabilization purp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bilizing the User's photon beams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-   providing detailed info on the electron beam characteri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can be extracted from a BPM st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by satisfying the requirements for detail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am dynamics stud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-  providing a relia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l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n excessive beam displa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32840" y="907920"/>
            <a:ext cx="6881760" cy="48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probably the first time in the history of accelerato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jor compon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.e. the BPM syste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s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fferent accelera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now 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ized by 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dentical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the Libera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: the various users of this Libera system shou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to exchange their experience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to think of possible improveme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79360" y="115920"/>
            <a:ext cx="741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are our BPM systems really identical, or even similar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3068640"/>
            <a:ext cx="865080" cy="4316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419200"/>
            <a:ext cx="2158920" cy="1657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6000" y="2276640"/>
            <a:ext cx="1439640" cy="1079280"/>
          </a:xfrm>
          <a:prstGeom prst="rect">
            <a:avLst/>
          </a:prstGeom>
          <a:solidFill>
            <a:srgbClr val="a3fba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14172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3141720"/>
            <a:ext cx="1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3429000"/>
            <a:ext cx="1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42900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84360" y="3212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4360" y="1341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2421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3860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00000" y="2997000"/>
            <a:ext cx="7164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68360" y="278100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42900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3429000"/>
            <a:ext cx="716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2781360"/>
            <a:ext cx="24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3789360"/>
            <a:ext cx="24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35733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29973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70828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292428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0360" y="3500280"/>
            <a:ext cx="358920" cy="14472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371628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6000" y="4005360"/>
            <a:ext cx="1439640" cy="11523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7240" y="1989000"/>
            <a:ext cx="813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27600" y="1844640"/>
            <a:ext cx="915120" cy="368280"/>
          </a:xfrm>
          <a:prstGeom prst="rect">
            <a:avLst/>
          </a:prstGeom>
          <a:solidFill>
            <a:srgbClr val="a3f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82880" y="4076640"/>
            <a:ext cx="1181880" cy="916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Orbi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il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70828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342900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270828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17720" y="2840040"/>
            <a:ext cx="92592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m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270828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2852640"/>
            <a:ext cx="1800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1640" y="249228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321300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23280" y="249228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08880" y="2565360"/>
            <a:ext cx="735480" cy="520200"/>
          </a:xfrm>
          <a:prstGeom prst="rect">
            <a:avLst/>
          </a:prstGeom>
          <a:solidFill>
            <a:srgbClr val="a3f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8360" y="249228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3933720"/>
            <a:ext cx="1800360" cy="1104840"/>
          </a:xfrm>
          <a:custGeom>
            <a:avLst/>
            <a:gdLst/>
            <a:ahLst/>
            <a:rect l="l" t="t" r="r" b="b"/>
            <a:pathLst>
              <a:path w="1088" h="696">
                <a:moveTo>
                  <a:pt x="0" y="0"/>
                </a:moveTo>
                <a:cubicBezTo>
                  <a:pt x="159" y="0"/>
                  <a:pt x="318" y="0"/>
                  <a:pt x="363" y="91"/>
                </a:cubicBezTo>
                <a:cubicBezTo>
                  <a:pt x="408" y="182"/>
                  <a:pt x="234" y="447"/>
                  <a:pt x="272" y="545"/>
                </a:cubicBezTo>
                <a:cubicBezTo>
                  <a:pt x="310" y="643"/>
                  <a:pt x="498" y="696"/>
                  <a:pt x="589" y="681"/>
                </a:cubicBezTo>
                <a:cubicBezTo>
                  <a:pt x="680" y="666"/>
                  <a:pt x="733" y="492"/>
                  <a:pt x="816" y="454"/>
                </a:cubicBezTo>
                <a:cubicBezTo>
                  <a:pt x="899" y="416"/>
                  <a:pt x="993" y="435"/>
                  <a:pt x="1088" y="45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357336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8000" y="3586320"/>
            <a:ext cx="84384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393372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2720" y="3645000"/>
            <a:ext cx="0" cy="288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35640" y="39337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3645000"/>
            <a:ext cx="0" cy="288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716360" y="1557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81760" y="1090440"/>
            <a:ext cx="8694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i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987640" y="184428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73040" y="1197000"/>
            <a:ext cx="7354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4, 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8, 2.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1920" y="1844640"/>
            <a:ext cx="6379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588000" y="249192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63960" y="1268280"/>
            <a:ext cx="8100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7164360" y="1773000"/>
            <a:ext cx="28728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95560" y="4581360"/>
            <a:ext cx="612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-E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148360" y="3933360"/>
            <a:ext cx="7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9040" y="4724280"/>
            <a:ext cx="12006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’ (C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sty’ fil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4365720"/>
            <a:ext cx="4316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19720" y="4114800"/>
            <a:ext cx="11926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ectio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k vol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84360" y="3860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48360" y="414972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48360" y="436572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48360" y="479736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501336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677440" y="41497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675640" y="4292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674200" y="44355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72400" y="45784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70960" y="47214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669160" y="486396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75640" y="501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4920" y="2131920"/>
          <a:ext cx="9036000" cy="1584360"/>
        </p:xfrm>
        <a:graphic>
          <a:graphicData uri="http://schemas.openxmlformats.org/drawingml/2006/table">
            <a:tbl>
              <a:tblPr/>
              <a:tblGrid>
                <a:gridCol w="1238040"/>
                <a:gridCol w="849600"/>
                <a:gridCol w="1296720"/>
                <a:gridCol w="1295640"/>
                <a:gridCol w="936360"/>
                <a:gridCol w="1079640"/>
                <a:gridCol w="1368360"/>
                <a:gridCol w="971640"/>
              </a:tblGrid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L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D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LET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ES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PETRA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OLE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DE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ea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ly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.46 + 1.82-FP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82 + mod. FP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1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036080" y="4292640"/>
            <a:ext cx="74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bera Users are a ‘diverging’ community  .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bout future versions . . .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1480" y="620640"/>
            <a:ext cx="63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questionnaire on firmware vers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74880"/>
            <a:ext cx="9144000" cy="360"/>
          </a:xfrm>
          <a:prstGeom prst="rect">
            <a:avLst/>
          </a:prstGeom>
          <a:solidFill>
            <a:srgbClr val="8db3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9280" y="404640"/>
          <a:ext cx="8856720" cy="5904000"/>
        </p:xfrm>
        <a:graphic>
          <a:graphicData uri="http://schemas.openxmlformats.org/drawingml/2006/table">
            <a:tbl>
              <a:tblPr/>
              <a:tblGrid>
                <a:gridCol w="789120"/>
                <a:gridCol w="2666880"/>
                <a:gridCol w="5400720"/>
              </a:tblGrid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: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ff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Discussions 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specific subjects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nterfacing to control &amp; computer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: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ssible detailed beam stud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ith the Libe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: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sues surrounding feedback &am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biliza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urther improvements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pgrading to new rele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: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eliability &amp; fail-proof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End of first day of tal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nner at 'Le Moderne' restaurant, Greno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16520" y="189000"/>
            <a:ext cx="819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omorrow’s program (9-12am) of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our Storage Ring and the 224 Libera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measuring &amp; demonstrating certain features, beam behaviou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9880" y="1371600"/>
            <a:ext cx="89481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e c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ll the machine with 2 extremely different fill patter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.g.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ure single bunch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&amp;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uniform fill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all 992 bunches fi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ok at ADC, DD and SA data,  at both Sum and Position val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l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witching on-off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our present fast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feedback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l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ecay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/or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ramping-up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le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kick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the beam,  </a:t>
            </a:r>
            <a:r>
              <a:rPr b="1" i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shak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the bea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le changing Libera setting &amp; parame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DSC, gain, offset-tune, switching-delay, trigger-delays, time-phase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e can even intervene on the hardware if requested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lease give your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2360" y="44280"/>
            <a:ext cx="8640720" cy="12956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6960" y="49320"/>
            <a:ext cx="805536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 can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ill (filling pattern 7/8 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ook at SA data all BPM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fast feedback is ON   : change 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fast feedback is OFF   : change 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e effect of our feedback, also its limitation (due to limited N steer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ook at SA data all BPM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then fix all Liberas to an attenuator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change that attenuator setting (drastical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e the effect on position measurement (look at some good &amp; bad 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o shot-by-shot filling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ook at DD data, sum &amp; 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ill 16 bunch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change the switching delay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ook at DD data : Spike amplitu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ook at SA data : position measurement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404640"/>
            <a:ext cx="8317080" cy="2087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708280"/>
            <a:ext cx="8353440" cy="1584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4437000"/>
            <a:ext cx="8353440" cy="792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5373720"/>
            <a:ext cx="8353440" cy="148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9:20:22Z</dcterms:created>
  <dc:creator>Kees SCHEIDT</dc:creator>
  <dc:description/>
  <dc:language>en-US</dc:language>
  <cp:lastModifiedBy>SCHEIDT</cp:lastModifiedBy>
  <dcterms:modified xsi:type="dcterms:W3CDTF">2009-06-23T06:42:43Z</dcterms:modified>
  <cp:revision>16</cp:revision>
  <dc:subject/>
  <dc:title>Slide 1</dc:title>
</cp:coreProperties>
</file>