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9.wmf" ContentType="image/x-wmf"/>
  <Override PartName="/ppt/media/image6.jpeg" ContentType="image/jpeg"/>
  <Override PartName="/ppt/media/image8.png" ContentType="image/png"/>
  <Override PartName="/ppt/media/image7.jpeg" ContentType="image/jpeg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6460-2E8C-4675-9ABA-B5DDCB2BB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63280" y="189000"/>
            <a:ext cx="69231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7C68-7F4F-435F-905D-196A3385F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63280" y="189000"/>
            <a:ext cx="69231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957D-32C0-4900-8276-87C5C05F2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63280" y="189000"/>
            <a:ext cx="69231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2900-10A5-43AC-BFEC-DFABD7C0B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63280" y="189000"/>
            <a:ext cx="69231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8F99-DEA8-4738-A160-C3C70B79E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63280" y="189000"/>
            <a:ext cx="69231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1716-B2DB-4ACB-8084-CCCBF2457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63280" y="189000"/>
            <a:ext cx="69231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0B17-C4B8-40E8-A8C2-6F35B19BA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63280" y="189000"/>
            <a:ext cx="69231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2572-8D04-4D3F-8E34-5356B8A7F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63280" y="189000"/>
            <a:ext cx="69231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BD8A-3881-4B9F-904F-6543F1B81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63280" y="189000"/>
            <a:ext cx="69231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7907-F5D5-49B0-9C2B-9C80BFEB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63280" y="189000"/>
            <a:ext cx="69231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240B-E168-4ECD-B9AF-1BE5793CE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63280" y="189000"/>
            <a:ext cx="69231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3591-F2C9-4FC5-BE9C-2BB1D6CE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63280" y="189000"/>
            <a:ext cx="69231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22-23/06/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33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33cc"/>
                </a:solidFill>
                <a:latin typeface="Arial"/>
              </a:rPr>
              <a:t>3</a:t>
            </a:r>
            <a:r>
              <a:rPr b="0" lang="fr-FR" sz="1400" spc="-1" strike="noStrike" baseline="30000">
                <a:solidFill>
                  <a:srgbClr val="3333cc"/>
                </a:solidFill>
                <a:latin typeface="Arial"/>
              </a:rPr>
              <a:t>rd</a:t>
            </a:r>
            <a:r>
              <a:rPr b="0" lang="fr-FR" sz="1400" spc="-1" strike="noStrike">
                <a:solidFill>
                  <a:srgbClr val="3333cc"/>
                </a:solidFill>
                <a:latin typeface="Arial"/>
              </a:rPr>
              <a:t> Libera Users’ Meeting, ESR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5651E-4AA9-490D-B7E0-27CEEA9DCB85}" type="slidenum">
              <a:rPr b="0" lang="en-US" sz="1400" spc="-1" strike="noStrike">
                <a:solidFill>
                  <a:srgbClr val="33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1295280" cy="612720"/>
          </a:xfrm>
          <a:prstGeom prst="rect">
            <a:avLst/>
          </a:prstGeom>
          <a:ln w="0">
            <a:noFill/>
          </a:ln>
        </p:spPr>
      </p:pic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3 years of experience of Libera BPMs at SOLEIL</a:t>
            </a:r>
            <a:endParaRPr b="0" lang="en-US" sz="4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4581000"/>
            <a:ext cx="6400800" cy="10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icolas HUBERT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nchrotron SOLEIL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behalf of Diagnostics group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LTA, Dortmu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0910-D2F4-43A6-9FDB-D2D89576F56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6/09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63280" y="189000"/>
            <a:ext cx="69231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Libera Statu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4920" y="1197000"/>
            <a:ext cx="82090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1 units of Libera Electro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ivered in 2005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operation for 3 year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ion: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age r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0 +1 units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o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 units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L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units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L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unit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ares and tes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 units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ease 1.82 installed with modified FPGA design for FOFB applicatio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LTA, Dortmu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EB04-1626-4368-8D4D-6EB8ED5F845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6/09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47280" y="189000"/>
            <a:ext cx="748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Configuration for User Operation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4920" y="907920"/>
            <a:ext cx="73436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tivated Data sources: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 =&gt; To monitor and correct the orbit (slow orbit feedback)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 =&gt; To correct the orbit (fast orbit feedback) and monitor noise spectrum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T (standard filter)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lock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rtical plane: 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 lvl="2" marL="971280" indent="-1940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6 BPMs involved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 lvl="2" marL="971280" indent="-1940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 fr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±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3 mm (IR mirrors) up t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±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1mm (bending magnets)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rizontal plane: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 lvl="2" marL="971280" indent="-1940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BPMs involved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 lvl="2" marL="971280" indent="-1940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 a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±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8 mm (IDs) 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in dependant (Inhibited if gain &lt; -40 dBm) 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Gain Control always activated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t-Mortem on all BPMs (16 ksamples)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iggered by the Machine Interlock Signal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uning of ~9 kHz of sampling frequency (offset tune = 220)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rnal source for switching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LTA, Dortmu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951A-A9F7-4B93-B953-75FE17597DB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6/09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63280" y="189000"/>
            <a:ext cx="69231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SOLEIL Releases Policy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793116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ease 1.82 should fit SOLEIL Requirements: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iculties with MAF have to be understood and solved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am Current Dependence Tables (Libera Electron) have to be tested and filled.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3139920"/>
            <a:ext cx="8208720" cy="22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 amount of work for each upgr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grade process can be very long if Linux system is updated ( 1.46 to 1.60 and 1.82 to 2.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ion and testing of FOFB application in the new FPGA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ing of all functionalitie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LTA, Dortmu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BAE5-DB7E-497D-BDD7-E7A0020D918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6/09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63280" y="189000"/>
            <a:ext cx="69231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SOLEIL Releases Policy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1123920"/>
            <a:ext cx="82072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SOLEIL upgrade to 1.82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After 2 days of operation, systematic beam losses when trying to increase the current of stored bea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5156280"/>
            <a:ext cx="8136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new release, improvements have to be compared to the upgrade time, testing time and remaining bug ris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moment SOLEIL has decided to stay with release 1.8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4360" y="1916280"/>
            <a:ext cx="7095960" cy="31003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 flipH="1">
            <a:off x="1260000" y="3936960"/>
            <a:ext cx="289080" cy="927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9080" y="3503520"/>
            <a:ext cx="863640" cy="289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RESTAR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213080" y="3071880"/>
            <a:ext cx="21600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76720" y="2254320"/>
            <a:ext cx="1684080" cy="7459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Systematic beam losses when stored beam reaches ~50 m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141800" y="4513320"/>
            <a:ext cx="488880" cy="326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5280" y="5229360"/>
            <a:ext cx="784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lvl="1" marL="363960" indent="-14004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Level of Sum value had changed from release 1.62 to 1.8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63960" indent="-14004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Threshold for DSC coefficients computation not modified according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559800" indent="-11196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► 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Wrong DSC coefficients applied creating orbit jumps and interloc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559800" indent="-11196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► 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Several hours of beam time have been l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LTA, Dortmun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8151-F205-457E-A595-A8FF32BA7F2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6/09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63280" y="189000"/>
            <a:ext cx="69231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Moving Average Filter with Libera Electron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Turn By Turn Filter designed by K. Scheidt (ESRF) and implemented in Libera package from release 1.82.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more smearing between turns: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24000" y="3933720"/>
          <a:ext cx="4038480" cy="154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3933720"/>
                    <a:ext cx="4038480" cy="15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4781520" y="3933720"/>
          <a:ext cx="4038480" cy="1568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1520" y="3933720"/>
                    <a:ext cx="4038480" cy="15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1387080" y="5537160"/>
            <a:ext cx="167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tandard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783040" y="5445000"/>
            <a:ext cx="12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F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LTA, Dortmu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CCFE-49F6-46E8-B74A-85C902BD0B9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6/09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63280" y="189000"/>
            <a:ext cx="69231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Moving Average Filter with Libera Electron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8360" y="1341360"/>
            <a:ext cx="4186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 marL="20556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-Scanning of the Filter synchroniz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5725080" y="1413000"/>
            <a:ext cx="2734560" cy="939600"/>
            <a:chOff x="5725080" y="1413000"/>
            <a:chExt cx="2734560" cy="939600"/>
          </a:xfrm>
        </p:grpSpPr>
        <p:sp>
          <p:nvSpPr>
            <p:cNvPr id="73" name=""/>
            <p:cNvSpPr/>
            <p:nvPr/>
          </p:nvSpPr>
          <p:spPr>
            <a:xfrm>
              <a:off x="6903720" y="1755360"/>
              <a:ext cx="5007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404840" y="1413000"/>
              <a:ext cx="5011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904520" y="1755360"/>
              <a:ext cx="5011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404840" y="1413000"/>
              <a:ext cx="0" cy="342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904520" y="1413000"/>
              <a:ext cx="0" cy="342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48640" y="2250360"/>
              <a:ext cx="222840" cy="0"/>
            </a:xfrm>
            <a:prstGeom prst="line">
              <a:avLst/>
            </a:prstGeom>
            <a:ln w="7632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071480" y="1908000"/>
              <a:ext cx="500760" cy="0"/>
            </a:xfrm>
            <a:prstGeom prst="line">
              <a:avLst/>
            </a:prstGeom>
            <a:ln w="7632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571520" y="2250360"/>
              <a:ext cx="833040" cy="0"/>
            </a:xfrm>
            <a:prstGeom prst="line">
              <a:avLst/>
            </a:prstGeom>
            <a:ln w="7632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071480" y="1908000"/>
              <a:ext cx="0" cy="34236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571520" y="1908000"/>
              <a:ext cx="0" cy="34236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25080" y="1452240"/>
              <a:ext cx="152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EAM (33%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82320" y="1984320"/>
              <a:ext cx="80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ff"/>
                  </a:solidFill>
                  <a:latin typeface="Arial"/>
                </a:rPr>
                <a:t>Filte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848640" y="2059920"/>
              <a:ext cx="161100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848640" y="2022120"/>
              <a:ext cx="111600" cy="76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144360" y="2421000"/>
            <a:ext cx="8820360" cy="2160360"/>
            <a:chOff x="144360" y="2421000"/>
            <a:chExt cx="8820360" cy="216036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44360" y="2421000"/>
              <a:ext cx="4859280" cy="21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2"/>
            <a:srcRect l="5227" t="10668" r="3815" b="4558"/>
            <a:stretch/>
          </p:blipFill>
          <p:spPr>
            <a:xfrm>
              <a:off x="4859280" y="2480760"/>
              <a:ext cx="4105440" cy="19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495960" y="2604600"/>
              <a:ext cx="1104120" cy="368280"/>
            </a:xfrm>
            <a:prstGeom prst="rect">
              <a:avLst/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cc0000"/>
                  </a:solidFill>
                  <a:latin typeface="Arial"/>
                </a:rPr>
                <a:t>Brillia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56000" y="2665800"/>
              <a:ext cx="0" cy="160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771640" y="3098880"/>
              <a:ext cx="8636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/N=9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48360" y="2728440"/>
              <a:ext cx="0" cy="141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784280" y="2543400"/>
              <a:ext cx="1017360" cy="368280"/>
            </a:xfrm>
            <a:prstGeom prst="rect">
              <a:avLst/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cc0000"/>
                  </a:solidFill>
                  <a:latin typeface="Arial"/>
                </a:rPr>
                <a:t>Electr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020000" y="3345120"/>
              <a:ext cx="8636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/N=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179280" y="4653000"/>
            <a:ext cx="867564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al over noise ratio is very low for Libera Electr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routine to scan and find the appropriate MAF delay is not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F Delay is defined roughly with automatic routine and then adjusted manually for each BPM….Time consuming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55640" y="4365720"/>
            <a:ext cx="23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808080"/>
                </a:solidFill>
                <a:latin typeface="Arial"/>
              </a:rPr>
              <a:t>Courtesy K. Scheid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LTA, Dortmun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850B-63C4-47B1-B5D0-AE1783A1F1A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6/09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63280" y="189000"/>
            <a:ext cx="69231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Moving Average Filter with Libera Electron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28720" y="3429000"/>
            <a:ext cx="7128000" cy="24336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566720" y="5805360"/>
            <a:ext cx="573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rn by Turn acquisition after MAF Length optim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rcRect l="0" t="20049" r="50524" b="10811"/>
          <a:stretch/>
        </p:blipFill>
        <p:spPr>
          <a:xfrm>
            <a:off x="3780000" y="1413000"/>
            <a:ext cx="4608360" cy="19429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159240" y="2205000"/>
            <a:ext cx="1829520" cy="36828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Turn de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334520" y="1628640"/>
            <a:ext cx="16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77800" y="263700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F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3132000" y="1700280"/>
            <a:ext cx="86364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916360" y="2781360"/>
            <a:ext cx="934920" cy="14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LTA, Dortmun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48EA-B836-42C3-8220-A5869C335FB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6/09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63280" y="189000"/>
            <a:ext cx="69231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Hardware Failures History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4920" y="1052640"/>
            <a:ext cx="84358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 Libera have presented failure: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79280" y="1628640"/>
          <a:ext cx="3500640" cy="21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628640"/>
                    <a:ext cx="3500640" cy="21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3527280" y="1700280"/>
          <a:ext cx="6013440" cy="2435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27280" y="1700280"/>
                    <a:ext cx="6013440" cy="24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468360" y="4292640"/>
            <a:ext cx="784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era are turned ON 365/24 since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 Libera are becoming noisy (fans wea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Do we have an idea of their lifetim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Have to foresee a fan replacement campaign at the first signs of failu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LTA, Dortmu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86FB-0F61-4EAA-BCDF-852521BF86A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6/09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5T08:41:40Z</dcterms:created>
  <dc:creator>hubert</dc:creator>
  <dc:description/>
  <dc:language>en-US</dc:language>
  <cp:lastModifiedBy>Diag</cp:lastModifiedBy>
  <dcterms:modified xsi:type="dcterms:W3CDTF">2009-06-21T16:29:37Z</dcterms:modified>
  <cp:revision>82</cp:revision>
  <dc:subject/>
  <dc:title>SOLEIL Fast Orbit Feedback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71316465</vt:r8>
  </property>
  <property fmtid="{D5CDD505-2E9C-101B-9397-08002B2CF9AE}" pid="3" name="_AuthorEmail">
    <vt:lpwstr>nicolas.hubert@synchrotron-soleil.fr</vt:lpwstr>
  </property>
  <property fmtid="{D5CDD505-2E9C-101B-9397-08002B2CF9AE}" pid="4" name="_AuthorEmailDisplayName">
    <vt:lpwstr>HUBERT Nicolas</vt:lpwstr>
  </property>
  <property fmtid="{D5CDD505-2E9C-101B-9397-08002B2CF9AE}" pid="5" name="_EmailSubject">
    <vt:lpwstr>Présentations Libera users meeting</vt:lpwstr>
  </property>
  <property fmtid="{D5CDD505-2E9C-101B-9397-08002B2CF9AE}" pid="6" name="_PreviousAdHocReviewCycleID">
    <vt:r8>-1864614181</vt:r8>
  </property>
  <property fmtid="{D5CDD505-2E9C-101B-9397-08002B2CF9AE}" pid="7" name="_ReviewingToolsShownOnce">
    <vt:lpwstr/>
  </property>
</Properties>
</file>