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5DF-D18F-4874-9353-D9112ACD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23D-6C32-4297-9FD0-0781A444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78A-4EE0-4ADF-9B37-F532B424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94D-E3CB-4791-A297-270D15B1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44C-F3B9-4A08-91AD-80023141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0EF-A4F7-4C15-A49F-0F2389E3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2F5-8B62-4CAE-9A89-9B554D74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7343-D5C0-48DB-9211-1400658C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63280" y="189000"/>
            <a:ext cx="69231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A67-46F5-4CE0-9B0A-5C8E0E9E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C5F-BE0B-436E-8A80-B149E78E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838-0CF1-43E8-894B-61ED4C69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7316-BB92-4603-9A17-5137028A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22-23/06/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0" lang="fr-FR" sz="1400" spc="-1" strike="noStrike" baseline="30000">
                <a:solidFill>
                  <a:srgbClr val="3333cc"/>
                </a:solidFill>
                <a:latin typeface="Arial"/>
              </a:rPr>
              <a:t>rd</a:t>
            </a: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 Libera Users’ Meeting, ES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7E00-5F9A-43D5-A5AF-4A1A7F2D3304}" type="slidenum">
              <a:rPr b="0" lang="en-US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295280" cy="61272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3 years of experience of Libera BPMs at SOLEIL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458100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colas HUBERT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rotron SOLEIL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behalf of Diagnostics group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TA, Dortm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67E-1E58-495F-A6A1-378064B6578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09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Libera Statu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1 units of Libera Electr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ed in 2005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peration for 3 yea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: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 +1 uni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 uni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uni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uni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res and tes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uni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1.82 installed with modified FPGA design for FOFB applic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TA, Dortm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A1F-571B-4B42-929C-5F1ED26E3B3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09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748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onfiguration for User Opera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7343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ated Data sources: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 =&gt; To monitor and correct the orbit (slow orbit feedback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 =&gt; To correct the orbit (fast orbit feedback) and monitor noise spectrum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T (standard filter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lock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tical plane: 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BPMs involved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 mm (IR mirrors) up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mm (bending magnets)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rizontal plane: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PMs involved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 a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8 mm (IDs) </a:t>
            </a: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in dependant (Inhibited if gain &lt; -40 dBm) 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Gain Control always activated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-Mortem on all BPMs (16 ksamples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ggered by the Machine Interlock Signal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uning of ~9 kHz of sampling frequency (offset tune = 220)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source for switching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TA, Dortm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76AF-827F-4C4C-87D0-467B919412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09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EIL Releases Policy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79311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1.82 should fit SOLEIL Requirements: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ies with MAF have to be understood and solve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 Current Dependence Tables (Libera Electron) have to be tested and filled.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3139920"/>
            <a:ext cx="820872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amount of work for each up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grade process can be very long if Linux system is updated ( 1.46 to 1.60 and 1.82 to 2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and testing of FOFB application in the new FPGA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of all functionaliti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TA, Dortm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19B-4A17-4C52-98AF-6D3B495738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09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EIL Releases Policy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123920"/>
            <a:ext cx="820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OLEIL upgrade to 1.8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fter 2 days of operation, systematic beam losses when trying to increase the current of stored bea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156280"/>
            <a:ext cx="81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ew release, improvements have to be compared to the upgrade time, testing time and remaining bug ri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moment SOLEIL has decided to stay with release 1.8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095960" cy="3100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H="1">
            <a:off x="1260000" y="3936960"/>
            <a:ext cx="289080" cy="9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9080" y="3503520"/>
            <a:ext cx="863640" cy="289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REST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3080" y="3071880"/>
            <a:ext cx="21600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2254320"/>
            <a:ext cx="1684080" cy="7459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Systematic beam losses when stored beam reaches ~50 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41800" y="4513320"/>
            <a:ext cx="488880" cy="32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5229360"/>
            <a:ext cx="784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lvl="1" marL="363960" indent="-1400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Level of Sum value had changed from release 1.62 to 1.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63960" indent="-1400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Threshold for DSC coefficients computation not modified according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559800" indent="-1119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►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Wrong DSC coefficients applied creating orbit jumps and interl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59800" indent="-1119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►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Several hours of beam time have been l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TA, Dortmu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2A4-CA4F-452D-889F-D28F1B3489B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09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oving Average Filter with Libera Electr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Turn By Turn Filter designed by K. Scheidt (ESRF) and implemented in Libera package from release 1.82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smearing between turns: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933720"/>
          <a:ext cx="4038480" cy="15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933720"/>
                    <a:ext cx="403848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81520" y="3933720"/>
          <a:ext cx="4038480" cy="15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1520" y="3933720"/>
                    <a:ext cx="403848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387080" y="553716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andard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83040" y="544500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F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TA, Dortm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DFDA-64BE-4588-AE02-7E3389E0A2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09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oving Average Filter with Libera Electr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341360"/>
            <a:ext cx="4186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-Scanning of the Filter synchron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725080" y="1413000"/>
            <a:ext cx="2734560" cy="939600"/>
            <a:chOff x="5725080" y="1413000"/>
            <a:chExt cx="2734560" cy="939600"/>
          </a:xfrm>
        </p:grpSpPr>
        <p:sp>
          <p:nvSpPr>
            <p:cNvPr id="73" name=""/>
            <p:cNvSpPr/>
            <p:nvPr/>
          </p:nvSpPr>
          <p:spPr>
            <a:xfrm>
              <a:off x="6903720" y="1755360"/>
              <a:ext cx="500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04840" y="1413000"/>
              <a:ext cx="501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04520" y="1755360"/>
              <a:ext cx="501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04840" y="1413000"/>
              <a:ext cx="0" cy="34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4520" y="1413000"/>
              <a:ext cx="0" cy="34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8640" y="2250360"/>
              <a:ext cx="222840" cy="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71480" y="1908000"/>
              <a:ext cx="500760" cy="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571520" y="2250360"/>
              <a:ext cx="833040" cy="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71480" y="1908000"/>
              <a:ext cx="0" cy="34236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71520" y="1908000"/>
              <a:ext cx="0" cy="34236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25080" y="1452240"/>
              <a:ext cx="152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AM (33%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82320" y="198432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Filt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48640" y="2059920"/>
              <a:ext cx="161100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48640" y="2022120"/>
              <a:ext cx="111600" cy="76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44360" y="2421000"/>
            <a:ext cx="8820360" cy="2160360"/>
            <a:chOff x="144360" y="2421000"/>
            <a:chExt cx="8820360" cy="21603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44360" y="2421000"/>
              <a:ext cx="485928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rcRect l="5227" t="10668" r="3815" b="4558"/>
            <a:stretch/>
          </p:blipFill>
          <p:spPr>
            <a:xfrm>
              <a:off x="4859280" y="2480760"/>
              <a:ext cx="4105440" cy="19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495960" y="2604600"/>
              <a:ext cx="1104120" cy="36828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c0000"/>
                  </a:solidFill>
                  <a:latin typeface="Arial"/>
                </a:rPr>
                <a:t>Brilli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56000" y="2665800"/>
              <a:ext cx="0" cy="160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71640" y="3098880"/>
              <a:ext cx="8636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/N=9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48360" y="2728440"/>
              <a:ext cx="0" cy="141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84280" y="2543400"/>
              <a:ext cx="1017360" cy="36828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c0000"/>
                  </a:solidFill>
                  <a:latin typeface="Arial"/>
                </a:rPr>
                <a:t>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20000" y="3345120"/>
              <a:ext cx="8636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/N=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79280" y="4653000"/>
            <a:ext cx="8675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 over noise ratio is very low for Libera Electr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outine to scan and find the appropriate MAF delay is not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F Delay is defined roughly with automatic routine and then adjusted manually for each BPM….Time consuming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436572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808080"/>
                </a:solidFill>
                <a:latin typeface="Arial"/>
              </a:rPr>
              <a:t>Courtesy K. Schei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TA, Dortmu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201-A06D-409C-8E8B-B7166187D74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09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oving Average Filter with Libera Electr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8720" y="3429000"/>
            <a:ext cx="7128000" cy="2433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66720" y="5805360"/>
            <a:ext cx="57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by Turn acquisition after MAF Length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0" t="20049" r="50524" b="10811"/>
          <a:stretch/>
        </p:blipFill>
        <p:spPr>
          <a:xfrm>
            <a:off x="3780000" y="1413000"/>
            <a:ext cx="4608360" cy="1942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59240" y="2205000"/>
            <a:ext cx="182952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urn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4520" y="162864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7800" y="263700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F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132000" y="1700280"/>
            <a:ext cx="8636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2781360"/>
            <a:ext cx="93492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TA, Dortmun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8890-1931-40C4-AFB8-5DED66BFF95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09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6923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Hardware Failures History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435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Libera have presented failure: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9280" y="1628640"/>
          <a:ext cx="3500640" cy="21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350064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527280" y="1700280"/>
          <a:ext cx="6013440" cy="24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7280" y="1700280"/>
                    <a:ext cx="6013440" cy="24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68360" y="429264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 are turned ON 365/24 since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Libera are becoming noisy (fans w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Do we have an idea of their lifeti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Have to foresee a fan replacement campaign at the first signs of fail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ELTA, Dortm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24A-3200-4A14-A820-84ECE7A7E49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09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08:41:40Z</dcterms:created>
  <dc:creator>hubert</dc:creator>
  <dc:description/>
  <dc:language>en-US</dc:language>
  <cp:lastModifiedBy>Diag</cp:lastModifiedBy>
  <dcterms:modified xsi:type="dcterms:W3CDTF">2009-06-21T16:29:37Z</dcterms:modified>
  <cp:revision>82</cp:revision>
  <dc:subject/>
  <dc:title>SOLEIL Fast Orbit Feedback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71316465</vt:r8>
  </property>
  <property fmtid="{D5CDD505-2E9C-101B-9397-08002B2CF9AE}" pid="3" name="_AuthorEmail">
    <vt:lpwstr>nicolas.hubert@synchrotron-soleil.fr</vt:lpwstr>
  </property>
  <property fmtid="{D5CDD505-2E9C-101B-9397-08002B2CF9AE}" pid="4" name="_AuthorEmailDisplayName">
    <vt:lpwstr>HUBERT Nicolas</vt:lpwstr>
  </property>
  <property fmtid="{D5CDD505-2E9C-101B-9397-08002B2CF9AE}" pid="5" name="_EmailSubject">
    <vt:lpwstr>Présentations Libera users meeting</vt:lpwstr>
  </property>
  <property fmtid="{D5CDD505-2E9C-101B-9397-08002B2CF9AE}" pid="6" name="_PreviousAdHocReviewCycleID">
    <vt:r8>-1864614181</vt:r8>
  </property>
  <property fmtid="{D5CDD505-2E9C-101B-9397-08002B2CF9AE}" pid="7" name="_ReviewingToolsShownOnce">
    <vt:lpwstr/>
  </property>
</Properties>
</file>