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7F8B-0659-43D4-91BE-A2ADE943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8045-AF9C-4FB8-A451-26C55A74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4976-8115-4A04-ADE1-B76DEC71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4CA1-5F53-4B8A-BFD3-A078CE85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4B7B-E1D4-4A67-9FF4-B8868503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50920" y="884160"/>
            <a:ext cx="86421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5172-70C2-4FA2-8EDA-A2FB4D4A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C90D-CB95-4387-9751-6400F2DB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41E3-1B83-4F11-AE55-4D19B2ED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7271-42F7-4BAA-BED0-B02A2541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1B24-A664-45ED-9085-983D1A85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35CD-0A09-421E-9D4C-172DBFA4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6BA5-66DD-4105-9D06-422EE863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A4C7-5624-457B-BE81-1F6AC33D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54C8-18BE-4061-93F6-FD94B375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8151-37FC-4A43-A8DD-EBA8D3BD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4D6B-496B-468E-A507-D73D4CD4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0229-7E13-4160-B8B1-F7B51D93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50920" y="884160"/>
            <a:ext cx="86421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DEA2-69C2-4A41-B566-198E00AA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4593-C48F-44D6-AC3E-C1D4277F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2E74-361E-489A-92FE-22CA1605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C8F2-2381-4AAD-8586-7E1B20F6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F58F-4A7C-4FB9-8E79-832B90B7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B8D7-02E3-4749-91E8-22BB42E0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D15B-5877-4AFB-8A9C-38CDE1B8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AEF43-D68F-4FC0-9605-39F71DC0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4DCC8-6DB2-4963-A2B4-18681F49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46730-28B2-4513-B738-37D23FCC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BB672-5C40-4E09-A12D-1FA0D1D0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14719-2470-44F7-A47B-32B71D3A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250920" y="884160"/>
            <a:ext cx="86421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2E44D-93AB-436A-8A01-0CC5A8AB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5AA76-B3BC-4646-8791-8C044AEF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1F158-98EF-44EE-92F6-6EE92E56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DD44E-D640-4340-BF86-D6D6F4BA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5C4EE-352F-452A-A4CE-1988458E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4F8D7-C69E-44C6-ADA8-0C61E65D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C1464-7E29-476B-AA53-7F6E49D7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4ACDB-7863-4B3D-9635-DC571FBA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51E27-19EE-4DEC-873B-1C7751C7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69A91-53DF-4C36-A529-27A4EDB1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56D47-D964-455E-AF84-B34E4D65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FE5BA-9FD6-4A38-A52A-DC77E224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50920" y="884160"/>
            <a:ext cx="86421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FA5A8-A11D-43F5-84A0-B2D696B2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1C93C-FFB5-4A7A-B3E5-124A63DA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7EFFD-5022-416B-881F-CE2E7B02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0AB92-D55F-440C-ADE1-331981DB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B6E62-7C49-4A48-9CB7-8DC7ED89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05878-AE6B-4F33-9CE0-299D011F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50920" y="884160"/>
            <a:ext cx="86421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A2092-F00A-4AFC-BD41-78731EB6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8299440" y="6627960"/>
            <a:ext cx="213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Console"/>
              </a:rPr>
              <a:t>Slide: </a:t>
            </a:r>
            <a:fld id="{85A1631F-16AC-4C2F-BAFD-5BE6664FDD7A}" type="slidenum">
              <a:rPr b="0" lang="en-US" sz="800" spc="-1" strike="noStrike">
                <a:solidFill>
                  <a:srgbClr val="ffffff"/>
                </a:solidFill>
                <a:latin typeface="Lucida Console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2306520" y="6575400"/>
            <a:ext cx="48564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2ebfe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e2ebfe"/>
                </a:solidFill>
                <a:latin typeface="Arial"/>
              </a:rPr>
              <a:t>3</a:t>
            </a:r>
            <a:r>
              <a:rPr b="1" lang="en-US" sz="1400" spc="-1" strike="noStrike" baseline="30000">
                <a:solidFill>
                  <a:srgbClr val="e2ebfe"/>
                </a:solidFill>
                <a:latin typeface="Arial"/>
              </a:rPr>
              <a:t>rd</a:t>
            </a:r>
            <a:r>
              <a:rPr b="1" lang="en-US" sz="1400" spc="-1" strike="noStrike">
                <a:solidFill>
                  <a:srgbClr val="e2ebfe"/>
                </a:solidFill>
                <a:latin typeface="Arial"/>
              </a:rPr>
              <a:t>  Libera User Meeting  -  ESRF  June 22-23</a:t>
            </a:r>
            <a:r>
              <a:rPr b="1" sz="1400" spc="-1" strike="noStrike">
                <a:solidFill>
                  <a:srgbClr val="e2ebfe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CCB7-4D83-4485-AA4E-A3B3F0E52A3F}" type="slidenum">
              <a:rPr b="1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545A-1894-4A02-8AF6-9C149DF3FF94}" type="slidenum">
              <a:rPr b="1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7DB2-1481-4D63-B0A6-F1DB152D2608}" type="slidenum">
              <a:rPr b="1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a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AB24-ACE0-4C66-B27D-3AC999AB7ED3}" type="slidenum">
              <a:rPr b="1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138320" y="1628640"/>
            <a:ext cx="704988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Welcome  to the ESRF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For th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336699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Libera</a:t>
            </a:r>
            <a:r>
              <a:rPr b="0" lang="en-US" sz="4000" spc="-1" strike="noStrike">
                <a:solidFill>
                  <a:srgbClr val="336699"/>
                </a:solidFill>
                <a:latin typeface="Arial"/>
              </a:rPr>
              <a:t> Users Mee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1255680" y="5027760"/>
            <a:ext cx="70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. Elleau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228600" y="3962520"/>
            <a:ext cx="86104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1455840" y="1467000"/>
            <a:ext cx="6481800" cy="462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920" y="884160"/>
            <a:ext cx="864216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SRF in brief  (1/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Electron Energy 6 GeV, Perimeter 844 m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DBA Lattice with 32 cells alternating high and low beta in ID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Ring current 200 mA ( -&gt; 300 mA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Emittances 4 nm and  30 pm (-&gt; 10 pm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irst  beam delivered in 1992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~ 70 ID segments in 2009 serving 28 ID beam line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High beam availability 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Lifetime ~ 60 h at 200 mA (7/8 + 1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7da9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Many Filling modes (uniform, 2/3, 7/8+1, 16 bunches. 4 bunches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09" name="Group 2"/>
          <p:cNvGrpSpPr/>
          <p:nvPr/>
        </p:nvGrpSpPr>
        <p:grpSpPr>
          <a:xfrm>
            <a:off x="866880" y="3943440"/>
            <a:ext cx="5708520" cy="1647720"/>
            <a:chOff x="866880" y="3943440"/>
            <a:chExt cx="5708520" cy="1647720"/>
          </a:xfrm>
        </p:grpSpPr>
        <p:sp>
          <p:nvSpPr>
            <p:cNvPr id="210" name="Rectangle 2"/>
            <p:cNvSpPr/>
            <p:nvPr/>
          </p:nvSpPr>
          <p:spPr>
            <a:xfrm>
              <a:off x="866880" y="4318920"/>
              <a:ext cx="230868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5920" indent="-385920">
                <a:lnSpc>
                  <a:spcPct val="11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lang="en-GB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vailability (%) 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385920" indent="-385920">
                <a:lnSpc>
                  <a:spcPct val="7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lang="en-GB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an time between failures (hrs)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385920" indent="-385920">
                <a:lnSpc>
                  <a:spcPct val="7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"/>
            <p:cNvSpPr/>
            <p:nvPr/>
          </p:nvSpPr>
          <p:spPr>
            <a:xfrm>
              <a:off x="3197520" y="4251240"/>
              <a:ext cx="3343320" cy="13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5920" indent="-38592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98.7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97.8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98.3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lang="fr-FR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99.6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85920" indent="-385920">
                <a:lnSpc>
                  <a:spcPct val="11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1.5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6.8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4.5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lang="fr-FR" sz="16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94.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4"/>
            <p:cNvSpPr/>
            <p:nvPr/>
          </p:nvSpPr>
          <p:spPr>
            <a:xfrm>
              <a:off x="3187800" y="3943440"/>
              <a:ext cx="3387600" cy="4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5920" indent="-385920">
                <a:lnSpc>
                  <a:spcPct val="115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6</a:t>
              </a:r>
              <a:r>
                <a:rPr b="1" lang="fr-FR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lang="fr-FR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lang="fr-FR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7</a:t>
              </a:r>
              <a:r>
                <a:rPr b="1" lang="fr-FR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lang="fr-FR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8</a:t>
              </a:r>
              <a:r>
                <a:rPr b="1" lang="fr-FR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lang="fr-FR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9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235080" y="1994040"/>
            <a:ext cx="86058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8592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2000 Proposals each ye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8592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6000 User Visits in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8592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1500 Experimental Ses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8592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43 Synchrotron Radiation Beam l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8592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1500 Referenced Scientific Publications in 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8592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600 Staf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8592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80 M€ Annual Budget (55% Personnel, 25% Operation, 20% Investmen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8592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which ~ 2.5 M€ Industrial Income, ~ 3.5 M€ Research Gra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2"/>
          <p:cNvGraphicFramePr/>
          <p:nvPr/>
        </p:nvGraphicFramePr>
        <p:xfrm>
          <a:off x="5508720" y="2093760"/>
          <a:ext cx="3384360" cy="22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2093760"/>
                    <a:ext cx="3384360" cy="22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itle 1"/>
          <p:cNvSpPr/>
          <p:nvPr/>
        </p:nvSpPr>
        <p:spPr>
          <a:xfrm>
            <a:off x="166680" y="933480"/>
            <a:ext cx="86425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SRF in brief  (2/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324000" y="1878120"/>
            <a:ext cx="3809880" cy="471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Me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85920">
              <a:spcBef>
                <a:spcPts val="10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France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27.5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85920">
              <a:spcBef>
                <a:spcPts val="10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Germany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25.5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85920">
              <a:spcBef>
                <a:spcPts val="10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Italy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  15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85920">
              <a:spcBef>
                <a:spcPts val="10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UK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  14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85920">
              <a:spcBef>
                <a:spcPts val="10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BeNeSync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    6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(Belgium, The Netherland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85920">
              <a:spcBef>
                <a:spcPts val="10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NordSync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    4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(Denmark, Finland, Norway,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 Swede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85920">
              <a:spcBef>
                <a:spcPts val="10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Spain 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   4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85920">
              <a:spcBef>
                <a:spcPts val="1001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Switzerland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   4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008080"/>
                </a:solidFill>
                <a:uFillTx/>
                <a:latin typeface="Arial"/>
              </a:rPr>
              <a:t>100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4376880" y="3949560"/>
            <a:ext cx="4716360" cy="286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Scientific Associ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84040">
              <a:spcBef>
                <a:spcPts val="10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Portugal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84040">
              <a:spcBef>
                <a:spcPts val="10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Israel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84040">
              <a:spcBef>
                <a:spcPts val="10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Austria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84040">
              <a:spcBef>
                <a:spcPts val="10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Poland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84040">
              <a:spcBef>
                <a:spcPts val="10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Central-Sync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1.05%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(Czech Republic, Slovakia, Hungary)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52280" y="124308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ibution to ESRF Budget (and share of beam tim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684360" y="692280"/>
            <a:ext cx="7921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SRF: 19 Members and Associate Count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tretch/>
        </p:blipFill>
        <p:spPr>
          <a:xfrm>
            <a:off x="6540480" y="1306440"/>
            <a:ext cx="232092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90080" y="685440"/>
            <a:ext cx="895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 7 year Upgrade Programme was approved by the ESRF Council in December 2008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23" name="Picture 4" descr="fig 1 before"/>
          <p:cNvPicPr/>
          <p:nvPr/>
        </p:nvPicPr>
        <p:blipFill>
          <a:blip r:embed="rId1"/>
          <a:stretch/>
        </p:blipFill>
        <p:spPr>
          <a:xfrm>
            <a:off x="76320" y="1976400"/>
            <a:ext cx="4000320" cy="4087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/>
          <p:cNvPicPr/>
          <p:nvPr/>
        </p:nvPicPr>
        <p:blipFill>
          <a:blip r:embed="rId2"/>
          <a:stretch/>
        </p:blipFill>
        <p:spPr>
          <a:xfrm>
            <a:off x="4406760" y="1979640"/>
            <a:ext cx="4673880" cy="4079880"/>
          </a:xfrm>
          <a:prstGeom prst="rect">
            <a:avLst/>
          </a:prstGeom>
          <a:ln w="0">
            <a:noFill/>
          </a:ln>
        </p:spPr>
      </p:pic>
      <p:sp>
        <p:nvSpPr>
          <p:cNvPr id="225" name="Right Arrow 10"/>
          <p:cNvSpPr/>
          <p:nvPr/>
        </p:nvSpPr>
        <p:spPr>
          <a:xfrm>
            <a:off x="3809880" y="6058080"/>
            <a:ext cx="978120" cy="483840"/>
          </a:xfrm>
          <a:prstGeom prst="rightArrow">
            <a:avLst>
              <a:gd name="adj1" fmla="val 50000"/>
              <a:gd name="adj2" fmla="val 500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ESRF + ILL aerial view"/>
          <p:cNvPicPr/>
          <p:nvPr/>
        </p:nvPicPr>
        <p:blipFill>
          <a:blip r:embed="rId1"/>
          <a:stretch/>
        </p:blipFill>
        <p:spPr>
          <a:xfrm>
            <a:off x="395280" y="1012680"/>
            <a:ext cx="1866960" cy="5153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2576520" y="663480"/>
            <a:ext cx="6237360" cy="939960"/>
          </a:xfrm>
          <a:prstGeom prst="rect">
            <a:avLst/>
          </a:prstGeom>
          <a:solidFill>
            <a:srgbClr val="ffff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SRF Upgrade Programme…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2344680" y="1739880"/>
            <a:ext cx="664380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50328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amline Upgra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50328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Scientific Partnersh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50328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 of the building infrastruc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50328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or System Upgra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503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placement of klystron by solid state amplifi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503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HOM damped RF cavities suitable for 300 mA ring oper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50328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New Orbit measurement and feedback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503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503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81200" y="898560"/>
            <a:ext cx="6897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4  Libera Brilliance since March 200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2"/>
          <p:cNvGrpSpPr/>
          <p:nvPr/>
        </p:nvGrpSpPr>
        <p:grpSpPr>
          <a:xfrm>
            <a:off x="3870360" y="1668600"/>
            <a:ext cx="4713120" cy="2430360"/>
            <a:chOff x="3870360" y="1668600"/>
            <a:chExt cx="4713120" cy="2430360"/>
          </a:xfrm>
        </p:grpSpPr>
        <p:pic>
          <p:nvPicPr>
            <p:cNvPr id="231" name="Picture 4" descr="pic-libera-01"/>
            <p:cNvPicPr/>
            <p:nvPr/>
          </p:nvPicPr>
          <p:blipFill>
            <a:blip r:embed="rId1"/>
            <a:stretch/>
          </p:blipFill>
          <p:spPr>
            <a:xfrm>
              <a:off x="3870360" y="1672200"/>
              <a:ext cx="4713120" cy="242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Rectangle 5"/>
            <p:cNvSpPr/>
            <p:nvPr/>
          </p:nvSpPr>
          <p:spPr>
            <a:xfrm>
              <a:off x="3881880" y="1668600"/>
              <a:ext cx="4125240" cy="10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8"/>
          <p:cNvSpPr/>
          <p:nvPr/>
        </p:nvSpPr>
        <p:spPr>
          <a:xfrm>
            <a:off x="404640" y="4473720"/>
            <a:ext cx="77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major accelerator system, i.e. BPM electronics is now based on the same system all over the worl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t is important that the users of this Libera system exchange their experiences and trigger improvements and new developmen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603360" y="1709640"/>
            <a:ext cx="2998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 Hz  orbit acquisition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Bunch by bunch acquisition</a:t>
            </a: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0 kHz orbit driving DC-AC orbit corr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3:41:03Z</dcterms:created>
  <dc:creator>uPCSTORE</dc:creator>
  <dc:description/>
  <dc:language>en-US</dc:language>
  <cp:lastModifiedBy>ELLEAUME Pascal</cp:lastModifiedBy>
  <dcterms:modified xsi:type="dcterms:W3CDTF">2009-06-22T06:14:12Z</dcterms:modified>
  <cp:revision>734</cp:revision>
  <dc:subject/>
  <dc:title>Applications of softer X-rays in macromolecular crystallography</dc:title>
</cp:coreProperties>
</file>