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457-2BC8-4E3C-B7ED-955739B8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203-5C76-4EF9-9EF8-3C590B9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8ED-AB99-4410-8B68-DCFC2C8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D69-EDCE-4A89-90C6-1E5975C1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2D1-4D11-45E9-8B03-D9E7CCAA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7CF-3EFD-45BB-A10A-55C37300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19E-DDD3-4393-A805-EDBF43F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2CC-5002-49F1-A1D5-1D27FDD2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E3E-7C31-4C8B-B751-7EB9B8D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649-3CBD-4C21-B453-25B3BED9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C09-05C4-4D7E-97CA-5240EF65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F0C-7BFA-4349-BED6-CCBEECEC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6907-4B32-4DB1-971D-9B6B3D16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8B0-8E25-46E4-93A9-B9223593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4104-D5DB-4FB2-A418-B9A68A1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AABF-BFEB-40D6-92F5-5BAF95D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56A-F9C5-479F-852B-A3928E98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A0F1-3F4E-403D-9F7B-75BF1B8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795A-D480-4DA5-9846-1E886CC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00E4-2AC4-4E9D-93E6-B0D4DB9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FBC0-4CEA-475A-8A08-65E919B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2C06-E841-4F60-976E-0C9B1A64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3C85-7769-4AE5-A582-6731E61A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1073-303C-4B0A-83B4-35892120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4E47-6577-4F92-BB0B-BECD95E8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3F26-6395-42C9-8E1D-4BED7FA2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A442-CD6C-4E25-8E57-D2ED740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DFAD-3938-49C0-9BE4-2713F035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B378-A596-41F2-8A23-5F15A40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3EBB-BEA4-494F-87EB-6D7D033F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0B2B-6510-4CF2-BD73-D2D5C91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7CFA-36B1-418E-8EC4-1DCE7C5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8655D-4F21-4151-969E-9E7FB0B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C8DF-AEE7-4206-9B51-90DAAAF9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22D1-B7F5-420C-A3F5-66D2A509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81DC-F5E6-44B7-B9BB-A2198CD6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8A3A-A30F-4D14-96D9-FC5FCABC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F5D9-75D5-40FD-85AA-182C969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32BDD-2602-4D79-BEC9-E2727BF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4EA7-AFCB-42EE-ABA6-9BCD9DDD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C1389-33AC-4424-A5FD-6622D0F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3C02-1471-4B78-A062-7EF9BCB5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8312-07BA-4BA0-9219-11571AF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0DA5-4049-424F-8EB0-EEB2F3B7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A0DA-BF81-40CB-849A-91CF279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E669-FE95-4115-9DC6-F8E6DD87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8B42-1855-4B1C-BD76-E9F6F804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F497D-DE27-40D5-9E98-12AD6C66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233FC5B3-EDB4-491A-B3E7-453EC815F729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2306520" y="6575400"/>
            <a:ext cx="48564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2ebfe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e2ebfe"/>
                </a:solidFill>
                <a:latin typeface="Arial"/>
              </a:rPr>
              <a:t>3</a:t>
            </a:r>
            <a:r>
              <a:rPr b="1" lang="en-US" sz="1400" spc="-1" strike="noStrike" baseline="30000">
                <a:solidFill>
                  <a:srgbClr val="e2ebfe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e2ebfe"/>
                </a:solidFill>
                <a:latin typeface="Arial"/>
              </a:rPr>
              <a:t>  Libera User Meeting  -  ESRF  June 22-23</a:t>
            </a:r>
            <a:r>
              <a:rPr b="1" sz="1400" spc="-1" strike="noStrike">
                <a:solidFill>
                  <a:srgbClr val="e2ebfe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7B70-0320-4BB2-BFDA-23FF817B805A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1AA-9B2C-41CB-A151-70F5BC4FF5FD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545D-4498-4B25-942B-1CE6E99FBBEE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a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D3E9-E84A-4CE1-BDEC-B83CDBDFD66D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38320" y="1628640"/>
            <a:ext cx="7049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elcome  to the ESR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For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336699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ibera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Users Mee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255680" y="502776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. Ellea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28600" y="3962520"/>
            <a:ext cx="8610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55840" y="1467000"/>
            <a:ext cx="648180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RF in brief  (1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ectron Energy 6 GeV, Perimeter 844 m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BA Lattice with 32 cells alternating high and low beta in ID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ing current 200 mA ( -&gt; 300 mA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mittances 4 nm and  30 pm (-&gt; 10 pm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st  beam delivered in 1992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~ 70 ID segments in 2009 serving 28 ID beam lin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igh beam availability 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ifetime ~ 60 h at 200 mA (7/8 + 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ny Filling modes (uniform, 2/3, 7/8+1, 16 bunches. 4 bunche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866880" y="3943440"/>
            <a:ext cx="5708520" cy="1647720"/>
            <a:chOff x="866880" y="3943440"/>
            <a:chExt cx="5708520" cy="1647720"/>
          </a:xfrm>
        </p:grpSpPr>
        <p:sp>
          <p:nvSpPr>
            <p:cNvPr id="210" name="Rectangle 2"/>
            <p:cNvSpPr/>
            <p:nvPr/>
          </p:nvSpPr>
          <p:spPr>
            <a:xfrm>
              <a:off x="866880" y="4318920"/>
              <a:ext cx="230868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5920" indent="-385920">
                <a:lnSpc>
                  <a:spcPct val="11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ilability (%)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385920" indent="-385920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 time between failures (hrs)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385920" indent="-385920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"/>
            <p:cNvSpPr/>
            <p:nvPr/>
          </p:nvSpPr>
          <p:spPr>
            <a:xfrm>
              <a:off x="3197520" y="4251240"/>
              <a:ext cx="33433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5920" indent="-38592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8.7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7.8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8.3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9.6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85920" indent="-38592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1.5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8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4.5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4.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3187800" y="3943440"/>
              <a:ext cx="3387600" cy="4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5920" indent="-385920">
                <a:lnSpc>
                  <a:spcPct val="11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6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235080" y="1994040"/>
            <a:ext cx="86058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2000 Proposals each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6000 User Visits in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1500 Experimental Se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43 Synchrotron Radiation Beam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1500 Referenced Scientific Publications in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600 Sta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80 M€ Annual Budget (55% Personnel, 25% Operation, 20% Investm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which ~ 2.5 M€ Industrial Income, ~ 3.5 M€ Research Gr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2"/>
          <p:cNvGraphicFramePr/>
          <p:nvPr/>
        </p:nvGraphicFramePr>
        <p:xfrm>
          <a:off x="5508720" y="2093760"/>
          <a:ext cx="3384360" cy="22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093760"/>
                    <a:ext cx="3384360" cy="22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itle 1"/>
          <p:cNvSpPr/>
          <p:nvPr/>
        </p:nvSpPr>
        <p:spPr>
          <a:xfrm>
            <a:off x="166680" y="933480"/>
            <a:ext cx="8642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RF in brief  (2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24000" y="1878120"/>
            <a:ext cx="3809880" cy="471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France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27.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Germany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25.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Italy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1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UK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1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BeNeSync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 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(Belgium, The Netherlan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NordSync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 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(Denmark, Finland, Norway,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Swed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Spain 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Switzerland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8080"/>
                </a:solidFill>
                <a:uFillTx/>
                <a:latin typeface="Arial"/>
              </a:rPr>
              <a:t>10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376880" y="3949560"/>
            <a:ext cx="4716360" cy="286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cientific Associ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ortugal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srael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ustria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olan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entral-Sync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.05%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(Czech Republic, Slovakia, Hungary)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52280" y="12430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to ESRF Budget (and share of beam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84360" y="692280"/>
            <a:ext cx="792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RF: 19 Members and Associate Cou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6540480" y="130644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90080" y="685440"/>
            <a:ext cx="89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 7 year Upgrade Programme was approved by the ESRF Council in December 200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3" name="Picture 4" descr="fig 1 before"/>
          <p:cNvPicPr/>
          <p:nvPr/>
        </p:nvPicPr>
        <p:blipFill>
          <a:blip r:embed="rId1"/>
          <a:stretch/>
        </p:blipFill>
        <p:spPr>
          <a:xfrm>
            <a:off x="76320" y="1976400"/>
            <a:ext cx="4000320" cy="4087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4406760" y="1979640"/>
            <a:ext cx="4673880" cy="4079880"/>
          </a:xfrm>
          <a:prstGeom prst="rect">
            <a:avLst/>
          </a:prstGeom>
          <a:ln w="0">
            <a:noFill/>
          </a:ln>
        </p:spPr>
      </p:pic>
      <p:sp>
        <p:nvSpPr>
          <p:cNvPr id="225" name="Right Arrow 10"/>
          <p:cNvSpPr/>
          <p:nvPr/>
        </p:nvSpPr>
        <p:spPr>
          <a:xfrm>
            <a:off x="3809880" y="6058080"/>
            <a:ext cx="978120" cy="48384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ESRF + ILL aerial view"/>
          <p:cNvPicPr/>
          <p:nvPr/>
        </p:nvPicPr>
        <p:blipFill>
          <a:blip r:embed="rId1"/>
          <a:stretch/>
        </p:blipFill>
        <p:spPr>
          <a:xfrm>
            <a:off x="395280" y="1012680"/>
            <a:ext cx="1866960" cy="5153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576520" y="663480"/>
            <a:ext cx="6237360" cy="93996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RF Upgrade Programme…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344680" y="1739880"/>
            <a:ext cx="6643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mline Upgr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Scientific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of the building infra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or System Upgr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lacement of klystron by solid state ampl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HOM damped RF cavities suitable for 300 mA ring oper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ew Orbit measurement and feedback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81200" y="898560"/>
            <a:ext cx="6897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4  Libera Brilliance since March 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3870360" y="1668600"/>
            <a:ext cx="4713120" cy="2430360"/>
            <a:chOff x="3870360" y="1668600"/>
            <a:chExt cx="4713120" cy="2430360"/>
          </a:xfrm>
        </p:grpSpPr>
        <p:pic>
          <p:nvPicPr>
            <p:cNvPr id="231" name="Picture 4" descr="pic-libera-01"/>
            <p:cNvPicPr/>
            <p:nvPr/>
          </p:nvPicPr>
          <p:blipFill>
            <a:blip r:embed="rId1"/>
            <a:stretch/>
          </p:blipFill>
          <p:spPr>
            <a:xfrm>
              <a:off x="3870360" y="1672200"/>
              <a:ext cx="4713120" cy="24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5"/>
            <p:cNvSpPr/>
            <p:nvPr/>
          </p:nvSpPr>
          <p:spPr>
            <a:xfrm>
              <a:off x="3881880" y="1668600"/>
              <a:ext cx="4125240" cy="10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8"/>
          <p:cNvSpPr/>
          <p:nvPr/>
        </p:nvSpPr>
        <p:spPr>
          <a:xfrm>
            <a:off x="404640" y="447372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major accelerator system, i.e. BPM electronics is now based on the same system all over the worl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t is important that the users of this Libera system exchange their experiences and trigger improvements and new developmen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603360" y="1709640"/>
            <a:ext cx="299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 Hz  orbit acquisitio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Bunch by bunch acquisition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0 kHz orbit driving DC-AC orbit cor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3:41:03Z</dcterms:created>
  <dc:creator>uPCSTORE</dc:creator>
  <dc:description/>
  <dc:language>en-US</dc:language>
  <cp:lastModifiedBy>ELLEAUME Pascal</cp:lastModifiedBy>
  <dcterms:modified xsi:type="dcterms:W3CDTF">2009-06-22T06:14:12Z</dcterms:modified>
  <cp:revision>734</cp:revision>
  <dc:subject/>
  <dc:title>Applications of softer X-rays in macromolecular crystallography</dc:title>
</cp:coreProperties>
</file>