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4790600" y="-12166560"/>
            <a:ext cx="17249760" cy="12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21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219400" y="777960"/>
            <a:ext cx="266040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6336-8FEA-4E38-82B8-7F5A1E4BC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95ED-A897-4FC1-B193-0DD38AD58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8FB9-2630-4FA1-AA88-E007844BA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0FC0-2827-48E4-A868-929225F3C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C0CC-6BE6-4631-8BD6-ABA5430B59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22B2-EC09-43BC-B96B-83D5339D53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DCDAF-F093-42A0-9A03-BF0CD778B8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AE81-C3C3-44A9-8306-BEF94FFE49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FE3B-266C-4535-81D0-E284510B17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27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7751-7B2B-47F3-9BF5-14C9D2E239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A705-C5C4-43D5-A9BB-24D36537E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5A01-A413-49E3-A980-13A6CAF3B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07B9-6262-4E12-999B-700F18A305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1E5C-8B03-4086-983D-1C7A46EF91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6C8F-0948-4701-B64A-2C765F98A5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888E-89B8-4BFC-A725-A6FD5944BC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4094-C603-4CD7-8171-0E03960051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A5B0-33B6-44A1-8745-2D213A442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1BD4-9C4B-45EF-BB51-88E6390DB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7309-FC6E-4080-AD37-A56061A47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708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3B0E-0000-4102-A1DC-3CB5EB26A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3103-43A7-4C06-92D6-C6C15E9BD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FBB5-7734-4158-A3CF-6185F1820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D1FE-056C-48A7-967D-AB26A91B2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720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E14698-7B10-4347-8291-BD7CB95104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457200" y="6307200"/>
            <a:ext cx="2128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571840" y="6215040"/>
            <a:ext cx="18396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05800" y="648828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Futura Md BT"/>
              </a:rPr>
              <a:t>Grenoble, June 22nd</a:t>
            </a: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B58B19-4821-44C2-ACAF-788378CD78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2826720" y="64882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ibera Workshop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2071800" y="2214720"/>
            <a:ext cx="5643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ter Leban, Andrej Košič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262699"/>
                </a:solidFill>
                <a:latin typeface="Arial"/>
              </a:rPr>
              <a:t>Libera Brilliance</a:t>
            </a:r>
            <a:r>
              <a:rPr b="0" lang="sl-SI" sz="4000" spc="-1" strike="noStrike">
                <a:solidFill>
                  <a:srgbClr val="262699"/>
                </a:solidFill>
                <a:latin typeface="Arial"/>
              </a:rPr>
              <a:t>, Recent Patches, new Ideas, Fu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Futura Md BT"/>
              </a:rPr>
              <a:t>peter.leban</a:t>
            </a: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@i-tech.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453200" y="5857920"/>
            <a:ext cx="296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l-SI" sz="1800" spc="-1" strike="noStrike">
                <a:solidFill>
                  <a:srgbClr val="595959"/>
                </a:solidFill>
                <a:latin typeface="Futura Md BT"/>
              </a:rPr>
              <a:t>Grenoble, June 22nd</a:t>
            </a:r>
            <a:r>
              <a:rPr b="0" lang="en-GB" sz="1800" spc="-1" strike="noStrike">
                <a:solidFill>
                  <a:srgbClr val="595959"/>
                </a:solidFill>
                <a:latin typeface="Futura Md BT"/>
              </a:rPr>
              <a:t>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Statistics calculation inside Lib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calculation of RMS and mean value on DD and SA dat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heck the beam’s AC st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goal is to reduce the amount of data transfer through internal network and further calculation in the server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User would define the number of samples for calculat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alculation for position and amplitud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50004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Future of Libera Brilliance (dreaming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57120" y="1071720"/>
          <a:ext cx="8572680" cy="5257800"/>
        </p:xfrm>
        <a:graphic>
          <a:graphicData uri="http://schemas.openxmlformats.org/drawingml/2006/table">
            <a:tbl>
              <a:tblPr/>
              <a:tblGrid>
                <a:gridCol w="2857680"/>
                <a:gridCol w="4500360"/>
                <a:gridCol w="1214640"/>
              </a:tblGrid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sible scenari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rp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lease 2.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Constantly upgrading with new functional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S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al User Interface (GUI); independent of Epics and Tango (?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To help new users, on-click parameter settings, on-click acquis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S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d Libera Brilliance:  bigger FPG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To provide more space for FPGA software programm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H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a Brilliance on the new platfo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Completely new platform with new software, the new instrument generation; using same principles for data process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191966"/>
                          </a:solidFill>
                          <a:latin typeface="Calibri"/>
                        </a:rPr>
                        <a:t>HW, S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500120" y="27147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Thank you for your atten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14200" y="10126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Futura Md BT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r>
              <a:rPr b="1" lang="sl-SI" sz="2400" spc="-1" strike="noStrike">
                <a:solidFill>
                  <a:srgbClr val="262699"/>
                </a:solidFill>
                <a:latin typeface="Futura Md BT"/>
              </a:rPr>
              <a:t>Release 2.00 issued in December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Futura Md BT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l-SI" sz="2400" spc="-1" strike="noStrike">
                <a:solidFill>
                  <a:srgbClr val="262699"/>
                </a:solidFill>
                <a:latin typeface="Futura Md BT"/>
              </a:rPr>
              <a:t> </a:t>
            </a:r>
            <a:r>
              <a:rPr b="1" lang="sl-SI" sz="2400" spc="-1" strike="noStrike">
                <a:solidFill>
                  <a:srgbClr val="262699"/>
                </a:solidFill>
                <a:latin typeface="Futura Md BT"/>
              </a:rPr>
              <a:t>Current patch release 2.04, sent out last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5840" y="2214720"/>
          <a:ext cx="8572320" cy="4149720"/>
        </p:xfrm>
        <a:graphic>
          <a:graphicData uri="http://schemas.openxmlformats.org/drawingml/2006/table">
            <a:tbl>
              <a:tblPr/>
              <a:tblGrid>
                <a:gridCol w="3565440"/>
                <a:gridCol w="2682720"/>
                <a:gridCol w="2324160"/>
              </a:tblGrid>
              <a:tr h="42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FEAT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2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2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2.03/2.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2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grade to armel platfor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ably faster floating point operati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of NPTL (Native Posix Threading Library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ing pipes for passing events instead of signal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mprove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HCP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unctionality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GA/SBC throughput increased by cca 3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Programmable PM triggering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Spike Removal on TbT, FA and SA da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Position calculation from ADC rate buffer (single pass, CW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utura Lt BT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000000"/>
                          </a:solidFill>
                          <a:latin typeface="Futura Lt BT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Bugfix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PM buffer with d64 da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Faster AGC (@~1Hz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2228b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Integration of DLS Communication Controll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500" spc="-1" strike="noStrike">
                          <a:solidFill>
                            <a:srgbClr val="22228b"/>
                          </a:solidFill>
                          <a:latin typeface="Calibri"/>
                        </a:rPr>
                        <a:t>- Bugfix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  <p:sp>
        <p:nvSpPr>
          <p:cNvPr id="98" name="TextBox 5"/>
          <p:cNvSpPr/>
          <p:nvPr/>
        </p:nvSpPr>
        <p:spPr>
          <a:xfrm>
            <a:off x="50004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262699"/>
                </a:solidFill>
                <a:latin typeface="Arial"/>
              </a:rPr>
              <a:t>Libera</a:t>
            </a: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 Brilliance/Electron Curr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4"/>
          <p:cNvSpPr/>
          <p:nvPr/>
        </p:nvSpPr>
        <p:spPr>
          <a:xfrm>
            <a:off x="500040" y="28584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Access to DSC Coeffic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/Instrumentation Technolog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If a component in the analog chain fails (behind analog switch), the measurement is still valid if the DSC (switching) is 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is is because the input signals are all rotated through all channel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is can result in slight position offset and slightly increased RM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uch status can be effectively diagnosed by monitoring the DSC (amplitude compensation) coefficien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500040" y="28584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Beam life-time Measur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664d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4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Libera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Brilliance ha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a potential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o rival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standard current monitors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in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peed &amp; stability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other advantage is that there are lots of Liberas around the ring, allowing better statistic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664d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664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Life-time measurement is based on the decay of the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averaged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A-Sum signal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(over certain period of time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500040" y="28584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Standard &amp; MAF Designs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Possibility to have the Standard &amp; the MAF design installed on memory inside each Libera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to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load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the desired design into FPGA by a local scrip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possibly no need to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restart Tango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(or other control system) </a:t>
                      </a:r>
                      <a:r>
                        <a:rPr b="0" lang="en-US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device-servers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after a design chang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Bypass Notch when DSC (switching) o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SLS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The Notch filter in FA data chain is inserted to suppress the lower switching harmoni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If DSC is off, the Notch is not neede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d2db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d2db9"/>
                          </a:solidFill>
                          <a:latin typeface="Calibri"/>
                        </a:rPr>
                        <a:t>Could be usable for testing purposes since during normal operation DSC should be 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ADC Offset Compens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SLS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goal is to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achieve better accuracy for single pass position measurement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ADC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rate buffer, especially at lower ADC coun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Feature does not need any additional runtime parameter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imple calculation (here for channel A)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hA_offset=mean(channelA)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channelA=channelA-ChA_offset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Timestamp on SA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SLS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o i</a:t>
                      </a:r>
                      <a:r>
                        <a:rPr b="0" lang="it-IT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nclude timestamp in SA data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as an additional colum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is </a:t>
                      </a:r>
                      <a:r>
                        <a:rPr b="0" lang="en-US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should be a counter which is reset with set-time trigger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00040" y="285840"/>
            <a:ext cx="842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2400" spc="-1" strike="noStrike">
                <a:solidFill>
                  <a:srgbClr val="262699"/>
                </a:solidFill>
                <a:latin typeface="Arial"/>
              </a:rPr>
              <a:t>2.20 Propos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l-SI" sz="3600" spc="-1" strike="noStrike">
                <a:solidFill>
                  <a:srgbClr val="262699"/>
                </a:solidFill>
                <a:latin typeface="Arial"/>
              </a:rPr>
              <a:t>ADC Underflow Che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71680" y="1785960"/>
          <a:ext cx="8143560" cy="4214880"/>
        </p:xfrm>
        <a:graphic>
          <a:graphicData uri="http://schemas.openxmlformats.org/drawingml/2006/table">
            <a:tbl>
              <a:tblPr/>
              <a:tblGrid>
                <a:gridCol w="2885760"/>
                <a:gridCol w="52578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posed (and Ordered) B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 / Benef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36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ES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goal is to prevent unnecessary Interlock triggering when the beam is los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The algorithm checks the amplitude on all 4 chann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262699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262699"/>
                          </a:solidFill>
                          <a:latin typeface="Calibri"/>
                        </a:rPr>
                        <a:t>If the level is below predefined limits (e.g. 700 counts on 16bit ADCs) on all channels, the Interlock is not triggered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6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laz Erzetic</dc:creator>
  <dc:description/>
  <dc:language>en-US</dc:language>
  <cp:lastModifiedBy>Peter Leban</cp:lastModifiedBy>
  <dcterms:modified xsi:type="dcterms:W3CDTF">2009-06-21T23:27:38Z</dcterms:modified>
  <cp:revision>131</cp:revision>
  <dc:subject/>
  <dc:title>Slide 1</dc:title>
</cp:coreProperties>
</file>