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4790600" y="-12166560"/>
            <a:ext cx="17249760" cy="12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21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219400" y="777960"/>
            <a:ext cx="266040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95CE-67F8-4119-A56D-B8851794E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9B6A-9F21-4FD4-A292-BFC6B1CEA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CD25-B72C-496C-8D21-C27892035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537A-A8CD-457E-9C15-0EB753A8A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0C50-9F2C-4CAE-BA0D-EF04378557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8503-C75B-43F9-91FF-0AFB89C77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AE38-0C66-494C-99E8-3C34960D89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8AA8-F1BE-404E-B980-B68182CAF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F5B9-AE3F-4EFC-85CB-89D47C6056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27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4D1A-DB33-48A2-9516-37096E393A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4BDB-2696-4A66-BAD7-6827BBF98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3954-AAB8-4F69-8BCC-C1028CB61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9A41-D1ED-4743-804C-B5C5AE52F8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CB2E-DEA2-4001-80CF-A7A21CE5CC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43F5-E4BA-4207-B80F-BEAD90EE76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35BF-E052-40E7-B49B-572848F3A1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2412-1F78-4EA8-B501-BDEB960E4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028B-F3BD-4FEB-A3A4-3462990E8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D851-B8BB-4C7D-BE9D-A3CD94D0C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1F8A-91A8-4401-9ED6-D8F5E4416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7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F0DE-5D70-4FD1-93A6-9E25E0F87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08FD-073B-4137-980A-AB77307A9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A63F-6004-49FE-A4FA-7D2511007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D168-EFD6-4B19-9343-5C53557CA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720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BEE59C-9C5F-43ED-91FB-CF530E3DA4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57200" y="630720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571840" y="6215040"/>
            <a:ext cx="1839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05800" y="64882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Futura Md BT"/>
              </a:rPr>
              <a:t>Grenoble, June 22nd</a:t>
            </a: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1D6C8B-959D-4DAD-AEF9-8BE569B873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2826720" y="64882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ibera Workshop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071800" y="2214720"/>
            <a:ext cx="5643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ter Leban, Andrej Koši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62699"/>
                </a:solidFill>
                <a:latin typeface="Arial"/>
              </a:rPr>
              <a:t>Libera Brilliance</a:t>
            </a:r>
            <a:r>
              <a:rPr b="0" lang="sl-SI" sz="4000" spc="-1" strike="noStrike">
                <a:solidFill>
                  <a:srgbClr val="262699"/>
                </a:solidFill>
                <a:latin typeface="Arial"/>
              </a:rPr>
              <a:t>, Recent Patches, new Ideas, Fu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Futura Md BT"/>
              </a:rPr>
              <a:t>peter.leban</a:t>
            </a: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@i-tech.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453200" y="585792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1800" spc="-1" strike="noStrike">
                <a:solidFill>
                  <a:srgbClr val="595959"/>
                </a:solidFill>
                <a:latin typeface="Futura Md BT"/>
              </a:rPr>
              <a:t>Grenoble, June 22nd</a:t>
            </a:r>
            <a:r>
              <a:rPr b="0" lang="en-GB" sz="1800" spc="-1" strike="noStrike">
                <a:solidFill>
                  <a:srgbClr val="595959"/>
                </a:solidFill>
                <a:latin typeface="Futura Md BT"/>
              </a:rPr>
              <a:t>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Statistics calculation inside Lib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calculation of RMS and mean value on DD and SA dat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heck the beam’s AC s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goal is to reduce the amount of data transfer through internal network and further calculation in the server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User would define the number of samples for calcula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alculation for position and amplitud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Future of Libera Brilliance (dreaming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7120" y="1071720"/>
          <a:ext cx="8572680" cy="5257800"/>
        </p:xfrm>
        <a:graphic>
          <a:graphicData uri="http://schemas.openxmlformats.org/drawingml/2006/table">
            <a:tbl>
              <a:tblPr/>
              <a:tblGrid>
                <a:gridCol w="2857680"/>
                <a:gridCol w="4500360"/>
                <a:gridCol w="121464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sible scenari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rp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lease 2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Constantly upgrading with new functiona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S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al User Interface (GUI); independent of Epics and Tango (?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To help new users, on-click parameter settings, on-click acquis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S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d Libera Brilliance:  bigger FPG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To provide more space for FPGA software programm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H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a Brilliance on the new platfo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Completely new platform with new software, the new instrument generation; using same principles for data process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HW, S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500120" y="27147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Thank you for your atten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14200" y="10126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Futura Md BT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sl-SI" sz="2400" spc="-1" strike="noStrike">
                <a:solidFill>
                  <a:srgbClr val="262699"/>
                </a:solidFill>
                <a:latin typeface="Futura Md BT"/>
              </a:rPr>
              <a:t>Release 2.00 issued in December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utura Md BT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l-SI" sz="2400" spc="-1" strike="noStrike">
                <a:solidFill>
                  <a:srgbClr val="262699"/>
                </a:solidFill>
                <a:latin typeface="Futura Md BT"/>
              </a:rPr>
              <a:t> </a:t>
            </a:r>
            <a:r>
              <a:rPr b="1" lang="sl-SI" sz="2400" spc="-1" strike="noStrike">
                <a:solidFill>
                  <a:srgbClr val="262699"/>
                </a:solidFill>
                <a:latin typeface="Futura Md BT"/>
              </a:rPr>
              <a:t>Current patch release 2.04, sent out last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5840" y="2214720"/>
          <a:ext cx="8572320" cy="4149720"/>
        </p:xfrm>
        <a:graphic>
          <a:graphicData uri="http://schemas.openxmlformats.org/drawingml/2006/table">
            <a:tbl>
              <a:tblPr/>
              <a:tblGrid>
                <a:gridCol w="3565440"/>
                <a:gridCol w="2682720"/>
                <a:gridCol w="2324160"/>
              </a:tblGrid>
              <a:tr h="42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FEA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.03/2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2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to armel platfor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ably faster floating point oper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NPTL (Native Posix Threading Library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pipes for passing events instead of signal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mprove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HCP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alit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GA/SBC throughput increased by cca 3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Programmable PM trigger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Spike Removal on TbT, FA and SA d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Position calculation from ADC rate buffer (single pass, CW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utura Lt B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Futura Lt BT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Bugfix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PM buffer with d64 d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Faster AGC (@~1Hz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Integration of DLS Communication Controll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- Bugfix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  <p:sp>
        <p:nvSpPr>
          <p:cNvPr id="98" name="TextBox 5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262699"/>
                </a:solidFill>
                <a:latin typeface="Arial"/>
              </a:rPr>
              <a:t>Libera</a:t>
            </a: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 Brilliance/Electron Curr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500040" y="28584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Access to DSC Coeffic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/Instrumentation Technolog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If a component in the analog chain fails (behind analog switch), the measurement is still valid if the DSC (switching) is 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is is because the input signals are all rotated through all channel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is can result in slight position offset and slightly increased RM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uch status can be effectively diagnosed by monitoring the DSC (amplitude compensation) coefficien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00040" y="28584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Beam life-time Measu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664d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4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Libera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Brilliance ha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a potential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o rival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standard current monitors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in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peed &amp; stability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other advantage is that there are lots of Liberas around the ring, allowing better statistic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4d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4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Life-time measurement is based on the decay of the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averaged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A-Sum signal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(over certain period of time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00040" y="28584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Standard &amp; MAF Designs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Possibility to have the Standard &amp; the MAF design installed on memory inside each Libera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to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load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the desired design into FPGA by a local scri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possibly no need to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restart Tango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(or other control system)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device-servers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after a design chang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Bypass Notch when DSC (switching) o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SLS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The Notch filter in FA data chain is inserted to suppress the lower switching harmoni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If DSC is off, the Notch is not need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Could be usable for testing purposes since during normal operation DSC should be 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ADC Offset Compen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SLS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goal is to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achieve better accuracy for single pass position measurement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ADC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rate buffer, especially at lower ADC coun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Feature does not need any additional runtime parameter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imple calculation (here for channel A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hA_offset=mean(channelA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hannelA=channelA-ChA_offse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Timestamp on SA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SLS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o i</a:t>
                      </a:r>
                      <a:r>
                        <a:rPr b="0" lang="it-IT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clude timestamp in SA data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as an additional colum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is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hould be a counter which is reset with set-time trigger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ADC Underflow Che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(and Ordered)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goal is to prevent unnecessary Interlock triggering when the beam is los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algorithm checks the amplitude on all 4 chann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If the level is below predefined limits (e.g. 700 counts on 16bit ADCs) on all channels, the Interlock is not trigger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laz Erzetic</dc:creator>
  <dc:description/>
  <dc:language>en-US</dc:language>
  <cp:lastModifiedBy>Peter Leban</cp:lastModifiedBy>
  <dcterms:modified xsi:type="dcterms:W3CDTF">2009-06-21T23:27:38Z</dcterms:modified>
  <cp:revision>131</cp:revision>
  <dc:subject/>
  <dc:title>Slide 1</dc:title>
</cp:coreProperties>
</file>