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B95DA-32AA-48E7-925C-81E998AF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5400" y="801720"/>
            <a:ext cx="55688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5400" y="801720"/>
            <a:ext cx="55688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Block diagrams about who has what respo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1) Kernel vs Simulator/Component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2) Instrument vs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Block diagrams about who has what respo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1) Kernel vs Simulator/Component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2) Instrument vs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28B-476E-4E18-A095-AF82E110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63D-BB8B-4746-A271-9820B70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48-2181-4410-9412-942367C7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89F-FE27-4FE2-A80E-1F5F18A8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BF2-D42B-4CF0-9B72-86EED1A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BD1-9E39-4AFF-8EEC-8BE2AC72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87E-5A22-4460-9DF7-7372C28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CE0-15ED-42A4-A08E-4A45F24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5A1-095D-403D-8557-46A5021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964-1CB6-4269-B931-D934273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0DE-50D7-4B45-A385-787486A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60C-8FEE-4A00-BADB-370FC5C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686800" y="45720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. 25</a:t>
            </a:r>
            <a:r>
              <a:rPr b="0" lang="en-US" sz="14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39400" y="689436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ik Knudsen SMEX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A8839-70C1-4EB3-8C59-ED516D784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114800" y="6873840"/>
            <a:ext cx="130032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870440" y="6873840"/>
            <a:ext cx="1473120" cy="685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5673600" y="6873840"/>
            <a:ext cx="669960" cy="5716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748640" y="6873840"/>
            <a:ext cx="2309760" cy="549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6343560" y="6873840"/>
            <a:ext cx="167184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cxtrace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rik Knudsen, Peter Willendrup, Søren Schmi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isø-D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Kim Lef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University of Copenh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29920" y="542520"/>
            <a:ext cx="907092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Xtrace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X-ray Monte Carlo ray-tracing software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57200"/>
            <a:ext cx="1371600" cy="9144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828800"/>
            <a:ext cx="1828800" cy="6858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91" idx="2"/>
            <a:endCxn id="92" idx="0"/>
          </p:cNvCxnSpPr>
          <p:nvPr/>
        </p:nvCxnSpPr>
        <p:spPr>
          <a:xfrm>
            <a:off x="1600200" y="13716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7200" y="365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6576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514600"/>
            <a:ext cx="2971800" cy="2514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343400"/>
            <a:ext cx="914400" cy="144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0840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7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5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3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1141560"/>
            <a:ext cx="205740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rot="16200000">
            <a:off x="3315960" y="1601640"/>
            <a:ext cx="568440" cy="79704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3434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3434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886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19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4200" y="3994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46560" y="377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51400" y="37638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51400" y="423216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19400" y="423216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021200" y="37656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257800"/>
            <a:ext cx="5348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der / Single Crystal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and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60020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-Nielsen p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60020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J-Xray S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161928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RF ID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3106800"/>
            <a:ext cx="3365640" cy="215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58000" y="2971800"/>
            <a:ext cx="3048120" cy="227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48292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-Nielsen pet-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20280" y="2757600"/>
            <a:ext cx="90360" cy="183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138720" y="-369720"/>
            <a:ext cx="642960" cy="642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16200000">
            <a:off x="1964520" y="1901160"/>
            <a:ext cx="642960" cy="1885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6200000">
            <a:off x="1523160" y="1465920"/>
            <a:ext cx="642960" cy="2772000"/>
          </a:xfrm>
          <a:prstGeom prst="triangle">
            <a:avLst>
              <a:gd name="adj" fmla="val 50000"/>
            </a:avLst>
          </a:prstGeom>
          <a:solidFill>
            <a:srgbClr val="ffff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9760" y="3402000"/>
            <a:ext cx="1834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560" y="3584520"/>
            <a:ext cx="27511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55760" y="2470320"/>
            <a:ext cx="92160" cy="274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7200" y="2957400"/>
            <a:ext cx="9072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133640" y="1808280"/>
            <a:ext cx="496800" cy="1031760"/>
          </a:xfrm>
          <a:custGeom>
            <a:avLst/>
            <a:gdLst>
              <a:gd name="textAreaLeft" fmla="*/ 248400 w 496800"/>
              <a:gd name="textAreaRight" fmla="*/ 496800 w 496800"/>
              <a:gd name="textAreaTop" fmla="*/ 360 h 1031760"/>
              <a:gd name="textAreaBottom" fmla="*/ 516240 h 1031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3160" y="1863720"/>
            <a:ext cx="1174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Imag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h=(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 / p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52800" y="3046320"/>
            <a:ext cx="26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3160" y="3502080"/>
            <a:ext cx="26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4160" y="3390840"/>
            <a:ext cx="63928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0240" y="3067200"/>
            <a:ext cx="2570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17040" y="2178000"/>
            <a:ext cx="869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Sourc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4040" y="1870200"/>
            <a:ext cx="1429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Compact B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08240" y="2654280"/>
            <a:ext cx="2905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88620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88620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88560" y="35164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2560" y="48783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Example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32120" y="4800600"/>
                <a:ext cx="5397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J-Xray S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96012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72200" y="2057400"/>
            <a:ext cx="442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OpenSymbol"/>
                <a:ea typeface="Open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756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796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000" y="2057400"/>
            <a:ext cx="442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OpenSymbol"/>
                <a:ea typeface="Open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1828800"/>
            <a:ext cx="774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r>
              <a:rPr b="0" lang="en-US" sz="4000" spc="-1" strike="noStrike">
                <a:solidFill>
                  <a:srgbClr val="ff0000"/>
                </a:solidFill>
                <a:latin typeface="StarSymbol"/>
                <a:ea typeface="Star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2760" y="445680"/>
            <a:ext cx="95266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11 Primary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0200" y="2684520"/>
            <a:ext cx="921852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95266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11 Focussing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72300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ears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stdoc., 2 Ph.D.-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 w. SAX on Nanodi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vitation to every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as much as you w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GPL) =&gt; Copy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cxtra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: mcxtrace-users@mcxtra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570640"/>
            <a:ext cx="777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ds-on experience of neutron code: contact Peter Willendr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30520"/>
            <a:ext cx="8458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vs. Compon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betwee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X-ray&lt;-&gt;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vs.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osition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X-ray wav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generated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en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80" y="1263600"/>
            <a:ext cx="4761000" cy="551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86520" y="1270080"/>
            <a:ext cx="47606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62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ed code “buzzwor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arrasingly parallel” - linear speedup &lt;1000 nodes via MPI (as tested on Teragri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ver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dimentary adaptiv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senne Twister random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arameter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rop. =&gt; k domain  p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84804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59120" y="3649680"/>
            <a:ext cx="2743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,v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40320" y="3643200"/>
            <a:ext cx="27432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,k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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-ins with externa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hilos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one else does it well, interface not reinven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very simple versions in-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: Event files (from MCNPx, TRIPOLI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: S(q,w) (ab.initio model from VAS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371600"/>
            <a:ext cx="1440" cy="502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143000"/>
            <a:ext cx="2743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65680" y="1143000"/>
            <a:ext cx="2743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657600"/>
            <a:ext cx="2743200" cy="9144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486400"/>
            <a:ext cx="3200400" cy="13716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715000"/>
            <a:ext cx="2743200" cy="9144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54200" y="1684440"/>
            <a:ext cx="1720800" cy="1143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N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OL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18280" y="3429000"/>
            <a:ext cx="2743200" cy="1143000"/>
          </a:xfrm>
          <a:prstGeom prst="flowChartDocumen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iance Spec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89680" y="5486400"/>
            <a:ext cx="3200400" cy="1371600"/>
          </a:xfrm>
          <a:prstGeom prst="flowChartProcess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X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18280" y="5715000"/>
            <a:ext cx="2743200" cy="914400"/>
          </a:xfrm>
          <a:prstGeom prst="flowChartConnector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1684440"/>
            <a:ext cx="1600200" cy="1143000"/>
          </a:xfrm>
          <a:prstGeom prst="flowChartProcess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1" idx="2"/>
            <a:endCxn id="78" idx="0"/>
          </p:cNvCxnSpPr>
          <p:nvPr/>
        </p:nvCxnSpPr>
        <p:spPr>
          <a:xfrm>
            <a:off x="2514600" y="2827440"/>
            <a:ext cx="2160" cy="830880"/>
          </a:xfrm>
          <a:prstGeom prst="straightConnector1">
            <a:avLst/>
          </a:prstGeom>
          <a:ln w="73080">
            <a:solidFill>
              <a:srgbClr val="008080"/>
            </a:solidFill>
            <a:round/>
            <a:tailEnd len="med" type="triangle" w="med"/>
          </a:ln>
        </p:spPr>
      </p:cxnSp>
      <p:cxnSp>
        <p:nvCxnSpPr>
          <p:cNvPr id="87" name=""/>
          <p:cNvCxnSpPr>
            <a:stCxn id="78" idx="2"/>
            <a:endCxn id="80" idx="0"/>
          </p:cNvCxnSpPr>
          <p:nvPr/>
        </p:nvCxnSpPr>
        <p:spPr>
          <a:xfrm>
            <a:off x="2514600" y="4517640"/>
            <a:ext cx="2160" cy="1199160"/>
          </a:xfrm>
          <a:prstGeom prst="straightConnector1">
            <a:avLst/>
          </a:prstGeom>
          <a:ln w="73080">
            <a:solidFill>
              <a:srgbClr val="008080"/>
            </a:solidFill>
            <a:round/>
            <a:tailEnd len="med" type="triangle" w="med"/>
          </a:ln>
        </p:spPr>
      </p:cxnSp>
      <p:cxnSp>
        <p:nvCxnSpPr>
          <p:cNvPr id="88" name=""/>
          <p:cNvCxnSpPr>
            <a:stCxn id="85" idx="2"/>
            <a:endCxn id="82" idx="0"/>
          </p:cNvCxnSpPr>
          <p:nvPr/>
        </p:nvCxnSpPr>
        <p:spPr>
          <a:xfrm>
            <a:off x="7589880" y="2827080"/>
            <a:ext cx="2160" cy="602280"/>
          </a:xfrm>
          <a:prstGeom prst="straightConnector1">
            <a:avLst/>
          </a:prstGeom>
          <a:ln w="73080">
            <a:solidFill>
              <a:srgbClr val="800000"/>
            </a:solidFill>
            <a:round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4" idx="0"/>
          </p:cNvCxnSpPr>
          <p:nvPr/>
        </p:nvCxnSpPr>
        <p:spPr>
          <a:xfrm>
            <a:off x="7589880" y="4503240"/>
            <a:ext cx="2160" cy="1212120"/>
          </a:xfrm>
          <a:prstGeom prst="straightConnector1">
            <a:avLst/>
          </a:prstGeom>
          <a:ln w="73080">
            <a:solidFill>
              <a:srgbClr val="8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 Knudsen</dc:creator>
  <dc:description/>
  <dc:language>en-US</dc:language>
  <cp:lastModifiedBy>Erik Knudsen</cp:lastModifiedBy>
  <cp:revision>0</cp:revision>
  <dc:subject/>
  <dc:title/>
</cp:coreProperties>
</file>