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E8AE3-B791-4044-A79D-2E3ED1BD3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95400" y="801720"/>
            <a:ext cx="556884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95400" y="801720"/>
            <a:ext cx="556884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Block diagrams about who has what respo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1) Kernel vs Simulator/Component develo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2) Instrument vs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Block diagrams about who has what respo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1) Kernel vs Simulator/Component develo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2) Instrument vs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CB37-E86F-4F3A-BE88-B782DEB2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14A-5EDC-4C48-BB55-0D2E29E2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F17-689D-4CE6-B83C-40EB977E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8A3A-61FE-40E2-936E-B8544752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04BE-E086-4933-97C3-1B96C0EA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1B52-E48F-45D0-BBB6-9DC24780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CB8F-14E8-41EB-8A22-F4F43E84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CB97-33F7-4CDF-A69E-FC007E72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8440-AC5E-4F68-B23B-5B9E8083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3FDF-B444-401B-9927-5ED7F353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A238-A62F-4702-BB91-88ABE082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12B4-F85E-4A32-BD85-51FEA491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686800" y="457200"/>
            <a:ext cx="139392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b. 25</a:t>
            </a:r>
            <a:r>
              <a:rPr b="0" lang="en-US" sz="1400" spc="-1" strike="noStrike" baseline="33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139400" y="689436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ik Knudsen SMEX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08FE4-2D19-41D4-ABD3-AC2785F0A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114800" y="6873840"/>
            <a:ext cx="130032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4870440" y="6873840"/>
            <a:ext cx="1473120" cy="6858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5673600" y="6873840"/>
            <a:ext cx="669960" cy="5716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7748640" y="6873840"/>
            <a:ext cx="2309760" cy="5493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6343560" y="6873840"/>
            <a:ext cx="167184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cxtrace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-215640"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Erik Knudsen, Peter Willendrup, Søren Schmi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Risø-D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Kim Lef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University of Copenh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529920" y="542520"/>
            <a:ext cx="907092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Xtrace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X-ray Monte Carlo ray-tracing software pac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 C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457200"/>
            <a:ext cx="1371600" cy="9144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RAP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828800"/>
            <a:ext cx="1828800" cy="6858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io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>
            <a:stCxn id="91" idx="2"/>
            <a:endCxn id="92" idx="0"/>
          </p:cNvCxnSpPr>
          <p:nvPr/>
        </p:nvCxnSpPr>
        <p:spPr>
          <a:xfrm>
            <a:off x="1600200" y="1371600"/>
            <a:ext cx="2160" cy="4579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57200" y="3657600"/>
            <a:ext cx="45720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36576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2514600"/>
            <a:ext cx="2971800" cy="25146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4343400"/>
            <a:ext cx="914400" cy="1440"/>
          </a:xfrm>
          <a:prstGeom prst="line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3657600"/>
            <a:ext cx="228600" cy="914400"/>
          </a:xfrm>
          <a:custGeom>
            <a:avLst/>
            <a:gdLst/>
            <a:ahLst/>
            <a:rect l="l" t="t" r="r" b="b"/>
            <a:pathLst>
              <a:path w="636" h="2541">
                <a:moveTo>
                  <a:pt x="0" y="0"/>
                </a:moveTo>
                <a:cubicBezTo>
                  <a:pt x="635" y="1270"/>
                  <a:pt x="0" y="2540"/>
                  <a:pt x="0" y="25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08400" y="3657600"/>
            <a:ext cx="228600" cy="914400"/>
          </a:xfrm>
          <a:custGeom>
            <a:avLst/>
            <a:gdLst/>
            <a:ahLst/>
            <a:rect l="l" t="t" r="r" b="b"/>
            <a:pathLst>
              <a:path w="636" h="2541">
                <a:moveTo>
                  <a:pt x="0" y="0"/>
                </a:moveTo>
                <a:cubicBezTo>
                  <a:pt x="635" y="1270"/>
                  <a:pt x="0" y="2540"/>
                  <a:pt x="0" y="25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7840" y="3657600"/>
            <a:ext cx="228600" cy="914400"/>
          </a:xfrm>
          <a:custGeom>
            <a:avLst/>
            <a:gdLst/>
            <a:ahLst/>
            <a:rect l="l" t="t" r="r" b="b"/>
            <a:pathLst>
              <a:path w="636" h="2541">
                <a:moveTo>
                  <a:pt x="0" y="0"/>
                </a:moveTo>
                <a:cubicBezTo>
                  <a:pt x="635" y="1270"/>
                  <a:pt x="0" y="2540"/>
                  <a:pt x="0" y="25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25840" y="3657600"/>
            <a:ext cx="228600" cy="914400"/>
          </a:xfrm>
          <a:custGeom>
            <a:avLst/>
            <a:gdLst/>
            <a:ahLst/>
            <a:rect l="l" t="t" r="r" b="b"/>
            <a:pathLst>
              <a:path w="636" h="2541">
                <a:moveTo>
                  <a:pt x="0" y="0"/>
                </a:moveTo>
                <a:cubicBezTo>
                  <a:pt x="635" y="1270"/>
                  <a:pt x="0" y="2540"/>
                  <a:pt x="0" y="25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3840" y="3657600"/>
            <a:ext cx="228600" cy="914400"/>
          </a:xfrm>
          <a:custGeom>
            <a:avLst/>
            <a:gdLst/>
            <a:ahLst/>
            <a:rect l="l" t="t" r="r" b="b"/>
            <a:pathLst>
              <a:path w="636" h="2541">
                <a:moveTo>
                  <a:pt x="0" y="0"/>
                </a:moveTo>
                <a:cubicBezTo>
                  <a:pt x="635" y="1270"/>
                  <a:pt x="0" y="2540"/>
                  <a:pt x="0" y="25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943600" y="1141560"/>
            <a:ext cx="2057400" cy="1831680"/>
          </a:xfrm>
          <a:prstGeom prst="line">
            <a:avLst/>
          </a:prstGeom>
          <a:ln w="73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rot="16200000">
            <a:off x="3315960" y="1601640"/>
            <a:ext cx="568440" cy="797040"/>
          </a:xfrm>
          <a:custGeom>
            <a:avLst/>
            <a:gdLst/>
            <a:ahLst/>
            <a:rect l="l" t="t" r="r" b="b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434340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434340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388620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388620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4114800"/>
            <a:ext cx="228600" cy="228600"/>
          </a:xfrm>
          <a:prstGeom prst="ellipse">
            <a:avLst/>
          </a:prstGeom>
          <a:solidFill>
            <a:srgbClr val="198a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365760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657600"/>
            <a:ext cx="22860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94200" y="3994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46560" y="37782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451400" y="3763800"/>
            <a:ext cx="22860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451400" y="4232160"/>
            <a:ext cx="22860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19400" y="4232160"/>
            <a:ext cx="22860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021200" y="3765600"/>
            <a:ext cx="22860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5257800"/>
            <a:ext cx="5348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der / Single Crystal compon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and 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600200"/>
            <a:ext cx="32004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-Nielsen pet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1600200"/>
            <a:ext cx="32004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J-Xray S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1619280"/>
            <a:ext cx="32004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RF ID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00400" y="3106800"/>
            <a:ext cx="3365640" cy="2151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858000" y="2971800"/>
            <a:ext cx="3048120" cy="2276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2482920" cy="27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s-Nielsen pet-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20280" y="2757600"/>
            <a:ext cx="90360" cy="183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6138720" y="-369720"/>
            <a:ext cx="642960" cy="6424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rot="16200000">
            <a:off x="1964520" y="1901160"/>
            <a:ext cx="642960" cy="18856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rot="16200000">
            <a:off x="1523160" y="1465920"/>
            <a:ext cx="642960" cy="2772000"/>
          </a:xfrm>
          <a:prstGeom prst="triangle">
            <a:avLst>
              <a:gd name="adj" fmla="val 50000"/>
            </a:avLst>
          </a:prstGeom>
          <a:solidFill>
            <a:srgbClr val="ffff9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9760" y="3402000"/>
            <a:ext cx="18349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3560" y="3584520"/>
            <a:ext cx="27511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55760" y="2470320"/>
            <a:ext cx="92160" cy="274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57200" y="2957400"/>
            <a:ext cx="9072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1133640" y="1808280"/>
            <a:ext cx="496800" cy="1031760"/>
          </a:xfrm>
          <a:custGeom>
            <a:avLst/>
            <a:gdLst>
              <a:gd name="textAreaLeft" fmla="*/ 248400 w 496800"/>
              <a:gd name="textAreaRight" fmla="*/ 496800 w 496800"/>
              <a:gd name="textAreaTop" fmla="*/ 360 h 1031760"/>
              <a:gd name="textAreaBottom" fmla="*/ 516240 h 103176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73160" y="1863720"/>
            <a:ext cx="11746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Image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h=(f</a:t>
            </a:r>
            <a:r>
              <a:rPr b="0" i="1" lang="da-DK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 / p</a:t>
            </a:r>
            <a:r>
              <a:rPr b="0" i="1" lang="da-DK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da-DK" sz="1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52800" y="3046320"/>
            <a:ext cx="267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a-DK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13160" y="3502080"/>
            <a:ext cx="267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a-DK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24160" y="3390840"/>
            <a:ext cx="63928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80240" y="3067200"/>
            <a:ext cx="2570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717040" y="2178000"/>
            <a:ext cx="8694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2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Source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da-DK" sz="1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14040" y="1870200"/>
            <a:ext cx="14299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Compact B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a-DK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da-DK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i="1" lang="da-DK" sz="1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a-DK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da-DK" sz="12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=(</a:t>
            </a:r>
            <a:r>
              <a:rPr b="0" i="1" lang="da-DK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da-DK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</a:t>
            </a: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a-DK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da-DK" sz="12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=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08240" y="2654280"/>
            <a:ext cx="29052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3886200"/>
            <a:ext cx="512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OpenSymbol"/>
                <a:ea typeface="OpenSymbol"/>
              </a:rPr>
              <a:t>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3886200"/>
            <a:ext cx="512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OpenSymbol"/>
                <a:ea typeface="OpenSymbol"/>
              </a:rPr>
              <a:t>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88560" y="3516480"/>
            <a:ext cx="512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OpenSymbol"/>
                <a:ea typeface="OpenSymbol"/>
              </a:rPr>
              <a:t>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02560" y="4878360"/>
            <a:ext cx="8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da-DK" sz="1200" spc="-1" strike="noStrike">
                <a:solidFill>
                  <a:srgbClr val="000000"/>
                </a:solidFill>
                <a:latin typeface="Times New Roman"/>
              </a:rPr>
              <a:t>Example 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832120" y="4800600"/>
                <a:ext cx="5397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ΔE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J-Xray S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9601200" cy="2971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172200" y="2057400"/>
            <a:ext cx="4428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OpenSymbol"/>
                <a:ea typeface="OpenSymbol"/>
              </a:rPr>
              <a:t>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7560" y="1916280"/>
            <a:ext cx="512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OpenSymbol"/>
                <a:ea typeface="OpenSymbol"/>
              </a:rPr>
              <a:t>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1916280"/>
            <a:ext cx="512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OpenSymbol"/>
                <a:ea typeface="OpenSymbol"/>
              </a:rPr>
              <a:t>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7960" y="1916280"/>
            <a:ext cx="5126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OpenSymbol"/>
                <a:ea typeface="OpenSymbol"/>
              </a:rPr>
              <a:t>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000" y="2057400"/>
            <a:ext cx="4428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OpenSymbol"/>
                <a:ea typeface="OpenSymbol"/>
              </a:rPr>
              <a:t>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686800" y="1828800"/>
            <a:ext cx="7747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OpenSymbol"/>
                <a:ea typeface="OpenSymbol"/>
              </a:rPr>
              <a:t>✔</a:t>
            </a:r>
            <a:r>
              <a:rPr b="0" lang="en-US" sz="4000" spc="-1" strike="noStrike">
                <a:solidFill>
                  <a:srgbClr val="ff0000"/>
                </a:solidFill>
                <a:latin typeface="StarSymbol"/>
                <a:ea typeface="StarSymbol"/>
              </a:rPr>
              <a:t>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2760" y="445680"/>
            <a:ext cx="95266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11 Primary op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30200" y="2684520"/>
            <a:ext cx="9218520" cy="36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445680"/>
            <a:ext cx="95266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D11 Focussing Op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723000" cy="51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I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years 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ostdoc., 2 Ph.D.-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tion w. SAX on Nanodis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 of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nvitation to every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as much as you wis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GPL) =&gt; Copyl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mcxtra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: mcxtrace-users@mcxtra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5570640"/>
            <a:ext cx="77724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ands-on experience of neutron code: contact Peter Willendru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730520"/>
            <a:ext cx="845820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vs. Component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gation between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s X-ray&lt;-&gt;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51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 vs.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positions of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with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with X-ray wave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generated 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een by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8680" y="1263600"/>
            <a:ext cx="4761000" cy="5516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86520" y="1270080"/>
            <a:ext cx="476064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ment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67626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ed code “buzzword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barrasingly parallel” - linear speedup &lt;1000 nodes via MPI (as tested on Teragri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ver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dimentary adaptiv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senne Twister random 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parameter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domain prop. =&gt; k domain  pr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384804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59120" y="3649680"/>
            <a:ext cx="27432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,v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,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40320" y="3643200"/>
            <a:ext cx="274320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,k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Standard Symbols L"/>
                <a:ea typeface="Standard Symbols L"/>
              </a:rPr>
              <a:t>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e-ins with external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Philosoph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meone else does it well, interface not reinvent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very simple versions in-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: Event files (from MCNPx, TRIPOLI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: S(q,w) (ab.initio model from VASP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1371600"/>
            <a:ext cx="1440" cy="5029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143000"/>
            <a:ext cx="2743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65680" y="1143000"/>
            <a:ext cx="2743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3657600"/>
            <a:ext cx="2743200" cy="9144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5486400"/>
            <a:ext cx="3200400" cy="13716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5715000"/>
            <a:ext cx="2743200" cy="914400"/>
          </a:xfrm>
          <a:prstGeom prst="flowChartConnector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54200" y="1684440"/>
            <a:ext cx="1720800" cy="11430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N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OLI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18280" y="3429000"/>
            <a:ext cx="2743200" cy="1143000"/>
          </a:xfrm>
          <a:prstGeom prst="flowChartDocument">
            <a:avLst/>
          </a:prstGeom>
          <a:solidFill>
            <a:srgbClr val="dc2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lliance Spect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89680" y="5486400"/>
            <a:ext cx="3200400" cy="1371600"/>
          </a:xfrm>
          <a:prstGeom prst="flowChartProcess">
            <a:avLst/>
          </a:prstGeom>
          <a:solidFill>
            <a:srgbClr val="dc2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X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18280" y="5715000"/>
            <a:ext cx="2743200" cy="914400"/>
          </a:xfrm>
          <a:prstGeom prst="flowChartConnector">
            <a:avLst/>
          </a:prstGeom>
          <a:solidFill>
            <a:srgbClr val="dc2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1684440"/>
            <a:ext cx="1600200" cy="1143000"/>
          </a:xfrm>
          <a:prstGeom prst="flowChartProcess">
            <a:avLst/>
          </a:prstGeom>
          <a:solidFill>
            <a:srgbClr val="dc2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1" idx="2"/>
            <a:endCxn id="78" idx="0"/>
          </p:cNvCxnSpPr>
          <p:nvPr/>
        </p:nvCxnSpPr>
        <p:spPr>
          <a:xfrm>
            <a:off x="2514600" y="2827440"/>
            <a:ext cx="2160" cy="830880"/>
          </a:xfrm>
          <a:prstGeom prst="straightConnector1">
            <a:avLst/>
          </a:prstGeom>
          <a:ln w="73080">
            <a:solidFill>
              <a:srgbClr val="008080"/>
            </a:solidFill>
            <a:round/>
            <a:tailEnd len="med" type="triangle" w="med"/>
          </a:ln>
        </p:spPr>
      </p:cxnSp>
      <p:cxnSp>
        <p:nvCxnSpPr>
          <p:cNvPr id="87" name=""/>
          <p:cNvCxnSpPr>
            <a:stCxn id="78" idx="2"/>
            <a:endCxn id="80" idx="0"/>
          </p:cNvCxnSpPr>
          <p:nvPr/>
        </p:nvCxnSpPr>
        <p:spPr>
          <a:xfrm>
            <a:off x="2514600" y="4517640"/>
            <a:ext cx="2160" cy="1199160"/>
          </a:xfrm>
          <a:prstGeom prst="straightConnector1">
            <a:avLst/>
          </a:prstGeom>
          <a:ln w="73080">
            <a:solidFill>
              <a:srgbClr val="008080"/>
            </a:solidFill>
            <a:round/>
            <a:tailEnd len="med" type="triangle" w="med"/>
          </a:ln>
        </p:spPr>
      </p:cxnSp>
      <p:cxnSp>
        <p:nvCxnSpPr>
          <p:cNvPr id="88" name=""/>
          <p:cNvCxnSpPr>
            <a:stCxn id="85" idx="2"/>
            <a:endCxn id="82" idx="0"/>
          </p:cNvCxnSpPr>
          <p:nvPr/>
        </p:nvCxnSpPr>
        <p:spPr>
          <a:xfrm>
            <a:off x="7589880" y="2827080"/>
            <a:ext cx="2160" cy="602280"/>
          </a:xfrm>
          <a:prstGeom prst="straightConnector1">
            <a:avLst/>
          </a:prstGeom>
          <a:ln w="73080">
            <a:solidFill>
              <a:srgbClr val="800000"/>
            </a:solidFill>
            <a:round/>
            <a:tailEnd len="med" type="triangle" w="med"/>
          </a:ln>
        </p:spPr>
      </p:cxnSp>
      <p:cxnSp>
        <p:nvCxnSpPr>
          <p:cNvPr id="89" name=""/>
          <p:cNvCxnSpPr>
            <a:stCxn id="82" idx="2"/>
            <a:endCxn id="84" idx="0"/>
          </p:cNvCxnSpPr>
          <p:nvPr/>
        </p:nvCxnSpPr>
        <p:spPr>
          <a:xfrm>
            <a:off x="7589880" y="4503240"/>
            <a:ext cx="2160" cy="1212120"/>
          </a:xfrm>
          <a:prstGeom prst="straightConnector1">
            <a:avLst/>
          </a:prstGeom>
          <a:ln w="73080">
            <a:solidFill>
              <a:srgbClr val="800000"/>
            </a:solidFill>
            <a:round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k Knudsen</dc:creator>
  <dc:description/>
  <dc:language>en-US</dc:language>
  <cp:lastModifiedBy>Erik Knudsen</cp:lastModifiedBy>
  <cp:revision>0</cp:revision>
  <dc:subject/>
  <dc:title/>
</cp:coreProperties>
</file>