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BC70-70DF-4A5B-ADA3-DAF55808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EC7-E942-4355-852D-304A5A7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910-4CB2-4DEF-8CAB-91974ACC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D4E-3B88-4BBB-9A26-876EB913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4E2A-4166-4CE8-B20C-16282CD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DEBB-78DA-42BE-9D11-A30288FE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E559-40C4-436B-B90D-5F2CF20A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DF2D-DF47-4CD1-B572-99E88E7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7DB0-FCF6-4884-B72C-FD1911F5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190C-285A-4DD9-94E6-5F9F0457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593-68A2-4C9D-9CE0-D40DF91D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1FB-FF50-4594-A2E3-C93E33A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7455-2DCD-41EB-BFC6-8F037B3B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F680-D350-438A-81CE-55AC1B8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A5F-D86B-46FD-8D71-D60CE821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410-DC1B-45C5-8E43-28BE7A1F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3088-1443-4902-9167-C22E9AD2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99E-3A1E-4F05-83F1-5C8EA7F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ED6-CF66-4DAB-9437-8F33B128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DB9-0389-4D3F-8CBA-67892768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EE62-2226-4778-B295-E63FAD22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58A-D53E-4282-AF7F-623363F7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1E2-0F65-41B7-B3A1-E02049C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398-1E44-4082-8C2D-F316913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e9e9e"/>
              </a:gs>
              <a:gs pos="50000">
                <a:srgbClr val="ffffff">
                  <a:alpha val="50196"/>
                </a:srgbClr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727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the length of the bunches in  the ESRF storage ring using microwave cavity pick up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2"/>
          <p:cNvSpPr/>
          <p:nvPr/>
        </p:nvSpPr>
        <p:spPr>
          <a:xfrm>
            <a:off x="5076720" y="2724120"/>
            <a:ext cx="3938760" cy="253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ch length variation caused by a change of the RF amplitude, monitored using the streak camera and the microwave signal moni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32mA, stored in 992 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: Lib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: Streak cam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250920" y="2189160"/>
            <a:ext cx="46288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5219640" y="2781360"/>
            <a:ext cx="3745080" cy="253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ch length variation caused by a change of the RF amplitude, monitored using the streak camera and the microwave signal moni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32mA, stored in 32 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: Lib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: Streak camera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5529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168720" cy="2444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5133960" y="2494080"/>
            <a:ext cx="3081240" cy="25160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971640" y="4869000"/>
            <a:ext cx="3168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ms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133960" y="4869000"/>
            <a:ext cx="30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KHz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11"/>
          <p:cNvCxnSpPr/>
          <p:nvPr/>
        </p:nvCxnSpPr>
        <p:spPr>
          <a:xfrm>
            <a:off x="1834920" y="2997000"/>
            <a:ext cx="1080" cy="1656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TextBox 12"/>
          <p:cNvSpPr/>
          <p:nvPr/>
        </p:nvSpPr>
        <p:spPr>
          <a:xfrm>
            <a:off x="176364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5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1913760" y="1922400"/>
            <a:ext cx="4452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unch filling, 65 mA (end of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15"/>
          <p:cNvCxnSpPr/>
          <p:nvPr/>
        </p:nvCxnSpPr>
        <p:spPr>
          <a:xfrm flipH="1">
            <a:off x="5866920" y="3141720"/>
            <a:ext cx="807120" cy="513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TextBox 16"/>
          <p:cNvSpPr/>
          <p:nvPr/>
        </p:nvSpPr>
        <p:spPr>
          <a:xfrm>
            <a:off x="6684480" y="2886120"/>
            <a:ext cx="14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ed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914400" y="2759040"/>
            <a:ext cx="3225960" cy="252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4859280" y="2759040"/>
            <a:ext cx="3083040" cy="2411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914400" y="5065560"/>
            <a:ext cx="32259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ms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"/>
          <p:cNvCxnSpPr/>
          <p:nvPr/>
        </p:nvCxnSpPr>
        <p:spPr>
          <a:xfrm>
            <a:off x="1763280" y="2976120"/>
            <a:ext cx="1080" cy="2089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4" name="TextBox 11"/>
          <p:cNvSpPr/>
          <p:nvPr/>
        </p:nvSpPr>
        <p:spPr>
          <a:xfrm>
            <a:off x="1766520" y="36529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4859280" y="5043600"/>
            <a:ext cx="3083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KHz full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57520" y="4021200"/>
            <a:ext cx="144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ated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Straight Arrow Connector 15"/>
          <p:cNvCxnSpPr/>
          <p:nvPr/>
        </p:nvCxnSpPr>
        <p:spPr>
          <a:xfrm flipH="1">
            <a:off x="6084360" y="4447800"/>
            <a:ext cx="216720" cy="329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Straight Arrow Connector 17"/>
          <p:cNvCxnSpPr/>
          <p:nvPr/>
        </p:nvCxnSpPr>
        <p:spPr>
          <a:xfrm flipH="1">
            <a:off x="5364000" y="3450960"/>
            <a:ext cx="648360" cy="540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TextBox 18"/>
          <p:cNvSpPr/>
          <p:nvPr/>
        </p:nvSpPr>
        <p:spPr>
          <a:xfrm>
            <a:off x="6118920" y="3137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9"/>
          <p:cNvSpPr/>
          <p:nvPr/>
        </p:nvSpPr>
        <p:spPr>
          <a:xfrm>
            <a:off x="1952280" y="1922400"/>
            <a:ext cx="492948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bunch filling, 85 mA (just after the ref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3060360" y="5861160"/>
            <a:ext cx="300924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y different patter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of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176560" y="1743120"/>
            <a:ext cx="4790880" cy="37051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866960" y="54705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nch length spectrum evolution during a 5 hours decay from 90 to 7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6"/>
          <p:cNvCxnSpPr/>
          <p:nvPr/>
        </p:nvCxnSpPr>
        <p:spPr>
          <a:xfrm>
            <a:off x="1866600" y="1988640"/>
            <a:ext cx="1080" cy="30963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6" name="TextBox 7"/>
          <p:cNvSpPr/>
          <p:nvPr/>
        </p:nvSpPr>
        <p:spPr>
          <a:xfrm>
            <a:off x="179280" y="3316320"/>
            <a:ext cx="16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KHz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3236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396720" y="2492280"/>
            <a:ext cx="8780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nice addition to the streak cam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lways available without any tuning (for permanent data logg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data rat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 picosecond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ires an initial calibration using a streak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es not give any information on the bunch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ar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ead of a cavity pick up, a strip line followed by narrow bandwidth band pass filters could probably work as well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the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assume (but it is wrong) that the longitudinal bunch profile is a Gaussian, we can derive the bunch length value from the measurement of the current spectrum at only two frequencies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f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us take 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0 and lets us be clever with the choice of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"/>
          <p:cNvGraphicFramePr/>
          <p:nvPr/>
        </p:nvGraphicFramePr>
        <p:xfrm>
          <a:off x="623880" y="723960"/>
          <a:ext cx="7896240" cy="5410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3880" y="723960"/>
                    <a:ext cx="78962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(f) current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79640" y="1773360"/>
            <a:ext cx="4609800" cy="3905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9640" y="5265360"/>
            <a:ext cx="4644720" cy="4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GHz full s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233400" y="3141720"/>
            <a:ext cx="2288520" cy="703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le: multi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:16bu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2735280" y="1989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564000" y="1989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388320" y="42926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734920" y="32400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crowave pick-up signal processing (RF front e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80"/>
          <p:cNvGrpSpPr/>
          <p:nvPr/>
        </p:nvGrpSpPr>
        <p:grpSpPr>
          <a:xfrm>
            <a:off x="1523880" y="1523880"/>
            <a:ext cx="6467760" cy="4101840"/>
            <a:chOff x="1523880" y="1523880"/>
            <a:chExt cx="6467760" cy="4101840"/>
          </a:xfrm>
        </p:grpSpPr>
        <p:grpSp>
          <p:nvGrpSpPr>
            <p:cNvPr id="106" name="Group 57"/>
            <p:cNvGrpSpPr/>
            <p:nvPr/>
          </p:nvGrpSpPr>
          <p:grpSpPr>
            <a:xfrm>
              <a:off x="1523880" y="2133360"/>
              <a:ext cx="4724280" cy="2971800"/>
              <a:chOff x="1523880" y="2133360"/>
              <a:chExt cx="4724280" cy="2971800"/>
            </a:xfrm>
          </p:grpSpPr>
          <p:grpSp>
            <p:nvGrpSpPr>
              <p:cNvPr id="107" name="Group 41"/>
              <p:cNvGrpSpPr/>
              <p:nvPr/>
            </p:nvGrpSpPr>
            <p:grpSpPr>
              <a:xfrm>
                <a:off x="1523880" y="2438640"/>
                <a:ext cx="2437920" cy="2361960"/>
                <a:chOff x="1523880" y="2438640"/>
                <a:chExt cx="2437920" cy="2361960"/>
              </a:xfrm>
            </p:grpSpPr>
            <p:grpSp>
              <p:nvGrpSpPr>
                <p:cNvPr id="108" name="Group 29"/>
                <p:cNvGrpSpPr/>
                <p:nvPr/>
              </p:nvGrpSpPr>
              <p:grpSpPr>
                <a:xfrm>
                  <a:off x="2209320" y="2438640"/>
                  <a:ext cx="1066680" cy="838080"/>
                  <a:chOff x="2209320" y="2438640"/>
                  <a:chExt cx="1066680" cy="838080"/>
                </a:xfrm>
              </p:grpSpPr>
              <p:sp>
                <p:nvSpPr>
                  <p:cNvPr id="109" name="Rectangle 8"/>
                  <p:cNvSpPr/>
                  <p:nvPr/>
                </p:nvSpPr>
                <p:spPr>
                  <a:xfrm>
                    <a:off x="2209320" y="2514600"/>
                    <a:ext cx="1066680" cy="7621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Rectangle 9"/>
                  <p:cNvSpPr/>
                  <p:nvPr/>
                </p:nvSpPr>
                <p:spPr>
                  <a:xfrm>
                    <a:off x="2361600" y="2590920"/>
                    <a:ext cx="761400" cy="60948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Rectangle 10"/>
                  <p:cNvSpPr/>
                  <p:nvPr/>
                </p:nvSpPr>
                <p:spPr>
                  <a:xfrm>
                    <a:off x="2628360" y="3200400"/>
                    <a:ext cx="22824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Rectangle 27"/>
                  <p:cNvSpPr/>
                  <p:nvPr/>
                </p:nvSpPr>
                <p:spPr>
                  <a:xfrm>
                    <a:off x="2666160" y="2514600"/>
                    <a:ext cx="15228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24"/>
                  <p:cNvSpPr/>
                  <p:nvPr/>
                </p:nvSpPr>
                <p:spPr>
                  <a:xfrm>
                    <a:off x="2742480" y="2438640"/>
                    <a:ext cx="0" cy="1522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28"/>
                  <p:cNvSpPr/>
                  <p:nvPr/>
                </p:nvSpPr>
                <p:spPr>
                  <a:xfrm>
                    <a:off x="2733120" y="2594160"/>
                    <a:ext cx="17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74">
                        <a:moveTo>
                          <a:pt x="2" y="0"/>
                        </a:moveTo>
                        <a:cubicBezTo>
                          <a:pt x="5" y="18"/>
                          <a:pt x="0" y="41"/>
                          <a:pt x="12" y="55"/>
                        </a:cubicBezTo>
                        <a:cubicBezTo>
                          <a:pt x="25" y="70"/>
                          <a:pt x="67" y="74"/>
                          <a:pt x="67" y="74"/>
                        </a:cubicBezTo>
                        <a:cubicBezTo>
                          <a:pt x="98" y="63"/>
                          <a:pt x="113" y="53"/>
                          <a:pt x="113" y="18"/>
                        </a:cubicBezTo>
                      </a:path>
                    </a:pathLst>
                  </a:custGeom>
                  <a:noFill/>
                  <a:ln cap="sq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0"/>
                <p:cNvGrpSpPr/>
                <p:nvPr/>
              </p:nvGrpSpPr>
              <p:grpSpPr>
                <a:xfrm>
                  <a:off x="2209320" y="3962520"/>
                  <a:ext cx="1066680" cy="838080"/>
                  <a:chOff x="2209320" y="3962520"/>
                  <a:chExt cx="1066680" cy="838080"/>
                </a:xfrm>
              </p:grpSpPr>
              <p:sp>
                <p:nvSpPr>
                  <p:cNvPr id="116" name="Rectangle 31"/>
                  <p:cNvSpPr/>
                  <p:nvPr/>
                </p:nvSpPr>
                <p:spPr>
                  <a:xfrm flipV="1">
                    <a:off x="2209320" y="3962160"/>
                    <a:ext cx="1066680" cy="7621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32"/>
                  <p:cNvSpPr/>
                  <p:nvPr/>
                </p:nvSpPr>
                <p:spPr>
                  <a:xfrm flipV="1">
                    <a:off x="2361600" y="4038480"/>
                    <a:ext cx="761400" cy="60948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Rectangle 33"/>
                  <p:cNvSpPr/>
                  <p:nvPr/>
                </p:nvSpPr>
                <p:spPr>
                  <a:xfrm flipV="1">
                    <a:off x="2628360" y="3962520"/>
                    <a:ext cx="22824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34"/>
                  <p:cNvSpPr/>
                  <p:nvPr/>
                </p:nvSpPr>
                <p:spPr>
                  <a:xfrm flipV="1">
                    <a:off x="2666160" y="4648320"/>
                    <a:ext cx="152280" cy="76320"/>
                  </a:xfrm>
                  <a:prstGeom prst="rect">
                    <a:avLst/>
                  </a:prstGeom>
                  <a:solidFill>
                    <a:srgbClr val="eaeaea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35"/>
                  <p:cNvSpPr/>
                  <p:nvPr/>
                </p:nvSpPr>
                <p:spPr>
                  <a:xfrm flipV="1">
                    <a:off x="2742480" y="4648320"/>
                    <a:ext cx="0" cy="15228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36"/>
                  <p:cNvSpPr/>
                  <p:nvPr/>
                </p:nvSpPr>
                <p:spPr>
                  <a:xfrm flipV="1">
                    <a:off x="2733120" y="4527720"/>
                    <a:ext cx="17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74">
                        <a:moveTo>
                          <a:pt x="2" y="0"/>
                        </a:moveTo>
                        <a:cubicBezTo>
                          <a:pt x="5" y="18"/>
                          <a:pt x="0" y="41"/>
                          <a:pt x="12" y="55"/>
                        </a:cubicBezTo>
                        <a:cubicBezTo>
                          <a:pt x="25" y="70"/>
                          <a:pt x="67" y="74"/>
                          <a:pt x="67" y="74"/>
                        </a:cubicBezTo>
                        <a:cubicBezTo>
                          <a:pt x="98" y="63"/>
                          <a:pt x="113" y="53"/>
                          <a:pt x="113" y="18"/>
                        </a:cubicBezTo>
                      </a:path>
                    </a:pathLst>
                  </a:custGeom>
                  <a:noFill/>
                  <a:ln cap="sq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37"/>
                <p:cNvSpPr/>
                <p:nvPr/>
              </p:nvSpPr>
              <p:spPr>
                <a:xfrm>
                  <a:off x="1599840" y="3276720"/>
                  <a:ext cx="106632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8"/>
                <p:cNvSpPr/>
                <p:nvPr/>
              </p:nvSpPr>
              <p:spPr>
                <a:xfrm>
                  <a:off x="2895120" y="32767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9"/>
                <p:cNvSpPr/>
                <p:nvPr/>
              </p:nvSpPr>
              <p:spPr>
                <a:xfrm>
                  <a:off x="1523880" y="39625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40"/>
                <p:cNvSpPr/>
                <p:nvPr/>
              </p:nvSpPr>
              <p:spPr>
                <a:xfrm>
                  <a:off x="2895120" y="3962520"/>
                  <a:ext cx="1066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2743200" y="2133360"/>
                <a:ext cx="1904760" cy="1067400"/>
                <a:chOff x="2743200" y="2133360"/>
                <a:chExt cx="1904760" cy="1067400"/>
              </a:xfrm>
            </p:grpSpPr>
            <p:sp>
              <p:nvSpPr>
                <p:cNvPr id="127" name="Line 44"/>
                <p:cNvSpPr/>
                <p:nvPr/>
              </p:nvSpPr>
              <p:spPr>
                <a:xfrm flipV="1">
                  <a:off x="2743200" y="2133360"/>
                  <a:ext cx="0" cy="3049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7"/>
                <p:cNvSpPr/>
                <p:nvPr/>
              </p:nvSpPr>
              <p:spPr>
                <a:xfrm>
                  <a:off x="2743200" y="2133720"/>
                  <a:ext cx="190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8"/>
                <p:cNvSpPr/>
                <p:nvPr/>
              </p:nvSpPr>
              <p:spPr>
                <a:xfrm>
                  <a:off x="4647960" y="2133720"/>
                  <a:ext cx="0" cy="10670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Rectangle 49"/>
              <p:cNvSpPr/>
              <p:nvPr/>
            </p:nvSpPr>
            <p:spPr>
              <a:xfrm>
                <a:off x="4267080" y="3200760"/>
                <a:ext cx="838080" cy="83808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50"/>
              <p:cNvSpPr/>
              <p:nvPr/>
            </p:nvSpPr>
            <p:spPr>
              <a:xfrm>
                <a:off x="5486400" y="3353040"/>
                <a:ext cx="761760" cy="60948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1"/>
              <p:cNvSpPr/>
              <p:nvPr/>
            </p:nvSpPr>
            <p:spPr>
              <a:xfrm>
                <a:off x="5105160" y="3657960"/>
                <a:ext cx="3812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Group 53"/>
              <p:cNvGrpSpPr/>
              <p:nvPr/>
            </p:nvGrpSpPr>
            <p:grpSpPr>
              <a:xfrm>
                <a:off x="2743200" y="4038480"/>
                <a:ext cx="1904760" cy="1066680"/>
                <a:chOff x="2743200" y="4038480"/>
                <a:chExt cx="1904760" cy="1066680"/>
              </a:xfrm>
            </p:grpSpPr>
            <p:sp>
              <p:nvSpPr>
                <p:cNvPr id="134" name="Line 54"/>
                <p:cNvSpPr/>
                <p:nvPr/>
              </p:nvSpPr>
              <p:spPr>
                <a:xfrm>
                  <a:off x="2743200" y="4800600"/>
                  <a:ext cx="0" cy="30456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5"/>
                <p:cNvSpPr/>
                <p:nvPr/>
              </p:nvSpPr>
              <p:spPr>
                <a:xfrm>
                  <a:off x="2743200" y="5105160"/>
                  <a:ext cx="19047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6"/>
                <p:cNvSpPr/>
                <p:nvPr/>
              </p:nvSpPr>
              <p:spPr>
                <a:xfrm flipV="1">
                  <a:off x="4647960" y="4038480"/>
                  <a:ext cx="0" cy="10666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Group 68"/>
            <p:cNvGrpSpPr/>
            <p:nvPr/>
          </p:nvGrpSpPr>
          <p:grpSpPr>
            <a:xfrm>
              <a:off x="6524640" y="2057400"/>
              <a:ext cx="990720" cy="2971800"/>
              <a:chOff x="6524640" y="2057400"/>
              <a:chExt cx="990720" cy="2971800"/>
            </a:xfrm>
          </p:grpSpPr>
          <p:sp>
            <p:nvSpPr>
              <p:cNvPr id="138" name="Oval 58"/>
              <p:cNvSpPr/>
              <p:nvPr/>
            </p:nvSpPr>
            <p:spPr>
              <a:xfrm>
                <a:off x="6791400" y="3429000"/>
                <a:ext cx="457200" cy="457200"/>
              </a:xfrm>
              <a:prstGeom prst="ellipse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59"/>
              <p:cNvSpPr/>
              <p:nvPr/>
            </p:nvSpPr>
            <p:spPr>
              <a:xfrm>
                <a:off x="6867720" y="3504960"/>
                <a:ext cx="30492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0"/>
              <p:cNvSpPr/>
              <p:nvPr/>
            </p:nvSpPr>
            <p:spPr>
              <a:xfrm flipH="1">
                <a:off x="6867360" y="3504960"/>
                <a:ext cx="30492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>
                <a:off x="7020000" y="2971800"/>
                <a:ext cx="0" cy="457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>
                <a:off x="7020000" y="3886200"/>
                <a:ext cx="0" cy="2286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64"/>
              <p:cNvSpPr/>
              <p:nvPr/>
            </p:nvSpPr>
            <p:spPr>
              <a:xfrm flipV="1">
                <a:off x="6753240" y="4114080"/>
                <a:ext cx="5335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5"/>
              <p:cNvSpPr/>
              <p:nvPr/>
            </p:nvSpPr>
            <p:spPr>
              <a:xfrm>
                <a:off x="6524640" y="2361960"/>
                <a:ext cx="990720" cy="609840"/>
              </a:xfrm>
              <a:prstGeom prst="rect">
                <a:avLst/>
              </a:prstGeom>
              <a:solidFill>
                <a:srgbClr val="eaeaea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>
                <a:off x="7020000" y="2057400"/>
                <a:ext cx="0" cy="304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>
                <a:off x="7020000" y="4724280"/>
                <a:ext cx="0" cy="3049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Line 69"/>
            <p:cNvSpPr/>
            <p:nvPr/>
          </p:nvSpPr>
          <p:spPr>
            <a:xfrm>
              <a:off x="6248520" y="3657600"/>
              <a:ext cx="53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1"/>
            <p:cNvSpPr/>
            <p:nvPr/>
          </p:nvSpPr>
          <p:spPr>
            <a:xfrm>
              <a:off x="4267080" y="33526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F comb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2"/>
            <p:cNvSpPr/>
            <p:nvPr/>
          </p:nvSpPr>
          <p:spPr>
            <a:xfrm>
              <a:off x="5410080" y="3505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P 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3"/>
            <p:cNvSpPr/>
            <p:nvPr/>
          </p:nvSpPr>
          <p:spPr>
            <a:xfrm>
              <a:off x="6334200" y="15238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2.2 MHz RF cl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4"/>
            <p:cNvSpPr/>
            <p:nvPr/>
          </p:nvSpPr>
          <p:spPr>
            <a:xfrm>
              <a:off x="6562800" y="24382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28 multipl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5"/>
            <p:cNvSpPr/>
            <p:nvPr/>
          </p:nvSpPr>
          <p:spPr>
            <a:xfrm>
              <a:off x="2286000" y="2666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2GH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6"/>
            <p:cNvSpPr/>
            <p:nvPr/>
          </p:nvSpPr>
          <p:spPr>
            <a:xfrm>
              <a:off x="2286000" y="41148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.2GHz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7"/>
            <p:cNvSpPr/>
            <p:nvPr/>
          </p:nvSpPr>
          <p:spPr>
            <a:xfrm>
              <a:off x="6048360" y="5105520"/>
              <a:ext cx="1943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2.2 MHz sig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&gt;Libera Br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5714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ctr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 down conversion for easier signal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65360" y="213984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l box ca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"/>
          <p:cNvSpPr/>
          <p:nvPr/>
        </p:nvSpPr>
        <p:spPr>
          <a:xfrm flipH="1">
            <a:off x="1258560" y="2895480"/>
            <a:ext cx="2521080" cy="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182520" y="270972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 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6"/>
          <p:cNvCxnSpPr/>
          <p:nvPr/>
        </p:nvCxnSpPr>
        <p:spPr>
          <a:xfrm>
            <a:off x="1839600" y="2437920"/>
            <a:ext cx="446760" cy="2671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TextBox 8"/>
          <p:cNvSpPr/>
          <p:nvPr/>
        </p:nvSpPr>
        <p:spPr>
          <a:xfrm>
            <a:off x="1224000" y="344016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amic i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10"/>
          <p:cNvCxnSpPr>
            <a:endCxn id="109" idx="2"/>
          </p:cNvCxnSpPr>
          <p:nvPr/>
        </p:nvCxnSpPr>
        <p:spPr>
          <a:xfrm flipV="1">
            <a:off x="2455920" y="3276000"/>
            <a:ext cx="288000" cy="153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Straight Arrow Connector 12"/>
          <p:cNvCxnSpPr/>
          <p:nvPr/>
        </p:nvCxnSpPr>
        <p:spPr>
          <a:xfrm>
            <a:off x="2441160" y="3776400"/>
            <a:ext cx="259560" cy="1594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k ups s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0850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65" name="Straight Arrow Connector 3"/>
          <p:cNvCxnSpPr/>
          <p:nvPr/>
        </p:nvCxnSpPr>
        <p:spPr>
          <a:xfrm flipV="1">
            <a:off x="1187280" y="3572640"/>
            <a:ext cx="2090160" cy="7930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TextBox 4"/>
          <p:cNvSpPr/>
          <p:nvPr/>
        </p:nvSpPr>
        <p:spPr>
          <a:xfrm>
            <a:off x="230400" y="438948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amic i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front end set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364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9" name="Straight Arrow Connector 36"/>
          <p:cNvCxnSpPr/>
          <p:nvPr/>
        </p:nvCxnSpPr>
        <p:spPr>
          <a:xfrm flipV="1">
            <a:off x="3762000" y="4884480"/>
            <a:ext cx="1602360" cy="25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pick-up signal processing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2.2 MHz demodulation in a Libe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87400" y="5957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f5f5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level normalization using a Libera Bril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354640" y="2705040"/>
            <a:ext cx="720720" cy="11509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5354640" y="4334040"/>
            <a:ext cx="720720" cy="1152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6853320" y="2678040"/>
            <a:ext cx="1368360" cy="280836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a Br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3021120" y="4359240"/>
            <a:ext cx="718920" cy="115092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887400" y="4646520"/>
            <a:ext cx="1079640" cy="5763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Elbow Connector 5"/>
          <p:cNvCxnSpPr/>
          <p:nvPr/>
        </p:nvCxnSpPr>
        <p:spPr>
          <a:xfrm flipH="1" flipV="1" rot="5400000">
            <a:off x="1886760" y="3608280"/>
            <a:ext cx="273240" cy="1959480"/>
          </a:xfrm>
          <a:prstGeom prst="bentConnector2">
            <a:avLst/>
          </a:prstGeom>
          <a:ln cap="sq" w="12600">
            <a:solidFill>
              <a:srgbClr val="000000"/>
            </a:solidFill>
            <a:round/>
          </a:ln>
        </p:spPr>
      </p:cxnSp>
      <p:sp>
        <p:nvSpPr>
          <p:cNvPr id="178" name="Rectangle 57"/>
          <p:cNvSpPr/>
          <p:nvPr/>
        </p:nvSpPr>
        <p:spPr>
          <a:xfrm>
            <a:off x="4159080" y="4657680"/>
            <a:ext cx="1044720" cy="5032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61"/>
          <p:cNvCxnSpPr/>
          <p:nvPr/>
        </p:nvCxnSpPr>
        <p:spPr>
          <a:xfrm flipH="1" rot="16200000">
            <a:off x="1886400" y="4314600"/>
            <a:ext cx="273960" cy="1959480"/>
          </a:xfrm>
          <a:prstGeom prst="bentConnector2">
            <a:avLst/>
          </a:prstGeom>
          <a:ln cap="sq" w="12600">
            <a:solidFill>
              <a:srgbClr val="000000"/>
            </a:solidFill>
            <a:round/>
          </a:ln>
        </p:spPr>
      </p:cxnSp>
      <p:cxnSp>
        <p:nvCxnSpPr>
          <p:cNvPr id="180" name="Elbow Connector 70"/>
          <p:cNvCxnSpPr>
            <a:stCxn id="176" idx="7"/>
          </p:cNvCxnSpPr>
          <p:nvPr/>
        </p:nvCxnSpPr>
        <p:spPr>
          <a:xfrm flipH="1" rot="16200000">
            <a:off x="2406240" y="4133520"/>
            <a:ext cx="1080" cy="1194480"/>
          </a:xfrm>
          <a:prstGeom prst="bentConnector4">
            <a:avLst>
              <a:gd name="adj1" fmla="val -2147450000"/>
              <a:gd name="adj2" fmla="val 56587"/>
            </a:avLst>
          </a:prstGeom>
          <a:ln cap="sq" w="12600">
            <a:solidFill>
              <a:srgbClr val="000000"/>
            </a:solidFill>
            <a:round/>
          </a:ln>
        </p:spPr>
      </p:cxnSp>
      <p:cxnSp>
        <p:nvCxnSpPr>
          <p:cNvPr id="181" name="Elbow Connector 73"/>
          <p:cNvCxnSpPr>
            <a:stCxn id="176" idx="5"/>
          </p:cNvCxnSpPr>
          <p:nvPr/>
        </p:nvCxnSpPr>
        <p:spPr>
          <a:xfrm flipH="1" rot="16200000">
            <a:off x="2406240" y="4541400"/>
            <a:ext cx="1080" cy="1194480"/>
          </a:xfrm>
          <a:prstGeom prst="bentConnector4">
            <a:avLst>
              <a:gd name="adj1" fmla="val -2147450000"/>
              <a:gd name="adj2" fmla="val 56587"/>
            </a:avLst>
          </a:prstGeom>
          <a:ln cap="sq" w="12600">
            <a:solidFill>
              <a:srgbClr val="000000"/>
            </a:solidFill>
            <a:round/>
          </a:ln>
        </p:spPr>
      </p:cxnSp>
      <p:sp>
        <p:nvSpPr>
          <p:cNvPr id="182" name="Rectangle 83"/>
          <p:cNvSpPr/>
          <p:nvPr/>
        </p:nvSpPr>
        <p:spPr>
          <a:xfrm>
            <a:off x="3040200" y="4516560"/>
            <a:ext cx="674640" cy="896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3"/>
          <p:cNvCxnSpPr/>
          <p:nvPr/>
        </p:nvCxnSpPr>
        <p:spPr>
          <a:xfrm>
            <a:off x="6075000" y="455256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Straight Arrow Connector 45"/>
          <p:cNvCxnSpPr/>
          <p:nvPr/>
        </p:nvCxnSpPr>
        <p:spPr>
          <a:xfrm>
            <a:off x="6075000" y="518760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Straight Arrow Connector 47"/>
          <p:cNvCxnSpPr/>
          <p:nvPr/>
        </p:nvCxnSpPr>
        <p:spPr>
          <a:xfrm>
            <a:off x="6075000" y="300780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Straight Arrow Connector 49"/>
          <p:cNvCxnSpPr/>
          <p:nvPr/>
        </p:nvCxnSpPr>
        <p:spPr>
          <a:xfrm>
            <a:off x="6075000" y="3541320"/>
            <a:ext cx="77868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Straight Arrow Connector 51"/>
          <p:cNvCxnSpPr>
            <a:endCxn id="172" idx="1"/>
          </p:cNvCxnSpPr>
          <p:nvPr/>
        </p:nvCxnSpPr>
        <p:spPr>
          <a:xfrm>
            <a:off x="3762000" y="3281040"/>
            <a:ext cx="1593000" cy="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Box 52"/>
          <p:cNvSpPr/>
          <p:nvPr/>
        </p:nvSpPr>
        <p:spPr>
          <a:xfrm>
            <a:off x="1630440" y="2610000"/>
            <a:ext cx="20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vity signal frequency downconverted to 352.2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5"/>
          <p:cNvSpPr/>
          <p:nvPr/>
        </p:nvSpPr>
        <p:spPr>
          <a:xfrm>
            <a:off x="595440" y="54770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M pick 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8"/>
          <p:cNvSpPr/>
          <p:nvPr/>
        </p:nvSpPr>
        <p:spPr>
          <a:xfrm>
            <a:off x="4206960" y="47815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60"/>
          <p:cNvSpPr/>
          <p:nvPr/>
        </p:nvSpPr>
        <p:spPr>
          <a:xfrm>
            <a:off x="6464160" y="2533680"/>
            <a:ext cx="0" cy="312732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2"/>
          <p:cNvSpPr/>
          <p:nvPr/>
        </p:nvSpPr>
        <p:spPr>
          <a:xfrm>
            <a:off x="4886280" y="1839960"/>
            <a:ext cx="33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F levels for the reference bunch 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nch length derivation from the Libera output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7040" y="3273480"/>
            <a:ext cx="5187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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spectrum of the current s(t) of a unit charge Gaussian bunch of FWHM =2.35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Rectangle 5" descr=""/>
          <p:cNvPicPr/>
          <p:nvPr/>
        </p:nvPicPr>
        <p:blipFill>
          <a:blip r:embed="rId1"/>
          <a:stretch/>
        </p:blipFill>
        <p:spPr>
          <a:xfrm>
            <a:off x="1090440" y="2535120"/>
            <a:ext cx="2311560" cy="62244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6" descr=""/>
          <p:cNvPicPr/>
          <p:nvPr/>
        </p:nvPicPr>
        <p:blipFill>
          <a:blip r:embed="rId2"/>
          <a:stretch/>
        </p:blipFill>
        <p:spPr>
          <a:xfrm>
            <a:off x="5291280" y="2535120"/>
            <a:ext cx="2358720" cy="6098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2550960" y="4653000"/>
            <a:ext cx="4206960" cy="46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Ln(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/S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) =  -1/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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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550960" y="5157720"/>
            <a:ext cx="4206960" cy="464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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 = -1/2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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0mA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079640" y="4076640"/>
            <a:ext cx="734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wo different bunch lengths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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905360" y="5746680"/>
            <a:ext cx="4140360" cy="916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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hy we work at 10GHz instead of  16GHz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2"/>
          <p:cNvCxnSpPr/>
          <p:nvPr/>
        </p:nvCxnSpPr>
        <p:spPr>
          <a:xfrm flipV="1">
            <a:off x="2771640" y="5444280"/>
            <a:ext cx="432720" cy="477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18"/>
          <p:cNvSpPr/>
          <p:nvPr/>
        </p:nvSpPr>
        <p:spPr>
          <a:xfrm>
            <a:off x="925560" y="5950080"/>
            <a:ext cx="2601720" cy="745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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S(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mA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) is given by the Libera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14:05:51Z</dcterms:created>
  <dc:creator>Plouviez</dc:creator>
  <dc:description/>
  <dc:language>en-US</dc:language>
  <cp:lastModifiedBy>PLOUVIEZ Eric</cp:lastModifiedBy>
  <cp:lastPrinted>2014-05-12T05:22:37Z</cp:lastPrinted>
  <dcterms:modified xsi:type="dcterms:W3CDTF">2014-05-12T05:27:31Z</dcterms:modified>
  <cp:revision>142</cp:revision>
  <dc:subject/>
  <dc:title>GLOBAL FEEDBACK</dc:title>
</cp:coreProperties>
</file>