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be0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be0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ight Triangle 1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Freeform 2"/>
          <p:cNvSpPr/>
          <p:nvPr/>
        </p:nvSpPr>
        <p:spPr>
          <a:xfrm>
            <a:off x="684360" y="4952880"/>
            <a:ext cx="8459640" cy="1170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0" y="5940"/>
                </a:lnTo>
                <a:cubicBezTo>
                  <a:pt x="3333" y="3960"/>
                  <a:pt x="7349" y="9949"/>
                  <a:pt x="10000" y="0"/>
                </a:cubicBezTo>
                <a:close/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Freeform 16"/>
          <p:cNvSpPr/>
          <p:nvPr/>
        </p:nvSpPr>
        <p:spPr>
          <a:xfrm>
            <a:off x="34920" y="5237280"/>
            <a:ext cx="9109080" cy="1022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333" y="0"/>
                  <a:pt x="7211" y="10240"/>
                  <a:pt x="10000" y="0"/>
                </a:cubicBezTo>
                <a:lnTo>
                  <a:pt x="10000" y="10000"/>
                </a:lnTo>
                <a:lnTo>
                  <a:pt x="8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" name="Freeform 4"/>
          <p:cNvGrpSpPr/>
          <p:nvPr/>
        </p:nvGrpSpPr>
        <p:grpSpPr>
          <a:xfrm>
            <a:off x="0" y="4718160"/>
            <a:ext cx="9144000" cy="2146320"/>
            <a:chOff x="0" y="4718160"/>
            <a:chExt cx="9144000" cy="2146320"/>
          </a:xfrm>
        </p:grpSpPr>
        <p:pic>
          <p:nvPicPr>
            <p:cNvPr id="40" name="Freeform 4" descr=""/>
            <p:cNvPicPr/>
            <p:nvPr/>
          </p:nvPicPr>
          <p:blipFill>
            <a:blip r:embed="rId2"/>
            <a:stretch/>
          </p:blipFill>
          <p:spPr>
            <a:xfrm>
              <a:off x="0" y="4718160"/>
              <a:ext cx="914400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4718160"/>
              <a:ext cx="914400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42" name="Picture 38" descr="ALBA_namelogo"/>
          <p:cNvPicPr/>
          <p:nvPr/>
        </p:nvPicPr>
        <p:blipFill>
          <a:blip r:embed="rId3"/>
          <a:stretch/>
        </p:blipFill>
        <p:spPr>
          <a:xfrm>
            <a:off x="108000" y="6157800"/>
            <a:ext cx="24080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3" name="Freeform 6"/>
          <p:cNvGrpSpPr/>
          <p:nvPr/>
        </p:nvGrpSpPr>
        <p:grpSpPr>
          <a:xfrm>
            <a:off x="512640" y="5370480"/>
            <a:ext cx="1121040" cy="748800"/>
            <a:chOff x="512640" y="5370480"/>
            <a:chExt cx="1121040" cy="748800"/>
          </a:xfrm>
        </p:grpSpPr>
        <p:pic>
          <p:nvPicPr>
            <p:cNvPr id="44" name="Freeform 6" descr=""/>
            <p:cNvPicPr/>
            <p:nvPr/>
          </p:nvPicPr>
          <p:blipFill>
            <a:blip r:embed="rId4"/>
            <a:stretch/>
          </p:blipFill>
          <p:spPr>
            <a:xfrm>
              <a:off x="512640" y="5370480"/>
              <a:ext cx="11210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14440" y="5373360"/>
              <a:ext cx="111924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6" name="Freeform 7"/>
          <p:cNvGrpSpPr/>
          <p:nvPr/>
        </p:nvGrpSpPr>
        <p:grpSpPr>
          <a:xfrm>
            <a:off x="1133640" y="5864400"/>
            <a:ext cx="993240" cy="274320"/>
            <a:chOff x="1133640" y="5864400"/>
            <a:chExt cx="993240" cy="274320"/>
          </a:xfrm>
        </p:grpSpPr>
        <p:pic>
          <p:nvPicPr>
            <p:cNvPr id="47" name="Freeform 7" descr=""/>
            <p:cNvPicPr/>
            <p:nvPr/>
          </p:nvPicPr>
          <p:blipFill>
            <a:blip r:embed="rId5"/>
            <a:stretch/>
          </p:blipFill>
          <p:spPr>
            <a:xfrm>
              <a:off x="1133640" y="5864400"/>
              <a:ext cx="99036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34720" y="5864400"/>
              <a:ext cx="9921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1"/>
          <p:cNvSpPr/>
          <p:nvPr/>
        </p:nvSpPr>
        <p:spPr>
          <a:xfrm rot="5400000">
            <a:off x="1166760" y="4605120"/>
            <a:ext cx="1081080" cy="3424320"/>
          </a:xfrm>
          <a:custGeom>
            <a:avLst/>
            <a:gdLst/>
            <a:ahLst/>
            <a:rect l="l" t="t" r="r" b="b"/>
            <a:pathLst>
              <a:path w="10897" h="10001">
                <a:moveTo>
                  <a:pt x="10897" y="0"/>
                </a:moveTo>
                <a:lnTo>
                  <a:pt x="10897" y="10000"/>
                </a:lnTo>
                <a:lnTo>
                  <a:pt x="0" y="10001"/>
                </a:lnTo>
                <a:cubicBezTo>
                  <a:pt x="4169" y="9255"/>
                  <a:pt x="5924" y="270"/>
                  <a:pt x="10897" y="0"/>
                </a:cubicBezTo>
                <a:close/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-4680" y="5775480"/>
            <a:ext cx="3136680" cy="1082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826" y="4561"/>
                  <a:pt x="9914" y="5965"/>
                  <a:pt x="10000" y="10000"/>
                </a:cubicBezTo>
                <a:lnTo>
                  <a:pt x="40" y="99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7" name="Right Triangle 18"/>
          <p:cNvGrpSpPr/>
          <p:nvPr/>
        </p:nvGrpSpPr>
        <p:grpSpPr>
          <a:xfrm>
            <a:off x="-6480" y="5778360"/>
            <a:ext cx="2706840" cy="1079640"/>
            <a:chOff x="-6480" y="5778360"/>
            <a:chExt cx="2706840" cy="1079640"/>
          </a:xfrm>
        </p:grpSpPr>
        <p:pic>
          <p:nvPicPr>
            <p:cNvPr id="88" name="Right Triangle 18" descr=""/>
            <p:cNvPicPr/>
            <p:nvPr/>
          </p:nvPicPr>
          <p:blipFill>
            <a:blip r:embed="rId2"/>
            <a:stretch/>
          </p:blipFill>
          <p:spPr>
            <a:xfrm>
              <a:off x="-6480" y="5779440"/>
              <a:ext cx="270684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-4680" y="5778360"/>
              <a:ext cx="27050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90" name="Picture 38" descr="ALBA_namelogo"/>
          <p:cNvPicPr/>
          <p:nvPr/>
        </p:nvPicPr>
        <p:blipFill>
          <a:blip r:embed="rId3"/>
          <a:stretch/>
        </p:blipFill>
        <p:spPr>
          <a:xfrm>
            <a:off x="-4680" y="6637320"/>
            <a:ext cx="901440" cy="128520"/>
          </a:xfrm>
          <a:prstGeom prst="rect">
            <a:avLst/>
          </a:prstGeom>
          <a:ln w="0">
            <a:noFill/>
          </a:ln>
        </p:spPr>
      </p:pic>
      <p:grpSp>
        <p:nvGrpSpPr>
          <p:cNvPr id="91" name="Freeform 5"/>
          <p:cNvGrpSpPr/>
          <p:nvPr/>
        </p:nvGrpSpPr>
        <p:grpSpPr>
          <a:xfrm>
            <a:off x="152280" y="6351480"/>
            <a:ext cx="420840" cy="274680"/>
            <a:chOff x="152280" y="6351480"/>
            <a:chExt cx="420840" cy="274680"/>
          </a:xfrm>
        </p:grpSpPr>
        <p:pic>
          <p:nvPicPr>
            <p:cNvPr id="92" name="Freeform 5" descr=""/>
            <p:cNvPicPr/>
            <p:nvPr/>
          </p:nvPicPr>
          <p:blipFill>
            <a:blip r:embed="rId4"/>
            <a:stretch/>
          </p:blipFill>
          <p:spPr>
            <a:xfrm>
              <a:off x="152280" y="6351480"/>
              <a:ext cx="420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2280" y="6351480"/>
              <a:ext cx="41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" name="Freeform 6"/>
          <p:cNvGrpSpPr/>
          <p:nvPr/>
        </p:nvGrpSpPr>
        <p:grpSpPr>
          <a:xfrm>
            <a:off x="414360" y="6523200"/>
            <a:ext cx="334800" cy="102960"/>
            <a:chOff x="414360" y="6523200"/>
            <a:chExt cx="334800" cy="102960"/>
          </a:xfrm>
        </p:grpSpPr>
        <p:pic>
          <p:nvPicPr>
            <p:cNvPr id="95" name="Freeform 6" descr=""/>
            <p:cNvPicPr/>
            <p:nvPr/>
          </p:nvPicPr>
          <p:blipFill>
            <a:blip r:embed="rId5"/>
            <a:stretch/>
          </p:blipFill>
          <p:spPr>
            <a:xfrm>
              <a:off x="415440" y="6523200"/>
              <a:ext cx="33336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60" y="6524640"/>
              <a:ext cx="3348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97" name="TextBox 7" descr=""/>
          <p:cNvPicPr/>
          <p:nvPr/>
        </p:nvPicPr>
        <p:blipFill>
          <a:blip r:embed="rId6"/>
          <a:stretch/>
        </p:blipFill>
        <p:spPr>
          <a:xfrm>
            <a:off x="974880" y="6516720"/>
            <a:ext cx="1244520" cy="474480"/>
          </a:xfrm>
          <a:prstGeom prst="rect">
            <a:avLst/>
          </a:prstGeom>
          <a:ln w="0">
            <a:noFill/>
          </a:ln>
        </p:spPr>
      </p:pic>
      <p:sp>
        <p:nvSpPr>
          <p:cNvPr id="98" name="Freeform 8"/>
          <p:cNvSpPr/>
          <p:nvPr/>
        </p:nvSpPr>
        <p:spPr>
          <a:xfrm rot="16200000">
            <a:off x="6898320" y="-1183680"/>
            <a:ext cx="1081080" cy="3425760"/>
          </a:xfrm>
          <a:custGeom>
            <a:avLst/>
            <a:gdLst/>
            <a:ahLst/>
            <a:rect l="l" t="t" r="r" b="b"/>
            <a:pathLst>
              <a:path w="10897" h="10001">
                <a:moveTo>
                  <a:pt x="10897" y="0"/>
                </a:moveTo>
                <a:lnTo>
                  <a:pt x="10897" y="10000"/>
                </a:lnTo>
                <a:lnTo>
                  <a:pt x="0" y="10001"/>
                </a:lnTo>
                <a:cubicBezTo>
                  <a:pt x="4169" y="9255"/>
                  <a:pt x="5924" y="270"/>
                  <a:pt x="10897" y="0"/>
                </a:cubicBezTo>
                <a:close/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Freeform 11"/>
          <p:cNvSpPr/>
          <p:nvPr/>
        </p:nvSpPr>
        <p:spPr>
          <a:xfrm rot="10800000">
            <a:off x="6014880" y="-1800"/>
            <a:ext cx="3137040" cy="1082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826" y="4561"/>
                  <a:pt x="9914" y="5965"/>
                  <a:pt x="10000" y="10000"/>
                </a:cubicBezTo>
                <a:lnTo>
                  <a:pt x="40" y="99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0" name="Right Triangle 18"/>
          <p:cNvGrpSpPr/>
          <p:nvPr/>
        </p:nvGrpSpPr>
        <p:grpSpPr>
          <a:xfrm>
            <a:off x="6443640" y="-360"/>
            <a:ext cx="2706480" cy="1079640"/>
            <a:chOff x="6443640" y="-360"/>
            <a:chExt cx="2706480" cy="1079640"/>
          </a:xfrm>
        </p:grpSpPr>
        <p:pic>
          <p:nvPicPr>
            <p:cNvPr id="101" name="Right Triangle 18" descr=""/>
            <p:cNvPicPr/>
            <p:nvPr/>
          </p:nvPicPr>
          <p:blipFill>
            <a:blip r:embed="rId7"/>
            <a:stretch/>
          </p:blipFill>
          <p:spPr>
            <a:xfrm>
              <a:off x="6443640" y="0"/>
              <a:ext cx="270540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6446520" y="-360"/>
              <a:ext cx="27036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3" name="TextBox 11" descr=""/>
          <p:cNvPicPr/>
          <p:nvPr/>
        </p:nvPicPr>
        <p:blipFill>
          <a:blip r:embed="rId8"/>
          <a:stretch/>
        </p:blipFill>
        <p:spPr>
          <a:xfrm>
            <a:off x="7675560" y="42840"/>
            <a:ext cx="1346040" cy="48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Garamond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lvl="4" marL="13716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371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3716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oblems setting-up the ALBA FOFB</a:t>
            </a:r>
            <a:endParaRPr b="1" lang="en-US" sz="4800" spc="-1" strike="noStrike">
              <a:solidFill>
                <a:srgbClr val="464646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Garamond"/>
              </a:rPr>
              <a:t>DEELS14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Garamond"/>
              </a:rPr>
              <a:t>12-13May - ESRF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Garamond"/>
              </a:rPr>
              <a:t>Angel Olmos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6"/>
          <p:cNvSpPr/>
          <p:nvPr/>
        </p:nvSpPr>
        <p:spPr>
          <a:xfrm>
            <a:off x="900360" y="134136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xBP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904320" y="34290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RF frequ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3077640" y="692280"/>
            <a:ext cx="281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low Orbit Feedbac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Text Box 1150"/>
          <p:cNvSpPr/>
          <p:nvPr/>
        </p:nvSpPr>
        <p:spPr>
          <a:xfrm>
            <a:off x="592200" y="1798560"/>
            <a:ext cx="8227800" cy="6426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the photon monitor (xBPM) of MISTRAL beamline is already implemented in the SOF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Text Box 1150"/>
          <p:cNvSpPr/>
          <p:nvPr/>
        </p:nvSpPr>
        <p:spPr>
          <a:xfrm>
            <a:off x="592200" y="2627280"/>
            <a:ext cx="571032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Photon + Communication Controller to be u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Text Box 1150"/>
          <p:cNvSpPr/>
          <p:nvPr/>
        </p:nvSpPr>
        <p:spPr>
          <a:xfrm>
            <a:off x="592200" y="5159520"/>
            <a:ext cx="8227800" cy="6426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process that will monitor dispersive pattern on correctors and change RF frequenc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Text Box 1150"/>
          <p:cNvSpPr/>
          <p:nvPr/>
        </p:nvSpPr>
        <p:spPr>
          <a:xfrm>
            <a:off x="592200" y="4646520"/>
            <a:ext cx="822780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ssibility to set correctors AC and DC by FOF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Text Box 1150"/>
          <p:cNvSpPr/>
          <p:nvPr/>
        </p:nvSpPr>
        <p:spPr>
          <a:xfrm>
            <a:off x="592200" y="3862440"/>
            <a:ext cx="822780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ing of Interruptions / ACK does not allow FOFB to readback the correctors setting. FOFB just assumes that setpoint is O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278280" y="11592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rst Results (before Easter shutdown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96" name="Picture 4" descr="FOFBeffectOnIDs"/>
          <p:cNvPicPr/>
          <p:nvPr/>
        </p:nvPicPr>
        <p:blipFill>
          <a:blip r:embed="rId1"/>
          <a:srcRect l="8677" t="3833" r="7974" b="5411"/>
          <a:stretch/>
        </p:blipFill>
        <p:spPr>
          <a:xfrm>
            <a:off x="57240" y="981000"/>
            <a:ext cx="8978760" cy="554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792000" y="1546200"/>
            <a:ext cx="1584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D closing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203640" y="1341360"/>
            <a:ext cx="1584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D stopped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7386480" y="1908000"/>
            <a:ext cx="158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D opening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863640" y="443700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Line 11"/>
          <p:cNvSpPr/>
          <p:nvPr/>
        </p:nvSpPr>
        <p:spPr>
          <a:xfrm flipV="1">
            <a:off x="1584360" y="4508280"/>
            <a:ext cx="0" cy="215640"/>
          </a:xfrm>
          <a:prstGeom prst="line">
            <a:avLst/>
          </a:prstGeom>
          <a:ln w="12600">
            <a:solidFill>
              <a:srgbClr val="da1f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863640" y="292428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Line 13"/>
          <p:cNvSpPr/>
          <p:nvPr/>
        </p:nvSpPr>
        <p:spPr>
          <a:xfrm flipV="1">
            <a:off x="1584360" y="2923920"/>
            <a:ext cx="0" cy="360360"/>
          </a:xfrm>
          <a:prstGeom prst="line">
            <a:avLst/>
          </a:prstGeom>
          <a:ln w="12600">
            <a:solidFill>
              <a:srgbClr val="da1f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557440" y="348444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sec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2124000" y="3500280"/>
            <a:ext cx="1728720" cy="0"/>
          </a:xfrm>
          <a:prstGeom prst="line">
            <a:avLst/>
          </a:prstGeom>
          <a:ln w="12600">
            <a:solidFill>
              <a:srgbClr val="da1f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6805440" y="1108080"/>
            <a:ext cx="2159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88 BPM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6948360" y="3645000"/>
            <a:ext cx="2016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 88 BPM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CompareAll-X"/>
          <p:cNvPicPr/>
          <p:nvPr/>
        </p:nvPicPr>
        <p:blipFill>
          <a:blip r:embed="rId1"/>
          <a:srcRect l="9169" t="51445" r="5805" b="0"/>
          <a:stretch/>
        </p:blipFill>
        <p:spPr>
          <a:xfrm>
            <a:off x="0" y="811080"/>
            <a:ext cx="9144000" cy="296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ompareAll-Z"/>
          <p:cNvPicPr/>
          <p:nvPr/>
        </p:nvPicPr>
        <p:blipFill>
          <a:blip r:embed="rId2"/>
          <a:srcRect l="9527" t="51989" r="8192" b="5223"/>
          <a:stretch/>
        </p:blipFill>
        <p:spPr>
          <a:xfrm>
            <a:off x="0" y="3975120"/>
            <a:ext cx="9144000" cy="26938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95640" y="666720"/>
            <a:ext cx="4105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s SOURCEPOINT HORIZONTAL POSITION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024360" y="3835440"/>
            <a:ext cx="4105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s SOURCEPOINT VERTICAL POSITION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4140360" y="3133800"/>
            <a:ext cx="1079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5796000" y="311616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7164360" y="3133800"/>
            <a:ext cx="576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2916360" y="3133800"/>
            <a:ext cx="576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4211640" y="6308640"/>
            <a:ext cx="1079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5940360" y="630864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7380360" y="630864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987640" y="630864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1549440" y="1035000"/>
            <a:ext cx="215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Beamsiz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1476360" y="4259160"/>
            <a:ext cx="215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Beamsiz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1370160"/>
            <a:ext cx="86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324000" y="225108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24000" y="167472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324000" y="4233960"/>
            <a:ext cx="86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324000" y="518796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324000" y="453852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278280" y="11592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rst Results (before Easter shutdown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XALOC-PSDdiver"/>
          <p:cNvPicPr/>
          <p:nvPr/>
        </p:nvPicPr>
        <p:blipFill>
          <a:blip r:embed="rId1"/>
          <a:srcRect l="9168" t="2949" r="6652" b="4440"/>
          <a:stretch/>
        </p:blipFill>
        <p:spPr>
          <a:xfrm>
            <a:off x="71280" y="797040"/>
            <a:ext cx="8964720" cy="55893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3419640" y="765000"/>
            <a:ext cx="2663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ALOC HORIZONTAL ANGL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348000" y="3629160"/>
            <a:ext cx="237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ALOC VERTICAL ANGL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1619280" y="1171440"/>
            <a:ext cx="215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Beam Divergen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619280" y="4078440"/>
            <a:ext cx="2158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Beam Divergen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4140360" y="3159000"/>
            <a:ext cx="1079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5724360" y="314172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7164360" y="315900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916360" y="3159000"/>
            <a:ext cx="57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211640" y="6039000"/>
            <a:ext cx="1079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724360" y="602136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7164360" y="6039000"/>
            <a:ext cx="576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2987640" y="6039000"/>
            <a:ext cx="576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95280" y="125244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ra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5280" y="24210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nra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395280" y="371628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ra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395280" y="488628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nra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278280" y="11592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rst Results (before Easter shutdown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6"/>
          <p:cNvSpPr/>
          <p:nvPr/>
        </p:nvSpPr>
        <p:spPr>
          <a:xfrm>
            <a:off x="267120" y="11592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blems of Data Transfer on cP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843280" y="3516480"/>
            <a:ext cx="5987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we can also have problems due to CPU interruptions 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282600" y="1357200"/>
            <a:ext cx="2303280" cy="40165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PCI cr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642960" y="1773360"/>
            <a:ext cx="1511280" cy="583920"/>
          </a:xfrm>
          <a:prstGeom prst="rect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MC bo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sniffer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539640" y="4510080"/>
            <a:ext cx="1656000" cy="647640"/>
          </a:xfrm>
          <a:prstGeom prst="rect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930240" y="3141720"/>
            <a:ext cx="936720" cy="57636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2 cPCI Bridg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Up-Down Arrow 2"/>
          <p:cNvSpPr/>
          <p:nvPr/>
        </p:nvSpPr>
        <p:spPr>
          <a:xfrm>
            <a:off x="1187280" y="2421000"/>
            <a:ext cx="360360" cy="64764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39639d"/>
          </a:solidFill>
          <a:ln w="55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Up-Down Arrow 16"/>
          <p:cNvSpPr/>
          <p:nvPr/>
        </p:nvSpPr>
        <p:spPr>
          <a:xfrm>
            <a:off x="1187280" y="3789360"/>
            <a:ext cx="360360" cy="64764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39639d"/>
          </a:solidFill>
          <a:ln w="55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Text Box 1150"/>
          <p:cNvSpPr/>
          <p:nvPr/>
        </p:nvSpPr>
        <p:spPr>
          <a:xfrm>
            <a:off x="2894040" y="1125360"/>
            <a:ext cx="615780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t Mode should ideally allow BPMs reading within 20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Text Box 1150"/>
          <p:cNvSpPr/>
          <p:nvPr/>
        </p:nvSpPr>
        <p:spPr>
          <a:xfrm>
            <a:off x="2894040" y="1652760"/>
            <a:ext cx="615780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brust is stopped after 2 cycles and restarted a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 Box 1150"/>
          <p:cNvSpPr/>
          <p:nvPr/>
        </p:nvSpPr>
        <p:spPr>
          <a:xfrm>
            <a:off x="2859120" y="2181240"/>
            <a:ext cx="619272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at, reading 88 BPMs takes &gt;100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Text Box 1150"/>
          <p:cNvSpPr/>
          <p:nvPr/>
        </p:nvSpPr>
        <p:spPr>
          <a:xfrm>
            <a:off x="2859120" y="2708280"/>
            <a:ext cx="619272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only be warratied reading at 5kHz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Text Box 1150"/>
          <p:cNvSpPr/>
          <p:nvPr/>
        </p:nvSpPr>
        <p:spPr>
          <a:xfrm>
            <a:off x="2843280" y="3930480"/>
            <a:ext cx="6208560" cy="6426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eading 88 BP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cycle lost every 2,4 or 8 secon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Text Box 1150"/>
          <p:cNvSpPr/>
          <p:nvPr/>
        </p:nvSpPr>
        <p:spPr>
          <a:xfrm>
            <a:off x="2843280" y="4714920"/>
            <a:ext cx="620856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h tes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07% correction cycles los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Text Box 1150"/>
          <p:cNvSpPr/>
          <p:nvPr/>
        </p:nvSpPr>
        <p:spPr>
          <a:xfrm>
            <a:off x="2843280" y="5222880"/>
            <a:ext cx="620856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ading 104 BP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009%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 Box 1150"/>
          <p:cNvSpPr/>
          <p:nvPr/>
        </p:nvSpPr>
        <p:spPr>
          <a:xfrm>
            <a:off x="2843280" y="5730840"/>
            <a:ext cx="62085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ading 120 BP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32%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6"/>
          <p:cNvSpPr/>
          <p:nvPr/>
        </p:nvSpPr>
        <p:spPr>
          <a:xfrm>
            <a:off x="265680" y="3747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ing the PI loo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540160" y="1413000"/>
            <a:ext cx="1081080" cy="647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2540160" y="2421000"/>
            <a:ext cx="1081080" cy="6476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i/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124160" y="1989000"/>
            <a:ext cx="505080" cy="503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Rounded Rectangle 8"/>
          <p:cNvSpPr/>
          <p:nvPr/>
        </p:nvSpPr>
        <p:spPr>
          <a:xfrm>
            <a:off x="741240" y="2060640"/>
            <a:ext cx="648000" cy="360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(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Rounded Rectangle 9"/>
          <p:cNvSpPr/>
          <p:nvPr/>
        </p:nvSpPr>
        <p:spPr>
          <a:xfrm>
            <a:off x="5276880" y="2060640"/>
            <a:ext cx="647640" cy="360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(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369" name="Elbow Connector 11"/>
          <p:cNvCxnSpPr>
            <a:stCxn id="367" idx="3"/>
            <a:endCxn id="364" idx="1"/>
          </p:cNvCxnSpPr>
          <p:nvPr/>
        </p:nvCxnSpPr>
        <p:spPr>
          <a:xfrm flipV="1">
            <a:off x="1388880" y="1735920"/>
            <a:ext cx="1151640" cy="5058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Elbow Connector 12"/>
          <p:cNvCxnSpPr>
            <a:stCxn id="367" idx="3"/>
            <a:endCxn id="365" idx="1"/>
          </p:cNvCxnSpPr>
          <p:nvPr/>
        </p:nvCxnSpPr>
        <p:spPr>
          <a:xfrm>
            <a:off x="1388880" y="2241360"/>
            <a:ext cx="1151640" cy="503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Elbow Connector 15"/>
          <p:cNvCxnSpPr>
            <a:stCxn id="364" idx="3"/>
            <a:endCxn id="366" idx="0"/>
          </p:cNvCxnSpPr>
          <p:nvPr/>
        </p:nvCxnSpPr>
        <p:spPr>
          <a:xfrm>
            <a:off x="3620880" y="1736280"/>
            <a:ext cx="756360" cy="253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Elbow Connector 18"/>
          <p:cNvCxnSpPr>
            <a:stCxn id="365" idx="3"/>
            <a:endCxn id="366" idx="4"/>
          </p:cNvCxnSpPr>
          <p:nvPr/>
        </p:nvCxnSpPr>
        <p:spPr>
          <a:xfrm flipV="1">
            <a:off x="3620880" y="2491560"/>
            <a:ext cx="756360" cy="253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Straight Arrow Connector 26"/>
          <p:cNvCxnSpPr>
            <a:stCxn id="366" idx="6"/>
            <a:endCxn id="368" idx="1"/>
          </p:cNvCxnSpPr>
          <p:nvPr/>
        </p:nvCxnSpPr>
        <p:spPr>
          <a:xfrm>
            <a:off x="4628880" y="2241360"/>
            <a:ext cx="648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TextBox 27"/>
          <p:cNvSpPr/>
          <p:nvPr/>
        </p:nvSpPr>
        <p:spPr>
          <a:xfrm>
            <a:off x="1119960" y="3203640"/>
            <a:ext cx="4204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(n) = U(n-1) + A0 * E(n) + A1 * E(n-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TextBox 28"/>
          <p:cNvSpPr/>
          <p:nvPr/>
        </p:nvSpPr>
        <p:spPr>
          <a:xfrm>
            <a:off x="1196280" y="369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0 = (Ki * Ts /2) + K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TextBox 29"/>
          <p:cNvSpPr/>
          <p:nvPr/>
        </p:nvSpPr>
        <p:spPr>
          <a:xfrm>
            <a:off x="1184040" y="41353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1 = (Ki * Ts /2) - K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1194480" y="45720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s = 1/5kHz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146400" y="4802040"/>
            <a:ext cx="4303800" cy="341640"/>
          </a:xfrm>
          <a:prstGeom prst="rect">
            <a:avLst/>
          </a:prstGeom>
          <a:solidFill>
            <a:srgbClr val="78d6ea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evious experience setting PI loo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146400" y="5262480"/>
            <a:ext cx="4303800" cy="341280"/>
          </a:xfrm>
          <a:prstGeom prst="rect">
            <a:avLst/>
          </a:prstGeom>
          <a:solidFill>
            <a:srgbClr val="78d6ea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been done experimentally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3146400" y="6183360"/>
            <a:ext cx="4303800" cy="341280"/>
          </a:xfrm>
          <a:prstGeom prst="rect">
            <a:avLst/>
          </a:prstGeom>
          <a:solidFill>
            <a:srgbClr val="ffc0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results found for Kp =0, Ki=1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146400" y="5722920"/>
            <a:ext cx="5983200" cy="341280"/>
          </a:xfrm>
          <a:prstGeom prst="rect">
            <a:avLst/>
          </a:prstGeom>
          <a:solidFill>
            <a:srgbClr val="78d6ea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 Coil that introduces noise at predefined frequencies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7236000" y="2944800"/>
            <a:ext cx="2411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FB OF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ers OF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4" name="Picture 8" descr="FFTmean-BareOrbit"/>
          <p:cNvPicPr/>
          <p:nvPr/>
        </p:nvPicPr>
        <p:blipFill>
          <a:blip r:embed="rId1"/>
          <a:srcRect l="5547" t="5296" r="7141" b="1588"/>
          <a:stretch/>
        </p:blipFill>
        <p:spPr>
          <a:xfrm>
            <a:off x="755640" y="981000"/>
            <a:ext cx="673884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6" name="Picture 2" descr="FFTmean-KickersOFF-loopON"/>
          <p:cNvPicPr/>
          <p:nvPr/>
        </p:nvPicPr>
        <p:blipFill>
          <a:blip r:embed="rId1"/>
          <a:srcRect l="6615" t="5513" r="6615" b="1923"/>
          <a:stretch/>
        </p:blipFill>
        <p:spPr>
          <a:xfrm>
            <a:off x="797040" y="981000"/>
            <a:ext cx="6727680" cy="5381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7236000" y="2944800"/>
            <a:ext cx="2411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ers OF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FFTmean-KickersON-loopON"/>
          <p:cNvPicPr/>
          <p:nvPr/>
        </p:nvPicPr>
        <p:blipFill>
          <a:blip r:embed="rId1"/>
          <a:srcRect l="6625" t="5663" r="7634" b="2645"/>
          <a:stretch/>
        </p:blipFill>
        <p:spPr>
          <a:xfrm>
            <a:off x="804960" y="981000"/>
            <a:ext cx="6646680" cy="53308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6000" y="2944800"/>
            <a:ext cx="2411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er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2736720" y="1197000"/>
            <a:ext cx="24116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Hz injection ra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Line 14"/>
          <p:cNvSpPr/>
          <p:nvPr/>
        </p:nvSpPr>
        <p:spPr>
          <a:xfrm flipH="1">
            <a:off x="2709720" y="1644480"/>
            <a:ext cx="20664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4" name="Picture 4" descr="BPMs-KickersON-loopON"/>
          <p:cNvPicPr/>
          <p:nvPr/>
        </p:nvPicPr>
        <p:blipFill>
          <a:blip r:embed="rId1"/>
          <a:srcRect l="5547" t="3708" r="6354" b="48687"/>
          <a:stretch/>
        </p:blipFill>
        <p:spPr>
          <a:xfrm>
            <a:off x="360360" y="920880"/>
            <a:ext cx="7596360" cy="307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BPMs-KickerPulse"/>
          <p:cNvPicPr/>
          <p:nvPr/>
        </p:nvPicPr>
        <p:blipFill>
          <a:blip r:embed="rId2"/>
          <a:srcRect l="9454" t="3888" r="7736" b="54695"/>
          <a:stretch/>
        </p:blipFill>
        <p:spPr>
          <a:xfrm>
            <a:off x="360360" y="4032360"/>
            <a:ext cx="7773840" cy="22050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1042920" y="4437000"/>
            <a:ext cx="1297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a1f28"/>
                </a:solidFill>
                <a:latin typeface="Arial"/>
              </a:rPr>
              <a:t>Kickers Puls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2411280" y="4653000"/>
            <a:ext cx="289080" cy="71280"/>
          </a:xfrm>
          <a:prstGeom prst="line">
            <a:avLst/>
          </a:prstGeom>
          <a:ln w="1260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2843280" y="4660920"/>
            <a:ext cx="2128680" cy="1289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4572000" y="4537080"/>
            <a:ext cx="12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FB effec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4103640" y="1413000"/>
            <a:ext cx="289080" cy="157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Line 14"/>
          <p:cNvSpPr/>
          <p:nvPr/>
        </p:nvSpPr>
        <p:spPr>
          <a:xfrm flipH="1">
            <a:off x="4032000" y="2987640"/>
            <a:ext cx="215640" cy="11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7236000" y="2944800"/>
            <a:ext cx="2411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FB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er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6"/>
          <p:cNvSpPr/>
          <p:nvPr/>
        </p:nvSpPr>
        <p:spPr>
          <a:xfrm>
            <a:off x="259200" y="131112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05280" y="20448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Resul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1502280" y="328464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Data Transfer on cP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500480" y="37162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PI loo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563120" y="416412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258840" y="51991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265680" y="27813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roble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569960" y="158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9" descr="Compare-OnlyPSDx"/>
          <p:cNvPicPr/>
          <p:nvPr/>
        </p:nvPicPr>
        <p:blipFill>
          <a:blip r:embed="rId1"/>
          <a:stretch/>
        </p:blipFill>
        <p:spPr>
          <a:xfrm>
            <a:off x="71280" y="1519200"/>
            <a:ext cx="9037800" cy="5124600"/>
          </a:xfrm>
          <a:prstGeom prst="rect">
            <a:avLst/>
          </a:prstGeom>
          <a:ln w="0">
            <a:noFill/>
          </a:ln>
        </p:spPr>
      </p:pic>
      <p:sp>
        <p:nvSpPr>
          <p:cNvPr id="405" name="Line 3"/>
          <p:cNvSpPr/>
          <p:nvPr/>
        </p:nvSpPr>
        <p:spPr>
          <a:xfrm>
            <a:off x="431640" y="1258920"/>
            <a:ext cx="900144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1280" y="971640"/>
            <a:ext cx="2159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H-Beamsiz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3276720" y="1611360"/>
            <a:ext cx="2158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213080" y="6254640"/>
            <a:ext cx="1079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5796000" y="6237360"/>
            <a:ext cx="576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7236000" y="6254640"/>
            <a:ext cx="57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2989440" y="6254640"/>
            <a:ext cx="57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179280" y="253224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324000" y="370044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252360" y="479736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6"/>
          <p:cNvSpPr/>
          <p:nvPr/>
        </p:nvSpPr>
        <p:spPr>
          <a:xfrm>
            <a:off x="327960" y="3747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No) Correction of Kickers sign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6" name="Picture 7" descr="Compare-OnlyPSDz"/>
          <p:cNvPicPr/>
          <p:nvPr/>
        </p:nvPicPr>
        <p:blipFill>
          <a:blip r:embed="rId1"/>
          <a:stretch/>
        </p:blipFill>
        <p:spPr>
          <a:xfrm>
            <a:off x="108000" y="1081080"/>
            <a:ext cx="8962920" cy="5084640"/>
          </a:xfrm>
          <a:prstGeom prst="rect">
            <a:avLst/>
          </a:prstGeom>
          <a:ln w="0">
            <a:noFill/>
          </a:ln>
        </p:spPr>
      </p:pic>
      <p:sp>
        <p:nvSpPr>
          <p:cNvPr id="417" name="Line 4"/>
          <p:cNvSpPr/>
          <p:nvPr/>
        </p:nvSpPr>
        <p:spPr>
          <a:xfrm>
            <a:off x="431640" y="2548080"/>
            <a:ext cx="900144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763640" y="2260440"/>
            <a:ext cx="215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% V-Beamsiz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276720" y="1179360"/>
            <a:ext cx="2158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213080" y="5823000"/>
            <a:ext cx="1079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96000" y="580536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7307280" y="5823000"/>
            <a:ext cx="576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k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2989440" y="5823000"/>
            <a:ext cx="57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Hz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179280" y="20448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u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324000" y="32130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252360" y="4348080"/>
            <a:ext cx="86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n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6"/>
          <p:cNvSpPr/>
          <p:nvPr/>
        </p:nvSpPr>
        <p:spPr>
          <a:xfrm>
            <a:off x="258840" y="3747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611280" y="1125360"/>
            <a:ext cx="60213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 to 5kHz BPMs data due to cPCI architectur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611280" y="155268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rious CPU interrup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611280" y="1979640"/>
            <a:ext cx="602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really know how to proceed setting the PI loo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11280" y="325908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Kicker puls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638280" y="411156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Hz sig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998640" y="368604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try was to discard position values higher than some level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ucc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042920" y="4960800"/>
            <a:ext cx="6021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filtering of 50Hz on FOFB is enough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042920" y="453384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anyone try to reduce it by external means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Right Brace 11"/>
          <p:cNvSpPr/>
          <p:nvPr/>
        </p:nvSpPr>
        <p:spPr>
          <a:xfrm>
            <a:off x="6443640" y="1206360"/>
            <a:ext cx="360360" cy="8542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54280"/>
              <a:gd name="textAreaBottom" fmla="*/ 844920 h 8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"/>
                  <a:pt x="10800" y="759"/>
                </a:cubicBezTo>
                <a:lnTo>
                  <a:pt x="10800" y="10041"/>
                </a:lnTo>
                <a:cubicBezTo>
                  <a:pt x="10800" y="10421"/>
                  <a:pt x="16200" y="10800"/>
                  <a:pt x="21600" y="10800"/>
                </a:cubicBezTo>
                <a:cubicBezTo>
                  <a:pt x="16200" y="10800"/>
                  <a:pt x="10800" y="11180"/>
                  <a:pt x="10800" y="11559"/>
                </a:cubicBezTo>
                <a:lnTo>
                  <a:pt x="10800" y="20841"/>
                </a:lnTo>
                <a:cubicBezTo>
                  <a:pt x="10800" y="2122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6794640" y="1262160"/>
            <a:ext cx="3178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believ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ve to live with th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Rounded Rectangle 14"/>
          <p:cNvSpPr/>
          <p:nvPr/>
        </p:nvSpPr>
        <p:spPr>
          <a:xfrm>
            <a:off x="2843280" y="5518080"/>
            <a:ext cx="6049800" cy="358920"/>
          </a:xfrm>
          <a:prstGeom prst="roundRect">
            <a:avLst>
              <a:gd name="adj" fmla="val 16667"/>
            </a:avLst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omment / suggestion / critic is really welcom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611280" y="240516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xBPM in the loop (possible problems?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611280" y="2832120"/>
            <a:ext cx="602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low Orbit Feedback. RF control by standalone proc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425" descr="Total_1SFP-88"/>
          <p:cNvPicPr/>
          <p:nvPr/>
        </p:nvPicPr>
        <p:blipFill>
          <a:blip r:embed="rId1"/>
          <a:stretch/>
        </p:blipFill>
        <p:spPr>
          <a:xfrm>
            <a:off x="835200" y="490680"/>
            <a:ext cx="6824520" cy="5973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03"/>
          <p:cNvSpPr/>
          <p:nvPr/>
        </p:nvSpPr>
        <p:spPr>
          <a:xfrm>
            <a:off x="250920" y="981000"/>
            <a:ext cx="878508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im to achieve orbit stability on the sub-micron level up to frequencies in the 100 Hz ran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150"/>
          <p:cNvSpPr/>
          <p:nvPr/>
        </p:nvSpPr>
        <p:spPr>
          <a:xfrm>
            <a:off x="250920" y="4145040"/>
            <a:ext cx="6192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ycled” timing boards used as position reading nodes (sniffers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403"/>
          <p:cNvSpPr/>
          <p:nvPr/>
        </p:nvSpPr>
        <p:spPr>
          <a:xfrm>
            <a:off x="250920" y="1563840"/>
            <a:ext cx="8785080" cy="5806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first stage “low-cost” system to learn about beam stabilization and better define the future syste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150"/>
          <p:cNvSpPr/>
          <p:nvPr/>
        </p:nvSpPr>
        <p:spPr>
          <a:xfrm>
            <a:off x="250920" y="2394000"/>
            <a:ext cx="5400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BPMs out of the 120 available will be used on FOFB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150"/>
          <p:cNvSpPr/>
          <p:nvPr/>
        </p:nvSpPr>
        <p:spPr>
          <a:xfrm>
            <a:off x="250920" y="2978280"/>
            <a:ext cx="4725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Horizontal / 88 Vertical corrector magne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150"/>
          <p:cNvSpPr/>
          <p:nvPr/>
        </p:nvSpPr>
        <p:spPr>
          <a:xfrm>
            <a:off x="206280" y="3560760"/>
            <a:ext cx="8037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Brilliance running Diamond Communication Controller protocol for data transf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150"/>
          <p:cNvSpPr/>
          <p:nvPr/>
        </p:nvSpPr>
        <p:spPr>
          <a:xfrm>
            <a:off x="250920" y="4729320"/>
            <a:ext cx="5400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correction calculation on 16 dedicated CPU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150"/>
          <p:cNvSpPr/>
          <p:nvPr/>
        </p:nvSpPr>
        <p:spPr>
          <a:xfrm>
            <a:off x="250920" y="5311800"/>
            <a:ext cx="259236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low Orbit Feedback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150"/>
          <p:cNvSpPr/>
          <p:nvPr/>
        </p:nvSpPr>
        <p:spPr>
          <a:xfrm>
            <a:off x="250920" y="5896080"/>
            <a:ext cx="4725720" cy="3373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F frequency control by standalone proces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1150"/>
          <p:cNvSpPr/>
          <p:nvPr/>
        </p:nvSpPr>
        <p:spPr>
          <a:xfrm>
            <a:off x="6696000" y="4145040"/>
            <a:ext cx="23400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only Desy recycl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1"/>
          <p:cNvSpPr/>
          <p:nvPr/>
        </p:nvSpPr>
        <p:spPr>
          <a:xfrm>
            <a:off x="6012000" y="1628640"/>
            <a:ext cx="2303280" cy="324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PCI cr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6345360" y="4005360"/>
            <a:ext cx="1655640" cy="647640"/>
          </a:xfrm>
          <a:prstGeom prst="rect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P modul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1211400" y="214164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11400" y="271764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211400" y="328464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11400" y="443700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0" name="Straight Arrow Connector 6"/>
          <p:cNvCxnSpPr>
            <a:stCxn id="166" idx="2"/>
            <a:endCxn id="167" idx="0"/>
          </p:cNvCxnSpPr>
          <p:nvPr/>
        </p:nvCxnSpPr>
        <p:spPr>
          <a:xfrm>
            <a:off x="1858680" y="2501640"/>
            <a:ext cx="1080" cy="216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Straight Arrow Connector 7"/>
          <p:cNvCxnSpPr>
            <a:stCxn id="167" idx="2"/>
            <a:endCxn id="168" idx="0"/>
          </p:cNvCxnSpPr>
          <p:nvPr/>
        </p:nvCxnSpPr>
        <p:spPr>
          <a:xfrm>
            <a:off x="1858680" y="3078000"/>
            <a:ext cx="1080" cy="20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Straight Arrow Connector 10"/>
          <p:cNvCxnSpPr>
            <a:stCxn id="168" idx="2"/>
            <a:endCxn id="169" idx="0"/>
          </p:cNvCxnSpPr>
          <p:nvPr/>
        </p:nvCxnSpPr>
        <p:spPr>
          <a:xfrm>
            <a:off x="1858680" y="3645000"/>
            <a:ext cx="1080" cy="792720"/>
          </a:xfrm>
          <a:prstGeom prst="straightConnector1">
            <a:avLst/>
          </a:prstGeom>
          <a:ln w="158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73" name="Straight Arrow Connector 12"/>
          <p:cNvCxnSpPr>
            <a:stCxn id="169" idx="1"/>
            <a:endCxn id="166" idx="1"/>
          </p:cNvCxnSpPr>
          <p:nvPr/>
        </p:nvCxnSpPr>
        <p:spPr>
          <a:xfrm rot="10800000">
            <a:off x="1210680" y="2321640"/>
            <a:ext cx="13320" cy="2294640"/>
          </a:xfrm>
          <a:prstGeom prst="bentConnector3">
            <a:avLst>
              <a:gd name="adj1" fmla="val 1800000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Rectangle 17"/>
          <p:cNvSpPr/>
          <p:nvPr/>
        </p:nvSpPr>
        <p:spPr>
          <a:xfrm>
            <a:off x="3708360" y="2133720"/>
            <a:ext cx="1295280" cy="358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708360" y="270828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3708360" y="327492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708360" y="4427640"/>
            <a:ext cx="1295280" cy="360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8" name="Straight Arrow Connector 21"/>
          <p:cNvCxnSpPr>
            <a:stCxn id="174" idx="2"/>
            <a:endCxn id="175" idx="0"/>
          </p:cNvCxnSpPr>
          <p:nvPr/>
        </p:nvCxnSpPr>
        <p:spPr>
          <a:xfrm>
            <a:off x="4355640" y="2492280"/>
            <a:ext cx="1080" cy="21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22"/>
          <p:cNvCxnSpPr>
            <a:stCxn id="175" idx="2"/>
            <a:endCxn id="176" idx="0"/>
          </p:cNvCxnSpPr>
          <p:nvPr/>
        </p:nvCxnSpPr>
        <p:spPr>
          <a:xfrm>
            <a:off x="4355640" y="3068280"/>
            <a:ext cx="1080" cy="207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Straight Arrow Connector 23"/>
          <p:cNvCxnSpPr>
            <a:stCxn id="176" idx="2"/>
            <a:endCxn id="177" idx="0"/>
          </p:cNvCxnSpPr>
          <p:nvPr/>
        </p:nvCxnSpPr>
        <p:spPr>
          <a:xfrm>
            <a:off x="4355640" y="3634920"/>
            <a:ext cx="1080" cy="793080"/>
          </a:xfrm>
          <a:prstGeom prst="straightConnector1">
            <a:avLst/>
          </a:prstGeom>
          <a:ln w="158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81" name="Straight Arrow Connector 12"/>
          <p:cNvCxnSpPr>
            <a:stCxn id="177" idx="1"/>
            <a:endCxn id="174" idx="1"/>
          </p:cNvCxnSpPr>
          <p:nvPr/>
        </p:nvCxnSpPr>
        <p:spPr>
          <a:xfrm rot="10800000">
            <a:off x="3707640" y="2312280"/>
            <a:ext cx="13320" cy="2296080"/>
          </a:xfrm>
          <a:prstGeom prst="bentConnector3">
            <a:avLst>
              <a:gd name="adj1" fmla="val 1800000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Elbow Connector 26"/>
          <p:cNvCxnSpPr>
            <a:stCxn id="177" idx="2"/>
            <a:endCxn id="166" idx="3"/>
          </p:cNvCxnSpPr>
          <p:nvPr/>
        </p:nvCxnSpPr>
        <p:spPr>
          <a:xfrm flipV="1" rot="16200000">
            <a:off x="2197800" y="2629800"/>
            <a:ext cx="2466360" cy="1850040"/>
          </a:xfrm>
          <a:prstGeom prst="bentConnector4">
            <a:avLst>
              <a:gd name="adj1" fmla="val -9255"/>
              <a:gd name="adj2" fmla="val 75243"/>
            </a:avLst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Elbow Connector 27"/>
          <p:cNvCxnSpPr/>
          <p:nvPr/>
        </p:nvCxnSpPr>
        <p:spPr>
          <a:xfrm flipV="1" rot="16200000">
            <a:off x="-82440" y="2879640"/>
            <a:ext cx="2467800" cy="1367640"/>
          </a:xfrm>
          <a:prstGeom prst="bentConnector4">
            <a:avLst>
              <a:gd name="adj1" fmla="val -9264"/>
              <a:gd name="adj2" fmla="val 73670"/>
            </a:avLst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Straight Arrow Connector 29"/>
          <p:cNvCxnSpPr>
            <a:endCxn id="174" idx="3"/>
          </p:cNvCxnSpPr>
          <p:nvPr/>
        </p:nvCxnSpPr>
        <p:spPr>
          <a:xfrm flipH="1">
            <a:off x="5002920" y="2312640"/>
            <a:ext cx="36108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5" name="TextBox 36"/>
          <p:cNvSpPr/>
          <p:nvPr/>
        </p:nvSpPr>
        <p:spPr>
          <a:xfrm>
            <a:off x="-23400" y="155736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x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4991400" y="170964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372360" y="2133720"/>
            <a:ext cx="1512720" cy="583920"/>
          </a:xfrm>
          <a:prstGeom prst="rect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MC bo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sniffer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88" name="Elbow Connector 40"/>
          <p:cNvCxnSpPr>
            <a:stCxn id="175" idx="3"/>
            <a:endCxn id="187" idx="1"/>
          </p:cNvCxnSpPr>
          <p:nvPr/>
        </p:nvCxnSpPr>
        <p:spPr>
          <a:xfrm flipV="1">
            <a:off x="5003640" y="2425320"/>
            <a:ext cx="1369440" cy="464400"/>
          </a:xfrm>
          <a:prstGeom prst="bentConnector3">
            <a:avLst>
              <a:gd name="adj1" fmla="val 4998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9" name="Rectangle 43"/>
          <p:cNvSpPr/>
          <p:nvPr/>
        </p:nvSpPr>
        <p:spPr>
          <a:xfrm>
            <a:off x="6372360" y="3033720"/>
            <a:ext cx="1655640" cy="647640"/>
          </a:xfrm>
          <a:prstGeom prst="rect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5940360" y="5157720"/>
            <a:ext cx="1224000" cy="358920"/>
          </a:xfrm>
          <a:prstGeom prst="rect">
            <a:avLst/>
          </a:prstGeom>
          <a:solidFill>
            <a:srgbClr val="39639d"/>
          </a:solidFill>
          <a:ln w="55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x Bo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3995640" y="5805360"/>
            <a:ext cx="1081080" cy="57636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orrector 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7307280" y="5157720"/>
            <a:ext cx="1224000" cy="358920"/>
          </a:xfrm>
          <a:prstGeom prst="rect">
            <a:avLst/>
          </a:prstGeom>
          <a:solidFill>
            <a:srgbClr val="39639d"/>
          </a:solidFill>
          <a:ln w="55080">
            <a:solidFill>
              <a:srgbClr val="274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x Bo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5219640" y="5805360"/>
            <a:ext cx="1081080" cy="57636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orrector 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7956720" y="5805360"/>
            <a:ext cx="1079280" cy="57636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orrector 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TextBox 50"/>
          <p:cNvSpPr/>
          <p:nvPr/>
        </p:nvSpPr>
        <p:spPr>
          <a:xfrm>
            <a:off x="6319080" y="5877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96" name="Straight Arrow Connector 12"/>
          <p:cNvCxnSpPr>
            <a:stCxn id="165" idx="2"/>
            <a:endCxn id="190" idx="0"/>
          </p:cNvCxnSpPr>
          <p:nvPr/>
        </p:nvCxnSpPr>
        <p:spPr>
          <a:xfrm rot="5400000">
            <a:off x="6609240" y="4595040"/>
            <a:ext cx="505440" cy="621000"/>
          </a:xfrm>
          <a:prstGeom prst="bentConnector3">
            <a:avLst>
              <a:gd name="adj1" fmla="val 68852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2"/>
          <p:cNvCxnSpPr>
            <a:stCxn id="165" idx="2"/>
            <a:endCxn id="192" idx="0"/>
          </p:cNvCxnSpPr>
          <p:nvPr/>
        </p:nvCxnSpPr>
        <p:spPr>
          <a:xfrm flipH="1" rot="16200000">
            <a:off x="7292880" y="4531320"/>
            <a:ext cx="505440" cy="748440"/>
          </a:xfrm>
          <a:prstGeom prst="bentConnector3">
            <a:avLst>
              <a:gd name="adj1" fmla="val 68852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>
            <a:stCxn id="190" idx="2"/>
            <a:endCxn id="191" idx="0"/>
          </p:cNvCxnSpPr>
          <p:nvPr/>
        </p:nvCxnSpPr>
        <p:spPr>
          <a:xfrm rot="5400000">
            <a:off x="5398560" y="4653000"/>
            <a:ext cx="289440" cy="201672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12"/>
          <p:cNvCxnSpPr>
            <a:stCxn id="190" idx="2"/>
            <a:endCxn id="193" idx="0"/>
          </p:cNvCxnSpPr>
          <p:nvPr/>
        </p:nvCxnSpPr>
        <p:spPr>
          <a:xfrm rot="5400000">
            <a:off x="6010200" y="5264640"/>
            <a:ext cx="289440" cy="79308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Rectangle 65"/>
          <p:cNvSpPr/>
          <p:nvPr/>
        </p:nvSpPr>
        <p:spPr>
          <a:xfrm>
            <a:off x="6732720" y="5805360"/>
            <a:ext cx="1079280" cy="576360"/>
          </a:xfrm>
          <a:prstGeom prst="rect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orrector 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201" name="Straight Arrow Connector 12"/>
          <p:cNvCxnSpPr>
            <a:stCxn id="192" idx="2"/>
            <a:endCxn id="194" idx="0"/>
          </p:cNvCxnSpPr>
          <p:nvPr/>
        </p:nvCxnSpPr>
        <p:spPr>
          <a:xfrm flipH="1" rot="16200000">
            <a:off x="8062920" y="5372640"/>
            <a:ext cx="289440" cy="57708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2" idx="2"/>
            <a:endCxn id="200" idx="0"/>
          </p:cNvCxnSpPr>
          <p:nvPr/>
        </p:nvCxnSpPr>
        <p:spPr>
          <a:xfrm rot="5400000">
            <a:off x="7450920" y="5337000"/>
            <a:ext cx="289440" cy="64836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Rectangle 73"/>
          <p:cNvSpPr/>
          <p:nvPr/>
        </p:nvSpPr>
        <p:spPr>
          <a:xfrm>
            <a:off x="3276720" y="1268280"/>
            <a:ext cx="5867280" cy="5256360"/>
          </a:xfrm>
          <a:prstGeom prst="rect">
            <a:avLst/>
          </a:prstGeom>
          <a:noFill/>
          <a:ln w="25560">
            <a:solidFill>
              <a:srgbClr val="da1f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2308680" y="692280"/>
            <a:ext cx="382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quipments interconn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TextBox 77"/>
          <p:cNvSpPr/>
          <p:nvPr/>
        </p:nvSpPr>
        <p:spPr>
          <a:xfrm>
            <a:off x="3240000" y="125892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Garamond"/>
              </a:rPr>
              <a:t>One sector out of 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3075840" y="692280"/>
            <a:ext cx="2084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M electronic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9" name="Picture 47" descr=""/>
          <p:cNvPicPr/>
          <p:nvPr/>
        </p:nvPicPr>
        <p:blipFill>
          <a:blip r:embed="rId1"/>
          <a:stretch/>
        </p:blipFill>
        <p:spPr>
          <a:xfrm>
            <a:off x="4627440" y="5329080"/>
            <a:ext cx="4411800" cy="1339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150"/>
          <p:cNvSpPr/>
          <p:nvPr/>
        </p:nvSpPr>
        <p:spPr>
          <a:xfrm>
            <a:off x="250920" y="1413000"/>
            <a:ext cx="540072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 Brilliance - software Release 2.0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Text Box 1150"/>
          <p:cNvSpPr/>
          <p:nvPr/>
        </p:nvSpPr>
        <p:spPr>
          <a:xfrm>
            <a:off x="250920" y="1916280"/>
            <a:ext cx="889308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ond Communication Controller to handle the position data transfer between uni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Text Box 1150"/>
          <p:cNvSpPr/>
          <p:nvPr/>
        </p:nvSpPr>
        <p:spPr>
          <a:xfrm>
            <a:off x="250920" y="2852640"/>
            <a:ext cx="8281800" cy="368280"/>
          </a:xfrm>
          <a:prstGeom prst="re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links from 2 Liberas on each sector are laid to a central patch pan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Text Box 1150"/>
          <p:cNvSpPr/>
          <p:nvPr/>
        </p:nvSpPr>
        <p:spPr>
          <a:xfrm>
            <a:off x="250920" y="3378240"/>
            <a:ext cx="6581520" cy="368280"/>
          </a:xfrm>
          <a:prstGeom prst="re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of each link can be done from-to any sect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Text Box 1150"/>
          <p:cNvSpPr/>
          <p:nvPr/>
        </p:nvSpPr>
        <p:spPr>
          <a:xfrm>
            <a:off x="250920" y="3882960"/>
            <a:ext cx="5400720" cy="368280"/>
          </a:xfrm>
          <a:prstGeom prst="rect">
            <a:avLst/>
          </a:prstGeom>
          <a:solidFill>
            <a:srgbClr val="a6dd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ng-type topology is used for the time be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Text Box 1150"/>
          <p:cNvSpPr/>
          <p:nvPr/>
        </p:nvSpPr>
        <p:spPr>
          <a:xfrm>
            <a:off x="250920" y="4788000"/>
            <a:ext cx="77058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optical link is used to send BPMs data to the PMC FPGA bo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891040" y="3105000"/>
            <a:ext cx="3218040" cy="2052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3071520" y="692280"/>
            <a:ext cx="221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C FPGA board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Text Box 1150"/>
          <p:cNvSpPr/>
          <p:nvPr/>
        </p:nvSpPr>
        <p:spPr>
          <a:xfrm>
            <a:off x="250920" y="1268280"/>
            <a:ext cx="835344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o re-use some Micro-Research EVR-230 boards that we had in-hou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Text Box 1150"/>
          <p:cNvSpPr/>
          <p:nvPr/>
        </p:nvSpPr>
        <p:spPr>
          <a:xfrm>
            <a:off x="250920" y="1835280"/>
            <a:ext cx="835344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boards were meant for timing purposes on Beamlines but never install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Text Box 1150"/>
          <p:cNvSpPr/>
          <p:nvPr/>
        </p:nvSpPr>
        <p:spPr>
          <a:xfrm>
            <a:off x="250920" y="3635280"/>
            <a:ext cx="5545080" cy="368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linx Virtex-II FPGA is an already obsolete devic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 Box 1150"/>
          <p:cNvSpPr/>
          <p:nvPr/>
        </p:nvSpPr>
        <p:spPr>
          <a:xfrm>
            <a:off x="250920" y="2637000"/>
            <a:ext cx="6408720" cy="368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only have one single optical link for position data transf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Text Box 1150"/>
          <p:cNvSpPr/>
          <p:nvPr/>
        </p:nvSpPr>
        <p:spPr>
          <a:xfrm>
            <a:off x="250920" y="3141720"/>
            <a:ext cx="4537080" cy="368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ndancy and so low FOFB reliabilit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Text Box 1150"/>
          <p:cNvSpPr/>
          <p:nvPr/>
        </p:nvSpPr>
        <p:spPr>
          <a:xfrm>
            <a:off x="250920" y="5013360"/>
            <a:ext cx="57610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ards are already known by ALBA controls staff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Text Box 1150"/>
          <p:cNvSpPr/>
          <p:nvPr/>
        </p:nvSpPr>
        <p:spPr>
          <a:xfrm>
            <a:off x="250920" y="5506920"/>
            <a:ext cx="59767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cost reduction of the FOFB becomes significan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Text Box 1150"/>
          <p:cNvSpPr/>
          <p:nvPr/>
        </p:nvSpPr>
        <p:spPr>
          <a:xfrm>
            <a:off x="250920" y="4500720"/>
            <a:ext cx="4825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CC has been done by 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021200" y="4883040"/>
            <a:ext cx="2927160" cy="1930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3080520" y="692280"/>
            <a:ext cx="317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on Calculation CPU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Text Box 1150"/>
          <p:cNvSpPr/>
          <p:nvPr/>
        </p:nvSpPr>
        <p:spPr>
          <a:xfrm>
            <a:off x="250920" y="3932280"/>
            <a:ext cx="878508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link 4-Cores cPCI-3970 CPU running soft real time Linux 2.6.2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Text Box 1150"/>
          <p:cNvSpPr/>
          <p:nvPr/>
        </p:nvSpPr>
        <p:spPr>
          <a:xfrm>
            <a:off x="250920" y="1339920"/>
            <a:ext cx="8353440" cy="6426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s the position data from the PMC FPGA board and performs the calculation of the needed correction setpoi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Text Box 1150"/>
          <p:cNvSpPr/>
          <p:nvPr/>
        </p:nvSpPr>
        <p:spPr>
          <a:xfrm>
            <a:off x="250920" y="2205000"/>
            <a:ext cx="835344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link single, dual and 4-Cores cPCI CPUs have been analyz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Text Box 1150"/>
          <p:cNvSpPr/>
          <p:nvPr/>
        </p:nvSpPr>
        <p:spPr>
          <a:xfrm>
            <a:off x="250920" y="2782800"/>
            <a:ext cx="835344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different Kernel and Linux OS versions were tested because the handling of the interruptions forced CPU dead-times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Text Box 1150"/>
          <p:cNvSpPr/>
          <p:nvPr/>
        </p:nvSpPr>
        <p:spPr>
          <a:xfrm>
            <a:off x="250920" y="4572000"/>
            <a:ext cx="878508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distributed to different Cores (Read BPM, Calculation, CPU-cPCI stuff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1"/>
          <p:cNvSpPr/>
          <p:nvPr/>
        </p:nvSpPr>
        <p:spPr>
          <a:xfrm>
            <a:off x="849600" y="1342080"/>
            <a:ext cx="817920" cy="459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808200" y="1919160"/>
            <a:ext cx="90324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/V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duc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007640" y="2529360"/>
            <a:ext cx="5022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837720" y="2966040"/>
            <a:ext cx="84204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2742840" y="3967920"/>
            <a:ext cx="589320" cy="459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2659320" y="4752000"/>
            <a:ext cx="75816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2715840" y="5517000"/>
            <a:ext cx="64548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871560" y="6165720"/>
            <a:ext cx="2674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3569040" y="58993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CI Bu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244" name="AutoShape 20"/>
          <p:cNvCxnSpPr>
            <a:stCxn id="235" idx="2"/>
            <a:endCxn id="236" idx="0"/>
          </p:cNvCxnSpPr>
          <p:nvPr/>
        </p:nvCxnSpPr>
        <p:spPr>
          <a:xfrm>
            <a:off x="1258920" y="1801800"/>
            <a:ext cx="216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AutoShape 21"/>
          <p:cNvCxnSpPr>
            <a:stCxn id="236" idx="2"/>
            <a:endCxn id="237" idx="0"/>
          </p:cNvCxnSpPr>
          <p:nvPr/>
        </p:nvCxnSpPr>
        <p:spPr>
          <a:xfrm rot="5400000">
            <a:off x="1184400" y="2453400"/>
            <a:ext cx="1501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AutoShape 22"/>
          <p:cNvCxnSpPr>
            <a:stCxn id="237" idx="2"/>
            <a:endCxn id="238" idx="0"/>
          </p:cNvCxnSpPr>
          <p:nvPr/>
        </p:nvCxnSpPr>
        <p:spPr>
          <a:xfrm>
            <a:off x="1258560" y="2806200"/>
            <a:ext cx="108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23"/>
          <p:cNvCxnSpPr>
            <a:stCxn id="238" idx="2"/>
            <a:endCxn id="239" idx="1"/>
          </p:cNvCxnSpPr>
          <p:nvPr/>
        </p:nvCxnSpPr>
        <p:spPr>
          <a:xfrm flipH="1" rot="16200000">
            <a:off x="1613520" y="3069720"/>
            <a:ext cx="772200" cy="14835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AutoShape 24"/>
          <p:cNvCxnSpPr/>
          <p:nvPr/>
        </p:nvCxnSpPr>
        <p:spPr>
          <a:xfrm>
            <a:off x="2971440" y="4460400"/>
            <a:ext cx="10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AutoShape 25"/>
          <p:cNvCxnSpPr>
            <a:stCxn id="240" idx="2"/>
            <a:endCxn id="241" idx="0"/>
          </p:cNvCxnSpPr>
          <p:nvPr/>
        </p:nvCxnSpPr>
        <p:spPr>
          <a:xfrm>
            <a:off x="3038040" y="52113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AutoShape 26"/>
          <p:cNvCxnSpPr>
            <a:stCxn id="241" idx="2"/>
          </p:cNvCxnSpPr>
          <p:nvPr/>
        </p:nvCxnSpPr>
        <p:spPr>
          <a:xfrm flipH="1">
            <a:off x="3034440" y="5793840"/>
            <a:ext cx="39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AutoShape 27"/>
          <p:cNvCxnSpPr>
            <a:stCxn id="238" idx="1"/>
            <a:endCxn id="235" idx="1"/>
          </p:cNvCxnSpPr>
          <p:nvPr/>
        </p:nvCxnSpPr>
        <p:spPr>
          <a:xfrm flipH="1" rot="10800000">
            <a:off x="834840" y="1571040"/>
            <a:ext cx="11520" cy="1624680"/>
          </a:xfrm>
          <a:prstGeom prst="bentConnector3">
            <a:avLst>
              <a:gd name="adj1" fmla="val -1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28"/>
          <p:cNvCxnSpPr>
            <a:stCxn id="238" idx="3"/>
            <a:endCxn id="253" idx="1"/>
          </p:cNvCxnSpPr>
          <p:nvPr/>
        </p:nvCxnSpPr>
        <p:spPr>
          <a:xfrm>
            <a:off x="1682640" y="3195360"/>
            <a:ext cx="5644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Text Box 29"/>
          <p:cNvSpPr/>
          <p:nvPr/>
        </p:nvSpPr>
        <p:spPr>
          <a:xfrm>
            <a:off x="2250000" y="296712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232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po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Text Box 30"/>
          <p:cNvSpPr/>
          <p:nvPr/>
        </p:nvSpPr>
        <p:spPr>
          <a:xfrm>
            <a:off x="3309840" y="400536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3426480" y="47530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protocol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1694520" y="1424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135080" y="4939920"/>
            <a:ext cx="936720" cy="641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258" name="AutoShape 35"/>
          <p:cNvCxnSpPr/>
          <p:nvPr/>
        </p:nvCxnSpPr>
        <p:spPr>
          <a:xfrm flipH="1">
            <a:off x="1598400" y="5640480"/>
            <a:ext cx="360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9" name="Text Box 36"/>
          <p:cNvSpPr/>
          <p:nvPr/>
        </p:nvSpPr>
        <p:spPr>
          <a:xfrm>
            <a:off x="1402200" y="412920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736560" y="3835440"/>
            <a:ext cx="4340160" cy="2401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304920" y="1197000"/>
            <a:ext cx="3136680" cy="2511360"/>
          </a:xfrm>
          <a:prstGeom prst="rect">
            <a:avLst/>
          </a:prstGeom>
          <a:noFill/>
          <a:ln w="9360">
            <a:solidFill>
              <a:srgbClr val="ff81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3987720" y="3805200"/>
            <a:ext cx="108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s rack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1878480" y="3467160"/>
            <a:ext cx="153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rectors PCs rack</a:t>
            </a: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4" name="Picture 41" descr="CorrectorsPC2"/>
          <p:cNvPicPr/>
          <p:nvPr/>
        </p:nvPicPr>
        <p:blipFill>
          <a:blip r:embed="rId1"/>
          <a:stretch/>
        </p:blipFill>
        <p:spPr>
          <a:xfrm>
            <a:off x="5243400" y="4405320"/>
            <a:ext cx="3792600" cy="1538280"/>
          </a:xfrm>
          <a:prstGeom prst="rect">
            <a:avLst/>
          </a:prstGeom>
          <a:ln w="0">
            <a:noFill/>
          </a:ln>
        </p:spPr>
      </p:pic>
      <p:cxnSp>
        <p:nvCxnSpPr>
          <p:cNvPr id="265" name="AutoShape 44"/>
          <p:cNvCxnSpPr/>
          <p:nvPr/>
        </p:nvCxnSpPr>
        <p:spPr>
          <a:xfrm>
            <a:off x="3123720" y="4463640"/>
            <a:ext cx="108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Line 45"/>
          <p:cNvSpPr/>
          <p:nvPr/>
        </p:nvSpPr>
        <p:spPr>
          <a:xfrm flipH="1">
            <a:off x="2425320" y="40464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6"/>
          <p:cNvSpPr/>
          <p:nvPr/>
        </p:nvSpPr>
        <p:spPr>
          <a:xfrm flipH="1">
            <a:off x="2425320" y="4284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7"/>
          <p:cNvSpPr/>
          <p:nvPr/>
        </p:nvSpPr>
        <p:spPr>
          <a:xfrm flipH="1">
            <a:off x="2428560" y="41259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3111120" y="692280"/>
            <a:ext cx="2134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Convert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Text Box 1150"/>
          <p:cNvSpPr/>
          <p:nvPr/>
        </p:nvSpPr>
        <p:spPr>
          <a:xfrm>
            <a:off x="3708360" y="1606680"/>
            <a:ext cx="525636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OCEM company (was in bankrupt but I heard they’re back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Text Box 1150"/>
          <p:cNvSpPr/>
          <p:nvPr/>
        </p:nvSpPr>
        <p:spPr>
          <a:xfrm>
            <a:off x="3708360" y="2317680"/>
            <a:ext cx="5256360" cy="6426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±1mrad of DC deflection and ±40µrad @ 100Hz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Text Box 1150"/>
          <p:cNvSpPr/>
          <p:nvPr/>
        </p:nvSpPr>
        <p:spPr>
          <a:xfrm>
            <a:off x="3693960" y="3060720"/>
            <a:ext cx="5256360" cy="3682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Hz Bandwidth  / 18 bits Re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7" descr="IMG_0029"/>
          <p:cNvPicPr/>
          <p:nvPr/>
        </p:nvPicPr>
        <p:blipFill>
          <a:blip r:embed="rId1"/>
          <a:stretch/>
        </p:blipFill>
        <p:spPr>
          <a:xfrm>
            <a:off x="395280" y="1301760"/>
            <a:ext cx="2797200" cy="2246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5002200" y="3589200"/>
            <a:ext cx="4008600" cy="3033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3"/>
          <p:cNvSpPr/>
          <p:nvPr/>
        </p:nvSpPr>
        <p:spPr>
          <a:xfrm>
            <a:off x="5638680" y="5477040"/>
            <a:ext cx="128916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35 Hz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550 Hz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7" name="Picture 22" descr=""/>
          <p:cNvPicPr/>
          <p:nvPr/>
        </p:nvPicPr>
        <p:blipFill>
          <a:blip r:embed="rId3"/>
          <a:stretch/>
        </p:blipFill>
        <p:spPr>
          <a:xfrm>
            <a:off x="4019400" y="1197000"/>
            <a:ext cx="2571840" cy="24001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3"/>
          <p:cNvSpPr/>
          <p:nvPr/>
        </p:nvSpPr>
        <p:spPr>
          <a:xfrm>
            <a:off x="6948360" y="1306440"/>
            <a:ext cx="2303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izontal Steer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cal Steering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6805440" y="1312920"/>
            <a:ext cx="184320" cy="368280"/>
          </a:xfrm>
          <a:prstGeom prst="rect">
            <a:avLst/>
          </a:prstGeom>
          <a:solidFill>
            <a:srgbClr val="9ae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6805440" y="1590840"/>
            <a:ext cx="18432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078000" y="692280"/>
            <a:ext cx="2337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ors Magne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259200" y="1587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BA FOFB Overview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Text Box 1150"/>
          <p:cNvSpPr/>
          <p:nvPr/>
        </p:nvSpPr>
        <p:spPr>
          <a:xfrm>
            <a:off x="179280" y="3716280"/>
            <a:ext cx="4730760" cy="6289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A sextupoles have extra wiring to provide H/V beam steering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Text Box 1150"/>
          <p:cNvSpPr/>
          <p:nvPr/>
        </p:nvSpPr>
        <p:spPr>
          <a:xfrm>
            <a:off x="179280" y="4400640"/>
            <a:ext cx="4730760" cy="62892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dy currents on the vacuum chamber reduce the effect of the magnetic field at high frequenci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Text Box 1150"/>
          <p:cNvSpPr/>
          <p:nvPr/>
        </p:nvSpPr>
        <p:spPr>
          <a:xfrm>
            <a:off x="179280" y="5072040"/>
            <a:ext cx="4730760" cy="8964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have a more effective penetration field chamber thickness reduction to 2mm in the correcto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6:05:16Z</dcterms:created>
  <dc:creator>zeus</dc:creator>
  <dc:description/>
  <dc:language>en-US</dc:language>
  <cp:lastModifiedBy>Angel Olmos Giner</cp:lastModifiedBy>
  <dcterms:modified xsi:type="dcterms:W3CDTF">2014-05-13T12:01:36Z</dcterms:modified>
  <cp:revision>430</cp:revision>
  <dc:subject/>
  <dc:title>PowerPoint Presentation</dc:title>
</cp:coreProperties>
</file>