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27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F92A-ED5F-4B5F-A52D-49B3D11AFC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28B30-1DBC-43F6-B152-EF043BB9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02FB-9696-4A12-A1A9-533AE39C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3BFC-C880-4A98-AC30-8F0E745B5F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4F76-B152-4427-B65D-31C23FF7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E8F47-D055-437F-8B96-B33687FE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0EA08-7B03-41F3-B3DA-C4733318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5A27-14B0-431B-891E-B403533A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6BA3-844F-4A71-911A-DAABB6D6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7B67-62E2-4405-86FE-FF4E0343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219C-CFCE-4068-8A0F-E091B62A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8654-D743-4582-A3E9-6F74BAAD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447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. Bartolini, John Adams Institute, 4 February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FEE5-CAB6-4E98-83FE-5798FC0BE2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2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152100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sign, status and roadmap of next generation low emittance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43" name="Line 10"/>
          <p:cNvSpPr/>
          <p:nvPr/>
        </p:nvSpPr>
        <p:spPr>
          <a:xfrm>
            <a:off x="685800" y="58294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2"/>
          <p:cNvSpPr/>
          <p:nvPr/>
        </p:nvSpPr>
        <p:spPr>
          <a:xfrm>
            <a:off x="1557360" y="3068640"/>
            <a:ext cx="601488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. Bartolin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amond Light Sour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ohn Adams Institute, University of Oxfo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anks to B. Hettel and M. Borl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9" descr="nlbd_optimisation"/>
          <p:cNvPicPr/>
          <p:nvPr/>
        </p:nvPicPr>
        <p:blipFill>
          <a:blip r:embed="rId1"/>
          <a:stretch/>
        </p:blipFill>
        <p:spPr>
          <a:xfrm>
            <a:off x="425520" y="1050840"/>
            <a:ext cx="8246880" cy="4772160"/>
          </a:xfrm>
          <a:prstGeom prst="rect">
            <a:avLst/>
          </a:prstGeom>
          <a:ln w="0">
            <a:noFill/>
          </a:ln>
        </p:spPr>
      </p:pic>
      <p:sp>
        <p:nvSpPr>
          <p:cNvPr id="123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Optimisation of beam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JAI-logo-on-white-2-lines.jpg"/>
          <p:cNvPicPr/>
          <p:nvPr/>
        </p:nvPicPr>
        <p:blipFill>
          <a:blip r:embed="rId2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diamond logo approved"/>
          <p:cNvPicPr/>
          <p:nvPr/>
        </p:nvPicPr>
        <p:blipFill>
          <a:blip r:embed="rId3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127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0"/>
          <p:cNvSpPr/>
          <p:nvPr/>
        </p:nvSpPr>
        <p:spPr>
          <a:xfrm>
            <a:off x="571680" y="2705040"/>
            <a:ext cx="2361960" cy="8762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1"/>
          <p:cNvSpPr/>
          <p:nvPr/>
        </p:nvSpPr>
        <p:spPr>
          <a:xfrm>
            <a:off x="4102200" y="3149640"/>
            <a:ext cx="2438280" cy="8953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Lattice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7"/>
          <p:cNvGrpSpPr/>
          <p:nvPr/>
        </p:nvGrpSpPr>
        <p:grpSpPr>
          <a:xfrm>
            <a:off x="379440" y="1170000"/>
            <a:ext cx="7885080" cy="2724120"/>
            <a:chOff x="379440" y="1170000"/>
            <a:chExt cx="7885080" cy="2724120"/>
          </a:xfrm>
        </p:grpSpPr>
        <p:grpSp>
          <p:nvGrpSpPr>
            <p:cNvPr id="134" name="Group 15"/>
            <p:cNvGrpSpPr/>
            <p:nvPr/>
          </p:nvGrpSpPr>
          <p:grpSpPr>
            <a:xfrm>
              <a:off x="379440" y="1170000"/>
              <a:ext cx="7885080" cy="2598480"/>
              <a:chOff x="379440" y="1170000"/>
              <a:chExt cx="7885080" cy="2598480"/>
            </a:xfrm>
          </p:grpSpPr>
          <p:pic>
            <p:nvPicPr>
              <p:cNvPr id="135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4447440" y="1548000"/>
                <a:ext cx="3817080" cy="222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TextBox 11"/>
              <p:cNvSpPr/>
              <p:nvPr/>
            </p:nvSpPr>
            <p:spPr>
              <a:xfrm>
                <a:off x="379440" y="1170000"/>
                <a:ext cx="5515200" cy="9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20600"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X–IV (Sweden) is taking the first pioneering step with 7BA, under construction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77800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3 GeV, 528 m, 0.25 n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7" name="Picture 9" descr=""/>
            <p:cNvPicPr/>
            <p:nvPr/>
          </p:nvPicPr>
          <p:blipFill>
            <a:blip r:embed="rId2"/>
            <a:stretch/>
          </p:blipFill>
          <p:spPr>
            <a:xfrm>
              <a:off x="908280" y="2156760"/>
              <a:ext cx="2608560" cy="173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4564080" y="4111560"/>
            <a:ext cx="3882960" cy="23781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7"/>
          <p:cNvSpPr/>
          <p:nvPr/>
        </p:nvSpPr>
        <p:spPr>
          <a:xfrm>
            <a:off x="461880" y="3960720"/>
            <a:ext cx="46562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ri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razil) just started construction of 5BA with superb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 GeV, 518 m, 0.28 n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3629160" y="6222960"/>
            <a:ext cx="1131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LGC Sans"/>
              </a:rPr>
              <a:t>L. Liu, LNLS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668160" y="4959360"/>
            <a:ext cx="30178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Lattice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209520" y="1001880"/>
            <a:ext cx="5514840" cy="2381040"/>
            <a:chOff x="209520" y="1001880"/>
            <a:chExt cx="5514840" cy="2381040"/>
          </a:xfrm>
        </p:grpSpPr>
        <p:sp>
          <p:nvSpPr>
            <p:cNvPr id="145" name="TextBox 16"/>
            <p:cNvSpPr/>
            <p:nvPr/>
          </p:nvSpPr>
          <p:spPr>
            <a:xfrm>
              <a:off x="209520" y="1001880"/>
              <a:ext cx="551484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24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SR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Franc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3652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 GeV,  844 m, 4 nm → 150 p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7"/>
            <p:cNvSpPr/>
            <p:nvPr/>
          </p:nvSpPr>
          <p:spPr>
            <a:xfrm>
              <a:off x="388800" y="1843200"/>
              <a:ext cx="4334040" cy="15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6680" indent="-16668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Dispersion bump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for efficient sextupole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6680" indent="-16668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Longitudinal gradient dipole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(D1, D2, D6, D7) to further reduce emittanc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6680" indent="-16668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Combined dipole-quadrupole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3-4-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6680" indent="-16668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3-pole wiggl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s hard X-ray sourc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0"/>
          <p:cNvGrpSpPr/>
          <p:nvPr/>
        </p:nvGrpSpPr>
        <p:grpSpPr>
          <a:xfrm>
            <a:off x="4884840" y="1171440"/>
            <a:ext cx="3932280" cy="5016600"/>
            <a:chOff x="4884840" y="1171440"/>
            <a:chExt cx="3932280" cy="5016600"/>
          </a:xfrm>
        </p:grpSpPr>
        <p:grpSp>
          <p:nvGrpSpPr>
            <p:cNvPr id="148" name="Group 6"/>
            <p:cNvGrpSpPr/>
            <p:nvPr/>
          </p:nvGrpSpPr>
          <p:grpSpPr>
            <a:xfrm>
              <a:off x="4884840" y="1171440"/>
              <a:ext cx="3932280" cy="5016600"/>
              <a:chOff x="4884840" y="1171440"/>
              <a:chExt cx="3932280" cy="5016600"/>
            </a:xfrm>
          </p:grpSpPr>
          <p:pic>
            <p:nvPicPr>
              <p:cNvPr id="149" name="Picture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4884840" y="3680640"/>
                <a:ext cx="3932280" cy="250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Picture 15" descr="Low_Emit_140OCTQF0_1_cell.gif"/>
              <p:cNvPicPr/>
              <p:nvPr/>
            </p:nvPicPr>
            <p:blipFill>
              <a:blip r:embed="rId2"/>
              <a:stretch/>
            </p:blipFill>
            <p:spPr>
              <a:xfrm>
                <a:off x="5011920" y="1171440"/>
                <a:ext cx="3603600" cy="250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1" name="Rectangle 12"/>
            <p:cNvSpPr/>
            <p:nvPr/>
          </p:nvSpPr>
          <p:spPr>
            <a:xfrm>
              <a:off x="5466240" y="1225080"/>
              <a:ext cx="180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44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w - ESRF DB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5509440" y="3722760"/>
              <a:ext cx="193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44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uture - ESRF 7B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8"/>
          <p:cNvGrpSpPr/>
          <p:nvPr/>
        </p:nvGrpSpPr>
        <p:grpSpPr>
          <a:xfrm>
            <a:off x="226080" y="3444840"/>
            <a:ext cx="4258440" cy="1700640"/>
            <a:chOff x="226080" y="3444840"/>
            <a:chExt cx="4258440" cy="1700640"/>
          </a:xfrm>
        </p:grpSpPr>
        <p:sp>
          <p:nvSpPr>
            <p:cNvPr id="154" name="Rectangle 11"/>
            <p:cNvSpPr/>
            <p:nvPr/>
          </p:nvSpPr>
          <p:spPr>
            <a:xfrm>
              <a:off x="226080" y="3444840"/>
              <a:ext cx="421632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44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P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(US - preliminary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44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7 → 6 GeV, 1104 m, 3.1 nm → ~65 p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399960" y="4168800"/>
              <a:ext cx="40845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6680" indent="-166680"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SRF-style lattice, 3-pole wiggle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6680" indent="-16668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Swap-out injec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6680" indent="-16668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Superconducting undulator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9"/>
          <p:cNvSpPr/>
          <p:nvPr/>
        </p:nvSpPr>
        <p:spPr>
          <a:xfrm>
            <a:off x="198000" y="5254560"/>
            <a:ext cx="4342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Pring-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(Japa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MS PGothic"/>
              </a:rPr>
              <a:t>8 → 6 GeV, 1436 m, 2.8 nm → &lt;100 p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lattice under develop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Lattice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161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387360" y="1133640"/>
            <a:ext cx="551484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-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S - LBN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2271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9 GeV, 200 m, 2 nm → 52x52 p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227160">
              <a:lnSpc>
                <a:spcPct val="100000"/>
              </a:lnSpc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9B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227160">
              <a:lnSpc>
                <a:spcPct val="100000"/>
              </a:lnSpc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wap-out inje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accumulator r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2271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-T PM superbend inser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"/>
          <p:cNvPicPr/>
          <p:nvPr/>
        </p:nvPicPr>
        <p:blipFill>
          <a:blip r:embed="rId3"/>
          <a:stretch/>
        </p:blipFill>
        <p:spPr>
          <a:xfrm>
            <a:off x="5213520" y="1031760"/>
            <a:ext cx="3449520" cy="226872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21503"/>
          <p:cNvGrpSpPr/>
          <p:nvPr/>
        </p:nvGrpSpPr>
        <p:grpSpPr>
          <a:xfrm>
            <a:off x="4538520" y="3373560"/>
            <a:ext cx="3595680" cy="1572480"/>
            <a:chOff x="4538520" y="3373560"/>
            <a:chExt cx="3595680" cy="1572480"/>
          </a:xfrm>
        </p:grpSpPr>
        <p:pic>
          <p:nvPicPr>
            <p:cNvPr id="165" name="Picture 4" descr=""/>
            <p:cNvPicPr/>
            <p:nvPr/>
          </p:nvPicPr>
          <p:blipFill>
            <a:blip r:embed="rId4"/>
            <a:stretch/>
          </p:blipFill>
          <p:spPr>
            <a:xfrm>
              <a:off x="4579920" y="3373560"/>
              <a:ext cx="35542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6"/>
            <p:cNvSpPr/>
            <p:nvPr/>
          </p:nvSpPr>
          <p:spPr>
            <a:xfrm>
              <a:off x="4538520" y="4638960"/>
              <a:ext cx="280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23184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S-II swap-out/accumulator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1504"/>
          <p:cNvGrpSpPr/>
          <p:nvPr/>
        </p:nvGrpSpPr>
        <p:grpSpPr>
          <a:xfrm>
            <a:off x="6388200" y="4421160"/>
            <a:ext cx="2563560" cy="1461600"/>
            <a:chOff x="6388200" y="4421160"/>
            <a:chExt cx="2563560" cy="1461600"/>
          </a:xfrm>
        </p:grpSpPr>
        <p:pic>
          <p:nvPicPr>
            <p:cNvPr id="168" name="Picture 5" descr=""/>
            <p:cNvPicPr/>
            <p:nvPr/>
          </p:nvPicPr>
          <p:blipFill>
            <a:blip r:embed="rId5"/>
            <a:stretch/>
          </p:blipFill>
          <p:spPr>
            <a:xfrm>
              <a:off x="7192440" y="4421160"/>
              <a:ext cx="167724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14"/>
            <p:cNvSpPr/>
            <p:nvPr/>
          </p:nvSpPr>
          <p:spPr>
            <a:xfrm>
              <a:off x="6388200" y="5575680"/>
              <a:ext cx="256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23184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S-U 24-mm ID chamber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4"/>
          <p:cNvSpPr/>
          <p:nvPr/>
        </p:nvSpPr>
        <p:spPr>
          <a:xfrm>
            <a:off x="291960" y="3514680"/>
            <a:ext cx="551520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MS PGothic"/>
              </a:rPr>
              <a:t>Other ring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0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L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(Switzerland - PSI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2.4 GeV, 288 m, 5 nm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MS PGothic"/>
              </a:rPr>
              <a:t>→ 0.25 n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le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(Franc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2.75 GeV, 354 m, 3.9 n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MS PGothic"/>
              </a:rPr>
              <a:t> → 0.5 n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H:\Dphil\Diamond\prac\4BAinDLSi0913\cell2-twi-out.png"/>
          <p:cNvPicPr/>
          <p:nvPr/>
        </p:nvPicPr>
        <p:blipFill>
          <a:blip r:embed="rId1"/>
          <a:srcRect l="0" t="0" r="0" b="7029"/>
          <a:stretch/>
        </p:blipFill>
        <p:spPr>
          <a:xfrm>
            <a:off x="5013360" y="1135080"/>
            <a:ext cx="4130640" cy="3311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8"/>
          <p:cNvSpPr/>
          <p:nvPr/>
        </p:nvSpPr>
        <p:spPr>
          <a:xfrm>
            <a:off x="428760" y="4346640"/>
            <a:ext cx="846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dispersion at chromatic sextupo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mize magnets positions and length leaving more distance between dipoles (no coil clas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moved sextupoles in the new stra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er mid-cell straight section from 3m to 3.4 m – longer is unmanage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97000"/>
            <a:ext cx="864216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  <a:ea typeface="Arial"/>
              </a:rPr>
              <a:t>A modified 4BA lattice for Diamond-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JAI-logo-on-white-2-lines.jpg"/>
          <p:cNvPicPr/>
          <p:nvPr/>
        </p:nvPicPr>
        <p:blipFill>
          <a:blip r:embed="rId2"/>
          <a:stretch/>
        </p:blipFill>
        <p:spPr>
          <a:xfrm>
            <a:off x="50796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diamond logo approved"/>
          <p:cNvPicPr/>
          <p:nvPr/>
        </p:nvPicPr>
        <p:blipFill>
          <a:blip r:embed="rId3"/>
          <a:stretch/>
        </p:blipFill>
        <p:spPr>
          <a:xfrm>
            <a:off x="605160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178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2" descr="MOPRO100f1.png"/>
          <p:cNvPicPr/>
          <p:nvPr/>
        </p:nvPicPr>
        <p:blipFill>
          <a:blip r:embed="rId4"/>
          <a:stretch/>
        </p:blipFill>
        <p:spPr>
          <a:xfrm>
            <a:off x="217440" y="1789200"/>
            <a:ext cx="4686480" cy="1936800"/>
          </a:xfrm>
          <a:prstGeom prst="rect">
            <a:avLst/>
          </a:prstGeom>
          <a:ln w="0">
            <a:noFill/>
          </a:ln>
        </p:spPr>
      </p:pic>
      <p:sp>
        <p:nvSpPr>
          <p:cNvPr id="180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U27_200pm.png"/>
          <p:cNvPicPr/>
          <p:nvPr/>
        </p:nvPicPr>
        <p:blipFill>
          <a:blip r:embed="rId1"/>
          <a:stretch/>
        </p:blipFill>
        <p:spPr>
          <a:xfrm>
            <a:off x="1900080" y="1341360"/>
            <a:ext cx="5343840" cy="4000680"/>
          </a:xfrm>
          <a:prstGeom prst="rect">
            <a:avLst/>
          </a:prstGeom>
          <a:ln w="0">
            <a:noFill/>
          </a:ln>
        </p:spPr>
      </p:pic>
      <p:sp>
        <p:nvSpPr>
          <p:cNvPr id="182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3399"/>
                </a:solidFill>
                <a:latin typeface="Arial"/>
                <a:ea typeface="Arial"/>
              </a:rPr>
              <a:t>upgrade with Diamond-II (200pm): </a:t>
            </a:r>
            <a:br>
              <a:rPr sz="2300"/>
            </a:br>
            <a:r>
              <a:rPr b="1" lang="en-GB" sz="2300" spc="-1" strike="noStrike">
                <a:solidFill>
                  <a:srgbClr val="003399"/>
                </a:solidFill>
                <a:latin typeface="Arial"/>
                <a:ea typeface="Arial"/>
              </a:rPr>
              <a:t>300mA and 1%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2340000" y="544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uning curves computed with Spectra 8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JAI-logo-on-white-2-lines.jpg"/>
          <p:cNvPicPr/>
          <p:nvPr/>
        </p:nvPicPr>
        <p:blipFill>
          <a:blip r:embed="rId2"/>
          <a:stretch/>
        </p:blipFill>
        <p:spPr>
          <a:xfrm>
            <a:off x="50796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diamond logo approved"/>
          <p:cNvPicPr/>
          <p:nvPr/>
        </p:nvPicPr>
        <p:blipFill>
          <a:blip r:embed="rId3"/>
          <a:stretch/>
        </p:blipFill>
        <p:spPr>
          <a:xfrm>
            <a:off x="605160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187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8"/>
          <p:cNvSpPr/>
          <p:nvPr/>
        </p:nvSpPr>
        <p:spPr>
          <a:xfrm>
            <a:off x="235080" y="1128600"/>
            <a:ext cx="87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lliance plot using U27 – 72 periods 2 m long with Kmax = 2.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23184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Survey of low emittance lat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194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3GLS.png"/>
          <p:cNvPicPr/>
          <p:nvPr/>
        </p:nvPicPr>
        <p:blipFill>
          <a:blip r:embed="rId3"/>
          <a:stretch/>
        </p:blipFill>
        <p:spPr>
          <a:xfrm>
            <a:off x="1000080" y="1109520"/>
            <a:ext cx="7143840" cy="4638960"/>
          </a:xfrm>
          <a:prstGeom prst="rect">
            <a:avLst/>
          </a:prstGeom>
          <a:ln w="0">
            <a:noFill/>
          </a:ln>
        </p:spPr>
      </p:pic>
      <p:sp>
        <p:nvSpPr>
          <p:cNvPr id="196" name="Straight Connector 13"/>
          <p:cNvSpPr/>
          <p:nvPr/>
        </p:nvSpPr>
        <p:spPr>
          <a:xfrm>
            <a:off x="2395440" y="1450800"/>
            <a:ext cx="3959280" cy="1511640"/>
          </a:xfrm>
          <a:prstGeom prst="line">
            <a:avLst/>
          </a:prstGeom>
          <a:ln w="25560">
            <a:solidFill>
              <a:srgbClr val="0c0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4"/>
          <p:cNvSpPr/>
          <p:nvPr/>
        </p:nvSpPr>
        <p:spPr>
          <a:xfrm>
            <a:off x="2282760" y="1844640"/>
            <a:ext cx="5130720" cy="2757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Experimental control of the beam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0" y="1093680"/>
            <a:ext cx="914400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owing confidence in the experimental control of the electron op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n correction strate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m based tuning techniq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tter instrumentation: diagnostics, power supplies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18960" y="2949480"/>
            <a:ext cx="8562960" cy="14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armenoBQ-Regular"/>
              </a:rPr>
              <a:t>e.g. Diamond operates with a very good control of the beam optic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Optics deviation (beta-beating) redecue to 1%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Emittance [2.78 - 2.74] (</a:t>
            </a:r>
            <a:r>
              <a:rPr b="0" lang="en-GB" sz="1500" spc="-1" strike="noStrike">
                <a:solidFill>
                  <a:srgbClr val="008000"/>
                </a:solidFill>
                <a:latin typeface="BarmenoBQ-Regular"/>
              </a:rPr>
              <a:t>2.75</a:t>
            </a: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) n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Energy spread [1.1e-3 - 1.0-e3] (</a:t>
            </a:r>
            <a:r>
              <a:rPr b="0" lang="en-GB" sz="1500" spc="-1" strike="noStrike">
                <a:solidFill>
                  <a:srgbClr val="008000"/>
                </a:solidFill>
                <a:latin typeface="BarmenoBQ-Regular"/>
              </a:rPr>
              <a:t>1.0e-3</a:t>
            </a: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Emittance coupling ~0.08% achieved → </a:t>
            </a:r>
            <a:r>
              <a:rPr b="0" lang="en-GB" sz="1500" spc="-1" strike="noStrike">
                <a:solidFill>
                  <a:srgbClr val="ff3300"/>
                </a:solidFill>
                <a:latin typeface="BarmenoBQ-Regular"/>
              </a:rPr>
              <a:t>vertical emittance ~ 2.0 pm </a:t>
            </a:r>
            <a:r>
              <a:rPr b="0" lang="en-GB" sz="1500" spc="-1" strike="noStrike" u="sng">
                <a:solidFill>
                  <a:srgbClr val="ff3300"/>
                </a:solidFill>
                <a:uFillTx/>
                <a:latin typeface="BarmenoBQ-Regular"/>
              </a:rPr>
              <a:t>(2009 W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temp"/>
          <p:cNvPicPr/>
          <p:nvPr/>
        </p:nvPicPr>
        <p:blipFill>
          <a:blip r:embed="rId1"/>
          <a:srcRect l="5286" t="17077" r="6010" b="2509"/>
          <a:stretch/>
        </p:blipFill>
        <p:spPr>
          <a:xfrm>
            <a:off x="5945040" y="4576680"/>
            <a:ext cx="2475000" cy="2028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image_pinhole1_tilted-01"/>
          <p:cNvPicPr/>
          <p:nvPr/>
        </p:nvPicPr>
        <p:blipFill>
          <a:blip r:embed="rId2"/>
          <a:srcRect l="8790" t="6418" r="8219" b="5919"/>
          <a:stretch/>
        </p:blipFill>
        <p:spPr>
          <a:xfrm>
            <a:off x="601560" y="4564080"/>
            <a:ext cx="2619360" cy="207180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15"/>
          <p:cNvGrpSpPr/>
          <p:nvPr/>
        </p:nvGrpSpPr>
        <p:grpSpPr>
          <a:xfrm>
            <a:off x="3184560" y="4529160"/>
            <a:ext cx="2677680" cy="2093400"/>
            <a:chOff x="3184560" y="4529160"/>
            <a:chExt cx="2677680" cy="2093400"/>
          </a:xfrm>
        </p:grpSpPr>
        <p:pic>
          <p:nvPicPr>
            <p:cNvPr id="206" name="Picture 2" descr="image_pinhole1_20um-01"/>
            <p:cNvPicPr/>
            <p:nvPr/>
          </p:nvPicPr>
          <p:blipFill>
            <a:blip r:embed="rId3"/>
            <a:srcRect l="8529" t="5939" r="8293" b="7140"/>
            <a:stretch/>
          </p:blipFill>
          <p:spPr>
            <a:xfrm>
              <a:off x="3184560" y="4529160"/>
              <a:ext cx="2677680" cy="20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8"/>
            <p:cNvSpPr/>
            <p:nvPr/>
          </p:nvSpPr>
          <p:spPr>
            <a:xfrm>
              <a:off x="3369600" y="6014160"/>
              <a:ext cx="23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6 </a:t>
              </a:r>
              <a:r>
                <a:rPr b="1" lang="en-GB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m rms vertica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2"/>
            <p:cNvSpPr/>
            <p:nvPr/>
          </p:nvSpPr>
          <p:spPr>
            <a:xfrm>
              <a:off x="4760640" y="5086800"/>
              <a:ext cx="0" cy="34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V="1">
              <a:off x="4760640" y="5617440"/>
              <a:ext cx="0" cy="34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280" y="259920"/>
            <a:ext cx="8893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cords for smallest vertical emittance (2011-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215" name="Line 10"/>
          <p:cNvSpPr/>
          <p:nvPr/>
        </p:nvSpPr>
        <p:spPr>
          <a:xfrm>
            <a:off x="685800" y="58294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5" descr="SLS_low_Vemittance"/>
          <p:cNvPicPr/>
          <p:nvPr/>
        </p:nvPicPr>
        <p:blipFill>
          <a:blip r:embed="rId3"/>
          <a:stretch/>
        </p:blipFill>
        <p:spPr>
          <a:xfrm>
            <a:off x="1511280" y="1089000"/>
            <a:ext cx="5935680" cy="2828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4"/>
          <a:stretch/>
        </p:blipFill>
        <p:spPr>
          <a:xfrm>
            <a:off x="284040" y="4227480"/>
            <a:ext cx="8840880" cy="15415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9"/>
          <p:cNvSpPr/>
          <p:nvPr/>
        </p:nvSpPr>
        <p:spPr>
          <a:xfrm>
            <a:off x="7516800" y="45450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0.35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7093080" y="3537000"/>
            <a:ext cx="19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Courtesy L. Rivki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PSI and EPF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7488360" y="1703520"/>
            <a:ext cx="1447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0.9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5"/>
          <a:srcRect l="0" t="0" r="0" b="13382"/>
          <a:stretch/>
        </p:blipFill>
        <p:spPr>
          <a:xfrm>
            <a:off x="525600" y="2222640"/>
            <a:ext cx="8047080" cy="3027240"/>
          </a:xfrm>
          <a:prstGeom prst="rect">
            <a:avLst/>
          </a:prstGeom>
          <a:ln w="0">
            <a:noFill/>
          </a:ln>
        </p:spPr>
      </p:pic>
      <p:sp>
        <p:nvSpPr>
          <p:cNvPr id="222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9360" y="171000"/>
            <a:ext cx="8396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parison machine/model and</a:t>
            </a:r>
            <a:br>
              <a:rPr sz="2800"/>
            </a:b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west vertical emittance (back in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79360" y="1257480"/>
          <a:ext cx="8523360" cy="3749400"/>
        </p:xfrm>
        <a:graphic>
          <a:graphicData uri="http://schemas.openxmlformats.org/drawingml/2006/table">
            <a:tbl>
              <a:tblPr/>
              <a:tblGrid>
                <a:gridCol w="1335240"/>
                <a:gridCol w="1438200"/>
                <a:gridCol w="1434960"/>
                <a:gridCol w="1851120"/>
                <a:gridCol w="1231920"/>
                <a:gridCol w="1231920"/>
              </a:tblGrid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emittan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d emittan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beating (rm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ling*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cal emittan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 nm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7 p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p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mon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4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-2.8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 p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R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nm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 p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-7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 H; 1.3% V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 p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EI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3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0-3.75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R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p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R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-4.0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p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83"/>
          <p:cNvSpPr/>
          <p:nvPr/>
        </p:nvSpPr>
        <p:spPr>
          <a:xfrm>
            <a:off x="6477120" y="5054760"/>
            <a:ext cx="2114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best achieved 20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262080" y="5199120"/>
            <a:ext cx="86850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ce these early studi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LS reached 0.9 pm V emit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mond is providing 8 pm V emittance in users’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F is providing 8 pm V (and lower) emittance in users’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0840" y="223920"/>
            <a:ext cx="815328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50" name="Line 10"/>
          <p:cNvSpPr/>
          <p:nvPr/>
        </p:nvSpPr>
        <p:spPr>
          <a:xfrm>
            <a:off x="685800" y="58294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09560" y="1434960"/>
            <a:ext cx="768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view of machine upgrade programmes (2010 vs 201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 survey of new ring de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s in design and technology of ultra low emittance r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ching users requests and conclu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Enabling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233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2265480" y="61228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mond, 11 July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2"/>
          <p:cNvSpPr/>
          <p:nvPr/>
        </p:nvSpPr>
        <p:spPr>
          <a:xfrm>
            <a:off x="0" y="1063800"/>
            <a:ext cx="914400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act magnet and vacuum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cision magnet pole machi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mall aperture magnets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bined function magn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olerance for magnet crosstalk (e.g. MAX-La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EG-coated vacuum chamb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small apertures to enable high magnet grad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eered at CERN, used extensively at Soleil, and adopted for MAX-IV and Sirius MBA lattic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55"/>
          <p:cNvGrpSpPr/>
          <p:nvPr/>
        </p:nvGrpSpPr>
        <p:grpSpPr>
          <a:xfrm>
            <a:off x="492120" y="3486240"/>
            <a:ext cx="8340840" cy="3332880"/>
            <a:chOff x="492120" y="3486240"/>
            <a:chExt cx="8340840" cy="3332880"/>
          </a:xfrm>
        </p:grpSpPr>
        <p:pic>
          <p:nvPicPr>
            <p:cNvPr id="237" name="Picture 56" descr=""/>
            <p:cNvPicPr/>
            <p:nvPr/>
          </p:nvPicPr>
          <p:blipFill>
            <a:blip r:embed="rId3"/>
            <a:stretch/>
          </p:blipFill>
          <p:spPr>
            <a:xfrm>
              <a:off x="3169080" y="3560040"/>
              <a:ext cx="2723400" cy="20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7" descr=""/>
            <p:cNvPicPr/>
            <p:nvPr/>
          </p:nvPicPr>
          <p:blipFill>
            <a:blip r:embed="rId4"/>
            <a:stretch/>
          </p:blipFill>
          <p:spPr>
            <a:xfrm>
              <a:off x="6076080" y="3547800"/>
              <a:ext cx="2756880" cy="15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8" descr="P1050955 (2).JPG"/>
            <p:cNvPicPr/>
            <p:nvPr/>
          </p:nvPicPr>
          <p:blipFill>
            <a:blip r:embed="rId5"/>
            <a:stretch/>
          </p:blipFill>
          <p:spPr>
            <a:xfrm>
              <a:off x="492120" y="3512520"/>
              <a:ext cx="2428200" cy="311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Box 59"/>
            <p:cNvSpPr/>
            <p:nvPr/>
          </p:nvSpPr>
          <p:spPr>
            <a:xfrm>
              <a:off x="2483640" y="3486240"/>
              <a:ext cx="1396800" cy="4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DejaVu LGC Sans"/>
                </a:rPr>
                <a:t>MAX-IV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DejaVu LGC Sans"/>
                </a:rPr>
                <a:t>Courtesy S. Leeman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Picture 3" descr=""/>
            <p:cNvPicPr/>
            <p:nvPr/>
          </p:nvPicPr>
          <p:blipFill>
            <a:blip r:embed="rId6"/>
            <a:stretch/>
          </p:blipFill>
          <p:spPr>
            <a:xfrm>
              <a:off x="6076080" y="5187600"/>
              <a:ext cx="27568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Box 61"/>
            <p:cNvSpPr/>
            <p:nvPr/>
          </p:nvSpPr>
          <p:spPr>
            <a:xfrm>
              <a:off x="6323040" y="6089760"/>
              <a:ext cx="970200" cy="72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DejaVu LGC Sans"/>
                </a:rPr>
                <a:t>SPring-8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DejaVu LGC Sans"/>
                </a:rPr>
                <a:t>concep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K. Soutom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62"/>
          <p:cNvGrpSpPr/>
          <p:nvPr/>
        </p:nvGrpSpPr>
        <p:grpSpPr>
          <a:xfrm>
            <a:off x="3036960" y="5688000"/>
            <a:ext cx="2838240" cy="976320"/>
            <a:chOff x="3036960" y="5688000"/>
            <a:chExt cx="2838240" cy="976320"/>
          </a:xfrm>
        </p:grpSpPr>
        <p:pic>
          <p:nvPicPr>
            <p:cNvPr id="244" name="Picture 2" descr=""/>
            <p:cNvPicPr/>
            <p:nvPr/>
          </p:nvPicPr>
          <p:blipFill>
            <a:blip r:embed="rId7"/>
            <a:stretch/>
          </p:blipFill>
          <p:spPr>
            <a:xfrm>
              <a:off x="4586040" y="5688000"/>
              <a:ext cx="12891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Box 64"/>
            <p:cNvSpPr/>
            <p:nvPr/>
          </p:nvSpPr>
          <p:spPr>
            <a:xfrm>
              <a:off x="3036960" y="5798880"/>
              <a:ext cx="154764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DejaVu LGC Sans"/>
                </a:rPr>
                <a:t>heater tape for in-situ NEG bake-out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DejaVu LGC Sans"/>
                </a:rPr>
                <a:t>Siriu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Enabling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0" y="1100160"/>
            <a:ext cx="63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ther advances in accelerator and light source technolog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11160" y="4844880"/>
            <a:ext cx="8864640" cy="1695240"/>
            <a:chOff x="11160" y="4844880"/>
            <a:chExt cx="8864640" cy="1695240"/>
          </a:xfrm>
        </p:grpSpPr>
        <p:sp>
          <p:nvSpPr>
            <p:cNvPr id="250" name="TextBox 10"/>
            <p:cNvSpPr/>
            <p:nvPr/>
          </p:nvSpPr>
          <p:spPr>
            <a:xfrm>
              <a:off x="11160" y="5057640"/>
              <a:ext cx="631512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225360"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High performance ID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superconduct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22536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lta, RF, etc.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22536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13"/>
            <p:cNvGrpSpPr/>
            <p:nvPr/>
          </p:nvGrpSpPr>
          <p:grpSpPr>
            <a:xfrm>
              <a:off x="6526440" y="5007600"/>
              <a:ext cx="2349360" cy="1532520"/>
              <a:chOff x="6526440" y="5007600"/>
              <a:chExt cx="2349360" cy="1532520"/>
            </a:xfrm>
          </p:grpSpPr>
          <p:pic>
            <p:nvPicPr>
              <p:cNvPr id="252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26440" y="5007600"/>
                <a:ext cx="2349360" cy="89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TextBox 16"/>
              <p:cNvSpPr/>
              <p:nvPr/>
            </p:nvSpPr>
            <p:spPr>
              <a:xfrm>
                <a:off x="6630840" y="5902200"/>
                <a:ext cx="2227320" cy="63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1760"/>
                    <a:tab algn="l" pos="3657600"/>
                    <a:tab algn="l" pos="4572000"/>
                    <a:tab algn="l" pos="5484960"/>
                    <a:tab algn="l" pos="639936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SC undulator development at LBNL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(S. Prestemon et al.),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APS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(E. Gluskin et al.)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 and elsewhere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19"/>
            <p:cNvGrpSpPr/>
            <p:nvPr/>
          </p:nvGrpSpPr>
          <p:grpSpPr>
            <a:xfrm>
              <a:off x="4875480" y="4844880"/>
              <a:ext cx="1692360" cy="1648800"/>
              <a:chOff x="4875480" y="4844880"/>
              <a:chExt cx="1692360" cy="1648800"/>
            </a:xfrm>
          </p:grpSpPr>
          <p:pic>
            <p:nvPicPr>
              <p:cNvPr id="255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9560" y="5316840"/>
                <a:ext cx="1384560" cy="117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TextBox 14"/>
              <p:cNvSpPr/>
              <p:nvPr/>
            </p:nvSpPr>
            <p:spPr>
              <a:xfrm>
                <a:off x="4875480" y="4844880"/>
                <a:ext cx="16923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1760"/>
                    <a:tab algn="l" pos="3657600"/>
                    <a:tab algn="l" pos="4572000"/>
                    <a:tab algn="l" pos="5484960"/>
                    <a:tab algn="l" pos="639936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Delta undulator prototype -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. Temnykh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 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Group 17"/>
          <p:cNvGrpSpPr/>
          <p:nvPr/>
        </p:nvGrpSpPr>
        <p:grpSpPr>
          <a:xfrm>
            <a:off x="11160" y="1447920"/>
            <a:ext cx="8959680" cy="920520"/>
            <a:chOff x="11160" y="1447920"/>
            <a:chExt cx="8959680" cy="920520"/>
          </a:xfrm>
        </p:grpSpPr>
        <p:grpSp>
          <p:nvGrpSpPr>
            <p:cNvPr id="258" name="Group 10"/>
            <p:cNvGrpSpPr/>
            <p:nvPr/>
          </p:nvGrpSpPr>
          <p:grpSpPr>
            <a:xfrm>
              <a:off x="6160680" y="1447920"/>
              <a:ext cx="2810160" cy="920520"/>
              <a:chOff x="6160680" y="1447920"/>
              <a:chExt cx="2810160" cy="920520"/>
            </a:xfrm>
          </p:grpSpPr>
          <p:pic>
            <p:nvPicPr>
              <p:cNvPr id="259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6160680" y="1447920"/>
                <a:ext cx="2810160" cy="6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Box 22"/>
              <p:cNvSpPr/>
              <p:nvPr/>
            </p:nvSpPr>
            <p:spPr>
              <a:xfrm>
                <a:off x="6657840" y="2095560"/>
                <a:ext cx="21351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1760"/>
                    <a:tab algn="l" pos="3657600"/>
                    <a:tab algn="l" pos="4572000"/>
                    <a:tab algn="l" pos="5484960"/>
                    <a:tab algn="l" pos="639936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Fast kickers (KEK ATF)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Box 20"/>
            <p:cNvSpPr/>
            <p:nvPr/>
          </p:nvSpPr>
          <p:spPr>
            <a:xfrm>
              <a:off x="11160" y="1803600"/>
              <a:ext cx="63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22536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ast kicker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-axis injec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Box 23"/>
          <p:cNvSpPr/>
          <p:nvPr/>
        </p:nvSpPr>
        <p:spPr>
          <a:xfrm>
            <a:off x="4680" y="2827440"/>
            <a:ext cx="63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or and beam line component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chanical positioning and stabilizing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11160" y="3503520"/>
            <a:ext cx="9066240" cy="1341360"/>
            <a:chOff x="11160" y="3503520"/>
            <a:chExt cx="9066240" cy="1341360"/>
          </a:xfrm>
        </p:grpSpPr>
        <p:grpSp>
          <p:nvGrpSpPr>
            <p:cNvPr id="264" name="Group 2"/>
            <p:cNvGrpSpPr/>
            <p:nvPr/>
          </p:nvGrpSpPr>
          <p:grpSpPr>
            <a:xfrm>
              <a:off x="6079320" y="3503520"/>
              <a:ext cx="2998080" cy="1341360"/>
              <a:chOff x="6079320" y="3503520"/>
              <a:chExt cx="2998080" cy="1341360"/>
            </a:xfrm>
          </p:grpSpPr>
          <p:pic>
            <p:nvPicPr>
              <p:cNvPr id="26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6368040" y="3503520"/>
                <a:ext cx="2448360" cy="94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TextBox 28"/>
              <p:cNvSpPr/>
              <p:nvPr/>
            </p:nvSpPr>
            <p:spPr>
              <a:xfrm>
                <a:off x="6079320" y="4389480"/>
                <a:ext cx="29980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1760"/>
                    <a:tab algn="l" pos="3657600"/>
                    <a:tab algn="l" pos="4572000"/>
                    <a:tab algn="l" pos="5484960"/>
                    <a:tab algn="l" pos="639936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SPring-8 concept based on NSLS-II vibrating wire method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-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K. Soutome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26"/>
            <p:cNvSpPr/>
            <p:nvPr/>
          </p:nvSpPr>
          <p:spPr>
            <a:xfrm>
              <a:off x="11160" y="3525480"/>
              <a:ext cx="63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22536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-situ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”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beam-based magnet measurement and alignment method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29"/>
          <p:cNvSpPr/>
          <p:nvPr/>
        </p:nvSpPr>
        <p:spPr>
          <a:xfrm>
            <a:off x="4680" y="4206960"/>
            <a:ext cx="6478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5360"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de-damped RF cav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ndamental and harmoni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stabl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lid state RF power 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0"/>
          <p:cNvGrpSpPr/>
          <p:nvPr/>
        </p:nvGrpSpPr>
        <p:grpSpPr>
          <a:xfrm>
            <a:off x="20520" y="2168640"/>
            <a:ext cx="9056880" cy="1344600"/>
            <a:chOff x="20520" y="2168640"/>
            <a:chExt cx="9056880" cy="1344600"/>
          </a:xfrm>
        </p:grpSpPr>
        <p:grpSp>
          <p:nvGrpSpPr>
            <p:cNvPr id="270" name="Group 1"/>
            <p:cNvGrpSpPr/>
            <p:nvPr/>
          </p:nvGrpSpPr>
          <p:grpSpPr>
            <a:xfrm>
              <a:off x="6226200" y="2402640"/>
              <a:ext cx="2851200" cy="1110600"/>
              <a:chOff x="6226200" y="2402640"/>
              <a:chExt cx="2851200" cy="1110600"/>
            </a:xfrm>
          </p:grpSpPr>
          <p:pic>
            <p:nvPicPr>
              <p:cNvPr id="271" name="Imag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6226200" y="2402640"/>
                <a:ext cx="1800000" cy="111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Box 34"/>
              <p:cNvSpPr/>
              <p:nvPr/>
            </p:nvSpPr>
            <p:spPr>
              <a:xfrm>
                <a:off x="8013600" y="2469960"/>
                <a:ext cx="1063800" cy="97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5000" bIns="450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1760"/>
                    <a:tab algn="l" pos="3657600"/>
                    <a:tab algn="l" pos="4572000"/>
                    <a:tab algn="l" pos="5484960"/>
                    <a:tab algn="l" pos="639936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Higher order resonances detected by turn-turn BPMs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(A. Franchi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Rectangle 32"/>
            <p:cNvSpPr/>
            <p:nvPr/>
          </p:nvSpPr>
          <p:spPr>
            <a:xfrm>
              <a:off x="20520" y="2168640"/>
              <a:ext cx="598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22536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b-micron e- BPM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th micron resolution single pass capability: non-linear lattice tunin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Box 35"/>
          <p:cNvSpPr/>
          <p:nvPr/>
        </p:nvSpPr>
        <p:spPr>
          <a:xfrm>
            <a:off x="-1440" y="5702400"/>
            <a:ext cx="50720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536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vances in X-ray optics and det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-to-end beam line system simulations, SC detectors, cryo-cooled mirrors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279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1"/>
          <p:cNvSpPr/>
          <p:nvPr/>
        </p:nvSpPr>
        <p:spPr>
          <a:xfrm>
            <a:off x="557280" y="1096920"/>
            <a:ext cx="7989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3GLS operates since 2000’s with nominal paramet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w nm H emitta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0-500 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pm V emit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owe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2010 Petra-III was commissioned </a:t>
            </a:r>
            <a:r>
              <a:rPr b="0" lang="en-GB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1 nm H emit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2011-12 SLS and ASP ~1 pm V emittance (best achiev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2012 ESRF et al. operate with 8pm V emit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2013 ALS upgraded to a 2 nm H emittance lat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2014 NSLS-II started operation </a:t>
            </a:r>
            <a:r>
              <a:rPr b="0" lang="en-GB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0.5 nm H emit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2014 Petra III has tested a 160 pm lattice at 3Ge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2016 MAX IV 300 pm H emittance lat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2019 ESRF II 140 pm H emittance lat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286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1"/>
          <p:cNvSpPr/>
          <p:nvPr/>
        </p:nvSpPr>
        <p:spPr>
          <a:xfrm>
            <a:off x="227160" y="1035000"/>
            <a:ext cx="8719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 3GLS are investigating a full ring upgrade (Diamond–II, SLS-II, SOLEIL,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ious MBA options are under analysi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me of the designs have still lots of flexibility in the technical cho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Need input from PBSs and U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what emittance?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re round beams need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ternate high beta – low beta 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perating modes (e.g. low alpha, …)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pen for any exotic idea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 should explore tailoring the design to their specific beam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" y="223920"/>
            <a:ext cx="887760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Low emittance ring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293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ontent Placeholder 4"/>
          <p:cNvSpPr/>
          <p:nvPr/>
        </p:nvSpPr>
        <p:spPr>
          <a:xfrm>
            <a:off x="181080" y="2262240"/>
            <a:ext cx="881856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FA Low Emittance Rings Workshops (LowER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DL 2011 Workshops for ERLs and DLSRs, Cornell, June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jing USR Workshop, Huairou, October 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SR Workshop, SPring-8, December 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Emittance Ring Workshop, Oxford, July 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C DLSR Workshop, SLAC, December 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 on Low Emittance Rings Technology (ALERT 2014), Valencia,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Emittance Rings Workshop (LER2014), Frascati, Sept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SR Workshop, Argonne, November 2014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57040" y="1038240"/>
            <a:ext cx="841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development of ultra low emittance rings is now seriously tackled by a large community, including damping rings and HEP colliders meeting regularly in workshop discussing general or dedicated topics (beam dynamics, collective effects, technology for low emittance r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3920"/>
            <a:ext cx="914400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New rings and upgrades R&amp;D programmes (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276120" y="1015920"/>
            <a:ext cx="875052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X-IV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30 pm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GeV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ring-8 I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0 p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4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EP-X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5 pm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6 GeV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7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 p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5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S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3 pm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9 GeV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7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RI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80 nm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GeV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RF I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0 pm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8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GeV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BA-hyb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amond I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0-270 pm (20-10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GeV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70 pm DDBA - 140 pm 5B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 p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0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 pm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GeV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EIL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30 p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7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B-spl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0 pm (20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4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itudinal gradient b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TTR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0 p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K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00 p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1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5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-T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0 p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2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AR II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50 p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13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Q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524720" y="108900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IPAC 11-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7207200" y="259380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USR Beijing 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7651800" y="3998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IPAC13-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61" name="Line 10"/>
          <p:cNvSpPr/>
          <p:nvPr/>
        </p:nvSpPr>
        <p:spPr>
          <a:xfrm>
            <a:off x="685800" y="58294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Upgrade programmes ~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67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347760" y="1146240"/>
            <a:ext cx="862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until ~2010  upgrade of existing third generation light sources targe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382680" y="1577880"/>
            <a:ext cx="83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 .ESRF purple bo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vertical emittance (lower coupl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 straight sections (longer IDs or canted I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current (from 200 mA to 300 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Up for 16 and 4 bunches m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technology: CPMU, RF NC HOM free cavities, SS amplifiers, BP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84120" y="3537000"/>
            <a:ext cx="8434440" cy="22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PS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L o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intermediate upgrades options (not precluding the ERL option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 straight sections (longer IDs, customized optics, canted I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current (from 100 mA to 200 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pulses programme with crab cavitie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BW of orbit feedback system to achieve sub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stability up to 200 H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Why n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76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152280" y="1143000"/>
            <a:ext cx="887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cience case is growing: NSLS-II, MAX-IV, APS, Spring-8, ESRF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ience enabled by better photon proper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rowing confidence in “aggressive” low emittance lattice desig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DBA to M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jection in smaller apertures (…eventually on axi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Excellent control of the beam properties proven at many light 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bit, optics, stability, lifetime, losses, customised optics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am based tuning tool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Key enabling technologies appear to be m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 showstoppers in magnets, vacuum, diagnostics, RF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Scienc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83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tent Placeholder 4"/>
          <p:cNvSpPr/>
          <p:nvPr/>
        </p:nvSpPr>
        <p:spPr>
          <a:xfrm>
            <a:off x="149400" y="4037040"/>
            <a:ext cx="87976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31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igh brilliance and transversely coherent x-r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8640" indent="-23328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form phase wavefronts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herent imaging, holography, speckle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8640" indent="-23328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able to smallest spot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nano-foc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8640" indent="-23328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fl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~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hotons/sec) in small spot:  slits may not be required, etc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8640" indent="-23328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bea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H-V symmetric optics, circular zone plates, flexibility in op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1238400" y="1835280"/>
            <a:ext cx="6686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DL 2011 Workshops for ERLs and DLSRs, Cornell, June 20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ijing USR Workshop, Huairou, October 20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SR Workshop, SPring-8, December 20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 BESAC Subcommittee on Future Light Sources, July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C DLSR Workshop, SLAC, December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SR Workshop, Argonne, November 20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304920" y="10666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umber of workshop have discussed the science case for ultra low emittance lattic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213120" y="3449520"/>
            <a:ext cx="83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issue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urnal of Synchrotron Rad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in pub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Lattic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93" name="Line 10"/>
          <p:cNvSpPr/>
          <p:nvPr/>
        </p:nvSpPr>
        <p:spPr>
          <a:xfrm>
            <a:off x="685800" y="58294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380880" y="117000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owing confidence in “aggressive” low emittance lattic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tice design evolution from DBA, TBA to 4BA,…MBA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tice optimisation tools improved (linear and nonlinear dynami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677880" y="2668680"/>
            <a:ext cx="62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emittance lattice require small angle b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9"/>
              <p:cNvSpPr txBox="1"/>
              <p:nvPr/>
            </p:nvSpPr>
            <p:spPr>
              <a:xfrm>
                <a:off x="1538280" y="4645080"/>
                <a:ext cx="20620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sSup>
                      <m:e>
                        <m:r>
                          <m:t xml:space="preserve">F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CasellaDiTesto 8"/>
          <p:cNvSpPr/>
          <p:nvPr/>
        </p:nvSpPr>
        <p:spPr>
          <a:xfrm>
            <a:off x="4071960" y="464184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BA lattices (large rings favour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504800" y="3198960"/>
                <a:ext cx="2167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ρ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&gt;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po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7"/>
              <p:cNvSpPr txBox="1"/>
              <p:nvPr/>
            </p:nvSpPr>
            <p:spPr>
              <a:xfrm>
                <a:off x="4572000" y="3397320"/>
                <a:ext cx="2806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γ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DD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βD</m:t>
                    </m:r>
                    <m:sSup>
                      <m:e>
                        <m:r>
                          <m:t xml:space="preserve">'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TextBox 16"/>
          <p:cNvSpPr/>
          <p:nvPr/>
        </p:nvSpPr>
        <p:spPr>
          <a:xfrm>
            <a:off x="641520" y="4083120"/>
            <a:ext cx="65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mis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D and be close to a waist in the dipo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Multiple bend achro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106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423720" y="993600"/>
            <a:ext cx="8236080" cy="3684600"/>
            <a:chOff x="423720" y="993600"/>
            <a:chExt cx="8236080" cy="3684600"/>
          </a:xfrm>
        </p:grpSpPr>
        <p:pic>
          <p:nvPicPr>
            <p:cNvPr id="108" name="Picture 10" descr="7ba_simple.pdf"/>
            <p:cNvPicPr/>
            <p:nvPr/>
          </p:nvPicPr>
          <p:blipFill>
            <a:blip r:embed="rId3"/>
            <a:stretch/>
          </p:blipFill>
          <p:spPr>
            <a:xfrm>
              <a:off x="4868280" y="1324800"/>
              <a:ext cx="3791520" cy="33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1" descr="dba_simple.eps"/>
            <p:cNvPicPr/>
            <p:nvPr/>
          </p:nvPicPr>
          <p:blipFill>
            <a:blip r:embed="rId4"/>
            <a:stretch/>
          </p:blipFill>
          <p:spPr>
            <a:xfrm>
              <a:off x="423720" y="1324800"/>
              <a:ext cx="3791520" cy="33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ight Arrow 12"/>
            <p:cNvSpPr/>
            <p:nvPr/>
          </p:nvSpPr>
          <p:spPr>
            <a:xfrm>
              <a:off x="4230720" y="2365200"/>
              <a:ext cx="722160" cy="695160"/>
            </a:xfrm>
            <a:prstGeom prst="rightArrow">
              <a:avLst>
                <a:gd name="adj1" fmla="val 50000"/>
                <a:gd name="adj2" fmla="val 38538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13"/>
            <p:cNvSpPr/>
            <p:nvPr/>
          </p:nvSpPr>
          <p:spPr>
            <a:xfrm>
              <a:off x="1655280" y="993600"/>
              <a:ext cx="144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B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4"/>
            <p:cNvSpPr/>
            <p:nvPr/>
          </p:nvSpPr>
          <p:spPr>
            <a:xfrm>
              <a:off x="6098760" y="993600"/>
              <a:ext cx="144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B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13"/>
          <p:cNvSpPr/>
          <p:nvPr/>
        </p:nvSpPr>
        <p:spPr>
          <a:xfrm>
            <a:off x="189000" y="4295880"/>
            <a:ext cx="869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ified expla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ittance is driven by randomness of photon emission in presence of dispersive (energy-dependent) orbits – electron recoils random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king up dipoles and putting focusing (quadrupoles) between the parts allows reducing the amplitude of dispersive orbits – smaller electron recoi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Design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119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270000" y="1068480"/>
            <a:ext cx="84502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spcAft>
                <a:spcPts val="601"/>
              </a:spcAft>
              <a:buClr>
                <a:srgbClr val="1f497d"/>
              </a:buClr>
              <a:buFont typeface="Wingdings" charset="2"/>
              <a:buChar char="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DejaVu LGC Sans"/>
              </a:rPr>
              <a:t>Linear op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Calibri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To reduce the amplitude of dispersive orbits, must bend more gently (small bending angles) and focus more frequently and more strong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Calibri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Finding good optics with existing layout constraints is non triv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601"/>
              </a:spcAft>
              <a:buClr>
                <a:srgbClr val="1f497d"/>
              </a:buClr>
              <a:buFont typeface="Wingdings" charset="2"/>
              <a:buChar char="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DejaVu LGC Sans"/>
              </a:rPr>
              <a:t>Focusing (quadrupole) elements have chromatic aber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Calibri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Sextupole magnets added to correct the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Calibri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Introduces higher order aberrations that must be corr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Calibri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Require magnets with small bore radi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601"/>
              </a:spcAft>
              <a:buClr>
                <a:srgbClr val="1f497d"/>
              </a:buClr>
              <a:buFont typeface="Wingdings" charset="2"/>
              <a:buChar char="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DejaVu LGC Sans"/>
              </a:rPr>
              <a:t>Stronger focusing leads to difficult non-linear dynam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Calibri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Poor “momentum aperture”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 reduced lifeti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 frequent inj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Calibri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Poor “dynamic aperture”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 greater difficulty inject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Calibri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Some designs are consider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on-axis inj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601"/>
              </a:spcAft>
              <a:buClr>
                <a:srgbClr val="1f497d"/>
              </a:buClr>
              <a:buFont typeface="Wingdings" charset="2"/>
              <a:buChar char="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lective instabilities are amplified with short bun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0:24:07Z</dcterms:created>
  <dc:creator>Authorized User</dc:creator>
  <dc:description/>
  <dc:language>en-US</dc:language>
  <cp:lastModifiedBy>Riccardo</cp:lastModifiedBy>
  <dcterms:modified xsi:type="dcterms:W3CDTF">2014-11-25T01:18:41Z</dcterms:modified>
  <cp:revision>920</cp:revision>
  <dc:subject/>
  <dc:title>Radiation from accelerated charged particles</dc:title>
</cp:coreProperties>
</file>