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3A5-125F-4B29-9862-6DA88D29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4495-6251-483C-8CA4-130308FE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8338-6F70-478B-BCE1-11D12292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F19B-A271-4B31-9261-127556DA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BF55-3602-43F4-81F4-FC8BF6EA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1DB7-1F6C-4488-9A0E-D745FEA4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23E1-63BA-42C4-83BA-04B4A13E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2314-98BD-410E-B58B-C545A0D7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003D-2026-4B47-A9B1-072E5459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60000" y="320400"/>
            <a:ext cx="9358200" cy="26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A1B2-D0C8-4F53-B32F-B1C21A24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A05B-4863-4EC9-93CF-D25B6128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3049-7720-4273-B7D5-B51C8614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4816-9BB2-4A5F-94F1-3E9386F6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BECA-8EC0-4C37-A824-8653FFBA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ABCB-47AB-4CB0-A014-35226602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EFE0-D9FF-479F-AE46-126CB3CB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8E75-2F54-4C17-AEAE-7BF55416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513CA-902C-4A92-9B22-A4B40B4E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8BF12-DE8E-447B-8E9A-AA388BD0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F5F5D-A968-42F1-A3B4-73A706C1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05767-B505-420E-80E7-5C8D8BA2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452E9-2E23-4841-9747-3679F368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461-D581-47FE-821A-5D132196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60000" y="320400"/>
            <a:ext cx="9358200" cy="26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4D0F9-BBA6-4675-9F06-3A08839E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1B683-E8D7-4743-B634-FE481B45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0B985-7E5F-4BFD-AA5D-13C0D391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FEE80-FC5C-44EA-BA8B-97EC045A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68D8E-D8FE-424B-979C-15C7B32D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0EED7-FC11-40B5-940B-2F4AB3FE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A5841-9EEB-4CF6-B109-F0996211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2F5-6E5D-4DC7-8A64-917AD616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81B-31A6-4EEE-BBA7-1E8C446D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60000" y="320400"/>
            <a:ext cx="9358200" cy="26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61A3-E528-41EF-8D93-17B3ACC2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E53A-F589-4254-90FD-F9EB80EE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BF79-7ADC-44C7-B39E-58B100C6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9ADE-D1B7-42E2-8E17-1A57F613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79280"/>
            <a:ext cx="8650440" cy="83664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" name=""/>
          <p:cNvSpPr/>
          <p:nvPr/>
        </p:nvSpPr>
        <p:spPr>
          <a:xfrm>
            <a:off x="7559640" y="6840360"/>
            <a:ext cx="2519280" cy="5400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" name=""/>
          <p:cNvSpPr/>
          <p:nvPr/>
        </p:nvSpPr>
        <p:spPr>
          <a:xfrm>
            <a:off x="900000" y="6840360"/>
            <a:ext cx="6480360" cy="540000"/>
          </a:xfrm>
          <a:prstGeom prst="rect">
            <a:avLst/>
          </a:prstGeom>
          <a:solidFill>
            <a:srgbClr val="bdc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6840360"/>
            <a:ext cx="540000" cy="540000"/>
          </a:xfrm>
          <a:prstGeom prst="rect">
            <a:avLst/>
          </a:pr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320400"/>
            <a:ext cx="93582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343080" indent="-34308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559640" y="6840000"/>
            <a:ext cx="233856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ja-JP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079280" y="6840000"/>
            <a:ext cx="32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US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78920" y="684000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en-US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61B08F8-C263-4949-AD1A-22A365CBE333}" type="slidenum">
              <a:rPr b="1" lang="en-US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869320" y="298440"/>
            <a:ext cx="1108080" cy="58896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1378080" y="6919920"/>
            <a:ext cx="55227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GeO2 simulations  - ESRF Meeting - Tommaso Vinci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1" name=""/>
          <p:cNvSpPr/>
          <p:nvPr/>
        </p:nvSpPr>
        <p:spPr>
          <a:xfrm>
            <a:off x="7415280" y="6919920"/>
            <a:ext cx="24843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Jan 19</a:t>
            </a:r>
            <a:r>
              <a:rPr b="0" lang="en-US" sz="1800" spc="-1" strike="noStrike" baseline="33000">
                <a:solidFill>
                  <a:srgbClr val="000000"/>
                </a:solidFill>
                <a:latin typeface="Source Sans Pro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 2016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149640"/>
            <a:ext cx="9720360" cy="12603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333072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9280" y="5975280"/>
            <a:ext cx="917892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72000"/>
          </a:bodyPr>
          <a:p>
            <a:pPr marL="246960" indent="0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246960" indent="-24696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246960" indent="-24696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246960" indent="-24696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246960" indent="-24696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246960" indent="-24696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246960" indent="-24696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559640" y="6840000"/>
            <a:ext cx="233856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ja-JP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1079280" y="6840000"/>
            <a:ext cx="32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US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78920" y="6840000"/>
            <a:ext cx="5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en-US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28FF248-2202-4735-8BBA-180E94BE113D}" type="slidenum">
              <a:rPr b="1" lang="en-US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5360" y="693720"/>
            <a:ext cx="2378160" cy="1263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056440" y="457200"/>
            <a:ext cx="1270080" cy="17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IPA P明朝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IPA P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IPA P明朝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IPA P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IPA P明朝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29CDA-B1D4-45E9-8D20-D0E7042118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IPA P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360" y="333072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GeO2 simualtions &amp; target design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640" y="5975280"/>
            <a:ext cx="91807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t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Source Sans Pro Light"/>
              </a:rPr>
              <a:t>Tommaso Vinci</a:t>
            </a:r>
            <a:endParaRPr b="0" lang="en-US" sz="2200" spc="-1" strike="noStrike">
              <a:solidFill>
                <a:srgbClr val="1c1c1c"/>
              </a:solidFill>
              <a:latin typeface="Source Sans Pro Light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1c1c1c"/>
              </a:solidFill>
              <a:latin typeface="Source Sans Pro Light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c1c1c"/>
                </a:solidFill>
                <a:latin typeface="Source Sans Pro Light"/>
              </a:rPr>
              <a:t>ESRF January 19, 2016</a:t>
            </a:r>
            <a:endParaRPr b="0" lang="en-US" sz="2200" spc="-1" strike="noStrike">
              <a:solidFill>
                <a:srgbClr val="1c1c1c"/>
              </a:solidFill>
              <a:latin typeface="Source Sans Pro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39800" y="1089000"/>
            <a:ext cx="8504280" cy="5705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Phase diagram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38" name=""/>
          <p:cNvSpPr/>
          <p:nvPr/>
        </p:nvSpPr>
        <p:spPr>
          <a:xfrm>
            <a:off x="6505560" y="1663560"/>
            <a:ext cx="16495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ource Sans Pro"/>
              </a:rPr>
              <a:t>2x10</a:t>
            </a:r>
            <a:r>
              <a:rPr b="0" lang="en-US" sz="3600" spc="-1" strike="noStrike" baseline="33000">
                <a:solidFill>
                  <a:srgbClr val="000000"/>
                </a:solidFill>
                <a:latin typeface="Source Sans Pro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9" name=""/>
          <p:cNvSpPr/>
          <p:nvPr/>
        </p:nvSpPr>
        <p:spPr>
          <a:xfrm>
            <a:off x="5457960" y="3009960"/>
            <a:ext cx="164916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ource Sans Pro"/>
              </a:rPr>
              <a:t>1x10</a:t>
            </a:r>
            <a:r>
              <a:rPr b="0" lang="en-US" sz="3600" spc="-1" strike="noStrike" baseline="33000">
                <a:solidFill>
                  <a:srgbClr val="000000"/>
                </a:solidFill>
                <a:latin typeface="Source Sans Pro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0" name=""/>
          <p:cNvSpPr/>
          <p:nvPr/>
        </p:nvSpPr>
        <p:spPr>
          <a:xfrm>
            <a:off x="3983040" y="4307040"/>
            <a:ext cx="164952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ource Sans Pro"/>
              </a:rPr>
              <a:t>5x10</a:t>
            </a:r>
            <a:r>
              <a:rPr b="0" lang="en-US" sz="3600" spc="-1" strike="noStrike" baseline="33000">
                <a:solidFill>
                  <a:srgbClr val="000000"/>
                </a:solidFill>
                <a:latin typeface="Source Sans Pro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41" name=""/>
          <p:cNvSpPr/>
          <p:nvPr/>
        </p:nvSpPr>
        <p:spPr>
          <a:xfrm>
            <a:off x="2901960" y="5315040"/>
            <a:ext cx="164952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ource Sans Pro"/>
              </a:rPr>
              <a:t>2x10</a:t>
            </a:r>
            <a:r>
              <a:rPr b="0" lang="en-US" sz="3600" spc="-1" strike="noStrike" baseline="33000">
                <a:solidFill>
                  <a:srgbClr val="000000"/>
                </a:solidFill>
                <a:latin typeface="Source Sans Pro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643-D0B6-4050-9DB4-19710246CB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Ramp compression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84200" y="1079640"/>
            <a:ext cx="9155160" cy="60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9AD-6C69-45E8-946A-F2C51E12F27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Ramp compression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00" y="1440000"/>
            <a:ext cx="9210600" cy="534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2BF7-1BBB-4A41-88D9-829550937C1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Ramp compression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8200" y="1079640"/>
            <a:ext cx="8570880" cy="568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690-D07B-4C24-9C54-51D4FDFE118D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Target Design</a:t>
            </a: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22400" y="4557600"/>
            <a:ext cx="846108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H 5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Al 30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GeO2 15µm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LiF 150µm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7" name=""/>
          <p:cNvSpPr/>
          <p:nvPr/>
        </p:nvSpPr>
        <p:spPr>
          <a:xfrm flipH="1" rot="5400000">
            <a:off x="3181320" y="1844640"/>
            <a:ext cx="1006560" cy="1067040"/>
          </a:xfrm>
          <a:custGeom>
            <a:avLst/>
            <a:gdLst>
              <a:gd name="textAreaLeft" fmla="*/ 221400 w 1006560"/>
              <a:gd name="textAreaRight" fmla="*/ 785160 w 1006560"/>
              <a:gd name="textAreaTop" fmla="*/ 234720 h 1067040"/>
              <a:gd name="textAreaBottom" fmla="*/ 832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e9a0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8" name=""/>
          <p:cNvSpPr/>
          <p:nvPr/>
        </p:nvSpPr>
        <p:spPr>
          <a:xfrm>
            <a:off x="2687760" y="1235160"/>
            <a:ext cx="587160" cy="2286000"/>
          </a:xfrm>
          <a:prstGeom prst="rect">
            <a:avLst/>
          </a:prstGeom>
          <a:solidFill>
            <a:srgbClr val="eeeeee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5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840680" y="1235160"/>
            <a:ext cx="841320" cy="2286000"/>
          </a:xfrm>
          <a:prstGeom prst="rect">
            <a:avLst/>
          </a:prstGeom>
          <a:solidFill>
            <a:srgbClr val="999999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30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0" name=""/>
          <p:cNvSpPr/>
          <p:nvPr/>
        </p:nvSpPr>
        <p:spPr>
          <a:xfrm>
            <a:off x="1176480" y="1235160"/>
            <a:ext cx="668160" cy="2286000"/>
          </a:xfrm>
          <a:prstGeom prst="rect">
            <a:avLst/>
          </a:prstGeom>
          <a:solidFill>
            <a:srgbClr val="ff3333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GeO2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15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05480" y="1235160"/>
            <a:ext cx="1070280" cy="2286000"/>
          </a:xfrm>
          <a:prstGeom prst="rect">
            <a:avLst/>
          </a:prstGeom>
          <a:solidFill>
            <a:srgbClr val="99ffff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LiF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150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680" y="3193920"/>
            <a:ext cx="4570560" cy="541440"/>
            <a:chOff x="4680" y="3193920"/>
            <a:chExt cx="4570560" cy="541440"/>
          </a:xfrm>
        </p:grpSpPr>
        <p:grpSp>
          <p:nvGrpSpPr>
            <p:cNvPr id="143" name=""/>
            <p:cNvGrpSpPr/>
            <p:nvPr/>
          </p:nvGrpSpPr>
          <p:grpSpPr>
            <a:xfrm>
              <a:off x="114480" y="3489480"/>
              <a:ext cx="3164760" cy="245880"/>
              <a:chOff x="114480" y="3489480"/>
              <a:chExt cx="3164760" cy="245880"/>
            </a:xfrm>
          </p:grpSpPr>
          <p:sp>
            <p:nvSpPr>
              <p:cNvPr id="144" name=""/>
              <p:cNvSpPr/>
              <p:nvPr/>
            </p:nvSpPr>
            <p:spPr>
              <a:xfrm>
                <a:off x="1845360" y="348948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ource Sans Pro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83680" y="348948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ource Sans Pro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88840" y="348948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ource Sans Pro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3274920" y="3489480"/>
                <a:ext cx="432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ource Sans Pro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14480" y="348948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ource Sans Pro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4680" y="3193920"/>
              <a:ext cx="4570560" cy="541440"/>
            </a:xfrm>
            <a:prstGeom prst="rightArrow">
              <a:avLst>
                <a:gd name="adj1" fmla="val 41287"/>
                <a:gd name="adj2" fmla="val 726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8120" y="3294000"/>
              <a:ext cx="3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55800" y="3294000"/>
              <a:ext cx="637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03440" y="3294000"/>
              <a:ext cx="638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165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68520" y="3294000"/>
              <a:ext cx="638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195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44880" y="3294000"/>
              <a:ext cx="638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48160" y="3294000"/>
              <a:ext cx="637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µm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14D-AB24-4E24-835A-116E4993335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 flipH="1" rot="5400000">
            <a:off x="8409240" y="2391120"/>
            <a:ext cx="2678040" cy="460440"/>
          </a:xfrm>
          <a:custGeom>
            <a:avLst/>
            <a:gdLst>
              <a:gd name="textAreaLeft" fmla="*/ 588960 w 2678040"/>
              <a:gd name="textAreaRight" fmla="*/ 2089080 w 2678040"/>
              <a:gd name="textAreaTop" fmla="*/ 101160 h 460440"/>
              <a:gd name="textAreaBottom" fmla="*/ 359280 h 46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e9a0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Target Design</a:t>
            </a: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: ablator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122400" y="4557600"/>
            <a:ext cx="846108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CH 5µm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ablated material over 10ns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Al 30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GeO2 15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LiF 150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59" name=""/>
          <p:cNvSpPr/>
          <p:nvPr/>
        </p:nvSpPr>
        <p:spPr>
          <a:xfrm flipH="1" rot="5400000">
            <a:off x="3181320" y="1844640"/>
            <a:ext cx="1006560" cy="1067040"/>
          </a:xfrm>
          <a:custGeom>
            <a:avLst/>
            <a:gdLst>
              <a:gd name="textAreaLeft" fmla="*/ 221400 w 1006560"/>
              <a:gd name="textAreaRight" fmla="*/ 785160 w 1006560"/>
              <a:gd name="textAreaTop" fmla="*/ 234720 h 1067040"/>
              <a:gd name="textAreaBottom" fmla="*/ 832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e9a0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0" name=""/>
          <p:cNvSpPr/>
          <p:nvPr/>
        </p:nvSpPr>
        <p:spPr>
          <a:xfrm>
            <a:off x="2687760" y="1235160"/>
            <a:ext cx="587160" cy="2286000"/>
          </a:xfrm>
          <a:prstGeom prst="rect">
            <a:avLst/>
          </a:prstGeom>
          <a:solidFill>
            <a:srgbClr val="eeeeee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5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840680" y="1235160"/>
            <a:ext cx="841320" cy="2286000"/>
          </a:xfrm>
          <a:prstGeom prst="rect">
            <a:avLst/>
          </a:prstGeom>
          <a:solidFill>
            <a:srgbClr val="999999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30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2" name=""/>
          <p:cNvSpPr/>
          <p:nvPr/>
        </p:nvSpPr>
        <p:spPr>
          <a:xfrm>
            <a:off x="1176480" y="1235160"/>
            <a:ext cx="668160" cy="2286000"/>
          </a:xfrm>
          <a:prstGeom prst="rect">
            <a:avLst/>
          </a:prstGeom>
          <a:solidFill>
            <a:srgbClr val="ff3333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GeO2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15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05480" y="1235160"/>
            <a:ext cx="1070280" cy="2286000"/>
          </a:xfrm>
          <a:prstGeom prst="rect">
            <a:avLst/>
          </a:prstGeom>
          <a:solidFill>
            <a:srgbClr val="99ffff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LiF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150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484520" y="1255680"/>
            <a:ext cx="5037480" cy="2967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835360" y="3768840"/>
            <a:ext cx="2011320" cy="530280"/>
          </a:xfrm>
          <a:custGeom>
            <a:avLst/>
            <a:gdLst/>
            <a:ahLst/>
            <a:rect l="l" t="t" r="r" b="b"/>
            <a:pathLst>
              <a:path w="5589" h="1471">
                <a:moveTo>
                  <a:pt x="5588" y="454"/>
                </a:moveTo>
                <a:cubicBezTo>
                  <a:pt x="3302" y="1470"/>
                  <a:pt x="254" y="1216"/>
                  <a:pt x="0" y="0"/>
                </a:cubicBezTo>
              </a:path>
            </a:pathLst>
          </a:custGeom>
          <a:noFill/>
          <a:ln cap="rnd" w="152280">
            <a:solidFill>
              <a:srgbClr val="e74c4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680" y="3193920"/>
            <a:ext cx="4570560" cy="541440"/>
            <a:chOff x="4680" y="3193920"/>
            <a:chExt cx="4570560" cy="541440"/>
          </a:xfrm>
        </p:grpSpPr>
        <p:grpSp>
          <p:nvGrpSpPr>
            <p:cNvPr id="167" name=""/>
            <p:cNvGrpSpPr/>
            <p:nvPr/>
          </p:nvGrpSpPr>
          <p:grpSpPr>
            <a:xfrm>
              <a:off x="114480" y="3489480"/>
              <a:ext cx="3164760" cy="245880"/>
              <a:chOff x="114480" y="3489480"/>
              <a:chExt cx="3164760" cy="245880"/>
            </a:xfrm>
          </p:grpSpPr>
          <p:sp>
            <p:nvSpPr>
              <p:cNvPr id="168" name=""/>
              <p:cNvSpPr/>
              <p:nvPr/>
            </p:nvSpPr>
            <p:spPr>
              <a:xfrm>
                <a:off x="1845360" y="348948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ource Sans Pro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83680" y="348948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ource Sans Pro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688840" y="348948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ource Sans Pro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3274920" y="3489480"/>
                <a:ext cx="432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ource Sans Pro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14480" y="3489480"/>
                <a:ext cx="0" cy="24588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ource Sans Pro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4680" y="3193920"/>
              <a:ext cx="4570560" cy="541440"/>
            </a:xfrm>
            <a:prstGeom prst="rightArrow">
              <a:avLst>
                <a:gd name="adj1" fmla="val 41287"/>
                <a:gd name="adj2" fmla="val 726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8120" y="3294000"/>
              <a:ext cx="3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55800" y="3294000"/>
              <a:ext cx="637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150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03440" y="3294000"/>
              <a:ext cx="638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165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68520" y="3294000"/>
              <a:ext cx="638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195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44880" y="3294000"/>
              <a:ext cx="638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200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48160" y="3294000"/>
              <a:ext cx="6379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ource Sans Pro"/>
                </a:rPr>
                <a:t>µm</a:t>
              </a:r>
              <a:endParaRPr b="0" lang="en-US" sz="15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9AC1-6CD3-4E4A-9EED-23BC3B76370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Target Design</a:t>
            </a: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: shield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81" name=""/>
          <p:cNvSpPr/>
          <p:nvPr/>
        </p:nvSpPr>
        <p:spPr>
          <a:xfrm flipH="1" rot="5400000">
            <a:off x="3181320" y="1844640"/>
            <a:ext cx="1006560" cy="1067040"/>
          </a:xfrm>
          <a:custGeom>
            <a:avLst/>
            <a:gdLst>
              <a:gd name="textAreaLeft" fmla="*/ 221400 w 1006560"/>
              <a:gd name="textAreaRight" fmla="*/ 785160 w 1006560"/>
              <a:gd name="textAreaTop" fmla="*/ 234720 h 1067040"/>
              <a:gd name="textAreaBottom" fmla="*/ 832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e9a0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2" name=""/>
          <p:cNvSpPr/>
          <p:nvPr/>
        </p:nvSpPr>
        <p:spPr>
          <a:xfrm>
            <a:off x="2687760" y="1235160"/>
            <a:ext cx="587160" cy="2286000"/>
          </a:xfrm>
          <a:prstGeom prst="rect">
            <a:avLst/>
          </a:prstGeom>
          <a:solidFill>
            <a:srgbClr val="eeeeee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5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840680" y="1235160"/>
            <a:ext cx="841320" cy="2286000"/>
          </a:xfrm>
          <a:prstGeom prst="rect">
            <a:avLst/>
          </a:prstGeom>
          <a:solidFill>
            <a:srgbClr val="999999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30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4" name=""/>
          <p:cNvSpPr/>
          <p:nvPr/>
        </p:nvSpPr>
        <p:spPr>
          <a:xfrm>
            <a:off x="1176480" y="1235160"/>
            <a:ext cx="668160" cy="2286000"/>
          </a:xfrm>
          <a:prstGeom prst="rect">
            <a:avLst/>
          </a:prstGeom>
          <a:solidFill>
            <a:srgbClr val="ff3333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GeO2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15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05480" y="1235160"/>
            <a:ext cx="1070280" cy="2286000"/>
          </a:xfrm>
          <a:prstGeom prst="rect">
            <a:avLst/>
          </a:prstGeom>
          <a:solidFill>
            <a:srgbClr val="99ffff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LiF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150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86" name=""/>
          <p:cNvSpPr/>
          <p:nvPr/>
        </p:nvSpPr>
        <p:spPr>
          <a:xfrm>
            <a:off x="122400" y="4557600"/>
            <a:ext cx="846108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H 5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ablated material over 10ns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Al 30µm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to prevent X-rays prehe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GeO2 15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LiF 150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371840" y="1047600"/>
            <a:ext cx="5459400" cy="3657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71640" y="3672000"/>
            <a:ext cx="2500200" cy="792000"/>
          </a:xfrm>
          <a:custGeom>
            <a:avLst/>
            <a:gdLst/>
            <a:ahLst/>
            <a:rect l="l" t="t" r="r" b="b"/>
            <a:pathLst>
              <a:path w="6946" h="2201">
                <a:moveTo>
                  <a:pt x="6945" y="617"/>
                </a:moveTo>
                <a:cubicBezTo>
                  <a:pt x="5400" y="1400"/>
                  <a:pt x="1800" y="2200"/>
                  <a:pt x="0" y="0"/>
                </a:cubicBezTo>
              </a:path>
            </a:pathLst>
          </a:custGeom>
          <a:noFill/>
          <a:ln cap="rnd" w="152280">
            <a:solidFill>
              <a:srgbClr val="e74c4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EFC-E81C-4BF7-B224-096C71768DD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Target Design</a:t>
            </a: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: Germanium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97560" y="1322280"/>
            <a:ext cx="3984480" cy="2727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H="1" rot="5400000">
            <a:off x="3181320" y="1844640"/>
            <a:ext cx="1006560" cy="1067040"/>
          </a:xfrm>
          <a:custGeom>
            <a:avLst/>
            <a:gdLst>
              <a:gd name="textAreaLeft" fmla="*/ 221400 w 1006560"/>
              <a:gd name="textAreaRight" fmla="*/ 785160 w 1006560"/>
              <a:gd name="textAreaTop" fmla="*/ 234720 h 1067040"/>
              <a:gd name="textAreaBottom" fmla="*/ 832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e9a0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2" name=""/>
          <p:cNvSpPr/>
          <p:nvPr/>
        </p:nvSpPr>
        <p:spPr>
          <a:xfrm>
            <a:off x="2687760" y="1235160"/>
            <a:ext cx="587160" cy="2286000"/>
          </a:xfrm>
          <a:prstGeom prst="rect">
            <a:avLst/>
          </a:prstGeom>
          <a:solidFill>
            <a:srgbClr val="eeeeee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5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840680" y="1235160"/>
            <a:ext cx="841320" cy="2286000"/>
          </a:xfrm>
          <a:prstGeom prst="rect">
            <a:avLst/>
          </a:prstGeom>
          <a:solidFill>
            <a:srgbClr val="999999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30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4" name=""/>
          <p:cNvSpPr/>
          <p:nvPr/>
        </p:nvSpPr>
        <p:spPr>
          <a:xfrm>
            <a:off x="1176480" y="1235160"/>
            <a:ext cx="668160" cy="2286000"/>
          </a:xfrm>
          <a:prstGeom prst="rect">
            <a:avLst/>
          </a:prstGeom>
          <a:solidFill>
            <a:srgbClr val="ff3333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GeO2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15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05480" y="1235160"/>
            <a:ext cx="1070280" cy="2286000"/>
          </a:xfrm>
          <a:prstGeom prst="rect">
            <a:avLst/>
          </a:prstGeom>
          <a:solidFill>
            <a:srgbClr val="99ffff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LiF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150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6" name=""/>
          <p:cNvSpPr/>
          <p:nvPr/>
        </p:nvSpPr>
        <p:spPr>
          <a:xfrm>
            <a:off x="122400" y="4557600"/>
            <a:ext cx="846108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H 5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ablated material over 10ns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Al 30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o prevent X-rays prehe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GeO2 15µm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by the k edge absorption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LiF 150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9FD3-B33A-4902-9305-E8800D537BC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H="1" rot="5400000">
            <a:off x="3181320" y="1844640"/>
            <a:ext cx="1006560" cy="1067040"/>
          </a:xfrm>
          <a:custGeom>
            <a:avLst/>
            <a:gdLst>
              <a:gd name="textAreaLeft" fmla="*/ 221400 w 1006560"/>
              <a:gd name="textAreaRight" fmla="*/ 785160 w 1006560"/>
              <a:gd name="textAreaTop" fmla="*/ 234720 h 1067040"/>
              <a:gd name="textAreaBottom" fmla="*/ 832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e9a0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Target Design</a:t>
            </a: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: LiF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2687760" y="1235160"/>
            <a:ext cx="587160" cy="2286000"/>
          </a:xfrm>
          <a:prstGeom prst="rect">
            <a:avLst/>
          </a:prstGeom>
          <a:solidFill>
            <a:srgbClr val="eeeeee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CH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5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840680" y="1235160"/>
            <a:ext cx="841320" cy="2286000"/>
          </a:xfrm>
          <a:prstGeom prst="rect">
            <a:avLst/>
          </a:prstGeom>
          <a:solidFill>
            <a:srgbClr val="999999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30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1" name=""/>
          <p:cNvSpPr/>
          <p:nvPr/>
        </p:nvSpPr>
        <p:spPr>
          <a:xfrm>
            <a:off x="1176480" y="1235160"/>
            <a:ext cx="668160" cy="2286000"/>
          </a:xfrm>
          <a:prstGeom prst="rect">
            <a:avLst/>
          </a:prstGeom>
          <a:solidFill>
            <a:srgbClr val="ff3333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GeO2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15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05480" y="1235160"/>
            <a:ext cx="1070280" cy="2286000"/>
          </a:xfrm>
          <a:prstGeom prst="rect">
            <a:avLst/>
          </a:prstGeom>
          <a:solidFill>
            <a:srgbClr val="99ffff">
              <a:alpha val="85000"/>
            </a:srgbClr>
          </a:solidFill>
          <a:ln w="9360">
            <a:solidFill>
              <a:srgbClr val="1111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LiF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150µm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03" name=""/>
          <p:cNvSpPr/>
          <p:nvPr/>
        </p:nvSpPr>
        <p:spPr>
          <a:xfrm>
            <a:off x="122400" y="4557600"/>
            <a:ext cx="846108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CH 5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ablated material over 10ns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Al 30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to prevent X-rays preheat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GeO2 15µm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ource Sans Pro"/>
              </a:rPr>
              <a:t>by the k edge absorption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LiF 150µm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ource Sans Pro"/>
              </a:rPr>
              <a:t>by feasability / price / x-ray absorption</a:t>
            </a:r>
            <a:endParaRPr b="0" lang="en-US" sz="2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702320" y="1189080"/>
            <a:ext cx="4951440" cy="375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8F8C-AAB7-45A1-B055-4E8F6F5CFB4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7497720" y="909720"/>
            <a:ext cx="3210120" cy="5209920"/>
            <a:chOff x="7497720" y="909720"/>
            <a:chExt cx="3210120" cy="5209920"/>
          </a:xfrm>
        </p:grpSpPr>
        <p:sp>
          <p:nvSpPr>
            <p:cNvPr id="206" name=""/>
            <p:cNvSpPr/>
            <p:nvPr/>
          </p:nvSpPr>
          <p:spPr>
            <a:xfrm flipH="1" rot="5400000">
              <a:off x="6181920" y="2225520"/>
              <a:ext cx="5209920" cy="2578320"/>
            </a:xfrm>
            <a:custGeom>
              <a:avLst/>
              <a:gdLst>
                <a:gd name="textAreaLeft" fmla="*/ 1145520 w 5209920"/>
                <a:gd name="textAreaRight" fmla="*/ 4064400 w 5209920"/>
                <a:gd name="textAreaTop" fmla="*/ 567000 h 2578320"/>
                <a:gd name="textAreaBottom" fmla="*/ 2011320 h 257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e9a0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8055000" y="2895480"/>
              <a:ext cx="406728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rot="-5400000">
              <a:noAutofit/>
            </a:bodyPr>
            <a:p>
              <a:pPr algn="ctr"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ource Sans Pro"/>
                </a:rPr>
                <a:t>Laser </a:t>
              </a:r>
              <a:r>
                <a:rPr b="0" lang="en-US" sz="3600" spc="-1" strike="noStrike">
                  <a:solidFill>
                    <a:srgbClr val="000000"/>
                  </a:solidFill>
                  <a:latin typeface="Source Sans Pro"/>
                  <a:ea typeface="Source Sans Pro"/>
                </a:rPr>
                <a:t>ω </a:t>
              </a:r>
              <a:r>
                <a:rPr b="0" lang="en-US" sz="3600" spc="-1" strike="noStrike">
                  <a:solidFill>
                    <a:srgbClr val="000000"/>
                  </a:solidFill>
                  <a:latin typeface="Source Sans Pro"/>
                </a:rPr>
                <a:t>2x10</a:t>
              </a:r>
              <a:r>
                <a:rPr b="0" lang="en-US" sz="3600" spc="-1" strike="noStrike" baseline="33000">
                  <a:solidFill>
                    <a:srgbClr val="000000"/>
                  </a:solidFill>
                  <a:latin typeface="Source Sans Pro"/>
                </a:rPr>
                <a:t>13 </a:t>
              </a:r>
              <a:r>
                <a:rPr b="0" lang="en-US" sz="3600" spc="-1" strike="noStrike">
                  <a:solidFill>
                    <a:srgbClr val="000000"/>
                  </a:solidFill>
                  <a:latin typeface="Source Sans Pro"/>
                </a:rPr>
                <a:t>9ns</a:t>
              </a:r>
              <a:endParaRPr b="0" lang="en-US" sz="3600" spc="-1" strike="noStrike">
                <a:solidFill>
                  <a:srgbClr val="000000"/>
                </a:solidFill>
                <a:latin typeface="Source Sans Pro"/>
              </a:endParaRPr>
            </a:p>
          </p:txBody>
        </p:sp>
      </p:grp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108000" y="-503280"/>
            <a:ext cx="10044000" cy="75326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Simulations: top view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917960"/>
            <a:ext cx="6108840" cy="857520"/>
          </a:xfrm>
          <a:prstGeom prst="leftRightArrow">
            <a:avLst>
              <a:gd name="adj1" fmla="val 36481"/>
              <a:gd name="adj2" fmla="val 70117"/>
            </a:avLst>
          </a:prstGeom>
          <a:solidFill>
            <a:srgbClr val="00cc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Visar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1" name=""/>
          <p:cNvSpPr/>
          <p:nvPr/>
        </p:nvSpPr>
        <p:spPr>
          <a:xfrm>
            <a:off x="2284560" y="2130480"/>
            <a:ext cx="2199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ource Sans Pro"/>
              </a:rPr>
              <a:t>LiF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5236920" y="1535040"/>
            <a:ext cx="22003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rot="-5400000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ource Sans Pro"/>
              </a:rPr>
              <a:t>GeO2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3" name=""/>
          <p:cNvSpPr/>
          <p:nvPr/>
        </p:nvSpPr>
        <p:spPr>
          <a:xfrm>
            <a:off x="6784920" y="2130480"/>
            <a:ext cx="22003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ource Sans Pro"/>
              </a:rPr>
              <a:t>Al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6711840" y="1535040"/>
            <a:ext cx="22003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rot="-5400000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ource Sans Pro"/>
              </a:rPr>
              <a:t>CH</a:t>
            </a:r>
            <a:endParaRPr b="0" lang="en-US" sz="2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15" name=""/>
          <p:cNvSpPr/>
          <p:nvPr/>
        </p:nvSpPr>
        <p:spPr>
          <a:xfrm rot="2580000">
            <a:off x="3654000" y="2039400"/>
            <a:ext cx="2200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ource Sans Pro"/>
              </a:rPr>
              <a:t>~15km/s</a:t>
            </a:r>
            <a:endParaRPr b="0" lang="en-US" sz="26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7A4-D673-4B7B-A0FB-377CE74B07A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Simulations: intensity scan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5160" y="3043080"/>
            <a:ext cx="5133960" cy="3849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rcRect l="9425" t="0" r="0" b="0"/>
          <a:stretch/>
        </p:blipFill>
        <p:spPr>
          <a:xfrm>
            <a:off x="5337000" y="3043080"/>
            <a:ext cx="4650120" cy="38498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rcRect l="8823" t="0" r="0" b="11693"/>
          <a:stretch/>
        </p:blipFill>
        <p:spPr>
          <a:xfrm>
            <a:off x="5321160" y="415800"/>
            <a:ext cx="4680000" cy="3399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rcRect l="0" t="0" r="0" b="11693"/>
          <a:stretch/>
        </p:blipFill>
        <p:spPr>
          <a:xfrm>
            <a:off x="65160" y="415800"/>
            <a:ext cx="5133960" cy="33991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344600" y="2782800"/>
            <a:ext cx="16304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0.2x10</a:t>
            </a:r>
            <a:r>
              <a:rPr b="0" lang="en-US" sz="1800" spc="-1" strike="noStrike" baseline="33000">
                <a:solidFill>
                  <a:srgbClr val="ffffff"/>
                </a:solidFill>
                <a:latin typeface="Source Sans Pro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W/cm</a:t>
            </a:r>
            <a:r>
              <a:rPr b="0" lang="en-US" sz="1800" spc="-1" strike="noStrike" baseline="33000">
                <a:solidFill>
                  <a:srgbClr val="ffffff"/>
                </a:solidFill>
                <a:latin typeface="Source Sans Pro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2" name=""/>
          <p:cNvSpPr/>
          <p:nvPr/>
        </p:nvSpPr>
        <p:spPr>
          <a:xfrm>
            <a:off x="6024600" y="2782800"/>
            <a:ext cx="16304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0.5x10</a:t>
            </a:r>
            <a:r>
              <a:rPr b="0" lang="en-US" sz="1800" spc="-1" strike="noStrike" baseline="33000">
                <a:solidFill>
                  <a:srgbClr val="ffffff"/>
                </a:solidFill>
                <a:latin typeface="Source Sans Pro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W/cm</a:t>
            </a:r>
            <a:r>
              <a:rPr b="0" lang="en-US" sz="1800" spc="-1" strike="noStrike" baseline="33000">
                <a:solidFill>
                  <a:srgbClr val="ffffff"/>
                </a:solidFill>
                <a:latin typeface="Source Sans Pro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3" name=""/>
          <p:cNvSpPr/>
          <p:nvPr/>
        </p:nvSpPr>
        <p:spPr>
          <a:xfrm>
            <a:off x="1344600" y="5375160"/>
            <a:ext cx="16304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1.0x10</a:t>
            </a:r>
            <a:r>
              <a:rPr b="0" lang="en-US" sz="1800" spc="-1" strike="noStrike" baseline="33000">
                <a:solidFill>
                  <a:srgbClr val="ffffff"/>
                </a:solidFill>
                <a:latin typeface="Source Sans Pro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W/cm</a:t>
            </a:r>
            <a:r>
              <a:rPr b="0" lang="en-US" sz="1800" spc="-1" strike="noStrike" baseline="33000">
                <a:solidFill>
                  <a:srgbClr val="ffffff"/>
                </a:solidFill>
                <a:latin typeface="Source Sans Pro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4" name=""/>
          <p:cNvSpPr/>
          <p:nvPr/>
        </p:nvSpPr>
        <p:spPr>
          <a:xfrm>
            <a:off x="6024600" y="5375160"/>
            <a:ext cx="16304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2.0x10</a:t>
            </a:r>
            <a:r>
              <a:rPr b="0" lang="en-US" sz="1800" spc="-1" strike="noStrike" baseline="33000">
                <a:solidFill>
                  <a:srgbClr val="ffffff"/>
                </a:solidFill>
                <a:latin typeface="Source Sans Pro"/>
              </a:rPr>
              <a:t>13</a:t>
            </a: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W/cm</a:t>
            </a:r>
            <a:r>
              <a:rPr b="0" lang="en-US" sz="1800" spc="-1" strike="noStrike" baseline="33000">
                <a:solidFill>
                  <a:srgbClr val="ffffff"/>
                </a:solidFill>
                <a:latin typeface="Source Sans Pro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5" name=""/>
          <p:cNvSpPr/>
          <p:nvPr/>
        </p:nvSpPr>
        <p:spPr>
          <a:xfrm rot="2580000">
            <a:off x="6778440" y="4230720"/>
            <a:ext cx="1128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~15km/s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6" name=""/>
          <p:cNvSpPr/>
          <p:nvPr/>
        </p:nvSpPr>
        <p:spPr>
          <a:xfrm rot="2880000">
            <a:off x="2279520" y="4232160"/>
            <a:ext cx="1128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~12km/s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7" name=""/>
          <p:cNvSpPr/>
          <p:nvPr/>
        </p:nvSpPr>
        <p:spPr>
          <a:xfrm rot="3480000">
            <a:off x="2278440" y="1533240"/>
            <a:ext cx="1128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~8km/s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28" name=""/>
          <p:cNvSpPr/>
          <p:nvPr/>
        </p:nvSpPr>
        <p:spPr>
          <a:xfrm rot="3240000">
            <a:off x="6815160" y="1569960"/>
            <a:ext cx="11286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ource Sans Pro"/>
              </a:rPr>
              <a:t>~10km/s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841-007B-4632-9627-60E4818B3FF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60360" y="320400"/>
            <a:ext cx="9360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Simulations: pressure and temperatur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6665760" y="3279600"/>
            <a:ext cx="1216080" cy="547920"/>
          </a:xfrm>
          <a:prstGeom prst="leftRightArrow">
            <a:avLst>
              <a:gd name="adj1" fmla="val 50000"/>
              <a:gd name="adj2" fmla="val 4418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0.5 ns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5882" t="0" r="12078" b="0"/>
          <a:stretch/>
        </p:blipFill>
        <p:spPr>
          <a:xfrm>
            <a:off x="15840" y="2730600"/>
            <a:ext cx="4452840" cy="36576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5859" t="0" r="0" b="0"/>
          <a:stretch/>
        </p:blipFill>
        <p:spPr>
          <a:xfrm>
            <a:off x="4789440" y="2730600"/>
            <a:ext cx="5111640" cy="3657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127920" y="2259000"/>
            <a:ext cx="25495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Temperature [1000K]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4" name=""/>
          <p:cNvSpPr/>
          <p:nvPr/>
        </p:nvSpPr>
        <p:spPr>
          <a:xfrm>
            <a:off x="1592280" y="2260440"/>
            <a:ext cx="254952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</a:rPr>
              <a:t>Pressure [Mbar]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35" name=""/>
          <p:cNvSpPr/>
          <p:nvPr/>
        </p:nvSpPr>
        <p:spPr>
          <a:xfrm>
            <a:off x="1022400" y="1073160"/>
            <a:ext cx="80359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ource Sans Pro"/>
              </a:rPr>
              <a:t>0.2 - 0.5 - 1.0 - 2.0 x 10</a:t>
            </a:r>
            <a:r>
              <a:rPr b="0" lang="en-US" sz="4400" spc="-1" strike="noStrike" baseline="33000">
                <a:solidFill>
                  <a:srgbClr val="000000"/>
                </a:solidFill>
                <a:latin typeface="Source Sans Pro"/>
              </a:rPr>
              <a:t>13 </a:t>
            </a:r>
            <a:r>
              <a:rPr b="0" lang="en-US" sz="4400" spc="-1" strike="noStrike">
                <a:solidFill>
                  <a:srgbClr val="000000"/>
                </a:solidFill>
                <a:latin typeface="Source Sans Pro"/>
              </a:rPr>
              <a:t>W/cm</a:t>
            </a:r>
            <a:r>
              <a:rPr b="0" lang="en-US" sz="4400" spc="-1" strike="noStrike" baseline="33000">
                <a:solidFill>
                  <a:srgbClr val="000000"/>
                </a:solidFill>
                <a:latin typeface="Source Sans Pro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DC4-D84D-48F4-995A-D9D63211906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10:28:58Z</dcterms:created>
  <dc:creator/>
  <dc:description/>
  <dc:language>en-US</dc:language>
  <cp:lastModifiedBy/>
  <dcterms:modified xsi:type="dcterms:W3CDTF">2016-01-19T12:55:14Z</dcterms:modified>
  <cp:revision>19</cp:revision>
  <dc:subject/>
  <dc:title/>
</cp:coreProperties>
</file>