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E1D-E512-47C9-9E67-66AD3F18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B79-7DD6-42FA-BCDE-41DC02C0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52E-DE42-4A5A-91DF-63C9EEE1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588-47DD-45CE-BB7E-7E4D7413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D2AF-D384-4B5C-890C-D5952C89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1370-451E-4AAD-896B-8DF3B476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7942-966C-47A8-967B-D2C86907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5BFE-050A-467B-8C40-690DB987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7982-F5A9-493F-9D51-8592EA61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60000" y="320400"/>
            <a:ext cx="935820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1BA3-4A6F-4173-AE53-D5387AFC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D915-9AB7-41DD-98FB-657B3DF4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3EC-84D5-49A6-AC31-3D9E5D9B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BF79-4203-4798-9B44-24CE678B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177A-B915-465C-94EE-0874FD92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ED62-3E6A-4F90-9171-D00E4CE4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4281-05D0-40FB-A90B-F661C7C8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84B0-5582-4B0F-8003-E112187A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F09A2-2D5B-4E97-A7E4-0F03D7F5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2B57-E459-4B2A-86A1-32EBA8D1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4198-A40D-4EC4-ABE1-751B6492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C2346-6C18-4977-B8F7-0E14E2AB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7EC34-2D97-4671-9A68-5F230D4E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09A-8348-46C1-8A82-F6CD1A50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60000" y="320400"/>
            <a:ext cx="935820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EBFD1-1C46-49FB-BD8F-B6E882A9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E6E3-4CAC-45F4-AEEA-A7BDFE2C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D260-C7D0-4897-ADED-70B8D416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9B464-BC16-41CF-ACAC-9E007AC4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6310-C367-4830-8135-0804CEB6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0BC3-2BDB-469B-A843-0DD8F72E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1CC25-373C-4EAF-80EA-48A16DD6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C03-681F-4D19-9903-D3FEB31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A8A-C02C-4397-A891-87FED8EE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60000" y="320400"/>
            <a:ext cx="935820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66A-3C9C-4AA7-8508-4ABB1EFB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FD0-363B-4A45-90FB-A4A60D84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78F-B7B1-4B85-A090-B8E2191D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E6A-F0D8-4495-9C1D-99EDF85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8650440" cy="83664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ja-JP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77B4E84-10ED-4A4D-831F-2F93C6470DCE}" type="slidenum">
              <a: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869320" y="298440"/>
            <a:ext cx="1108080" cy="5889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378080" y="6919920"/>
            <a:ext cx="5522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GeO2 simulations  - ESRF Meeting - Tommaso Vinci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" name=""/>
          <p:cNvSpPr/>
          <p:nvPr/>
        </p:nvSpPr>
        <p:spPr>
          <a:xfrm>
            <a:off x="7415280" y="6919920"/>
            <a:ext cx="2484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Jan 19</a:t>
            </a:r>
            <a:r>
              <a:rPr b="0" lang="en-US" sz="1800" spc="-1" strike="noStrike" baseline="33000">
                <a:solidFill>
                  <a:srgbClr val="000000"/>
                </a:solidFill>
                <a:latin typeface="Source Sans Pro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 2016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333072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9280" y="5975280"/>
            <a:ext cx="917892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46960" indent="-246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46960" indent="-246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46960" indent="-246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46960" indent="-246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46960" indent="-246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46960" indent="-246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ja-JP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43D5E22-605C-4F8B-88D3-8053546BE1DE}" type="slidenum">
              <a: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360" y="693720"/>
            <a:ext cx="2378160" cy="126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056440" y="457200"/>
            <a:ext cx="1270080" cy="17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IPA P明朝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IPA P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IPA P明朝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IPA P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IPA P明朝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972EC-CB61-46CF-AC65-E7A7779DF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IPA P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GeO2 simualtions &amp; target desig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5975280"/>
            <a:ext cx="91807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Source Sans Pro Light"/>
              </a:rPr>
              <a:t>Tommaso Vinci</a:t>
            </a:r>
            <a:endParaRPr b="0" lang="en-US" sz="2200" spc="-1" strike="noStrike">
              <a:solidFill>
                <a:srgbClr val="1c1c1c"/>
              </a:solidFill>
              <a:latin typeface="Source Sans Pro Light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1c1c1c"/>
              </a:solidFill>
              <a:latin typeface="Source Sans Pro Light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Source Sans Pro Light"/>
              </a:rPr>
              <a:t>ESRF January 19, 2016</a:t>
            </a:r>
            <a:endParaRPr b="0" lang="en-US" sz="2200" spc="-1" strike="noStrike">
              <a:solidFill>
                <a:srgbClr val="1c1c1c"/>
              </a:solidFill>
              <a:latin typeface="Source Sans Pro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39800" y="1089000"/>
            <a:ext cx="8504280" cy="5705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Phase diagram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6505560" y="1663560"/>
            <a:ext cx="16495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ource Sans Pro"/>
              </a:rPr>
              <a:t>2x10</a:t>
            </a:r>
            <a:r>
              <a:rPr b="0" lang="en-US" sz="3600" spc="-1" strike="noStrike" baseline="33000">
                <a:solidFill>
                  <a:srgbClr val="000000"/>
                </a:solidFill>
                <a:latin typeface="Source Sans Pro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9" name=""/>
          <p:cNvSpPr/>
          <p:nvPr/>
        </p:nvSpPr>
        <p:spPr>
          <a:xfrm>
            <a:off x="5457960" y="3009960"/>
            <a:ext cx="16491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ource Sans Pro"/>
              </a:rPr>
              <a:t>1x10</a:t>
            </a:r>
            <a:r>
              <a:rPr b="0" lang="en-US" sz="3600" spc="-1" strike="noStrike" baseline="33000">
                <a:solidFill>
                  <a:srgbClr val="000000"/>
                </a:solidFill>
                <a:latin typeface="Source Sans Pro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0" name=""/>
          <p:cNvSpPr/>
          <p:nvPr/>
        </p:nvSpPr>
        <p:spPr>
          <a:xfrm>
            <a:off x="3983040" y="4307040"/>
            <a:ext cx="16495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ource Sans Pro"/>
              </a:rPr>
              <a:t>5x10</a:t>
            </a:r>
            <a:r>
              <a:rPr b="0" lang="en-US" sz="3600" spc="-1" strike="noStrike" baseline="33000">
                <a:solidFill>
                  <a:srgbClr val="000000"/>
                </a:solidFill>
                <a:latin typeface="Source Sans Pro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1" name=""/>
          <p:cNvSpPr/>
          <p:nvPr/>
        </p:nvSpPr>
        <p:spPr>
          <a:xfrm>
            <a:off x="2901960" y="5315040"/>
            <a:ext cx="16495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ource Sans Pro"/>
              </a:rPr>
              <a:t>2x10</a:t>
            </a:r>
            <a:r>
              <a:rPr b="0" lang="en-US" sz="3600" spc="-1" strike="noStrike" baseline="33000">
                <a:solidFill>
                  <a:srgbClr val="000000"/>
                </a:solidFill>
                <a:latin typeface="Source Sans Pro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976-210B-4688-A67C-2457DC6ED5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Ramp compressio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84200" y="1079640"/>
            <a:ext cx="9155160" cy="60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C02-51C9-4A2D-BE21-DE6B42E9EC1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Ramp compressio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440000"/>
            <a:ext cx="9210600" cy="53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DD4-68D3-4BF1-939D-A6292877B9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Ramp compressio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8200" y="1079640"/>
            <a:ext cx="8570880" cy="56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2EB-3549-4695-A36F-CD3D7A03C3C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Target Design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22400" y="4557600"/>
            <a:ext cx="84610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H 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l 3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GeO2 15µm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LiF 150µm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" name=""/>
          <p:cNvSpPr/>
          <p:nvPr/>
        </p:nvSpPr>
        <p:spPr>
          <a:xfrm flipH="1" rot="5400000">
            <a:off x="3181320" y="1844640"/>
            <a:ext cx="1006560" cy="1067040"/>
          </a:xfrm>
          <a:custGeom>
            <a:avLst/>
            <a:gdLst>
              <a:gd name="textAreaLeft" fmla="*/ 221400 w 1006560"/>
              <a:gd name="textAreaRight" fmla="*/ 785160 w 1006560"/>
              <a:gd name="textAreaTop" fmla="*/ 234720 h 1067040"/>
              <a:gd name="textAreaBottom" fmla="*/ 832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e9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" name=""/>
          <p:cNvSpPr/>
          <p:nvPr/>
        </p:nvSpPr>
        <p:spPr>
          <a:xfrm>
            <a:off x="2687760" y="1235160"/>
            <a:ext cx="587160" cy="2286000"/>
          </a:xfrm>
          <a:prstGeom prst="rect">
            <a:avLst/>
          </a:prstGeom>
          <a:solidFill>
            <a:srgbClr val="eeeeee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840680" y="1235160"/>
            <a:ext cx="841320" cy="2286000"/>
          </a:xfrm>
          <a:prstGeom prst="rect">
            <a:avLst/>
          </a:prstGeom>
          <a:solidFill>
            <a:srgbClr val="999999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3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" name=""/>
          <p:cNvSpPr/>
          <p:nvPr/>
        </p:nvSpPr>
        <p:spPr>
          <a:xfrm>
            <a:off x="1176480" y="1235160"/>
            <a:ext cx="668160" cy="2286000"/>
          </a:xfrm>
          <a:prstGeom prst="rect">
            <a:avLst/>
          </a:prstGeom>
          <a:solidFill>
            <a:srgbClr val="ff3333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GeO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05480" y="1235160"/>
            <a:ext cx="1070280" cy="2286000"/>
          </a:xfrm>
          <a:prstGeom prst="rect">
            <a:avLst/>
          </a:prstGeom>
          <a:solidFill>
            <a:srgbClr val="99ffff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LiF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680" y="3193920"/>
            <a:ext cx="4570560" cy="541440"/>
            <a:chOff x="4680" y="3193920"/>
            <a:chExt cx="4570560" cy="541440"/>
          </a:xfrm>
        </p:grpSpPr>
        <p:grpSp>
          <p:nvGrpSpPr>
            <p:cNvPr id="143" name=""/>
            <p:cNvGrpSpPr/>
            <p:nvPr/>
          </p:nvGrpSpPr>
          <p:grpSpPr>
            <a:xfrm>
              <a:off x="114480" y="3489480"/>
              <a:ext cx="3164760" cy="245880"/>
              <a:chOff x="114480" y="3489480"/>
              <a:chExt cx="3164760" cy="245880"/>
            </a:xfrm>
          </p:grpSpPr>
          <p:sp>
            <p:nvSpPr>
              <p:cNvPr id="144" name=""/>
              <p:cNvSpPr/>
              <p:nvPr/>
            </p:nvSpPr>
            <p:spPr>
              <a:xfrm>
                <a:off x="184536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8368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8884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274920" y="3489480"/>
                <a:ext cx="432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448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680" y="3193920"/>
              <a:ext cx="4570560" cy="541440"/>
            </a:xfrm>
            <a:prstGeom prst="rightArrow">
              <a:avLst>
                <a:gd name="adj1" fmla="val 41287"/>
                <a:gd name="adj2" fmla="val 726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8120" y="3294000"/>
              <a:ext cx="3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55800" y="3294000"/>
              <a:ext cx="63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3440" y="3294000"/>
              <a:ext cx="638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165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68520" y="3294000"/>
              <a:ext cx="638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195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44880" y="3294000"/>
              <a:ext cx="638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48160" y="3294000"/>
              <a:ext cx="63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µm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133-DDFF-45BB-A0F2-82DFE06D9DF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flipH="1" rot="5400000">
            <a:off x="8409240" y="2391120"/>
            <a:ext cx="2678040" cy="460440"/>
          </a:xfrm>
          <a:custGeom>
            <a:avLst/>
            <a:gdLst>
              <a:gd name="textAreaLeft" fmla="*/ 588960 w 2678040"/>
              <a:gd name="textAreaRight" fmla="*/ 2089080 w 2678040"/>
              <a:gd name="textAreaTop" fmla="*/ 101160 h 460440"/>
              <a:gd name="textAreaBottom" fmla="*/ 359280 h 4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e9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Target Design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: ablator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22400" y="4557600"/>
            <a:ext cx="84610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CH 5µm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ablated material over 10ns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l 3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GeO2 1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LiF 15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" name=""/>
          <p:cNvSpPr/>
          <p:nvPr/>
        </p:nvSpPr>
        <p:spPr>
          <a:xfrm flipH="1" rot="5400000">
            <a:off x="3181320" y="1844640"/>
            <a:ext cx="1006560" cy="1067040"/>
          </a:xfrm>
          <a:custGeom>
            <a:avLst/>
            <a:gdLst>
              <a:gd name="textAreaLeft" fmla="*/ 221400 w 1006560"/>
              <a:gd name="textAreaRight" fmla="*/ 785160 w 1006560"/>
              <a:gd name="textAreaTop" fmla="*/ 234720 h 1067040"/>
              <a:gd name="textAreaBottom" fmla="*/ 832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e9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" name=""/>
          <p:cNvSpPr/>
          <p:nvPr/>
        </p:nvSpPr>
        <p:spPr>
          <a:xfrm>
            <a:off x="2687760" y="1235160"/>
            <a:ext cx="587160" cy="2286000"/>
          </a:xfrm>
          <a:prstGeom prst="rect">
            <a:avLst/>
          </a:prstGeom>
          <a:solidFill>
            <a:srgbClr val="eeeeee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840680" y="1235160"/>
            <a:ext cx="841320" cy="2286000"/>
          </a:xfrm>
          <a:prstGeom prst="rect">
            <a:avLst/>
          </a:prstGeom>
          <a:solidFill>
            <a:srgbClr val="999999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3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2" name=""/>
          <p:cNvSpPr/>
          <p:nvPr/>
        </p:nvSpPr>
        <p:spPr>
          <a:xfrm>
            <a:off x="1176480" y="1235160"/>
            <a:ext cx="668160" cy="2286000"/>
          </a:xfrm>
          <a:prstGeom prst="rect">
            <a:avLst/>
          </a:prstGeom>
          <a:solidFill>
            <a:srgbClr val="ff3333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GeO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05480" y="1235160"/>
            <a:ext cx="1070280" cy="2286000"/>
          </a:xfrm>
          <a:prstGeom prst="rect">
            <a:avLst/>
          </a:prstGeom>
          <a:solidFill>
            <a:srgbClr val="99ffff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LiF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484520" y="1255680"/>
            <a:ext cx="5037480" cy="2967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35360" y="3768840"/>
            <a:ext cx="2011320" cy="530280"/>
          </a:xfrm>
          <a:custGeom>
            <a:avLst/>
            <a:gdLst/>
            <a:ahLst/>
            <a:rect l="l" t="t" r="r" b="b"/>
            <a:pathLst>
              <a:path w="5589" h="1471">
                <a:moveTo>
                  <a:pt x="5588" y="454"/>
                </a:moveTo>
                <a:cubicBezTo>
                  <a:pt x="3302" y="1470"/>
                  <a:pt x="254" y="1216"/>
                  <a:pt x="0" y="0"/>
                </a:cubicBezTo>
              </a:path>
            </a:pathLst>
          </a:custGeom>
          <a:noFill/>
          <a:ln cap="rnd" w="152280">
            <a:solidFill>
              <a:srgbClr val="e74c4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680" y="3193920"/>
            <a:ext cx="4570560" cy="541440"/>
            <a:chOff x="4680" y="3193920"/>
            <a:chExt cx="4570560" cy="541440"/>
          </a:xfrm>
        </p:grpSpPr>
        <p:grpSp>
          <p:nvGrpSpPr>
            <p:cNvPr id="167" name=""/>
            <p:cNvGrpSpPr/>
            <p:nvPr/>
          </p:nvGrpSpPr>
          <p:grpSpPr>
            <a:xfrm>
              <a:off x="114480" y="3489480"/>
              <a:ext cx="3164760" cy="245880"/>
              <a:chOff x="114480" y="3489480"/>
              <a:chExt cx="3164760" cy="245880"/>
            </a:xfrm>
          </p:grpSpPr>
          <p:sp>
            <p:nvSpPr>
              <p:cNvPr id="168" name=""/>
              <p:cNvSpPr/>
              <p:nvPr/>
            </p:nvSpPr>
            <p:spPr>
              <a:xfrm>
                <a:off x="184536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8368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8884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274920" y="3489480"/>
                <a:ext cx="432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448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680" y="3193920"/>
              <a:ext cx="4570560" cy="541440"/>
            </a:xfrm>
            <a:prstGeom prst="rightArrow">
              <a:avLst>
                <a:gd name="adj1" fmla="val 41287"/>
                <a:gd name="adj2" fmla="val 726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8120" y="3294000"/>
              <a:ext cx="3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55800" y="3294000"/>
              <a:ext cx="63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3440" y="3294000"/>
              <a:ext cx="638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165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68520" y="3294000"/>
              <a:ext cx="638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195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4880" y="3294000"/>
              <a:ext cx="638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48160" y="3294000"/>
              <a:ext cx="63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µm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F50-0FCA-42BC-8C47-35C3D4D509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Target Design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: shield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81" name=""/>
          <p:cNvSpPr/>
          <p:nvPr/>
        </p:nvSpPr>
        <p:spPr>
          <a:xfrm flipH="1" rot="5400000">
            <a:off x="3181320" y="1844640"/>
            <a:ext cx="1006560" cy="1067040"/>
          </a:xfrm>
          <a:custGeom>
            <a:avLst/>
            <a:gdLst>
              <a:gd name="textAreaLeft" fmla="*/ 221400 w 1006560"/>
              <a:gd name="textAreaRight" fmla="*/ 785160 w 1006560"/>
              <a:gd name="textAreaTop" fmla="*/ 234720 h 1067040"/>
              <a:gd name="textAreaBottom" fmla="*/ 832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e9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2" name=""/>
          <p:cNvSpPr/>
          <p:nvPr/>
        </p:nvSpPr>
        <p:spPr>
          <a:xfrm>
            <a:off x="2687760" y="1235160"/>
            <a:ext cx="587160" cy="2286000"/>
          </a:xfrm>
          <a:prstGeom prst="rect">
            <a:avLst/>
          </a:prstGeom>
          <a:solidFill>
            <a:srgbClr val="eeeeee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840680" y="1235160"/>
            <a:ext cx="841320" cy="2286000"/>
          </a:xfrm>
          <a:prstGeom prst="rect">
            <a:avLst/>
          </a:prstGeom>
          <a:solidFill>
            <a:srgbClr val="999999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3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4" name=""/>
          <p:cNvSpPr/>
          <p:nvPr/>
        </p:nvSpPr>
        <p:spPr>
          <a:xfrm>
            <a:off x="1176480" y="1235160"/>
            <a:ext cx="668160" cy="2286000"/>
          </a:xfrm>
          <a:prstGeom prst="rect">
            <a:avLst/>
          </a:prstGeom>
          <a:solidFill>
            <a:srgbClr val="ff3333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GeO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05480" y="1235160"/>
            <a:ext cx="1070280" cy="2286000"/>
          </a:xfrm>
          <a:prstGeom prst="rect">
            <a:avLst/>
          </a:prstGeom>
          <a:solidFill>
            <a:srgbClr val="99ffff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LiF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6" name=""/>
          <p:cNvSpPr/>
          <p:nvPr/>
        </p:nvSpPr>
        <p:spPr>
          <a:xfrm>
            <a:off x="122400" y="4557600"/>
            <a:ext cx="84610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H 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blated material over 10ns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Al 30µm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to prevent X-rays prehe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GeO2 1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LiF 15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71840" y="1047600"/>
            <a:ext cx="545940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71640" y="3672000"/>
            <a:ext cx="2500200" cy="792000"/>
          </a:xfrm>
          <a:custGeom>
            <a:avLst/>
            <a:gdLst/>
            <a:ahLst/>
            <a:rect l="l" t="t" r="r" b="b"/>
            <a:pathLst>
              <a:path w="6946" h="2201">
                <a:moveTo>
                  <a:pt x="6945" y="617"/>
                </a:moveTo>
                <a:cubicBezTo>
                  <a:pt x="5400" y="1400"/>
                  <a:pt x="1800" y="2200"/>
                  <a:pt x="0" y="0"/>
                </a:cubicBezTo>
              </a:path>
            </a:pathLst>
          </a:custGeom>
          <a:noFill/>
          <a:ln cap="rnd" w="152280">
            <a:solidFill>
              <a:srgbClr val="e74c4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4B7-1E17-46B9-B80E-AE4CF51FD7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Target Design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: Germanium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97560" y="1322280"/>
            <a:ext cx="3984480" cy="2727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 rot="5400000">
            <a:off x="3181320" y="1844640"/>
            <a:ext cx="1006560" cy="1067040"/>
          </a:xfrm>
          <a:custGeom>
            <a:avLst/>
            <a:gdLst>
              <a:gd name="textAreaLeft" fmla="*/ 221400 w 1006560"/>
              <a:gd name="textAreaRight" fmla="*/ 785160 w 1006560"/>
              <a:gd name="textAreaTop" fmla="*/ 234720 h 1067040"/>
              <a:gd name="textAreaBottom" fmla="*/ 832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e9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2" name=""/>
          <p:cNvSpPr/>
          <p:nvPr/>
        </p:nvSpPr>
        <p:spPr>
          <a:xfrm>
            <a:off x="2687760" y="1235160"/>
            <a:ext cx="587160" cy="2286000"/>
          </a:xfrm>
          <a:prstGeom prst="rect">
            <a:avLst/>
          </a:prstGeom>
          <a:solidFill>
            <a:srgbClr val="eeeeee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840680" y="1235160"/>
            <a:ext cx="841320" cy="2286000"/>
          </a:xfrm>
          <a:prstGeom prst="rect">
            <a:avLst/>
          </a:prstGeom>
          <a:solidFill>
            <a:srgbClr val="999999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3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4" name=""/>
          <p:cNvSpPr/>
          <p:nvPr/>
        </p:nvSpPr>
        <p:spPr>
          <a:xfrm>
            <a:off x="1176480" y="1235160"/>
            <a:ext cx="668160" cy="2286000"/>
          </a:xfrm>
          <a:prstGeom prst="rect">
            <a:avLst/>
          </a:prstGeom>
          <a:solidFill>
            <a:srgbClr val="ff3333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GeO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05480" y="1235160"/>
            <a:ext cx="1070280" cy="2286000"/>
          </a:xfrm>
          <a:prstGeom prst="rect">
            <a:avLst/>
          </a:prstGeom>
          <a:solidFill>
            <a:srgbClr val="99ffff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LiF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6" name=""/>
          <p:cNvSpPr/>
          <p:nvPr/>
        </p:nvSpPr>
        <p:spPr>
          <a:xfrm>
            <a:off x="122400" y="4557600"/>
            <a:ext cx="84610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H 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blated material over 10ns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l 3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o prevent X-rays prehe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GeO2 15µm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by the k edge absorption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LiF 15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5D9-4572-49CE-AE1D-39BA1862C8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H="1" rot="5400000">
            <a:off x="3181320" y="1844640"/>
            <a:ext cx="1006560" cy="1067040"/>
          </a:xfrm>
          <a:custGeom>
            <a:avLst/>
            <a:gdLst>
              <a:gd name="textAreaLeft" fmla="*/ 221400 w 1006560"/>
              <a:gd name="textAreaRight" fmla="*/ 785160 w 1006560"/>
              <a:gd name="textAreaTop" fmla="*/ 234720 h 1067040"/>
              <a:gd name="textAreaBottom" fmla="*/ 832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e9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Target Design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: LiF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687760" y="1235160"/>
            <a:ext cx="587160" cy="2286000"/>
          </a:xfrm>
          <a:prstGeom prst="rect">
            <a:avLst/>
          </a:prstGeom>
          <a:solidFill>
            <a:srgbClr val="eeeeee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840680" y="1235160"/>
            <a:ext cx="841320" cy="2286000"/>
          </a:xfrm>
          <a:prstGeom prst="rect">
            <a:avLst/>
          </a:prstGeom>
          <a:solidFill>
            <a:srgbClr val="999999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3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1" name=""/>
          <p:cNvSpPr/>
          <p:nvPr/>
        </p:nvSpPr>
        <p:spPr>
          <a:xfrm>
            <a:off x="1176480" y="1235160"/>
            <a:ext cx="668160" cy="2286000"/>
          </a:xfrm>
          <a:prstGeom prst="rect">
            <a:avLst/>
          </a:prstGeom>
          <a:solidFill>
            <a:srgbClr val="ff3333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GeO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05480" y="1235160"/>
            <a:ext cx="1070280" cy="2286000"/>
          </a:xfrm>
          <a:prstGeom prst="rect">
            <a:avLst/>
          </a:prstGeom>
          <a:solidFill>
            <a:srgbClr val="99ffff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LiF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3" name=""/>
          <p:cNvSpPr/>
          <p:nvPr/>
        </p:nvSpPr>
        <p:spPr>
          <a:xfrm>
            <a:off x="122400" y="4557600"/>
            <a:ext cx="84610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H 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blated material over 10ns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l 3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o prevent X-rays prehe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GeO2 1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by the k edge absorption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LiF 150µm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by feasability / price / x-ray absorption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02320" y="1189080"/>
            <a:ext cx="4951440" cy="37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F50-F0AA-4C79-A775-7B524C54F9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7497720" y="909720"/>
            <a:ext cx="3210120" cy="5209920"/>
            <a:chOff x="7497720" y="909720"/>
            <a:chExt cx="3210120" cy="5209920"/>
          </a:xfrm>
        </p:grpSpPr>
        <p:sp>
          <p:nvSpPr>
            <p:cNvPr id="206" name=""/>
            <p:cNvSpPr/>
            <p:nvPr/>
          </p:nvSpPr>
          <p:spPr>
            <a:xfrm flipH="1" rot="5400000">
              <a:off x="6181920" y="2225520"/>
              <a:ext cx="5209920" cy="2578320"/>
            </a:xfrm>
            <a:custGeom>
              <a:avLst/>
              <a:gdLst>
                <a:gd name="textAreaLeft" fmla="*/ 1145520 w 5209920"/>
                <a:gd name="textAreaRight" fmla="*/ 4064400 w 5209920"/>
                <a:gd name="textAreaTop" fmla="*/ 567000 h 2578320"/>
                <a:gd name="textAreaBottom" fmla="*/ 2011320 h 25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e9a0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8055000" y="2895480"/>
              <a:ext cx="40672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rot="-5400000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ource Sans Pro"/>
                </a:rPr>
                <a:t>Laser </a:t>
              </a:r>
              <a:r>
                <a:rPr b="0" lang="en-US" sz="3600" spc="-1" strike="noStrike">
                  <a:solidFill>
                    <a:srgbClr val="000000"/>
                  </a:solidFill>
                  <a:latin typeface="Source Sans Pro"/>
                  <a:ea typeface="Source Sans Pro"/>
                </a:rPr>
                <a:t>ω </a:t>
              </a:r>
              <a:r>
                <a:rPr b="0" lang="en-US" sz="3600" spc="-1" strike="noStrike">
                  <a:solidFill>
                    <a:srgbClr val="000000"/>
                  </a:solidFill>
                  <a:latin typeface="Source Sans Pro"/>
                </a:rPr>
                <a:t>2x10</a:t>
              </a:r>
              <a:r>
                <a:rPr b="0" lang="en-US" sz="3600" spc="-1" strike="noStrike" baseline="33000">
                  <a:solidFill>
                    <a:srgbClr val="000000"/>
                  </a:solidFill>
                  <a:latin typeface="Source Sans Pro"/>
                </a:rPr>
                <a:t>13 </a:t>
              </a:r>
              <a:r>
                <a:rPr b="0" lang="en-US" sz="3600" spc="-1" strike="noStrike">
                  <a:solidFill>
                    <a:srgbClr val="000000"/>
                  </a:solidFill>
                  <a:latin typeface="Source Sans Pro"/>
                </a:rPr>
                <a:t>9ns</a:t>
              </a:r>
              <a:endParaRPr b="0" lang="en-US" sz="36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108000" y="-503280"/>
            <a:ext cx="10044000" cy="7532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Simulations: top view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917960"/>
            <a:ext cx="6108840" cy="857520"/>
          </a:xfrm>
          <a:prstGeom prst="leftRightArrow">
            <a:avLst>
              <a:gd name="adj1" fmla="val 36481"/>
              <a:gd name="adj2" fmla="val 70117"/>
            </a:avLst>
          </a:prstGeom>
          <a:solidFill>
            <a:srgbClr val="00cc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Visar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1" name=""/>
          <p:cNvSpPr/>
          <p:nvPr/>
        </p:nvSpPr>
        <p:spPr>
          <a:xfrm>
            <a:off x="2284560" y="2130480"/>
            <a:ext cx="2199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ource Sans Pro"/>
              </a:rPr>
              <a:t>LiF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5236920" y="1535040"/>
            <a:ext cx="2200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-54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rce Sans Pro"/>
              </a:rPr>
              <a:t>GeO2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3" name=""/>
          <p:cNvSpPr/>
          <p:nvPr/>
        </p:nvSpPr>
        <p:spPr>
          <a:xfrm>
            <a:off x="6784920" y="2130480"/>
            <a:ext cx="2200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rce Sans Pro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6711840" y="1535040"/>
            <a:ext cx="2200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-54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ource Sans Pro"/>
              </a:rPr>
              <a:t>CH</a:t>
            </a:r>
            <a:endParaRPr b="0" lang="en-US" sz="2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5" name=""/>
          <p:cNvSpPr/>
          <p:nvPr/>
        </p:nvSpPr>
        <p:spPr>
          <a:xfrm rot="2580000">
            <a:off x="3654000" y="2039400"/>
            <a:ext cx="220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ource Sans Pro"/>
              </a:rPr>
              <a:t>~15km/s</a:t>
            </a:r>
            <a:endParaRPr b="0" lang="en-US" sz="2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D12-4697-45B4-9152-8D0FE816D9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Simulations: intensity sca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5160" y="3043080"/>
            <a:ext cx="5133960" cy="3849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9425" t="0" r="0" b="0"/>
          <a:stretch/>
        </p:blipFill>
        <p:spPr>
          <a:xfrm>
            <a:off x="5337000" y="3043080"/>
            <a:ext cx="4650120" cy="3849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8823" t="0" r="0" b="11693"/>
          <a:stretch/>
        </p:blipFill>
        <p:spPr>
          <a:xfrm>
            <a:off x="5321160" y="415800"/>
            <a:ext cx="4680000" cy="3399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rcRect l="0" t="0" r="0" b="11693"/>
          <a:stretch/>
        </p:blipFill>
        <p:spPr>
          <a:xfrm>
            <a:off x="65160" y="415800"/>
            <a:ext cx="5133960" cy="3399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344600" y="2782800"/>
            <a:ext cx="16304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0.2x10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W/cm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2" name=""/>
          <p:cNvSpPr/>
          <p:nvPr/>
        </p:nvSpPr>
        <p:spPr>
          <a:xfrm>
            <a:off x="6024600" y="2782800"/>
            <a:ext cx="16304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0.5x10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W/cm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3" name=""/>
          <p:cNvSpPr/>
          <p:nvPr/>
        </p:nvSpPr>
        <p:spPr>
          <a:xfrm>
            <a:off x="1344600" y="5375160"/>
            <a:ext cx="16304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1.0x10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W/cm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4" name=""/>
          <p:cNvSpPr/>
          <p:nvPr/>
        </p:nvSpPr>
        <p:spPr>
          <a:xfrm>
            <a:off x="6024600" y="5375160"/>
            <a:ext cx="16304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2.0x10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W/cm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5" name=""/>
          <p:cNvSpPr/>
          <p:nvPr/>
        </p:nvSpPr>
        <p:spPr>
          <a:xfrm rot="2580000">
            <a:off x="6778440" y="4230720"/>
            <a:ext cx="1128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~15km/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6" name=""/>
          <p:cNvSpPr/>
          <p:nvPr/>
        </p:nvSpPr>
        <p:spPr>
          <a:xfrm rot="2880000">
            <a:off x="2279520" y="4232160"/>
            <a:ext cx="1128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~12km/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7" name=""/>
          <p:cNvSpPr/>
          <p:nvPr/>
        </p:nvSpPr>
        <p:spPr>
          <a:xfrm rot="3480000">
            <a:off x="2278440" y="1533240"/>
            <a:ext cx="1128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~8km/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8" name=""/>
          <p:cNvSpPr/>
          <p:nvPr/>
        </p:nvSpPr>
        <p:spPr>
          <a:xfrm rot="3240000">
            <a:off x="6815160" y="1569960"/>
            <a:ext cx="1128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~10km/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CEE-D76F-4006-B4BE-A14C1A97BD0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Simulations: pressure and temperatur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6665760" y="3279600"/>
            <a:ext cx="1216080" cy="547920"/>
          </a:xfrm>
          <a:prstGeom prst="leftRightArrow">
            <a:avLst>
              <a:gd name="adj1" fmla="val 50000"/>
              <a:gd name="adj2" fmla="val 4418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0.5 n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5882" t="0" r="12078" b="0"/>
          <a:stretch/>
        </p:blipFill>
        <p:spPr>
          <a:xfrm>
            <a:off x="15840" y="2730600"/>
            <a:ext cx="4452840" cy="36576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5859" t="0" r="0" b="0"/>
          <a:stretch/>
        </p:blipFill>
        <p:spPr>
          <a:xfrm>
            <a:off x="4789440" y="2730600"/>
            <a:ext cx="5111640" cy="3657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127920" y="2259000"/>
            <a:ext cx="25495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Temperature [1000K]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4" name=""/>
          <p:cNvSpPr/>
          <p:nvPr/>
        </p:nvSpPr>
        <p:spPr>
          <a:xfrm>
            <a:off x="1592280" y="2260440"/>
            <a:ext cx="25495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Pressure [Mbar]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5" name=""/>
          <p:cNvSpPr/>
          <p:nvPr/>
        </p:nvSpPr>
        <p:spPr>
          <a:xfrm>
            <a:off x="1022400" y="1073160"/>
            <a:ext cx="80359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rce Sans Pro"/>
              </a:rPr>
              <a:t>0.2 - 0.5 - 1.0 - 2.0 x 10</a:t>
            </a:r>
            <a:r>
              <a:rPr b="0" lang="en-US" sz="4400" spc="-1" strike="noStrike" baseline="33000">
                <a:solidFill>
                  <a:srgbClr val="000000"/>
                </a:solidFill>
                <a:latin typeface="Source Sans Pro"/>
              </a:rPr>
              <a:t>13 </a:t>
            </a:r>
            <a:r>
              <a:rPr b="0" lang="en-US" sz="4400" spc="-1" strike="noStrike">
                <a:solidFill>
                  <a:srgbClr val="000000"/>
                </a:solidFill>
                <a:latin typeface="Source Sans Pro"/>
              </a:rPr>
              <a:t>W/cm</a:t>
            </a:r>
            <a:r>
              <a:rPr b="0" lang="en-US" sz="4400" spc="-1" strike="noStrike" baseline="33000">
                <a:solidFill>
                  <a:srgbClr val="000000"/>
                </a:solidFill>
                <a:latin typeface="Source Sans Pro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CD5-0EF6-4428-B653-371A5052BB1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10:28:58Z</dcterms:created>
  <dc:creator/>
  <dc:description/>
  <dc:language>en-US</dc:language>
  <cp:lastModifiedBy/>
  <dcterms:modified xsi:type="dcterms:W3CDTF">2016-01-19T12:55:14Z</dcterms:modified>
  <cp:revision>19</cp:revision>
  <dc:subject/>
  <dc:title/>
</cp:coreProperties>
</file>