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775-5B51-4760-A480-2E68415E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CE3-90D8-41E3-9A2B-7ED8FC81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DF7-CC5C-46FC-9E44-8AB6F3B6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4D2-DDD1-4F4B-8161-25CBBA23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1A19C-C910-4E5D-9F6E-8C15EB23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6E51D-D02B-4A4E-8113-254F232C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6B2C2-2739-44A3-9DD9-93F63EE7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2AB6C-81F3-4A88-BC58-66D0AF5A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17B67-E08A-42FA-B1B7-0591E20E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02057-FAA8-4DEE-B3E6-06DC7F14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D5323-7F35-4C08-B90C-46C1D3F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399-E95C-40CA-A5C6-ADDCC3E5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5EB53-A436-471E-BD41-D0418E5F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62E28-C9E8-47CC-8166-25E9D5C8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4AC03-4102-46CF-A21C-2FC9FC07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FF546-6125-4A78-AF3A-04E01AD8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D38C9-9989-4498-B85A-704B3329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9BC6A-1037-4385-82A7-1A2F6F6B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7A99A-1908-4868-8979-4C5E8C66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0944F-5D1D-4CF6-9A17-9DADF7A1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DEDF0-DF48-4C3D-A829-6765D3E4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C5143-50CF-482A-9876-A61FB072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DE3-3F2C-44AF-9BC0-7F83CAC5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71F3B-8535-45FE-9881-BE715BF8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1E615-9768-4BC3-8C6A-1DD4DB16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F5CFF-25B6-4CAD-A29C-2DD53F8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F5DD6-4538-4C9B-9358-C090E795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FE832-E5A0-4C62-AAB1-FE568C28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AF1EB-06E5-4262-A593-33B4BAC4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A3735-CE6C-4C8E-BB59-EC4963B1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365DC-5055-4934-ABF5-8C6CD259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96B06-6A4B-4A02-8992-14938FCD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53D10-37C0-4849-AB6F-661401D7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860-0C92-43DC-80B0-AEA45302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4D2FA-7B51-4D67-8185-FDD0C86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1FCAD-B9E5-4990-9225-140AFD7B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095ED9-0971-4D3F-82DD-65AD6358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36A04-34EE-4E7A-B7D9-8982BCB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A2397-A16D-4E5F-AE7A-D9905715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83DA0-1A14-4AB2-9DE9-52D741CB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77CB0-B56E-4812-A552-3E00063E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79B42-3AF7-4A2D-9DB6-E0E851F5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EA94A-50C0-49AE-A5DA-F9F4BA82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CDF78-8FF7-4498-86BF-B35E7142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F6A-8D4E-4A21-A194-A63B29E3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C5223-3784-4909-9C89-AF6EC036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F6DA4-A112-46E2-B7B9-0C44BC9B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D5AAC-4111-42C3-9E51-CF72AE39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C6023-A772-4836-BA67-AC5D76D7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D7F38-C8AA-402E-AE8C-B2C55AED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52310-0FD6-406D-9388-E3F43247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1C350-DAAE-41A7-9A4D-A4C5C53E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817CE-D450-4B19-BD74-C958524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B5DBB-1C79-4FD3-B371-E80A60E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99A5C-5DFB-486B-8F9B-BFEB1129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B38-E26F-468A-ACFA-2385C00F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BA5AC-FE34-4D52-90F1-D9EDBEBB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70B-4EE7-4D4F-9987-9A601C16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7E6-A204-4607-B4AE-56AA0557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9E7-D1B7-4020-B084-764CD12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10" descr="logo_texte.jpg"/>
          <p:cNvPicPr/>
          <p:nvPr/>
        </p:nvPicPr>
        <p:blipFill>
          <a:blip r:embed="rId2"/>
          <a:stretch/>
        </p:blipFill>
        <p:spPr>
          <a:xfrm>
            <a:off x="7167600" y="5067360"/>
            <a:ext cx="1976400" cy="64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132577"/>
                </a:solidFill>
                <a:latin typeface="Times New Roman"/>
              </a:rPr>
              <a:t>Page </a:t>
            </a:r>
            <a:fld id="{E07CACE0-1FF9-4495-8F88-9F00177828B5}" type="slidenum">
              <a:rPr b="1" lang="fr-FR" sz="600" spc="-1" strike="noStrike">
                <a:solidFill>
                  <a:srgbClr val="132577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25280"/>
            <a:ext cx="49716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logo_couv.jpg"/>
          <p:cNvPicPr/>
          <p:nvPr/>
        </p:nvPicPr>
        <p:blipFill>
          <a:blip r:embed="rId2"/>
          <a:stretch/>
        </p:blipFill>
        <p:spPr>
          <a:xfrm>
            <a:off x="971640" y="1417680"/>
            <a:ext cx="7200720" cy="287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81AA0680-5825-4E73-9790-1F11444C752D}" type="slidenum"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0" descr="logo_texte.jpg"/>
          <p:cNvPicPr/>
          <p:nvPr/>
        </p:nvPicPr>
        <p:blipFill>
          <a:blip r:embed="rId2"/>
          <a:stretch/>
        </p:blipFill>
        <p:spPr>
          <a:xfrm>
            <a:off x="7167600" y="5067360"/>
            <a:ext cx="1976400" cy="647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79280" y="125280"/>
            <a:ext cx="49716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age </a:t>
            </a:r>
            <a:fld id="{276644A9-7893-4B5F-A22C-85D76F880BA9}" type="slidenum"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9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10" descr="logo_texte.jpg"/>
          <p:cNvPicPr/>
          <p:nvPr/>
        </p:nvPicPr>
        <p:blipFill>
          <a:blip r:embed="rId2"/>
          <a:stretch/>
        </p:blipFill>
        <p:spPr>
          <a:xfrm>
            <a:off x="7167600" y="5067360"/>
            <a:ext cx="1976400" cy="647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79280" y="125280"/>
            <a:ext cx="49716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age </a:t>
            </a:r>
            <a:fld id="{889F5767-B504-421D-B53D-A455706AEA9E}" type="slidenum"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2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Image 10" descr="logo_texte.jpg"/>
          <p:cNvPicPr/>
          <p:nvPr/>
        </p:nvPicPr>
        <p:blipFill>
          <a:blip r:embed="rId2"/>
          <a:stretch/>
        </p:blipFill>
        <p:spPr>
          <a:xfrm>
            <a:off x="7167600" y="5067360"/>
            <a:ext cx="1976400" cy="647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179280" y="125280"/>
            <a:ext cx="49716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age </a:t>
            </a:r>
            <a:fld id="{C32D46AE-F23D-4560-9923-EE832B24C482}" type="slidenum"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Date Placeholder 2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072CFF2A-BFAB-48E0-9813-C37AD406D11C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468360" y="2252520"/>
            <a:ext cx="8856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https://www.esrf.eu/UsersAndScience/UserGuide/Prep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ological experiments ES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http://www.esrf.fr/Infrastructure/Safety/Experiments/Biology_Experi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upport Laboratories Request 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esrf.fr/UsersAndScience/UserGuide/Preparing/labora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hipping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s://www.esrf.eu/UsersAndScience/UserGuide/Preparing/Importing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afety information fo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s://www.esrf.eu/UsersAndScience/UserGuide/safety-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1"/>
          <a:srcRect l="13471" t="34810" r="12518" b="28270"/>
          <a:stretch/>
        </p:blipFill>
        <p:spPr>
          <a:xfrm>
            <a:off x="1979640" y="1057320"/>
            <a:ext cx="4753080" cy="11462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483840" y="625320"/>
            <a:ext cx="39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Where to find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108000" rIns="108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350880" y="914040"/>
            <a:ext cx="5613480" cy="2970360"/>
          </a:xfrm>
          <a:prstGeom prst="rect">
            <a:avLst/>
          </a:prstGeom>
          <a:solidFill>
            <a:srgbClr val="4e5b99"/>
          </a:solidFill>
          <a:ln w="0">
            <a:noFill/>
          </a:ln>
        </p:spPr>
        <p:txBody>
          <a:bodyPr lIns="216000" rIns="0" tIns="252000" bIns="0" anchor="t">
            <a:norm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2800" spc="-1" strike="noStrike">
              <a:solidFill>
                <a:srgbClr val="0098d4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27200" y="914040"/>
            <a:ext cx="2573280" cy="2970360"/>
          </a:xfrm>
          <a:prstGeom prst="rect">
            <a:avLst/>
          </a:prstGeom>
          <a:ln w="0">
            <a:noFill/>
          </a:ln>
        </p:spPr>
      </p:pic>
      <p:sp>
        <p:nvSpPr>
          <p:cNvPr id="276" name="Date Placeholder 4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04B40175-4168-47E2-939C-AF4BB95D2069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P:\DIR\COM\Public\PHOTOS\PHOTOS AERIAL VIEWS\AIR ISERE\Air Isere_ESRF_2_LR.jpg"/>
          <p:cNvPicPr/>
          <p:nvPr/>
        </p:nvPicPr>
        <p:blipFill>
          <a:blip r:embed="rId2"/>
          <a:stretch/>
        </p:blipFill>
        <p:spPr>
          <a:xfrm>
            <a:off x="108000" y="91296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7200" y="120600"/>
            <a:ext cx="8237520" cy="49680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108000" rIns="108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Date Placeholder 4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4A902203-E3BE-494E-8A03-47D2BCD76540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6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47640" y="914040"/>
            <a:ext cx="5613480" cy="3095640"/>
          </a:xfrm>
          <a:prstGeom prst="rect">
            <a:avLst/>
          </a:prstGeom>
          <a:solidFill>
            <a:srgbClr val="4e5b99"/>
          </a:solidFill>
          <a:ln w="0">
            <a:noFill/>
          </a:ln>
        </p:spPr>
        <p:txBody>
          <a:bodyPr lIns="216000" rIns="0" tIns="252000" bIns="0" anchor="t">
            <a:norm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ulation applied (European and French)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croorganisms and GMO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ructural Biology sample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uman samples and or derivative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ive animal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- ESRF-ILL Joint proposal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*Safety requirements and measure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*Constrains and lab facilities acces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*Waste managemen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7200" y="914040"/>
            <a:ext cx="2573280" cy="2970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P:\DIR\COM\Public\PHOTOS\PHOTOS AERIAL VIEWS\AIR ISERE\Air Isere_ESRF_2_LR.jpg"/>
          <p:cNvPicPr/>
          <p:nvPr/>
        </p:nvPicPr>
        <p:blipFill>
          <a:blip r:embed="rId2"/>
          <a:stretch/>
        </p:blipFill>
        <p:spPr>
          <a:xfrm>
            <a:off x="104760" y="912960"/>
            <a:ext cx="3240000" cy="3097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611280" y="44416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http://www.esrf.fr/Infrastructure/Safety/Experiments/Biology_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332BBBF4-426B-4D68-B31B-7BA7B86A477C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79280" y="5554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Microorganis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79280" y="119052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Only class 1 and 2 risk microorganisms (3 and 4 strictly forbidd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Live or Dead micro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If live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Access to proper lab for microorganism culture if any (difficult, only EMBL lab support and </a:t>
            </a:r>
            <a:r>
              <a:rPr b="0" lang="en-US" sz="1800" spc="-1" strike="noStrike" u="sng">
                <a:solidFill>
                  <a:srgbClr val="4e5b99"/>
                </a:solidFill>
                <a:uFillTx/>
                <a:latin typeface="Arial"/>
                <a:ea typeface="Arial"/>
              </a:rPr>
              <a:t>only class 1 risk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If GMO clones brought on site, license </a:t>
            </a:r>
            <a:r>
              <a:rPr b="0" lang="en-US" sz="1800" spc="-1" strike="noStrike" u="sng">
                <a:solidFill>
                  <a:srgbClr val="4e5b99"/>
                </a:solidFill>
                <a:uFillTx/>
                <a:latin typeface="Arial"/>
                <a:ea typeface="Arial"/>
              </a:rPr>
              <a:t>number and date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of release (origin coun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If GMO clones stored on site, a “DUO” application is submitted by ESRF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Risk analysis required (detailed) and lab access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No controlled agent authorized anymor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If fixed (dead) micro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Loses its class of risk hence no biological risk, no con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hipped by authorized carrier highly recommen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116000" y="5203800"/>
            <a:ext cx="691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"/>
              </a:rPr>
              <a:t>http://www.esrf.fr/Infrastructure/Safety/Experiments/Biology_Experiments/use-of-micro-organisms-or-deriv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6523C637-43FE-4DB8-B69C-84E87BA78908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79280" y="5554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Structural biology s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Rectangle 8" descr=""/>
          <p:cNvPicPr/>
          <p:nvPr/>
        </p:nvPicPr>
        <p:blipFill>
          <a:blip r:embed="rId1"/>
          <a:stretch/>
        </p:blipFill>
        <p:spPr>
          <a:xfrm>
            <a:off x="133200" y="1311120"/>
            <a:ext cx="8931600" cy="37371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1692360" y="5234040"/>
            <a:ext cx="57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"/>
              </a:rPr>
              <a:t>http://www.esrf.fr/Infrastructure/Safety/Experiments/Biology_Experiments/macromolecular-s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CE25AD9B-0BBC-4746-9C43-3A9A4D65C32A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79280" y="148896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Two regulations, one for imported samples and one for samples already on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French territory (IE number – DC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Applies to Dead fixed tissues or cells or Fresh tissues and cel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540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uman samples authorization for importation - ex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ESRF authorization renewed every 5 years; 2017; next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Every user samples is added as an annex to ESRF “master” 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Dossier set-up and review by authorities accounting two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C (« 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éclaration de conservation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 »)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Every French structure storing human samples even cell lines commercially su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250920" y="5554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uman samples and/or derivatives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in the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187280" y="5203800"/>
            <a:ext cx="669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"/>
              </a:rPr>
              <a:t>http://www.esrf.fr/Infrastructure/Safety/Experiments/Biology_Experiments/samples-from-humans-and-or-deriv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50560" y="1273320"/>
            <a:ext cx="849636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Dead fixed tissues or cell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449280" indent="-1440"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- No biological risk once chemically fixed (formaldehyde but caution for PrP</a:t>
            </a:r>
            <a:r>
              <a:rPr b="0" lang="en-US" sz="1500" spc="-1" strike="noStrike" baseline="30000">
                <a:solidFill>
                  <a:srgbClr val="4e5b99"/>
                </a:solidFill>
                <a:latin typeface="Arial"/>
              </a:rPr>
              <a:t>Sc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)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73160" indent="-173160">
              <a:lnSpc>
                <a:spcPct val="100000"/>
              </a:lnSpc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Fresh tissues or cell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173160" indent="-173160">
              <a:lnSpc>
                <a:spcPct val="110000"/>
              </a:lnSpc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- Innocuousness for being on beam lines and samples contained if class 2 risk. UV inactivation on specific beam li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1800"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0000"/>
                </a:solidFill>
                <a:uFillTx/>
                <a:latin typeface="Arial"/>
              </a:rPr>
              <a:t>- Access to CL2 lab 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in case of cell culture needed (</a:t>
            </a:r>
            <a:r>
              <a:rPr b="0" lang="en-US" sz="1500" spc="-1" strike="noStrike" u="sng">
                <a:solidFill>
                  <a:srgbClr val="ff0000"/>
                </a:solidFill>
                <a:uFillTx/>
                <a:latin typeface="Arial"/>
              </a:rPr>
              <a:t>training required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) hence, Cell risk analysis 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document mandatory and BMF form.</a:t>
            </a:r>
            <a:endParaRPr b="0" lang="en-US" sz="1500" spc="-1" strike="noStrike">
              <a:solidFill>
                <a:srgbClr val="0098d4"/>
              </a:solidFill>
              <a:latin typeface="Arial"/>
            </a:endParaRPr>
          </a:p>
          <a:p>
            <a:pPr lvl="3" marL="173160" indent="-173160">
              <a:lnSpc>
                <a:spcPct val="110000"/>
              </a:lnSpc>
              <a:spcAft>
                <a:spcPts val="300"/>
              </a:spcAft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- Fresh tissues must be both risk-free and contained AND especially in vacuum chambers, 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test for Prions mandatory, otherwise should be in hermetic sealed contain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73160" indent="-173160">
              <a:lnSpc>
                <a:spcPct val="110000"/>
              </a:lnSpc>
              <a:spcAft>
                <a:spcPts val="300"/>
              </a:spcAft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- If not, refus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1800">
              <a:spcAft>
                <a:spcPts val="1500"/>
              </a:spcAft>
              <a:buClr>
                <a:srgbClr val="4e5b99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4e5b99"/>
                </a:solidFill>
                <a:uFillTx/>
                <a:latin typeface="Arial"/>
              </a:rPr>
              <a:t>Detailed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Risk analysis required, minimum 2 weeks in advance</a:t>
            </a:r>
            <a:endParaRPr b="0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 algn="ctr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 waste managed on ESRF site for human samples and or derivatives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: samples returned back to home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2DF83321-7BBB-4E9E-8153-4D0B1DD2453F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611280" y="537840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79280" y="5554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uman samples and/or deriv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in practic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9BEFC66A-167A-407E-B69C-2848A118544A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250920" y="5554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Animal s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79280" y="11318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Dead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ET certificate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(fresh or fixed tissu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CITES (for protected or endangered spec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Set-up to comply with beam line environment (vacuum cha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Samples brought by Users or shipped through store by authorized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Live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 (“project authorization”) required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after ETHAX validation and French authorities registration (5 years valid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Animals purchased by ESRF (BMF form updated) or brought by Users (specific c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Users certified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(national certification, e.g. PIL / PPL) or equivalent for handling animals (otherwise support mandatory from BM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Detailed Risk analysis required at least 2 weeks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ru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details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urchased by ESRF,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no drugs brought b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AD6AB729-1791-46B2-9437-B5511B124D54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79280" y="627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ILL-ESRF JOINT propos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1201680"/>
            <a:ext cx="9144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Samples used on both instruments </a:t>
            </a: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ample sheets mandatory on both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4e5b99"/>
                </a:solidFill>
                <a:uFillTx/>
                <a:latin typeface="Arial"/>
                <a:ea typeface="Arial"/>
              </a:rPr>
              <a:t>If ESRF first: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no problem, except if D</a:t>
            </a:r>
            <a:r>
              <a:rPr b="0" lang="en-US" sz="1800" spc="-1" strike="noStrike" baseline="-25000">
                <a:solidFill>
                  <a:srgbClr val="4e5b9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O or Deuterium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registration of D</a:t>
            </a:r>
            <a:r>
              <a:rPr b="0" lang="en-US" sz="1800" spc="-1" strike="noStrike" baseline="-25000">
                <a:solidFill>
                  <a:srgbClr val="4e5b9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O and deuterium required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Radiation-Protection (RP) authoriz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max 1kg/year only in total at the ESRF</a:t>
            </a:r>
            <a:r>
              <a:rPr b="0" lang="en-US" sz="1800" spc="-1" strike="noStrike">
                <a:solidFill>
                  <a:srgbClr val="4e5b99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reduced volume or deuterium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-25000">
                <a:solidFill>
                  <a:srgbClr val="4e5b9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O waste taken back b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4e5b99"/>
                </a:solidFill>
                <a:uFillTx/>
                <a:latin typeface="Arial"/>
                <a:ea typeface="Arial"/>
              </a:rPr>
              <a:t>If ILL first: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potential risk of activation </a:t>
            </a:r>
            <a:r>
              <a:rPr b="0" lang="en-US" sz="1800" spc="-1" strike="noStrike">
                <a:solidFill>
                  <a:srgbClr val="4e5b99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control by both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LL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ND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ESRF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RP services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with at least 1 day lap between the ILL and ESRF s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amples to be cleared by ILL RP with certificate and then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tored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 RP lab » at I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ESRF RP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ill come and check samples on ILL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amples authorized on ESRF sit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only once cleared ESRF 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Notification and Appointment with ESRF RP to be scheduled in adv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8000" y="696960"/>
            <a:ext cx="89280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Laboratories available on site for biological samples :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EMBL lab support (SAXS, Microorganisms, etc)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To be requested at least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4 weeks 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in advance using the form available on the 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website or via A-form 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as soon as equipment are not available on ESRF site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Only two people per User group allowed in facilities and specific training first by EMBL 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safety officer. Please register with</a:t>
            </a:r>
            <a:r>
              <a:rPr b="0" i="1" lang="en-GB" sz="1600" spc="-1" strike="noStrike">
                <a:solidFill>
                  <a:srgbClr val="4e5b99"/>
                </a:solidFill>
                <a:latin typeface="Arial"/>
              </a:rPr>
              <a:t> :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ab_support@embl.fr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MF labs (L1, L2, Histology lab, Sample lab, etc)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To be requested at least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6 weeks 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in advance for managing animals, consumables, 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drugs and labs bookings.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pecific training for access to CL2 lab.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br>
              <a:rPr sz="1600"/>
            </a:b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Please register with : </a:t>
            </a: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mf@esrf.fr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xpsaf@esrf.fr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Other labs (Cryo-EM, CryoBench, Science Building, etc)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To be requested in advance for booking and consumables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In labs, same rules and regulation apply as for beam lines. 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Local contact responsible for organizing contacts with lab responsible peopl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0000"/>
                </a:solidFill>
                <a:uFillTx/>
                <a:latin typeface="Arial"/>
              </a:rPr>
              <a:t>Waste management specific for each institute.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612084EC-DAF1-44F6-BE8E-84A9675A2038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5"/>
          <p:cNvSpPr/>
          <p:nvPr/>
        </p:nvSpPr>
        <p:spPr>
          <a:xfrm>
            <a:off x="61128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1:36:16Z</dcterms:created>
  <dc:creator>mayeux</dc:creator>
  <dc:description/>
  <dc:language>en-US</dc:language>
  <cp:lastModifiedBy>mayeux</cp:lastModifiedBy>
  <dcterms:modified xsi:type="dcterms:W3CDTF">2019-01-29T15:21:34Z</dcterms:modified>
  <cp:revision>94</cp:revision>
  <dc:subject/>
  <dc:title>Slide 1</dc:title>
</cp:coreProperties>
</file>