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AD13-06D9-4235-8A89-5DE098C39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27200" y="804960"/>
            <a:ext cx="82375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27200" y="3067920"/>
            <a:ext cx="82375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41F8-9EA5-4574-BEDC-C1A1549F1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27200" y="804960"/>
            <a:ext cx="40197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8200" y="804960"/>
            <a:ext cx="40197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27200" y="3067920"/>
            <a:ext cx="40197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48200" y="3067920"/>
            <a:ext cx="40197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B5E1-E480-4570-B3F4-C55027E84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27200" y="804960"/>
            <a:ext cx="26521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2160" y="804960"/>
            <a:ext cx="26521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97480" y="804960"/>
            <a:ext cx="26521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27200" y="3067920"/>
            <a:ext cx="26521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2160" y="3067920"/>
            <a:ext cx="26521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97480" y="3067920"/>
            <a:ext cx="26521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EFD1-E04D-4758-8FEE-CBC80AC12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83467A-E112-4E5C-B6D0-39D551796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27200" y="804960"/>
            <a:ext cx="823752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1422C8-DA76-4575-AC4B-16E01B7FD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27200" y="804960"/>
            <a:ext cx="823752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B87BDC-7C99-4B49-8749-7A0065140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27200" y="804960"/>
            <a:ext cx="401976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48200" y="804960"/>
            <a:ext cx="401976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D93500-4B02-4A0F-A757-B4E74DCCB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076216-9F24-4EE6-8503-E6780534E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27200" y="124920"/>
            <a:ext cx="8237520" cy="23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6645A3-277E-40A7-BD78-9C515A035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27200" y="804960"/>
            <a:ext cx="40197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48200" y="804960"/>
            <a:ext cx="401976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27200" y="3067920"/>
            <a:ext cx="40197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EC5B7A-426D-494A-BC54-A2B7ABB2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27200" y="804960"/>
            <a:ext cx="823752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DA35-BEB6-43B4-A59E-45E7B5B2B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27200" y="804960"/>
            <a:ext cx="401976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48200" y="804960"/>
            <a:ext cx="40197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48200" y="3067920"/>
            <a:ext cx="40197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9AA541-4487-487A-A564-E8E856C5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27200" y="804960"/>
            <a:ext cx="40197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8200" y="804960"/>
            <a:ext cx="40197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27200" y="3067920"/>
            <a:ext cx="82375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CEC5DC-1859-4FB6-8CE9-4B679FA7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7200" y="804960"/>
            <a:ext cx="82375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27200" y="3067920"/>
            <a:ext cx="82375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FAADF3-9BD1-48F1-9479-5E5FC8084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27200" y="804960"/>
            <a:ext cx="40197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48200" y="804960"/>
            <a:ext cx="40197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27200" y="3067920"/>
            <a:ext cx="40197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948200" y="3067920"/>
            <a:ext cx="40197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7CAE7F-D729-4669-87AA-D499067D9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27200" y="804960"/>
            <a:ext cx="26521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12160" y="804960"/>
            <a:ext cx="26521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97480" y="804960"/>
            <a:ext cx="26521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727200" y="3067920"/>
            <a:ext cx="26521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12160" y="3067920"/>
            <a:ext cx="26521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97480" y="3067920"/>
            <a:ext cx="26521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74729B-AB14-43AB-94E7-2C831EF72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9567B3-3A8A-4D6F-89D5-2065242B2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27200" y="804960"/>
            <a:ext cx="823752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628C8B-8162-40A3-B6D4-0A4E525BA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27200" y="804960"/>
            <a:ext cx="823752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FFFF42-496F-4206-9D30-E89FEF9CA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27200" y="804960"/>
            <a:ext cx="401976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48200" y="804960"/>
            <a:ext cx="401976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54E34E-B7DE-4866-9D92-9763CD055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6872DC-B8D9-43B2-8416-597325C99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7200" y="804960"/>
            <a:ext cx="823752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8FFA-75E0-4FD5-9241-6F8A0C6EB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27200" y="124920"/>
            <a:ext cx="8237520" cy="23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C4E63C-B753-456C-99D8-366D8C916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27200" y="804960"/>
            <a:ext cx="40197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48200" y="804960"/>
            <a:ext cx="401976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27200" y="3067920"/>
            <a:ext cx="40197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505BDC-9FD2-442C-B6FB-0F81AFFC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27200" y="804960"/>
            <a:ext cx="401976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48200" y="804960"/>
            <a:ext cx="40197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948200" y="3067920"/>
            <a:ext cx="40197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93A2E1-A7DD-4D89-A9C9-2C5C796C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27200" y="804960"/>
            <a:ext cx="40197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48200" y="804960"/>
            <a:ext cx="40197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27200" y="3067920"/>
            <a:ext cx="82375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C61C84-140B-4E67-B767-3DE3A665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27200" y="804960"/>
            <a:ext cx="82375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27200" y="3067920"/>
            <a:ext cx="82375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2BF3A3-51F4-4837-A9D8-FEB62AB48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27200" y="804960"/>
            <a:ext cx="40197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8200" y="804960"/>
            <a:ext cx="40197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27200" y="3067920"/>
            <a:ext cx="40197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948200" y="3067920"/>
            <a:ext cx="40197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3C9147-BC3B-4BF9-B405-DB19996FE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27200" y="804960"/>
            <a:ext cx="26521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12160" y="804960"/>
            <a:ext cx="26521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297480" y="804960"/>
            <a:ext cx="26521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727200" y="3067920"/>
            <a:ext cx="26521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12160" y="3067920"/>
            <a:ext cx="26521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297480" y="3067920"/>
            <a:ext cx="26521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B415C6-D651-4D80-AE22-00A22C267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7EC136-F5AC-4333-A8C2-84A2961BF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27200" y="804960"/>
            <a:ext cx="823752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CD1964-A53F-457B-BF6C-3D44ABD0C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27200" y="804960"/>
            <a:ext cx="823752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072225-0272-4353-B105-169A17379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27200" y="804960"/>
            <a:ext cx="401976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48200" y="804960"/>
            <a:ext cx="401976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BB8D-A179-481D-BECE-0BAB6B41E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7200" y="804960"/>
            <a:ext cx="401976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948200" y="804960"/>
            <a:ext cx="401976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C557FB-CDF5-4523-8EF9-B03B94752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F20A9A-44AD-482A-B4D6-FEB00335D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27200" y="124920"/>
            <a:ext cx="8237520" cy="23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019539-247A-4818-8427-CDD2B72D3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27200" y="804960"/>
            <a:ext cx="40197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948200" y="804960"/>
            <a:ext cx="401976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27200" y="3067920"/>
            <a:ext cx="40197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2BBEA5-1BBB-451D-A301-2A426184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27200" y="804960"/>
            <a:ext cx="401976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48200" y="804960"/>
            <a:ext cx="40197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948200" y="3067920"/>
            <a:ext cx="40197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2BE2D6-C783-446C-9203-DF4D7C710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27200" y="804960"/>
            <a:ext cx="40197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48200" y="804960"/>
            <a:ext cx="40197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27200" y="3067920"/>
            <a:ext cx="82375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2C7950-E497-431F-9A76-65F0B000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27200" y="804960"/>
            <a:ext cx="82375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27200" y="3067920"/>
            <a:ext cx="82375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B14F64-B970-4A0B-AF56-43880FC33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27200" y="804960"/>
            <a:ext cx="40197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948200" y="804960"/>
            <a:ext cx="40197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27200" y="3067920"/>
            <a:ext cx="40197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948200" y="3067920"/>
            <a:ext cx="40197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B7D905-B344-4181-907E-33414D763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27200" y="804960"/>
            <a:ext cx="26521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12160" y="804960"/>
            <a:ext cx="26521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297480" y="804960"/>
            <a:ext cx="26521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727200" y="3067920"/>
            <a:ext cx="26521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12160" y="3067920"/>
            <a:ext cx="26521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297480" y="3067920"/>
            <a:ext cx="26521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8CE31B-A072-4704-87DE-4ECF63567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52A157-32DC-4EFE-808D-D675550EB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D72E-0D2C-428B-896A-07A8FE802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727200" y="804960"/>
            <a:ext cx="823752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175EAB-9770-4DB4-983A-9C9F6C2CB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27200" y="804960"/>
            <a:ext cx="823752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818D39-6A5E-46CB-9442-E972B225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27200" y="804960"/>
            <a:ext cx="401976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48200" y="804960"/>
            <a:ext cx="401976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A45A37-49FD-416D-996D-E32F511BF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464763-DF95-4DBF-8947-880528E53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727200" y="124920"/>
            <a:ext cx="8237520" cy="23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226EFE-6BCF-45EE-A0C5-987F497DA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27200" y="804960"/>
            <a:ext cx="40197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948200" y="804960"/>
            <a:ext cx="401976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727200" y="3067920"/>
            <a:ext cx="40197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B70E54-D5B4-4CB2-9C64-B6523B568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27200" y="804960"/>
            <a:ext cx="401976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948200" y="804960"/>
            <a:ext cx="40197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948200" y="3067920"/>
            <a:ext cx="40197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297E46-8C24-4518-A658-9743ABDB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27200" y="804960"/>
            <a:ext cx="40197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948200" y="804960"/>
            <a:ext cx="40197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27200" y="3067920"/>
            <a:ext cx="82375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ABA249-1E24-4FB7-9E70-37D56A6C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27200" y="804960"/>
            <a:ext cx="82375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727200" y="3067920"/>
            <a:ext cx="82375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703636-3751-4279-9377-3507E448D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27200" y="804960"/>
            <a:ext cx="40197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948200" y="804960"/>
            <a:ext cx="40197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727200" y="3067920"/>
            <a:ext cx="40197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948200" y="3067920"/>
            <a:ext cx="40197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993807-2F38-411A-A552-AEF8DBBDB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27200" y="124920"/>
            <a:ext cx="8237520" cy="23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0F99-B95D-4210-97BF-BAF0D80C8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27200" y="804960"/>
            <a:ext cx="26521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512160" y="804960"/>
            <a:ext cx="26521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297480" y="804960"/>
            <a:ext cx="26521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727200" y="3067920"/>
            <a:ext cx="26521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512160" y="3067920"/>
            <a:ext cx="26521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297480" y="3067920"/>
            <a:ext cx="26521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3C2CF1-B85E-47F3-A045-C86B7BFE6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27200" y="804960"/>
            <a:ext cx="40197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48200" y="804960"/>
            <a:ext cx="401976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27200" y="3067920"/>
            <a:ext cx="40197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01A3-8B2E-4563-8CCF-2533CA6C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27200" y="804960"/>
            <a:ext cx="401976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48200" y="804960"/>
            <a:ext cx="40197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48200" y="3067920"/>
            <a:ext cx="40197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5680-1A3B-411E-8AF5-61C57DCF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27200" y="804960"/>
            <a:ext cx="40197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48200" y="804960"/>
            <a:ext cx="401976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27200" y="3067920"/>
            <a:ext cx="8237520" cy="206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FAD3-FC8D-4386-B941-25B7F18E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10" descr="logo_texte.jpg"/>
          <p:cNvPicPr/>
          <p:nvPr/>
        </p:nvPicPr>
        <p:blipFill>
          <a:blip r:embed="rId2"/>
          <a:stretch/>
        </p:blipFill>
        <p:spPr>
          <a:xfrm>
            <a:off x="7167600" y="5067360"/>
            <a:ext cx="1976400" cy="647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solidFill>
            <a:srgbClr val="132577"/>
          </a:solidFill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27200" y="804960"/>
            <a:ext cx="823752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8d4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  <a:p>
            <a:pPr lvl="1">
              <a:spcAft>
                <a:spcPts val="1001"/>
              </a:spcAft>
              <a:buClr>
                <a:srgbClr val="0098d4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8d4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  <a:p>
            <a:pPr lvl="2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8d4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  <a:p>
            <a:pPr lvl="3" marL="357120" indent="-174600">
              <a:spcAft>
                <a:spcPts val="1001"/>
              </a:spcAft>
              <a:buClr>
                <a:srgbClr val="0098d4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8d4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  <a:p>
            <a:pPr lvl="4" marL="1162080" indent="-174600">
              <a:spcAft>
                <a:spcPts val="1001"/>
              </a:spcAft>
              <a:buClr>
                <a:srgbClr val="0098d4"/>
              </a:buClr>
              <a:buFont typeface="ITCOfficinaSans LT Book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8d4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  <a:p>
            <a:pPr lvl="5" marL="1162080" indent="-174600">
              <a:spcAft>
                <a:spcPts val="1001"/>
              </a:spcAft>
              <a:buClr>
                <a:srgbClr val="000000"/>
              </a:buClr>
              <a:buFont typeface="ITCOfficinaSans LT Book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8d4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  <a:p>
            <a:pPr lvl="6" marL="1162080" indent="-174600">
              <a:spcAft>
                <a:spcPts val="1001"/>
              </a:spcAft>
              <a:buClr>
                <a:srgbClr val="000000"/>
              </a:buClr>
              <a:buFont typeface="ITCOfficinaSans LT Book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8d4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5587560"/>
            <a:ext cx="611280" cy="12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Times New Roman"/>
              </a:rPr>
              <a:t>26/07/201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30000" y="5402160"/>
            <a:ext cx="611964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600" spc="-1" strike="noStrike">
                <a:solidFill>
                  <a:srgbClr val="13257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132577"/>
                </a:solidFill>
                <a:latin typeface="Times New Roman"/>
              </a:rPr>
              <a:t>Presentation User meeting/VM-201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98000" y="5402160"/>
            <a:ext cx="41292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600" spc="-1" strike="noStrike">
                <a:solidFill>
                  <a:srgbClr val="13257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132577"/>
                </a:solidFill>
                <a:latin typeface="Times New Roman"/>
              </a:rPr>
              <a:t>Page </a:t>
            </a:r>
            <a:fld id="{6C8B913A-E12C-469C-99B1-18BA4AA25B07}" type="slidenum">
              <a:rPr b="1" lang="fr-FR" sz="600" spc="-1" strike="noStrike">
                <a:solidFill>
                  <a:srgbClr val="132577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179280" y="125280"/>
            <a:ext cx="497160" cy="497160"/>
          </a:xfrm>
          <a:prstGeom prst="rect">
            <a:avLst/>
          </a:prstGeom>
          <a:solidFill>
            <a:srgbClr val="1325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mage 8" descr="logo_couv.jpg"/>
          <p:cNvPicPr/>
          <p:nvPr/>
        </p:nvPicPr>
        <p:blipFill>
          <a:blip r:embed="rId2"/>
          <a:stretch/>
        </p:blipFill>
        <p:spPr>
          <a:xfrm>
            <a:off x="971640" y="1417680"/>
            <a:ext cx="7200720" cy="2879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solidFill>
            <a:srgbClr val="132577"/>
          </a:solidFill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27200" y="804960"/>
            <a:ext cx="823752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8d4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  <a:p>
            <a:pPr lvl="1">
              <a:spcAft>
                <a:spcPts val="1001"/>
              </a:spcAft>
              <a:buClr>
                <a:srgbClr val="0098d4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8d4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  <a:p>
            <a:pPr lvl="2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8d4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  <a:p>
            <a:pPr lvl="3" marL="357120" indent="-174600">
              <a:spcAft>
                <a:spcPts val="1001"/>
              </a:spcAft>
              <a:buClr>
                <a:srgbClr val="0098d4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8d4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  <a:p>
            <a:pPr lvl="4" marL="1162080" indent="-174600">
              <a:spcAft>
                <a:spcPts val="1001"/>
              </a:spcAft>
              <a:buClr>
                <a:srgbClr val="0098d4"/>
              </a:buClr>
              <a:buFont typeface="ITCOfficinaSans LT Book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8d4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  <a:p>
            <a:pPr lvl="5" marL="1162080" indent="-174600">
              <a:spcAft>
                <a:spcPts val="1001"/>
              </a:spcAft>
              <a:buClr>
                <a:srgbClr val="000000"/>
              </a:buClr>
              <a:buFont typeface="ITCOfficinaSans LT Book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8d4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  <a:p>
            <a:pPr lvl="6" marL="1162080" indent="-174600">
              <a:spcAft>
                <a:spcPts val="1001"/>
              </a:spcAft>
              <a:buClr>
                <a:srgbClr val="000000"/>
              </a:buClr>
              <a:buFont typeface="ITCOfficinaSans LT Book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8d4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0" y="5587560"/>
            <a:ext cx="611280" cy="12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Times New Roman"/>
              </a:rPr>
              <a:t>26/07/201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198000" y="5402160"/>
            <a:ext cx="41292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Times New Roman"/>
              </a:rPr>
              <a:t>Page </a:t>
            </a:r>
            <a:fld id="{FC36DF2C-B17D-4BA5-AA35-D142EB2736E3}" type="slidenum">
              <a:rPr b="1" lang="en-US" sz="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630000" y="5402160"/>
            <a:ext cx="611964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Times New Roman"/>
              </a:rPr>
              <a:t>Presentation User meeting/VM-201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Image 10" descr="logo_texte.jpg"/>
          <p:cNvPicPr/>
          <p:nvPr/>
        </p:nvPicPr>
        <p:blipFill>
          <a:blip r:embed="rId2"/>
          <a:stretch/>
        </p:blipFill>
        <p:spPr>
          <a:xfrm>
            <a:off x="7167600" y="5067360"/>
            <a:ext cx="1976400" cy="6476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7"/>
          <p:cNvSpPr/>
          <p:nvPr/>
        </p:nvSpPr>
        <p:spPr>
          <a:xfrm>
            <a:off x="179280" y="125280"/>
            <a:ext cx="497160" cy="497160"/>
          </a:xfrm>
          <a:prstGeom prst="rect">
            <a:avLst/>
          </a:prstGeom>
          <a:solidFill>
            <a:srgbClr val="1325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solidFill>
            <a:srgbClr val="132577"/>
          </a:solidFill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27200" y="804960"/>
            <a:ext cx="823752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8d4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  <a:p>
            <a:pPr lvl="1">
              <a:spcAft>
                <a:spcPts val="1001"/>
              </a:spcAft>
              <a:buClr>
                <a:srgbClr val="0098d4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8d4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  <a:p>
            <a:pPr lvl="2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8d4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  <a:p>
            <a:pPr lvl="3" marL="357120" indent="-174600">
              <a:spcAft>
                <a:spcPts val="1001"/>
              </a:spcAft>
              <a:buClr>
                <a:srgbClr val="0098d4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8d4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  <a:p>
            <a:pPr lvl="4" marL="1162080" indent="-174600">
              <a:spcAft>
                <a:spcPts val="1001"/>
              </a:spcAft>
              <a:buClr>
                <a:srgbClr val="0098d4"/>
              </a:buClr>
              <a:buFont typeface="ITCOfficinaSans LT Book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8d4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  <a:p>
            <a:pPr lvl="5" marL="1162080" indent="-174600">
              <a:spcAft>
                <a:spcPts val="1001"/>
              </a:spcAft>
              <a:buClr>
                <a:srgbClr val="000000"/>
              </a:buClr>
              <a:buFont typeface="ITCOfficinaSans LT Book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8d4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  <a:p>
            <a:pPr lvl="6" marL="1162080" indent="-174600">
              <a:spcAft>
                <a:spcPts val="1001"/>
              </a:spcAft>
              <a:buClr>
                <a:srgbClr val="000000"/>
              </a:buClr>
              <a:buFont typeface="ITCOfficinaSans LT Book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8d4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0" y="5587560"/>
            <a:ext cx="611280" cy="12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Times New Roman"/>
              </a:rPr>
              <a:t>26/07/201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8"/>
          </p:nvPr>
        </p:nvSpPr>
        <p:spPr>
          <a:xfrm>
            <a:off x="198000" y="5402160"/>
            <a:ext cx="41292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600" spc="-1" strike="noStrike">
                <a:solidFill>
                  <a:srgbClr val="13257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132577"/>
                </a:solidFill>
                <a:latin typeface="Times New Roman"/>
              </a:rPr>
              <a:t>Page </a:t>
            </a:r>
            <a:fld id="{87FB4EA1-48DE-4847-8177-202A8BE127C4}" type="slidenum">
              <a:rPr b="1" lang="en-US" sz="600" spc="-1" strike="noStrike">
                <a:solidFill>
                  <a:srgbClr val="132577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9"/>
          </p:nvPr>
        </p:nvSpPr>
        <p:spPr>
          <a:xfrm>
            <a:off x="630000" y="5402160"/>
            <a:ext cx="611964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600" spc="-1" strike="noStrike">
                <a:solidFill>
                  <a:srgbClr val="13257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132577"/>
                </a:solidFill>
                <a:latin typeface="Times New Roman"/>
              </a:rPr>
              <a:t>Presentation User meeting/VM-201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Image 10" descr="logo_texte.jpg"/>
          <p:cNvPicPr/>
          <p:nvPr/>
        </p:nvPicPr>
        <p:blipFill>
          <a:blip r:embed="rId2"/>
          <a:stretch/>
        </p:blipFill>
        <p:spPr>
          <a:xfrm>
            <a:off x="7167600" y="5067360"/>
            <a:ext cx="1976400" cy="64764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7"/>
          <p:cNvSpPr/>
          <p:nvPr/>
        </p:nvSpPr>
        <p:spPr>
          <a:xfrm>
            <a:off x="179280" y="125280"/>
            <a:ext cx="497160" cy="497160"/>
          </a:xfrm>
          <a:prstGeom prst="rect">
            <a:avLst/>
          </a:prstGeom>
          <a:solidFill>
            <a:srgbClr val="1325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solidFill>
            <a:srgbClr val="132577"/>
          </a:solidFill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27200" y="804960"/>
            <a:ext cx="823752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8d4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  <a:p>
            <a:pPr lvl="1">
              <a:spcAft>
                <a:spcPts val="1001"/>
              </a:spcAft>
              <a:buClr>
                <a:srgbClr val="0098d4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8d4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  <a:p>
            <a:pPr lvl="2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8d4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  <a:p>
            <a:pPr lvl="3" marL="357120" indent="-174600">
              <a:spcAft>
                <a:spcPts val="1001"/>
              </a:spcAft>
              <a:buClr>
                <a:srgbClr val="0098d4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8d4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  <a:p>
            <a:pPr lvl="4" marL="1162080" indent="-174600">
              <a:spcAft>
                <a:spcPts val="1001"/>
              </a:spcAft>
              <a:buClr>
                <a:srgbClr val="0098d4"/>
              </a:buClr>
              <a:buFont typeface="ITCOfficinaSans LT Book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8d4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  <a:p>
            <a:pPr lvl="5" marL="1162080" indent="-174600">
              <a:spcAft>
                <a:spcPts val="1001"/>
              </a:spcAft>
              <a:buClr>
                <a:srgbClr val="000000"/>
              </a:buClr>
              <a:buFont typeface="ITCOfficinaSans LT Book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8d4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  <a:p>
            <a:pPr lvl="6" marL="1162080" indent="-174600">
              <a:spcAft>
                <a:spcPts val="1001"/>
              </a:spcAft>
              <a:buClr>
                <a:srgbClr val="000000"/>
              </a:buClr>
              <a:buFont typeface="ITCOfficinaSans LT Book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8d4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0" y="5587560"/>
            <a:ext cx="611280" cy="12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Times New Roman"/>
              </a:rPr>
              <a:t>26/07/201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11"/>
          </p:nvPr>
        </p:nvSpPr>
        <p:spPr>
          <a:xfrm>
            <a:off x="198000" y="5402160"/>
            <a:ext cx="41292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600" spc="-1" strike="noStrike">
                <a:solidFill>
                  <a:srgbClr val="13257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132577"/>
                </a:solidFill>
                <a:latin typeface="Times New Roman"/>
              </a:rPr>
              <a:t>Page </a:t>
            </a:r>
            <a:fld id="{EF862ADF-A13C-48CF-9EB5-2682928F974E}" type="slidenum">
              <a:rPr b="1" lang="en-US" sz="600" spc="-1" strike="noStrike">
                <a:solidFill>
                  <a:srgbClr val="132577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2"/>
          </p:nvPr>
        </p:nvSpPr>
        <p:spPr>
          <a:xfrm>
            <a:off x="630000" y="5402160"/>
            <a:ext cx="611964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600" spc="-1" strike="noStrike">
                <a:solidFill>
                  <a:srgbClr val="13257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132577"/>
                </a:solidFill>
                <a:latin typeface="Times New Roman"/>
              </a:rPr>
              <a:t>Presentation User meeting/VM-201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Image 10" descr="logo_texte.jpg"/>
          <p:cNvPicPr/>
          <p:nvPr/>
        </p:nvPicPr>
        <p:blipFill>
          <a:blip r:embed="rId2"/>
          <a:stretch/>
        </p:blipFill>
        <p:spPr>
          <a:xfrm>
            <a:off x="7167600" y="5067360"/>
            <a:ext cx="1976400" cy="64764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7"/>
          <p:cNvSpPr/>
          <p:nvPr/>
        </p:nvSpPr>
        <p:spPr>
          <a:xfrm>
            <a:off x="179280" y="125280"/>
            <a:ext cx="497160" cy="497160"/>
          </a:xfrm>
          <a:prstGeom prst="rect">
            <a:avLst/>
          </a:prstGeom>
          <a:solidFill>
            <a:srgbClr val="1325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solidFill>
            <a:srgbClr val="132577"/>
          </a:solidFill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27200" y="804960"/>
            <a:ext cx="823752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8d4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  <a:p>
            <a:pPr lvl="1">
              <a:spcAft>
                <a:spcPts val="1001"/>
              </a:spcAft>
              <a:buClr>
                <a:srgbClr val="0098d4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8d4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  <a:p>
            <a:pPr lvl="2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8d4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  <a:p>
            <a:pPr lvl="3" marL="357120" indent="-174600">
              <a:spcAft>
                <a:spcPts val="1001"/>
              </a:spcAft>
              <a:buClr>
                <a:srgbClr val="0098d4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8d4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  <a:p>
            <a:pPr lvl="4" marL="1162080" indent="-174600">
              <a:spcAft>
                <a:spcPts val="1001"/>
              </a:spcAft>
              <a:buClr>
                <a:srgbClr val="0098d4"/>
              </a:buClr>
              <a:buFont typeface="ITCOfficinaSans LT Book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8d4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  <a:p>
            <a:pPr lvl="5" marL="1162080" indent="-174600">
              <a:spcAft>
                <a:spcPts val="1001"/>
              </a:spcAft>
              <a:buClr>
                <a:srgbClr val="000000"/>
              </a:buClr>
              <a:buFont typeface="ITCOfficinaSans LT Book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8d4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  <a:p>
            <a:pPr lvl="6" marL="1162080" indent="-174600">
              <a:spcAft>
                <a:spcPts val="1001"/>
              </a:spcAft>
              <a:buClr>
                <a:srgbClr val="000000"/>
              </a:buClr>
              <a:buFont typeface="ITCOfficinaSans LT Book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8d4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0" y="5587560"/>
            <a:ext cx="611280" cy="12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Times New Roman"/>
              </a:rPr>
              <a:t>26/07/201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14"/>
          </p:nvPr>
        </p:nvSpPr>
        <p:spPr>
          <a:xfrm>
            <a:off x="198000" y="5402160"/>
            <a:ext cx="41292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600" spc="-1" strike="noStrike">
                <a:solidFill>
                  <a:srgbClr val="13257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132577"/>
                </a:solidFill>
                <a:latin typeface="Times New Roman"/>
              </a:rPr>
              <a:t>Page </a:t>
            </a:r>
            <a:fld id="{576102BA-A790-40C8-B08F-D00608810924}" type="slidenum">
              <a:rPr b="1" lang="en-US" sz="600" spc="-1" strike="noStrike">
                <a:solidFill>
                  <a:srgbClr val="132577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ftr" idx="15"/>
          </p:nvPr>
        </p:nvSpPr>
        <p:spPr>
          <a:xfrm>
            <a:off x="630000" y="5402160"/>
            <a:ext cx="611964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600" spc="-1" strike="noStrike">
                <a:solidFill>
                  <a:srgbClr val="13257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132577"/>
                </a:solidFill>
                <a:latin typeface="Times New Roman"/>
              </a:rPr>
              <a:t>Presentation User meeting/VM-201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solidFill>
            <a:srgbClr val="132577"/>
          </a:solidFill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SAFETY RULES FOR THE ANALYSIS OF BIOLOGICAL SAMPLES AT THE ESRF AND OVERVIEW OF THE LABS ON SITE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Date Placeholder 2"/>
          <p:cNvSpPr/>
          <p:nvPr/>
        </p:nvSpPr>
        <p:spPr>
          <a:xfrm>
            <a:off x="0" y="5587920"/>
            <a:ext cx="6112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26/07/2013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198360" y="5402160"/>
            <a:ext cx="4129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132577"/>
                </a:solidFill>
                <a:latin typeface="Arial"/>
              </a:rPr>
              <a:t>Page </a:t>
            </a:r>
            <a:fld id="{927D2C2F-366C-4BDD-A5BA-57CB34B65547}" type="slidenum">
              <a:rPr b="1" lang="en-US" sz="600" spc="-1" strike="noStrike">
                <a:solidFill>
                  <a:srgbClr val="132577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ooter Placeholder 4"/>
          <p:cNvSpPr/>
          <p:nvPr/>
        </p:nvSpPr>
        <p:spPr>
          <a:xfrm>
            <a:off x="630360" y="5402160"/>
            <a:ext cx="61196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132577"/>
                </a:solidFill>
                <a:latin typeface="Arial"/>
              </a:rPr>
              <a:t>Presentation User meeting/VM-2019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5"/>
          <p:cNvSpPr/>
          <p:nvPr/>
        </p:nvSpPr>
        <p:spPr>
          <a:xfrm>
            <a:off x="468360" y="2252520"/>
            <a:ext cx="885672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e5b99"/>
                </a:solidFill>
                <a:latin typeface="Arial"/>
              </a:rPr>
              <a:t>https://www.esrf.eu/UsersAndScience/UserGuide/Prepa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Biological experiments ES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e5b99"/>
                </a:solidFill>
                <a:latin typeface="Arial"/>
              </a:rPr>
              <a:t>http://www.esrf.fr/Infrastructure/Safety/Experiments/Biology_Experi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Support Laboratories Request Fo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ttp://www.esrf.fr/UsersAndScience/UserGuide/Preparing/laborato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Shipping Samp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ttps://www.esrf.eu/UsersAndScience/UserGuide/Preparing/ImportingEqui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Safety information for u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ttps://www.esrf.eu/UsersAndScience/UserGuide/safety-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7" descr=""/>
          <p:cNvPicPr/>
          <p:nvPr/>
        </p:nvPicPr>
        <p:blipFill>
          <a:blip r:embed="rId1"/>
          <a:srcRect l="13471" t="34810" r="12518" b="28270"/>
          <a:stretch/>
        </p:blipFill>
        <p:spPr>
          <a:xfrm>
            <a:off x="1979640" y="1057320"/>
            <a:ext cx="4753080" cy="114624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7"/>
          <p:cNvSpPr/>
          <p:nvPr/>
        </p:nvSpPr>
        <p:spPr>
          <a:xfrm>
            <a:off x="483840" y="625320"/>
            <a:ext cx="396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Where to find more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solidFill>
            <a:srgbClr val="132577"/>
          </a:solidFill>
          <a:ln w="0">
            <a:noFill/>
          </a:ln>
        </p:spPr>
        <p:txBody>
          <a:bodyPr lIns="108000" rIns="10800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SAFETY RULES FOR THE ANALYSIS OF BIOLOGICAL SAMPLES AT THE ESRF AND OVERVIEW OF THE LABS ON SITE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350880" y="914040"/>
            <a:ext cx="5613480" cy="2970360"/>
          </a:xfrm>
          <a:prstGeom prst="rect">
            <a:avLst/>
          </a:prstGeom>
          <a:solidFill>
            <a:srgbClr val="4e5b99"/>
          </a:solidFill>
          <a:ln w="0">
            <a:noFill/>
          </a:ln>
        </p:spPr>
        <p:txBody>
          <a:bodyPr lIns="216000" rIns="0" tIns="252000" bIns="0" anchor="t">
            <a:norm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8d4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8d4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1" lang="en-US" sz="2800" spc="-1" strike="noStrike">
              <a:solidFill>
                <a:srgbClr val="0098d4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727200" y="914040"/>
            <a:ext cx="2573280" cy="2970360"/>
          </a:xfrm>
          <a:prstGeom prst="rect">
            <a:avLst/>
          </a:prstGeom>
          <a:ln w="0">
            <a:noFill/>
          </a:ln>
        </p:spPr>
      </p:pic>
      <p:sp>
        <p:nvSpPr>
          <p:cNvPr id="276" name="Date Placeholder 4"/>
          <p:cNvSpPr/>
          <p:nvPr/>
        </p:nvSpPr>
        <p:spPr>
          <a:xfrm>
            <a:off x="0" y="5587920"/>
            <a:ext cx="6112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26/07/2013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5"/>
          <p:cNvSpPr/>
          <p:nvPr/>
        </p:nvSpPr>
        <p:spPr>
          <a:xfrm>
            <a:off x="198360" y="5402160"/>
            <a:ext cx="4129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132577"/>
                </a:solidFill>
                <a:latin typeface="Arial"/>
              </a:rPr>
              <a:t>Page </a:t>
            </a:r>
            <a:fld id="{B2051068-7886-4F9B-A2A3-D4E2B4203E3F}" type="slidenum">
              <a:rPr b="1" lang="en-US" sz="600" spc="-1" strike="noStrike">
                <a:solidFill>
                  <a:srgbClr val="132577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ooter Placeholder 6"/>
          <p:cNvSpPr/>
          <p:nvPr/>
        </p:nvSpPr>
        <p:spPr>
          <a:xfrm>
            <a:off x="630360" y="5402160"/>
            <a:ext cx="61196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132577"/>
                </a:solidFill>
                <a:latin typeface="Arial"/>
              </a:rPr>
              <a:t>Presentation User meeting/VM-2019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2" descr="P:\DIR\COM\Public\PHOTOS\PHOTOS AERIAL VIEWS\AIR ISERE\Air Isere_ESRF_2_LR.jpg"/>
          <p:cNvPicPr/>
          <p:nvPr/>
        </p:nvPicPr>
        <p:blipFill>
          <a:blip r:embed="rId2"/>
          <a:stretch/>
        </p:blipFill>
        <p:spPr>
          <a:xfrm>
            <a:off x="108000" y="912960"/>
            <a:ext cx="3240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27200" y="120600"/>
            <a:ext cx="8237520" cy="496800"/>
          </a:xfrm>
          <a:prstGeom prst="rect">
            <a:avLst/>
          </a:prstGeom>
          <a:solidFill>
            <a:srgbClr val="132577"/>
          </a:solidFill>
          <a:ln w="0">
            <a:noFill/>
          </a:ln>
        </p:spPr>
        <p:txBody>
          <a:bodyPr lIns="108000" rIns="10800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SAFETY RULES FOR THE ANALYSIS OF BIOLOGICAL SAMPLES AT THE ESRF AND OVERVIEW OF THE LABS ON SITE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Date Placeholder 4"/>
          <p:cNvSpPr/>
          <p:nvPr/>
        </p:nvSpPr>
        <p:spPr>
          <a:xfrm>
            <a:off x="0" y="5587920"/>
            <a:ext cx="6112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26/07/2013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5"/>
          <p:cNvSpPr/>
          <p:nvPr/>
        </p:nvSpPr>
        <p:spPr>
          <a:xfrm>
            <a:off x="198360" y="5402160"/>
            <a:ext cx="4129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132577"/>
                </a:solidFill>
                <a:latin typeface="Arial"/>
              </a:rPr>
              <a:t>Page </a:t>
            </a:r>
            <a:fld id="{D5E0D42E-33F8-45C6-A543-73B750B7FCFA}" type="slidenum">
              <a:rPr b="1" lang="en-US" sz="600" spc="-1" strike="noStrike">
                <a:solidFill>
                  <a:srgbClr val="132577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ooter Placeholder 6"/>
          <p:cNvSpPr/>
          <p:nvPr/>
        </p:nvSpPr>
        <p:spPr>
          <a:xfrm>
            <a:off x="630360" y="5402160"/>
            <a:ext cx="61196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132577"/>
                </a:solidFill>
                <a:latin typeface="Arial"/>
              </a:rPr>
              <a:t>Presentation User meeting/VM-2019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347640" y="914040"/>
            <a:ext cx="5613480" cy="3095640"/>
          </a:xfrm>
          <a:prstGeom prst="rect">
            <a:avLst/>
          </a:prstGeom>
          <a:solidFill>
            <a:srgbClr val="4e5b99"/>
          </a:solidFill>
          <a:ln w="0">
            <a:noFill/>
          </a:ln>
        </p:spPr>
        <p:txBody>
          <a:bodyPr lIns="216000" rIns="0" tIns="252000" bIns="0" anchor="t">
            <a:norm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egulation applied (European and French)</a:t>
            </a: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  <a:p>
            <a:pPr>
              <a:spcAft>
                <a:spcPts val="300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icroorganisms and GMO</a:t>
            </a: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  <a:p>
            <a:pPr>
              <a:spcAft>
                <a:spcPts val="300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tructural Biology samples</a:t>
            </a: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  <a:p>
            <a:pPr>
              <a:spcAft>
                <a:spcPts val="300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Human samples and or derivatives</a:t>
            </a: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  <a:p>
            <a:pPr>
              <a:spcAft>
                <a:spcPts val="300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ive animals</a:t>
            </a: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- ESRF-ILL Joint proposals</a:t>
            </a: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*Safety requirements and measures</a:t>
            </a: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*Constrains and lab facilities access</a:t>
            </a: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*Waste management</a:t>
            </a: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27200" y="914040"/>
            <a:ext cx="2573280" cy="29703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P:\DIR\COM\Public\PHOTOS\PHOTOS AERIAL VIEWS\AIR ISERE\Air Isere_ESRF_2_LR.jpg"/>
          <p:cNvPicPr/>
          <p:nvPr/>
        </p:nvPicPr>
        <p:blipFill>
          <a:blip r:embed="rId2"/>
          <a:stretch/>
        </p:blipFill>
        <p:spPr>
          <a:xfrm>
            <a:off x="104760" y="912960"/>
            <a:ext cx="3240000" cy="309708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8"/>
          <p:cNvSpPr/>
          <p:nvPr/>
        </p:nvSpPr>
        <p:spPr>
          <a:xfrm>
            <a:off x="611280" y="444168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ff"/>
                </a:solidFill>
                <a:latin typeface="Arial"/>
              </a:rPr>
              <a:t>http://www.esrf.fr/Infrastructure/Safety/Experiments/Biology_Experi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solidFill>
            <a:srgbClr val="132577"/>
          </a:solidFill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SAFETY RULES FOR THE ANALYSIS OF BIOLOGICAL SAMPLES AT THE ESRF AND OVERVIEW OF THE LABS ON SITE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Date Placeholder 3"/>
          <p:cNvSpPr/>
          <p:nvPr/>
        </p:nvSpPr>
        <p:spPr>
          <a:xfrm>
            <a:off x="0" y="5587920"/>
            <a:ext cx="6112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26/07/2013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4"/>
          <p:cNvSpPr/>
          <p:nvPr/>
        </p:nvSpPr>
        <p:spPr>
          <a:xfrm>
            <a:off x="198360" y="5402160"/>
            <a:ext cx="4129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132577"/>
                </a:solidFill>
                <a:latin typeface="Arial"/>
              </a:rPr>
              <a:t>Page </a:t>
            </a:r>
            <a:fld id="{ED9B133B-569D-4147-9695-7A205D186AFF}" type="slidenum">
              <a:rPr b="1" lang="en-US" sz="600" spc="-1" strike="noStrike">
                <a:solidFill>
                  <a:srgbClr val="132577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ooter Placeholder 5"/>
          <p:cNvSpPr/>
          <p:nvPr/>
        </p:nvSpPr>
        <p:spPr>
          <a:xfrm>
            <a:off x="630360" y="5402160"/>
            <a:ext cx="61196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132577"/>
                </a:solidFill>
                <a:latin typeface="Arial"/>
              </a:rPr>
              <a:t>Presentation User meeting/VM-2019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179280" y="55548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ff"/>
                </a:solidFill>
                <a:latin typeface="Arial"/>
              </a:rPr>
              <a:t>Microorganism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179280" y="1190520"/>
            <a:ext cx="8785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4e5b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5b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4e5b99"/>
                </a:solidFill>
                <a:latin typeface="Arial"/>
              </a:rPr>
              <a:t>Only class 1 and 2 risk microorganisms (3 and 4 strictly forbidd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e5b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5b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4e5b99"/>
                </a:solidFill>
                <a:latin typeface="Arial"/>
              </a:rPr>
              <a:t>Live or Dead microorg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4e5b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If live org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4e5b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Access to proper lab for microorganism culture if any (difficult, only EMBL lab support and </a:t>
            </a:r>
            <a:r>
              <a:rPr b="0" lang="en-US" sz="1800" spc="-1" strike="noStrike" u="sng">
                <a:solidFill>
                  <a:srgbClr val="4e5b99"/>
                </a:solidFill>
                <a:uFillTx/>
                <a:latin typeface="Arial"/>
                <a:ea typeface="Arial"/>
              </a:rPr>
              <a:t>only class 1 risk</a:t>
            </a: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4e5b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If GMO clones brought on site, license </a:t>
            </a:r>
            <a:r>
              <a:rPr b="0" lang="en-US" sz="1800" spc="-1" strike="noStrike" u="sng">
                <a:solidFill>
                  <a:srgbClr val="4e5b99"/>
                </a:solidFill>
                <a:uFillTx/>
                <a:latin typeface="Arial"/>
                <a:ea typeface="Arial"/>
              </a:rPr>
              <a:t>number and date </a:t>
            </a: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of release (origin count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4e5b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If GMO clones stored on site, a “DUO” application is submitted by ESRF saf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4e5b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Risk analysis required (detailed) and lab access reque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No controlled agent authorized anymore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e5b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5b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4e5b99"/>
                </a:solidFill>
                <a:latin typeface="Arial"/>
              </a:rPr>
              <a:t>If fixed (dead) microorgani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4e5b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Loses its class of risk hence no biological risk, no const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Shipped by authorized carrier highly recommen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1116000" y="5203800"/>
            <a:ext cx="691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ff"/>
                </a:solidFill>
                <a:latin typeface="Arial"/>
              </a:rPr>
              <a:t>http://www.esrf.fr/Infrastructure/Safety/Experiments/Biology_Experiments/use-of-micro-organisms-or-derivativ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solidFill>
            <a:srgbClr val="132577"/>
          </a:solidFill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SAFETY RULES FOR THE ANALYSIS OF BIOLOGICAL SAMPLES AT THE ESRF AND OVERVIEW OF THE LABS ON SITE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Date Placeholder 3"/>
          <p:cNvSpPr/>
          <p:nvPr/>
        </p:nvSpPr>
        <p:spPr>
          <a:xfrm>
            <a:off x="0" y="5587920"/>
            <a:ext cx="6112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26/07/2013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198360" y="5402160"/>
            <a:ext cx="4129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132577"/>
                </a:solidFill>
                <a:latin typeface="Arial"/>
              </a:rPr>
              <a:t>Page </a:t>
            </a:r>
            <a:fld id="{D1BD1B8F-6903-483E-A07D-A584D2E20CDA}" type="slidenum">
              <a:rPr b="1" lang="en-US" sz="600" spc="-1" strike="noStrike">
                <a:solidFill>
                  <a:srgbClr val="132577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ooter Placeholder 5"/>
          <p:cNvSpPr/>
          <p:nvPr/>
        </p:nvSpPr>
        <p:spPr>
          <a:xfrm>
            <a:off x="630360" y="5402160"/>
            <a:ext cx="61196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132577"/>
                </a:solidFill>
                <a:latin typeface="Arial"/>
              </a:rPr>
              <a:t>Presentation User meeting/VM-2019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179280" y="55548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ff"/>
                </a:solidFill>
                <a:latin typeface="Arial"/>
              </a:rPr>
              <a:t>Structural biology sam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Rectangle 8" descr=""/>
          <p:cNvPicPr/>
          <p:nvPr/>
        </p:nvPicPr>
        <p:blipFill>
          <a:blip r:embed="rId1"/>
          <a:stretch/>
        </p:blipFill>
        <p:spPr>
          <a:xfrm>
            <a:off x="133200" y="1311120"/>
            <a:ext cx="8931600" cy="373716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7"/>
          <p:cNvSpPr/>
          <p:nvPr/>
        </p:nvSpPr>
        <p:spPr>
          <a:xfrm>
            <a:off x="1692360" y="5234040"/>
            <a:ext cx="575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ff"/>
                </a:solidFill>
                <a:latin typeface="Arial"/>
              </a:rPr>
              <a:t>http://www.esrf.fr/Infrastructure/Safety/Experiments/Biology_Experiments/macromolecular-samp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solidFill>
            <a:srgbClr val="132577"/>
          </a:solidFill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SAFETY RULES FOR THE ANALYSIS OF BIOLOGICAL SAMPLES AT THE ESRF AND OVERVIEW OF THE LABS ON SITE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Date Placeholder 3"/>
          <p:cNvSpPr/>
          <p:nvPr/>
        </p:nvSpPr>
        <p:spPr>
          <a:xfrm>
            <a:off x="0" y="5587920"/>
            <a:ext cx="6112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26/07/2013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4"/>
          <p:cNvSpPr/>
          <p:nvPr/>
        </p:nvSpPr>
        <p:spPr>
          <a:xfrm>
            <a:off x="198360" y="5402160"/>
            <a:ext cx="4129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132577"/>
                </a:solidFill>
                <a:latin typeface="Arial"/>
              </a:rPr>
              <a:t>Page </a:t>
            </a:r>
            <a:fld id="{997A8DC4-8D08-4E87-9DBF-FABDD68350CD}" type="slidenum">
              <a:rPr b="1" lang="en-US" sz="600" spc="-1" strike="noStrike">
                <a:solidFill>
                  <a:srgbClr val="132577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ooter Placeholder 5"/>
          <p:cNvSpPr/>
          <p:nvPr/>
        </p:nvSpPr>
        <p:spPr>
          <a:xfrm>
            <a:off x="630360" y="5402160"/>
            <a:ext cx="61196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132577"/>
                </a:solidFill>
                <a:latin typeface="Arial"/>
              </a:rPr>
              <a:t>Presentation User meeting/VM-2019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8"/>
          <p:cNvSpPr/>
          <p:nvPr/>
        </p:nvSpPr>
        <p:spPr>
          <a:xfrm>
            <a:off x="179280" y="1488960"/>
            <a:ext cx="8785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4e5b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5b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4e5b99"/>
                </a:solidFill>
                <a:latin typeface="Arial"/>
              </a:rPr>
              <a:t>Two regulations, one for imported samples and one for samples already on </a:t>
            </a:r>
            <a:r>
              <a:rPr b="1" lang="en-US" sz="1800" spc="-1" strike="noStrike">
                <a:solidFill>
                  <a:srgbClr val="4e5b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4e5b99"/>
                </a:solidFill>
                <a:latin typeface="Arial"/>
              </a:rPr>
              <a:t>French territory (IE number – DC numb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e5b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5b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4e5b99"/>
                </a:solidFill>
                <a:latin typeface="Arial"/>
              </a:rPr>
              <a:t>Applies to Dead fixed tissues or cells or Fresh tissues and cell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54040" indent="-2858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Human samples authorization for importation - expor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36400" indent="-268200">
              <a:lnSpc>
                <a:spcPct val="100000"/>
              </a:lnSpc>
              <a:buClr>
                <a:srgbClr val="4e5b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ESRF authorization renewed every 5 years; 2017; next 20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36400" indent="-268200">
              <a:lnSpc>
                <a:spcPct val="100000"/>
              </a:lnSpc>
              <a:buClr>
                <a:srgbClr val="4e5b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Every user samples is added as an annex to ESRF “master” author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36400" indent="-268200">
              <a:lnSpc>
                <a:spcPct val="100000"/>
              </a:lnSpc>
              <a:buClr>
                <a:srgbClr val="4e5b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Dossier set-up and review by authorities accounting two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364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36400" indent="-2682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DC (« </a:t>
            </a:r>
            <a:r>
              <a:rPr b="0" i="1" lang="en-US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déclaration de conservation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 »)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36400" indent="-268200">
              <a:lnSpc>
                <a:spcPct val="100000"/>
              </a:lnSpc>
              <a:buClr>
                <a:srgbClr val="4e5b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Every French structure storing human samples even cell lines commercially suppl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5364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"/>
          <p:cNvSpPr/>
          <p:nvPr/>
        </p:nvSpPr>
        <p:spPr>
          <a:xfrm>
            <a:off x="250920" y="55548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Human samples and/or derivatives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in theor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1187280" y="5203800"/>
            <a:ext cx="669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ff"/>
                </a:solidFill>
                <a:latin typeface="Arial"/>
              </a:rPr>
              <a:t>http://www.esrf.fr/Infrastructure/Safety/Experiments/Biology_Experiments/samples-from-humans-and-or-derivativ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250560" y="1273320"/>
            <a:ext cx="8496360" cy="39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4e5b99"/>
              </a:buClr>
              <a:buFont typeface="Arial"/>
              <a:buChar char="•"/>
              <a:tabLst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5b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4e5b99"/>
                </a:solidFill>
                <a:latin typeface="Arial"/>
              </a:rPr>
              <a:t>Dead fixed tissues or cells</a:t>
            </a: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  <a:p>
            <a:pPr lvl="4" marL="449280" indent="-1440"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e5b99"/>
                </a:solidFill>
                <a:latin typeface="Arial"/>
              </a:rPr>
              <a:t>- No biological risk once chemically fixed (formaldehyde but caution for PrP</a:t>
            </a:r>
            <a:r>
              <a:rPr b="0" lang="en-US" sz="1500" spc="-1" strike="noStrike" baseline="30000">
                <a:solidFill>
                  <a:srgbClr val="4e5b99"/>
                </a:solidFill>
                <a:latin typeface="Arial"/>
              </a:rPr>
              <a:t>Sc</a:t>
            </a:r>
            <a:r>
              <a:rPr b="0" lang="en-US" sz="1500" spc="-1" strike="noStrike">
                <a:solidFill>
                  <a:srgbClr val="4e5b99"/>
                </a:solidFill>
                <a:latin typeface="Arial"/>
              </a:rPr>
              <a:t>)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73160" indent="-173160">
              <a:lnSpc>
                <a:spcPct val="100000"/>
              </a:lnSpc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e5b99"/>
              </a:buClr>
              <a:buFont typeface="Arial"/>
              <a:buChar char="•"/>
              <a:tabLst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5b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4e5b99"/>
                </a:solidFill>
                <a:latin typeface="Arial"/>
              </a:rPr>
              <a:t>Fresh tissues or cells</a:t>
            </a: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  <a:p>
            <a:pPr lvl="3" marL="173160" indent="-173160">
              <a:lnSpc>
                <a:spcPct val="110000"/>
              </a:lnSpc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e5b99"/>
                </a:solidFill>
                <a:latin typeface="Arial"/>
              </a:rPr>
              <a:t>- Innocuousness for being on beam lines and samples contained if class 2 risk. UV inactivation on specific beam lin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1800"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ff0000"/>
                </a:solidFill>
                <a:uFillTx/>
                <a:latin typeface="Arial"/>
              </a:rPr>
              <a:t>- Access to CL2 lab </a:t>
            </a:r>
            <a:r>
              <a:rPr b="0" lang="en-US" sz="1500" spc="-1" strike="noStrike">
                <a:solidFill>
                  <a:srgbClr val="4e5b99"/>
                </a:solidFill>
                <a:latin typeface="Arial"/>
              </a:rPr>
              <a:t>in case of cell culture needed (</a:t>
            </a:r>
            <a:r>
              <a:rPr b="0" lang="en-US" sz="1500" spc="-1" strike="noStrike" u="sng">
                <a:solidFill>
                  <a:srgbClr val="ff0000"/>
                </a:solidFill>
                <a:uFillTx/>
                <a:latin typeface="Arial"/>
              </a:rPr>
              <a:t>training required</a:t>
            </a:r>
            <a:r>
              <a:rPr b="0" lang="en-US" sz="1500" spc="-1" strike="noStrike">
                <a:solidFill>
                  <a:srgbClr val="4e5b99"/>
                </a:solidFill>
                <a:latin typeface="Arial"/>
              </a:rPr>
              <a:t>) hence, Cell risk analysis </a:t>
            </a:r>
            <a:r>
              <a:rPr b="0" lang="en-US" sz="1500" spc="-1" strike="noStrike">
                <a:solidFill>
                  <a:srgbClr val="4e5b99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4e5b99"/>
                </a:solidFill>
                <a:latin typeface="Arial"/>
              </a:rPr>
              <a:t>document mandatory and BMF form.</a:t>
            </a:r>
            <a:endParaRPr b="0" lang="en-US" sz="1500" spc="-1" strike="noStrike">
              <a:solidFill>
                <a:srgbClr val="0098d4"/>
              </a:solidFill>
              <a:latin typeface="Arial"/>
            </a:endParaRPr>
          </a:p>
          <a:p>
            <a:pPr lvl="3" marL="173160" indent="-173160">
              <a:lnSpc>
                <a:spcPct val="110000"/>
              </a:lnSpc>
              <a:spcAft>
                <a:spcPts val="300"/>
              </a:spcAft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e5b99"/>
                </a:solidFill>
                <a:latin typeface="Arial"/>
              </a:rPr>
              <a:t>- Fresh tissues must be both risk-free and contained AND especially in vacuum chambers, </a:t>
            </a:r>
            <a:r>
              <a:rPr b="0" lang="en-US" sz="1500" spc="-1" strike="noStrike">
                <a:solidFill>
                  <a:srgbClr val="4e5b99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4e5b99"/>
                </a:solidFill>
                <a:latin typeface="Arial"/>
              </a:rPr>
              <a:t>test for Prions mandatory, otherwise should be in hermetic sealed container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73160" indent="-173160">
              <a:lnSpc>
                <a:spcPct val="110000"/>
              </a:lnSpc>
              <a:spcAft>
                <a:spcPts val="300"/>
              </a:spcAft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</a:rPr>
              <a:t>- If not, refuse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1800">
              <a:spcAft>
                <a:spcPts val="1500"/>
              </a:spcAft>
              <a:buClr>
                <a:srgbClr val="4e5b99"/>
              </a:buClr>
              <a:buFont typeface="Arial"/>
              <a:buChar char="•"/>
              <a:tabLst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5b99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4e5b99"/>
                </a:solidFill>
                <a:uFillTx/>
                <a:latin typeface="Arial"/>
              </a:rPr>
              <a:t>Detailed</a:t>
            </a:r>
            <a:r>
              <a:rPr b="1" lang="en-US" sz="1800" spc="-1" strike="noStrike">
                <a:solidFill>
                  <a:srgbClr val="4e5b99"/>
                </a:solidFill>
                <a:latin typeface="Arial"/>
              </a:rPr>
              <a:t> Risk analysis required, minimum 2 weeks in advance</a:t>
            </a:r>
            <a:endParaRPr b="0" lang="en-US" sz="1800" spc="-1" strike="noStrike">
              <a:solidFill>
                <a:srgbClr val="0098d4"/>
              </a:solidFill>
              <a:latin typeface="Arial"/>
            </a:endParaRPr>
          </a:p>
          <a:p>
            <a:pPr lvl="2" algn="ctr">
              <a:lnSpc>
                <a:spcPct val="105000"/>
              </a:lnSpc>
              <a:spcAft>
                <a:spcPts val="499"/>
              </a:spcAft>
              <a:buClr>
                <a:srgbClr val="ff0000"/>
              </a:buClr>
              <a:buFont typeface="Arial"/>
              <a:buChar char="•"/>
              <a:tabLst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No waste managed on ESRF site for human samples and or derivatives</a:t>
            </a:r>
            <a:r>
              <a:rPr b="0" lang="en-US" sz="1800" spc="-1" strike="noStrike">
                <a:solidFill>
                  <a:srgbClr val="4e5b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4e5b99"/>
                </a:solidFill>
                <a:latin typeface="Arial"/>
              </a:rPr>
              <a:t>: samples returned back to home instit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01"/>
              </a:spcAft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244" name="Date Placeholder 3"/>
          <p:cNvSpPr/>
          <p:nvPr/>
        </p:nvSpPr>
        <p:spPr>
          <a:xfrm>
            <a:off x="0" y="5587920"/>
            <a:ext cx="6112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26/07/2013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4"/>
          <p:cNvSpPr/>
          <p:nvPr/>
        </p:nvSpPr>
        <p:spPr>
          <a:xfrm>
            <a:off x="198360" y="5402160"/>
            <a:ext cx="4129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132577"/>
                </a:solidFill>
                <a:latin typeface="Arial"/>
              </a:rPr>
              <a:t>Page </a:t>
            </a:r>
            <a:fld id="{56AAFA2F-212E-4474-A271-C0C1E2C24EC4}" type="slidenum">
              <a:rPr b="1" lang="en-US" sz="600" spc="-1" strike="noStrike">
                <a:solidFill>
                  <a:srgbClr val="132577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ooter Placeholder 5"/>
          <p:cNvSpPr/>
          <p:nvPr/>
        </p:nvSpPr>
        <p:spPr>
          <a:xfrm>
            <a:off x="611280" y="5378400"/>
            <a:ext cx="61196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132577"/>
                </a:solidFill>
                <a:latin typeface="Arial"/>
              </a:rPr>
              <a:t>Presentation User meeting/VM-2019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solidFill>
            <a:srgbClr val="132577"/>
          </a:solidFill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AFETY RULES FOR THE ANALYSIS OF BIOLOGICAL SAMPLES AT THE ESRF AND OVERVIEW OF THE LABS ON SITE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2"/>
          <p:cNvSpPr/>
          <p:nvPr/>
        </p:nvSpPr>
        <p:spPr>
          <a:xfrm>
            <a:off x="179280" y="55548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Human samples and/or derivatives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in practice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solidFill>
            <a:srgbClr val="132577"/>
          </a:solidFill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SAFETY RULES FOR THE ANALYSIS OF BIOLOGICAL SAMPLES AT THE ESRF AND OVERVIEW OF THE LABS ON SITE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Date Placeholder 3"/>
          <p:cNvSpPr/>
          <p:nvPr/>
        </p:nvSpPr>
        <p:spPr>
          <a:xfrm>
            <a:off x="0" y="5587920"/>
            <a:ext cx="6112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26/07/2013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4"/>
          <p:cNvSpPr/>
          <p:nvPr/>
        </p:nvSpPr>
        <p:spPr>
          <a:xfrm>
            <a:off x="198360" y="5402160"/>
            <a:ext cx="4129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132577"/>
                </a:solidFill>
                <a:latin typeface="Arial"/>
              </a:rPr>
              <a:t>Page </a:t>
            </a:r>
            <a:fld id="{E527611C-8201-4407-8BA7-14749D69CDCD}" type="slidenum">
              <a:rPr b="1" lang="en-US" sz="600" spc="-1" strike="noStrike">
                <a:solidFill>
                  <a:srgbClr val="132577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ooter Placeholder 5"/>
          <p:cNvSpPr/>
          <p:nvPr/>
        </p:nvSpPr>
        <p:spPr>
          <a:xfrm>
            <a:off x="630360" y="5402160"/>
            <a:ext cx="61196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132577"/>
                </a:solidFill>
                <a:latin typeface="Arial"/>
              </a:rPr>
              <a:t>Presentation User meeting/VM-2019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250920" y="55548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ff"/>
                </a:solidFill>
                <a:latin typeface="Arial"/>
              </a:rPr>
              <a:t>Animal sam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179280" y="1131840"/>
            <a:ext cx="8713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4e5b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5b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4e5b99"/>
                </a:solidFill>
                <a:latin typeface="Arial"/>
              </a:rPr>
              <a:t>Dead ani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4e5b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VET certificate </a:t>
            </a: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(fresh or fixed tissu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4e5b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CITES (for protected or endangered spec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4e5b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Set-up to comply with beam line environment (vacuum chamb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4e5b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Samples brought by Users or shipped through store by authorized 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e5b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5b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4e5b99"/>
                </a:solidFill>
                <a:latin typeface="Arial"/>
              </a:rPr>
              <a:t>Live ani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4e5b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AP (“project authorization”) required </a:t>
            </a: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after ETHAX validation and French authorities registration (5 years valid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4e5b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Animals purchased by ESRF (BMF form updated) or brought by Users (specific cas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4e5b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Users certified </a:t>
            </a: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(national certification, e.g. PIL / PPL) or equivalent for handling animals (otherwise support mandatory from BM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4e5b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Detailed Risk analysis required at least 2 weeks in adv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Drug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details and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purchased by ESRF, </a:t>
            </a:r>
            <a:r>
              <a:rPr b="1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no drugs brought by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solidFill>
            <a:srgbClr val="132577"/>
          </a:solidFill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SAFETY RULES FOR THE ANALYSIS OF BIOLOGICAL SAMPLES AT THE ESRF AND OVERVIEW OF THE LABS ON SITE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Date Placeholder 3"/>
          <p:cNvSpPr/>
          <p:nvPr/>
        </p:nvSpPr>
        <p:spPr>
          <a:xfrm>
            <a:off x="0" y="5587920"/>
            <a:ext cx="6112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26/07/2013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lide Number Placeholder 4"/>
          <p:cNvSpPr/>
          <p:nvPr/>
        </p:nvSpPr>
        <p:spPr>
          <a:xfrm>
            <a:off x="198360" y="5402160"/>
            <a:ext cx="4129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132577"/>
                </a:solidFill>
                <a:latin typeface="Arial"/>
              </a:rPr>
              <a:t>Page </a:t>
            </a:r>
            <a:fld id="{64236F2A-15F5-4B28-8D6C-7FE5135FE6C4}" type="slidenum">
              <a:rPr b="1" lang="en-US" sz="600" spc="-1" strike="noStrike">
                <a:solidFill>
                  <a:srgbClr val="132577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ooter Placeholder 5"/>
          <p:cNvSpPr/>
          <p:nvPr/>
        </p:nvSpPr>
        <p:spPr>
          <a:xfrm>
            <a:off x="630360" y="5402160"/>
            <a:ext cx="61196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132577"/>
                </a:solidFill>
                <a:latin typeface="Arial"/>
              </a:rPr>
              <a:t>Presentation User meeting/VM-2019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179280" y="62712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ff"/>
                </a:solidFill>
                <a:latin typeface="Arial"/>
              </a:rPr>
              <a:t>ILL-ESRF JOINT propos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8"/>
          <p:cNvSpPr/>
          <p:nvPr/>
        </p:nvSpPr>
        <p:spPr>
          <a:xfrm>
            <a:off x="0" y="1201680"/>
            <a:ext cx="91440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4e5b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5b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4e5b99"/>
                </a:solidFill>
                <a:latin typeface="Arial"/>
              </a:rPr>
              <a:t>Samples used on both instruments </a:t>
            </a:r>
            <a:r>
              <a:rPr b="0" lang="en-US" sz="18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ample sheets mandatory on both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68200">
              <a:lnSpc>
                <a:spcPct val="100000"/>
              </a:lnSpc>
              <a:buClr>
                <a:srgbClr val="4e5b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 u="sng">
                <a:solidFill>
                  <a:srgbClr val="4e5b99"/>
                </a:solidFill>
                <a:uFillTx/>
                <a:latin typeface="Arial"/>
                <a:ea typeface="Arial"/>
              </a:rPr>
              <a:t>If ESRF first: </a:t>
            </a: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no problem, except if D</a:t>
            </a:r>
            <a:r>
              <a:rPr b="0" lang="en-US" sz="1800" spc="-1" strike="noStrike" baseline="-25000">
                <a:solidFill>
                  <a:srgbClr val="4e5b99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O or Deuterium us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68200">
              <a:lnSpc>
                <a:spcPct val="100000"/>
              </a:lnSpc>
              <a:buClr>
                <a:srgbClr val="4e5b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registration of D</a:t>
            </a:r>
            <a:r>
              <a:rPr b="0" lang="en-US" sz="1800" spc="-1" strike="noStrike" baseline="-25000">
                <a:solidFill>
                  <a:srgbClr val="4e5b99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O and deuterium required in adv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68200">
              <a:lnSpc>
                <a:spcPct val="100000"/>
              </a:lnSpc>
              <a:buClr>
                <a:srgbClr val="4e5b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Radiation-Protection (RP) authorization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68200">
              <a:lnSpc>
                <a:spcPct val="100000"/>
              </a:lnSpc>
              <a:buClr>
                <a:srgbClr val="4e5b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max 1kg/year only in total at the ESRF</a:t>
            </a:r>
            <a:r>
              <a:rPr b="0" lang="en-US" sz="1800" spc="-1" strike="noStrike">
                <a:solidFill>
                  <a:srgbClr val="4e5b99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 reduced volume or deuterium 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68200">
              <a:lnSpc>
                <a:spcPct val="100000"/>
              </a:lnSpc>
              <a:buClr>
                <a:srgbClr val="4e5b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D</a:t>
            </a:r>
            <a:r>
              <a:rPr b="0" lang="en-US" sz="1800" spc="-1" strike="noStrike" baseline="-25000">
                <a:solidFill>
                  <a:srgbClr val="4e5b99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O waste taken back by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8200">
              <a:lnSpc>
                <a:spcPct val="100000"/>
              </a:lnSpc>
              <a:buClr>
                <a:srgbClr val="4e5b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 u="sng">
                <a:solidFill>
                  <a:srgbClr val="4e5b99"/>
                </a:solidFill>
                <a:uFillTx/>
                <a:latin typeface="Arial"/>
                <a:ea typeface="Arial"/>
              </a:rPr>
              <a:t>If ILL first:</a:t>
            </a: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 potential risk of activation </a:t>
            </a:r>
            <a:r>
              <a:rPr b="0" lang="en-US" sz="1800" spc="-1" strike="noStrike">
                <a:solidFill>
                  <a:srgbClr val="4e5b99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 control by both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ILL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AND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 ESRF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RP services </a:t>
            </a: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with at least 1 day lap between the ILL and ESRF sess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68200">
              <a:lnSpc>
                <a:spcPct val="100000"/>
              </a:lnSpc>
              <a:buClr>
                <a:srgbClr val="4e5b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Samples to be cleared by ILL RP with certificate and then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stored in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« RP lab » at IL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68200">
              <a:lnSpc>
                <a:spcPct val="100000"/>
              </a:lnSpc>
              <a:buClr>
                <a:srgbClr val="4e5b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ESRF RP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will come and check samples on ILL 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68200">
              <a:lnSpc>
                <a:spcPct val="100000"/>
              </a:lnSpc>
              <a:buClr>
                <a:srgbClr val="4e5b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Samples authorized on ESRF site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only once cleared ESRF RP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4e5b99"/>
                </a:solidFill>
                <a:latin typeface="Arial"/>
                <a:ea typeface="Arial"/>
              </a:rPr>
              <a:t>Notification and Appointment with ESRF RP to be scheduled in adv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108000" y="696960"/>
            <a:ext cx="8928000" cy="43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Laboratories available on site for biological samples :</a:t>
            </a: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EMBL lab support (SAXS, Microorganisms, etc)</a:t>
            </a:r>
            <a:endParaRPr b="1" lang="en-US" sz="1600" spc="-1" strike="noStrike">
              <a:solidFill>
                <a:srgbClr val="0098d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e5b99"/>
                </a:solidFill>
                <a:latin typeface="Arial"/>
              </a:rPr>
              <a:t>To be requested at least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4 weeks </a:t>
            </a:r>
            <a:r>
              <a:rPr b="1" lang="en-GB" sz="1600" spc="-1" strike="noStrike">
                <a:solidFill>
                  <a:srgbClr val="4e5b99"/>
                </a:solidFill>
                <a:latin typeface="Arial"/>
              </a:rPr>
              <a:t>in advance using the form available on the </a:t>
            </a:r>
            <a:r>
              <a:rPr b="1" lang="en-GB" sz="1600" spc="-1" strike="noStrike">
                <a:solidFill>
                  <a:srgbClr val="4e5b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e5b99"/>
                </a:solidFill>
                <a:latin typeface="Arial"/>
              </a:rPr>
              <a:t>website or via A-form </a:t>
            </a:r>
            <a:r>
              <a:rPr b="0" lang="en-GB" sz="1600" spc="-1" strike="noStrike" u="sng">
                <a:solidFill>
                  <a:srgbClr val="ff0000"/>
                </a:solidFill>
                <a:uFillTx/>
                <a:latin typeface="Arial"/>
              </a:rPr>
              <a:t>as soon as equipment are not available on ESRF site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en-GB" sz="1600" spc="-1" strike="noStrike">
                <a:solidFill>
                  <a:srgbClr val="4e5b99"/>
                </a:solidFill>
                <a:latin typeface="Arial"/>
              </a:rPr>
              <a:t> </a:t>
            </a:r>
            <a:br>
              <a:rPr sz="1600"/>
            </a:br>
            <a:r>
              <a:rPr b="0" lang="en-GB" sz="1600" spc="-1" strike="noStrike">
                <a:solidFill>
                  <a:srgbClr val="4e5b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4e5b99"/>
                </a:solidFill>
                <a:latin typeface="Arial"/>
              </a:rPr>
              <a:t>Only two people per User group allowed in facilities and specific training first by EMBL </a:t>
            </a:r>
            <a:r>
              <a:rPr b="0" lang="en-GB" sz="1600" spc="-1" strike="noStrike">
                <a:solidFill>
                  <a:srgbClr val="4e5b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4e5b99"/>
                </a:solidFill>
                <a:latin typeface="Arial"/>
              </a:rPr>
              <a:t>safety officer. Please register with</a:t>
            </a:r>
            <a:r>
              <a:rPr b="0" i="1" lang="en-GB" sz="1600" spc="-1" strike="noStrike">
                <a:solidFill>
                  <a:srgbClr val="4e5b99"/>
                </a:solidFill>
                <a:latin typeface="Arial"/>
              </a:rPr>
              <a:t> :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lab_support@embl.fr</a:t>
            </a:r>
            <a:endParaRPr b="1" lang="en-US" sz="1600" spc="-1" strike="noStrike">
              <a:solidFill>
                <a:srgbClr val="0098d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98d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BMF labs (L1, L2, Histology lab, Sample lab, etc)</a:t>
            </a:r>
            <a:endParaRPr b="1" lang="en-US" sz="1600" spc="-1" strike="noStrike">
              <a:solidFill>
                <a:srgbClr val="0098d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e5b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e5b99"/>
                </a:solidFill>
                <a:latin typeface="Arial"/>
              </a:rPr>
              <a:t>To be requested at least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6 weeks </a:t>
            </a:r>
            <a:r>
              <a:rPr b="1" lang="en-GB" sz="1600" spc="-1" strike="noStrike">
                <a:solidFill>
                  <a:srgbClr val="4e5b99"/>
                </a:solidFill>
                <a:latin typeface="Arial"/>
              </a:rPr>
              <a:t>in advance for managing animals, consumables, </a:t>
            </a:r>
            <a:r>
              <a:rPr b="1" lang="en-GB" sz="1600" spc="-1" strike="noStrike">
                <a:solidFill>
                  <a:srgbClr val="4e5b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e5b99"/>
                </a:solidFill>
                <a:latin typeface="Arial"/>
              </a:rPr>
              <a:t>drugs and labs bookings.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Specific training for access to CL2 lab.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	</a:t>
            </a:r>
            <a:br>
              <a:rPr sz="1600"/>
            </a:b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4e5b99"/>
                </a:solidFill>
                <a:latin typeface="Arial"/>
              </a:rPr>
              <a:t>Please register with : </a:t>
            </a:r>
            <a:r>
              <a:rPr b="0" i="1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bmf@esrf.fr</a:t>
            </a:r>
            <a:r>
              <a:rPr b="0" lang="en-GB" sz="1600" spc="-1" strike="noStrike">
                <a:solidFill>
                  <a:srgbClr val="4e5b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and</a:t>
            </a:r>
            <a:r>
              <a:rPr b="0" lang="en-GB" sz="1600" spc="-1" strike="noStrike">
                <a:solidFill>
                  <a:srgbClr val="4e5b99"/>
                </a:solidFill>
                <a:latin typeface="Arial"/>
              </a:rPr>
              <a:t>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expsaf@esrf.fr</a:t>
            </a:r>
            <a:endParaRPr b="1" lang="en-US" sz="1600" spc="-1" strike="noStrike">
              <a:solidFill>
                <a:srgbClr val="0098d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98d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GB" sz="1600" spc="-1" strike="noStrike">
                <a:solidFill>
                  <a:srgbClr val="0000ff"/>
                </a:solidFill>
                <a:latin typeface="Arial"/>
              </a:rPr>
              <a:t>Other labs (Cryo-EM, CryoBench, Science Building, etc)</a:t>
            </a:r>
            <a:endParaRPr b="1" lang="en-US" sz="1600" spc="-1" strike="noStrike">
              <a:solidFill>
                <a:srgbClr val="0098d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e5b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4e5b99"/>
                </a:solidFill>
                <a:latin typeface="Arial"/>
              </a:rPr>
              <a:t>To be requested in advance for booking and consumables</a:t>
            </a:r>
            <a:endParaRPr b="1" lang="en-US" sz="1600" spc="-1" strike="noStrike">
              <a:solidFill>
                <a:srgbClr val="0098d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98d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00ff"/>
                </a:solidFill>
                <a:uFillTx/>
                <a:latin typeface="Arial"/>
              </a:rPr>
              <a:t>In labs, same rules and regulation apply as for beam lines. </a:t>
            </a: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00ff"/>
                </a:solidFill>
                <a:uFillTx/>
                <a:latin typeface="Arial"/>
              </a:rPr>
              <a:t>Local contact responsible for organizing contacts with lab responsible people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ff0000"/>
                </a:solidFill>
                <a:uFillTx/>
                <a:latin typeface="Arial"/>
              </a:rPr>
              <a:t>Waste management specific for each institute.</a:t>
            </a:r>
            <a:endParaRPr b="1" lang="en-US" sz="1800" spc="-1" strike="noStrike">
              <a:solidFill>
                <a:srgbClr val="0098d4"/>
              </a:solidFill>
              <a:latin typeface="Arial"/>
            </a:endParaRPr>
          </a:p>
        </p:txBody>
      </p:sp>
      <p:sp>
        <p:nvSpPr>
          <p:cNvPr id="262" name="Date Placeholder 3"/>
          <p:cNvSpPr/>
          <p:nvPr/>
        </p:nvSpPr>
        <p:spPr>
          <a:xfrm>
            <a:off x="0" y="5587920"/>
            <a:ext cx="6112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26/07/2013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4"/>
          <p:cNvSpPr/>
          <p:nvPr/>
        </p:nvSpPr>
        <p:spPr>
          <a:xfrm>
            <a:off x="198360" y="5402160"/>
            <a:ext cx="4129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132577"/>
                </a:solidFill>
                <a:latin typeface="Arial"/>
              </a:rPr>
              <a:t>Page </a:t>
            </a:r>
            <a:fld id="{0180AEA1-46D5-4522-92E3-AEE37E5AD5C3}" type="slidenum">
              <a:rPr b="1" lang="en-US" sz="600" spc="-1" strike="noStrike">
                <a:solidFill>
                  <a:srgbClr val="132577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ooter Placeholder 5"/>
          <p:cNvSpPr/>
          <p:nvPr/>
        </p:nvSpPr>
        <p:spPr>
          <a:xfrm>
            <a:off x="611280" y="5402160"/>
            <a:ext cx="61196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132577"/>
                </a:solidFill>
                <a:latin typeface="Arial"/>
              </a:rPr>
              <a:t>Presentation User meeting/VM-2019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27200" y="124920"/>
            <a:ext cx="8237520" cy="497160"/>
          </a:xfrm>
          <a:prstGeom prst="rect">
            <a:avLst/>
          </a:prstGeom>
          <a:solidFill>
            <a:srgbClr val="132577"/>
          </a:solidFill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SAFETY RULES FOR THE ANALYSIS OF BIOLOGICAL SAMPLES AT THE ESRF AND OVERVIEW OF THE LABS ON SITE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8T11:36:16Z</dcterms:created>
  <dc:creator>mayeux</dc:creator>
  <dc:description/>
  <dc:language>en-US</dc:language>
  <cp:lastModifiedBy>mayeux</cp:lastModifiedBy>
  <dcterms:modified xsi:type="dcterms:W3CDTF">2019-01-29T15:21:34Z</dcterms:modified>
  <cp:revision>94</cp:revision>
  <dc:subject/>
  <dc:title>Slide 1</dc:title>
</cp:coreProperties>
</file>